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42100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E349-715D-43C6-8C09-8648992BB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040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366-2228-4134-B7E4-95230C2B6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340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47B0-846E-4309-86D0-0AAA072E3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216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608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216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608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D126-0FD0-41A2-939E-90976BFC4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BB5C7-7C2E-4C93-A5D3-A1E8851B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15C3E-8165-4809-9348-616AA45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0D5FD-9F83-4ABF-A575-DD85DEB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6498A-8CCA-4262-A34F-E0E5CAD7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A36D7-4A4B-4A4A-AC49-DA9553CC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A9678-3D6D-43B9-AAB8-E4197E6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3A208-11FE-4F0E-857A-B1971D0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E5CC-DD3D-43B7-A947-C677AE05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2340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C2345-46B6-4105-A3FC-D64CAF98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0C9AB-324C-455D-A8BD-4BC3561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240" y="41040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9F4AF-7B1F-42E1-BC4C-D2EF6443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2340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6990E-B44E-44A8-AC00-5B2ABA67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6216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6080" y="16761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24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6216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6080" y="41040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6ED6D-D27D-4CBA-8366-22F30AEA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91F6-E966-46B5-BA93-F74CE0331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550D-9ADE-4A48-8BEC-E1B049BCC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4C20-47E4-47E4-9A6E-59367D6F5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305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B7AC-B46F-4226-B100-C15A44712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C4B3-259C-4D5F-95A6-7824E2E07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3400" y="41040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0000-1F6B-4EA3-ABE2-1B5D28023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3400" y="16761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040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7A57-6641-4ABD-9363-75E2BCD3B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48720" y="640044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353E-5CA4-4BD5-A03D-F8E4356A1F1F}" type="slidenum">
              <a:rPr b="1" lang="de-DE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6345360"/>
            <a:ext cx="3581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University of Karlsruhe (T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ahoma"/>
              </a:rPr>
              <a:t>J. Calmet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. Daem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80880" y="6400800"/>
            <a:ext cx="379440" cy="38088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03A9-D010-45BC-9390-7AD9B7D68A9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228600"/>
            <a:ext cx="462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ahoma"/>
              </a:rPr>
              <a:t>University of Karlsruhe (TH), Karlsruhe, German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358920" cy="36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rom Entropy to Ontolog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cques Calmet and Anusch Dae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-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: uniform distribution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onic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81080" y="1447920"/>
            <a:ext cx="5079960" cy="653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143000" cy="40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286000" y="3276720"/>
            <a:ext cx="14479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572000" y="3200400"/>
            <a:ext cx="1523880" cy="380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286000" y="3962520"/>
            <a:ext cx="4572000" cy="369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2895480" y="4641840"/>
            <a:ext cx="447048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2E7B-7D9D-47C7-8990-3DC0D8652C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informa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79440" y="1568520"/>
            <a:ext cx="169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9880" y="16765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893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15160" y="259092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65360" y="35053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43560" y="449568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quasi-)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93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9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89320" y="502920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534816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56000" y="548640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8200" y="5334120"/>
            <a:ext cx="36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tructured 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04120" y="4952520"/>
            <a:ext cx="0" cy="3812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67840" y="434340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52280"/>
            <a:ext cx="830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dentification of ont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6C93-9E75-4640-A678-959F6C78B6AC}" type="slidenum">
              <a:t>1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ment of ent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22200" y="158904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1144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120" y="3733920"/>
            <a:ext cx="16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ullback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eib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3240" y="3733920"/>
            <a:ext cx="19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6480" y="1600200"/>
            <a:ext cx="35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re than language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81760" y="35053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ntr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81400" y="260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rbitrary distrib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203184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486240" cy="27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914400" y="32004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32004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05720" y="2209320"/>
            <a:ext cx="0" cy="3812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05720" y="3200400"/>
            <a:ext cx="0" cy="3808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654440" y="4025880"/>
            <a:ext cx="4178520" cy="774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rot="5400000">
            <a:off x="1094400" y="5610960"/>
            <a:ext cx="1004760" cy="298440"/>
          </a:xfrm>
          <a:prstGeom prst="rightArrow">
            <a:avLst>
              <a:gd name="adj1" fmla="val 54167"/>
              <a:gd name="adj2" fmla="val 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5943600"/>
            <a:ext cx="5105520" cy="500040"/>
          </a:xfrm>
          <a:prstGeom prst="rightArrow">
            <a:avLst>
              <a:gd name="adj1" fmla="val 31370"/>
              <a:gd name="adj2" fmla="val 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6262560" y="5776920"/>
            <a:ext cx="609840" cy="333360"/>
          </a:xfrm>
          <a:prstGeom prst="rightArrow">
            <a:avLst>
              <a:gd name="adj1" fmla="val 50481"/>
              <a:gd name="adj2" fmla="val 6193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84920" y="552924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9900"/>
                </a:solidFill>
                <a:latin typeface="Arial"/>
              </a:rPr>
              <a:t>Exten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12F9-6122-40E9-9A36-BCA0E22654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of 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28240" y="1676160"/>
            <a:ext cx="8381880" cy="4647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43040" y="1143000"/>
            <a:ext cx="7638840" cy="5105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54040" y="6205680"/>
            <a:ext cx="33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ir, Wiermann – Uncertainty based In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3ABB-7FAD-4468-857C-57AA7B607D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ontolog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 of entropy used in lingu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t of entropy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 distribution of states for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disjunctiv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E766-3041-40F2-AF08-7A8FF87CCB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, Ontology,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ntrop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well, Boltzmann, Gib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nik (Computational lingui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of entr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4F3C-0B95-4D98-A239-3524073506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, Ontology, and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vs.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vs.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vs.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(domain specific, f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F36C-C1B4-4C24-97EA-25BEFC8EF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6D0A-D98C-451A-B7BD-CA9043A96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-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124080"/>
            <a:ext cx="21333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5080" y="32767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er catch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371600"/>
            <a:ext cx="1905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.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05740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2666880"/>
            <a:ext cx="2133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09720" y="266688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. precipi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26088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il morph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2960" y="387036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. temper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88620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326088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2428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34290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7440" y="2286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800600"/>
            <a:ext cx="21337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6680" y="495288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c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8680" y="4114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7872-F1A0-41D8-A971-A1999CFE9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, Ontology, and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 of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de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si” –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itive de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Kullback-Leib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3F38-5C38-49D4-8B2D-2AA4D87AE9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– Maxwell, Boltz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9786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d law of thermodynamics (Maxwell, Boltzmann, Gibb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can only increase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states (e.g. temperature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 states     (e.g. kinetic energy of 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49480" y="4867200"/>
            <a:ext cx="3032280" cy="33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819520" y="3962520"/>
            <a:ext cx="21744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5D65-E4EF-48E3-BC97-6E3BD01A7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- Sh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55640" y="4327560"/>
            <a:ext cx="647640" cy="349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557360"/>
            <a:ext cx="838188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ent (Shannon-Hartl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of receiver about transmitted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receiving messag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value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3357720"/>
            <a:ext cx="2989440" cy="40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733920" y="4876920"/>
            <a:ext cx="1218960" cy="35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523C-A301-4C13-97A6-06711BC61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opy - Res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lingui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probability to con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~ relative noun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tent in taxon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of all subsum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f/id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erm frequency/inverted document freq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terms in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/low frequency terms dispen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1295280" cy="32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05520" y="220968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500200" y="3451320"/>
            <a:ext cx="1919520" cy="2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79C0-0A6E-416E-AAE3-4C14DB923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7T12:20:38Z</dcterms:created>
  <dc:creator>Anusch Daemi</dc:creator>
  <dc:description/>
  <dc:language>en-US</dc:language>
  <cp:lastModifiedBy>Prof. Calmet</cp:lastModifiedBy>
  <dcterms:modified xsi:type="dcterms:W3CDTF">2004-04-14T07:21:16Z</dcterms:modified>
  <cp:revision>21</cp:revision>
  <dc:subject/>
  <dc:title>From Entropy to Ont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43240432</vt:r8>
  </property>
  <property fmtid="{D5CDD505-2E9C-101B-9397-08002B2CF9AE}" pid="3" name="_ReviewingToolsShownOnce">
    <vt:lpwstr/>
  </property>
</Properties>
</file>