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447920"/>
            <a:ext cx="7772400" cy="1981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ing Goa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agent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4419720"/>
            <a:ext cx="6400800" cy="17524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2AI-4, April 15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-Philippe Hu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get@imag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4724280" cy="426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different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end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end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66688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312408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304812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5812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28195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32767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7339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36576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553080" y="36576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396252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424" y="1271"/>
                </a:moveTo>
                <a:lnTo>
                  <a:pt x="848" y="635"/>
                </a:lnTo>
                <a:lnTo>
                  <a:pt x="424" y="0"/>
                </a:lnTo>
                <a:lnTo>
                  <a:pt x="0" y="635"/>
                </a:lnTo>
                <a:lnTo>
                  <a:pt x="424" y="127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44956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424" y="1271"/>
                </a:moveTo>
                <a:lnTo>
                  <a:pt x="848" y="635"/>
                </a:lnTo>
                <a:lnTo>
                  <a:pt x="424" y="0"/>
                </a:lnTo>
                <a:lnTo>
                  <a:pt x="0" y="635"/>
                </a:lnTo>
                <a:lnTo>
                  <a:pt x="424" y="127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40384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4343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5720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8769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1911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47242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5105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5562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5334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55627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791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73392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8862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3657600"/>
            <a:ext cx="1676520" cy="4572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65240" y="371016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 conf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8862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36576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352680"/>
            <a:ext cx="1676520" cy="6094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89680" y="3328920"/>
            <a:ext cx="1662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36576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350532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36576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35812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467480" y="35812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4267080"/>
            <a:ext cx="1676520" cy="6094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241960" y="4243320"/>
            <a:ext cx="1422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4191120"/>
            <a:ext cx="10670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441972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45720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44956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467480" y="44956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3886200" cy="426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: duration of an action or between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: the process of exception in a connecte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icity,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572000" y="2057400"/>
            <a:ext cx="1676520" cy="533520"/>
            <a:chOff x="4572000" y="2057400"/>
            <a:chExt cx="1676520" cy="533520"/>
          </a:xfrm>
        </p:grpSpPr>
        <p:sp>
          <p:nvSpPr>
            <p:cNvPr id="150" name=""/>
            <p:cNvSpPr/>
            <p:nvPr/>
          </p:nvSpPr>
          <p:spPr>
            <a:xfrm>
              <a:off x="4572000" y="205740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2000" y="259092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8520" y="20574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0" y="205740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572000" y="23623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4861080" y="210996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086600" y="2057400"/>
            <a:ext cx="1676520" cy="533520"/>
            <a:chOff x="7086600" y="2057400"/>
            <a:chExt cx="1676520" cy="533520"/>
          </a:xfrm>
        </p:grpSpPr>
        <p:sp>
          <p:nvSpPr>
            <p:cNvPr id="157" name=""/>
            <p:cNvSpPr/>
            <p:nvPr/>
          </p:nvSpPr>
          <p:spPr>
            <a:xfrm>
              <a:off x="7086600" y="205740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259092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763120" y="20574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6600" y="205740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086600" y="23623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7375680" y="2109960"/>
            <a:ext cx="1295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23623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7631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8954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851440" y="3070080"/>
            <a:ext cx="72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070760" y="2841480"/>
            <a:ext cx="890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t..t+10s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3429000"/>
            <a:ext cx="1828800" cy="838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800600" y="44956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952880"/>
            <a:ext cx="990720" cy="6094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52578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kinds of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agents: each action in a swimlane is of the responsibility of one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locations: each action in a partition is achieved in a particular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82880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828800"/>
            <a:ext cx="0" cy="4876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670572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342900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10552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828800"/>
            <a:ext cx="0" cy="4876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2760" y="2346480"/>
            <a:ext cx="86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15840" y="4022640"/>
            <a:ext cx="132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360" y="5648400"/>
            <a:ext cx="132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5146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2286000"/>
            <a:ext cx="1676520" cy="4572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93840" y="2338560"/>
            <a:ext cx="1130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962520"/>
            <a:ext cx="1676520" cy="4572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889280" y="4014720"/>
            <a:ext cx="1803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27432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3962520"/>
            <a:ext cx="1676520" cy="4572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27560" y="401472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in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41911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3962520"/>
            <a:ext cx="1676520" cy="4572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537240" y="4014720"/>
            <a:ext cx="1650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41911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5638680"/>
            <a:ext cx="1676520" cy="4572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613560" y="5691240"/>
            <a:ext cx="1282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44197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86800" y="57150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610480" y="56386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53280" y="5867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roposal for Agent UML goal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UML 2 Activit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lan and action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 to write Agent UML goal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ke schö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agents are goal-driven (especially BDI 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agents consider (among other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(derived from an in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(to complete a go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(atomic operation in a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PA TC Modeling and Agent UML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s much as possible UML for ag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 overview of Agent U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by James Odell and Bernhard Bauer in 1999 for agent design and protoco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used by FIP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andardization of ag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ea: reusing UML via a profile si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well-known by software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trong industri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 overview of Agent U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current streams of resea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protocols (Agent UML Interaction dia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, plans and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visit: http://www.aum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os and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proposal based on UML, use goals and softgoals (goals not yet formal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execution is «weighted»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task helps goal achievement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task deserves goal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operators: AND and OR to combine goa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s against Tropos goals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goals: they delay goal diagram completion, too much unform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contribution: a two-valued system is too simple to represent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: absent from Tropos goal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: absent from Tropos goal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currency in Tropos goal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istribution amo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posal based on UM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UML 2 Activit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ree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5562720" cy="426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ic operation i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kinds of 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agen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from interaction or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triggered by a tim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3048120"/>
            <a:ext cx="1676520" cy="4572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918480" y="3032280"/>
            <a:ext cx="92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553080" y="3809880"/>
            <a:ext cx="1676520" cy="533520"/>
            <a:chOff x="6553080" y="3809880"/>
            <a:chExt cx="1676520" cy="533520"/>
          </a:xfrm>
        </p:grpSpPr>
        <p:sp>
          <p:nvSpPr>
            <p:cNvPr id="58" name=""/>
            <p:cNvSpPr/>
            <p:nvPr/>
          </p:nvSpPr>
          <p:spPr>
            <a:xfrm>
              <a:off x="6553080" y="380988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53080" y="434340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229600" y="38098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53080" y="38098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553080" y="41148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6918480" y="3794040"/>
            <a:ext cx="92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086600" y="46483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6483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520" y="3352680"/>
            <a:ext cx="1676160" cy="533520"/>
            <a:chOff x="533520" y="3352680"/>
            <a:chExt cx="1676160" cy="533520"/>
          </a:xfrm>
        </p:grpSpPr>
        <p:sp>
          <p:nvSpPr>
            <p:cNvPr id="70" name=""/>
            <p:cNvSpPr/>
            <p:nvPr/>
          </p:nvSpPr>
          <p:spPr>
            <a:xfrm>
              <a:off x="533520" y="33526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3886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09680" y="3352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520" y="33526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33520" y="36576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 txBox="1"/>
          <p:nvPr/>
        </p:nvSpPr>
        <p:spPr>
          <a:xfrm>
            <a:off x="822240" y="34052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8120" y="3352680"/>
            <a:ext cx="1676160" cy="533520"/>
            <a:chOff x="3048120" y="3352680"/>
            <a:chExt cx="1676160" cy="533520"/>
          </a:xfrm>
        </p:grpSpPr>
        <p:sp>
          <p:nvSpPr>
            <p:cNvPr id="77" name=""/>
            <p:cNvSpPr/>
            <p:nvPr/>
          </p:nvSpPr>
          <p:spPr>
            <a:xfrm>
              <a:off x="3048120" y="33526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8120" y="3886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3352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8120" y="33526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048120" y="36576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 txBox="1"/>
          <p:nvPr/>
        </p:nvSpPr>
        <p:spPr>
          <a:xfrm>
            <a:off x="3336840" y="3405240"/>
            <a:ext cx="1295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36576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4191120"/>
            <a:ext cx="1676520" cy="4572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18280" y="4243320"/>
            <a:ext cx="1496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388620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2895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37240" y="2994120"/>
            <a:ext cx="1839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localPrecondition&gt;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ough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35812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2895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534520" y="3048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8381880" y="28954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1880" y="2895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1880" y="3048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95880" y="3581280"/>
            <a:ext cx="609840" cy="6098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5334120"/>
            <a:ext cx="1676520" cy="4572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75080" y="5386320"/>
            <a:ext cx="1446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114800" y="4648320"/>
            <a:ext cx="121932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105520" y="4800600"/>
            <a:ext cx="533160" cy="685800"/>
          </a:xfrm>
          <a:prstGeom prst="line">
            <a:avLst/>
          </a:prstGeom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70560" y="5538960"/>
            <a:ext cx="1422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tivity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-Philippe Huget</dc:creator>
  <dc:description/>
  <dc:language>en-US</dc:language>
  <cp:lastModifiedBy>Marc-Philippe Huget</cp:lastModifiedBy>
  <cp:revision>0</cp:revision>
  <dc:subject/>
  <dc:title>Representing Goals  in Multiagent Systems</dc:title>
</cp:coreProperties>
</file>