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6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9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46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23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6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46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23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9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263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767160" y="4958640"/>
            <a:ext cx="25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67968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0480" y="1157400"/>
            <a:ext cx="777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versità di Modena e Reggio E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67644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572760"/>
            <a:ext cx="778536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 and Practice of Field-based Motion Coordination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Agen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45240" y="4818240"/>
            <a:ext cx="713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rco Mame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Franco Zambon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ISMI – Università di Modena e Reggio Emilia –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{ mamei.marco, franco.zambonelli }@unimo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65600" y="1757520"/>
            <a:ext cx="4429080" cy="4348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676600" y="3489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5600" y="35211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0600" y="3673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7200" y="3200400"/>
            <a:ext cx="762120" cy="685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40160" y="2184480"/>
            <a:ext cx="1600200" cy="2844720"/>
          </a:xfrm>
          <a:custGeom>
            <a:avLst/>
            <a:gdLst/>
            <a:ahLst/>
            <a:rect l="l" t="t" r="r" b="b"/>
            <a:pathLst>
              <a:path w="1008" h="1792">
                <a:moveTo>
                  <a:pt x="0" y="0"/>
                </a:moveTo>
                <a:cubicBezTo>
                  <a:pt x="368" y="72"/>
                  <a:pt x="736" y="144"/>
                  <a:pt x="872" y="368"/>
                </a:cubicBezTo>
                <a:cubicBezTo>
                  <a:pt x="1008" y="592"/>
                  <a:pt x="952" y="1107"/>
                  <a:pt x="816" y="1344"/>
                </a:cubicBezTo>
                <a:cubicBezTo>
                  <a:pt x="680" y="1581"/>
                  <a:pt x="180" y="1717"/>
                  <a:pt x="56" y="179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1430280"/>
            <a:ext cx="3003480" cy="4714920"/>
          </a:xfrm>
          <a:custGeom>
            <a:avLst/>
            <a:gdLst/>
            <a:ahLst/>
            <a:rect l="l" t="t" r="r" b="b"/>
            <a:pathLst>
              <a:path w="1892" h="2970">
                <a:moveTo>
                  <a:pt x="1016" y="19"/>
                </a:moveTo>
                <a:cubicBezTo>
                  <a:pt x="1136" y="67"/>
                  <a:pt x="1605" y="0"/>
                  <a:pt x="1744" y="307"/>
                </a:cubicBezTo>
                <a:cubicBezTo>
                  <a:pt x="1883" y="614"/>
                  <a:pt x="1892" y="1440"/>
                  <a:pt x="1848" y="1859"/>
                </a:cubicBezTo>
                <a:cubicBezTo>
                  <a:pt x="1804" y="2278"/>
                  <a:pt x="1788" y="2679"/>
                  <a:pt x="1480" y="2819"/>
                </a:cubicBezTo>
                <a:cubicBezTo>
                  <a:pt x="1172" y="2959"/>
                  <a:pt x="191" y="2970"/>
                  <a:pt x="0" y="2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2006640"/>
            <a:ext cx="2908080" cy="4468680"/>
          </a:xfrm>
          <a:custGeom>
            <a:avLst/>
            <a:gdLst/>
            <a:ahLst/>
            <a:rect l="l" t="t" r="r" b="b"/>
            <a:pathLst>
              <a:path w="1832" h="2815">
                <a:moveTo>
                  <a:pt x="1504" y="0"/>
                </a:moveTo>
                <a:cubicBezTo>
                  <a:pt x="1575" y="250"/>
                  <a:pt x="1647" y="500"/>
                  <a:pt x="1688" y="744"/>
                </a:cubicBezTo>
                <a:cubicBezTo>
                  <a:pt x="1729" y="988"/>
                  <a:pt x="1832" y="1271"/>
                  <a:pt x="1752" y="1464"/>
                </a:cubicBezTo>
                <a:cubicBezTo>
                  <a:pt x="1672" y="1657"/>
                  <a:pt x="1321" y="1704"/>
                  <a:pt x="1208" y="1904"/>
                </a:cubicBezTo>
                <a:cubicBezTo>
                  <a:pt x="1095" y="2104"/>
                  <a:pt x="1273" y="2513"/>
                  <a:pt x="1072" y="2664"/>
                </a:cubicBezTo>
                <a:cubicBezTo>
                  <a:pt x="871" y="2815"/>
                  <a:pt x="177" y="2784"/>
                  <a:pt x="0" y="2808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070000"/>
            <a:ext cx="2001960" cy="4635720"/>
          </a:xfrm>
          <a:custGeom>
            <a:avLst/>
            <a:gdLst/>
            <a:ahLst/>
            <a:rect l="l" t="t" r="r" b="b"/>
            <a:pathLst>
              <a:path w="1261" h="2920">
                <a:moveTo>
                  <a:pt x="928" y="0"/>
                </a:moveTo>
                <a:cubicBezTo>
                  <a:pt x="1089" y="303"/>
                  <a:pt x="1251" y="607"/>
                  <a:pt x="1256" y="928"/>
                </a:cubicBezTo>
                <a:cubicBezTo>
                  <a:pt x="1261" y="1249"/>
                  <a:pt x="1087" y="1627"/>
                  <a:pt x="960" y="1928"/>
                </a:cubicBezTo>
                <a:cubicBezTo>
                  <a:pt x="833" y="2229"/>
                  <a:pt x="656" y="2571"/>
                  <a:pt x="496" y="2736"/>
                </a:cubicBezTo>
                <a:cubicBezTo>
                  <a:pt x="336" y="2901"/>
                  <a:pt x="168" y="2910"/>
                  <a:pt x="0" y="292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1880" y="2349360"/>
            <a:ext cx="1308240" cy="4038840"/>
          </a:xfrm>
          <a:custGeom>
            <a:avLst/>
            <a:gdLst/>
            <a:ahLst/>
            <a:rect l="l" t="t" r="r" b="b"/>
            <a:pathLst>
              <a:path w="824" h="2544">
                <a:moveTo>
                  <a:pt x="624" y="0"/>
                </a:moveTo>
                <a:cubicBezTo>
                  <a:pt x="724" y="424"/>
                  <a:pt x="824" y="848"/>
                  <a:pt x="720" y="1272"/>
                </a:cubicBezTo>
                <a:cubicBezTo>
                  <a:pt x="616" y="1696"/>
                  <a:pt x="308" y="2120"/>
                  <a:pt x="0" y="25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676600" y="3489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05600" y="35211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30600" y="3673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7200" y="3200400"/>
            <a:ext cx="762120" cy="685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40160" y="2184480"/>
            <a:ext cx="1600200" cy="2844720"/>
          </a:xfrm>
          <a:custGeom>
            <a:avLst/>
            <a:gdLst/>
            <a:ahLst/>
            <a:rect l="l" t="t" r="r" b="b"/>
            <a:pathLst>
              <a:path w="1008" h="1792">
                <a:moveTo>
                  <a:pt x="0" y="0"/>
                </a:moveTo>
                <a:cubicBezTo>
                  <a:pt x="368" y="72"/>
                  <a:pt x="736" y="144"/>
                  <a:pt x="872" y="368"/>
                </a:cubicBezTo>
                <a:cubicBezTo>
                  <a:pt x="1008" y="592"/>
                  <a:pt x="952" y="1107"/>
                  <a:pt x="816" y="1344"/>
                </a:cubicBezTo>
                <a:cubicBezTo>
                  <a:pt x="680" y="1581"/>
                  <a:pt x="180" y="1717"/>
                  <a:pt x="56" y="179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17720" y="1430280"/>
            <a:ext cx="3003480" cy="4714920"/>
          </a:xfrm>
          <a:custGeom>
            <a:avLst/>
            <a:gdLst/>
            <a:ahLst/>
            <a:rect l="l" t="t" r="r" b="b"/>
            <a:pathLst>
              <a:path w="1892" h="2970">
                <a:moveTo>
                  <a:pt x="1016" y="19"/>
                </a:moveTo>
                <a:cubicBezTo>
                  <a:pt x="1136" y="67"/>
                  <a:pt x="1605" y="0"/>
                  <a:pt x="1744" y="307"/>
                </a:cubicBezTo>
                <a:cubicBezTo>
                  <a:pt x="1883" y="614"/>
                  <a:pt x="1892" y="1440"/>
                  <a:pt x="1848" y="1859"/>
                </a:cubicBezTo>
                <a:cubicBezTo>
                  <a:pt x="1804" y="2278"/>
                  <a:pt x="1788" y="2679"/>
                  <a:pt x="1480" y="2819"/>
                </a:cubicBezTo>
                <a:cubicBezTo>
                  <a:pt x="1172" y="2959"/>
                  <a:pt x="191" y="2970"/>
                  <a:pt x="0" y="2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2006640"/>
            <a:ext cx="2908080" cy="4468680"/>
          </a:xfrm>
          <a:custGeom>
            <a:avLst/>
            <a:gdLst/>
            <a:ahLst/>
            <a:rect l="l" t="t" r="r" b="b"/>
            <a:pathLst>
              <a:path w="1832" h="2815">
                <a:moveTo>
                  <a:pt x="1504" y="0"/>
                </a:moveTo>
                <a:cubicBezTo>
                  <a:pt x="1575" y="250"/>
                  <a:pt x="1647" y="500"/>
                  <a:pt x="1688" y="744"/>
                </a:cubicBezTo>
                <a:cubicBezTo>
                  <a:pt x="1729" y="988"/>
                  <a:pt x="1832" y="1271"/>
                  <a:pt x="1752" y="1464"/>
                </a:cubicBezTo>
                <a:cubicBezTo>
                  <a:pt x="1672" y="1657"/>
                  <a:pt x="1321" y="1704"/>
                  <a:pt x="1208" y="1904"/>
                </a:cubicBezTo>
                <a:cubicBezTo>
                  <a:pt x="1095" y="2104"/>
                  <a:pt x="1273" y="2513"/>
                  <a:pt x="1072" y="2664"/>
                </a:cubicBezTo>
                <a:cubicBezTo>
                  <a:pt x="871" y="2815"/>
                  <a:pt x="177" y="2784"/>
                  <a:pt x="0" y="2808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46440" y="2070000"/>
            <a:ext cx="2001960" cy="4635720"/>
          </a:xfrm>
          <a:custGeom>
            <a:avLst/>
            <a:gdLst/>
            <a:ahLst/>
            <a:rect l="l" t="t" r="r" b="b"/>
            <a:pathLst>
              <a:path w="1261" h="2920">
                <a:moveTo>
                  <a:pt x="928" y="0"/>
                </a:moveTo>
                <a:cubicBezTo>
                  <a:pt x="1089" y="303"/>
                  <a:pt x="1251" y="607"/>
                  <a:pt x="1256" y="928"/>
                </a:cubicBezTo>
                <a:cubicBezTo>
                  <a:pt x="1261" y="1249"/>
                  <a:pt x="1087" y="1627"/>
                  <a:pt x="960" y="1928"/>
                </a:cubicBezTo>
                <a:cubicBezTo>
                  <a:pt x="833" y="2229"/>
                  <a:pt x="656" y="2571"/>
                  <a:pt x="496" y="2736"/>
                </a:cubicBezTo>
                <a:cubicBezTo>
                  <a:pt x="336" y="2901"/>
                  <a:pt x="168" y="2910"/>
                  <a:pt x="0" y="292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11880" y="2349360"/>
            <a:ext cx="1308240" cy="4038840"/>
          </a:xfrm>
          <a:custGeom>
            <a:avLst/>
            <a:gdLst/>
            <a:ahLst/>
            <a:rect l="l" t="t" r="r" b="b"/>
            <a:pathLst>
              <a:path w="824" h="2544">
                <a:moveTo>
                  <a:pt x="624" y="0"/>
                </a:moveTo>
                <a:cubicBezTo>
                  <a:pt x="724" y="424"/>
                  <a:pt x="824" y="848"/>
                  <a:pt x="720" y="1272"/>
                </a:cubicBezTo>
                <a:cubicBezTo>
                  <a:pt x="616" y="1696"/>
                  <a:pt x="308" y="2120"/>
                  <a:pt x="0" y="25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23120" y="20350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676600" y="3489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34200" y="37623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0600" y="3673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27200" y="3200400"/>
            <a:ext cx="762120" cy="685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0160" y="2184480"/>
            <a:ext cx="1600200" cy="2844720"/>
          </a:xfrm>
          <a:custGeom>
            <a:avLst/>
            <a:gdLst/>
            <a:ahLst/>
            <a:rect l="l" t="t" r="r" b="b"/>
            <a:pathLst>
              <a:path w="1008" h="1792">
                <a:moveTo>
                  <a:pt x="0" y="0"/>
                </a:moveTo>
                <a:cubicBezTo>
                  <a:pt x="368" y="72"/>
                  <a:pt x="736" y="144"/>
                  <a:pt x="872" y="368"/>
                </a:cubicBezTo>
                <a:cubicBezTo>
                  <a:pt x="1008" y="592"/>
                  <a:pt x="952" y="1107"/>
                  <a:pt x="816" y="1344"/>
                </a:cubicBezTo>
                <a:cubicBezTo>
                  <a:pt x="680" y="1581"/>
                  <a:pt x="180" y="1717"/>
                  <a:pt x="56" y="179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7720" y="1430280"/>
            <a:ext cx="3003480" cy="4714920"/>
          </a:xfrm>
          <a:custGeom>
            <a:avLst/>
            <a:gdLst/>
            <a:ahLst/>
            <a:rect l="l" t="t" r="r" b="b"/>
            <a:pathLst>
              <a:path w="1892" h="2970">
                <a:moveTo>
                  <a:pt x="1016" y="19"/>
                </a:moveTo>
                <a:cubicBezTo>
                  <a:pt x="1136" y="67"/>
                  <a:pt x="1605" y="0"/>
                  <a:pt x="1744" y="307"/>
                </a:cubicBezTo>
                <a:cubicBezTo>
                  <a:pt x="1883" y="614"/>
                  <a:pt x="1892" y="1440"/>
                  <a:pt x="1848" y="1859"/>
                </a:cubicBezTo>
                <a:cubicBezTo>
                  <a:pt x="1804" y="2278"/>
                  <a:pt x="1788" y="2679"/>
                  <a:pt x="1480" y="2819"/>
                </a:cubicBezTo>
                <a:cubicBezTo>
                  <a:pt x="1172" y="2959"/>
                  <a:pt x="191" y="2970"/>
                  <a:pt x="0" y="2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9960" y="2006640"/>
            <a:ext cx="2908080" cy="4468680"/>
          </a:xfrm>
          <a:custGeom>
            <a:avLst/>
            <a:gdLst/>
            <a:ahLst/>
            <a:rect l="l" t="t" r="r" b="b"/>
            <a:pathLst>
              <a:path w="1832" h="2815">
                <a:moveTo>
                  <a:pt x="1504" y="0"/>
                </a:moveTo>
                <a:cubicBezTo>
                  <a:pt x="1575" y="250"/>
                  <a:pt x="1647" y="500"/>
                  <a:pt x="1688" y="744"/>
                </a:cubicBezTo>
                <a:cubicBezTo>
                  <a:pt x="1729" y="988"/>
                  <a:pt x="1832" y="1271"/>
                  <a:pt x="1752" y="1464"/>
                </a:cubicBezTo>
                <a:cubicBezTo>
                  <a:pt x="1672" y="1657"/>
                  <a:pt x="1321" y="1704"/>
                  <a:pt x="1208" y="1904"/>
                </a:cubicBezTo>
                <a:cubicBezTo>
                  <a:pt x="1095" y="2104"/>
                  <a:pt x="1273" y="2513"/>
                  <a:pt x="1072" y="2664"/>
                </a:cubicBezTo>
                <a:cubicBezTo>
                  <a:pt x="871" y="2815"/>
                  <a:pt x="177" y="2784"/>
                  <a:pt x="0" y="2808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46440" y="2070000"/>
            <a:ext cx="2001960" cy="4635720"/>
          </a:xfrm>
          <a:custGeom>
            <a:avLst/>
            <a:gdLst/>
            <a:ahLst/>
            <a:rect l="l" t="t" r="r" b="b"/>
            <a:pathLst>
              <a:path w="1261" h="2920">
                <a:moveTo>
                  <a:pt x="928" y="0"/>
                </a:moveTo>
                <a:cubicBezTo>
                  <a:pt x="1089" y="303"/>
                  <a:pt x="1251" y="607"/>
                  <a:pt x="1256" y="928"/>
                </a:cubicBezTo>
                <a:cubicBezTo>
                  <a:pt x="1261" y="1249"/>
                  <a:pt x="1087" y="1627"/>
                  <a:pt x="960" y="1928"/>
                </a:cubicBezTo>
                <a:cubicBezTo>
                  <a:pt x="833" y="2229"/>
                  <a:pt x="656" y="2571"/>
                  <a:pt x="496" y="2736"/>
                </a:cubicBezTo>
                <a:cubicBezTo>
                  <a:pt x="336" y="2901"/>
                  <a:pt x="168" y="2910"/>
                  <a:pt x="0" y="292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1880" y="2349360"/>
            <a:ext cx="1308240" cy="4038840"/>
          </a:xfrm>
          <a:custGeom>
            <a:avLst/>
            <a:gdLst/>
            <a:ahLst/>
            <a:rect l="l" t="t" r="r" b="b"/>
            <a:pathLst>
              <a:path w="824" h="2544">
                <a:moveTo>
                  <a:pt x="624" y="0"/>
                </a:moveTo>
                <a:cubicBezTo>
                  <a:pt x="724" y="424"/>
                  <a:pt x="824" y="848"/>
                  <a:pt x="720" y="1272"/>
                </a:cubicBezTo>
                <a:cubicBezTo>
                  <a:pt x="616" y="1696"/>
                  <a:pt x="308" y="2120"/>
                  <a:pt x="0" y="25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1820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76600" y="3489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34200" y="37623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6480" y="40165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200400"/>
            <a:ext cx="762120" cy="685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40160" y="2184480"/>
            <a:ext cx="1600200" cy="2844720"/>
          </a:xfrm>
          <a:custGeom>
            <a:avLst/>
            <a:gdLst/>
            <a:ahLst/>
            <a:rect l="l" t="t" r="r" b="b"/>
            <a:pathLst>
              <a:path w="1008" h="1792">
                <a:moveTo>
                  <a:pt x="0" y="0"/>
                </a:moveTo>
                <a:cubicBezTo>
                  <a:pt x="368" y="72"/>
                  <a:pt x="736" y="144"/>
                  <a:pt x="872" y="368"/>
                </a:cubicBezTo>
                <a:cubicBezTo>
                  <a:pt x="1008" y="592"/>
                  <a:pt x="952" y="1107"/>
                  <a:pt x="816" y="1344"/>
                </a:cubicBezTo>
                <a:cubicBezTo>
                  <a:pt x="680" y="1581"/>
                  <a:pt x="180" y="1717"/>
                  <a:pt x="56" y="179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17720" y="1430280"/>
            <a:ext cx="3003480" cy="4714920"/>
          </a:xfrm>
          <a:custGeom>
            <a:avLst/>
            <a:gdLst/>
            <a:ahLst/>
            <a:rect l="l" t="t" r="r" b="b"/>
            <a:pathLst>
              <a:path w="1892" h="2970">
                <a:moveTo>
                  <a:pt x="1016" y="19"/>
                </a:moveTo>
                <a:cubicBezTo>
                  <a:pt x="1136" y="67"/>
                  <a:pt x="1605" y="0"/>
                  <a:pt x="1744" y="307"/>
                </a:cubicBezTo>
                <a:cubicBezTo>
                  <a:pt x="1883" y="614"/>
                  <a:pt x="1892" y="1440"/>
                  <a:pt x="1848" y="1859"/>
                </a:cubicBezTo>
                <a:cubicBezTo>
                  <a:pt x="1804" y="2278"/>
                  <a:pt x="1788" y="2679"/>
                  <a:pt x="1480" y="2819"/>
                </a:cubicBezTo>
                <a:cubicBezTo>
                  <a:pt x="1172" y="2959"/>
                  <a:pt x="191" y="2970"/>
                  <a:pt x="0" y="2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09960" y="2006640"/>
            <a:ext cx="2908080" cy="4468680"/>
          </a:xfrm>
          <a:custGeom>
            <a:avLst/>
            <a:gdLst/>
            <a:ahLst/>
            <a:rect l="l" t="t" r="r" b="b"/>
            <a:pathLst>
              <a:path w="1832" h="2815">
                <a:moveTo>
                  <a:pt x="1504" y="0"/>
                </a:moveTo>
                <a:cubicBezTo>
                  <a:pt x="1575" y="250"/>
                  <a:pt x="1647" y="500"/>
                  <a:pt x="1688" y="744"/>
                </a:cubicBezTo>
                <a:cubicBezTo>
                  <a:pt x="1729" y="988"/>
                  <a:pt x="1832" y="1271"/>
                  <a:pt x="1752" y="1464"/>
                </a:cubicBezTo>
                <a:cubicBezTo>
                  <a:pt x="1672" y="1657"/>
                  <a:pt x="1321" y="1704"/>
                  <a:pt x="1208" y="1904"/>
                </a:cubicBezTo>
                <a:cubicBezTo>
                  <a:pt x="1095" y="2104"/>
                  <a:pt x="1273" y="2513"/>
                  <a:pt x="1072" y="2664"/>
                </a:cubicBezTo>
                <a:cubicBezTo>
                  <a:pt x="871" y="2815"/>
                  <a:pt x="177" y="2784"/>
                  <a:pt x="0" y="2808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6440" y="2070000"/>
            <a:ext cx="2001960" cy="4635720"/>
          </a:xfrm>
          <a:custGeom>
            <a:avLst/>
            <a:gdLst/>
            <a:ahLst/>
            <a:rect l="l" t="t" r="r" b="b"/>
            <a:pathLst>
              <a:path w="1261" h="2920">
                <a:moveTo>
                  <a:pt x="928" y="0"/>
                </a:moveTo>
                <a:cubicBezTo>
                  <a:pt x="1089" y="303"/>
                  <a:pt x="1251" y="607"/>
                  <a:pt x="1256" y="928"/>
                </a:cubicBezTo>
                <a:cubicBezTo>
                  <a:pt x="1261" y="1249"/>
                  <a:pt x="1087" y="1627"/>
                  <a:pt x="960" y="1928"/>
                </a:cubicBezTo>
                <a:cubicBezTo>
                  <a:pt x="833" y="2229"/>
                  <a:pt x="656" y="2571"/>
                  <a:pt x="496" y="2736"/>
                </a:cubicBezTo>
                <a:cubicBezTo>
                  <a:pt x="336" y="2901"/>
                  <a:pt x="168" y="2910"/>
                  <a:pt x="0" y="292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1880" y="2349360"/>
            <a:ext cx="1308240" cy="4038840"/>
          </a:xfrm>
          <a:custGeom>
            <a:avLst/>
            <a:gdLst/>
            <a:ahLst/>
            <a:rect l="l" t="t" r="r" b="b"/>
            <a:pathLst>
              <a:path w="824" h="2544">
                <a:moveTo>
                  <a:pt x="624" y="0"/>
                </a:moveTo>
                <a:cubicBezTo>
                  <a:pt x="724" y="424"/>
                  <a:pt x="824" y="848"/>
                  <a:pt x="720" y="1272"/>
                </a:cubicBezTo>
                <a:cubicBezTo>
                  <a:pt x="616" y="1696"/>
                  <a:pt x="308" y="2120"/>
                  <a:pt x="0" y="25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51240" y="2975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676600" y="3489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34200" y="37623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6480" y="40165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51240" y="2975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8160" y="3645000"/>
            <a:ext cx="762120" cy="68580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240" y="2786040"/>
            <a:ext cx="2549520" cy="1822320"/>
          </a:xfrm>
          <a:custGeom>
            <a:avLst/>
            <a:gdLst/>
            <a:ahLst/>
            <a:rect l="l" t="t" r="r" b="b"/>
            <a:pathLst>
              <a:path w="1606" h="1148">
                <a:moveTo>
                  <a:pt x="561" y="485"/>
                </a:moveTo>
                <a:cubicBezTo>
                  <a:pt x="680" y="512"/>
                  <a:pt x="994" y="514"/>
                  <a:pt x="1161" y="573"/>
                </a:cubicBezTo>
                <a:cubicBezTo>
                  <a:pt x="1328" y="632"/>
                  <a:pt x="1516" y="748"/>
                  <a:pt x="1561" y="837"/>
                </a:cubicBezTo>
                <a:cubicBezTo>
                  <a:pt x="1606" y="926"/>
                  <a:pt x="1554" y="1070"/>
                  <a:pt x="1433" y="1109"/>
                </a:cubicBezTo>
                <a:cubicBezTo>
                  <a:pt x="1312" y="1148"/>
                  <a:pt x="1028" y="1137"/>
                  <a:pt x="833" y="1069"/>
                </a:cubicBezTo>
                <a:cubicBezTo>
                  <a:pt x="638" y="1001"/>
                  <a:pt x="402" y="840"/>
                  <a:pt x="265" y="701"/>
                </a:cubicBezTo>
                <a:cubicBezTo>
                  <a:pt x="128" y="562"/>
                  <a:pt x="0" y="349"/>
                  <a:pt x="9" y="237"/>
                </a:cubicBezTo>
                <a:cubicBezTo>
                  <a:pt x="18" y="125"/>
                  <a:pt x="248" y="0"/>
                  <a:pt x="321" y="29"/>
                </a:cubicBezTo>
                <a:cubicBezTo>
                  <a:pt x="394" y="58"/>
                  <a:pt x="410" y="337"/>
                  <a:pt x="449" y="413"/>
                </a:cubicBezTo>
                <a:cubicBezTo>
                  <a:pt x="488" y="489"/>
                  <a:pt x="442" y="458"/>
                  <a:pt x="561" y="485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90880" y="2349360"/>
            <a:ext cx="4632120" cy="3230640"/>
          </a:xfrm>
          <a:custGeom>
            <a:avLst/>
            <a:gdLst/>
            <a:ahLst/>
            <a:rect l="l" t="t" r="r" b="b"/>
            <a:pathLst>
              <a:path w="2918" h="2035">
                <a:moveTo>
                  <a:pt x="379" y="96"/>
                </a:moveTo>
                <a:cubicBezTo>
                  <a:pt x="548" y="0"/>
                  <a:pt x="780" y="149"/>
                  <a:pt x="1043" y="168"/>
                </a:cubicBezTo>
                <a:cubicBezTo>
                  <a:pt x="1306" y="187"/>
                  <a:pt x="1696" y="204"/>
                  <a:pt x="1955" y="208"/>
                </a:cubicBezTo>
                <a:cubicBezTo>
                  <a:pt x="2214" y="212"/>
                  <a:pt x="2442" y="71"/>
                  <a:pt x="2595" y="192"/>
                </a:cubicBezTo>
                <a:cubicBezTo>
                  <a:pt x="2748" y="313"/>
                  <a:pt x="2918" y="643"/>
                  <a:pt x="2875" y="936"/>
                </a:cubicBezTo>
                <a:cubicBezTo>
                  <a:pt x="2832" y="1229"/>
                  <a:pt x="2602" y="1869"/>
                  <a:pt x="2339" y="1952"/>
                </a:cubicBezTo>
                <a:cubicBezTo>
                  <a:pt x="2076" y="2035"/>
                  <a:pt x="1600" y="1515"/>
                  <a:pt x="1299" y="1432"/>
                </a:cubicBezTo>
                <a:cubicBezTo>
                  <a:pt x="998" y="1349"/>
                  <a:pt x="743" y="1571"/>
                  <a:pt x="531" y="1456"/>
                </a:cubicBezTo>
                <a:cubicBezTo>
                  <a:pt x="319" y="1341"/>
                  <a:pt x="54" y="971"/>
                  <a:pt x="27" y="744"/>
                </a:cubicBezTo>
                <a:cubicBezTo>
                  <a:pt x="0" y="517"/>
                  <a:pt x="210" y="192"/>
                  <a:pt x="379" y="96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2120" y="1884240"/>
            <a:ext cx="4881600" cy="4530960"/>
          </a:xfrm>
          <a:custGeom>
            <a:avLst/>
            <a:gdLst/>
            <a:ahLst/>
            <a:rect l="l" t="t" r="r" b="b"/>
            <a:pathLst>
              <a:path w="3075" h="2854">
                <a:moveTo>
                  <a:pt x="672" y="21"/>
                </a:moveTo>
                <a:cubicBezTo>
                  <a:pt x="1494" y="10"/>
                  <a:pt x="2317" y="0"/>
                  <a:pt x="2696" y="261"/>
                </a:cubicBezTo>
                <a:cubicBezTo>
                  <a:pt x="3075" y="522"/>
                  <a:pt x="3032" y="1184"/>
                  <a:pt x="2944" y="1589"/>
                </a:cubicBezTo>
                <a:cubicBezTo>
                  <a:pt x="2856" y="1994"/>
                  <a:pt x="2519" y="2532"/>
                  <a:pt x="2168" y="2693"/>
                </a:cubicBezTo>
                <a:cubicBezTo>
                  <a:pt x="1817" y="2854"/>
                  <a:pt x="1201" y="2656"/>
                  <a:pt x="840" y="2557"/>
                </a:cubicBezTo>
                <a:cubicBezTo>
                  <a:pt x="479" y="2458"/>
                  <a:pt x="144" y="2177"/>
                  <a:pt x="0" y="2101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414440"/>
            <a:ext cx="6489720" cy="544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27400" y="1892160"/>
            <a:ext cx="26636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444920" y="3137040"/>
            <a:ext cx="3962520" cy="3517920"/>
            <a:chOff x="4444920" y="3137040"/>
            <a:chExt cx="3962520" cy="3517920"/>
          </a:xfrm>
        </p:grpSpPr>
        <p:sp>
          <p:nvSpPr>
            <p:cNvPr id="253" name=""/>
            <p:cNvSpPr/>
            <p:nvPr/>
          </p:nvSpPr>
          <p:spPr>
            <a:xfrm>
              <a:off x="4444920" y="3137040"/>
              <a:ext cx="3962520" cy="3517920"/>
            </a:xfrm>
            <a:prstGeom prst="irregularSeal2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50120" y="4238640"/>
              <a:ext cx="1511280" cy="1310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 installed on simulated nodes, runs also on the IPA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TOTA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e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e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60520" y="2247840"/>
            <a:ext cx="4572000" cy="1015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30400" y="1879560"/>
            <a:ext cx="7429320" cy="454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taTuple tup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OneH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rdOneH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, ReactiveComponent comp, String rc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ub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uple template, ReactiveComponent co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taTuple tup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taTuple tup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47840" y="1371600"/>
            <a:ext cx="5308560" cy="5308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lockAgent extends AbstractAge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FlockingTuple ft = new FlockingTup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ft.content = "flock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ota.inject(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FlockingTuple ft = new FlockingTup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ft.content = "flock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Vector pv = tota.readOneHop(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minimum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er min = getDownhill(p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min =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min coordinates...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Point target = min.getCoordinat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target =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move(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156280" y="3238560"/>
            <a:ext cx="3962160" cy="3517920"/>
            <a:chOff x="5156280" y="3238560"/>
            <a:chExt cx="3962160" cy="3517920"/>
          </a:xfrm>
        </p:grpSpPr>
        <p:sp>
          <p:nvSpPr>
            <p:cNvPr id="263" name=""/>
            <p:cNvSpPr/>
            <p:nvPr/>
          </p:nvSpPr>
          <p:spPr>
            <a:xfrm>
              <a:off x="5156280" y="3238560"/>
              <a:ext cx="3962160" cy="3517920"/>
            </a:xfrm>
            <a:prstGeom prst="irregularSeal2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61120" y="4340160"/>
              <a:ext cx="1510920" cy="14378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Very Simple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gents are balls just rolling upon the field surface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TOTA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e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e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60520" y="3352680"/>
            <a:ext cx="4572000" cy="101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and 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257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hallenge in open and dynamic application scenario is the need for robustness despite environment dynam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regar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tonomous 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is promising, in that it promotes a shift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-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ion pattern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-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ion patte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ape these interaction patterns, agents need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-a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 agent can meaningfully interact and coordinate with other agents only if it is aware of “what is aroun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current systems focus mainly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l-purpose contextual information and almost disregard how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ub/sub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 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14920" y="1828800"/>
            <a:ext cx="1930320" cy="6602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7800" y="5054760"/>
            <a:ext cx="1932120" cy="66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tric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73600" y="2841480"/>
            <a:ext cx="1931760" cy="65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ure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89440" y="248436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9440" y="47689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1360" y="4110120"/>
            <a:ext cx="1932120" cy="65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ace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82880" y="4110120"/>
            <a:ext cx="1930680" cy="65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p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110120"/>
            <a:ext cx="1932120" cy="65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ssage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48080" y="380700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48080" y="380700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89440" y="3500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15320" y="380700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25680" y="1574640"/>
            <a:ext cx="5207040" cy="448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ublic final void propagate(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(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ecideEnter(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 prop =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ecidePropagate(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hangeTupleContent(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akeSubscriptions(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ta.store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f(pr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ta.move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Tu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520" y="1689120"/>
            <a:ext cx="654048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lockingTuple extends HopTu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value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rotected void changeTupleConte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uper.changeTupleCont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f(hop &lt;= 2) value 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lse if(hop &gt;2) value 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Practice to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mus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ag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is based on a simple hop-by-hop epidemic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ed an algorithm to maintain the tuples loc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s realistic scenar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52760" y="3643200"/>
            <a:ext cx="6703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a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topology and record the number of messages sent to update the tuple distributed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verage number of messages exchanged by peers 0,1,2,3,… hop away from the topology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these numbers over a large set of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005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47800" y="1703520"/>
            <a:ext cx="4057560" cy="479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4005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911840" y="1703520"/>
            <a:ext cx="4016160" cy="478476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4000680" y="2540160"/>
            <a:ext cx="5244480" cy="4660560"/>
            <a:chOff x="4000680" y="2540160"/>
            <a:chExt cx="5244480" cy="4660560"/>
          </a:xfrm>
        </p:grpSpPr>
        <p:sp>
          <p:nvSpPr>
            <p:cNvPr id="296" name=""/>
            <p:cNvSpPr/>
            <p:nvPr/>
          </p:nvSpPr>
          <p:spPr>
            <a:xfrm>
              <a:off x="4000680" y="2540160"/>
              <a:ext cx="5244480" cy="4660560"/>
            </a:xfrm>
            <a:prstGeom prst="irregularSeal2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34560" y="3975840"/>
              <a:ext cx="2349000" cy="18082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lity scopes emerge in a network without predefined boundar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twork topology changes do not affect far nodes, but tend to remain 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gn of sca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lready Implement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tion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in 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based access to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based routing (D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Robot Contro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Going and Future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other experiments on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ore applications, trying to move beyond motion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global programming languages and compiler to automatically obtain single agent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rphous Computer (MIT) or Spatial Programming (Rutgers Uni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17360" y="2997000"/>
            <a:ext cx="6235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ttp://agentgroup.ing.unimo.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are looking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4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con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abling adaptive and cost-effective coordination requires minimizing: agents’ efforts in acqui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oiting contextu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situations human agents want to act - they do not want to study large context in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situations software agents cannot be provided with enough AI to effectively understand large context in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contextual information: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text information cannot easily be re-used in several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asy to decide wha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58840" y="3181320"/>
            <a:ext cx="6867720" cy="367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6921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ng mobility in Pervasive Computing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 have to organize their respective movements according to some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Domain and Follow Though Case Stud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41280" y="4195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62280" y="5224320"/>
            <a:ext cx="102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762440"/>
            <a:ext cx="2933640" cy="2095560"/>
          </a:xfrm>
          <a:prstGeom prst="cloudCallout">
            <a:avLst>
              <a:gd name="adj1" fmla="val 45023"/>
              <a:gd name="adj2" fmla="val 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o and Franco want to maintain a formation while moving in the buil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found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contextual information: a “red carpet” leading to the right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based motion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cking-Form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288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472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ersFlock" descr=""/>
          <p:cNvPicPr/>
          <p:nvPr/>
        </p:nvPicPr>
        <p:blipFill>
          <a:blip r:embed="rId1"/>
          <a:stretch/>
        </p:blipFill>
        <p:spPr>
          <a:xfrm>
            <a:off x="1160640" y="4073400"/>
            <a:ext cx="3323880" cy="27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669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ormation1" descr=""/>
          <p:cNvPicPr/>
          <p:nvPr/>
        </p:nvPicPr>
        <p:blipFill>
          <a:blip r:embed="rId2"/>
          <a:stretch/>
        </p:blipFill>
        <p:spPr>
          <a:xfrm>
            <a:off x="5264280" y="3879720"/>
            <a:ext cx="35719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Field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0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47600" y="4589640"/>
                <a:ext cx="3868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r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5481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006640"/>
            <a:ext cx="38736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re seen as balls rolling on a surface… dynamical system forma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24520" y="1569960"/>
          <a:ext cx="4119480" cy="52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4520" y="1569960"/>
                    <a:ext cx="411948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1751040" y="5410080"/>
            <a:ext cx="2820960" cy="1183680"/>
            <a:chOff x="1751040" y="5410080"/>
            <a:chExt cx="2820960" cy="1183680"/>
          </a:xfrm>
        </p:grpSpPr>
        <p:sp>
          <p:nvSpPr>
            <p:cNvPr id="70" name=""/>
            <p:cNvSpPr/>
            <p:nvPr/>
          </p:nvSpPr>
          <p:spPr>
            <a:xfrm flipV="1">
              <a:off x="2576520" y="5410080"/>
              <a:ext cx="1995480" cy="1031760"/>
            </a:xfrm>
            <a:custGeom>
              <a:avLst/>
              <a:gdLst>
                <a:gd name="textAreaLeft" fmla="*/ 0 w 1995480"/>
                <a:gd name="textAreaRight" fmla="*/ 1995840 w 1995480"/>
                <a:gd name="textAreaTop" fmla="*/ 360 h 1031760"/>
                <a:gd name="textAreaBottom" fmla="*/ 1032480 h 10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51040" y="61340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tegrate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 Middl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P Network, where each peer runs a local version of the TOTA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tuples injected and spread in the networ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the concept of fie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=(C,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 maintains tuples’ shape despite network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ory to Practice…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ples O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4840" y="5079960"/>
            <a:ext cx="22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rco creates a flock field having a minimum at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o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26040" y="4098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5600" y="35211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8320" y="35845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2480" y="3627360"/>
            <a:ext cx="2781000" cy="1941480"/>
          </a:xfrm>
          <a:custGeom>
            <a:avLst/>
            <a:gdLst/>
            <a:ahLst/>
            <a:rect l="l" t="t" r="r" b="b"/>
            <a:pathLst>
              <a:path w="1752" h="1223">
                <a:moveTo>
                  <a:pt x="91" y="739"/>
                </a:moveTo>
                <a:cubicBezTo>
                  <a:pt x="119" y="634"/>
                  <a:pt x="118" y="550"/>
                  <a:pt x="243" y="443"/>
                </a:cubicBezTo>
                <a:cubicBezTo>
                  <a:pt x="368" y="336"/>
                  <a:pt x="640" y="150"/>
                  <a:pt x="843" y="99"/>
                </a:cubicBezTo>
                <a:cubicBezTo>
                  <a:pt x="1046" y="48"/>
                  <a:pt x="1320" y="0"/>
                  <a:pt x="1459" y="139"/>
                </a:cubicBezTo>
                <a:cubicBezTo>
                  <a:pt x="1598" y="278"/>
                  <a:pt x="1752" y="787"/>
                  <a:pt x="1675" y="931"/>
                </a:cubicBezTo>
                <a:cubicBezTo>
                  <a:pt x="1598" y="1075"/>
                  <a:pt x="1184" y="956"/>
                  <a:pt x="995" y="1003"/>
                </a:cubicBezTo>
                <a:cubicBezTo>
                  <a:pt x="806" y="1050"/>
                  <a:pt x="692" y="1199"/>
                  <a:pt x="539" y="1211"/>
                </a:cubicBezTo>
                <a:cubicBezTo>
                  <a:pt x="386" y="1223"/>
                  <a:pt x="150" y="1154"/>
                  <a:pt x="75" y="1075"/>
                </a:cubicBezTo>
                <a:cubicBezTo>
                  <a:pt x="0" y="996"/>
                  <a:pt x="63" y="844"/>
                  <a:pt x="91" y="73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2200" y="1960560"/>
            <a:ext cx="4648320" cy="4410000"/>
          </a:xfrm>
          <a:custGeom>
            <a:avLst/>
            <a:gdLst/>
            <a:ahLst/>
            <a:rect l="l" t="t" r="r" b="b"/>
            <a:pathLst>
              <a:path w="2928" h="2778">
                <a:moveTo>
                  <a:pt x="381" y="1245"/>
                </a:moveTo>
                <a:cubicBezTo>
                  <a:pt x="526" y="1121"/>
                  <a:pt x="904" y="1182"/>
                  <a:pt x="1053" y="1069"/>
                </a:cubicBezTo>
                <a:cubicBezTo>
                  <a:pt x="1202" y="956"/>
                  <a:pt x="1088" y="714"/>
                  <a:pt x="1277" y="565"/>
                </a:cubicBezTo>
                <a:cubicBezTo>
                  <a:pt x="1466" y="416"/>
                  <a:pt x="1956" y="0"/>
                  <a:pt x="2189" y="173"/>
                </a:cubicBezTo>
                <a:cubicBezTo>
                  <a:pt x="2422" y="346"/>
                  <a:pt x="2588" y="1239"/>
                  <a:pt x="2677" y="1605"/>
                </a:cubicBezTo>
                <a:cubicBezTo>
                  <a:pt x="2766" y="1971"/>
                  <a:pt x="2928" y="2193"/>
                  <a:pt x="2725" y="2373"/>
                </a:cubicBezTo>
                <a:cubicBezTo>
                  <a:pt x="2522" y="2553"/>
                  <a:pt x="1885" y="2778"/>
                  <a:pt x="1461" y="2685"/>
                </a:cubicBezTo>
                <a:cubicBezTo>
                  <a:pt x="1037" y="2592"/>
                  <a:pt x="362" y="2053"/>
                  <a:pt x="181" y="1813"/>
                </a:cubicBezTo>
                <a:cubicBezTo>
                  <a:pt x="0" y="1573"/>
                  <a:pt x="236" y="1369"/>
                  <a:pt x="381" y="1245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181160"/>
            <a:ext cx="5284800" cy="4419720"/>
          </a:xfrm>
          <a:custGeom>
            <a:avLst/>
            <a:gdLst/>
            <a:ahLst/>
            <a:rect l="l" t="t" r="r" b="b"/>
            <a:pathLst>
              <a:path w="3329" h="2784">
                <a:moveTo>
                  <a:pt x="0" y="1784"/>
                </a:moveTo>
                <a:cubicBezTo>
                  <a:pt x="154" y="1634"/>
                  <a:pt x="315" y="1491"/>
                  <a:pt x="472" y="1360"/>
                </a:cubicBezTo>
                <a:cubicBezTo>
                  <a:pt x="629" y="1229"/>
                  <a:pt x="800" y="1155"/>
                  <a:pt x="944" y="1000"/>
                </a:cubicBezTo>
                <a:cubicBezTo>
                  <a:pt x="1088" y="845"/>
                  <a:pt x="992" y="533"/>
                  <a:pt x="1336" y="432"/>
                </a:cubicBezTo>
                <a:cubicBezTo>
                  <a:pt x="1680" y="331"/>
                  <a:pt x="2687" y="0"/>
                  <a:pt x="3008" y="392"/>
                </a:cubicBezTo>
                <a:cubicBezTo>
                  <a:pt x="3329" y="784"/>
                  <a:pt x="3212" y="2388"/>
                  <a:pt x="3264" y="278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854360"/>
            <a:ext cx="1765440" cy="1562040"/>
          </a:xfrm>
          <a:custGeom>
            <a:avLst/>
            <a:gdLst/>
            <a:ahLst/>
            <a:rect l="l" t="t" r="r" b="b"/>
            <a:pathLst>
              <a:path w="1112" h="984">
                <a:moveTo>
                  <a:pt x="0" y="984"/>
                </a:moveTo>
                <a:cubicBezTo>
                  <a:pt x="183" y="730"/>
                  <a:pt x="367" y="476"/>
                  <a:pt x="552" y="312"/>
                </a:cubicBezTo>
                <a:cubicBezTo>
                  <a:pt x="737" y="148"/>
                  <a:pt x="1023" y="53"/>
                  <a:pt x="1112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29280" y="4229280"/>
            <a:ext cx="634680" cy="5713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65600" y="1757520"/>
          <a:ext cx="44290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1757520"/>
                    <a:ext cx="44290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314960" y="40734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1339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9800" y="41306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37320" y="486720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84960" y="52228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78800" y="38768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5600" y="35211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3051000"/>
            <a:ext cx="244440" cy="2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8600" y="56167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2962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97440" y="223848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840" y="335592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4880" y="421956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8120" y="2746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0600" y="36734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4400" y="2759040"/>
            <a:ext cx="244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9120" y="3772080"/>
            <a:ext cx="762120" cy="685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3320" y="2895480"/>
            <a:ext cx="1357200" cy="2865600"/>
          </a:xfrm>
          <a:custGeom>
            <a:avLst/>
            <a:gdLst/>
            <a:ahLst/>
            <a:rect l="l" t="t" r="r" b="b"/>
            <a:pathLst>
              <a:path w="855" h="1805">
                <a:moveTo>
                  <a:pt x="52" y="696"/>
                </a:moveTo>
                <a:cubicBezTo>
                  <a:pt x="0" y="917"/>
                  <a:pt x="4" y="1360"/>
                  <a:pt x="76" y="1520"/>
                </a:cubicBezTo>
                <a:cubicBezTo>
                  <a:pt x="148" y="1680"/>
                  <a:pt x="360" y="1805"/>
                  <a:pt x="484" y="1656"/>
                </a:cubicBezTo>
                <a:cubicBezTo>
                  <a:pt x="608" y="1507"/>
                  <a:pt x="785" y="888"/>
                  <a:pt x="820" y="624"/>
                </a:cubicBezTo>
                <a:cubicBezTo>
                  <a:pt x="855" y="360"/>
                  <a:pt x="764" y="144"/>
                  <a:pt x="692" y="72"/>
                </a:cubicBezTo>
                <a:cubicBezTo>
                  <a:pt x="620" y="0"/>
                  <a:pt x="495" y="92"/>
                  <a:pt x="388" y="192"/>
                </a:cubicBezTo>
                <a:cubicBezTo>
                  <a:pt x="281" y="292"/>
                  <a:pt x="104" y="475"/>
                  <a:pt x="52" y="69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49600" y="1573200"/>
            <a:ext cx="3219480" cy="4273560"/>
          </a:xfrm>
          <a:custGeom>
            <a:avLst/>
            <a:gdLst/>
            <a:ahLst/>
            <a:rect l="l" t="t" r="r" b="b"/>
            <a:pathLst>
              <a:path w="2028" h="2692">
                <a:moveTo>
                  <a:pt x="1331" y="457"/>
                </a:moveTo>
                <a:cubicBezTo>
                  <a:pt x="1382" y="610"/>
                  <a:pt x="1331" y="936"/>
                  <a:pt x="1435" y="1105"/>
                </a:cubicBezTo>
                <a:cubicBezTo>
                  <a:pt x="1539" y="1274"/>
                  <a:pt x="1882" y="1342"/>
                  <a:pt x="1955" y="1473"/>
                </a:cubicBezTo>
                <a:cubicBezTo>
                  <a:pt x="2028" y="1604"/>
                  <a:pt x="2015" y="1702"/>
                  <a:pt x="1875" y="1889"/>
                </a:cubicBezTo>
                <a:cubicBezTo>
                  <a:pt x="1735" y="2076"/>
                  <a:pt x="1362" y="2494"/>
                  <a:pt x="1115" y="2593"/>
                </a:cubicBezTo>
                <a:cubicBezTo>
                  <a:pt x="868" y="2692"/>
                  <a:pt x="560" y="2658"/>
                  <a:pt x="395" y="2481"/>
                </a:cubicBezTo>
                <a:cubicBezTo>
                  <a:pt x="230" y="2304"/>
                  <a:pt x="0" y="1912"/>
                  <a:pt x="123" y="1529"/>
                </a:cubicBezTo>
                <a:cubicBezTo>
                  <a:pt x="246" y="1146"/>
                  <a:pt x="927" y="370"/>
                  <a:pt x="1131" y="185"/>
                </a:cubicBezTo>
                <a:cubicBezTo>
                  <a:pt x="1335" y="0"/>
                  <a:pt x="1280" y="304"/>
                  <a:pt x="1331" y="457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4240" y="1611360"/>
            <a:ext cx="4680000" cy="4565520"/>
          </a:xfrm>
          <a:custGeom>
            <a:avLst/>
            <a:gdLst/>
            <a:ahLst/>
            <a:rect l="l" t="t" r="r" b="b"/>
            <a:pathLst>
              <a:path w="2948" h="2876">
                <a:moveTo>
                  <a:pt x="381" y="689"/>
                </a:moveTo>
                <a:cubicBezTo>
                  <a:pt x="626" y="342"/>
                  <a:pt x="1225" y="0"/>
                  <a:pt x="1621" y="1"/>
                </a:cubicBezTo>
                <a:cubicBezTo>
                  <a:pt x="2017" y="2"/>
                  <a:pt x="2566" y="366"/>
                  <a:pt x="2757" y="697"/>
                </a:cubicBezTo>
                <a:cubicBezTo>
                  <a:pt x="2948" y="1028"/>
                  <a:pt x="2882" y="1716"/>
                  <a:pt x="2765" y="1985"/>
                </a:cubicBezTo>
                <a:cubicBezTo>
                  <a:pt x="2648" y="2254"/>
                  <a:pt x="2241" y="2198"/>
                  <a:pt x="2053" y="2313"/>
                </a:cubicBezTo>
                <a:cubicBezTo>
                  <a:pt x="1865" y="2428"/>
                  <a:pt x="1766" y="2596"/>
                  <a:pt x="1637" y="2673"/>
                </a:cubicBezTo>
                <a:cubicBezTo>
                  <a:pt x="1508" y="2750"/>
                  <a:pt x="1525" y="2876"/>
                  <a:pt x="1277" y="2777"/>
                </a:cubicBezTo>
                <a:cubicBezTo>
                  <a:pt x="1029" y="2678"/>
                  <a:pt x="298" y="2429"/>
                  <a:pt x="149" y="2081"/>
                </a:cubicBezTo>
                <a:cubicBezTo>
                  <a:pt x="0" y="1733"/>
                  <a:pt x="136" y="1036"/>
                  <a:pt x="381" y="68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917720"/>
            <a:ext cx="4415040" cy="4729320"/>
          </a:xfrm>
          <a:custGeom>
            <a:avLst/>
            <a:gdLst/>
            <a:ahLst/>
            <a:rect l="l" t="t" r="r" b="b"/>
            <a:pathLst>
              <a:path w="2781" h="2979">
                <a:moveTo>
                  <a:pt x="1840" y="0"/>
                </a:moveTo>
                <a:cubicBezTo>
                  <a:pt x="2310" y="436"/>
                  <a:pt x="2781" y="872"/>
                  <a:pt x="2752" y="1328"/>
                </a:cubicBezTo>
                <a:cubicBezTo>
                  <a:pt x="2723" y="1784"/>
                  <a:pt x="2123" y="2493"/>
                  <a:pt x="1664" y="2736"/>
                </a:cubicBezTo>
                <a:cubicBezTo>
                  <a:pt x="1205" y="2979"/>
                  <a:pt x="271" y="2777"/>
                  <a:pt x="0" y="278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7:57:49Z</dcterms:created>
  <dc:creator>Marco Mamei</dc:creator>
  <dc:description/>
  <dc:language>en-US</dc:language>
  <cp:lastModifiedBy>marco</cp:lastModifiedBy>
  <dcterms:modified xsi:type="dcterms:W3CDTF">2004-04-16T06:30:40Z</dcterms:modified>
  <cp:revision>86</cp:revision>
  <dc:subject/>
  <dc:title>TOTA Middleware</dc:title>
</cp:coreProperties>
</file>