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C376-C1C7-4BC9-8989-8C6337437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636F-0F69-479C-963B-DEEAE2D23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0C1D-E19B-45D7-BFE9-4D9422D09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E2BD-E333-444F-BE9C-65FA725E7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DB84-AFE5-4FEC-A8C9-C4094A21B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498E-CE51-49A9-B1AF-010F977F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7EC8-F152-481E-9F0E-92E5F4F0D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148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784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548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4784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548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34544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148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148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784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548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784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548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34544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148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751880" y="5950080"/>
            <a:ext cx="466560" cy="28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15520" y="6453360"/>
            <a:ext cx="420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05DF-863B-4899-B2F1-6FF2542E5F71}" type="slidenum">
              <a:rPr b="1" lang="it-IT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82480" y="1484280"/>
            <a:ext cx="7979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179280" y="6440400"/>
            <a:ext cx="38023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AT2AI04 – Vienna, April 15th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947880"/>
            <a:ext cx="9144000" cy="36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16640"/>
            <a:ext cx="9180360" cy="36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77840" y="46080"/>
            <a:ext cx="122544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0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60200" y="154080"/>
            <a:ext cx="88171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4520" y="333360"/>
            <a:ext cx="4314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imes New Roman"/>
              </a:rPr>
              <a:t>AOT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imes New Roman"/>
              </a:rPr>
              <a:t>Dipartimento di Ingegneria dell’In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imes New Roman"/>
              </a:rPr>
              <a:t>Università degli Studi di P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2087640" cy="159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164360" y="2602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Times New Roman"/>
              <a:buChar char="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4206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Multi-Agent Systems Implementation and Testing 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4508640"/>
            <a:ext cx="72392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Giovanni Caire</a:t>
            </a:r>
            <a:r>
              <a:rPr b="0" i="1" lang="it-IT" sz="2000" spc="-1" strike="noStrike" baseline="30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, Massimo Cossentino</a:t>
            </a:r>
            <a:r>
              <a:rPr b="0" i="1" lang="it-IT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3333cc"/>
                </a:solidFill>
                <a:uFillTx/>
                <a:latin typeface="Arial"/>
              </a:rPr>
              <a:t>Alessandro Negri</a:t>
            </a:r>
            <a:r>
              <a:rPr b="0" i="1" lang="it-IT" sz="2000" spc="-1" strike="noStrike" u="sng" baseline="30000">
                <a:solidFill>
                  <a:srgbClr val="3333cc"/>
                </a:solidFill>
                <a:uFillTx/>
                <a:latin typeface="Arial"/>
              </a:rPr>
              <a:t>3</a:t>
            </a: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, Agostino Poggi</a:t>
            </a:r>
            <a:r>
              <a:rPr b="0" i="1" lang="it-IT" sz="20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3</a:t>
            </a: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, Paola Turci</a:t>
            </a:r>
            <a:r>
              <a:rPr b="0" i="1" lang="it-IT" sz="20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 baseline="30000">
                <a:solidFill>
                  <a:srgbClr val="3333cc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TILab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ICAR - Consiglio Nazionale delle Ricerche (CNR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3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OT Lab - DII, University of Parm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4560" y="131760"/>
            <a:ext cx="75610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Multi-Agent Systems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Testing Activities</a:t>
            </a:r>
            <a:r>
              <a:rPr b="1" lang="en-GB" sz="28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7120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bjective: to create a support for developing tests in multi-agent syste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approach is similar to that followed by the OO community in the development of XUnit testing framework famil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particular we focused our attention on the founder of that family: JUnit a regression testing framework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sting of agent-based applicat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mplementation of a Testing Framewo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bjective: to execute tests in a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unifor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automatic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ay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he tests follows the same pattern of execution and  produce the results in the same format (binary i.e. passed/failed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he tests don’t require human support during execution nor to evaluate the passed/failed conditio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The Testing Framework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5656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gent based framework build on top of JADE, implemented by Telecom Italia Lab in collaboration with AOTLab of the University of Parma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imply acts as a support for running  tests and visualizing result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Binary representation of results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bility to report all causes of failur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Log of all operations accomplished in three formats: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 screen (standard output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 textual file (logxxx.txt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 html file (logxxx.html), ready to be published on the Web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Supported Tests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framework is based on a two level model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Task-tes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tests related to a specific capability of a single agent such as the ability to create, send or receive a specific message, to automatically reply to an incoming request from another agent, etc…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gent-tes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tests related to a group of capabilities of a single age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0600" y="1533600"/>
            <a:ext cx="7197840" cy="43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189240" y="1511280"/>
            <a:ext cx="5019840" cy="2009880"/>
          </a:xfrm>
          <a:prstGeom prst="wedgeRectCallout">
            <a:avLst>
              <a:gd name="adj1" fmla="val -38648"/>
              <a:gd name="adj2" fmla="val 89810"/>
            </a:avLst>
          </a:prstGeom>
          <a:solidFill>
            <a:srgbClr val="ffff99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 representing a group of tests that have to be executed in sequence and require common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initialize()/shutdown()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hods to be overridden to perform initializations/ cleanings to al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07000" y="1409760"/>
            <a:ext cx="3514680" cy="4457520"/>
          </a:xfrm>
          <a:prstGeom prst="wedgeRectCallout">
            <a:avLst>
              <a:gd name="adj1" fmla="val -71185"/>
              <a:gd name="adj2" fmla="val -10041"/>
            </a:avLst>
          </a:prstGeom>
          <a:solidFill>
            <a:srgbClr val="ffff99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GroupExec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eric behaviour that executes the tests included in a “TestGroup” using a Finite Stat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1276200"/>
            <a:ext cx="3600360" cy="4572000"/>
          </a:xfrm>
          <a:prstGeom prst="wedgeRectCallout">
            <a:avLst>
              <a:gd name="adj1" fmla="val 84347"/>
              <a:gd name="adj2" fmla="val 17083"/>
            </a:avLst>
          </a:prstGeom>
          <a:solidFill>
            <a:srgbClr val="ffff99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 class that must be extended in order to create a new “Test” object. In particular it provides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load()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d for special initialization requirements and to return a Behaviour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TesterAg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lean()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d at the end of the execution of the test to release resources eventually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assed()/failed()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tility methods called from within the test to declare if it is passed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he Testing Framework: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Class Diagram</a:t>
            </a:r>
            <a:endParaRPr b="1" lang="en-US" sz="28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2573640" y="5971680"/>
            <a:ext cx="38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sting framework class diagram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24400" y="2876400"/>
            <a:ext cx="2210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>
            <a:alphaModFix amt="70000"/>
          </a:blip>
          <a:stretch/>
        </p:blipFill>
        <p:spPr>
          <a:xfrm>
            <a:off x="4886280" y="2763720"/>
            <a:ext cx="3125880" cy="3073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11240" y="4095720"/>
            <a:ext cx="4857840" cy="1762200"/>
          </a:xfrm>
          <a:prstGeom prst="wedgeRectCallout">
            <a:avLst>
              <a:gd name="adj1" fmla="val 8592"/>
              <a:gd name="adj2" fmla="val -173245"/>
            </a:avLst>
          </a:prstGeom>
          <a:solidFill>
            <a:srgbClr val="ffff99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Suite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JADE GuiAg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 is the agent responsible of the graphical user interface. It creates/kills the “TesterAgents” responsible of agent-tests and communicates with them via ACL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04760" y="4594320"/>
            <a:ext cx="5019840" cy="1266840"/>
          </a:xfrm>
          <a:prstGeom prst="wedgeRectCallout">
            <a:avLst>
              <a:gd name="adj1" fmla="val -32194"/>
              <a:gd name="adj2" fmla="val -220675"/>
            </a:avLst>
          </a:prstGeom>
          <a:solidFill>
            <a:srgbClr val="ffff99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er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 class that must be extended to perform a group of tests implemented as an instance of the “TestGroup”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 Black"/>
              </a:rPr>
              <a:t>The Testing Framework: the GUI</a:t>
            </a:r>
            <a:endParaRPr b="1" lang="en-US" sz="28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rough the GUI is possible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load a group of tes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view the task-tests in the group loaded and to select a subset to be execut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give a particular configuration to the agent-tes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execute the tests in sequence automatical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have a final report indicating the number of tests passed/failed, the time elapsed and, for each task-test failed, the causes of failure (usually the exception thrown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Black"/>
              </a:rPr>
              <a:t>The Testing Framework: the GUI</a:t>
            </a:r>
            <a:endParaRPr b="1" lang="en-US" sz="2800" spc="-1" strike="noStrike">
              <a:solidFill>
                <a:srgbClr val="3333cc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89120" y="1230480"/>
            <a:ext cx="57452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he Testing Framework: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Description of the Tests </a:t>
            </a:r>
            <a:endParaRPr b="1" lang="en-US" sz="28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788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 describe the tests we use two XML fil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testerList.xml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contains the list of all agent-test that have been developed. To be able to run a test its name must be listed in this file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FFFTestsList.xml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contains a list of all task-tests that are managed by the FFFTesterAg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 of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AMSTestsList.xml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8280" y="3060720"/>
            <a:ext cx="8007120" cy="3197160"/>
          </a:xfrm>
          <a:prstGeom prst="rect">
            <a:avLst/>
          </a:prstGeom>
          <a:solidFill>
            <a:srgbClr val="c0c0c0">
              <a:alpha val="20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&lt;TestsList&gt;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&lt;Test name="Agent creation and destruction" skip="fals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&lt;TestClassName&gt;test.domain.ams.tests.TestCreateKillAgent&lt;/TestClass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&lt;WhatTest&gt; Tests creating and killing agents by requesting the AMS to perform the CreateAgent and KillAgent actions of the JADEManagementOntology. &lt;/WhatTe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&lt;HowWorkTest&gt; The test creates a remote container C1 in the load phase and then … &lt;/HowWorkTe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&lt;WhenTestPass&gt; The test passes if all the above operations have the expected effect and no exception is thrown.&lt;/WhenTestPas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&lt;/Test&gt; …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&lt;/TestsLi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Example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 of test implemen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6440" y="1736640"/>
            <a:ext cx="7816680" cy="4645080"/>
          </a:xfrm>
          <a:prstGeom prst="rect">
            <a:avLst/>
          </a:prstGeom>
          <a:solidFill>
            <a:srgbClr val="c0c0c0">
              <a:alpha val="20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public class TestCreateKillAgent </a:t>
            </a: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</a:rPr>
              <a:t>extends Test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</a:rPr>
              <a:t>public Behaviour load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(Agent a, DataStore ds, String resultKey) throws Test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jc = TestUtility.launchJadeInstance("Container-1", null, new String("-container -host "+TestUtility.getLocalHostName()+" -port "+String.valueOf(Test.DEFAULT_PORT)), nul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ret = Test.TEST_FAI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SequentialBehaviour sb = new SequentialBehaviour(a) {…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return sb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</a:rPr>
              <a:t>public void clean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(Agent a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jc.kill(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Discussion and Conclusion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MAZBD diagra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an be used within the existing tools of UM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t represents a valuable support for the implementation of MAS and the testing activit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e testing framework represents a good tool for the testing of MASs based on JAD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eleased as JADE add-on under LGPL licence (http://jade.cselt.it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Discussion and Conclusion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56944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more work needs to be done to gather more comments within the FIPA community and not only …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Open issues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ntegration of MABD diagrams with Agent Factory to reduce prototyping tim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The Testing Framework now supports only agent level tests: we are working to give a support  for more complex tests (e.g. society tests)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8920" y="-27000"/>
            <a:ext cx="7296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om Design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to Implementation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56944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ssues connected  with the transition from the 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design phase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to the 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implementation phas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Diagrammatic notations and tools which should support develop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Refinements of the design model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eployment of the system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eed of reducing the prototype implementation tim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Four main research lines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epresentation of the interactions between agents and their relationship with the architecture of the single ag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ployment diagram of MAS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attern reuse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his work is organized as an activity within FIPA Modeling T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1602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Implementation Level –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MAS Interactions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wo dimensional plane: </a:t>
            </a:r>
            <a:r>
              <a:rPr b="0" i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Component  vs. Interconnection</a:t>
            </a:r>
            <a:br>
              <a:rPr sz="2400"/>
            </a:br>
            <a:r>
              <a:rPr b="0" i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he diagram is placed at the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gent-object boundary in the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Arial"/>
              </a:rPr>
              <a:t>component dimens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Looking at the diagram one can recogniz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Agent-level entities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Object-oriented artifacts with which the entities are express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gent-society boundary in the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Arial"/>
              </a:rPr>
              <a:t>interconnection dimens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Looking at the diagram one can se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he part of the social structure the agent participate in as a whol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Which internals parts of each agent get actually involved in the ongoing interac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9280" y="11268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Choosing the Perspective: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UML Activity Diagrams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Our work lies within the AUML initiative. W</a:t>
            </a:r>
            <a:r>
              <a:rPr b="0" lang="en-GB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e look at standard UML diagrams as the basis for our notation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Properties that our diagram should have</a:t>
            </a:r>
            <a:r>
              <a:rPr b="0" lang="en-GB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Showing interactions at a detailed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Showing agents and objec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Showing inter-agent and intra-agent link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Among the various UML diagrams, we decided to use the Activity Diagram, because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Combines structural and behavioural aspec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Can have precise constraints (e.g. temporal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Can be recursively expanded with sub-activiti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Provides flexible clustering with swim lan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Different Levels of Detail (1)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Exploiting the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Arial"/>
              </a:rPr>
              <a:t>recursive aggregation of activities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allowed by UML activity diagra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Global vision of the system, low level of detai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ne swim lane for each ag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ctivities within each swim lane group the dynamics of an ag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Links between activities represent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Message exchange, when they cross swim lan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ask creation or activation, when they connect activities within the same swim lan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t this level, the activities granularity is comparable to an agent behaviou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41680" y="598464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he most compact MAZB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523800" y="995400"/>
            <a:ext cx="10151640" cy="4711320"/>
            <a:chOff x="-523800" y="995400"/>
            <a:chExt cx="10151640" cy="47113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-523800" y="995400"/>
              <a:ext cx="10151640" cy="47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71240" y="1132200"/>
              <a:ext cx="1163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300" spc="-1" strike="noStrike">
                  <a:solidFill>
                    <a:srgbClr val="000000"/>
                  </a:solidFill>
                  <a:latin typeface="Times New Roman"/>
                </a:rPr>
                <a:t>Product Ag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25760" y="1126440"/>
              <a:ext cx="1579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300" spc="-1" strike="noStrike">
                  <a:solidFill>
                    <a:srgbClr val="000000"/>
                  </a:solidFill>
                  <a:latin typeface="Times New Roman"/>
                </a:rPr>
                <a:t>Machine Tool Ag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0240" y="2556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Multi-Level Representation of Agent Behaviour Diagram - Example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Different Levels of Detail (2)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... a more detailed activity diagra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ne different swim lane for each agent behaviou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Each activity addresses a method level entit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Is modelling methods as activities a proper approach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Shows the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object-oriented idioms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to be used to effectively represent and implement agent oriented concep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Agent has control over the life cycle of its tasks, which cannot be accessed from the outsid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asks can use agent internal data as a common repository, to share information among them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 specific CASE tool 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sh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ould support the zooming ope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0240" y="2556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Multi-Level Representation of Agent Behaviour Diagram - Example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94400" y="5971680"/>
            <a:ext cx="54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MAZBD diagram with the Product agent expanded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360" y="981000"/>
            <a:ext cx="9131040" cy="4430520"/>
            <a:chOff x="9360" y="981000"/>
            <a:chExt cx="9131040" cy="44305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5469" t="0" r="5915" b="3340"/>
            <a:stretch/>
          </p:blipFill>
          <p:spPr>
            <a:xfrm>
              <a:off x="9360" y="981000"/>
              <a:ext cx="913104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37160" y="110700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24720" y="1107000"/>
              <a:ext cx="122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roductPla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01200" y="1107000"/>
              <a:ext cx="23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roductProdtPhaseContract_I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1560" y="1107000"/>
              <a:ext cx="14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MachineTool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Hierarchical Approach to Testing</a:t>
            </a:r>
            <a:endParaRPr b="1" lang="en-US" sz="28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sting activity has been divided into different ste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Agent tes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Black box testing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of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gent behaviour: in most cases the agent interacts with a society of other agents using communications, so testing a behaviour consists of starting an interaction and evaluating its resul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MAZBD diagrams at the agent level detai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White box testing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of the agent structure: in this case every agent’s behaviour is seen as a black box and we test a subsystem (the agent class and some other behaviour classes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MAZBD diagrams at the more detailed leve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Society tes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tegration of different agents to verify their interaction (a sort of integration testing)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ociety seen as a whol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09:20:45Z</dcterms:created>
  <dc:creator>Paola Turci</dc:creator>
  <dc:description/>
  <dc:language>en-US</dc:language>
  <cp:lastModifiedBy> </cp:lastModifiedBy>
  <dcterms:modified xsi:type="dcterms:W3CDTF">2004-04-29T14:32:02Z</dcterms:modified>
  <cp:revision>426</cp:revision>
  <dc:subject/>
  <dc:title>Diapositiva 1</dc:title>
</cp:coreProperties>
</file>