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1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2526945-8240-4371-A397-BF01431B00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SAT also supports ‘spatial’ and ‘temporal’ event conditions within the reasoning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tised into Directory Services for discovery, e.g. LDAP, UDDI, DF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associated threats and safeguards to determine a rational recommendation or decision making over what security instances and policies to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r security API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heckpoint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= Security Ontology, 2 = General Policies, 3 = User Profiles, 4 = Service Profiles, 5 = Misc.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propagate low-level faults in one part of the system to another part at a high enough level of abstraction to make decisions about the cause and effect of multiple heterogeneous low-level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TF, Oasis, and W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504-48A9-4C9A-893C-2CCC6B55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0B8-D5DB-4EE6-9A72-DE4E5A02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6A7-2A81-4F81-9282-76EE5830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F79-534F-449E-B921-71AB8935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54C-F7E0-4E32-B42A-76D11E2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3D8-2D31-4775-9A91-B6632E36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AF3-FAC1-4D2C-9C78-B0B3D7FD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5DD-2EDE-4300-B572-BD7D6A46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EAE-B377-43C5-A98B-CE83C5C2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B4C-2D14-4102-9B8E-6F2C503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C59-1748-4E3D-AA22-5BAD894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030-22D4-4E9F-B5D0-5F75315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CB3-DB78-4CC5-B7C6-969EE851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609480" y="5943600"/>
            <a:ext cx="103629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95480" y="5791320"/>
            <a:ext cx="3308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2D16-49E3-4B48-B443-C8A43C4C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564000" y="6093000"/>
            <a:ext cx="217008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609480" y="-609480"/>
            <a:ext cx="1036296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28600"/>
            <a:ext cx="799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T2AI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838080"/>
            <a:ext cx="74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</a:rPr>
              <a:t>Fourth International Symposium "From Agent Theory to Agent Implement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343400"/>
            <a:ext cx="838224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09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Ontological Approach to Harmonising Security Models for Ope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an Jim Tan (Presenter), Stefan Poslad, Leonid Tit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juanjim.tan, stefan.poslad, leonid.titkov }@elec.qmul.ac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icrosoft Sans Serif"/>
              </a:rPr>
              <a:t>Comparison between V-SAT, KAoS, Rei, Ponder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907920"/>
          <a:ext cx="8064720" cy="4981680"/>
        </p:xfrm>
        <a:graphic>
          <a:graphicData uri="http://schemas.openxmlformats.org/drawingml/2006/table">
            <a:tbl>
              <a:tblPr/>
              <a:tblGrid>
                <a:gridCol w="1598760"/>
                <a:gridCol w="1928880"/>
                <a:gridCol w="1512720"/>
                <a:gridCol w="1513080"/>
                <a:gridCol w="151128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V-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KA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o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ntology-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olicy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Constraint or Pre-condition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ccess Control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ccess Control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ccess Control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presen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KIF + RDF(-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*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developing support for other represen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W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i: ( Prolog-like syntax + RDF-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onder language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pen Security Interoperability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ecurity Profiling – capable of representing security instances and complex processes of open semantic based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pplying mediating and proxy agents onto specific dom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pplicable in specific dom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pplicable in specific dom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nteroperability Re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bstract to 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asoning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ava Theorem Pr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ava Theorem Pr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rolog eng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vent calculus re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181080" y="-316440"/>
            <a:ext cx="95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arison - V-SAT, WS-Security, GRID Security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566640"/>
          <a:ext cx="8280360" cy="5310360"/>
        </p:xfrm>
        <a:graphic>
          <a:graphicData uri="http://schemas.openxmlformats.org/drawingml/2006/table">
            <a:tbl>
              <a:tblPr/>
              <a:tblGrid>
                <a:gridCol w="2019240"/>
                <a:gridCol w="2660760"/>
                <a:gridCol w="1511280"/>
                <a:gridCol w="208908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V-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WS-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GRID 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ntology- 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 – Seman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 – Syntac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olicy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 –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 –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 – Authoriz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olicy Represen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KIF + RDF(-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X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Grid policy / WS-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nteroperability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 – Security Profi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ecurity Token - Clai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pplicable in GRID environment / Utilise WS-Security Spe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nteroperability Re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bstract (Model) to 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asoning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ava Theorem Pr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t def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t def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isk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naly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ntology simplifies reasoning and dependency val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pecific to a particular context/domain and lacking in inter-concept val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xpress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present behavior of complex environment, multi level abstractions, and easy to extend new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Represent only specific behaviors and difficult to extend new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Other Related Work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icrosoft Sans Serif"/>
              </a:rPr>
              <a:t>[Denker et al., 2003];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Focuses on DAML based implement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Limited conceptual mod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Complicated negotiations – brittle in large scale system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Background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Holistic Abstract Security Model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1989000"/>
            <a:ext cx="5689800" cy="30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860640"/>
            <a:ext cx="489600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5157720"/>
            <a:ext cx="5689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ity Mechanisms and standard specifications, e.g., SSL, XML-Signature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72360" y="2302560"/>
            <a:ext cx="144000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3854160" y="2118960"/>
            <a:ext cx="1435320" cy="158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1484280"/>
            <a:ext cx="47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ity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335772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ity Ontolog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04000" y="36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5402880" y="2454840"/>
            <a:ext cx="15062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429264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429264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29264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rofile Driven Open Service Security Framework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5280" y="770040"/>
          <a:ext cx="8397720" cy="50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70040"/>
                    <a:ext cx="8397720" cy="50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Service Composition Scenario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620640"/>
          <a:ext cx="748836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748836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Conceptual Layer – Semantic Model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592200"/>
            <a:ext cx="82803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Service Description Layer 1/2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010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rvice Description Layer – Risk Model 2/2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920880"/>
          <a:ext cx="880920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88092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Background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Introduction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olicy Layer – Reasoning Model 1/2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907920"/>
          <a:ext cx="871992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99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olicy Layer – Reasoning Model 2/2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Reasoning Algorithm Steps using JTP: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Loading of Ontologies, General Rules, User and Service Profile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atial and Temporal Threat Detection; checks if environment is trusted (end) or un-trusted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dentify associated threats and safeguard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ompare user and service profile instances and polici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f there are conflicts – resolve conflicts by order and precedence of polici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Result presenting the outcome of the reasoning process for security decision making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Application Layer – Operational Mod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549360"/>
          <a:ext cx="75596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75596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801800" cy="9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877080" y="836640"/>
            <a:ext cx="20448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Introduction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y our modelling choice?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Reuse current security models as an upper ontology for supporting interoperability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e can rely on current best security practises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ble to capture stakeholders in an abstract way that can be strapped onto an explicit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Interoperability is more achievable using semantic approaches to practical applic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Why an Explicit Security Model?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o define explicit security requirements, protection and policies of systems as profile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rgument: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curity should not be advertised because it gives an inside information of the system;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curity by obscurity gives a false sense of securit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Hide weaknesses that an open peer review might uncover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Framework Achievements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Deployed Security Applications in a Global Agent Test-bed (Agentcities.RTD) project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Ontology and specifications available at </a:t>
            </a:r>
            <a:r>
              <a:rPr b="0" lang="en-GB" sz="2000" spc="-1" strike="noStrike">
                <a:solidFill>
                  <a:srgbClr val="0000cc"/>
                </a:solidFill>
                <a:latin typeface="Microsoft Sans Serif"/>
              </a:rPr>
              <a:t>http://agents.elec.qmul.ac.uk/agentcities/security/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Reasoning Model implemented using JTP, DAML+OIL and KIF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Developed a Risk Model that assesses the </a:t>
            </a:r>
            <a:r>
              <a:rPr b="0" i="1" lang="en-GB" sz="2400" spc="-1" strike="noStrike">
                <a:solidFill>
                  <a:srgbClr val="000000"/>
                </a:solidFill>
                <a:latin typeface="Microsoft Sans Serif"/>
              </a:rPr>
              <a:t>criticality </a:t>
            </a: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Microsoft Sans Serif"/>
              </a:rPr>
              <a:t>probability </a:t>
            </a: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of threa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Web based demo of an Open Security Interoperability Scenario (to be released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Introduction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Performance of Loa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acts and Rules into JTP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1649520"/>
            <a:ext cx="777240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urity concerns of open societi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ore vulnerabilitie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Insider attack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alancing the benefits of open trading vs. closed system security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ncreasing ubiquitous infrastructure, e.g., Semantic Web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any Open Heterogeneous Service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Services Communicating and Interoperating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56400" indent="-36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Service Composition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56400" indent="-369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Virtual Enterprise / Virtual Organisation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urity models for open societi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ifferent application models, community self-policing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hese complement conventional e-Business security for Payment, protection of systems, and etc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Introduction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ere are many different security standards and they fall short of certain functionalities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mantic Technology allows us to develop holistic models to support security interoperability, but could benefit from having more tool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n Abstract yet Explicit Model is useful for capturing stakeholders in open systems, such as V-SAT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curity Profiling advocates the understanding of security configurations and requirements amongst open service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icrosoft Sans Serif"/>
              </a:rPr>
              <a:t>Expand the framework to support other security and semantic specifications. E.g. WSCI, ebXML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icrosoft Sans Serif"/>
              </a:rPr>
              <a:t>Implement Policy based Access Control onto specific domains. E.g. KAoS, Ponder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icrosoft Sans Serif"/>
              </a:rPr>
              <a:t>Trust Conceptualisation &amp;  Open Interoperability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Contact Details: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Juan Jim Ta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epartment of Electronic Engineering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Queen Mary, University of Lond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Mile End Road, London E1 4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juanjim.tan@elec.qmul.ac.u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Plethora of security standards consortia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Difficult to agree on a single standard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Different standards have its limitation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ecurity capabilities unstructured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ifferent islands of security implemen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Lack of explicit method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No common terminology of stakeholder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Abstraction permits propagation of low level faults to other parts of the system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Microsoft Sans Serif"/>
              </a:rPr>
              <a:t>D</a:t>
            </a:r>
            <a:r>
              <a:rPr b="0" i="1" lang="en-GB" sz="2800" spc="-1" strike="noStrike">
                <a:solidFill>
                  <a:srgbClr val="000000"/>
                </a:solidFill>
                <a:latin typeface="Microsoft Sans Serif"/>
                <a:ea typeface="굴림"/>
              </a:rPr>
              <a:t>escribe how distributed security issues can be approached in Open Multi Agent Multi-domain (MAMD) Environments in which applications can dynamically interoperate securely “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Microsoft Sans Serif"/>
              </a:rPr>
              <a:t>A holistic framework capturing stakeholders and security information within an open service environments using Dynamic Reconfiguration without affecting underlying implementations”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Research Contributions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Holistic Abstract and Explicit Framework for Securing Open Services: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V-SAT Conceptual Model – Upper Ontolog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Decentralised advertising and discovering of security profile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Dynamic reconfiguration – Policy based approache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Risk Management Mod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Automated collaboration and reasoning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Operational Mod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1294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Background &amp; Motivation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Related Work and its Limitations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Holistic Security Ontology Model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Conceptual &amp; Service Descrip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Policy &amp; Application Laye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ritical Analysis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Conceptual Framework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icrosoft Sans Serif"/>
              </a:rPr>
              <a:t>Evaluation of Reasoning Model Performanc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Microsoft Sans Serif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a2cd"/>
            </a:gs>
            <a:gs pos="100000">
              <a:srgbClr val="ccd3e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omparison of Security Specifications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0:35:56Z</dcterms:created>
  <dc:creator>Juan Jim Tan</dc:creator>
  <dc:description/>
  <dc:language>en-US</dc:language>
  <cp:lastModifiedBy>Juan Jim Tan</cp:lastModifiedBy>
  <dcterms:modified xsi:type="dcterms:W3CDTF">2004-05-04T16:34:03Z</dcterms:modified>
  <cp:revision>104</cp:revision>
  <dc:subject/>
  <dc:title>Slide 1</dc:title>
</cp:coreProperties>
</file>