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21B-6263-48ED-A282-A3BE86C2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3AB-5515-4E5A-BD35-D57BB604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E3B-8961-4460-8ED4-A6D73EC8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C6B-469F-4A51-8450-AD9CD938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B7F-160F-4B19-9680-45BDE967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33A4-948D-41DD-93BD-578C4F9C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231-D91E-4A64-AE2F-AB45E84A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B32-503B-45C4-A205-29530F94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F27-4680-4BAA-B606-C6185E9E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EF4-DCC4-4062-982E-D6F9D6C9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A62-8DD1-4247-82E9-E882DEFA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AB0-73F6-48CB-9081-B4891154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0480" y="6462360"/>
            <a:ext cx="88376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4. 4. 2004,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T2AI-4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, Vienna       Session 2: Innovation </a:t>
            </a:r>
            <a:r>
              <a:rPr b="1" lang="cs-CZ" sz="11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Times New Roman"/>
              </a:rPr>
              <a:t>Pavel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ich</a:t>
            </a:r>
            <a:r>
              <a:rPr b="1" lang="cs-CZ" sz="11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obustness of Social Knowledge in Multi Agent Syste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6080" y="6377040"/>
            <a:ext cx="21337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668A-2FC7-4B35-B44B-B81198856F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705800" y="662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8962920" y="961560"/>
            <a:ext cx="0" cy="573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9007560" y="530280"/>
            <a:ext cx="0" cy="614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934400" y="658008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30240" y="4946760"/>
            <a:ext cx="3292560" cy="1299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2048040"/>
            <a:ext cx="795024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vel Tic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kwell Automation Research Center &amp; Czech Technical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ague, Czech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ichy@ra.rockwel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43964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bustness of Social Knowledg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Multi-Agent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3160" y="4579920"/>
            <a:ext cx="762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819760" y="4708440"/>
            <a:ext cx="2117880" cy="167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A2E-F31E-489A-B8AF-7A792B0C4E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79200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ial Knowledge Management in D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eadth knowledge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middle-agent in the system ultimately knows social information about all end-agents i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th knowledge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iddle-agent propagates social knowledge only to the higher level of the hierarchy of teams and only the topmost middle-agents contain social knowledge about all end-ag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knowledge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d-agents register, unregister, and modify registration information only at the local middle-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not further propagated, i.e., it has to be searched extens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ledge propagation on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ledge c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305-67D0-456E-B855-0F60E24CDB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79200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eadth Knowledge Propag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774720" y="1398600"/>
          <a:ext cx="7788240" cy="48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1398600"/>
                    <a:ext cx="778824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ACE-A696-4AF8-8E96-17D5847867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79200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pth Knowledge Propag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71480" y="1400040"/>
          <a:ext cx="7788240" cy="48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400040"/>
                    <a:ext cx="778824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6C6-2906-4084-BC56-601F8F9412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79200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calability in D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computing element can be added to the scalable parallel processing platform at a fixed incremental cost” (Luke,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xed scalability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G = (V(G), E(G)) be a graph that represents the structure of middle-agents and assume that G is of type T. Then let H be a graph of type T such that V(H) = V(G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and E(H) = E(G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where V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is a set of vertices that were added to V(G) and E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is a set of edges where each edge is adjacent to at least one vertex from V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. If for each such G there exists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&gt; 0 such that for each V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there is E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with |E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| ≤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n G is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scalab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F04-1CDE-4A25-99F3-53125D3A37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79200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xed Scalability of M-A Struc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138320" y="1616040"/>
          <a:ext cx="6692760" cy="4083120"/>
        </p:xfrm>
        <a:graphic>
          <a:graphicData uri="http://schemas.openxmlformats.org/drawingml/2006/table">
            <a:tbl>
              <a:tblPr/>
              <a:tblGrid>
                <a:gridCol w="1568520"/>
                <a:gridCol w="3112920"/>
                <a:gridCol w="2011320"/>
              </a:tblGrid>
              <a:tr h="580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knowledge 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d9d9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xed scalab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d9d9e"/>
                    </a:solidFill>
                  </a:tcPr>
                </a:tc>
              </a:tr>
              <a:tr h="556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al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74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quaintance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c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hitecture without any middle-ag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76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b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mwork-based tech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c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7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ted matchma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c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7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ynamic hierarchical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DD1-8BD7-41BF-A214-08C3424C82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3988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illed Water System Auto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19120" y="3697200"/>
            <a:ext cx="1004760" cy="487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463760" y="3794040"/>
            <a:ext cx="919080" cy="330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519120" y="3108240"/>
            <a:ext cx="1004760" cy="487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463760" y="3205080"/>
            <a:ext cx="919080" cy="3301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519120" y="2508120"/>
            <a:ext cx="1004760" cy="487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1463760" y="2604960"/>
            <a:ext cx="919080" cy="330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>
            <a:off x="3075120" y="3679920"/>
            <a:ext cx="1004760" cy="487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8"/>
          <a:stretch/>
        </p:blipFill>
        <p:spPr>
          <a:xfrm>
            <a:off x="4019400" y="3776760"/>
            <a:ext cx="919440" cy="33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9"/>
          <a:stretch/>
        </p:blipFill>
        <p:spPr>
          <a:xfrm>
            <a:off x="3075120" y="3090960"/>
            <a:ext cx="1004760" cy="487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0"/>
          <a:stretch/>
        </p:blipFill>
        <p:spPr>
          <a:xfrm>
            <a:off x="4019400" y="3187800"/>
            <a:ext cx="919440" cy="3301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1"/>
          <a:stretch/>
        </p:blipFill>
        <p:spPr>
          <a:xfrm>
            <a:off x="3075120" y="2502000"/>
            <a:ext cx="1004760" cy="487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4019400" y="2598840"/>
            <a:ext cx="919440" cy="330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V="1">
            <a:off x="3481560" y="1351080"/>
            <a:ext cx="0" cy="2253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994040" y="1353600"/>
            <a:ext cx="0" cy="22572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68320" y="1351080"/>
            <a:ext cx="195444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7760" y="10652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905040" y="3670200"/>
            <a:ext cx="0" cy="1526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03200" y="3679920"/>
            <a:ext cx="50184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99960" y="2265120"/>
            <a:ext cx="0" cy="20350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905040" y="3078000"/>
            <a:ext cx="0" cy="1526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03200" y="3087720"/>
            <a:ext cx="50184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905040" y="2481120"/>
            <a:ext cx="0" cy="1526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200" y="2490840"/>
            <a:ext cx="50184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9960" y="2274840"/>
            <a:ext cx="169884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098800" y="2004480"/>
            <a:ext cx="0" cy="2797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3"/>
          <a:stretch/>
        </p:blipFill>
        <p:spPr>
          <a:xfrm>
            <a:off x="942840" y="1530360"/>
            <a:ext cx="1330560" cy="482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V="1">
            <a:off x="3460680" y="3657240"/>
            <a:ext cx="0" cy="1522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58840" y="3666960"/>
            <a:ext cx="5014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55960" y="2263320"/>
            <a:ext cx="0" cy="20257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460680" y="3065400"/>
            <a:ext cx="0" cy="1526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958840" y="3075120"/>
            <a:ext cx="5014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460680" y="2479320"/>
            <a:ext cx="0" cy="1522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958840" y="2489040"/>
            <a:ext cx="5014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55960" y="2273400"/>
            <a:ext cx="64116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594240" y="2003400"/>
            <a:ext cx="0" cy="279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4"/>
          <a:stretch/>
        </p:blipFill>
        <p:spPr>
          <a:xfrm>
            <a:off x="2433600" y="1530360"/>
            <a:ext cx="1330200" cy="4827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588960" y="199872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Control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94240" y="208908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Control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957400" y="4352760"/>
            <a:ext cx="0" cy="37008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99960" y="4328640"/>
            <a:ext cx="0" cy="38268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4484520"/>
            <a:ext cx="6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0160" y="4124160"/>
            <a:ext cx="6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160" y="4000680"/>
            <a:ext cx="6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0160" y="3875040"/>
            <a:ext cx="6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25960" y="4484520"/>
            <a:ext cx="6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71760" y="4113360"/>
            <a:ext cx="6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71760" y="3989520"/>
            <a:ext cx="6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71760" y="3863880"/>
            <a:ext cx="6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78320" y="1317600"/>
            <a:ext cx="1252440" cy="257040"/>
          </a:xfrm>
          <a:prstGeom prst="borderCallout2">
            <a:avLst>
              <a:gd name="adj1" fmla="val 18750"/>
              <a:gd name="adj2" fmla="val -8333"/>
              <a:gd name="adj3" fmla="val 44444"/>
              <a:gd name="adj4" fmla="val -27754"/>
              <a:gd name="adj5" fmla="val 117282"/>
              <a:gd name="adj6" fmla="val -500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Log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81600" y="2262240"/>
            <a:ext cx="888840" cy="257040"/>
          </a:xfrm>
          <a:prstGeom prst="borderCallout2">
            <a:avLst>
              <a:gd name="adj1" fmla="val 18750"/>
              <a:gd name="adj2" fmla="val -8333"/>
              <a:gd name="adj3" fmla="val 44444"/>
              <a:gd name="adj4" fmla="val -33750"/>
              <a:gd name="adj5" fmla="val 144444"/>
              <a:gd name="adj6" fmla="val -594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exLog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978440" y="3573360"/>
          <a:ext cx="3929040" cy="2936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78440" y="3573360"/>
                    <a:ext cx="392904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807-693B-4355-859D-2571231151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79200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in Characteristics of DHT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+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eams of size λ ensure predefined level of fault 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λ vertex-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λ edge-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al fault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+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arious knowledge propag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ility to tune the system to particular type of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obtain various levels of minimal and average redund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+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xed 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ystem can be enlarged to accommodate increased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enlargement is bo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ore complex design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er to implement and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possibilities for inconsistencies than centraliz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DC8-2E8F-4E12-BCDF-0D0F08E4E2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30240" y="4946760"/>
            <a:ext cx="3292560" cy="12999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11280" y="2048040"/>
            <a:ext cx="795024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vel Tic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kwell Automation Research Center &amp; Czech Technical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ague, Czech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ichy@ra.rockwel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03160" y="4579920"/>
            <a:ext cx="762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819760" y="4708440"/>
            <a:ext cx="2117880" cy="1670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79200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713-5DFA-4639-AF95-EE3DC503FD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81576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hat is it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Knowled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353440" cy="26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ain knowledge (problem-solv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erns a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problem-solving doma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an environment of an ag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resents the decision-making process of an ag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ows an agent to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nteract with other age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possibly improves thi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98520" y="4127400"/>
            <a:ext cx="8353440" cy="2212920"/>
            <a:chOff x="398520" y="4127400"/>
            <a:chExt cx="8353440" cy="2212920"/>
          </a:xfrm>
        </p:grpSpPr>
        <p:sp>
          <p:nvSpPr>
            <p:cNvPr id="54" name=""/>
            <p:cNvSpPr/>
            <p:nvPr/>
          </p:nvSpPr>
          <p:spPr>
            <a:xfrm>
              <a:off x="1308240" y="4127400"/>
              <a:ext cx="7038720" cy="2071800"/>
            </a:xfrm>
            <a:prstGeom prst="rect">
              <a:avLst/>
            </a:prstGeom>
            <a:solidFill>
              <a:srgbClr val="8b8b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Acquaintance</a:t>
              </a:r>
              <a:br>
                <a:rPr sz="1800"/>
              </a:b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                       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8520" y="5135400"/>
              <a:ext cx="835344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2" marL="91440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 language they 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ir actual 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ir conversations, behavioral patterns, and so on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04640" y="4168800"/>
            <a:ext cx="8353440" cy="1077840"/>
            <a:chOff x="404640" y="4168800"/>
            <a:chExt cx="8353440" cy="1077840"/>
          </a:xfrm>
        </p:grpSpPr>
        <p:sp>
          <p:nvSpPr>
            <p:cNvPr id="57" name=""/>
            <p:cNvSpPr/>
            <p:nvPr/>
          </p:nvSpPr>
          <p:spPr>
            <a:xfrm>
              <a:off x="1349280" y="4168800"/>
              <a:ext cx="4857840" cy="1023840"/>
            </a:xfrm>
            <a:prstGeom prst="rect">
              <a:avLst/>
            </a:prstGeom>
            <a:solidFill>
              <a:srgbClr val="a0a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ffff66"/>
                  </a:solidFill>
                  <a:latin typeface="Arial"/>
                </a:rPr>
                <a:t>Yellow P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4640" y="4803840"/>
              <a:ext cx="83534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2" marL="91440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ir capabilities (servic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99960" y="3330720"/>
            <a:ext cx="8353440" cy="1446120"/>
            <a:chOff x="399960" y="3330720"/>
            <a:chExt cx="8353440" cy="1446120"/>
          </a:xfrm>
        </p:grpSpPr>
        <p:sp>
          <p:nvSpPr>
            <p:cNvPr id="60" name=""/>
            <p:cNvSpPr/>
            <p:nvPr/>
          </p:nvSpPr>
          <p:spPr>
            <a:xfrm>
              <a:off x="1380960" y="4210200"/>
              <a:ext cx="4381560" cy="566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6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hite P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9960" y="3330720"/>
              <a:ext cx="8353440" cy="14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sists 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ame of ag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ir location (addres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7C2-8CC1-4CD9-9B46-DE137BAB6F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2692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hat is it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iddle-Agen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ddle-agents are agents that help others to locate and connect to agent providers of services” [Klusch and Sycar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 middle-agent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chmaker (service matchmaking - yellow p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ker (service brok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tor (service recrui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ilit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bas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76560" y="5337000"/>
            <a:ext cx="1300320" cy="416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7920" y="4762440"/>
            <a:ext cx="1617480" cy="4161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Middle-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55000" y="5334120"/>
            <a:ext cx="1299960" cy="41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Requ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413240" y="5082840"/>
            <a:ext cx="503280" cy="35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621120" y="5114520"/>
            <a:ext cx="500040" cy="327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9080" y="4352760"/>
            <a:ext cx="1495080" cy="847800"/>
          </a:xfrm>
          <a:prstGeom prst="cloudCallout">
            <a:avLst>
              <a:gd name="adj1" fmla="val 26009"/>
              <a:gd name="adj2" fmla="val 67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fer 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54720" y="4321080"/>
            <a:ext cx="1495440" cy="847800"/>
          </a:xfrm>
          <a:prstGeom prst="cloudCallout">
            <a:avLst>
              <a:gd name="adj1" fmla="val -24310"/>
              <a:gd name="adj2" fmla="val 734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arch for 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032-D5D7-4925-AB4D-238AE95A40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81576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Knowledge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94920" y="1196640"/>
            <a:ext cx="83660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ted (with one middle-ag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ack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586480"/>
            <a:ext cx="86709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6101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101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61010"/>
                </a:solidFill>
                <a:latin typeface="Times New Roman"/>
              </a:rPr>
              <a:t>Dynamic Hierarchical Teams [Tich</a:t>
            </a:r>
            <a:r>
              <a:rPr b="1" lang="cs-CZ" sz="2000" spc="-1" strike="noStrike">
                <a:solidFill>
                  <a:srgbClr val="c61010"/>
                </a:solidFill>
                <a:latin typeface="Times New Roman"/>
              </a:rPr>
              <a:t>ý</a:t>
            </a:r>
            <a:r>
              <a:rPr b="1" lang="en-US" sz="2000" spc="-1" strike="noStrike">
                <a:solidFill>
                  <a:srgbClr val="c6101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040" y="2803680"/>
            <a:ext cx="836604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quaintance models [Mařík, Pěchouček, and Štěpánková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tecture without any middle-agent [Sheor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800" y="4410000"/>
            <a:ext cx="83664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amwork-based technique [Kumar, Cohen, and Levesqu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ributed matchmaking [Pothipruk and Lalitrojwong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576-36FB-4847-9897-052841A328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81576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arious Social Knowledge Dis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94920" y="1197000"/>
            <a:ext cx="4862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amwork-based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est possible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6720" y="3174840"/>
            <a:ext cx="48625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Match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8520" y="5102280"/>
            <a:ext cx="486252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quaintanc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253120" y="1339920"/>
            <a:ext cx="3149640" cy="1571400"/>
            <a:chOff x="5253120" y="1339920"/>
            <a:chExt cx="3149640" cy="1571400"/>
          </a:xfrm>
        </p:grpSpPr>
        <p:grpSp>
          <p:nvGrpSpPr>
            <p:cNvPr id="84" name=""/>
            <p:cNvGrpSpPr/>
            <p:nvPr/>
          </p:nvGrpSpPr>
          <p:grpSpPr>
            <a:xfrm>
              <a:off x="5253120" y="1344600"/>
              <a:ext cx="3017880" cy="1279080"/>
              <a:chOff x="5253120" y="1344600"/>
              <a:chExt cx="3017880" cy="1279080"/>
            </a:xfrm>
          </p:grpSpPr>
          <p:sp>
            <p:nvSpPr>
              <p:cNvPr id="85" name=""/>
              <p:cNvSpPr/>
              <p:nvPr/>
            </p:nvSpPr>
            <p:spPr>
              <a:xfrm>
                <a:off x="5892840" y="1344600"/>
                <a:ext cx="639720" cy="27432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M-A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89760" y="1344600"/>
                <a:ext cx="641520" cy="27432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M-A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1280" y="1893600"/>
                <a:ext cx="639720" cy="2728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M-A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42200" y="2350800"/>
                <a:ext cx="639720" cy="2728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M-A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253120" y="1893600"/>
                <a:ext cx="639720" cy="2728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M-A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32560" y="1526760"/>
                <a:ext cx="457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56600" y="1618920"/>
                <a:ext cx="63972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618160" y="1618920"/>
                <a:ext cx="45720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18160" y="2166840"/>
                <a:ext cx="82404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7081920" y="2166480"/>
                <a:ext cx="914400" cy="36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442200" y="1618920"/>
                <a:ext cx="1189080" cy="36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59680" y="1618920"/>
                <a:ext cx="457200" cy="73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5892840" y="1618560"/>
                <a:ext cx="1096920" cy="36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92840" y="2076120"/>
                <a:ext cx="173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6807240" y="1618920"/>
                <a:ext cx="457200" cy="73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5321160" y="1392120"/>
              <a:ext cx="274680" cy="274320"/>
              <a:chOff x="5321160" y="1392120"/>
              <a:chExt cx="274680" cy="274320"/>
            </a:xfrm>
          </p:grpSpPr>
          <p:sp>
            <p:nvSpPr>
              <p:cNvPr id="101" name=""/>
              <p:cNvSpPr/>
              <p:nvPr/>
            </p:nvSpPr>
            <p:spPr>
              <a:xfrm>
                <a:off x="5321160" y="1392120"/>
                <a:ext cx="274680" cy="274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83080" y="1452240"/>
                <a:ext cx="21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394240" y="2449440"/>
              <a:ext cx="274680" cy="274320"/>
              <a:chOff x="5394240" y="2449440"/>
              <a:chExt cx="274680" cy="274320"/>
            </a:xfrm>
          </p:grpSpPr>
          <p:sp>
            <p:nvSpPr>
              <p:cNvPr id="104" name=""/>
              <p:cNvSpPr/>
              <p:nvPr/>
            </p:nvSpPr>
            <p:spPr>
              <a:xfrm>
                <a:off x="5394240" y="2449440"/>
                <a:ext cx="274680" cy="274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56160" y="2509560"/>
                <a:ext cx="21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5999040" y="2637000"/>
              <a:ext cx="274680" cy="274320"/>
              <a:chOff x="5999040" y="2637000"/>
              <a:chExt cx="274680" cy="274320"/>
            </a:xfrm>
          </p:grpSpPr>
          <p:sp>
            <p:nvSpPr>
              <p:cNvPr id="107" name=""/>
              <p:cNvSpPr/>
              <p:nvPr/>
            </p:nvSpPr>
            <p:spPr>
              <a:xfrm>
                <a:off x="5999040" y="2637000"/>
                <a:ext cx="274680" cy="274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60960" y="2697120"/>
                <a:ext cx="21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7251840" y="2627280"/>
              <a:ext cx="274320" cy="274320"/>
              <a:chOff x="7251840" y="2627280"/>
              <a:chExt cx="274320" cy="274320"/>
            </a:xfrm>
          </p:grpSpPr>
          <p:sp>
            <p:nvSpPr>
              <p:cNvPr id="110" name=""/>
              <p:cNvSpPr/>
              <p:nvPr/>
            </p:nvSpPr>
            <p:spPr>
              <a:xfrm>
                <a:off x="7251840" y="2627280"/>
                <a:ext cx="274320" cy="274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13400" y="2687400"/>
                <a:ext cx="21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8128080" y="2359080"/>
              <a:ext cx="274680" cy="274320"/>
              <a:chOff x="8128080" y="2359080"/>
              <a:chExt cx="274680" cy="274320"/>
            </a:xfrm>
          </p:grpSpPr>
          <p:sp>
            <p:nvSpPr>
              <p:cNvPr id="113" name=""/>
              <p:cNvSpPr/>
              <p:nvPr/>
            </p:nvSpPr>
            <p:spPr>
              <a:xfrm>
                <a:off x="8128080" y="2359080"/>
                <a:ext cx="274680" cy="274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190000" y="2419200"/>
                <a:ext cx="21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964640" y="1339920"/>
              <a:ext cx="274320" cy="274320"/>
              <a:chOff x="7964640" y="1339920"/>
              <a:chExt cx="274320" cy="274320"/>
            </a:xfrm>
          </p:grpSpPr>
          <p:sp>
            <p:nvSpPr>
              <p:cNvPr id="116" name=""/>
              <p:cNvSpPr/>
              <p:nvPr/>
            </p:nvSpPr>
            <p:spPr>
              <a:xfrm>
                <a:off x="7964640" y="1339920"/>
                <a:ext cx="274320" cy="274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026200" y="1400040"/>
                <a:ext cx="21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5535720" y="2166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259680" y="2533680"/>
              <a:ext cx="182520" cy="163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595840" y="1526760"/>
              <a:ext cx="2970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7081920" y="2623680"/>
              <a:ext cx="169920" cy="73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8159760" y="2166840"/>
              <a:ext cx="54000" cy="184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631280" y="148608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688000" y="2882880"/>
            <a:ext cx="3022560" cy="1920600"/>
            <a:chOff x="5688000" y="2882880"/>
            <a:chExt cx="3022560" cy="1920600"/>
          </a:xfrm>
        </p:grpSpPr>
        <p:sp>
          <p:nvSpPr>
            <p:cNvPr id="125" name=""/>
            <p:cNvSpPr/>
            <p:nvPr/>
          </p:nvSpPr>
          <p:spPr>
            <a:xfrm>
              <a:off x="6359400" y="3249720"/>
              <a:ext cx="763560" cy="274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Root M-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69400" y="2882880"/>
              <a:ext cx="641160" cy="274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AM-A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69400" y="3252960"/>
              <a:ext cx="639720" cy="2728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AM-A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37160" y="4027320"/>
              <a:ext cx="640080" cy="273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LM-A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94480" y="4027320"/>
              <a:ext cx="639720" cy="273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LM-A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20080" y="3390840"/>
              <a:ext cx="952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122960" y="3019320"/>
              <a:ext cx="94644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762600" y="3524400"/>
              <a:ext cx="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22960" y="3452760"/>
              <a:ext cx="95580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64200" y="3525840"/>
              <a:ext cx="54324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027840" y="3525840"/>
              <a:ext cx="56988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69400" y="3621240"/>
              <a:ext cx="639720" cy="2728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AM-A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80200" y="4027320"/>
              <a:ext cx="639720" cy="274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LM-A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5688000" y="4529160"/>
              <a:ext cx="274680" cy="274320"/>
              <a:chOff x="5688000" y="4529160"/>
              <a:chExt cx="274680" cy="27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5688000" y="4529160"/>
                <a:ext cx="274680" cy="274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49920" y="4589280"/>
                <a:ext cx="21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086520" y="4529160"/>
              <a:ext cx="274680" cy="274320"/>
              <a:chOff x="6086520" y="4529160"/>
              <a:chExt cx="274680" cy="274320"/>
            </a:xfrm>
          </p:grpSpPr>
          <p:sp>
            <p:nvSpPr>
              <p:cNvPr id="142" name=""/>
              <p:cNvSpPr/>
              <p:nvPr/>
            </p:nvSpPr>
            <p:spPr>
              <a:xfrm>
                <a:off x="6086520" y="4529160"/>
                <a:ext cx="274680" cy="274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48440" y="4589280"/>
                <a:ext cx="21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620040" y="4529160"/>
              <a:ext cx="274320" cy="274320"/>
              <a:chOff x="6620040" y="4529160"/>
              <a:chExt cx="274320" cy="274320"/>
            </a:xfrm>
          </p:grpSpPr>
          <p:sp>
            <p:nvSpPr>
              <p:cNvPr id="145" name=""/>
              <p:cNvSpPr/>
              <p:nvPr/>
            </p:nvSpPr>
            <p:spPr>
              <a:xfrm>
                <a:off x="6620040" y="4529160"/>
                <a:ext cx="274320" cy="274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81600" y="4589280"/>
                <a:ext cx="21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7197840" y="4529160"/>
              <a:ext cx="274680" cy="274320"/>
              <a:chOff x="7197840" y="4529160"/>
              <a:chExt cx="274680" cy="274320"/>
            </a:xfrm>
          </p:grpSpPr>
          <p:sp>
            <p:nvSpPr>
              <p:cNvPr id="148" name=""/>
              <p:cNvSpPr/>
              <p:nvPr/>
            </p:nvSpPr>
            <p:spPr>
              <a:xfrm>
                <a:off x="7197840" y="4529160"/>
                <a:ext cx="274680" cy="274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59760" y="4589280"/>
                <a:ext cx="21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620120" y="4529160"/>
              <a:ext cx="274680" cy="274320"/>
              <a:chOff x="7620120" y="4529160"/>
              <a:chExt cx="274680" cy="274320"/>
            </a:xfrm>
          </p:grpSpPr>
          <p:sp>
            <p:nvSpPr>
              <p:cNvPr id="151" name=""/>
              <p:cNvSpPr/>
              <p:nvPr/>
            </p:nvSpPr>
            <p:spPr>
              <a:xfrm>
                <a:off x="7620120" y="4529160"/>
                <a:ext cx="274680" cy="274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82040" y="4589280"/>
                <a:ext cx="21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flipV="1">
              <a:off x="6762600" y="430164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6148080" y="4300200"/>
              <a:ext cx="6516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832360" y="4301640"/>
              <a:ext cx="50760" cy="22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7665840" y="4301640"/>
              <a:ext cx="74520" cy="225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356600" y="4301640"/>
              <a:ext cx="69840" cy="23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729400" y="5059440"/>
            <a:ext cx="2087280" cy="1279080"/>
            <a:chOff x="5729400" y="5059440"/>
            <a:chExt cx="2087280" cy="1279080"/>
          </a:xfrm>
        </p:grpSpPr>
        <p:sp>
          <p:nvSpPr>
            <p:cNvPr id="159" name=""/>
            <p:cNvSpPr/>
            <p:nvPr/>
          </p:nvSpPr>
          <p:spPr>
            <a:xfrm>
              <a:off x="6426360" y="5059440"/>
              <a:ext cx="639720" cy="2728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M-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5729400" y="5535720"/>
              <a:ext cx="274680" cy="274320"/>
              <a:chOff x="5729400" y="5535720"/>
              <a:chExt cx="274680" cy="274320"/>
            </a:xfrm>
          </p:grpSpPr>
          <p:sp>
            <p:nvSpPr>
              <p:cNvPr id="161" name=""/>
              <p:cNvSpPr/>
              <p:nvPr/>
            </p:nvSpPr>
            <p:spPr>
              <a:xfrm>
                <a:off x="5729400" y="5535720"/>
                <a:ext cx="274680" cy="274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791320" y="5595840"/>
                <a:ext cx="21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102360" y="6064200"/>
              <a:ext cx="274680" cy="274320"/>
              <a:chOff x="6102360" y="6064200"/>
              <a:chExt cx="274680" cy="274320"/>
            </a:xfrm>
          </p:grpSpPr>
          <p:sp>
            <p:nvSpPr>
              <p:cNvPr id="164" name=""/>
              <p:cNvSpPr/>
              <p:nvPr/>
            </p:nvSpPr>
            <p:spPr>
              <a:xfrm>
                <a:off x="6102360" y="6064200"/>
                <a:ext cx="274680" cy="274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164280" y="6124320"/>
                <a:ext cx="21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615000" y="5773680"/>
              <a:ext cx="274680" cy="274320"/>
              <a:chOff x="6615000" y="5773680"/>
              <a:chExt cx="274680" cy="274320"/>
            </a:xfrm>
          </p:grpSpPr>
          <p:sp>
            <p:nvSpPr>
              <p:cNvPr id="167" name=""/>
              <p:cNvSpPr/>
              <p:nvPr/>
            </p:nvSpPr>
            <p:spPr>
              <a:xfrm>
                <a:off x="6615000" y="5773680"/>
                <a:ext cx="274680" cy="274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676920" y="5833800"/>
                <a:ext cx="21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7542360" y="5594400"/>
              <a:ext cx="274320" cy="274320"/>
              <a:chOff x="7542360" y="5594400"/>
              <a:chExt cx="274320" cy="274320"/>
            </a:xfrm>
          </p:grpSpPr>
          <p:sp>
            <p:nvSpPr>
              <p:cNvPr id="170" name=""/>
              <p:cNvSpPr/>
              <p:nvPr/>
            </p:nvSpPr>
            <p:spPr>
              <a:xfrm>
                <a:off x="7542360" y="5594400"/>
                <a:ext cx="274320" cy="274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603920" y="5654520"/>
                <a:ext cx="21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 flipV="1">
              <a:off x="6757920" y="5332320"/>
              <a:ext cx="0" cy="441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272280" y="5332320"/>
              <a:ext cx="269640" cy="73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969160" y="5238360"/>
              <a:ext cx="453960" cy="33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075440" y="5238720"/>
              <a:ext cx="501840" cy="387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6966000" y="5332320"/>
              <a:ext cx="334800" cy="735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6200" y="5773680"/>
              <a:ext cx="1954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372360" y="5983200"/>
              <a:ext cx="25704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435800" y="5843520"/>
              <a:ext cx="16200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891480" y="5754240"/>
              <a:ext cx="65232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6375240" y="6210360"/>
              <a:ext cx="843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213680" y="6064200"/>
              <a:ext cx="274680" cy="274320"/>
              <a:chOff x="7213680" y="6064200"/>
              <a:chExt cx="274680" cy="274320"/>
            </a:xfrm>
          </p:grpSpPr>
          <p:sp>
            <p:nvSpPr>
              <p:cNvPr id="183" name=""/>
              <p:cNvSpPr/>
              <p:nvPr/>
            </p:nvSpPr>
            <p:spPr>
              <a:xfrm>
                <a:off x="7213680" y="6064200"/>
                <a:ext cx="274680" cy="274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275600" y="6124320"/>
                <a:ext cx="21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A26-9C21-4F56-9543-3D289C5171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79200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ynamic Hierarchical Teams (DH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HT)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A 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 G will be called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T 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 if there exist non-empty sets V</a:t>
            </a:r>
            <a:r>
              <a:rPr b="1" i="1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…, V</a:t>
            </a:r>
            <a:r>
              <a:rPr b="1" i="1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(G) such that they are pairwise disjoint and V</a:t>
            </a:r>
            <a:r>
              <a:rPr b="1" i="1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… 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</a:t>
            </a:r>
            <a:r>
              <a:rPr b="1" i="1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≠ V(G). In that case, the complete subgraph G</a:t>
            </a:r>
            <a:r>
              <a:rPr b="1" i="1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graph G induced by the set of vertices V</a:t>
            </a:r>
            <a:r>
              <a:rPr b="1" i="1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a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am 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G if all of the following is satisfi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(v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(G)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1" i="1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w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v, w}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G) 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(v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(G)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1" i="1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j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w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v, w}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(G) 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((j &gt; 1)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j ≤ n)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k((k &lt; j)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v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v, w}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(G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u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 &lt; j)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 ≠ k)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v, u} </a:t>
            </a:r>
            <a:r>
              <a:rPr b="1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(G) 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01800" y="3333600"/>
          <a:ext cx="7545240" cy="33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3333600"/>
                    <a:ext cx="754524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23A-DF8C-451A-A6F0-BE84167FE9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79200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ult Tolerance in D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94920" y="1197000"/>
            <a:ext cx="838980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ult tolerance of an undirected graph is measured by the vertex and edge connectivity of a graph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raph G is 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ex-connected (edge-connected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 deletion of at 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- 1 vertices (edges) leaves the graph conn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9960" y="5167440"/>
            <a:ext cx="8390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HT-λ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aph G is call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T-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G is DHT and |V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= λ for every i = 1,…,n; where λ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960" y="2855880"/>
            <a:ext cx="83901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greatest integer λ such that G is λ vertex-connected is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nnectivit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G) of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eatest integer λ such that G is λ edge-connected is the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-connectivit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λ(G) of G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FF7-AE11-41A5-9BC4-4D84764D87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2692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HT-λ has v. and e. connectivity 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35344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ma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graph G is DHT-λ then G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vertex-connecte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edge-connecte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2040" y="2298600"/>
            <a:ext cx="83534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im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graph G is DHT-λ then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degree δ(G) = 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8800" y="3390840"/>
            <a:ext cx="835344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graph G is DHT-λ then the vertex connectivity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= 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 edge-connectivit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(G) = 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ap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ype DHT-λ is λ vertex-connected and λ edge-connected thus it remains to prove th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≤ λ and λ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≤ λ. For every non-trivial grap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equatio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≤ λ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≤ δ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[Diestel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lready proved that δ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λ therefo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≤ λ and λ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≤ λ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A7D-1062-44E5-AA81-7ACCC1BEBB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792000"/>
          </a:xfrm>
          <a:prstGeom prst="rect">
            <a:avLst/>
          </a:prstGeom>
          <a:solidFill>
            <a:srgbClr val="c1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HT-λ is maximally fault toler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35344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raph G is called maximally fault tolerant if vertex connectivity of the graph G equals the minimum degree of a graph δ(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2040" y="2498760"/>
            <a:ext cx="83534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aph G of type DHT-λ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ally fault toleran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of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rap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ype DHT-λ has vertex connectivit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λ and we also proved that it has the minimum degree δ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λ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7C2-2B06-4FF8-AEDC-B7AAB0909A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08:54:31Z</dcterms:created>
  <dc:creator>Rockwell Automation</dc:creator>
  <dc:description/>
  <dc:language>en-US</dc:language>
  <cp:lastModifiedBy>Pavel Tichý</cp:lastModifiedBy>
  <dcterms:modified xsi:type="dcterms:W3CDTF">2004-04-13T22:03:48Z</dcterms:modified>
  <cp:revision>109</cp:revision>
  <dc:subject/>
  <dc:title>Shipboard Automation</dc:title>
</cp:coreProperties>
</file>