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86F67-49F0-4AAF-AC02-2C77EA0B4C8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This approach was developed to support personalization while protecting the user’s identity.  The system is able to provide results based on the user’s personal preferences without identifying the user.  The Broker Agent plays the role of a proxy between the user and the Service Provider Agent, passing on a pseudonym in place of the user’s real identity.  Personal information of users’ can be queried from the Broker Agent using the pseudonym.  A persistent pseudonym value allows Broker Agent to maintain personal information for users without compromising their privacy throughout interactions with different servic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It is a architecture of services for nomadic users and broker is where all of privacy stuff is lo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The Broker:</a:t>
            </a:r>
            <a:r>
              <a:rPr b="0" lang="en-US" sz="1200" spc="-1" strike="noStrike">
                <a:solidFill>
                  <a:srgbClr val="000000"/>
                </a:solidFill>
                <a:latin typeface="Arial"/>
                <a:ea typeface="굴림"/>
              </a:rPr>
              <a:t> the broker deals with the interaction between the restaurant and the client. The restaurant and the client do not communicate directly with each other, they go through the broker. Generally, the broker has two main goals, i.e., to facilitate the interaction of users with services, and to mediate between different service providers as well as between the user and service providers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The Client:</a:t>
            </a:r>
            <a:r>
              <a:rPr b="0" lang="en-US" sz="1200" spc="-1" strike="noStrike">
                <a:solidFill>
                  <a:srgbClr val="000000"/>
                </a:solidFill>
                <a:latin typeface="Arial"/>
                <a:ea typeface="굴림"/>
              </a:rPr>
              <a:t> the client is a customer at the restaurant who has not yet registered with the Restaurant. Client specifies his personal details and preferences regarding those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The Service Provider:</a:t>
            </a:r>
            <a:r>
              <a:rPr b="0" lang="en-US" sz="1200" spc="-1" strike="noStrike">
                <a:solidFill>
                  <a:srgbClr val="000000"/>
                </a:solidFill>
                <a:latin typeface="Arial"/>
                <a:ea typeface="굴림"/>
              </a:rPr>
              <a:t> Service provider is a restaurant requesting client’s privat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Spatial Services: </a:t>
            </a:r>
            <a:r>
              <a:rPr b="0" lang="en-US" sz="1200" spc="-1" strike="noStrike">
                <a:solidFill>
                  <a:srgbClr val="000000"/>
                </a:solidFill>
                <a:latin typeface="Arial"/>
                <a:ea typeface="굴림"/>
              </a:rPr>
              <a:t>Services responsible for geographical contrent (locating objects, generating maps, finding routes et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Assets: </a:t>
            </a:r>
            <a:r>
              <a:rPr b="0" lang="en-US" sz="1200" spc="-1" strike="noStrike">
                <a:solidFill>
                  <a:srgbClr val="000000"/>
                </a:solidFill>
                <a:latin typeface="Arial"/>
                <a:ea typeface="굴림"/>
              </a:rPr>
              <a:t>These are the client’s personal details. Data model to support these is largely based on P3P data model with exception of support for protecting spatial information. Suggested data model splits information into four main groups Demographic, Physical, Location and Payment. The client’s details then branch out from these groups. These assets are stored with the client and updated when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Preference Policy: </a:t>
            </a:r>
            <a:r>
              <a:rPr b="0" lang="en-US" sz="1200" spc="-1" strike="noStrike">
                <a:solidFill>
                  <a:srgbClr val="000000"/>
                </a:solidFill>
                <a:latin typeface="Arial"/>
                <a:ea typeface="굴림"/>
              </a:rPr>
              <a:t>Preference policy consists of set rules for issuing authorization to reveal private information in response to information requests by the services. It is made up of four main concepts: Authorizer, Owner, Clearance database and rul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Service Provider Groups: </a:t>
            </a:r>
            <a:r>
              <a:rPr b="0" lang="en-US" sz="1200" spc="-1" strike="noStrike">
                <a:solidFill>
                  <a:srgbClr val="000000"/>
                </a:solidFill>
                <a:latin typeface="Arial"/>
                <a:ea typeface="굴림"/>
              </a:rPr>
              <a:t>All service providers are separated into groups based on the service type. These groups include Generic, GIS, Educational, Personal and Commercial (see Table 1 in the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Access levels: </a:t>
            </a:r>
            <a:r>
              <a:rPr b="0" lang="en-US" sz="1200" spc="-1" strike="noStrike">
                <a:solidFill>
                  <a:srgbClr val="000000"/>
                </a:solidFill>
                <a:latin typeface="Arial"/>
                <a:ea typeface="굴림"/>
              </a:rPr>
              <a:t>As shown in Table 1, each service provider assigned an access level. Combination of group and access level determines the set of rules relevant to a particular service provider. Each rule corresponds to a particular ass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uggested approach puts control over the private information into hands of the user and there are no negotiations made regarding the level of privacy of such information. There are four main components to the suggested system: </a:t>
            </a:r>
            <a:endParaRPr b="0" lang="en-US" sz="1000" spc="-1" strike="noStrike">
              <a:solidFill>
                <a:srgbClr val="000000"/>
              </a:solidFill>
              <a:latin typeface="Arial"/>
            </a:endParaRPr>
          </a:p>
          <a:p>
            <a:pPr marL="247680" indent="-247680">
              <a:spcBef>
                <a:spcPts val="374"/>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odel – an extended version P3P Base Data Schema. Apart form describing personal data in a structural manner it has been extended to support spatial data (area, location, coordinates, etc.). </a:t>
            </a: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i) Preference Policy – user-defined set of rules regarding the sharing of the private information. P3P rule set has been extended, and user is capable to specify the credential type required. In addition to P3P service providers privileges have been further classified into different access levels within its group (see table 1). Service providers groups have been further extended to support personal type. It allows the system to deal with the requests from other users as well as with requests from the service providers. It adds flexibility to support authentication and as a result the user can favour or reduce the privileges of a particular service provider,</a:t>
            </a: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ii) Token – it is an augmented version of P3P policy. As mentioned earlier, token has the required information for service provider to be authenticated, it binds service provider id with a particular credential type. Multiple credential types are supported which add support for security interoperability, </a:t>
            </a: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v) Request – private information request based on the data model.</a:t>
            </a: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uggested privacy solution also introduces an agent infrastructure to automate overall process of privacy protection</a:t>
            </a:r>
            <a:r>
              <a:rPr b="0" lang="ru-RU"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nagement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in functionality of this module is to analyze queries and responses. In addition to this, the Management Module is also responsible for the seamless transfer of personal information or to simply abort a session in case of potential privacy vio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vacy Control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vacy Evaluation and Module is the computation module of the Privacy Control Module. It takes the information about the current query and performs an analysis. This analysis includes rule evaluation of the current query. Rule evaluation is carried out to determine whether the service agent’s queries for information compatible with the user’s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ty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olds a database of the real ID of the user and the pseudo 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vacy threats are more severe in nomadic environment since now malicious entity know not only who you are but where you are. So without proper privacy protection there won’t be any commercial services for consume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state of the art of privacy. But this is not sufficient because most of this solutions will either disclose or not disclose th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nomadic environment you have to address level of issues. For example: reveal you position but with different levels of precis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riticism of P3P includes the following points: </a:t>
            </a:r>
            <a:endParaRPr b="0" lang="en-US" sz="1200" spc="-1" strike="noStrike">
              <a:solidFill>
                <a:srgbClr val="000000"/>
              </a:solidFill>
              <a:latin typeface="Arial"/>
            </a:endParaRPr>
          </a:p>
          <a:p>
            <a:pPr marL="247680" indent="-247680">
              <a:spcBef>
                <a:spcPts val="451"/>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vacy is negotiable commodity and overall level of privacy depends on user’s ability to pay for it, </a:t>
            </a:r>
            <a:endParaRPr b="0" lang="en-US" sz="1200" spc="-1" strike="noStrike">
              <a:solidFill>
                <a:srgbClr val="000000"/>
              </a:solidFill>
              <a:latin typeface="Arial"/>
            </a:endParaRPr>
          </a:p>
          <a:p>
            <a:pPr marL="247680" indent="-247680">
              <a:spcBef>
                <a:spcPts val="451"/>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cess of sharing privacy information is server oriented. More specifically, in P3P evaluation is done by matching user references against server provider policy, where policy is created by service provider. Users have no choice here but trust service provider completely. Since, P3P doesn’t support authentication there is no way to determine the legitimacy of the statements listed in service provider policy. </a:t>
            </a:r>
            <a:endParaRPr b="0" lang="en-US" sz="1200" spc="-1" strike="noStrike">
              <a:solidFill>
                <a:srgbClr val="000000"/>
              </a:solidFill>
              <a:latin typeface="Arial"/>
            </a:endParaRPr>
          </a:p>
          <a:p>
            <a:pPr marL="247680" indent="-247680">
              <a:spcBef>
                <a:spcPts val="451"/>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P3P documents are written in human readable format, they are difficult to understand and therefore machine assistance is required to evaluat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have to say here that the problem is too complex and wherefore one has to use a combination appro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T(or anonymiser) will hide the identity (break the link between data and real id) and eliminate unsanctioned user profi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sometimes sharing is required so policy framework will come into sce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00E58-9282-4A63-A7FB-66EAF4EE4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539640" y="1773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39640" y="4137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8326C-1BB7-4970-8D11-370882BD0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539640" y="1773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756680" y="1773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539640" y="4137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756680" y="4137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06721-9C05-435C-A92E-B7D3A06C2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539640" y="1773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22080" y="1773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04520" y="1773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39640" y="4137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22080" y="4137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04520" y="4137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184B9-8FD7-4FF4-82E6-6A2E8B4ED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539640" y="1773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4AE13-E104-443F-BDAB-B4A8F8AF0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F7448-C671-4CA2-A1D7-0612B872E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539640" y="1773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756680" y="1773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9DF2B-A302-48DE-AA48-2D8425918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527CE-C32E-418C-9A4D-CE489EB87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0362C-5D5D-47A4-B3CD-1D8BA861B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39640" y="1773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756680" y="1773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539640" y="4137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745C5-7047-4AD8-B5AA-5652067A0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39640" y="1773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756680" y="1773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756680" y="4137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21BDD-B6B6-48FA-866E-C81FD4905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39640" y="1773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756680" y="1773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539640" y="4137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5542F-396B-4FAC-9D7A-1269DE3E9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39640" y="1773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0C73-5144-49D6-990F-201C80D526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6588000" y="6093000"/>
            <a:ext cx="210528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1268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굴림"/>
              </a:rPr>
              <a:t>Enforcing Privacy via Brokering within Nomadic Environment</a:t>
            </a:r>
            <a:endParaRPr b="0" lang="en-US" sz="3600" spc="-1" strike="noStrike">
              <a:solidFill>
                <a:srgbClr val="000000"/>
              </a:solidFill>
              <a:latin typeface="Arial"/>
            </a:endParaRPr>
          </a:p>
        </p:txBody>
      </p:sp>
      <p:sp>
        <p:nvSpPr>
          <p:cNvPr id="50" name="PlaceHolder 2"/>
          <p:cNvSpPr>
            <a:spLocks noGrp="1"/>
          </p:cNvSpPr>
          <p:nvPr>
            <p:ph type="subTitle"/>
          </p:nvPr>
        </p:nvSpPr>
        <p:spPr>
          <a:xfrm>
            <a:off x="1331640" y="3357720"/>
            <a:ext cx="6800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onid Titkov, Stefan Poslad, Juan Jim Tan</a:t>
            </a:r>
            <a:endParaRPr b="0" lang="en-US" sz="24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Department of Electronic Engineer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Queen Mary College University of London</a:t>
            </a:r>
            <a:endParaRPr b="0" lang="en-US" sz="20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onid.titkov, stefan.poslad, juanjim.tan]@elec.qmul.ac.u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Brokerage [1]</a:t>
            </a:r>
            <a:endParaRPr b="0" lang="en-US" sz="3600" spc="-1" strike="noStrike">
              <a:solidFill>
                <a:srgbClr val="000000"/>
              </a:solidFill>
              <a:latin typeface="Arial"/>
            </a:endParaRPr>
          </a:p>
        </p:txBody>
      </p:sp>
      <p:sp>
        <p:nvSpPr>
          <p:cNvPr id="68" name=""/>
          <p:cNvSpPr txBox="1"/>
          <p:nvPr/>
        </p:nvSpPr>
        <p:spPr>
          <a:xfrm>
            <a:off x="539640" y="17733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oker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vacy mediation</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onymisation of the user and service providers</a:t>
            </a:r>
            <a:endParaRPr b="0"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ivacy of the user</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airness of dealing between different service providers</a:t>
            </a:r>
            <a:endParaRPr b="0" lang="en-US" sz="16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persistency</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ive information reveal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ding data and behaviou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version between different ontology typ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ling data flow</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Brokerage [2]</a:t>
            </a:r>
            <a:endParaRPr b="0" lang="en-US" sz="3600" spc="-1" strike="noStrike">
              <a:solidFill>
                <a:srgbClr val="000000"/>
              </a:solidFill>
              <a:latin typeface="Arial"/>
            </a:endParaRPr>
          </a:p>
        </p:txBody>
      </p:sp>
      <p:sp>
        <p:nvSpPr>
          <p:cNvPr id="70" name=""/>
          <p:cNvSpPr txBox="1"/>
          <p:nvPr/>
        </p:nvSpPr>
        <p:spPr>
          <a:xfrm>
            <a:off x="539640" y="1773360"/>
            <a:ext cx="8229600" cy="4525920"/>
          </a:xfrm>
          <a:prstGeom prst="rect">
            <a:avLst/>
          </a:prstGeom>
          <a:noFill/>
          <a:ln w="0">
            <a:noFill/>
          </a:ln>
        </p:spPr>
        <p:txBody>
          <a:bodyPr lIns="90000" rIns="90000" tIns="46800" bIns="4680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ure user modelling</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age of pseudonyms</a:t>
            </a:r>
            <a:endParaRPr b="0"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ivacy of the user</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action Facilitation</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age of dialog history</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sentation performe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ter information according to the user interest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ple ontologies and knowledge integration</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urist domai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ice featur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ormation requests habit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굴림"/>
              </a:rPr>
              <a:t>Usage of Pseudo IDs</a:t>
            </a:r>
            <a:r>
              <a:rPr b="0" lang="ru-RU" sz="4400" spc="-1" strike="noStrike">
                <a:solidFill>
                  <a:srgbClr val="000000"/>
                </a:solidFill>
                <a:latin typeface="Arial"/>
              </a:rPr>
              <a:t> </a:t>
            </a:r>
            <a:endParaRPr b="0" lang="en-US" sz="4400" spc="-1" strike="noStrike">
              <a:solidFill>
                <a:srgbClr val="000000"/>
              </a:solidFill>
              <a:latin typeface="Arial"/>
            </a:endParaRPr>
          </a:p>
        </p:txBody>
      </p:sp>
      <p:pic>
        <p:nvPicPr>
          <p:cNvPr id="72" name="" descr=""/>
          <p:cNvPicPr/>
          <p:nvPr/>
        </p:nvPicPr>
        <p:blipFill>
          <a:blip r:embed="rId2"/>
          <a:stretch/>
        </p:blipFill>
        <p:spPr>
          <a:xfrm>
            <a:off x="1042920" y="2349360"/>
            <a:ext cx="7265880" cy="280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a:rPr>
              <a:t>System Architecture</a:t>
            </a:r>
            <a:endParaRPr b="0" lang="en-US" sz="3600" spc="-1" strike="noStrike">
              <a:solidFill>
                <a:srgbClr val="000000"/>
              </a:solidFill>
              <a:latin typeface="Arial"/>
            </a:endParaRPr>
          </a:p>
        </p:txBody>
      </p:sp>
      <p:graphicFrame>
        <p:nvGraphicFramePr>
          <p:cNvPr id="74" name=""/>
          <p:cNvGraphicFramePr/>
          <p:nvPr/>
        </p:nvGraphicFramePr>
        <p:xfrm>
          <a:off x="755640" y="1773360"/>
          <a:ext cx="7826400" cy="4111560"/>
        </p:xfrm>
        <a:graphic>
          <a:graphicData uri="http://schemas.openxmlformats.org/presentationml/2006/ole">
            <p:oleObj progId="Word.Document.12" r:id="rId2" spid="">
              <p:embed/>
              <p:pic>
                <p:nvPicPr>
                  <p:cNvPr id="75" name="" descr=""/>
                  <p:cNvPicPr/>
                  <p:nvPr/>
                </p:nvPicPr>
                <p:blipFill>
                  <a:blip r:embed="rId3"/>
                  <a:stretch/>
                </p:blipFill>
                <p:spPr>
                  <a:xfrm>
                    <a:off x="755640" y="1773360"/>
                    <a:ext cx="7826400" cy="411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Policy Driven Privacy Management System [1]</a:t>
            </a:r>
            <a:endParaRPr b="0" lang="en-US" sz="3600" spc="-1" strike="noStrike">
              <a:solidFill>
                <a:srgbClr val="000000"/>
              </a:solidFill>
              <a:latin typeface="Arial"/>
            </a:endParaRPr>
          </a:p>
        </p:txBody>
      </p:sp>
      <p:sp>
        <p:nvSpPr>
          <p:cNvPr id="77"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chanisms for specifying privacy policies, information requests, and credenti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sts user with managing of his private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roduces information classification model suitable for nomadic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ts control over information sharing into user’s han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Policy Driven Privacy Management System [2]</a:t>
            </a:r>
            <a:endParaRPr b="0" lang="en-US" sz="3600" spc="-1" strike="noStrike">
              <a:solidFill>
                <a:srgbClr val="000000"/>
              </a:solidFill>
              <a:latin typeface="Arial"/>
            </a:endParaRPr>
          </a:p>
        </p:txBody>
      </p:sp>
      <p:sp>
        <p:nvSpPr>
          <p:cNvPr id="79"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mechanism to specify policy evaluation and inferencing, which provides a service to applications for determining how requests by service providers should be handled, given a privacy policy and a set of credenti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mechanism to specify user preferences regarding personal information within location – aware environ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a:rPr>
              <a:t>PDPMS Components</a:t>
            </a:r>
            <a:endParaRPr b="0" lang="en-US" sz="3600" spc="-1" strike="noStrike">
              <a:solidFill>
                <a:srgbClr val="000000"/>
              </a:solidFill>
              <a:latin typeface="Arial"/>
            </a:endParaRPr>
          </a:p>
        </p:txBody>
      </p:sp>
      <p:sp>
        <p:nvSpPr>
          <p:cNvPr id="81"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Model – an extended version P3P Base Data Schema, it was extended to support spatial content handling  (area, location, coordinates, et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ference Policy – user-defined set of rules regarding sharing of the private information. P3P rule set has been extended, and user is capable to specify the credential type requi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ken – it is an augmented version of P3P policy, it has the required information for service provider to be authenticated, it binds service provider id with a particular credential type. Multiple credential types are supported which add support for security interoperabil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 private information request based on the data mod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PDPMS Architecture</a:t>
            </a:r>
            <a:endParaRPr b="0" lang="en-US" sz="3600" spc="-1" strike="noStrike">
              <a:solidFill>
                <a:srgbClr val="000000"/>
              </a:solidFill>
              <a:latin typeface="Arial"/>
            </a:endParaRPr>
          </a:p>
        </p:txBody>
      </p:sp>
      <p:graphicFrame>
        <p:nvGraphicFramePr>
          <p:cNvPr id="83" name=""/>
          <p:cNvGraphicFramePr/>
          <p:nvPr/>
        </p:nvGraphicFramePr>
        <p:xfrm>
          <a:off x="250920" y="1844640"/>
          <a:ext cx="8497800" cy="4186440"/>
        </p:xfrm>
        <a:graphic>
          <a:graphicData uri="http://schemas.openxmlformats.org/presentationml/2006/ole">
            <p:oleObj r:id="rId2" spid="">
              <p:embed/>
              <p:pic>
                <p:nvPicPr>
                  <p:cNvPr id="84" name="" descr=""/>
                  <p:cNvPicPr/>
                  <p:nvPr/>
                </p:nvPicPr>
                <p:blipFill>
                  <a:blip r:embed="rId3"/>
                  <a:stretch/>
                </p:blipFill>
                <p:spPr>
                  <a:xfrm>
                    <a:off x="250920" y="1844640"/>
                    <a:ext cx="8497800" cy="418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a:rPr>
              <a:t>Policy Evaluation</a:t>
            </a:r>
            <a:endParaRPr b="0" lang="en-US" sz="3600" spc="-1" strike="noStrike">
              <a:solidFill>
                <a:srgbClr val="000000"/>
              </a:solidFill>
              <a:latin typeface="Arial"/>
            </a:endParaRPr>
          </a:p>
        </p:txBody>
      </p:sp>
      <p:sp>
        <p:nvSpPr>
          <p:cNvPr id="86"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	</a:t>
            </a:r>
            <a:r>
              <a:rPr b="0" lang="en-US" sz="2400" spc="-1" strike="noStrike">
                <a:solidFill>
                  <a:srgbClr val="000000"/>
                </a:solidFill>
                <a:latin typeface="Arial"/>
                <a:ea typeface="굴림"/>
              </a:rPr>
              <a:t>Policy evaluation is done by evaluating request and token against preference policy. There three possible outcomes of the evaluation: reject, reveal and notify.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굴림"/>
              </a:rPr>
              <a:t>(Ax) reject(x)=&gt; ~match(x,Rule-Assets) v ~match(x,Toke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굴림"/>
              </a:rPr>
              <a:t>(Ax) notify(x)=&gt; match(x,Rule-Assets) ^ notifyme(Client,Rule-Asset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굴림"/>
              </a:rPr>
              <a:t>(Ax) reveal(x)=&gt; match(x,Rule-Assets) ^ match(x,Token)</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Reject -if the service requests information that it not permitted by the Client or if the service does not have a valid Toke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Notify- if the service requests data the client has chosen to be notified it such a request is ask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Reveal- the service meets all the clients criteria for accessing the requested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826920" y="1484280"/>
            <a:ext cx="7448760" cy="456264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a:rPr>
              <a:t>Policy Evalu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Motivation</a:t>
            </a:r>
            <a:endParaRPr b="0" lang="en-US" sz="3600" spc="-1" strike="noStrike">
              <a:solidFill>
                <a:srgbClr val="000000"/>
              </a:solidFill>
              <a:latin typeface="Arial"/>
            </a:endParaRPr>
          </a:p>
        </p:txBody>
      </p:sp>
      <p:sp>
        <p:nvSpPr>
          <p:cNvPr id="52"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nt tendencies in comput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ices are getting smaller and more powerfu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s are becoming mobil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llenges of nomadic comput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terminal is mobile – limited computing pow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 is dynam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isk of information overflo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is a need for content adapt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clusions</a:t>
            </a:r>
            <a:endParaRPr b="0" lang="en-US" sz="3600" spc="-1" strike="noStrike">
              <a:solidFill>
                <a:srgbClr val="000000"/>
              </a:solidFill>
              <a:latin typeface="Arial"/>
            </a:endParaRPr>
          </a:p>
        </p:txBody>
      </p:sp>
      <p:sp>
        <p:nvSpPr>
          <p:cNvPr id="90"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ents proven to be an effective solution to support mobile users within nomadic environ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madic environment generates the whole range of privacy concerns which have to be solved in order to exploit the full potential of services for nomadic us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ue to complexity of nomadic environment composite approach to privacy is need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le usage on pseudonyms protects user’s identity, in some cases sharing is necessary. PDPMS was introduced to overcome this issu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ank You</a:t>
            </a:r>
            <a:endParaRPr b="0" lang="en-US" sz="4400" spc="-1" strike="noStrike">
              <a:solidFill>
                <a:srgbClr val="000000"/>
              </a:solidFill>
              <a:latin typeface="Arial"/>
            </a:endParaRPr>
          </a:p>
        </p:txBody>
      </p:sp>
      <p:sp>
        <p:nvSpPr>
          <p:cNvPr id="92"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Problems with Content Adaptation</a:t>
            </a:r>
            <a:endParaRPr b="0" lang="en-US" sz="3600" spc="-1" strike="noStrike">
              <a:solidFill>
                <a:srgbClr val="000000"/>
              </a:solidFill>
              <a:latin typeface="Arial"/>
            </a:endParaRPr>
          </a:p>
        </p:txBody>
      </p:sp>
      <p:sp>
        <p:nvSpPr>
          <p:cNvPr id="54"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facilitate content adaptation personal data is revealed to 2nd and 3rd party facilitato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ce revealed user has no control over his infor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sanctioned user profiling may occu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roblem worsens within nomadic environment. It is due to the fact that the user can be locate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Requirements</a:t>
            </a:r>
            <a:endParaRPr b="0" lang="en-US" sz="3600" spc="-1" strike="noStrike">
              <a:solidFill>
                <a:srgbClr val="000000"/>
              </a:solidFill>
              <a:latin typeface="Arial"/>
            </a:endParaRPr>
          </a:p>
        </p:txBody>
      </p:sp>
      <p:sp>
        <p:nvSpPr>
          <p:cNvPr id="56"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The requirements for protecting the shared personal information within nomadic environment includes: </a:t>
            </a:r>
            <a:endParaRPr b="0" lang="en-US" sz="32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uthorisation and access control</a:t>
            </a:r>
            <a:endParaRPr b="0" lang="en-US" sz="32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eping the revealed personal information to a minimum</a:t>
            </a:r>
            <a:endParaRPr b="0" lang="en-US" sz="32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inding personal information to pseudonyms</a:t>
            </a:r>
            <a:endParaRPr b="0" lang="en-US" sz="32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tecting its confidentiality from eaves-dropp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a:rPr>
              <a:t>General Privacy Threats</a:t>
            </a:r>
            <a:endParaRPr b="0" lang="en-US" sz="3600" spc="-1" strike="noStrike">
              <a:solidFill>
                <a:srgbClr val="000000"/>
              </a:solidFill>
              <a:latin typeface="Arial"/>
            </a:endParaRPr>
          </a:p>
        </p:txBody>
      </p:sp>
      <p:sp>
        <p:nvSpPr>
          <p:cNvPr id="58"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Information privacy refers to the claims of individuals that:</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about themselves should generally not be available to other individuals and organisati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data is possessed by another party, the individual must be able to exercise a substantial degree of control over that data and its use</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The main security threats to this private information are: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ck of confidentiality of inform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authorised disclosur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suse of the information by the holder of the individual’s private informatio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ruption of user inform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srepresentation of a pers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querade of that pers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a:rPr>
              <a:t>Basic Privacy Approach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539640" y="1557360"/>
            <a:ext cx="8229600" cy="4525920"/>
          </a:xfrm>
          <a:prstGeom prst="rect">
            <a:avLst/>
          </a:prstGeom>
          <a:noFill/>
          <a:ln w="0">
            <a:noFill/>
          </a:ln>
        </p:spPr>
        <p:txBody>
          <a:bodyPr lIns="90000" rIns="90000" tIns="46800" bIns="46800" anchor="t">
            <a:normAutofit fontScale="98000"/>
          </a:bodyPr>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Access control and authority delegation control</a:t>
            </a: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Authentication</a:t>
            </a:r>
            <a:endParaRPr b="0" lang="en-US" sz="1600" spc="-1" strike="noStrike">
              <a:solidFill>
                <a:srgbClr val="000000"/>
              </a:solidFill>
              <a:latin typeface="Arial"/>
            </a:endParaRPr>
          </a:p>
          <a:p>
            <a:pPr lvl="2" marL="11199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Privacy Enhanced Technologies (PET)</a:t>
            </a: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seudo-identities, anonymisers, etc.</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TCPA, etc</a:t>
            </a:r>
            <a:endParaRPr b="0" lang="en-US" sz="1600" spc="-1" strike="noStrike">
              <a:solidFill>
                <a:srgbClr val="000000"/>
              </a:solidFill>
              <a:latin typeface="Arial"/>
            </a:endParaRPr>
          </a:p>
          <a:p>
            <a:pPr lvl="2" marL="11199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Provider Self-regulation of privacy policies</a:t>
            </a: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ust the provider’s policy and self-regulation</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gotiation of privacy between user and provider</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W3C P3P, Microsoft Passport, Liberty Alliance</a:t>
            </a:r>
            <a:endParaRPr b="0" lang="en-US" sz="1600" spc="-1" strike="noStrike">
              <a:solidFill>
                <a:srgbClr val="000000"/>
              </a:solidFill>
              <a:latin typeface="Arial"/>
            </a:endParaRPr>
          </a:p>
          <a:p>
            <a:pPr lvl="2" marL="11199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Legislative provisions</a:t>
            </a: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ivacy (and user-control of privacy) a basic human right</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ic level of privacy is non-negotiable.</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ronger legal provision in EU vs. U.S.</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current lack of run-time frameworks to support this user control even in EU</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a:rPr>
              <a:t>Why not a provider privacy policy approach such as P3P?</a:t>
            </a:r>
            <a:endParaRPr b="0" lang="en-US" sz="3600" spc="-1" strike="noStrike">
              <a:solidFill>
                <a:srgbClr val="000000"/>
              </a:solidFill>
              <a:latin typeface="Arial"/>
            </a:endParaRPr>
          </a:p>
        </p:txBody>
      </p:sp>
      <p:sp>
        <p:nvSpPr>
          <p:cNvPr id="62"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lexity of provider policy regu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Statements (ontology) not understood by us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mechanisms for securing personal data in transit or stor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 must trust the provider to keep information priv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r controls the level of privacy not the us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a:rPr>
              <a:t>Why a MAS-Based Privacy Framework? </a:t>
            </a:r>
            <a:endParaRPr b="0" lang="en-US" sz="3600" spc="-1" strike="noStrike">
              <a:solidFill>
                <a:srgbClr val="000000"/>
              </a:solidFill>
              <a:latin typeface="Arial"/>
            </a:endParaRPr>
          </a:p>
        </p:txBody>
      </p:sp>
      <p:sp>
        <p:nvSpPr>
          <p:cNvPr id="64" name="PlaceHolder 2"/>
          <p:cNvSpPr>
            <a:spLocks noGrp="1"/>
          </p:cNvSpPr>
          <p:nvPr>
            <p:ph/>
          </p:nvPr>
        </p:nvSpPr>
        <p:spPr>
          <a:xfrm>
            <a:off x="539640" y="1773000"/>
            <a:ext cx="8229600" cy="4421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vasive, rich communication (using protocols, dialogues, knowledge exchan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te user preferences with server capabil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complex user personalisation models than user preferences can be supported such as passive user-profil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ents can use match-making to adapt services to contexts such as terminal,  link characteristic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okers can act support pseudo-identities and anonymis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ents can integrate heterogeneous services such as GIS, personalisation, nomadic users and service provide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a:rPr>
              <a:t>Privacy protection for nomadic users</a:t>
            </a:r>
            <a:endParaRPr b="0" lang="en-US" sz="3600" spc="-1" strike="noStrike">
              <a:solidFill>
                <a:srgbClr val="000000"/>
              </a:solidFill>
              <a:latin typeface="Arial"/>
            </a:endParaRPr>
          </a:p>
        </p:txBody>
      </p:sp>
      <p:sp>
        <p:nvSpPr>
          <p:cNvPr id="66"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Access control and deleg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rrently password access-contro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ple authentication of profiler, broker, et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ple authentication of users by profiler, broker, etc.</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PE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seudonyms, broker-anonymiser used during service negoti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 ID only revealed to authorise payment if contract agreed</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User regulated privacy polici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3C P3P framework was extended to support user-driven privacy policy regulation (instead of provider-driven in the original P3P)</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3P was also extended to support spatial information handling</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7T14:13:40Z</dcterms:created>
  <dc:creator>leonid</dc:creator>
  <dc:description/>
  <dc:language>en-US</dc:language>
  <cp:lastModifiedBy>Juan Jim Tan</cp:lastModifiedBy>
  <dcterms:modified xsi:type="dcterms:W3CDTF">2004-05-04T16:36:32Z</dcterms:modified>
  <cp:revision>25</cp:revision>
  <dc:subject/>
  <dc:title>Protecting Privacy in Personalised  Location-Aware Applications</dc:title>
</cp:coreProperties>
</file>