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3A42-3CBA-494B-93A5-85C925AA7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FFEA-0291-4D8F-ACEF-551A9D19A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4FC6-B497-45D4-A055-22922A1DD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56908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1480" y="381672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47840" y="119664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5480" y="119664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47840" y="381672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5480" y="381672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19280" y="189000"/>
            <a:ext cx="734544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1480" y="381672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56908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0560" y="3816720"/>
            <a:ext cx="856908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1480" y="381672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7840" y="119664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5480" y="119664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0560" y="381672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7840" y="381672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5480" y="3816720"/>
            <a:ext cx="275904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619280" y="189000"/>
            <a:ext cx="734544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1480" y="381672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1480" y="1196640"/>
            <a:ext cx="418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816720"/>
            <a:ext cx="856908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751880" y="5950080"/>
            <a:ext cx="466560" cy="288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615520" y="6453360"/>
            <a:ext cx="420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7539-E090-41AE-ADA6-843B12C8EF87}" type="slidenum">
              <a:rPr b="1" lang="it-IT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82480" y="1484280"/>
            <a:ext cx="79790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Times New Roman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178920" y="6440400"/>
            <a:ext cx="35290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Times New Roman"/>
              </a:rPr>
              <a:t>AT2AI04 – Vienna, April 14th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947880"/>
            <a:ext cx="9144000" cy="36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416640"/>
            <a:ext cx="9180360" cy="36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77840" y="46080"/>
            <a:ext cx="1225440" cy="9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0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60200" y="154080"/>
            <a:ext cx="88171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4520" y="333360"/>
            <a:ext cx="4314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imes New Roman"/>
              </a:rPr>
              <a:t>AOT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imes New Roman"/>
              </a:rPr>
              <a:t>Dipartimento di Ingegneria dell’In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imes New Roman"/>
              </a:rPr>
              <a:t>Università degli Studi di P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2087640" cy="1593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164360" y="260280"/>
            <a:ext cx="1295280" cy="1247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cc"/>
              </a:buClr>
              <a:buFont typeface="Times New Roman"/>
              <a:buChar char="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33cc"/>
              </a:buClr>
              <a:buFont typeface="Times New Roman"/>
              <a:buChar char="◦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76280"/>
            <a:ext cx="77724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A Testbed for Agent Mediated Service Composition 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93336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Agostino Poggi, Michele Tomaiuolo, </a:t>
            </a:r>
            <a:r>
              <a:rPr b="1" i="1" lang="en-GB" sz="2800" spc="-1" strike="noStrike" u="sng">
                <a:solidFill>
                  <a:srgbClr val="3333cc"/>
                </a:solidFill>
                <a:uFillTx/>
                <a:latin typeface="Arial"/>
              </a:rPr>
              <a:t>Paola Turci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OT Lab - DII, University of Parm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Network Infrastructure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2</a:t>
            </a:r>
            <a:r>
              <a:rPr b="1" lang="en-US" sz="3200" spc="-1" strike="noStrike" baseline="30000">
                <a:solidFill>
                  <a:srgbClr val="3333cc"/>
                </a:solidFill>
                <a:latin typeface="Arial Black"/>
              </a:rPr>
              <a:t>nd</a:t>
            </a: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 Reification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latform Directory ag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ierarchical structur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latform registr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latform Service ag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ach Agentcities platform should host a PS ag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 PS queries the PD service to obtain list of currently active platforms in the network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n the background the PS agent may proactively gain status information about the network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hen requested, each PS agent provid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he platform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ping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service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est results for remote platform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etwork Service ag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 main duty of a NS agent is to show one or more matrix of the network platform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 NS agent makes use of the PD service to obtain a provisional list of up platforms to survey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8628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Current Priorities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ployme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ide deployment of the new services on the project partners’ platform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utomated procedure for the deployment of an Agentcities/OpenNET nod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ke it easier for each partner to test basic network functionaliti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re in deep tests of the new distributed architectur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Arial Black"/>
              </a:rPr>
              <a:t>Event Organizer -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Arial Black"/>
              </a:rPr>
              <a:t>Demonstration Scenario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920000" cy="5070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8360" y="3860640"/>
            <a:ext cx="9144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2788" y="4000"/>
                </a:lnTo>
                <a:lnTo>
                  <a:pt x="42788" y="27506"/>
                </a:lnTo>
                <a:lnTo>
                  <a:pt x="40800" y="51019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557360"/>
            <a:ext cx="3888000" cy="2663640"/>
          </a:xfrm>
          <a:prstGeom prst="wedgeRectCallout">
            <a:avLst>
              <a:gd name="adj1" fmla="val 31175"/>
              <a:gd name="adj2" fmla="val 7473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ement, discovery and negotiation of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ntology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straint-based 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ulti-attribute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rvant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628640"/>
            <a:ext cx="3888000" cy="2664000"/>
          </a:xfrm>
          <a:prstGeom prst="wedgeRectCallout">
            <a:avLst>
              <a:gd name="adj1" fmla="val -7328"/>
              <a:gd name="adj2" fmla="val 6966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ical auction-style trad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urrent a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idd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istory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straint-based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ntology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637000"/>
            <a:ext cx="4572000" cy="2232000"/>
          </a:xfrm>
          <a:prstGeom prst="wedgeRectCallout">
            <a:avLst>
              <a:gd name="adj1" fmla="val 10208"/>
              <a:gd name="adj2" fmla="val 7304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sitory for ont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ntology language (DAML+O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ntologies are centrally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ole-based acc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terface (FIPA and 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0"/>
            <a:ext cx="4608360" cy="2133720"/>
          </a:xfrm>
          <a:prstGeom prst="wedgeRectCallout">
            <a:avLst>
              <a:gd name="adj1" fmla="val 5148"/>
              <a:gd name="adj2" fmla="val 634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 generation and hosting service for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upported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Agen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Ag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Advertisement (DF and Trade Hou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2924280"/>
            <a:ext cx="5040360" cy="1942920"/>
          </a:xfrm>
          <a:prstGeom prst="wedgeRectCallout">
            <a:avLst>
              <a:gd name="adj1" fmla="val 34787"/>
              <a:gd name="adj2" fmla="val 7728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et of services offered by a virtual agent-based banking instit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 payment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 account management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uthorization and authent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80000" y="2708280"/>
            <a:ext cx="4608360" cy="2160720"/>
          </a:xfrm>
          <a:prstGeom prst="wedgeRectCallout">
            <a:avLst>
              <a:gd name="adj1" fmla="val -6495"/>
              <a:gd name="adj2" fmla="val 7277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 infrastructure to protect the access to the Banking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wo key function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 Certificate Author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 plug-in for agent secur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15240" y="6118200"/>
            <a:ext cx="5965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Reference scenario of a demonstration held at the end of the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Arial Black"/>
              </a:rPr>
              <a:t>Event Organizer -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Arial Black"/>
              </a:rPr>
              <a:t>Agent-Based Web-Application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EO enables small business in the entertainment are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ook all needed venues and servi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ll the ticke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b interfac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ist a set of needed servi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x desired constraints on each individual service and among different servi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gent-based applic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lobal goal is split into sub-goals, assigned to skilled solver agen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olver agents return a list of services that fulfill local constrain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 organizer finds a solution that fulfills cross constrain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Arial Black"/>
              </a:rPr>
              <a:t>Event Organizer -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Arial Black"/>
              </a:rPr>
              <a:t>Matchmaking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Event Organizer uses the marketplace infrastructure (Trade House) to search for suitable venu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rvice discovery is a two step proces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mponents required by the application are discovered using the global directory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ngle services are discovered and negotiated on a marketplace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f found, a proper solution is proposed to the user as a list of services that allow the arrangement of the even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constraint validation process is distributed betwe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rade House, which checks the constraints regarding individual servi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vent Organizer, which instead checks the constraints that link the features of different servi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Arial Black"/>
              </a:rPr>
              <a:t>Event Organizer -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Arial Black"/>
              </a:rPr>
              <a:t>Negotiation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selected services are negotiated on the Trade House with their provid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negotiation process involves the servant agents (buyer and sellers) hosted on the TH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f successful, the negotiation ends suggesting a point of balance between the contrasting interest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take into account multiple attributes of the traded goo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list of contracts is proposed to the user for final acceptanc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nally some tickets can be sold on an Auction Hous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Event Organizer -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Final Demonstration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he demonstration included: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Nearly </a:t>
            </a:r>
            <a:r>
              <a:rPr b="0" lang="en-GB" sz="2000" spc="-1" strike="noStrike" u="sng">
                <a:solidFill>
                  <a:srgbClr val="3333cc"/>
                </a:solidFill>
                <a:uFillTx/>
                <a:latin typeface="Arial"/>
              </a:rPr>
              <a:t>200 agents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deployed on servers hosted at 14 different geographical locations (FIPA HTTP MTP protocol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Arial"/>
              </a:rPr>
              <a:t>25 different services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, configured with real and realistic data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Each service was implemented independently by partners and run on their own nod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Interoperation between services should have been achieved through the FIPA ACL, FIPA-SL and DAML+OIL ontologi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… </a:t>
            </a: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but a lack on integration and of tools often forced developers to hard code the agreed interaction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he demonstration scenario was successful demonstrated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…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but the overall system clearly remained brittle and sensitive to certain types of chang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Despite this fragility the demonstration represents a significant mileston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Conclusion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PA agents proved to be a feasible solution to achieve the dynamic composition of basic servi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proposed scenario can be easily adapted to different domain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Event Organizer and the Trade House are domain and ontology agnostic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ustom JSP forms are needed to define constraints about new produc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SME Access can be upgraded adding more agent templat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w ad-hoc service providers can interact directly with the Trade Hous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Conclusion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This kind of large test bed environment                                                                           is essential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o </a:t>
            </a:r>
            <a:r>
              <a:rPr b="0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progress theory into practice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o improve the understanding of the issues connected to large scale open system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Activities in the test bed are ongoing with a range of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Arial"/>
              </a:rPr>
              <a:t>new projects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using the infrastructure to extend current featur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ntegration with emergent technologie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Outline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Overview of the network infrastructure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bstract Mod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FIPA2000 reific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valuation and testing activiti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Dynamic service composition in Agentciti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rovided servi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vent organizer - demonstration held at the end of the projec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Concluding discussion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Arial Black"/>
              </a:rPr>
              <a:t>Agentcities.RTD Project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438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estbed </a:t>
            </a: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for a Worldwide Agent Network: Research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and Developme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96360" y="1052640"/>
          <a:ext cx="1358640" cy="108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1052640"/>
                    <a:ext cx="135864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826920" y="3852720"/>
            <a:ext cx="748836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orola, Adetti, Agentscap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EGIS, BT Exact, Broadcom Eirean, Communication Technologies, DFKI, EPFL, Fujitsu, Imperial College, Queen Mary College, Telecom Italia Lab, UPC, University of Pa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pan: 2 years from July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79280" y="1125360"/>
            <a:ext cx="1800360" cy="590760"/>
          </a:xfrm>
          <a:prstGeom prst="rect">
            <a:avLst/>
          </a:prstGeom>
          <a:ln w="0">
            <a:noFill/>
          </a:ln>
        </p:spPr>
      </p:pic>
      <p:pic>
        <p:nvPicPr>
          <p:cNvPr id="106" name="acities_logo22" descr=""/>
          <p:cNvPicPr/>
          <p:nvPr/>
        </p:nvPicPr>
        <p:blipFill>
          <a:blip r:embed="rId4"/>
          <a:stretch/>
        </p:blipFill>
        <p:spPr>
          <a:xfrm>
            <a:off x="2843280" y="1197000"/>
            <a:ext cx="35290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Objectives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onstruct a worldwide, open network of platforms hosting agent-based servi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Explore the deployment of agent technologies in an open environm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Realiz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 benchmark environment to validate and test compliance to relevant technology standards and provide input to the standards themselv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Enable the dynamic, intelligent and autonomous composition of services to achieve user and business goal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Complex agent-based applications are currently deployed on the network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wo prototype application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he scope </a:t>
            </a:r>
            <a:r>
              <a:rPr b="0" lang="en-GB" sz="1800" spc="-1" strike="noStrike" u="sng">
                <a:solidFill>
                  <a:srgbClr val="3333cc"/>
                </a:solidFill>
                <a:uFillTx/>
                <a:latin typeface="Arial"/>
              </a:rPr>
              <a:t>was not to advocate any particular technology or approach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but was simply demonstrative of the network potentiality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Arial Black"/>
              </a:rPr>
              <a:t>The Network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771560"/>
            <a:ext cx="6805440" cy="3962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080" y="1341360"/>
            <a:ext cx="32749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ackbone of 14 agent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ployed as a 24/7 test 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osting  services and  prototype applications developed during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60 connected - 80 active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eterogeneou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Zeus, FIPA-OS, Comtec, Agentworks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/3 are JADE, LEAP and BlueJ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Network Architecture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084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ree layer Mod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bstraction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ific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ploymen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bstract Model - defining the main elements found in the network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tors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mains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stantiated as Directories with domain Polici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197000"/>
            <a:ext cx="42480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i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ructured around domains and polici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bitrary organizationa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bstract model + re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ind in multiple technologies (WS/FIPA/GR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20" y="1054080"/>
            <a:ext cx="9036000" cy="4896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01240" y="5995080"/>
            <a:ext cx="63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The Restaurants Directory is supported by the Members Director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FIPA2000 Reification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40360" y="1844640"/>
            <a:ext cx="4968720" cy="2816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4771440"/>
            <a:ext cx="388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Generic architecture for Agentcities network directory services (platforms, agents and services)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32144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apping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ctors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cast as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FIPA agent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gent directories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as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FIPA AMS service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rvice directories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as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FIPA DF service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twork services - central nod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gent Platform Directory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gent Directory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ervice Directory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hese services are based on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atabase of active platform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A polling agent which uses the data source of registered entities and regularly polls the instances found 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Interface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Font typeface="Times New Roman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FIPA standard interfaces, for agents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Font typeface="Times New Roman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Web interfaces, for humans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Arial Black"/>
              </a:rPr>
              <a:t>Evaluation and Testing Activities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1197000"/>
            <a:ext cx="453384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Arial"/>
              </a:rPr>
              <a:t>Network survey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oal,  register periodically and in a passive way data related to the network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Functional Test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oal, verify the functionality of the central unit and of the single connected platforms (e.g. connectivity matrix, burst test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003640" y="1276200"/>
          <a:ext cx="3845160" cy="23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276200"/>
                    <a:ext cx="384516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0920" y="3571920"/>
            <a:ext cx="4752720" cy="252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06520" y="6103800"/>
            <a:ext cx="17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ervice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9640" y="4365720"/>
            <a:ext cx="367344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ervice test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goal, verify the functionality and potentiality of the services available on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0560" y="3429000"/>
            <a:ext cx="1928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Network Heterogeneity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345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Drawbacks</a:t>
            </a:r>
            <a:endParaRPr b="1" lang="en-US" sz="3200" spc="-1" strike="noStrike">
              <a:solidFill>
                <a:srgbClr val="3333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The deployed network services, based on this first reification, proved to be usefu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Despite this, a number of issues need to be addressed :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entralization, robustness and scalabilit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Services independenc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Services registr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Services can only be registered locally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Registering a platform in the system requires a human to access a web sit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09:20:45Z</dcterms:created>
  <dc:creator>Paola Turci</dc:creator>
  <dc:description/>
  <dc:language>en-US</dc:language>
  <cp:lastModifiedBy>Paola</cp:lastModifiedBy>
  <dcterms:modified xsi:type="dcterms:W3CDTF">2004-04-26T08:07:30Z</dcterms:modified>
  <cp:revision>336</cp:revision>
  <dc:subject/>
  <dc:title>Diapositiva 1</dc:title>
</cp:coreProperties>
</file>