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DAB-A5AA-4F44-8C7F-76F4FF46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508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52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ABA-4534-4F88-9CB9-9091CCCB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08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852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979-3847-46FE-93FE-193DA3CD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08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066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1066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52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852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3852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6C0-1993-442B-A2B1-CC610390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08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D60-6CE5-4B27-91C5-E9037EAB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08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9C9-B8E2-42C1-A251-AF414BEB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08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ACB-7D72-4904-AD1C-2E0A3DED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08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994-3890-4926-AC83-56CB5409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686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CC0-DEB4-47D3-931C-6E7691DF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08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B72-FAE6-4C04-9906-9F7C6788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08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852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395-077F-49CD-B03D-439D5373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08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52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E81-3A3C-47E4-9333-1347E21E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17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6200" indent="-28548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5600" indent="-228600">
              <a:spcBef>
                <a:spcPts val="17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-228600">
              <a:spcBef>
                <a:spcPts val="17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114640" indent="-228600">
              <a:spcBef>
                <a:spcPts val="17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114640" indent="-228600">
              <a:spcBef>
                <a:spcPts val="17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77120"/>
            <a:ext cx="2971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477120"/>
            <a:ext cx="4267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680" y="6476760"/>
            <a:ext cx="1067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CA81-4143-4442-AEE9-C4F10C5DBC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77216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Mirko Virol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Alessandro Ricci, Andrea Omic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IS – Ces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versità degli Studi di Bolog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{mviroli | aricci | aomicini}@deis.unibo.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144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A Semantics for the Interaction of Agents with Coordination Artifac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logo%20cesena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ACL Semantics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entalis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IPA ACL, KQML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Ps and REs to each interaction (expressed as B and 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Weak support to protocols, no observ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scarded as inadequate by FIPA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tocol-based seman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message associated to its possible rep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cial Commit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n interaction is interpreted as a social commi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t can be subject of on-line ver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ased on an abstract observation architecture [AT2AI200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ased on expectations [Rovatsos et.al @ AAMAS2003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8FB-ECE4-4A13-8DBA-D733B8F2B5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A Semantics for Artifac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We view it as a t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econciling subjective/objective view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ubjective: dealing with rational ag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bjective: coordination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derstand how a rational agent uses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arry on complex interactions ration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upport for intercepting wrong behavi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upport for enforcing correct behavi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ely on agent rationality, but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.reducing the rationality required to coordin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D72-197B-4B88-814D-7228947C19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Operating Instructions (OI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3104640"/>
            <a:ext cx="8610480" cy="32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he artifact associates to an agent a ro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17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ducer / consumer / manager /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17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ach characterised by given O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I are supposed to be known to the ag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17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ynamically downloaded (by inspe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17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ded in the ag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17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upported by the infrastructure (e.g. through ACC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I are like a manual for a 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17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hey tell what can/should be done, step-by-st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17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hey provide information on the meaning of doing 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1771560"/>
            <a:ext cx="9144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028840" y="1924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028840" y="2076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22287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22287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2076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924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943360" y="1733400"/>
            <a:ext cx="609480" cy="609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5086440" y="1514520"/>
            <a:ext cx="32364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95800" y="1542960"/>
            <a:ext cx="1780920" cy="362160"/>
            <a:chOff x="3295800" y="1542960"/>
            <a:chExt cx="1780920" cy="362160"/>
          </a:xfrm>
        </p:grpSpPr>
        <p:sp>
          <p:nvSpPr>
            <p:cNvPr id="128" name=""/>
            <p:cNvSpPr/>
            <p:nvPr/>
          </p:nvSpPr>
          <p:spPr>
            <a:xfrm>
              <a:off x="3295800" y="1542960"/>
              <a:ext cx="323640" cy="3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619440" y="1685880"/>
              <a:ext cx="145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76440" y="1171440"/>
            <a:ext cx="2619360" cy="1505160"/>
            <a:chOff x="676440" y="1171440"/>
            <a:chExt cx="2619360" cy="1505160"/>
          </a:xfrm>
        </p:grpSpPr>
        <p:sp>
          <p:nvSpPr>
            <p:cNvPr id="131" name=""/>
            <p:cNvSpPr/>
            <p:nvPr/>
          </p:nvSpPr>
          <p:spPr>
            <a:xfrm>
              <a:off x="676440" y="1171440"/>
              <a:ext cx="1361880" cy="150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285840"/>
                  <a:tab algn="l" pos="380880"/>
                  <a:tab algn="l" pos="4762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Dc:= !ask(</a:t>
              </a:r>
              <a:r>
                <a:rPr b="0" lang="it-IT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);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285840"/>
                  <a:tab algn="l" pos="380880"/>
                  <a:tab algn="l" pos="4762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(?rep(</a:t>
              </a:r>
              <a:r>
                <a:rPr b="0" lang="it-IT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) +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285840"/>
                  <a:tab algn="l" pos="380880"/>
                  <a:tab algn="l" pos="4762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?rep(</a:t>
              </a:r>
              <a:r>
                <a:rPr b="0" lang="it-IT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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));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285840"/>
                  <a:tab algn="l" pos="380880"/>
                  <a:tab algn="l" pos="4762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285840"/>
                  <a:tab algn="l" pos="380880"/>
                  <a:tab algn="l" pos="4762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285840"/>
                  <a:tab algn="l" pos="380880"/>
                  <a:tab algn="l" pos="4762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Ds:=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(!get;?rep(</a:t>
              </a:r>
              <a:r>
                <a:rPr b="0" lang="it-IT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);(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285840"/>
                  <a:tab algn="l" pos="380880"/>
                  <a:tab algn="l" pos="4762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(!tell(</a:t>
              </a:r>
              <a:r>
                <a:rPr b="0" lang="it-IT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);?rep+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285840"/>
                  <a:tab algn="l" pos="380880"/>
                  <a:tab algn="l" pos="4762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!tell(</a:t>
              </a:r>
              <a:r>
                <a:rPr b="0" lang="it-IT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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);?rep+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285840"/>
                  <a:tab algn="l" pos="380880"/>
                  <a:tab algn="l" pos="4762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Ds); 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285840"/>
                  <a:tab algn="l" pos="380880"/>
                  <a:tab algn="l" pos="4762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)) || Ds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2048040" y="1190160"/>
              <a:ext cx="1247760" cy="352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037960" y="1905120"/>
              <a:ext cx="1257480" cy="771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91C-9E39-4779-BCAE-141A2CC895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Details on O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I defines a procedure, an interactive behavi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btained by specify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3240" indent="-282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ction execution (!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, Perception of completions (?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63240" indent="-282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quential composition (“;”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63240" indent="-282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arallel composition (“||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63240" indent="-282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hoice (“+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63240" indent="-282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ecursive calls (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.g.: (!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;?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+(!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;?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;!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;?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With subjective information as w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porting the rational meaning of some inte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ctions: annotated with preconditions on belief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send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pletions: annotated with effects on belief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recv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A7D-A5E9-4B13-96A7-8E483C6606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Example (query-if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upporting mediated &amp; decoupled knowledge sha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641520" y="4778280"/>
            <a:ext cx="36050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714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c:=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!ask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62120"/>
                <a:tab algn="l" pos="1714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(?rep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+?rep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62120"/>
                <a:tab algn="l" pos="1714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632480" y="4788000"/>
            <a:ext cx="36558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57160"/>
                <a:tab algn="l" pos="1047600"/>
                <a:tab algn="l" pos="1809720"/>
                <a:tab algn="l" pos="247644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s:=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(!get;?rep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;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57160"/>
                <a:tab algn="l" pos="1047600"/>
                <a:tab algn="l" pos="1809720"/>
                <a:tab algn="l" pos="247644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!tell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;?rep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57160"/>
                <a:tab algn="l" pos="1047600"/>
                <a:tab algn="l" pos="1809720"/>
                <a:tab algn="l" pos="247644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!tell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;?rep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57160"/>
                <a:tab algn="l" pos="1047600"/>
                <a:tab algn="l" pos="1809720"/>
                <a:tab algn="l" pos="247644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s);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57160"/>
                <a:tab algn="l" pos="1047600"/>
                <a:tab algn="l" pos="1809720"/>
                <a:tab algn="l" pos="247644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) || 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50600" y="3813120"/>
            <a:ext cx="5542200" cy="748440"/>
            <a:chOff x="1650600" y="3813120"/>
            <a:chExt cx="5542200" cy="748440"/>
          </a:xfrm>
        </p:grpSpPr>
        <p:sp>
          <p:nvSpPr>
            <p:cNvPr id="141" name=""/>
            <p:cNvSpPr/>
            <p:nvPr/>
          </p:nvSpPr>
          <p:spPr>
            <a:xfrm>
              <a:off x="1650600" y="3832200"/>
              <a:ext cx="62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</a:t>
              </a:r>
              <a:r>
                <a:rPr b="0" lang="it-IT" sz="2400" spc="-1" strike="noStrike" baseline="-25000">
                  <a:solidFill>
                    <a:srgbClr val="ff0000"/>
                  </a:solidFill>
                  <a:latin typeface="Verdana"/>
                </a:rPr>
                <a:t>Bif</a:t>
              </a:r>
              <a:r>
                <a:rPr b="0" lang="it-IT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55000" y="3813120"/>
              <a:ext cx="43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 baseline="-25000">
                  <a:solidFill>
                    <a:srgbClr val="ff0000"/>
                  </a:solidFill>
                  <a:latin typeface="Verdana"/>
                </a:rPr>
                <a:t>B</a:t>
              </a:r>
              <a:r>
                <a:rPr b="0" lang="it-IT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r>
                <a:rPr b="0" lang="it-IT" sz="2400" spc="-1" strike="noStrike" baseline="-25000">
                  <a:solidFill>
                    <a:srgbClr val="ff0000"/>
                  </a:solidFill>
                  <a:latin typeface="Verdana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1040" y="4051440"/>
              <a:ext cx="4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 baseline="-25000">
                  <a:solidFill>
                    <a:srgbClr val="ff0000"/>
                  </a:solidFill>
                  <a:latin typeface="Verdana"/>
                </a:rPr>
                <a:t>B</a:t>
              </a:r>
              <a:r>
                <a:rPr b="0" lang="it-IT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09680" y="3209760"/>
            <a:ext cx="7808760" cy="1193040"/>
            <a:chOff x="409680" y="3209760"/>
            <a:chExt cx="7808760" cy="1193040"/>
          </a:xfrm>
        </p:grpSpPr>
        <p:sp>
          <p:nvSpPr>
            <p:cNvPr id="145" name=""/>
            <p:cNvSpPr/>
            <p:nvPr/>
          </p:nvSpPr>
          <p:spPr>
            <a:xfrm>
              <a:off x="4238640" y="3438360"/>
              <a:ext cx="1209600" cy="857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19400" y="3867120"/>
              <a:ext cx="20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48240" y="4133880"/>
              <a:ext cx="20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560" y="3616200"/>
              <a:ext cx="336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ask(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r>
                <a:rPr b="0" lang="it-IT" sz="2400" spc="-1" strike="noStrike" baseline="-25000">
                  <a:solidFill>
                    <a:srgbClr val="ff0000"/>
                  </a:solidFill>
                  <a:latin typeface="Verdana"/>
                </a:rPr>
                <a:t>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&gt;  rep(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’)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2360" y="3378240"/>
              <a:ext cx="23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get  &gt;  rep(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48240" y="3648240"/>
              <a:ext cx="20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32360" y="3892680"/>
              <a:ext cx="23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tell(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r>
                <a:rPr b="0" lang="it-IT" sz="2400" spc="-1" strike="noStrike" baseline="-25000">
                  <a:solidFill>
                    <a:srgbClr val="ff0000"/>
                  </a:solidFill>
                  <a:latin typeface="Verdana"/>
                </a:rPr>
                <a:t>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&gt;  rep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9680" y="3209760"/>
              <a:ext cx="990360" cy="409680"/>
            </a:xfrm>
            <a:prstGeom prst="wedgeRectCallout">
              <a:avLst>
                <a:gd name="adj1" fmla="val 25962"/>
                <a:gd name="adj2" fmla="val 7287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Verdana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14640" y="3219480"/>
              <a:ext cx="1542960" cy="409680"/>
            </a:xfrm>
            <a:prstGeom prst="wedgeRectCallout">
              <a:avLst>
                <a:gd name="adj1" fmla="val -1236"/>
                <a:gd name="adj2" fmla="val 7287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Verdana"/>
                </a:rPr>
                <a:t>percep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819600" y="1838160"/>
            <a:ext cx="9144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666960" y="1990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666960" y="214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666960" y="2295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734000" y="22953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734000" y="214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734000" y="1990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2305080" y="1752480"/>
            <a:ext cx="457200" cy="447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1924200"/>
            <a:ext cx="457200" cy="447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2533680" y="2162160"/>
            <a:ext cx="457200" cy="447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734080" y="1638360"/>
            <a:ext cx="457200" cy="447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5886360" y="1790640"/>
            <a:ext cx="457200" cy="447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039000" y="1943280"/>
            <a:ext cx="457200" cy="447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5905440" y="2095560"/>
            <a:ext cx="457200" cy="447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6086520" y="1600200"/>
            <a:ext cx="457200" cy="447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1181160" y="198756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6769800" y="195912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000240" y="2009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09960" y="223848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105160" y="198108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5095800" y="221940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C3A-E8B6-4D11-9943-224F61E795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Seman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Following the operating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n agent playing a given role w.r.t. an artif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hould be intending to follow the operating instructions, step-by-ste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xploiting mental anno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n actions: agent should believe pre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n perceptions: agent can believe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seful to decide among multiple cho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seful to bridge the interaction/mental state g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viding a formal model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ollowing operating instru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xploiting mental anno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9A5-85EB-4C38-A621-909106255E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Formal framewor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gredie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cess algebra for O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scribe formal synt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scribe formal operational seman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 extract allowed sequences of interactions out from O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n operational semantics for ag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scribe an abstract architecture for ag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ecise relationship between interactions and agent mental states (B,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makes use of the OI algeb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B6A-B15B-41DD-94BC-0AA3B256D0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719800" y="133668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What’s the shape of an O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2744640" y="2374920"/>
            <a:ext cx="49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When can two OIs be consider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yntactically equivalen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2757600" y="4280040"/>
            <a:ext cx="421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ow an OI evolves as ag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teractions occu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The OI algeb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610000" y="1360440"/>
          <a:ext cx="60958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0000" y="1360440"/>
                    <a:ext cx="60958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600280" y="2360520"/>
          <a:ext cx="609588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00280" y="2360520"/>
                    <a:ext cx="60958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616120" y="4251240"/>
          <a:ext cx="5551560" cy="176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6120" y="4251240"/>
                    <a:ext cx="5551560" cy="17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73240" y="1308240"/>
            <a:ext cx="13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65240" y="2432160"/>
            <a:ext cx="224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tructural  congr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65240" y="4260960"/>
            <a:ext cx="22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pera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5F4-D00E-4DC8-ADA8-C9FEE965A3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The agent op. seman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38120" y="1347840"/>
          <a:ext cx="588636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347840"/>
                    <a:ext cx="58863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625-2CB5-445A-A7AA-908B3E7003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Agent abstract architectur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1504800" y="1647720"/>
            <a:ext cx="3314880" cy="325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2333520" y="187632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600200" y="2266920"/>
            <a:ext cx="733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533600" y="2666880"/>
            <a:ext cx="7999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523880" y="3057120"/>
            <a:ext cx="81936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638360" y="3485880"/>
            <a:ext cx="6951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819440" y="3933360"/>
            <a:ext cx="51408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095560" y="4352760"/>
            <a:ext cx="23796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2343240" y="3629160"/>
            <a:ext cx="242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2306160" y="17557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2312640" y="360360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2786760" y="412272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 done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810160" y="1960560"/>
            <a:ext cx="133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 done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2578320" y="2351160"/>
            <a:ext cx="160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 comp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3180240" y="273996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 instr(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2734560" y="31129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4581360" y="971640"/>
            <a:ext cx="2095560" cy="790560"/>
          </a:xfrm>
          <a:prstGeom prst="wedgeRectCallout">
            <a:avLst>
              <a:gd name="adj1" fmla="val -70532"/>
              <a:gd name="adj2" fmla="val 9457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ction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has been execu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4943520" y="1981080"/>
            <a:ext cx="3390840" cy="800280"/>
          </a:xfrm>
          <a:prstGeom prst="wedgeRectCallout">
            <a:avLst>
              <a:gd name="adj1" fmla="val -71115"/>
              <a:gd name="adj2" fmla="val 166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pletion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to action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has been percei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5400720" y="2924280"/>
            <a:ext cx="3200400" cy="799920"/>
          </a:xfrm>
          <a:prstGeom prst="wedgeRectCallout">
            <a:avLst>
              <a:gd name="adj1" fmla="val -78916"/>
              <a:gd name="adj2" fmla="val -4404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 is the state of the OI currently play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5114880" y="3867120"/>
            <a:ext cx="2543400" cy="800280"/>
          </a:xfrm>
          <a:prstGeom prst="wedgeRectCallout">
            <a:avLst>
              <a:gd name="adj1" fmla="val -120472"/>
              <a:gd name="adj2" fmla="val -11309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he agent believes formula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4943520"/>
            <a:ext cx="2714760" cy="799920"/>
          </a:xfrm>
          <a:prstGeom prst="wedgeRectCallout">
            <a:avLst>
              <a:gd name="adj1" fmla="val -67601"/>
              <a:gd name="adj2" fmla="val -11309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he agent intends to execute action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824120" y="4705200"/>
            <a:ext cx="661680" cy="923760"/>
            <a:chOff x="1824120" y="4705200"/>
            <a:chExt cx="661680" cy="923760"/>
          </a:xfrm>
        </p:grpSpPr>
        <p:sp>
          <p:nvSpPr>
            <p:cNvPr id="218" name=""/>
            <p:cNvSpPr/>
            <p:nvPr/>
          </p:nvSpPr>
          <p:spPr>
            <a:xfrm flipH="1">
              <a:off x="1981080" y="4705200"/>
              <a:ext cx="504720" cy="9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24120" y="482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041640" y="4828680"/>
            <a:ext cx="776160" cy="942840"/>
            <a:chOff x="3041640" y="4828680"/>
            <a:chExt cx="776160" cy="942840"/>
          </a:xfrm>
        </p:grpSpPr>
        <p:sp>
          <p:nvSpPr>
            <p:cNvPr id="221" name=""/>
            <p:cNvSpPr/>
            <p:nvPr/>
          </p:nvSpPr>
          <p:spPr>
            <a:xfrm flipV="1">
              <a:off x="3047760" y="4828680"/>
              <a:ext cx="37800" cy="9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1640" y="5025960"/>
              <a:ext cx="7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81080" y="5791320"/>
            <a:ext cx="1990800" cy="552240"/>
          </a:xfrm>
          <a:prstGeom prst="wedgeRectCallout">
            <a:avLst>
              <a:gd name="adj1" fmla="val 38435"/>
              <a:gd name="adj2" fmla="val -14683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xecut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2381400" y="5943600"/>
            <a:ext cx="2143080" cy="552600"/>
          </a:xfrm>
          <a:prstGeom prst="wedgeRectCallout">
            <a:avLst>
              <a:gd name="adj1" fmla="val 148"/>
              <a:gd name="adj2" fmla="val -14338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ceiv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76320" y="5952960"/>
            <a:ext cx="897228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perational rules are just rewrite rules for an agent sta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FAB-58E5-4A64-8E27-1754C13757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irect vs indirect interaction in 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oordination artifa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emantics of inte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 semantics for the interaction with coordination artifa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dea: instructions-based seman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lgebraic/Intentional form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ationally exploiting artifacts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urrent and future develop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BDB-070E-4F95-B3FC-F11577B190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The agent op. seman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38120" y="1347840"/>
          <a:ext cx="588636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347840"/>
                    <a:ext cx="58863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620040" y="1352520"/>
            <a:ext cx="2400120" cy="905040"/>
          </a:xfrm>
          <a:prstGeom prst="wedgeRectCallout">
            <a:avLst>
              <a:gd name="adj1" fmla="val -67527"/>
              <a:gd name="adj2" fmla="val 52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ception of comple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6610320" y="2448000"/>
            <a:ext cx="2400480" cy="904680"/>
          </a:xfrm>
          <a:prstGeom prst="wedgeRectCallout">
            <a:avLst>
              <a:gd name="adj1" fmla="val -63953"/>
              <a:gd name="adj2" fmla="val 52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cessing of comple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6610320" y="3552840"/>
            <a:ext cx="2400480" cy="905040"/>
          </a:xfrm>
          <a:prstGeom prst="wedgeRectCallout">
            <a:avLst>
              <a:gd name="adj1" fmla="val -63953"/>
              <a:gd name="adj2" fmla="val 52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iring of inten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6620040" y="4857840"/>
            <a:ext cx="2400120" cy="866520"/>
          </a:xfrm>
          <a:prstGeom prst="wedgeRectCallout">
            <a:avLst>
              <a:gd name="adj1" fmla="val -63953"/>
              <a:gd name="adj2" fmla="val -1923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xecution of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62F-0F47-4FEA-999E-E6A438AD92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Executing action [A-ACT]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733320" y="1733400"/>
            <a:ext cx="3314880" cy="325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1562040" y="1962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28720" y="2352600"/>
            <a:ext cx="733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62120" y="2752560"/>
            <a:ext cx="7999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752400" y="3142800"/>
            <a:ext cx="81936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866880" y="3571560"/>
            <a:ext cx="6951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047600" y="4019040"/>
            <a:ext cx="51444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324080" y="4438440"/>
            <a:ext cx="23796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1571760" y="3714840"/>
            <a:ext cx="242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1534680" y="1841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541160" y="3689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1808640" y="238752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 instr(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1676880" y="41180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1667160" y="31273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162400" y="3605040"/>
          <a:ext cx="1047960" cy="3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2400" y="3605040"/>
                    <a:ext cx="1047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2162880" y="1882800"/>
            <a:ext cx="70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2205720" y="397980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 done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148040" y="2324160"/>
            <a:ext cx="3566880" cy="3390840"/>
            <a:chOff x="1148040" y="2324160"/>
            <a:chExt cx="3566880" cy="3390840"/>
          </a:xfrm>
        </p:grpSpPr>
        <p:sp>
          <p:nvSpPr>
            <p:cNvPr id="253" name=""/>
            <p:cNvSpPr/>
            <p:nvPr/>
          </p:nvSpPr>
          <p:spPr>
            <a:xfrm flipV="1">
              <a:off x="2533680" y="3990600"/>
              <a:ext cx="438120" cy="476280"/>
            </a:xfrm>
            <a:prstGeom prst="line">
              <a:avLst/>
            </a:prstGeom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143080" y="2352240"/>
              <a:ext cx="438120" cy="476280"/>
            </a:xfrm>
            <a:prstGeom prst="line">
              <a:avLst/>
            </a:prstGeom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1148040" y="2324160"/>
              <a:ext cx="3566880" cy="3390840"/>
              <a:chOff x="1148040" y="2324160"/>
              <a:chExt cx="3566880" cy="339084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1148040" y="4791240"/>
                <a:ext cx="661680" cy="923760"/>
                <a:chOff x="1148040" y="4791240"/>
                <a:chExt cx="661680" cy="923760"/>
              </a:xfrm>
            </p:grpSpPr>
            <p:sp>
              <p:nvSpPr>
                <p:cNvPr id="257" name=""/>
                <p:cNvSpPr/>
                <p:nvPr/>
              </p:nvSpPr>
              <p:spPr>
                <a:xfrm flipH="1">
                  <a:off x="1305000" y="4791240"/>
                  <a:ext cx="504720" cy="923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arrow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148040" y="49118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1839600" y="2324160"/>
                <a:ext cx="2875320" cy="2171520"/>
                <a:chOff x="1839600" y="2324160"/>
                <a:chExt cx="2875320" cy="217152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1839600" y="2324160"/>
                  <a:ext cx="1725840" cy="2171520"/>
                  <a:chOff x="1839600" y="2324160"/>
                  <a:chExt cx="1725840" cy="21715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1839600" y="2778120"/>
                    <a:ext cx="12369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B instr(I’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229120" y="3084480"/>
                    <a:ext cx="1336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B done(</a:t>
                    </a: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523960" y="3962520"/>
                    <a:ext cx="476280" cy="533160"/>
                  </a:xfrm>
                  <a:prstGeom prst="line">
                    <a:avLst/>
                  </a:prstGeom>
                  <a:ln w="1908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133720" y="2324160"/>
                    <a:ext cx="476280" cy="533520"/>
                  </a:xfrm>
                  <a:prstGeom prst="line">
                    <a:avLst/>
                  </a:prstGeom>
                  <a:ln w="1908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 flipH="1">
                  <a:off x="3228480" y="2362320"/>
                  <a:ext cx="1133640" cy="56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3629160" y="2562120"/>
                  <a:ext cx="1085760" cy="62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aphicFrame>
        <p:nvGraphicFramePr>
          <p:cNvPr id="267" name=""/>
          <p:cNvGraphicFramePr/>
          <p:nvPr/>
        </p:nvGraphicFramePr>
        <p:xfrm>
          <a:off x="4157640" y="1271520"/>
          <a:ext cx="4695840" cy="11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7640" y="1271520"/>
                    <a:ext cx="469584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2752560" y="1704600"/>
            <a:ext cx="3000600" cy="2343600"/>
            <a:chOff x="2752560" y="1704600"/>
            <a:chExt cx="3000600" cy="2343600"/>
          </a:xfrm>
        </p:grpSpPr>
        <p:sp>
          <p:nvSpPr>
            <p:cNvPr id="270" name=""/>
            <p:cNvSpPr/>
            <p:nvPr/>
          </p:nvSpPr>
          <p:spPr>
            <a:xfrm flipV="1">
              <a:off x="2752560" y="1704600"/>
              <a:ext cx="123840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048120" y="2048040"/>
              <a:ext cx="981000" cy="4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638680" y="2476080"/>
              <a:ext cx="114480" cy="10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10080" y="2600280"/>
              <a:ext cx="17622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290-7C7F-4F73-AD0A-CE38182AF3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The agent op. seman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38120" y="1347840"/>
          <a:ext cx="588636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347840"/>
                    <a:ext cx="58863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2E8-D336-46E9-A4A5-791373A9BE3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Sample dynamics.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3629160" y="2000160"/>
            <a:ext cx="1209600" cy="857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409920" y="2428920"/>
            <a:ext cx="20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4838760" y="2695680"/>
            <a:ext cx="20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838760" y="2209680"/>
            <a:ext cx="201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809640" y="1724040"/>
            <a:ext cx="1247760" cy="1285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733400"/>
            <a:ext cx="1247760" cy="1285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922320" y="195408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 Bif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7060680" y="200196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469800" y="3787920"/>
            <a:ext cx="3538800" cy="170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714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c:=!ask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Verdana"/>
              </a:rPr>
              <a:t>Bif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62120"/>
                <a:tab algn="l" pos="1714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?rep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Verdana"/>
              </a:rPr>
              <a:t>B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62120"/>
                <a:tab algn="l" pos="1714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?rep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Verdana"/>
              </a:rPr>
              <a:t>B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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62120"/>
                <a:tab algn="l" pos="1714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4603680" y="3787920"/>
            <a:ext cx="4113360" cy="202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57160"/>
                <a:tab algn="l" pos="1047600"/>
                <a:tab algn="l" pos="1809720"/>
                <a:tab algn="l" pos="247644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s:=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!get;?rep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;(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57160"/>
                <a:tab algn="l" pos="1047600"/>
                <a:tab algn="l" pos="1809720"/>
                <a:tab algn="l" pos="247644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!tell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Verdana"/>
              </a:rPr>
              <a:t>B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;?rep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57160"/>
                <a:tab algn="l" pos="1047600"/>
                <a:tab algn="l" pos="1809720"/>
                <a:tab algn="l" pos="247644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!tell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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Verdana"/>
              </a:rPr>
              <a:t>B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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;?rep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57160"/>
                <a:tab algn="l" pos="1047600"/>
                <a:tab algn="l" pos="1809720"/>
                <a:tab algn="l" pos="247644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s);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57160"/>
                <a:tab algn="l" pos="1047600"/>
                <a:tab algn="l" pos="1809720"/>
                <a:tab algn="l" pos="247644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) || 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52800" y="1758960"/>
            <a:ext cx="1123920" cy="460440"/>
            <a:chOff x="2152800" y="1758960"/>
            <a:chExt cx="1123920" cy="460440"/>
          </a:xfrm>
        </p:grpSpPr>
        <p:sp>
          <p:nvSpPr>
            <p:cNvPr id="289" name=""/>
            <p:cNvSpPr/>
            <p:nvPr/>
          </p:nvSpPr>
          <p:spPr>
            <a:xfrm>
              <a:off x="2152800" y="2219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06080" y="175896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ask(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99880" y="13017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8040960" y="133992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352840" y="1488960"/>
            <a:ext cx="1323720" cy="459720"/>
            <a:chOff x="5352840" y="1488960"/>
            <a:chExt cx="1323720" cy="459720"/>
          </a:xfrm>
        </p:grpSpPr>
        <p:sp>
          <p:nvSpPr>
            <p:cNvPr id="294" name=""/>
            <p:cNvSpPr/>
            <p:nvPr/>
          </p:nvSpPr>
          <p:spPr>
            <a:xfrm flipH="1">
              <a:off x="5352840" y="1924200"/>
              <a:ext cx="132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02400" y="1488960"/>
              <a:ext cx="65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ge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381640" y="1940040"/>
            <a:ext cx="1276200" cy="459720"/>
            <a:chOff x="5381640" y="1940040"/>
            <a:chExt cx="1276200" cy="459720"/>
          </a:xfrm>
        </p:grpSpPr>
        <p:sp>
          <p:nvSpPr>
            <p:cNvPr id="297" name=""/>
            <p:cNvSpPr/>
            <p:nvPr/>
          </p:nvSpPr>
          <p:spPr>
            <a:xfrm>
              <a:off x="5381640" y="2009880"/>
              <a:ext cx="12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74240" y="1940040"/>
              <a:ext cx="10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rep(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38880" y="2435400"/>
            <a:ext cx="1310040" cy="459720"/>
            <a:chOff x="5438880" y="2435400"/>
            <a:chExt cx="1310040" cy="459720"/>
          </a:xfrm>
        </p:grpSpPr>
        <p:sp>
          <p:nvSpPr>
            <p:cNvPr id="300" name=""/>
            <p:cNvSpPr/>
            <p:nvPr/>
          </p:nvSpPr>
          <p:spPr>
            <a:xfrm flipH="1">
              <a:off x="5438880" y="2857680"/>
              <a:ext cx="125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62360" y="243540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tell(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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467320" y="2879640"/>
            <a:ext cx="1247760" cy="459720"/>
            <a:chOff x="5467320" y="2879640"/>
            <a:chExt cx="1247760" cy="459720"/>
          </a:xfrm>
        </p:grpSpPr>
        <p:sp>
          <p:nvSpPr>
            <p:cNvPr id="303" name=""/>
            <p:cNvSpPr/>
            <p:nvPr/>
          </p:nvSpPr>
          <p:spPr>
            <a:xfrm>
              <a:off x="5467320" y="2962080"/>
              <a:ext cx="12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80080" y="2879640"/>
              <a:ext cx="6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rep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135520" y="2577960"/>
            <a:ext cx="1232280" cy="459720"/>
            <a:chOff x="2135520" y="2577960"/>
            <a:chExt cx="1232280" cy="459720"/>
          </a:xfrm>
        </p:grpSpPr>
        <p:sp>
          <p:nvSpPr>
            <p:cNvPr id="306" name=""/>
            <p:cNvSpPr/>
            <p:nvPr/>
          </p:nvSpPr>
          <p:spPr>
            <a:xfrm flipH="1">
              <a:off x="2180880" y="2619360"/>
              <a:ext cx="10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35520" y="2577960"/>
              <a:ext cx="12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rep(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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991800" y="1886040"/>
            <a:ext cx="730800" cy="952920"/>
            <a:chOff x="991800" y="1886040"/>
            <a:chExt cx="730800" cy="952920"/>
          </a:xfrm>
        </p:grpSpPr>
        <p:sp>
          <p:nvSpPr>
            <p:cNvPr id="309" name=""/>
            <p:cNvSpPr/>
            <p:nvPr/>
          </p:nvSpPr>
          <p:spPr>
            <a:xfrm>
              <a:off x="991800" y="2440080"/>
              <a:ext cx="73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Verdana"/>
                </a:rPr>
                <a:t>B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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143000" y="1886040"/>
              <a:ext cx="485640" cy="552240"/>
              <a:chOff x="1143000" y="1886040"/>
              <a:chExt cx="485640" cy="552240"/>
            </a:xfrm>
          </p:grpSpPr>
          <p:sp>
            <p:nvSpPr>
              <p:cNvPr id="311" name=""/>
              <p:cNvSpPr/>
              <p:nvPr/>
            </p:nvSpPr>
            <p:spPr>
              <a:xfrm>
                <a:off x="1152360" y="1886040"/>
                <a:ext cx="466920" cy="50472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1143000" y="1895400"/>
                <a:ext cx="485640" cy="54288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4AF-F785-4C6B-A380-C086AACB0BF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Relation to ACLs seman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rom mentalistic semantics (FIPA ACL.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we borrow a similar use of FPs and 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ut they have a smaller role, thanks to the O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rom protocol-based seman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he sequence of actions are described by the O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ss algebras provide great flex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cial commitments asp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he coordination artifact can reify and track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n action is a commitment to follow the rest of the O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till, our semantics does not compete with ACLs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t is NOT a semantics for direct inter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ut we believe it can suggest an interesting on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342-7316-4429-9413-DFD1F7D8CF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Developmen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perating Instructions with timing asp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imeout are violations, and can be track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gent violations, artifacts vio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[Viroli&amp;Ricci@AAMAS 2004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sidering complex interaction patt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.g. the Contract-Net 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tegration with the Agent Coordination Context n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o support local enforcing of operating instructions and local insp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epening the idea of indirect interaction with arti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ehaviour Implicit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ollow-Me” @ AAMAS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8B5-7598-4823-B6CD-BCC3BD98B1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62120" y="477216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irko Viroli, Alessandro Ricci, Andrea Omic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IS – Ces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versità degli Studi di Bolog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{mviroli | aricci | aomicini}@deis.unibo.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9144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A Semantics for the Interaction of Agents with Coordination Artifac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logo%20cesena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AT2AI Classification.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What are we utilising/building up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ordination infrastructures, ACL seman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Where our contribution is loc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heoretical found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elationship middlewares/agent rati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Who is our target pop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esearchers on cognitive aspects of ag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esearchers on MAS infrastru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esearchers on environments for 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14A-38DD-441C-9428-6753920C88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Direct Interac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teraction through peer-to-peer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widely-explored foundation: speech acts, AC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t is often taken as a dog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t is the only interaction schema in FIP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ollows from “everything-is-an-agent” view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motes the idea of “interacting is speaking”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600200"/>
            <a:ext cx="60948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2209680"/>
            <a:ext cx="609480" cy="609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1219320"/>
            <a:ext cx="60984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438280" y="15998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3362400" y="17812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276720" y="18288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438280" y="20574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935-9AE1-4068-96BA-8661DD6576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ndirect Interac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n emergent sc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tigmergy, Environment-based Inter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Verdana"/>
              </a:rPr>
              <a:t>Coordination infra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till requiring a formal found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ordination without communication” [ICMAS’95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Modelling agents and their environment” [AOSE200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ehaviour Implicit Communication (by C.Castelfranch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metimes, “interacting is not speaking”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600200"/>
            <a:ext cx="60948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438280"/>
            <a:ext cx="609480" cy="609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1752480"/>
            <a:ext cx="609480" cy="609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3228840" y="1181160"/>
            <a:ext cx="2514600" cy="1771560"/>
          </a:xfrm>
          <a:custGeom>
            <a:avLst/>
            <a:gdLst/>
            <a:ahLst/>
            <a:rect l="l" t="t" r="r" b="b"/>
            <a:pathLst>
              <a:path w="1584" h="1116">
                <a:moveTo>
                  <a:pt x="1392" y="0"/>
                </a:moveTo>
                <a:cubicBezTo>
                  <a:pt x="1188" y="2"/>
                  <a:pt x="984" y="0"/>
                  <a:pt x="780" y="6"/>
                </a:cubicBezTo>
                <a:cubicBezTo>
                  <a:pt x="771" y="6"/>
                  <a:pt x="764" y="15"/>
                  <a:pt x="756" y="18"/>
                </a:cubicBezTo>
                <a:cubicBezTo>
                  <a:pt x="709" y="34"/>
                  <a:pt x="663" y="44"/>
                  <a:pt x="618" y="66"/>
                </a:cubicBezTo>
                <a:cubicBezTo>
                  <a:pt x="588" y="81"/>
                  <a:pt x="560" y="101"/>
                  <a:pt x="528" y="114"/>
                </a:cubicBezTo>
                <a:cubicBezTo>
                  <a:pt x="420" y="157"/>
                  <a:pt x="300" y="169"/>
                  <a:pt x="192" y="210"/>
                </a:cubicBezTo>
                <a:cubicBezTo>
                  <a:pt x="157" y="223"/>
                  <a:pt x="132" y="243"/>
                  <a:pt x="96" y="252"/>
                </a:cubicBezTo>
                <a:cubicBezTo>
                  <a:pt x="44" y="283"/>
                  <a:pt x="19" y="327"/>
                  <a:pt x="0" y="384"/>
                </a:cubicBezTo>
                <a:cubicBezTo>
                  <a:pt x="2" y="406"/>
                  <a:pt x="1" y="428"/>
                  <a:pt x="6" y="450"/>
                </a:cubicBezTo>
                <a:cubicBezTo>
                  <a:pt x="14" y="488"/>
                  <a:pt x="94" y="514"/>
                  <a:pt x="126" y="522"/>
                </a:cubicBezTo>
                <a:cubicBezTo>
                  <a:pt x="159" y="544"/>
                  <a:pt x="238" y="572"/>
                  <a:pt x="276" y="582"/>
                </a:cubicBezTo>
                <a:cubicBezTo>
                  <a:pt x="342" y="626"/>
                  <a:pt x="241" y="561"/>
                  <a:pt x="318" y="600"/>
                </a:cubicBezTo>
                <a:cubicBezTo>
                  <a:pt x="401" y="641"/>
                  <a:pt x="322" y="613"/>
                  <a:pt x="372" y="630"/>
                </a:cubicBezTo>
                <a:cubicBezTo>
                  <a:pt x="429" y="673"/>
                  <a:pt x="452" y="690"/>
                  <a:pt x="492" y="750"/>
                </a:cubicBezTo>
                <a:cubicBezTo>
                  <a:pt x="502" y="789"/>
                  <a:pt x="522" y="816"/>
                  <a:pt x="528" y="858"/>
                </a:cubicBezTo>
                <a:cubicBezTo>
                  <a:pt x="534" y="900"/>
                  <a:pt x="539" y="934"/>
                  <a:pt x="558" y="972"/>
                </a:cubicBezTo>
                <a:cubicBezTo>
                  <a:pt x="577" y="1065"/>
                  <a:pt x="674" y="1100"/>
                  <a:pt x="756" y="1116"/>
                </a:cubicBezTo>
                <a:cubicBezTo>
                  <a:pt x="810" y="1114"/>
                  <a:pt x="864" y="1115"/>
                  <a:pt x="918" y="1110"/>
                </a:cubicBezTo>
                <a:cubicBezTo>
                  <a:pt x="989" y="1104"/>
                  <a:pt x="1062" y="1066"/>
                  <a:pt x="1134" y="1062"/>
                </a:cubicBezTo>
                <a:cubicBezTo>
                  <a:pt x="1280" y="1053"/>
                  <a:pt x="1202" y="1058"/>
                  <a:pt x="1368" y="1050"/>
                </a:cubicBezTo>
                <a:cubicBezTo>
                  <a:pt x="1412" y="1033"/>
                  <a:pt x="1455" y="1022"/>
                  <a:pt x="1494" y="996"/>
                </a:cubicBezTo>
                <a:cubicBezTo>
                  <a:pt x="1530" y="942"/>
                  <a:pt x="1547" y="867"/>
                  <a:pt x="1560" y="804"/>
                </a:cubicBezTo>
                <a:cubicBezTo>
                  <a:pt x="1553" y="708"/>
                  <a:pt x="1562" y="711"/>
                  <a:pt x="1494" y="654"/>
                </a:cubicBezTo>
                <a:cubicBezTo>
                  <a:pt x="1484" y="646"/>
                  <a:pt x="1470" y="630"/>
                  <a:pt x="1464" y="618"/>
                </a:cubicBezTo>
                <a:cubicBezTo>
                  <a:pt x="1459" y="606"/>
                  <a:pt x="1452" y="582"/>
                  <a:pt x="1452" y="582"/>
                </a:cubicBezTo>
                <a:cubicBezTo>
                  <a:pt x="1455" y="468"/>
                  <a:pt x="1429" y="303"/>
                  <a:pt x="1542" y="228"/>
                </a:cubicBezTo>
                <a:cubicBezTo>
                  <a:pt x="1556" y="206"/>
                  <a:pt x="1576" y="199"/>
                  <a:pt x="1584" y="174"/>
                </a:cubicBezTo>
                <a:cubicBezTo>
                  <a:pt x="1583" y="170"/>
                  <a:pt x="1580" y="125"/>
                  <a:pt x="1572" y="114"/>
                </a:cubicBezTo>
                <a:cubicBezTo>
                  <a:pt x="1540" y="66"/>
                  <a:pt x="1483" y="49"/>
                  <a:pt x="1434" y="24"/>
                </a:cubicBezTo>
                <a:cubicBezTo>
                  <a:pt x="1418" y="16"/>
                  <a:pt x="1405" y="13"/>
                  <a:pt x="1392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438280" y="175248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29000" y="23623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410080" y="167652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4203360" y="154620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n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D81-735D-4825-B237-872B846D8C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Coordination Servi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S infrastructures providing coordination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hrough coordination abstrac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hannels, blackboards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xploited through interactions, perceived objective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xample: TuCSoN (@DEIS, Bologn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ord. abstractions: tuple cent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dependent of the agent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Verdana"/>
              </a:rPr>
              <a:t>how are them perceived by rational agen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1600200"/>
            <a:ext cx="60948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2438280"/>
            <a:ext cx="609480" cy="609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1752480"/>
            <a:ext cx="609480" cy="609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3000240" y="1181160"/>
            <a:ext cx="2514600" cy="1771560"/>
          </a:xfrm>
          <a:custGeom>
            <a:avLst/>
            <a:gdLst/>
            <a:ahLst/>
            <a:rect l="l" t="t" r="r" b="b"/>
            <a:pathLst>
              <a:path w="1584" h="1116">
                <a:moveTo>
                  <a:pt x="1392" y="0"/>
                </a:moveTo>
                <a:cubicBezTo>
                  <a:pt x="1188" y="2"/>
                  <a:pt x="984" y="0"/>
                  <a:pt x="780" y="6"/>
                </a:cubicBezTo>
                <a:cubicBezTo>
                  <a:pt x="771" y="6"/>
                  <a:pt x="764" y="15"/>
                  <a:pt x="756" y="18"/>
                </a:cubicBezTo>
                <a:cubicBezTo>
                  <a:pt x="709" y="34"/>
                  <a:pt x="663" y="44"/>
                  <a:pt x="618" y="66"/>
                </a:cubicBezTo>
                <a:cubicBezTo>
                  <a:pt x="588" y="81"/>
                  <a:pt x="560" y="101"/>
                  <a:pt x="528" y="114"/>
                </a:cubicBezTo>
                <a:cubicBezTo>
                  <a:pt x="420" y="157"/>
                  <a:pt x="300" y="169"/>
                  <a:pt x="192" y="210"/>
                </a:cubicBezTo>
                <a:cubicBezTo>
                  <a:pt x="157" y="223"/>
                  <a:pt x="132" y="243"/>
                  <a:pt x="96" y="252"/>
                </a:cubicBezTo>
                <a:cubicBezTo>
                  <a:pt x="44" y="283"/>
                  <a:pt x="19" y="327"/>
                  <a:pt x="0" y="384"/>
                </a:cubicBezTo>
                <a:cubicBezTo>
                  <a:pt x="2" y="406"/>
                  <a:pt x="1" y="428"/>
                  <a:pt x="6" y="450"/>
                </a:cubicBezTo>
                <a:cubicBezTo>
                  <a:pt x="14" y="488"/>
                  <a:pt x="94" y="514"/>
                  <a:pt x="126" y="522"/>
                </a:cubicBezTo>
                <a:cubicBezTo>
                  <a:pt x="159" y="544"/>
                  <a:pt x="238" y="572"/>
                  <a:pt x="276" y="582"/>
                </a:cubicBezTo>
                <a:cubicBezTo>
                  <a:pt x="342" y="626"/>
                  <a:pt x="241" y="561"/>
                  <a:pt x="318" y="600"/>
                </a:cubicBezTo>
                <a:cubicBezTo>
                  <a:pt x="401" y="641"/>
                  <a:pt x="322" y="613"/>
                  <a:pt x="372" y="630"/>
                </a:cubicBezTo>
                <a:cubicBezTo>
                  <a:pt x="429" y="673"/>
                  <a:pt x="452" y="690"/>
                  <a:pt x="492" y="750"/>
                </a:cubicBezTo>
                <a:cubicBezTo>
                  <a:pt x="502" y="789"/>
                  <a:pt x="522" y="816"/>
                  <a:pt x="528" y="858"/>
                </a:cubicBezTo>
                <a:cubicBezTo>
                  <a:pt x="534" y="900"/>
                  <a:pt x="539" y="934"/>
                  <a:pt x="558" y="972"/>
                </a:cubicBezTo>
                <a:cubicBezTo>
                  <a:pt x="577" y="1065"/>
                  <a:pt x="674" y="1100"/>
                  <a:pt x="756" y="1116"/>
                </a:cubicBezTo>
                <a:cubicBezTo>
                  <a:pt x="810" y="1114"/>
                  <a:pt x="864" y="1115"/>
                  <a:pt x="918" y="1110"/>
                </a:cubicBezTo>
                <a:cubicBezTo>
                  <a:pt x="989" y="1104"/>
                  <a:pt x="1062" y="1066"/>
                  <a:pt x="1134" y="1062"/>
                </a:cubicBezTo>
                <a:cubicBezTo>
                  <a:pt x="1280" y="1053"/>
                  <a:pt x="1202" y="1058"/>
                  <a:pt x="1368" y="1050"/>
                </a:cubicBezTo>
                <a:cubicBezTo>
                  <a:pt x="1412" y="1033"/>
                  <a:pt x="1455" y="1022"/>
                  <a:pt x="1494" y="996"/>
                </a:cubicBezTo>
                <a:cubicBezTo>
                  <a:pt x="1530" y="942"/>
                  <a:pt x="1547" y="867"/>
                  <a:pt x="1560" y="804"/>
                </a:cubicBezTo>
                <a:cubicBezTo>
                  <a:pt x="1553" y="708"/>
                  <a:pt x="1562" y="711"/>
                  <a:pt x="1494" y="654"/>
                </a:cubicBezTo>
                <a:cubicBezTo>
                  <a:pt x="1484" y="646"/>
                  <a:pt x="1470" y="630"/>
                  <a:pt x="1464" y="618"/>
                </a:cubicBezTo>
                <a:cubicBezTo>
                  <a:pt x="1459" y="606"/>
                  <a:pt x="1452" y="582"/>
                  <a:pt x="1452" y="582"/>
                </a:cubicBezTo>
                <a:cubicBezTo>
                  <a:pt x="1455" y="468"/>
                  <a:pt x="1429" y="303"/>
                  <a:pt x="1542" y="228"/>
                </a:cubicBezTo>
                <a:cubicBezTo>
                  <a:pt x="1556" y="206"/>
                  <a:pt x="1576" y="199"/>
                  <a:pt x="1584" y="174"/>
                </a:cubicBezTo>
                <a:cubicBezTo>
                  <a:pt x="1583" y="170"/>
                  <a:pt x="1580" y="125"/>
                  <a:pt x="1572" y="114"/>
                </a:cubicBezTo>
                <a:cubicBezTo>
                  <a:pt x="1540" y="66"/>
                  <a:pt x="1483" y="49"/>
                  <a:pt x="1434" y="24"/>
                </a:cubicBezTo>
                <a:cubicBezTo>
                  <a:pt x="1418" y="16"/>
                  <a:pt x="1405" y="13"/>
                  <a:pt x="1392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2286000"/>
            <a:ext cx="4572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1600200"/>
            <a:ext cx="4572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6761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886200" y="175212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00400" y="24379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105160" y="15235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800600" y="21337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09680" y="1771560"/>
            <a:ext cx="1238400" cy="20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5114880" y="1638360"/>
            <a:ext cx="1057320" cy="266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5C8-BA29-44A1-B0A8-36E30F01C3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Coordination Artifac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 notion of coordination abstraction for 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spired by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mediating artifact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of Activity The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rtifacts used by humans to coordinate one an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(semaphores, maps, blackboards, signs,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[Ricci&amp;Omicini&amp;Denti@ESAW2003, @ Ricci’s PhD Thesi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[“Follow-Me”@AAMAS2004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vised for engineering purpo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eatur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age inte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perating instru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spectability of behavio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aptability of behavio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n artifact is NOT an agen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t does not “achieve goals in autonomy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995-CA91-4B9F-AF8F-ACA1FE7B81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nteracting with Artifac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he artifact supports operations (o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o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.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he agent executes an action over the artif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not a communicative one, more similar to a phisical 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pecifying the operation (and passing some paramet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he agent perceives the 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completion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of th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fter the action is executed, it will eventually comple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he agent perceives it, which may carry som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552840" y="1571760"/>
            <a:ext cx="60948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1609560"/>
            <a:ext cx="9144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160" y="176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105160" y="1914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105160" y="20667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20667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914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176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7058160" y="1523880"/>
            <a:ext cx="609480" cy="609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400440" y="1914480"/>
            <a:ext cx="695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620040" y="2009880"/>
            <a:ext cx="380880" cy="85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00480" y="1378080"/>
            <a:ext cx="828720" cy="459720"/>
            <a:chOff x="4200480" y="1378080"/>
            <a:chExt cx="828720" cy="459720"/>
          </a:xfrm>
        </p:grpSpPr>
        <p:sp>
          <p:nvSpPr>
            <p:cNvPr id="99" name=""/>
            <p:cNvSpPr/>
            <p:nvPr/>
          </p:nvSpPr>
          <p:spPr>
            <a:xfrm flipV="1">
              <a:off x="4200480" y="1761840"/>
              <a:ext cx="82872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95960" y="1378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305240" y="1787400"/>
            <a:ext cx="504720" cy="459720"/>
            <a:chOff x="4305240" y="1787400"/>
            <a:chExt cx="504720" cy="459720"/>
          </a:xfrm>
        </p:grpSpPr>
        <p:sp>
          <p:nvSpPr>
            <p:cNvPr id="102" name=""/>
            <p:cNvSpPr/>
            <p:nvPr/>
          </p:nvSpPr>
          <p:spPr>
            <a:xfrm flipH="1">
              <a:off x="4305240" y="1866600"/>
              <a:ext cx="504720" cy="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85520" y="1787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41800" y="1276200"/>
            <a:ext cx="14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one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25600" y="1752480"/>
            <a:ext cx="158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one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44680" y="2228760"/>
            <a:ext cx="19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p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3451320" y="2406600"/>
            <a:ext cx="25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=in(templa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060960" y="24066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=rec(tup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5553360" y="167940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E79-5071-4C24-93F7-79EDAA4BDF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Semantics of Interac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ts study is a subfield into MAS reser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Give an ontological and formal meaning to agent inte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ow to interpret an agent interac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which intention when sending a messa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ow to interpret a received messa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uld intercept wrong/malicious behaviou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What are they useful fo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vide a standardisation to agent behavi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240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 support interoperability, opennes, emerg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rko Viro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1FA-F850-4625-93C1-0DA30F192F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T2AI 2004, Vienna, 14-16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08:11:36Z</dcterms:created>
  <dc:creator> Mirko Viroli</dc:creator>
  <dc:description/>
  <dc:language>en-US</dc:language>
  <cp:lastModifiedBy> Mirko Viroli</cp:lastModifiedBy>
  <dcterms:modified xsi:type="dcterms:W3CDTF">2004-04-14T13:59:13Z</dcterms:modified>
  <cp:revision>453</cp:revision>
  <dc:subject/>
  <dc:title>2 – La programmazione “valutativa”</dc:title>
</cp:coreProperties>
</file>