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A8F9-DED2-491E-A25D-23911FD3D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106668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37335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BB26-D0CF-4D74-9C01-1AB4F2486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0666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10666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3733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3733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AE80-9A5C-4354-9855-58BF453C4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06668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106668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106668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37335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37335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37335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07A5-4018-45B5-A19A-307A2261B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01F8F-33D7-4903-A0F4-9DC223239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21932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3FA96-7472-42E5-BE78-393B0687D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0374B-B336-49BB-BB80-F8D9E89A9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06668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202000" y="106668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9D551-B25E-412F-997E-63A339E59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AEBC1-A46F-4398-8D24-637CAAD7E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43000" y="1519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50947-B826-4A6B-8EBA-84997B66A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0666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202000" y="106668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19320" y="3733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36950-4064-43D0-8EBC-FCCE3508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9BC2-F657-4C64-B1DA-4A14D3B89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06668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202000" y="10666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202000" y="3733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D53DF-9235-4B4F-A403-F9AA8033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0666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02000" y="10666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219320" y="37335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7E2E7-D264-4247-9F99-98EA746D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06668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219320" y="37335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03BE7-A2B9-4122-9CA9-DD237E013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0666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02000" y="10666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219320" y="3733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202000" y="3733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E7B7D-9194-4480-BB30-3798DD5E7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06668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47320" y="106668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74960" y="106668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219320" y="37335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47320" y="37335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74960" y="37335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B95F5-0E0F-41B3-BDA0-7AAAD2A70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A8F9-578A-4E39-96BF-39267B398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106668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106668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5996-6DDD-47FF-A58A-ABA1A60C8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078A-4E19-471E-B0EE-B6A28B17E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43000" y="1519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670B-F71E-4451-8110-75A27276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10666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106668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3733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C2EF-1A7B-47BD-A021-11C47D93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106668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10666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3733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270C-25FA-48BF-91DF-E03F995F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10666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10666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37335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3647-BDF8-4A89-B05F-69D19481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21932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3240" y="6265800"/>
            <a:ext cx="2255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2971800" y="624852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Democracy in Open Agent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05DF9-9E5C-40AE-ABB0-989E58F4160E}" type="slidenum"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E5C3A-83E2-45D3-AE99-B7B71D4EB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p.j.mcburney@csc.liv.ac.uk" TargetMode="External"/><Relationship Id="rId2" Type="http://schemas.openxmlformats.org/officeDocument/2006/relationships/hyperlink" Target="mailto:parsons@sci.brooklyn.cuny.edu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1426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Comic Sans MS"/>
              </a:rPr>
              <a:t>Engineering Democracy </a:t>
            </a:r>
            <a:br>
              <a:rPr sz="3200"/>
            </a:br>
            <a:r>
              <a:rPr b="0" i="1" lang="en-US" sz="3200" spc="-1" strike="noStrike">
                <a:solidFill>
                  <a:srgbClr val="003366"/>
                </a:solidFill>
                <a:latin typeface="Comic Sans MS"/>
              </a:rPr>
              <a:t>in Open Agent Systems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3352680"/>
            <a:ext cx="69343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ter McBurne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niversity of Liverpool, Liverpool, UK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 u="sng">
                <a:solidFill>
                  <a:srgbClr val="99ccff"/>
                </a:solidFill>
                <a:uFillTx/>
                <a:latin typeface="Comic Sans MS"/>
                <a:hlinkClick r:id="rId1"/>
              </a:rPr>
              <a:t>p.j.mcburney@csc.liv.ac.uk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imon Parson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rooklyn College, City University of New York, NYC, US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 u="sng">
                <a:solidFill>
                  <a:srgbClr val="99ccff"/>
                </a:solidFill>
                <a:uFillTx/>
                <a:latin typeface="Comic Sans MS"/>
                <a:hlinkClick r:id="rId2"/>
              </a:rPr>
              <a:t>parsons@sci.brooklyn.cuny.edu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Engineering Societies for the Agents World (ESAW 2003)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mperial College, Lond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0 October 200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Comic Sans MS"/>
              </a:rPr>
              <a:t>Conflict Resolution Mechanisms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1932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How to resolve differences of belief or intentions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Methods may differ according to model of democracy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ise Elite model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ll decisions taken by the Elite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Elite may use methods below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ational Choice model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 debate among participants assumed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Quantitative judgment aggregation (eg Voting mechanisms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Social Choice Theory (Economics/Political Science)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iberative model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Participants engage in debate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Qualitative judgment aggregation (eg argument flattening)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rgumentation Theory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D261-8B39-483B-8CAD-60154CFCFD3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Comic Sans MS"/>
              </a:rPr>
              <a:t>Semantic Verifiability of ACLs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1932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emantic Verifiability is a key challenge in ACL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f the semantics of an ACL refer to private mental states of the participating agents, how do we verify compliance with the semantics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 sufficiently clever agent can always simulate insincerely any desired mental stat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One solution:  Social semantic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sk agents to declare publicly their beliefs, intentions &amp; preferenc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llow other agents to check for consistency between these declarations and subsequent utterances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Still possible for a clever, insincere agent to manipulate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430C-9514-471A-8649-AC6E29165CB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Comic Sans MS"/>
              </a:rPr>
              <a:t>Contestability Semantics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1932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iberative Democracy model leads to another solution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Ensure that all statements of beliefs, intentions &amp; preferences are allowed to be contested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Other agents may question or challenge these statement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ccording to defined rules of interaction &amp; dialectical obligation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n insincere agent requires interlocking arguments to manipulate.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Knowing this should inhibit such insincerity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Similar to economists’ notion of contestable markets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DE7D-19DB-4A51-AE55-0C28BF58118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Comic Sans MS"/>
              </a:rPr>
              <a:t>Conclusions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1932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e have looked to political philosophy for guidance on the design of democratic open agent societie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he “method” of this work has involved looking at work in another discipline and asking what can be borrowed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AS design may lead to new models of democracy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We have not explored this idea yet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e have also not yet considered many important questions, eg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Scalabili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he emergence of subsidiary dialogues, communities of interest, special interest groups, etc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Social and power relationships between agents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e have also proposed a new form of ACL semantics, Contestability Semantic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o deal with semantic verifiability problem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5B3F-3E04-4517-9E14-44D0E073D40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Comic Sans MS"/>
              </a:rPr>
              <a:t>Democracy in Open Agent Systems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932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Open systems of autonomous agents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May permit agents to enter and leave at wil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May allow entry &amp; exit with possibly with few pre-condition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eed to allow for decision-making autonomy of individual agents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se conditions suggest some form of democrac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 agent can force another agent to adopt a certain belief or act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 agent can force another agent to join or stay in the system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is paper considers the main abstract models of democracy in political philosophy, and their implications for the design of agent system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Of course, agent systems designers may develop models of democracy not yet known to political philosophy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77AA-C26F-47E9-9801-FA3D743C0C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Comic Sans MS"/>
              </a:rPr>
              <a:t>Theories of Democracy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932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 first philosophy of democracy was due to Rousseau (1762):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wo entities:  Society and The Stat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Problem:  How should Society Program the State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ousseau assumed something called “The General Will”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his was Society’s instructions for programming the State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Unfortunately, not a constructive theory!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ree modern theories of democracy in political philosophy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emocracy as rule by a wise elite (1942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emocracy as rational choice by voters (1957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emocracy as deliberative joint decision-making (1980)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DEE1-FFF5-45FD-8A3B-57FF912179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Comic Sans MS"/>
              </a:rPr>
              <a:t>Wise Elite Mod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1932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roposed by Joseph Schumpeter (1942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Elected officials viewed as a wise, technocratic elite, making decisions in the best interests of the general public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 public was viewed as incapable of making such decisions themselve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 wise elite program the State, on behalf of Society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Citizens are passive, except at elections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1D88-3576-43BC-8EA7-610EA026C47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Comic Sans MS"/>
              </a:rPr>
              <a:t>Rational choice or Liberal Mod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1932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roposed by economist Anthony Downs (1957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olitical parties and candidates for elective office are like sellers in a marketplace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hey present alternative bundles of State-instructions, or Ideologies (which are philosophies of bundle-formation)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Voters are like buyers in this marketplace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s with any major purchase decision, voters first assess personal costs and benefits and choose that bundle expected to maximize their utility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owns drew on Arrow’s notions of </a:t>
            </a:r>
            <a:r>
              <a:rPr b="0" i="1" lang="en-GB" sz="1800" spc="-1" strike="noStrike">
                <a:solidFill>
                  <a:srgbClr val="000000"/>
                </a:solidFill>
                <a:latin typeface="Comic Sans MS"/>
              </a:rPr>
              <a:t>economic rationality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as the maximization of expected utility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Voter preferences and utilities were assumed given at the outset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itizens are viewed as consumers of political information, but not its producers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Considerably more trusting of ordinary voters than the Wise Elite model, but not completely so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2DBC-E474-4165-9C1B-647074D199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Comic Sans MS"/>
              </a:rPr>
              <a:t>Deliberative Mod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1932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roposed by Bessette, Habermas, and other (1980 –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n this model, citizens are viewed as both producers and consumers of political informatio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Citizens seek to influence the choices of others, and this is only possible if they themselves are also amenable to persuasion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n many public policy decisions, one person’s utility depends on the choices of other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For example:  choice of transport modes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Hence, utilities and preferences are not given at the outset, but are formed in the very process of decision-making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n deliberative models of democracy, rationality is not simply the selection of the option with the maximum expected utility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Rationality also involves the giving and receiving of reasons for beliefs and proposed actions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789C-DBBC-44E7-BD90-5E02F4C9EF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Comic Sans MS"/>
              </a:rPr>
              <a:t>Design Implications for MAS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1932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hat model of democracy is appropriate for open agent systems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 answer will depend upon the system objectives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n systems with differentiated agent roles and a hierarchy of decision-making authority, the Wise Elite model may be appropriate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eg: auctioneers in public auctions; administration agents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However, in most systems, agents may not readily cede their autonomy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n general, agents cannot be ORDERED to adopt certain beliefs or intentions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hey can only be PERSUADED to do so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is has implications for design of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gent Communications Language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nteraction Protocol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Conflict Resolution Mechanisms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829D-4FFA-46DF-9DA2-83A378C75A7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Comic Sans MS"/>
              </a:rPr>
              <a:t>ACLs and Interaction Protocols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1932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gents in an MAS will use some Agent Communications Language (ACL) and some Interaction Protocol (s) to communicat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he requirements placed on the ACL and IPs will differ according to the model of democracy adopted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ise Elite model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 need for participants to express opinions (beliefs, intentions, preferences) or arguments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ational Choice model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eed for participants to express opinions, but not arguments for these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FD8F-DFE8-44EA-AB74-495108D372A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Comic Sans MS"/>
              </a:rPr>
              <a:t>ACL/IPs:  Deliberative Mod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1932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eed for participants to express both opinions and arguments for thes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CL needs to allow expression of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Opinions:  Beliefs, Intentions, Preferences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rguments for/against opinion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bility to retract prior utterances (</a:t>
            </a:r>
            <a:r>
              <a:rPr b="0" i="1" lang="en-GB" sz="1600" spc="-1" strike="noStrike">
                <a:solidFill>
                  <a:srgbClr val="000000"/>
                </a:solidFill>
                <a:latin typeface="Comic Sans MS"/>
              </a:rPr>
              <a:t>“Self-transformation”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Good IP design requires rules for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Questions and challeng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Responses to questions &amp; challenge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When permitted, When required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ialectical obligation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Who has the </a:t>
            </a:r>
            <a:r>
              <a:rPr b="0" i="1" lang="en-GB" sz="1600" spc="-1" strike="noStrike">
                <a:solidFill>
                  <a:srgbClr val="000000"/>
                </a:solidFill>
                <a:latin typeface="Comic Sans MS"/>
              </a:rPr>
              <a:t>“burden of proof”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932F-715B-4270-B469-0989F6BE57F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7T11:44:49Z</dcterms:created>
  <dc:creator>Peter McBurney</dc:creator>
  <dc:description/>
  <dc:language>en-US</dc:language>
  <cp:lastModifiedBy>Peter McBurney</cp:lastModifiedBy>
  <cp:lastPrinted>2002-01-07T11:45:18Z</cp:lastPrinted>
  <dcterms:modified xsi:type="dcterms:W3CDTF">2003-10-29T09:55:26Z</dcterms:modified>
  <cp:revision>1169</cp:revision>
  <dc:subject/>
  <dc:title>No Slide Title</dc:title>
</cp:coreProperties>
</file>