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401-E905-4837-BF81-50D4B7F1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0D7-A1D4-45E4-8D01-124FDE2D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3B1D-8ECF-4487-9FE7-0E058B40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6B24-B5E7-49C3-A541-164F2729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E63F-3924-4FA9-9C0E-4F003BDC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6523-CAC8-49F2-96AA-366BCA77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8A5-42D2-4DF4-9E88-5E5D8486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5C01-8BA0-4119-82E0-45EA9FF8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96F2-4E73-4767-B094-6889BFB8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30F2-5D2D-4F9D-AAB8-DEF433CB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D8E-F08D-41D7-A110-0D0A1894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D547-9512-4050-AA3F-D3430E1D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0766-D2A2-4484-BE6E-9ABA6C4D683D}" type="slidenum">
              <a:rPr b="0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Tahoma"/>
              </a:rPr>
              <a:t>Cooperat</a:t>
            </a:r>
            <a:r>
              <a:rPr b="0" lang="pl-PL" sz="4400" spc="-1" strike="noStrike">
                <a:solidFill>
                  <a:srgbClr val="000000"/>
                </a:solidFill>
                <a:latin typeface="Tahoma"/>
              </a:rPr>
              <a:t>ion,</a:t>
            </a:r>
            <a:r>
              <a:rPr b="0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4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sz="4400" spc="-1" strike="noStrike">
                <a:solidFill>
                  <a:srgbClr val="000000"/>
                </a:solidFill>
                <a:latin typeface="Tahoma"/>
              </a:rPr>
              <a:t>Compet</a:t>
            </a:r>
            <a:r>
              <a:rPr b="0" lang="pl-PL" sz="4400" spc="-1" strike="noStrike">
                <a:solidFill>
                  <a:srgbClr val="000000"/>
                </a:solidFill>
                <a:latin typeface="Tahoma"/>
              </a:rPr>
              <a:t>ition, and</a:t>
            </a:r>
            <a:r>
              <a:rPr b="0" sz="4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400"/>
            </a:br>
            <a:r>
              <a:rPr b="0" sz="4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pl-PL" sz="4400" spc="-1" strike="noStrike">
                <a:solidFill>
                  <a:srgbClr val="000000"/>
                </a:solidFill>
                <a:latin typeface="Tahoma"/>
              </a:rPr>
              <a:t>uthorization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106200" y="3200400"/>
            <a:ext cx="66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toni Mazurkiewicz (ICS PAS, Wars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7D03-A1AE-4E46-85AA-358184EC9C2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808000"/>
                </a:solidFill>
                <a:latin typeface="Tahoma"/>
              </a:rPr>
              <a:t>Initial valu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169164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2362320"/>
            <a:ext cx="2819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8120" y="2362320"/>
            <a:ext cx="3047760" cy="3047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33480" y="2776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29120" y="3081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89320" y="388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04880" y="4681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05080" y="437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3809880"/>
            <a:ext cx="1600200" cy="12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E9AA-F110-4F8D-95DC-094A7FD30D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808000"/>
                </a:solidFill>
                <a:latin typeface="Tahoma"/>
              </a:rPr>
              <a:t>Resulting</a:t>
            </a:r>
            <a:r>
              <a:rPr b="0" sz="4400" spc="-1" strike="noStrike">
                <a:solidFill>
                  <a:srgbClr val="808000"/>
                </a:solidFill>
                <a:latin typeface="Tahoma"/>
              </a:rPr>
              <a:t> valu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169164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2362320"/>
            <a:ext cx="2819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2362320"/>
            <a:ext cx="3047760" cy="3047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33480" y="2776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29120" y="3081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89680" y="388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33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04880" y="4681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05800" y="437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3809880"/>
            <a:ext cx="1600200" cy="12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4394-7896-4014-81C0-33C9DFF1FD4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808000"/>
                </a:solidFill>
                <a:latin typeface="Tahoma"/>
              </a:rPr>
              <a:t>Independent actions:</a:t>
            </a:r>
            <a:br>
              <a:rPr sz="4400"/>
            </a:br>
            <a:r>
              <a:rPr b="0" lang="pl-PL" sz="4400" spc="-1" strike="noStrike">
                <a:solidFill>
                  <a:srgbClr val="808000"/>
                </a:solidFill>
                <a:latin typeface="Tahoma"/>
              </a:rPr>
              <a:t>initial valu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169164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2362320"/>
            <a:ext cx="2819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8120" y="2362320"/>
            <a:ext cx="3047760" cy="3047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3480" y="2776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29120" y="3081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89320" y="388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04880" y="4681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05080" y="437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295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52680" y="3886200"/>
            <a:ext cx="1371600" cy="1295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2666880"/>
            <a:ext cx="2057400" cy="914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4343400"/>
            <a:ext cx="609480" cy="533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A6F-1604-4DF3-8234-18547F2A0D2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808000"/>
                </a:solidFill>
                <a:latin typeface="Tahoma"/>
              </a:rPr>
              <a:t>Independent actions:</a:t>
            </a:r>
            <a:br>
              <a:rPr sz="4400"/>
            </a:br>
            <a:r>
              <a:rPr b="0" lang="pl-PL" sz="4400" spc="-1" strike="noStrike">
                <a:solidFill>
                  <a:srgbClr val="808000"/>
                </a:solidFill>
                <a:latin typeface="Tahoma"/>
              </a:rPr>
              <a:t>resulting valu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169164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2362320"/>
            <a:ext cx="2819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2362320"/>
            <a:ext cx="3047760" cy="3047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34200" y="2776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33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29480" y="3081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89680" y="388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ff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05600" y="4681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33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05800" y="437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0" y="1295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3886200"/>
            <a:ext cx="1371600" cy="1295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1280" y="2666880"/>
            <a:ext cx="2057400" cy="914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4343400"/>
            <a:ext cx="609480" cy="5335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4518-1A80-4D6D-A1AE-401E720A825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808000"/>
                </a:solidFill>
                <a:latin typeface="Tahoma"/>
              </a:rPr>
              <a:t>Competing actions:</a:t>
            </a:r>
            <a:br>
              <a:rPr sz="4400"/>
            </a:br>
            <a:r>
              <a:rPr b="0" sz="4400" spc="-1" strike="noStrike">
                <a:solidFill>
                  <a:srgbClr val="808000"/>
                </a:solidFill>
                <a:latin typeface="Tahoma"/>
              </a:rPr>
              <a:t>initial valu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169164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2362320"/>
            <a:ext cx="2819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2362320"/>
            <a:ext cx="3047760" cy="3047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33480" y="2776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29120" y="3081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89320" y="388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04880" y="4681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05080" y="437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76720" y="3809880"/>
            <a:ext cx="1447560" cy="1371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2971800"/>
            <a:ext cx="1218960" cy="1371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62520" y="3581280"/>
            <a:ext cx="1828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3657600"/>
            <a:ext cx="1752480" cy="1295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932-DD9B-4AC4-BCCE-EEA7959F33A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808000"/>
                </a:solidFill>
                <a:latin typeface="Tahoma"/>
              </a:rPr>
              <a:t>Competing actions:</a:t>
            </a:r>
            <a:br>
              <a:rPr sz="4400"/>
            </a:br>
            <a:r>
              <a:rPr b="0" lang="pl-PL" sz="4400" spc="-1" strike="noStrike">
                <a:solidFill>
                  <a:srgbClr val="808000"/>
                </a:solidFill>
                <a:latin typeface="Tahoma"/>
              </a:rPr>
              <a:t>resulting</a:t>
            </a:r>
            <a:r>
              <a:rPr b="0" sz="4400" spc="-1" strike="noStrike">
                <a:solidFill>
                  <a:srgbClr val="808000"/>
                </a:solidFill>
                <a:latin typeface="Tahoma"/>
              </a:rPr>
              <a:t> valu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169164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2362320"/>
            <a:ext cx="2819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2362320"/>
            <a:ext cx="3047760" cy="3047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3480" y="2776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29120" y="3081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89680" y="388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33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04880" y="4681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05800" y="437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3809880"/>
            <a:ext cx="1447560" cy="1371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2971800"/>
            <a:ext cx="1218960" cy="1371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3581280"/>
            <a:ext cx="1828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3657600"/>
            <a:ext cx="1752480" cy="12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D028-188F-4DAE-98B6-35C57AA2E2D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808000"/>
                </a:solidFill>
                <a:latin typeface="Tahoma"/>
              </a:rPr>
              <a:t>Competing actions:</a:t>
            </a:r>
            <a:br>
              <a:rPr sz="4400"/>
            </a:br>
            <a:r>
              <a:rPr b="0" lang="pl-PL" sz="4400" spc="-1" strike="noStrike">
                <a:solidFill>
                  <a:srgbClr val="808000"/>
                </a:solidFill>
                <a:latin typeface="Tahoma"/>
              </a:rPr>
              <a:t>another resulting</a:t>
            </a:r>
            <a:r>
              <a:rPr b="0" sz="4400" spc="-1" strike="noStrike">
                <a:solidFill>
                  <a:srgbClr val="808000"/>
                </a:solidFill>
                <a:latin typeface="Tahoma"/>
              </a:rPr>
              <a:t> valu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nextslide"/>
          </p:cNvPr>
          <p:cNvSpPr/>
          <p:nvPr/>
        </p:nvSpPr>
        <p:spPr>
          <a:xfrm>
            <a:off x="169164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2362320"/>
            <a:ext cx="2819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2362320"/>
            <a:ext cx="3047760" cy="3047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33480" y="2776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29480" y="3081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33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89680" y="388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04880" y="4681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05080" y="437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3809880"/>
            <a:ext cx="1447560" cy="1371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2971800"/>
            <a:ext cx="1218960" cy="1371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3581280"/>
            <a:ext cx="1828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657600"/>
            <a:ext cx="1752480" cy="1295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961-B66A-4F24-8F09-F9D231EFD87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808000"/>
                </a:solidFill>
                <a:latin typeface="Tahoma"/>
              </a:rPr>
              <a:t>System Run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2057400"/>
            <a:ext cx="647712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System 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: a finite or infinite 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of states  (s</a:t>
            </a:r>
            <a:r>
              <a:rPr b="0" sz="2400" spc="-1" strike="noStrike" baseline="-30000">
                <a:solidFill>
                  <a:srgbClr val="000000"/>
                </a:solidFill>
                <a:latin typeface="Tahoma"/>
              </a:rPr>
              <a:t>0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, ..., s</a:t>
            </a:r>
            <a:r>
              <a:rPr b="0" sz="24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)  s.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46680" y="391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3581280"/>
            <a:ext cx="50720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&gt;0: (s</a:t>
            </a:r>
            <a:r>
              <a:rPr b="0" sz="2400" spc="-1" strike="noStrike" baseline="-25000">
                <a:solidFill>
                  <a:srgbClr val="000000"/>
                </a:solidFill>
                <a:latin typeface="Tahoma"/>
              </a:rPr>
              <a:t>i-1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Any live state is not the last one (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completeness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cond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8CB5-05BB-4C85-9E5E-E409F751A30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72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Tahoma"/>
              </a:rPr>
              <a:t>System </a:t>
            </a:r>
            <a:r>
              <a:rPr b="0" sz="4400" spc="-1" strike="noStrike">
                <a:solidFill>
                  <a:srgbClr val="808000"/>
                </a:solidFill>
                <a:latin typeface="Tahoma"/>
              </a:rPr>
              <a:t>R</a:t>
            </a:r>
            <a:r>
              <a:rPr b="0" lang="en-GB" sz="4400" spc="-1" strike="noStrike">
                <a:solidFill>
                  <a:srgbClr val="808000"/>
                </a:solidFill>
                <a:latin typeface="Tahoma"/>
              </a:rPr>
              <a:t>un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2057400"/>
            <a:ext cx="7010640" cy="24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finite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and complet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un is said to 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term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erminating run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sz="2400" spc="-1" strike="noStrike" baseline="-30000">
                <a:solidFill>
                  <a:srgbClr val="000000"/>
                </a:solidFill>
                <a:latin typeface="Tahoma"/>
              </a:rPr>
              <a:t>0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, s</a:t>
            </a:r>
            <a:r>
              <a:rPr b="0" sz="2400" spc="-1" strike="noStrike" baseline="-30000">
                <a:solidFill>
                  <a:srgbClr val="000000"/>
                </a:solidFill>
                <a:latin typeface="Tahoma"/>
              </a:rPr>
              <a:t>1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,s</a:t>
            </a:r>
            <a:r>
              <a:rPr b="0" sz="2400" spc="-1" strike="noStrike" baseline="-30000">
                <a:solidFill>
                  <a:srgbClr val="000000"/>
                </a:solidFill>
                <a:latin typeface="Tahoma"/>
              </a:rPr>
              <a:t>2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, ..., s</a:t>
            </a:r>
            <a:r>
              <a:rPr b="0" sz="24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successful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, if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: V(r,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sz="2400" spc="-1" strike="noStrike" baseline="-30000">
                <a:solidFill>
                  <a:srgbClr val="000000"/>
                </a:solidFill>
                <a:latin typeface="Tahoma"/>
              </a:rPr>
              <a:t>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8381880" y="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76312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46680" y="391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8D3F-5A43-4B96-9863-A6DB3603A0D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808000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63680" y="2090880"/>
            <a:ext cx="686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65120" y="4724280"/>
            <a:ext cx="686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1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50720" y="3429000"/>
            <a:ext cx="686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0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98240" y="3467160"/>
            <a:ext cx="686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22320" y="2743200"/>
            <a:ext cx="686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3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98640" y="4114800"/>
            <a:ext cx="686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0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5" idx="2"/>
            <a:endCxn id="173" idx="0"/>
          </p:cNvCxnSpPr>
          <p:nvPr/>
        </p:nvCxnSpPr>
        <p:spPr>
          <a:xfrm>
            <a:off x="2641680" y="3927240"/>
            <a:ext cx="1767600" cy="7974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6" idx="1"/>
            <a:endCxn id="174" idx="0"/>
          </p:cNvCxnSpPr>
          <p:nvPr/>
        </p:nvCxnSpPr>
        <p:spPr>
          <a:xfrm flipH="1">
            <a:off x="4393800" y="2973240"/>
            <a:ext cx="1016640" cy="4564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7" idx="1"/>
            <a:endCxn id="174" idx="2"/>
          </p:cNvCxnSpPr>
          <p:nvPr/>
        </p:nvCxnSpPr>
        <p:spPr>
          <a:xfrm flipH="1" flipV="1">
            <a:off x="4393800" y="3888720"/>
            <a:ext cx="1092960" cy="45612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2" idx="2"/>
            <a:endCxn id="176" idx="1"/>
          </p:cNvCxnSpPr>
          <p:nvPr/>
        </p:nvCxnSpPr>
        <p:spPr>
          <a:xfrm>
            <a:off x="4406400" y="2550600"/>
            <a:ext cx="1003680" cy="423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73" idx="0"/>
            <a:endCxn id="177" idx="1"/>
          </p:cNvCxnSpPr>
          <p:nvPr/>
        </p:nvCxnSpPr>
        <p:spPr>
          <a:xfrm flipV="1">
            <a:off x="4408560" y="4344480"/>
            <a:ext cx="1078200" cy="38016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3" idx="1"/>
            <a:endCxn id="172" idx="1"/>
          </p:cNvCxnSpPr>
          <p:nvPr/>
        </p:nvCxnSpPr>
        <p:spPr>
          <a:xfrm rot="10800000">
            <a:off x="4050720" y="2320200"/>
            <a:ext cx="2160" cy="2634480"/>
          </a:xfrm>
          <a:prstGeom prst="curvedConnector5">
            <a:avLst>
              <a:gd name="adj1" fmla="val 167380000"/>
              <a:gd name="adj2" fmla="val 49993"/>
              <a:gd name="adj3" fmla="val 167380000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2" idx="3"/>
            <a:endCxn id="173" idx="3"/>
          </p:cNvCxnSpPr>
          <p:nvPr/>
        </p:nvCxnSpPr>
        <p:spPr>
          <a:xfrm>
            <a:off x="4762080" y="2320920"/>
            <a:ext cx="2520" cy="2634480"/>
          </a:xfrm>
          <a:prstGeom prst="curvedConnector5">
            <a:avLst>
              <a:gd name="adj1" fmla="val 194600000"/>
              <a:gd name="adj2" fmla="val 49993"/>
              <a:gd name="adj3" fmla="val 194600000"/>
            </a:avLst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5" idx="0"/>
            <a:endCxn id="172" idx="2"/>
          </p:cNvCxnSpPr>
          <p:nvPr/>
        </p:nvCxnSpPr>
        <p:spPr>
          <a:xfrm flipV="1">
            <a:off x="2641320" y="2550240"/>
            <a:ext cx="1765800" cy="91692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0BE2-9BB9-4469-B844-06E0D13212D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286000" y="3654720"/>
            <a:ext cx="7214040" cy="2288520"/>
            <a:chOff x="2286000" y="3654720"/>
            <a:chExt cx="7214040" cy="2288520"/>
          </a:xfrm>
        </p:grpSpPr>
        <p:sp>
          <p:nvSpPr>
            <p:cNvPr id="44" name=""/>
            <p:cNvSpPr/>
            <p:nvPr/>
          </p:nvSpPr>
          <p:spPr>
            <a:xfrm>
              <a:off x="2286000" y="3654720"/>
              <a:ext cx="721404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Garamond"/>
                </a:rPr>
                <a:t>For whosoever hath, to him shall be given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Garamond"/>
                </a:rPr>
                <a:t>and he shall have more abundance;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Garamond"/>
                </a:rPr>
                <a:t>but whosoever hath no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Garamond"/>
                </a:rPr>
                <a:t>from him shall be taken away even that he hath</a:t>
              </a:r>
              <a:r>
                <a:rPr b="0" sz="2400" spc="-1" strike="noStrike">
                  <a:solidFill>
                    <a:srgbClr val="000000"/>
                  </a:solidFill>
                  <a:latin typeface="Lucida Handwriting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945120" y="5317200"/>
              <a:ext cx="164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400" spc="-1" strike="noStrike">
                  <a:solidFill>
                    <a:srgbClr val="000000"/>
                  </a:solidFill>
                  <a:latin typeface="Times New Roman"/>
                </a:rPr>
                <a:t>[Mat 13:12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362-18EE-48AC-8F90-BACD3F5D1D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Sample Run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28560" y="2014560"/>
            <a:ext cx="4299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(1,2), (2,1),(1,2),…,(2,1),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nfinite r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(2,1),(3,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(0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),(1,2),(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,3)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(0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(successful ru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1D58-011C-4B26-81D2-B33ECEB83E3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808000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63680" y="2090880"/>
            <a:ext cx="686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65120" y="4724280"/>
            <a:ext cx="686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1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50720" y="3429000"/>
            <a:ext cx="686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0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98240" y="3467160"/>
            <a:ext cx="686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22320" y="2743200"/>
            <a:ext cx="686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3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98640" y="4114800"/>
            <a:ext cx="686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0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2" idx="2"/>
            <a:endCxn id="190" idx="0"/>
          </p:cNvCxnSpPr>
          <p:nvPr/>
        </p:nvCxnSpPr>
        <p:spPr>
          <a:xfrm>
            <a:off x="2641680" y="3927240"/>
            <a:ext cx="1767600" cy="7974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3" idx="1"/>
            <a:endCxn id="191" idx="0"/>
          </p:cNvCxnSpPr>
          <p:nvPr/>
        </p:nvCxnSpPr>
        <p:spPr>
          <a:xfrm flipH="1">
            <a:off x="4393800" y="2973240"/>
            <a:ext cx="1016640" cy="4564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4" idx="1"/>
            <a:endCxn id="191" idx="2"/>
          </p:cNvCxnSpPr>
          <p:nvPr/>
        </p:nvCxnSpPr>
        <p:spPr>
          <a:xfrm flipH="1" flipV="1">
            <a:off x="4393800" y="3888720"/>
            <a:ext cx="1092960" cy="45612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89" idx="2"/>
            <a:endCxn id="193" idx="1"/>
          </p:cNvCxnSpPr>
          <p:nvPr/>
        </p:nvCxnSpPr>
        <p:spPr>
          <a:xfrm>
            <a:off x="4406400" y="2550600"/>
            <a:ext cx="1003680" cy="423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0" idx="0"/>
            <a:endCxn id="194" idx="1"/>
          </p:cNvCxnSpPr>
          <p:nvPr/>
        </p:nvCxnSpPr>
        <p:spPr>
          <a:xfrm flipV="1">
            <a:off x="4408560" y="4344480"/>
            <a:ext cx="1078200" cy="38016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0" idx="1"/>
            <a:endCxn id="189" idx="1"/>
          </p:cNvCxnSpPr>
          <p:nvPr/>
        </p:nvCxnSpPr>
        <p:spPr>
          <a:xfrm rot="10800000">
            <a:off x="4050720" y="2320200"/>
            <a:ext cx="2160" cy="2634480"/>
          </a:xfrm>
          <a:prstGeom prst="curvedConnector5">
            <a:avLst>
              <a:gd name="adj1" fmla="val 167380000"/>
              <a:gd name="adj2" fmla="val 49993"/>
              <a:gd name="adj3" fmla="val 167380000"/>
            </a:avLst>
          </a:prstGeom>
          <a:ln w="5076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01" name=""/>
          <p:cNvCxnSpPr>
            <a:stCxn id="189" idx="3"/>
            <a:endCxn id="190" idx="3"/>
          </p:cNvCxnSpPr>
          <p:nvPr/>
        </p:nvCxnSpPr>
        <p:spPr>
          <a:xfrm>
            <a:off x="4762080" y="2320920"/>
            <a:ext cx="2520" cy="2634480"/>
          </a:xfrm>
          <a:prstGeom prst="curvedConnector5">
            <a:avLst>
              <a:gd name="adj1" fmla="val 194600000"/>
              <a:gd name="adj2" fmla="val 49993"/>
              <a:gd name="adj3" fmla="val 194600000"/>
            </a:avLst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92" idx="0"/>
            <a:endCxn id="189" idx="2"/>
          </p:cNvCxnSpPr>
          <p:nvPr/>
        </p:nvCxnSpPr>
        <p:spPr>
          <a:xfrm flipV="1">
            <a:off x="2641320" y="2550240"/>
            <a:ext cx="1765800" cy="91692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C44B-9B44-4085-A16B-B9E299948C6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Tahoma"/>
              </a:rPr>
              <a:t>Authorization</a:t>
            </a:r>
            <a:r>
              <a:rPr b="0" lang="pl-PL" sz="4400" spc="-1" strike="noStrike">
                <a:solidFill>
                  <a:srgbClr val="808000"/>
                </a:solidFill>
                <a:latin typeface="Tahoma"/>
              </a:rPr>
              <a:t> 1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9560" y="3047400"/>
            <a:ext cx="59108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Th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winner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f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worse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osition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than any of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losers of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previousslide"/>
          </p:cNvPr>
          <p:cNvSpPr/>
          <p:nvPr/>
        </p:nvSpPr>
        <p:spPr>
          <a:xfrm>
            <a:off x="8381880" y="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876312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16280" y="193824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tio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 autho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39800" y="2438280"/>
            <a:ext cx="46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77B1-7742-4BFE-98CE-265121595BD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Tahoma"/>
              </a:rPr>
              <a:t>Authorization</a:t>
            </a:r>
            <a:r>
              <a:rPr b="0" lang="pl-PL" sz="4400" spc="-1" strike="noStrike">
                <a:solidFill>
                  <a:srgbClr val="808000"/>
                </a:solidFill>
                <a:latin typeface="Tahoma"/>
              </a:rPr>
              <a:t> 1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8800" y="2971800"/>
            <a:ext cx="7474320" cy="1312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V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’ )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&gt;V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’’)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V(p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’ )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&lt;V(p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’’)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V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’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V(p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’)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previousslide"/>
          </p:cNvPr>
          <p:cNvSpPr/>
          <p:nvPr/>
        </p:nvSpPr>
        <p:spPr>
          <a:xfrm>
            <a:off x="8381880" y="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76312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922120" y="194004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’’)  is  autho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39800" y="243828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000" y="4681440"/>
            <a:ext cx="588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one of winners is not in worse pos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 any of loser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9D1-3A8D-47B6-A0FF-04C936A562D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808000"/>
                </a:solidFill>
                <a:latin typeface="Tahoma"/>
              </a:rPr>
              <a:t>Forbidden action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3680" y="2090880"/>
            <a:ext cx="686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065120" y="4724280"/>
            <a:ext cx="686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1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050720" y="3429000"/>
            <a:ext cx="686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0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98240" y="3467160"/>
            <a:ext cx="686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22320" y="2743200"/>
            <a:ext cx="686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3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98640" y="4114800"/>
            <a:ext cx="686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0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20" idx="2"/>
            <a:endCxn id="218" idx="0"/>
          </p:cNvCxnSpPr>
          <p:nvPr/>
        </p:nvCxnSpPr>
        <p:spPr>
          <a:xfrm>
            <a:off x="2641680" y="3927240"/>
            <a:ext cx="1767600" cy="7974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21" idx="1"/>
            <a:endCxn id="219" idx="0"/>
          </p:cNvCxnSpPr>
          <p:nvPr/>
        </p:nvCxnSpPr>
        <p:spPr>
          <a:xfrm flipH="1">
            <a:off x="4393800" y="2973240"/>
            <a:ext cx="1016640" cy="4564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2" idx="1"/>
            <a:endCxn id="219" idx="2"/>
          </p:cNvCxnSpPr>
          <p:nvPr/>
        </p:nvCxnSpPr>
        <p:spPr>
          <a:xfrm flipH="1" flipV="1">
            <a:off x="4393800" y="3888720"/>
            <a:ext cx="1092960" cy="45612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7" idx="2"/>
            <a:endCxn id="221" idx="1"/>
          </p:cNvCxnSpPr>
          <p:nvPr/>
        </p:nvCxnSpPr>
        <p:spPr>
          <a:xfrm>
            <a:off x="4406400" y="2550600"/>
            <a:ext cx="1003680" cy="423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18" idx="0"/>
            <a:endCxn id="222" idx="1"/>
          </p:cNvCxnSpPr>
          <p:nvPr/>
        </p:nvCxnSpPr>
        <p:spPr>
          <a:xfrm flipV="1">
            <a:off x="4408560" y="4344480"/>
            <a:ext cx="1078200" cy="38016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18" idx="1"/>
            <a:endCxn id="217" idx="1"/>
          </p:cNvCxnSpPr>
          <p:nvPr/>
        </p:nvCxnSpPr>
        <p:spPr>
          <a:xfrm rot="10800000">
            <a:off x="4050720" y="2320200"/>
            <a:ext cx="2160" cy="2634480"/>
          </a:xfrm>
          <a:prstGeom prst="curvedConnector5">
            <a:avLst>
              <a:gd name="adj1" fmla="val 167380000"/>
              <a:gd name="adj2" fmla="val 49993"/>
              <a:gd name="adj3" fmla="val 167380000"/>
            </a:avLst>
          </a:prstGeom>
          <a:ln w="50760">
            <a:solidFill>
              <a:srgbClr val="ff3300"/>
            </a:solidFill>
            <a:miter/>
            <a:tailEnd len="lg" type="triangle" w="med"/>
          </a:ln>
        </p:spPr>
      </p:cxnSp>
      <p:cxnSp>
        <p:nvCxnSpPr>
          <p:cNvPr id="229" name=""/>
          <p:cNvCxnSpPr>
            <a:stCxn id="217" idx="3"/>
            <a:endCxn id="218" idx="3"/>
          </p:cNvCxnSpPr>
          <p:nvPr/>
        </p:nvCxnSpPr>
        <p:spPr>
          <a:xfrm>
            <a:off x="4762080" y="2320920"/>
            <a:ext cx="2520" cy="2634480"/>
          </a:xfrm>
          <a:prstGeom prst="curvedConnector5">
            <a:avLst>
              <a:gd name="adj1" fmla="val 194600000"/>
              <a:gd name="adj2" fmla="val 49993"/>
              <a:gd name="adj3" fmla="val 194600000"/>
            </a:avLst>
          </a:prstGeom>
          <a:ln w="507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0" idx="0"/>
            <a:endCxn id="217" idx="2"/>
          </p:cNvCxnSpPr>
          <p:nvPr/>
        </p:nvCxnSpPr>
        <p:spPr>
          <a:xfrm flipV="1">
            <a:off x="2641320" y="2550240"/>
            <a:ext cx="1765800" cy="91692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7A4-0C5B-47F1-B42C-F39D0DBA2DB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808000"/>
                </a:solidFill>
                <a:latin typeface="Tahoma"/>
              </a:rPr>
              <a:t>Authorized System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63680" y="2090880"/>
            <a:ext cx="686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65120" y="4724280"/>
            <a:ext cx="686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1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50720" y="3429000"/>
            <a:ext cx="686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0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98240" y="3467160"/>
            <a:ext cx="686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22320" y="2743200"/>
            <a:ext cx="686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3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98640" y="4114800"/>
            <a:ext cx="686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0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5" idx="2"/>
            <a:endCxn id="233" idx="0"/>
          </p:cNvCxnSpPr>
          <p:nvPr/>
        </p:nvCxnSpPr>
        <p:spPr>
          <a:xfrm>
            <a:off x="2641680" y="3927240"/>
            <a:ext cx="1767600" cy="7974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6" idx="1"/>
            <a:endCxn id="234" idx="0"/>
          </p:cNvCxnSpPr>
          <p:nvPr/>
        </p:nvCxnSpPr>
        <p:spPr>
          <a:xfrm flipH="1">
            <a:off x="4393800" y="2973240"/>
            <a:ext cx="1016640" cy="4564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1"/>
            <a:endCxn id="234" idx="2"/>
          </p:cNvCxnSpPr>
          <p:nvPr/>
        </p:nvCxnSpPr>
        <p:spPr>
          <a:xfrm flipH="1" flipV="1">
            <a:off x="4393800" y="3888720"/>
            <a:ext cx="1092960" cy="45612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2"/>
            <a:endCxn id="236" idx="1"/>
          </p:cNvCxnSpPr>
          <p:nvPr/>
        </p:nvCxnSpPr>
        <p:spPr>
          <a:xfrm>
            <a:off x="4406400" y="2550600"/>
            <a:ext cx="1003680" cy="423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3" idx="0"/>
            <a:endCxn id="237" idx="1"/>
          </p:cNvCxnSpPr>
          <p:nvPr/>
        </p:nvCxnSpPr>
        <p:spPr>
          <a:xfrm flipV="1">
            <a:off x="4408560" y="4344480"/>
            <a:ext cx="1078200" cy="38016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5" idx="0"/>
            <a:endCxn id="232" idx="2"/>
          </p:cNvCxnSpPr>
          <p:nvPr/>
        </p:nvCxnSpPr>
        <p:spPr>
          <a:xfrm flipV="1">
            <a:off x="2641320" y="2550240"/>
            <a:ext cx="1765800" cy="91692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46D6-E27B-4518-A3B5-7392F0A7DE5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808000"/>
                </a:solidFill>
                <a:latin typeface="Tahoma"/>
              </a:rPr>
              <a:t>Older – younger rel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81640" y="24368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2286000"/>
            <a:ext cx="609588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’ </a:t>
            </a:r>
            <a:r>
              <a:rPr b="0" sz="2400" spc="-1" strike="noStrike">
                <a:solidFill>
                  <a:srgbClr val="000000"/>
                </a:solidFill>
                <a:latin typeface="Math Ext"/>
                <a:ea typeface="Math Ext"/>
              </a:rPr>
              <a:t>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’’ :   agent 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’ is not older than agent 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76520" y="3995640"/>
            <a:ext cx="551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lation </a:t>
            </a:r>
            <a:r>
              <a:rPr b="0" sz="2400" spc="-1" strike="noStrike">
                <a:solidFill>
                  <a:srgbClr val="000000"/>
                </a:solidFill>
                <a:latin typeface="Math Ext"/>
                <a:ea typeface="Math Ext"/>
              </a:rPr>
              <a:t>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is a total ord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the set 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of all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7AA0-9CB9-4E96-9A21-10776A5869AF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Tahoma"/>
              </a:rPr>
              <a:t>Authorization</a:t>
            </a:r>
            <a:r>
              <a:rPr b="0" lang="pl-PL" sz="4400" spc="-1" strike="noStrike">
                <a:solidFill>
                  <a:srgbClr val="808000"/>
                </a:solidFill>
                <a:latin typeface="Tahoma"/>
              </a:rPr>
              <a:t> 2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84320" y="3047400"/>
            <a:ext cx="516420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One of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winners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f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ot you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than any of its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l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16280" y="1938240"/>
            <a:ext cx="35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tio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 autho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39800" y="2438280"/>
            <a:ext cx="46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A643-087C-418A-AA3E-D8CFF871DDA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Tahoma"/>
              </a:rPr>
              <a:t>Authorization</a:t>
            </a:r>
            <a:r>
              <a:rPr b="0" lang="pl-PL" sz="4400" spc="-1" strike="noStrike">
                <a:solidFill>
                  <a:srgbClr val="808000"/>
                </a:solidFill>
                <a:latin typeface="Tahoma"/>
              </a:rPr>
              <a:t> 2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88880" y="2971800"/>
            <a:ext cx="6377040" cy="1312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V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’ )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&gt;V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’’)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V(p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’ )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&lt;V(p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’’)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: (p </a:t>
            </a:r>
            <a:r>
              <a:rPr b="0" sz="2400" spc="-1" strike="noStrike">
                <a:solidFill>
                  <a:srgbClr val="000000"/>
                </a:solidFill>
                <a:latin typeface="Math Ext"/>
                <a:ea typeface="Math Ext"/>
              </a:rPr>
              <a:t>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22120" y="194004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’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’’)  is  autho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39800" y="2438280"/>
            <a:ext cx="4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01520" y="468144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here is no older lo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CBA-F605-4244-9CB8-09DEE75C23F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808000"/>
                </a:solidFill>
                <a:latin typeface="Tahoma"/>
              </a:rPr>
              <a:t>Absence of deadlocks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8381880" y="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76312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752480" y="2743200"/>
            <a:ext cx="556272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For any system state there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an authorized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00200" y="2514600"/>
            <a:ext cx="58672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73E8-5911-4CFA-AEC9-670B5D461AB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808000"/>
                </a:solidFill>
                <a:latin typeface="Tahoma"/>
              </a:rPr>
              <a:t>The Problem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19717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04804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286000"/>
            <a:ext cx="7467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There is a number of agents intending to reach their goals; the closier an agent is to its target, the better is its situation. In any moment any agent (or their ”coalition”) is capable to improve its (their) situation; however, improving situation of some agents may worsen i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the others; the question is how to organize agent actions to guarantee each agent reaching its go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BA5-D77F-4B42-8793-306A48A61A4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219320" y="2438280"/>
            <a:ext cx="6781680" cy="144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ny run of any authoriz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uccessfully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termin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Tahoma"/>
              </a:rPr>
              <a:t>Basic Propert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8769-C55A-40C6-9AD2-B7E5BDAF5860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808000"/>
                </a:solidFill>
                <a:latin typeface="Tahoma"/>
              </a:rPr>
              <a:t>Complexit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86400" y="2090880"/>
            <a:ext cx="437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N – total number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m – maximum initial d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L - maximum 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17640" y="3429000"/>
            <a:ext cx="5508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Upper bound of number of steps needed for the completion of all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82480" y="4419720"/>
            <a:ext cx="4043880" cy="13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1" lang="pl-PL" sz="2400" spc="-1" strike="noStrike" baseline="-24000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 baseline="-24000">
                <a:solidFill>
                  <a:srgbClr val="000000"/>
                </a:solidFill>
                <a:latin typeface="Tahoma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MaxSteps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m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L + 1)</a:t>
            </a:r>
            <a:r>
              <a:rPr b="0" lang="pl-PL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 baseline="30000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sz="2400" spc="-1" strike="noStrike" baseline="20000">
                <a:solidFill>
                  <a:srgbClr val="000000"/>
                </a:solidFill>
                <a:latin typeface="Tahoma"/>
              </a:rPr>
              <a:t>k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7A03-79A5-4F81-91D8-0A595C27512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3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808000"/>
                </a:solidFill>
                <a:latin typeface="Tahoma"/>
              </a:rPr>
              <a:t>Catastroph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169164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13161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69440" y="3657600"/>
            <a:ext cx="46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Action (s’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’’) is a 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catastrophe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R: V(r,s’)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V(r,s’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66320" y="22431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(relaxation of Axiom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063B-552D-4A91-80F9-384C7E1F52E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808000"/>
                </a:solidFill>
                <a:latin typeface="Tahoma"/>
              </a:rPr>
              <a:t>Initial valu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169164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2362320"/>
            <a:ext cx="2819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8120" y="2362320"/>
            <a:ext cx="3047760" cy="3047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33480" y="2776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29120" y="3081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89320" y="388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04880" y="4681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05080" y="437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9DFC-2D5D-4DBB-8A5E-B0831065817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808000"/>
                </a:solidFill>
                <a:latin typeface="Tahoma"/>
              </a:rPr>
              <a:t>Catastroph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83" name="">
            <a:hlinkClick r:id="" action="ppaction://hlinkshowjump?jump=nextslide"/>
          </p:cNvPr>
          <p:cNvSpPr/>
          <p:nvPr/>
        </p:nvSpPr>
        <p:spPr>
          <a:xfrm>
            <a:off x="169164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00400" y="2362320"/>
            <a:ext cx="2819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8120" y="2362320"/>
            <a:ext cx="3047760" cy="3047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34200" y="2776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33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29120" y="3081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89320" y="38862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05600" y="46814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33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05800" y="4376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33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1295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876F-A929-49C9-BAF6-509F4FD1DBF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7960" y="630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808000"/>
                </a:solidFill>
                <a:latin typeface="Tahoma"/>
              </a:rPr>
              <a:t>Catastroph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169164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06960" y="13161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11120" y="2077920"/>
            <a:ext cx="6705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Finite number of catastrop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Infinite number of catastrophes occur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with frequency less than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Max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15160" y="4343400"/>
            <a:ext cx="836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does not prevent the system from successful 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0" y="41911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362F-C6C8-45CE-B7E7-E5BA642DD21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Authorized System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3880" y="2590920"/>
            <a:ext cx="6096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uthorized, if all its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autho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stem is authorized, if all its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re autho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18F0-1670-45C6-B324-D1AE6C069065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General System </a:t>
            </a:r>
            <a:r>
              <a:rPr b="0" sz="4400" spc="-1" strike="noStrike">
                <a:solidFill>
                  <a:srgbClr val="808000"/>
                </a:solidFill>
                <a:latin typeface="Tahoma"/>
              </a:rPr>
              <a:t>Properties</a:t>
            </a: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1680" y="2438280"/>
            <a:ext cx="8001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L</a:t>
            </a:r>
            <a:r>
              <a:rPr b="0" sz="2400" spc="-1" strike="noStrike" u="sng">
                <a:solidFill>
                  <a:srgbClr val="000000"/>
                </a:solidFill>
                <a:uFillTx/>
                <a:latin typeface="Tahoma"/>
              </a:rPr>
              <a:t>ocal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(changes of states concern and depend o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on  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articipants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N</a:t>
            </a:r>
            <a:r>
              <a:rPr b="0" sz="2400" spc="-1" strike="noStrike" u="sng">
                <a:solidFill>
                  <a:srgbClr val="000000"/>
                </a:solidFill>
                <a:uFillTx/>
                <a:latin typeface="Tahoma"/>
              </a:rPr>
              <a:t>on-deterministic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(no prescribed order of action execu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</a:t>
            </a:r>
            <a:r>
              <a:rPr b="0" sz="2400" spc="-1" strike="noStrike" u="sng">
                <a:solidFill>
                  <a:srgbClr val="000000"/>
                </a:solidFill>
                <a:uFillTx/>
                <a:latin typeface="Tahoma"/>
              </a:rPr>
              <a:t>oncurrent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(independent actions can be execut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ependently of each othe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previousslide"/>
          </p:cNvPr>
          <p:cNvSpPr/>
          <p:nvPr/>
        </p:nvSpPr>
        <p:spPr>
          <a:xfrm>
            <a:off x="8381880" y="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876312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17B-3A67-4B17-8052-4B0538E21852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Specific P</a:t>
            </a:r>
            <a:r>
              <a:rPr b="0" sz="4400" spc="-1" strike="noStrike">
                <a:solidFill>
                  <a:srgbClr val="808000"/>
                </a:solidFill>
                <a:latin typeface="Tahoma"/>
              </a:rPr>
              <a:t>roperties</a:t>
            </a:r>
            <a:br>
              <a:rPr sz="4400"/>
            </a:b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of Authorized Systems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1680" y="281952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success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sz="2400" spc="-1" strike="noStrike" u="sng">
                <a:solidFill>
                  <a:srgbClr val="000000"/>
                </a:solidFill>
                <a:uFillTx/>
                <a:latin typeface="Tahoma"/>
              </a:rPr>
              <a:t>elf-stabilizing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(successful when starting with 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rbitrary initial st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U</a:t>
            </a:r>
            <a:r>
              <a:rPr b="0" sz="2400" spc="-1" strike="noStrike" u="sng">
                <a:solidFill>
                  <a:srgbClr val="000000"/>
                </a:solidFill>
                <a:uFillTx/>
                <a:latin typeface="Tahoma"/>
              </a:rPr>
              <a:t>niform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(no particular agent is distinguish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previousslide"/>
          </p:cNvPr>
          <p:cNvSpPr/>
          <p:nvPr/>
        </p:nvSpPr>
        <p:spPr>
          <a:xfrm>
            <a:off x="8381880" y="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876312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7C4-2563-4CBA-8BC2-4610D5F9C85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Possible Extension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6040" y="2133720"/>
            <a:ext cx="771192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Reactivity (new obligation rather than dismiss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Coalition autho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riority negot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Dynamic position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Partially ordered position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46A-ED5B-42BE-8477-2797C23CA8A0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90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Tahoma"/>
              </a:rPr>
              <a:t>System Component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981080"/>
            <a:ext cx="609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 a finite set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(of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agents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  a set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of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states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S (set of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actions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R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S 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{0,1,2, ...} (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evaluation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76312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" action="ppaction://hlinkshowjump?jump=previousslide"/>
          </p:cNvPr>
          <p:cNvSpPr/>
          <p:nvPr/>
        </p:nvSpPr>
        <p:spPr>
          <a:xfrm>
            <a:off x="8381880" y="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75280" y="452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3600" y="4572000"/>
            <a:ext cx="51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V(r,s) is a measure how far agent 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at state s is from its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F89D-16BF-48ED-8D6C-DFCF25AC9CB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808000"/>
                </a:solidFill>
                <a:latin typeface="Tahoma"/>
              </a:rPr>
              <a:t>Live and Dead State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54920" y="2440080"/>
            <a:ext cx="527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tate s is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liv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if there is s’ s.t. (s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tate s is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dead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, if it is not live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D9DD-A11B-4972-B8D7-D1CA0FB7514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8381880" y="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876312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808000"/>
                </a:solidFill>
                <a:latin typeface="Tahoma"/>
              </a:rPr>
              <a:t>Winners and Loser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19520" y="2588400"/>
            <a:ext cx="5151960" cy="1922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V(r,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’)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V(r,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’’)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sz="2400" spc="-1" strike="noStrike">
                <a:solidFill>
                  <a:srgbClr val="ff3300"/>
                </a:solidFill>
                <a:latin typeface="Tahoma"/>
              </a:rPr>
              <a:t>winn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V(r,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’)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V(r,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’’)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sz="2400" spc="-1" strike="noStrike">
                <a:solidFill>
                  <a:srgbClr val="0099ff"/>
                </a:solidFill>
                <a:latin typeface="Tahoma"/>
              </a:rPr>
              <a:t>loser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85840" y="1863720"/>
            <a:ext cx="30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= (s’ </a:t>
            </a:r>
            <a:r>
              <a:rPr b="0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s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’’)  -  action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58800" y="4910040"/>
            <a:ext cx="58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V(r,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’) =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V(r,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s’’)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is not participatin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28D2-54AD-4439-A4AE-E987AEB97C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>
            <a:hlinkClick r:id="" action="ppaction://hlinkshowjump?jump=previousslide"/>
          </p:cNvPr>
          <p:cNvSpPr/>
          <p:nvPr/>
        </p:nvSpPr>
        <p:spPr>
          <a:xfrm>
            <a:off x="8381880" y="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76312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3886200"/>
            <a:ext cx="701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gent is </a:t>
            </a:r>
            <a:r>
              <a:rPr b="0" sz="2400" spc="-1" strike="noStrike">
                <a:solidFill>
                  <a:srgbClr val="339933"/>
                </a:solidFill>
                <a:latin typeface="Tahoma"/>
              </a:rPr>
              <a:t>dismissed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, if it has achieved its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go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sz="2400" spc="-1" strike="noStrike">
                <a:solidFill>
                  <a:srgbClr val="ff3300"/>
                </a:solidFill>
                <a:latin typeface="Tahoma"/>
              </a:rPr>
              <a:t>active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otherwi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ahoma"/>
              </a:rPr>
              <a:t>Active and Dismissed Agent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83560" y="1981080"/>
            <a:ext cx="429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 is </a:t>
            </a:r>
            <a:r>
              <a:rPr b="0" sz="2400" spc="-1" strike="noStrike">
                <a:solidFill>
                  <a:srgbClr val="ff3300"/>
                </a:solidFill>
                <a:latin typeface="Tahoma"/>
              </a:rPr>
              <a:t>active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at s 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V(r,s)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 is </a:t>
            </a:r>
            <a:r>
              <a:rPr b="0" sz="2400" spc="-1" strike="noStrike">
                <a:solidFill>
                  <a:srgbClr val="339933"/>
                </a:solidFill>
                <a:latin typeface="Tahoma"/>
              </a:rPr>
              <a:t>dismissed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at s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V(r,s)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DFAB-5698-4F58-9E09-C3192530352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324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Tahoma"/>
              </a:rPr>
              <a:t>Axiom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55800" y="1752480"/>
            <a:ext cx="7238880" cy="302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In any action there is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t least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e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winn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2. 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y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ctiv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gent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t any state can be a winn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Dismissed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agents remain dismissed  forev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previousslide"/>
          </p:cNvPr>
          <p:cNvSpPr/>
          <p:nvPr/>
        </p:nvSpPr>
        <p:spPr>
          <a:xfrm>
            <a:off x="8381880" y="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876312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9957-7FF9-4594-8598-880A428BF07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180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808000"/>
                </a:solidFill>
                <a:latin typeface="Tahoma"/>
              </a:rPr>
              <a:t>Axioms</a:t>
            </a:r>
            <a:r>
              <a:rPr b="0" lang="pl-PL" sz="4400" spc="-1" strike="noStrike">
                <a:solidFill>
                  <a:srgbClr val="808000"/>
                </a:solidFill>
                <a:latin typeface="Tahoma"/>
              </a:rPr>
              <a:t> (formal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1828800"/>
            <a:ext cx="792468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’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’’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V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,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’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V(r,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’’)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V(r, s’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’’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’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’’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,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’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V(r,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’’)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V(r, s’)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0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s’’:  (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’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’’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r,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’ </a:t>
            </a:r>
            <a:r>
              <a:rPr b="0" lang="pl-PL" sz="2400" spc="-1" strike="noStrike">
                <a:solidFill>
                  <a:srgbClr val="000000"/>
                </a:solidFill>
                <a:latin typeface="Tahoma"/>
              </a:rPr>
              <a:t>)=V(r,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’’)</a:t>
            </a:r>
            <a:r>
              <a:rPr b="0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8381880" y="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10800"/>
                </a:moveTo>
                <a:lnTo>
                  <a:pt x="17817" y="3794"/>
                </a:lnTo>
                <a:lnTo>
                  <a:pt x="1781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nextslide"/>
          </p:cNvPr>
          <p:cNvSpPr/>
          <p:nvPr/>
        </p:nvSpPr>
        <p:spPr>
          <a:xfrm>
            <a:off x="8763120" y="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AW'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6A11-C75E-4EDC-98F0-A7524E64D11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ober 29,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7T19:56:05Z</dcterms:created>
  <dc:creator>A. Mazurkiewicz</dc:creator>
  <dc:description/>
  <dc:language>en-US</dc:language>
  <cp:lastModifiedBy>Antoni Mazurkiewicz</cp:lastModifiedBy>
  <cp:lastPrinted>2003-10-21T10:26:37Z</cp:lastPrinted>
  <dcterms:modified xsi:type="dcterms:W3CDTF">2004-02-12T09:54:47Z</dcterms:modified>
  <cp:revision>58</cp:revision>
  <dc:subject/>
  <dc:title>Reichenbach’s reference points revisited</dc:title>
</cp:coreProperties>
</file>