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757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LB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5946480" y="-360"/>
            <a:ext cx="91116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MyriadL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L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TMedium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8842320"/>
            <a:ext cx="674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MyriadL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yriadLB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6487920" y="8842320"/>
            <a:ext cx="369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MyriadL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D2F2-A053-47B9-A997-146C319F799C}" type="slidenum">
              <a:rPr b="0" lang="en-GB" sz="1200" spc="-1" strike="noStrike">
                <a:solidFill>
                  <a:srgbClr val="000000"/>
                </a:solidFill>
                <a:latin typeface="MyriadL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040" y="4343040"/>
            <a:ext cx="45212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rrently we do not see this. We are designing the mechanisms for 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605484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profiles are not used all that much, look at motivation, problems and suggest a new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profiles are not used all that much, look at motivation, problems and suggest a new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6054840" cy="5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profiles are not used all that much, look at motivation, problems and suggest a new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t profiles are not used all that much, look at motivation, problems and suggest a new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32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32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32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25"/>
                </a:solidFill>
                <a:latin typeface="BTMedium"/>
              </a:rPr>
              <a:t>Click to edit the title text format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lvl="2" marL="1255680" indent="-2523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lvl="3" marL="1663560" indent="-2286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lvl="4" marL="2071800" indent="-2286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BT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lvl="5" marL="20718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T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lvl="6" marL="2071800" indent="-22860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BT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T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lvl="1" marL="457200" indent="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2" marL="914400" indent="88920" algn="ctr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TMedium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BTMedium"/>
            </a:endParaRPr>
          </a:p>
          <a:p>
            <a:pPr lvl="3" marL="1371600" indent="63360" algn="ctr"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BT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TMedium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BTMedium"/>
            </a:endParaRPr>
          </a:p>
          <a:p>
            <a:pPr lvl="4" marL="1828800" indent="14400" algn="ctr"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BT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TMedium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BTMedium"/>
            </a:endParaRPr>
          </a:p>
          <a:p>
            <a:pPr lvl="5" marL="1828800" indent="14400">
              <a:spcBef>
                <a:spcPts val="400"/>
              </a:spcBef>
              <a:buClr>
                <a:srgbClr val="000000"/>
              </a:buClr>
              <a:buFont typeface="BT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TMedium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BTMedium"/>
            </a:endParaRPr>
          </a:p>
          <a:p>
            <a:pPr lvl="6" marL="1828800" indent="14400">
              <a:spcBef>
                <a:spcPts val="400"/>
              </a:spcBef>
              <a:buClr>
                <a:srgbClr val="000000"/>
              </a:buClr>
              <a:buFont typeface="BT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TMedium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TMedium"/>
              </a:rPr>
              <a:t>Advancing Profile Use in Agent Societies</a:t>
            </a:r>
            <a:endParaRPr b="0" lang="en-US" sz="32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240" y="3957480"/>
            <a:ext cx="6705720" cy="15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Penny Noy and Michael Schroeder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Department of Computing, City University, London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Engineering Societies in the Agents World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29-31 October 2003, Imperial College, London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225"/>
                </a:solidFill>
                <a:latin typeface="BTMedium"/>
              </a:rPr>
              <a:t>Profile definition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4520" indent="-254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Creation of the profile itself may be difficult, but assume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54520" indent="-254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For example, agent’s profile is a vector of p interests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54520" indent="-254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Hence an n x p matrix for n agents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54520" indent="-254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This can be reduced in dimension (e.g. for visualization)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54520" indent="-25452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Dimension reduction by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lvl="1" marL="681480" indent="-170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TMedium"/>
              </a:rPr>
              <a:t>Direct method e.g. Principal Components Analysis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681480" indent="-170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TMedium"/>
              </a:rPr>
              <a:t>Via metrics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2" marL="1192680" indent="-2394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TMedium"/>
              </a:rPr>
              <a:t>Measure distance between each pair of vectors</a:t>
            </a:r>
            <a:endParaRPr b="0" lang="en-US" sz="1800" spc="-1" strike="noStrike">
              <a:solidFill>
                <a:srgbClr val="ffffff"/>
              </a:solidFill>
              <a:latin typeface="BTMedium"/>
            </a:endParaRPr>
          </a:p>
          <a:p>
            <a:pPr lvl="2" marL="1192680" indent="-23940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TMedium"/>
              </a:rPr>
              <a:t>Find a ‘layout’ which satisfies these pairwise distances</a:t>
            </a:r>
            <a:endParaRPr b="0" lang="en-US" sz="18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226200" y="1595520"/>
            <a:ext cx="2606760" cy="2528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25"/>
                </a:solidFill>
                <a:latin typeface="BTMedium"/>
              </a:rPr>
              <a:t>Similarity metrics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6400800" cy="37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For vectors, ie. </a:t>
            </a:r>
            <a:r>
              <a:rPr b="0" i="1" lang="en-US" sz="2400" spc="-1" strike="noStrike">
                <a:solidFill>
                  <a:srgbClr val="ffffff"/>
                </a:solidFill>
                <a:latin typeface="BTMedium"/>
              </a:rPr>
              <a:t>x, y in R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BTMedium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780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lvl="1" marL="853920" indent="-2854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TMedium"/>
              </a:rPr>
              <a:t>Euclidean </a:t>
            </a:r>
            <a:r>
              <a:rPr b="1" lang="en-US" sz="2000" spc="-1" strike="noStrike">
                <a:solidFill>
                  <a:srgbClr val="ffffff"/>
                </a:solidFill>
                <a:latin typeface="BTMedium"/>
              </a:rPr>
              <a:t>distance</a:t>
            </a: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: </a:t>
            </a:r>
            <a:r>
              <a:rPr b="0" i="1" lang="en-US" sz="2000" spc="-1" strike="noStrike">
                <a:solidFill>
                  <a:srgbClr val="ffffff"/>
                </a:solidFill>
                <a:latin typeface="BTMedium"/>
              </a:rPr>
              <a:t>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TMedium"/>
              </a:rPr>
              <a:t>2</a:t>
            </a:r>
            <a:r>
              <a:rPr b="0" i="1" lang="en-US" sz="2000" spc="-1" strike="noStrike">
                <a:solidFill>
                  <a:srgbClr val="ffffff"/>
                </a:solidFill>
                <a:latin typeface="BTMedium"/>
              </a:rPr>
              <a:t>(x,y)= (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ffffff"/>
                </a:solidFill>
                <a:latin typeface="BTMedium"/>
              </a:rPr>
              <a:t> |x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TMedium"/>
              </a:rPr>
              <a:t>i</a:t>
            </a:r>
            <a:r>
              <a:rPr b="0" i="1" lang="en-US" sz="2000" spc="-1" strike="noStrike">
                <a:solidFill>
                  <a:srgbClr val="ffffff"/>
                </a:solidFill>
                <a:latin typeface="BTMedium"/>
              </a:rPr>
              <a:t>-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TMedium"/>
              </a:rPr>
              <a:t>i</a:t>
            </a:r>
            <a:r>
              <a:rPr b="0" i="1" lang="en-US" sz="2000" spc="-1" strike="noStrike">
                <a:solidFill>
                  <a:srgbClr val="ffffff"/>
                </a:solidFill>
                <a:latin typeface="BTMedium"/>
              </a:rPr>
              <a:t>|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BTMedium"/>
              </a:rPr>
              <a:t>2 </a:t>
            </a:r>
            <a:r>
              <a:rPr b="0" i="1" lang="en-US" sz="2000" spc="-1" strike="noStrike">
                <a:solidFill>
                  <a:srgbClr val="ffffff"/>
                </a:solidFill>
                <a:latin typeface="BTMedium"/>
              </a:rPr>
              <a:t>) 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BTMedium"/>
              </a:rPr>
              <a:t>0.5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853920" indent="-285480">
              <a:spcBef>
                <a:spcPts val="499"/>
              </a:spcBef>
              <a:spcAft>
                <a:spcPts val="499"/>
              </a:spcAft>
              <a:buClr>
                <a:srgbClr val="0099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BTMedium"/>
              </a:rPr>
              <a:t>City-block</a:t>
            </a:r>
            <a:r>
              <a:rPr b="1" lang="en-US" sz="2000" spc="-1" strike="noStrike">
                <a:solidFill>
                  <a:srgbClr val="ffffff"/>
                </a:solidFill>
                <a:latin typeface="BTMedium"/>
              </a:rPr>
              <a:t> distance</a:t>
            </a: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: </a:t>
            </a:r>
            <a:r>
              <a:rPr b="0" i="1" lang="en-US" sz="2000" spc="-1" strike="noStrike">
                <a:solidFill>
                  <a:srgbClr val="ffffff"/>
                </a:solidFill>
                <a:latin typeface="BTMedium"/>
              </a:rPr>
              <a:t>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TMedium"/>
              </a:rPr>
              <a:t>1</a:t>
            </a:r>
            <a:r>
              <a:rPr b="0" i="1" lang="en-US" sz="2000" spc="-1" strike="noStrike">
                <a:solidFill>
                  <a:srgbClr val="ffffff"/>
                </a:solidFill>
                <a:latin typeface="BTMedium"/>
              </a:rPr>
              <a:t>(x,y)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ffffff"/>
                </a:solidFill>
                <a:latin typeface="BTMedium"/>
              </a:rPr>
              <a:t> |x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TMedium"/>
              </a:rPr>
              <a:t>i</a:t>
            </a:r>
            <a:r>
              <a:rPr b="0" i="1" lang="en-US" sz="2000" spc="-1" strike="noStrike">
                <a:solidFill>
                  <a:srgbClr val="ffffff"/>
                </a:solidFill>
                <a:latin typeface="BTMedium"/>
              </a:rPr>
              <a:t>-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TMedium"/>
              </a:rPr>
              <a:t>i</a:t>
            </a:r>
            <a:r>
              <a:rPr b="0" i="1" lang="en-US" sz="2000" spc="-1" strike="noStrike">
                <a:solidFill>
                  <a:srgbClr val="ffffff"/>
                </a:solidFill>
                <a:latin typeface="BTMedium"/>
              </a:rPr>
              <a:t>|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853920" indent="-285480">
              <a:spcBef>
                <a:spcPts val="499"/>
              </a:spcBef>
              <a:spcAft>
                <a:spcPts val="499"/>
              </a:spcAft>
              <a:buClr>
                <a:srgbClr val="00cc00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BTMedium"/>
              </a:rPr>
              <a:t>Angle</a:t>
            </a: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: </a:t>
            </a:r>
            <a:r>
              <a:rPr b="0" i="1" lang="en-US" sz="2000" spc="-1" strike="noStrike">
                <a:solidFill>
                  <a:srgbClr val="ffffff"/>
                </a:solidFill>
                <a:latin typeface="BTMedium"/>
              </a:rPr>
              <a:t>d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TMedium"/>
              </a:rPr>
              <a:t>cos</a:t>
            </a:r>
            <a:r>
              <a:rPr b="0" i="1" lang="en-US" sz="2000" spc="-1" strike="noStrike">
                <a:solidFill>
                  <a:srgbClr val="ffffff"/>
                </a:solidFill>
                <a:latin typeface="BTMedium"/>
              </a:rPr>
              <a:t>(x,y)= acos( ||x,y|| / (||x|| ||y||) )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2" marL="1322280" indent="-27756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where </a:t>
            </a:r>
            <a:r>
              <a:rPr b="0" i="1" lang="en-US" sz="2000" spc="-1" strike="noStrike">
                <a:solidFill>
                  <a:srgbClr val="ffffff"/>
                </a:solidFill>
                <a:latin typeface="BTMedium"/>
              </a:rPr>
              <a:t>||x,y|| =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ffffff"/>
                </a:solidFill>
                <a:latin typeface="BTMedium"/>
              </a:rPr>
              <a:t> x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TMedium"/>
              </a:rPr>
              <a:t>i </a:t>
            </a:r>
            <a:r>
              <a:rPr b="0" i="1" lang="en-US" sz="2000" spc="-1" strike="noStrike">
                <a:solidFill>
                  <a:srgbClr val="ffffff"/>
                </a:solidFill>
                <a:latin typeface="BTMedium"/>
              </a:rPr>
              <a:t>y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TMedium"/>
              </a:rPr>
              <a:t>i 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2" marL="1322280" indent="-27756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Wingding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and </a:t>
            </a:r>
            <a:r>
              <a:rPr b="0" i="1" lang="en-US" sz="2000" spc="-1" strike="noStrike">
                <a:solidFill>
                  <a:srgbClr val="ffffff"/>
                </a:solidFill>
                <a:latin typeface="BTMedium"/>
              </a:rPr>
              <a:t>||x|| = ( 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ffffff"/>
                </a:solidFill>
                <a:latin typeface="BTMedium"/>
              </a:rPr>
              <a:t> x</a:t>
            </a:r>
            <a:r>
              <a:rPr b="0" i="1" lang="en-US" sz="2000" spc="-1" strike="noStrike" baseline="-25000">
                <a:solidFill>
                  <a:srgbClr val="ffffff"/>
                </a:solidFill>
                <a:latin typeface="BTMedium"/>
              </a:rPr>
              <a:t>i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BTMedium"/>
              </a:rPr>
              <a:t>2 </a:t>
            </a:r>
            <a:r>
              <a:rPr b="0" i="1" lang="en-US" sz="2000" spc="-1" strike="noStrike">
                <a:solidFill>
                  <a:srgbClr val="ffffff"/>
                </a:solidFill>
                <a:latin typeface="BTMedium"/>
              </a:rPr>
              <a:t>) </a:t>
            </a:r>
            <a:r>
              <a:rPr b="0" i="1" lang="en-US" sz="2000" spc="-1" strike="noStrike" baseline="30000">
                <a:solidFill>
                  <a:srgbClr val="ffffff"/>
                </a:solidFill>
                <a:latin typeface="BTMedium"/>
              </a:rPr>
              <a:t>0.5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378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629400" y="1904760"/>
            <a:ext cx="2057040" cy="1828800"/>
            <a:chOff x="6629400" y="1904760"/>
            <a:chExt cx="2057040" cy="1828800"/>
          </a:xfrm>
        </p:grpSpPr>
        <p:grpSp>
          <p:nvGrpSpPr>
            <p:cNvPr id="114" name=""/>
            <p:cNvGrpSpPr/>
            <p:nvPr/>
          </p:nvGrpSpPr>
          <p:grpSpPr>
            <a:xfrm>
              <a:off x="6629400" y="1904760"/>
              <a:ext cx="2057040" cy="1828800"/>
              <a:chOff x="6629400" y="1904760"/>
              <a:chExt cx="2057040" cy="1828800"/>
            </a:xfrm>
          </p:grpSpPr>
          <p:sp>
            <p:nvSpPr>
              <p:cNvPr id="115" name=""/>
              <p:cNvSpPr/>
              <p:nvPr/>
            </p:nvSpPr>
            <p:spPr>
              <a:xfrm flipV="1">
                <a:off x="6629400" y="1904760"/>
                <a:ext cx="0" cy="18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29400" y="3733560"/>
                <a:ext cx="20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 flipV="1">
              <a:off x="6629400" y="251424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629400" y="3504960"/>
              <a:ext cx="1676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rot="3300000">
            <a:off x="6791760" y="3404160"/>
            <a:ext cx="457200" cy="144720"/>
          </a:xfrm>
          <a:custGeom>
            <a:avLst/>
            <a:gdLst/>
            <a:ahLst/>
            <a:rect l="l" t="t" r="r" b="b"/>
            <a:pathLst>
              <a:path w="288" h="112">
                <a:moveTo>
                  <a:pt x="0" y="112"/>
                </a:moveTo>
                <a:cubicBezTo>
                  <a:pt x="28" y="72"/>
                  <a:pt x="56" y="32"/>
                  <a:pt x="96" y="16"/>
                </a:cubicBezTo>
                <a:cubicBezTo>
                  <a:pt x="136" y="0"/>
                  <a:pt x="208" y="8"/>
                  <a:pt x="240" y="16"/>
                </a:cubicBezTo>
                <a:cubicBezTo>
                  <a:pt x="272" y="24"/>
                  <a:pt x="280" y="44"/>
                  <a:pt x="288" y="64"/>
                </a:cubicBezTo>
              </a:path>
            </a:pathLst>
          </a:custGeom>
          <a:noFill/>
          <a:ln w="5724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38880" y="2514600"/>
            <a:ext cx="1143000" cy="990720"/>
          </a:xfrm>
          <a:prstGeom prst="line">
            <a:avLst/>
          </a:prstGeom>
          <a:ln cap="sq"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238520" y="2514600"/>
            <a:ext cx="1143360" cy="990720"/>
            <a:chOff x="7238520" y="2514600"/>
            <a:chExt cx="1143360" cy="990720"/>
          </a:xfrm>
        </p:grpSpPr>
        <p:sp>
          <p:nvSpPr>
            <p:cNvPr id="122" name=""/>
            <p:cNvSpPr/>
            <p:nvPr/>
          </p:nvSpPr>
          <p:spPr>
            <a:xfrm flipV="1">
              <a:off x="8381880" y="2514600"/>
              <a:ext cx="0" cy="990720"/>
            </a:xfrm>
            <a:prstGeom prst="line">
              <a:avLst/>
            </a:prstGeom>
            <a:ln cap="sq" w="572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238520" y="2514600"/>
              <a:ext cx="1143000" cy="0"/>
            </a:xfrm>
            <a:prstGeom prst="line">
              <a:avLst/>
            </a:prstGeom>
            <a:ln cap="sq" w="5724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120080" y="219852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TMedium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44080" y="328608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TMedium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225"/>
                </a:solidFill>
                <a:latin typeface="BTMedium"/>
              </a:rPr>
              <a:t>But this requires exchange of profiles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TMedium"/>
              </a:rPr>
              <a:t>Consider an agent measuring own similarity with a set of reference vectors and reducing dimensions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TMedium"/>
              </a:rPr>
              <a:t>Gives the agent a position in a reduced dimension space, </a:t>
            </a:r>
            <a:r>
              <a:rPr b="0" i="1" lang="en-GB" sz="2000" spc="-1" strike="noStrike">
                <a:solidFill>
                  <a:srgbClr val="ffffff"/>
                </a:solidFill>
                <a:latin typeface="BTMedium"/>
              </a:rPr>
              <a:t>that they can calculate themselves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TMedium"/>
              </a:rPr>
              <a:t>Bounds of interest space for agents with 5 interest areas, values in range 0 to 1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TMedium"/>
              </a:rPr>
              <a:t>Random vectors better, likely to be orthogonal.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268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3440" y="882720"/>
          <a:ext cx="3365640" cy="4827600"/>
        </p:xfrm>
        <a:graphic>
          <a:graphicData uri="http://schemas.openxmlformats.org/drawingml/2006/table">
            <a:tbl>
              <a:tblPr/>
              <a:tblGrid>
                <a:gridCol w="673200"/>
                <a:gridCol w="673200"/>
                <a:gridCol w="673200"/>
                <a:gridCol w="672840"/>
                <a:gridCol w="673200"/>
              </a:tblGrid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Interest 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ff"/>
                          </a:solidFill>
                          <a:latin typeface="BTMedium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225"/>
                </a:solidFill>
                <a:latin typeface="BTMedium"/>
              </a:rPr>
              <a:t>Use of transformed profile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385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Assume 2 agents each carry their profile as a vector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When they meet they apply algorithm to calculate similarity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Advantage: accurate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Disadvantage: have to reveal profile, have to carry potentially large profile.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038480" cy="3897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TMedium"/>
              </a:rPr>
              <a:t>Propose agent carries xy or xyz coordinates (transformed profile)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TMedium"/>
              </a:rPr>
              <a:t>2 methods for calculating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TMedium"/>
              </a:rPr>
              <a:t>Back at base</a:t>
            </a:r>
            <a:endParaRPr b="0" lang="en-US" sz="18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TMedium"/>
              </a:rPr>
              <a:t>On the fly</a:t>
            </a:r>
            <a:endParaRPr b="0" lang="en-US" sz="18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TMedium"/>
              </a:rPr>
              <a:t>Advantage: profile is lightweight and private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TMedium"/>
              </a:rPr>
              <a:t>Disadvantage: profile is approximate, privacy is ?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268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132" name=""/>
          <p:cNvSpPr/>
          <p:nvPr/>
        </p:nvSpPr>
        <p:spPr>
          <a:xfrm>
            <a:off x="1319040" y="5324400"/>
            <a:ext cx="282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BTMedium"/>
              </a:rPr>
              <a:t>Usual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13520" y="5337000"/>
            <a:ext cx="282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BTMedium"/>
              </a:rPr>
              <a:t>New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25"/>
                </a:solidFill>
                <a:latin typeface="BTMedium"/>
              </a:rPr>
              <a:t>Position-as-profile: base calculation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135" name=""/>
          <p:cNvSpPr/>
          <p:nvPr/>
        </p:nvSpPr>
        <p:spPr>
          <a:xfrm>
            <a:off x="1346040" y="3600360"/>
            <a:ext cx="68295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TMedium"/>
              </a:rPr>
              <a:t>Agents both have calculations done at a base point by a trusted third par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TMedium"/>
              </a:rPr>
              <a:t>Figure shows layout after applying a distance measure and pcoa of seven ag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TMedium"/>
              </a:rPr>
              <a:t>If Agent1 meets Agent2, they compare co-ordinates to calculate how far apart they are in this map</a:t>
            </a:r>
            <a:r>
              <a:rPr b="0" lang="en-GB" sz="1800" spc="-1" strike="noStrike">
                <a:solidFill>
                  <a:srgbClr val="000000"/>
                </a:solidFill>
                <a:latin typeface="BTMediu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411280" y="1003320"/>
            <a:ext cx="426744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25"/>
                </a:solidFill>
                <a:latin typeface="BTMedium"/>
              </a:rPr>
              <a:t>Position-as-profile: on the fly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1162080"/>
            <a:ext cx="7696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TMedium"/>
              </a:rPr>
              <a:t>Each agent calculates its position with respect to a number of reference vecto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TMedium"/>
              </a:rPr>
              <a:t>This gives them xy co-ordinates, but to compare them they must be scaled, centered and rotated to bring the reference agents into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TMedium"/>
              </a:rPr>
              <a:t>Figures show individual plots before alignment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11080" y="3387600"/>
            <a:ext cx="3733920" cy="2203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572000" y="3387600"/>
            <a:ext cx="37339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225"/>
                </a:solidFill>
                <a:latin typeface="BTMedium"/>
              </a:rPr>
              <a:t>Issues: Accuracy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Explore the error in distances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Euclidean distances compared for original, base and on-the-fly calculations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PCA was used, so distances calculated before PCA, with PCA direct and PCA iterative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Reference vectors chosen from within each dataset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Entities varied 100 to 1000, dimensions varied 4 to 40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For each dataset type, 30 runs were averaged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-203040"/>
            <a:ext cx="914400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-331920"/>
            <a:ext cx="9323280" cy="71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-203040"/>
            <a:ext cx="914400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Agent oriented computation considered to have a leading role in engineering of new computing environments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Vision of agent societies embedded within our own human ones....ubiquitous in the new computing environments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87" name=""/>
          <p:cNvSpPr/>
          <p:nvPr/>
        </p:nvSpPr>
        <p:spPr>
          <a:xfrm>
            <a:off x="836640" y="4376880"/>
            <a:ext cx="661500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BTMedium"/>
              </a:rPr>
              <a:t>Zambonelli and Van Dyke Parunak, 20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BTMedium"/>
              </a:rPr>
              <a:t>Signs of a Revolution in Computer Science and Software Engin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BTMedium"/>
              </a:rPr>
              <a:t>Pitt, Mamdani and Charlton, 2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BTMedium"/>
              </a:rPr>
              <a:t>The Open Agent Society and its Enem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-203040"/>
            <a:ext cx="914400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25"/>
                </a:solidFill>
                <a:latin typeface="BTMedium"/>
              </a:rPr>
              <a:t>Results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Error largely independent of number of entities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Error increases with dimensions, but iterative PCA error less, though error variance is greater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149" name=""/>
          <p:cNvSpPr/>
          <p:nvPr/>
        </p:nvSpPr>
        <p:spPr>
          <a:xfrm>
            <a:off x="1460520" y="3535200"/>
            <a:ext cx="2112840" cy="495360"/>
          </a:xfrm>
          <a:prstGeom prst="rightArrow">
            <a:avLst>
              <a:gd name="adj1" fmla="val 50000"/>
              <a:gd name="adj2" fmla="val 106632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76840" y="3468600"/>
            <a:ext cx="280512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TMedium"/>
              </a:rPr>
              <a:t>Valid to use on-the-fly calc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225"/>
                </a:solidFill>
                <a:latin typeface="BTMedium"/>
              </a:rPr>
              <a:t>Time complexity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PCA has O(</a:t>
            </a:r>
            <a:r>
              <a:rPr b="0" i="1" lang="en-GB" sz="2400" spc="-1" strike="noStrike">
                <a:solidFill>
                  <a:srgbClr val="ffffff"/>
                </a:solidFill>
                <a:latin typeface="BTMedium"/>
              </a:rPr>
              <a:t>nd</a:t>
            </a:r>
            <a:r>
              <a:rPr b="0" i="1" lang="en-GB" sz="2400" spc="-1" strike="noStrike" baseline="30000">
                <a:solidFill>
                  <a:srgbClr val="ffffff"/>
                </a:solidFill>
                <a:latin typeface="BTMedium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For iterative PCA, this is the same (for 3 ref vectors, done for 4 entities, this done n times)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Allows addition of entity or change of entity’s values </a:t>
            </a:r>
            <a:r>
              <a:rPr b="0" i="1" lang="en-GB" sz="2400" spc="-1" strike="noStrike">
                <a:solidFill>
                  <a:srgbClr val="ffffff"/>
                </a:solidFill>
                <a:latin typeface="BTMedium"/>
              </a:rPr>
              <a:t>without recalculation of the whole set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Thus also useful for dynamically changing situation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225"/>
                </a:solidFill>
                <a:latin typeface="BTMedium"/>
              </a:rPr>
              <a:t>Issues: Security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By PCA direct or iterative, positions are approximate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Let </a:t>
            </a:r>
            <a:r>
              <a:rPr b="0" i="1" lang="en-GB" sz="2400" spc="-1" strike="noStrike">
                <a:solidFill>
                  <a:srgbClr val="ffffff"/>
                </a:solidFill>
                <a:latin typeface="BTMedium"/>
              </a:rPr>
              <a:t>x</a:t>
            </a:r>
            <a:r>
              <a:rPr b="0" i="1" lang="en-GB" sz="2400" spc="-1" strike="noStrike" baseline="-25000">
                <a:solidFill>
                  <a:srgbClr val="ffffff"/>
                </a:solidFill>
                <a:latin typeface="BTMedium"/>
              </a:rPr>
              <a:t>ik</a:t>
            </a: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 denote value of </a:t>
            </a:r>
            <a:r>
              <a:rPr b="0" i="1" lang="en-GB" sz="2400" spc="-1" strike="noStrike">
                <a:solidFill>
                  <a:srgbClr val="ffffff"/>
                </a:solidFill>
                <a:latin typeface="BTMedium"/>
              </a:rPr>
              <a:t>k</a:t>
            </a:r>
            <a:r>
              <a:rPr b="0" i="1" lang="en-GB" sz="2400" spc="-1" strike="noStrike" baseline="30000">
                <a:solidFill>
                  <a:srgbClr val="ffffff"/>
                </a:solidFill>
                <a:latin typeface="BTMedium"/>
              </a:rPr>
              <a:t>th</a:t>
            </a: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 variable to the </a:t>
            </a:r>
            <a:r>
              <a:rPr b="0" i="1" lang="en-GB" sz="2400" spc="-1" strike="noStrike">
                <a:solidFill>
                  <a:srgbClr val="ffffff"/>
                </a:solidFill>
                <a:latin typeface="BTMedium"/>
              </a:rPr>
              <a:t>i</a:t>
            </a:r>
            <a:r>
              <a:rPr b="0" i="1" lang="en-GB" sz="2400" spc="-1" strike="noStrike" baseline="30000">
                <a:solidFill>
                  <a:srgbClr val="ffffff"/>
                </a:solidFill>
                <a:latin typeface="BTMedium"/>
              </a:rPr>
              <a:t>th</a:t>
            </a: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 object (</a:t>
            </a:r>
            <a:r>
              <a:rPr b="0" i="1" lang="en-GB" sz="2400" spc="-1" strike="noStrike">
                <a:solidFill>
                  <a:srgbClr val="ffffff"/>
                </a:solidFill>
                <a:latin typeface="BTMedium"/>
              </a:rPr>
              <a:t>i=1,...,n; k=1,...,p</a:t>
            </a: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Using PCA the </a:t>
            </a:r>
            <a:r>
              <a:rPr b="0" i="1" lang="en-GB" sz="2400" spc="-1" strike="noStrike">
                <a:solidFill>
                  <a:srgbClr val="ffffff"/>
                </a:solidFill>
                <a:latin typeface="BTMedium"/>
              </a:rPr>
              <a:t>i</a:t>
            </a:r>
            <a:r>
              <a:rPr b="0" i="1" lang="en-GB" sz="2400" spc="-1" strike="noStrike" baseline="30000">
                <a:solidFill>
                  <a:srgbClr val="ffffff"/>
                </a:solidFill>
                <a:latin typeface="BTMedium"/>
              </a:rPr>
              <a:t>th</a:t>
            </a:r>
            <a:r>
              <a:rPr b="0" i="1" lang="en-GB" sz="2400" spc="-1" strike="noStrike">
                <a:solidFill>
                  <a:srgbClr val="ffffff"/>
                </a:solidFill>
                <a:latin typeface="BTMedium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object has 2D vector </a:t>
            </a:r>
            <a:r>
              <a:rPr b="0" i="1" lang="en-GB" sz="2400" spc="-1" strike="noStrike">
                <a:solidFill>
                  <a:srgbClr val="ffffff"/>
                </a:solidFill>
                <a:latin typeface="BTMedium"/>
              </a:rPr>
              <a:t>x’</a:t>
            </a:r>
            <a:r>
              <a:rPr b="0" i="1" lang="en-GB" sz="2400" spc="-1" strike="noStrike" baseline="-25000">
                <a:solidFill>
                  <a:srgbClr val="ffffff"/>
                </a:solidFill>
                <a:latin typeface="BTMedium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Consider agents </a:t>
            </a:r>
            <a:r>
              <a:rPr b="0" i="1" lang="en-GB" sz="2400" spc="-1" strike="noStrike">
                <a:solidFill>
                  <a:srgbClr val="ffffff"/>
                </a:solidFill>
                <a:latin typeface="BTMedium"/>
              </a:rPr>
              <a:t>i </a:t>
            </a: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and </a:t>
            </a:r>
            <a:r>
              <a:rPr b="0" i="1" lang="en-GB" sz="2400" spc="-1" strike="noStrike">
                <a:solidFill>
                  <a:srgbClr val="ffffff"/>
                </a:solidFill>
                <a:latin typeface="BTMedium"/>
              </a:rPr>
              <a:t>j</a:t>
            </a: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 are agents Alice and Bob. 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Alice knows her own vector (</a:t>
            </a:r>
            <a:r>
              <a:rPr b="0" i="1" lang="en-GB" sz="2400" spc="-1" strike="noStrike">
                <a:solidFill>
                  <a:srgbClr val="ffffff"/>
                </a:solidFill>
                <a:latin typeface="BTMedium"/>
              </a:rPr>
              <a:t>x</a:t>
            </a:r>
            <a:r>
              <a:rPr b="0" i="1" lang="en-GB" sz="2400" spc="-1" strike="noStrike" baseline="-25000">
                <a:solidFill>
                  <a:srgbClr val="ffffff"/>
                </a:solidFill>
                <a:latin typeface="BTMedium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), but not Bob’s (</a:t>
            </a:r>
            <a:r>
              <a:rPr b="0" i="1" lang="en-GB" sz="2400" spc="-1" strike="noStrike">
                <a:solidFill>
                  <a:srgbClr val="ffffff"/>
                </a:solidFill>
                <a:latin typeface="BTMedium"/>
              </a:rPr>
              <a:t>x</a:t>
            </a:r>
            <a:r>
              <a:rPr b="0" i="1" lang="en-GB" sz="2400" spc="-1" strike="noStrike" baseline="-25000">
                <a:solidFill>
                  <a:srgbClr val="ffffff"/>
                </a:solidFill>
                <a:latin typeface="BTMedium"/>
              </a:rPr>
              <a:t>j</a:t>
            </a: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Can Alice deduce Bob’s vector?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225"/>
                </a:solidFill>
                <a:latin typeface="BTMedium"/>
              </a:rPr>
              <a:t>Deducing Bob’s vector without extra info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774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TMedium"/>
              </a:rPr>
              <a:t>Many vectors map to Bob’s position, so this is one-way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TMedium"/>
              </a:rPr>
              <a:t>Reference vectors R1 and R2, vectors A and B on PQ will both become C 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031840" y="2255760"/>
            <a:ext cx="20880" cy="28036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2036880" y="5040000"/>
            <a:ext cx="2722320" cy="20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0800" y="2844720"/>
            <a:ext cx="122040" cy="101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54280" y="4421160"/>
            <a:ext cx="122400" cy="101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32280" y="4068720"/>
            <a:ext cx="122040" cy="101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09920" y="3755880"/>
            <a:ext cx="122400" cy="101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30760" y="4986360"/>
            <a:ext cx="122040" cy="101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2720" y="2905200"/>
            <a:ext cx="1828800" cy="213336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504800" y="2703600"/>
            <a:ext cx="3230640" cy="28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52680" y="270828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TMedium"/>
              </a:rPr>
              <a:t>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5960" y="5149800"/>
            <a:ext cx="5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TMedium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395748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TMedium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14520" y="410544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TMediu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52960" y="340524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TMedium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26000" y="283068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TMedium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700280" y="532296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BTMedium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692680" y="3208320"/>
            <a:ext cx="2759040" cy="1657440"/>
            <a:chOff x="5692680" y="3208320"/>
            <a:chExt cx="2759040" cy="1657440"/>
          </a:xfrm>
        </p:grpSpPr>
        <p:sp>
          <p:nvSpPr>
            <p:cNvPr id="174" name=""/>
            <p:cNvSpPr/>
            <p:nvPr/>
          </p:nvSpPr>
          <p:spPr>
            <a:xfrm>
              <a:off x="5762520" y="3621240"/>
              <a:ext cx="2622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BTMedium"/>
                </a:rPr>
                <a:t>So no way of retrieving original positions for A and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92680" y="3208320"/>
              <a:ext cx="2759040" cy="1657440"/>
            </a:xfrm>
            <a:custGeom>
              <a:avLst/>
              <a:gdLst/>
              <a:ahLst/>
              <a:rect l="l" t="t" r="r" b="b"/>
              <a:pathLst>
                <a:path w="2379" h="1402">
                  <a:moveTo>
                    <a:pt x="750" y="109"/>
                  </a:moveTo>
                  <a:cubicBezTo>
                    <a:pt x="606" y="61"/>
                    <a:pt x="429" y="104"/>
                    <a:pt x="282" y="141"/>
                  </a:cubicBezTo>
                  <a:cubicBezTo>
                    <a:pt x="173" y="197"/>
                    <a:pt x="214" y="158"/>
                    <a:pt x="152" y="250"/>
                  </a:cubicBezTo>
                  <a:cubicBezTo>
                    <a:pt x="132" y="280"/>
                    <a:pt x="109" y="308"/>
                    <a:pt x="87" y="337"/>
                  </a:cubicBezTo>
                  <a:cubicBezTo>
                    <a:pt x="76" y="351"/>
                    <a:pt x="54" y="380"/>
                    <a:pt x="54" y="380"/>
                  </a:cubicBezTo>
                  <a:cubicBezTo>
                    <a:pt x="29" y="444"/>
                    <a:pt x="13" y="509"/>
                    <a:pt x="0" y="576"/>
                  </a:cubicBezTo>
                  <a:cubicBezTo>
                    <a:pt x="0" y="580"/>
                    <a:pt x="10" y="738"/>
                    <a:pt x="22" y="771"/>
                  </a:cubicBezTo>
                  <a:cubicBezTo>
                    <a:pt x="30" y="794"/>
                    <a:pt x="88" y="876"/>
                    <a:pt x="98" y="891"/>
                  </a:cubicBezTo>
                  <a:cubicBezTo>
                    <a:pt x="155" y="975"/>
                    <a:pt x="18" y="855"/>
                    <a:pt x="152" y="989"/>
                  </a:cubicBezTo>
                  <a:cubicBezTo>
                    <a:pt x="242" y="1079"/>
                    <a:pt x="315" y="1195"/>
                    <a:pt x="445" y="1228"/>
                  </a:cubicBezTo>
                  <a:cubicBezTo>
                    <a:pt x="505" y="1264"/>
                    <a:pt x="539" y="1281"/>
                    <a:pt x="609" y="1293"/>
                  </a:cubicBezTo>
                  <a:cubicBezTo>
                    <a:pt x="732" y="1356"/>
                    <a:pt x="877" y="1354"/>
                    <a:pt x="1011" y="1369"/>
                  </a:cubicBezTo>
                  <a:cubicBezTo>
                    <a:pt x="1123" y="1397"/>
                    <a:pt x="1068" y="1387"/>
                    <a:pt x="1174" y="1402"/>
                  </a:cubicBezTo>
                  <a:cubicBezTo>
                    <a:pt x="1384" y="1398"/>
                    <a:pt x="1594" y="1401"/>
                    <a:pt x="1804" y="1391"/>
                  </a:cubicBezTo>
                  <a:cubicBezTo>
                    <a:pt x="1843" y="1389"/>
                    <a:pt x="1876" y="1359"/>
                    <a:pt x="1913" y="1347"/>
                  </a:cubicBezTo>
                  <a:cubicBezTo>
                    <a:pt x="1990" y="1321"/>
                    <a:pt x="2063" y="1285"/>
                    <a:pt x="2141" y="1261"/>
                  </a:cubicBezTo>
                  <a:cubicBezTo>
                    <a:pt x="2187" y="1229"/>
                    <a:pt x="2248" y="1222"/>
                    <a:pt x="2282" y="1174"/>
                  </a:cubicBezTo>
                  <a:cubicBezTo>
                    <a:pt x="2309" y="1136"/>
                    <a:pt x="2316" y="1085"/>
                    <a:pt x="2337" y="1043"/>
                  </a:cubicBezTo>
                  <a:cubicBezTo>
                    <a:pt x="2379" y="861"/>
                    <a:pt x="2364" y="935"/>
                    <a:pt x="2347" y="587"/>
                  </a:cubicBezTo>
                  <a:cubicBezTo>
                    <a:pt x="2342" y="477"/>
                    <a:pt x="2280" y="378"/>
                    <a:pt x="2206" y="304"/>
                  </a:cubicBezTo>
                  <a:cubicBezTo>
                    <a:pt x="2137" y="235"/>
                    <a:pt x="2042" y="151"/>
                    <a:pt x="1945" y="119"/>
                  </a:cubicBezTo>
                  <a:cubicBezTo>
                    <a:pt x="1891" y="101"/>
                    <a:pt x="1827" y="97"/>
                    <a:pt x="1771" y="87"/>
                  </a:cubicBezTo>
                  <a:cubicBezTo>
                    <a:pt x="1730" y="79"/>
                    <a:pt x="1692" y="63"/>
                    <a:pt x="1652" y="54"/>
                  </a:cubicBezTo>
                  <a:cubicBezTo>
                    <a:pt x="1565" y="34"/>
                    <a:pt x="1591" y="45"/>
                    <a:pt x="1467" y="32"/>
                  </a:cubicBezTo>
                  <a:cubicBezTo>
                    <a:pt x="1356" y="21"/>
                    <a:pt x="1295" y="13"/>
                    <a:pt x="1195" y="0"/>
                  </a:cubicBezTo>
                  <a:cubicBezTo>
                    <a:pt x="1134" y="4"/>
                    <a:pt x="1072" y="2"/>
                    <a:pt x="1011" y="11"/>
                  </a:cubicBezTo>
                  <a:cubicBezTo>
                    <a:pt x="998" y="13"/>
                    <a:pt x="990" y="27"/>
                    <a:pt x="978" y="32"/>
                  </a:cubicBezTo>
                  <a:cubicBezTo>
                    <a:pt x="957" y="41"/>
                    <a:pt x="935" y="47"/>
                    <a:pt x="913" y="54"/>
                  </a:cubicBezTo>
                  <a:cubicBezTo>
                    <a:pt x="899" y="59"/>
                    <a:pt x="869" y="65"/>
                    <a:pt x="869" y="65"/>
                  </a:cubicBezTo>
                </a:path>
              </a:pathLst>
            </a:custGeom>
            <a:noFill/>
            <a:ln w="507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225"/>
                </a:solidFill>
                <a:latin typeface="BTMedium"/>
              </a:rPr>
              <a:t>Deducing Bob’s vector with extra info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Alice and Bob can exchange position vectors </a:t>
            </a:r>
            <a:r>
              <a:rPr b="0" i="1" lang="en-GB" sz="2400" spc="-1" strike="noStrike">
                <a:solidFill>
                  <a:srgbClr val="ffffff"/>
                </a:solidFill>
                <a:latin typeface="BTMedium"/>
              </a:rPr>
              <a:t>x’</a:t>
            </a: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 to calculate </a:t>
            </a:r>
            <a:r>
              <a:rPr b="0" i="1" lang="en-GB" sz="2400" spc="-1" strike="noStrike">
                <a:solidFill>
                  <a:srgbClr val="ffffff"/>
                </a:solidFill>
                <a:latin typeface="BTMedium"/>
              </a:rPr>
              <a:t>d’</a:t>
            </a:r>
            <a:r>
              <a:rPr b="0" i="1" lang="en-GB" sz="2400" spc="-1" strike="noStrike" baseline="-25000">
                <a:solidFill>
                  <a:srgbClr val="ffffff"/>
                </a:solidFill>
                <a:latin typeface="BTMedium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This </a:t>
            </a:r>
            <a:r>
              <a:rPr b="0" i="1" lang="en-GB" sz="2400" spc="-1" strike="noStrike">
                <a:solidFill>
                  <a:srgbClr val="ffffff"/>
                </a:solidFill>
                <a:latin typeface="BTMedium"/>
              </a:rPr>
              <a:t>d’</a:t>
            </a:r>
            <a:r>
              <a:rPr b="0" i="1" lang="en-GB" sz="2400" spc="-1" strike="noStrike" baseline="-25000">
                <a:solidFill>
                  <a:srgbClr val="ffffff"/>
                </a:solidFill>
                <a:latin typeface="BTMedium"/>
              </a:rPr>
              <a:t>ij</a:t>
            </a: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 is an approximation of the original </a:t>
            </a:r>
            <a:r>
              <a:rPr b="0" i="1" lang="en-GB" sz="2400" spc="-1" strike="noStrike">
                <a:solidFill>
                  <a:srgbClr val="ffffff"/>
                </a:solidFill>
                <a:latin typeface="BTMedium"/>
              </a:rPr>
              <a:t>d</a:t>
            </a:r>
            <a:r>
              <a:rPr b="0" i="1" lang="en-GB" sz="2400" spc="-1" strike="noStrike" baseline="-25000">
                <a:solidFill>
                  <a:srgbClr val="ffffff"/>
                </a:solidFill>
                <a:latin typeface="BTMedium"/>
              </a:rPr>
              <a:t>ij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If Alice poses as other entities (with different profiles) or shares information with other entities, she can acquire a set of equations to solve for Bob’s </a:t>
            </a:r>
            <a:r>
              <a:rPr b="0" i="1" lang="en-GB" sz="2400" spc="-1" strike="noStrike">
                <a:solidFill>
                  <a:srgbClr val="ffffff"/>
                </a:solidFill>
                <a:latin typeface="BTMedium"/>
              </a:rPr>
              <a:t>x</a:t>
            </a:r>
            <a:r>
              <a:rPr b="0" i="1" lang="en-GB" sz="2400" spc="-1" strike="noStrike" baseline="-25000">
                <a:solidFill>
                  <a:srgbClr val="ffffff"/>
                </a:solidFill>
                <a:latin typeface="BTMedium"/>
              </a:rPr>
              <a:t>j</a:t>
            </a: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, but the result is still approximate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225"/>
                </a:solidFill>
                <a:latin typeface="BTMedium"/>
              </a:rPr>
              <a:t>Future work: profile service implementation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marL="34560" indent="-34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Profiling service supplies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lvl="1" marL="93240" indent="-230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template for profile vector production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2" marL="163080" indent="-3276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TMedium"/>
              </a:rPr>
              <a:t>personal profile (using email and data files on user’s pc or form for explicit construction)</a:t>
            </a:r>
            <a:endParaRPr b="0" lang="en-US" sz="1800" spc="-1" strike="noStrike">
              <a:solidFill>
                <a:srgbClr val="ffffff"/>
              </a:solidFill>
              <a:latin typeface="BTMedium"/>
            </a:endParaRPr>
          </a:p>
          <a:p>
            <a:pPr lvl="2" marL="163080" indent="-32760"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TMedium"/>
              </a:rPr>
              <a:t>task, product or interface specification </a:t>
            </a:r>
            <a:endParaRPr b="0" lang="en-US" sz="1800" spc="-1" strike="noStrike">
              <a:solidFill>
                <a:srgbClr val="ffffff"/>
              </a:solidFill>
              <a:latin typeface="BTMedium"/>
            </a:endParaRPr>
          </a:p>
          <a:p>
            <a:pPr lvl="1" marL="93240" indent="-230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algorithm for similarity measurement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93240" indent="-230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reduced dimension profile (for base calculation)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93240" indent="-230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algorithm for dimension reduction and reference vectors (for on-the-fly calculation)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34560" indent="-34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When two parties meet, ask one another whether they subscribe to the profiling service, if yes, exchange reduced profile coordinates 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34560" indent="-3456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+ 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25"/>
                </a:solidFill>
                <a:latin typeface="BTMedium"/>
              </a:rPr>
              <a:t>In conclusion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Expansion of profile use is suggested by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abundance of profile data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importance of profiles in human society etc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Lightweight reduced dimension profile: base calculation and on-the-fly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lightweight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protects detail of profile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allows similarity to be calculated without third party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Empirical accuracy investigation and security analysis favourable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25"/>
                </a:solidFill>
                <a:latin typeface="BTMedium"/>
              </a:rPr>
              <a:t>Acknowledgements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EPSRC and BTexact (Future Technologies Group) funding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agents@city group at City University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225"/>
                </a:solidFill>
                <a:latin typeface="BTMedium"/>
              </a:rPr>
              <a:t>Role of profiles?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Different kinds of agents, extensions of ourselves or not, carrying our/their  profiles or profiles of our/their tasks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Role of profiles should expand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TMedium"/>
              </a:rPr>
              <a:t>Profile use is central to human society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TMedium"/>
              </a:rPr>
              <a:t>Profile rich environment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TMedium"/>
              </a:rPr>
              <a:t>Role of search expanding esp wrt semantic web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TMedium"/>
              </a:rPr>
              <a:t>Similarity of correspondents → semantic thickness of channel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TMedium"/>
              </a:rPr>
              <a:t>Agent societies to become ubiquitous in the new computing environments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268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  <p:sp>
        <p:nvSpPr>
          <p:cNvPr id="90" name=""/>
          <p:cNvSpPr/>
          <p:nvPr/>
        </p:nvSpPr>
        <p:spPr>
          <a:xfrm>
            <a:off x="588960" y="2662200"/>
            <a:ext cx="325440" cy="263520"/>
          </a:xfrm>
          <a:prstGeom prst="star5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0640" y="3551400"/>
            <a:ext cx="325440" cy="263520"/>
          </a:xfrm>
          <a:prstGeom prst="star5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225"/>
                </a:solidFill>
                <a:latin typeface="BTMedium"/>
              </a:rPr>
              <a:t>Using profiles?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Difference between agent and human societies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TMedium"/>
              </a:rPr>
              <a:t>Agents can meet and measure similarity of 1,000 element vectors in a millisecond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TMedium"/>
              </a:rPr>
              <a:t>Humans can’t, but do the equivalent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Problems: privacy, complexity, ontologies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TMedium"/>
              </a:rPr>
              <a:t>Suggest new forms of profile employment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225"/>
                </a:solidFill>
                <a:latin typeface="BTMedium"/>
              </a:rPr>
              <a:t>Main themes of talk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Background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Profile use in multi agent systems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Profile definition and similarity measurement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Use of transformed profile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Back at base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On the fly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Issues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Accuracy and security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Conclusions and future work (profiling service implementation)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225"/>
                </a:solidFill>
                <a:latin typeface="BTMedium"/>
              </a:rPr>
              <a:t>Profile use in MAS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Matching seeker with sought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Profile of user (agent or interface)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Profile of task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lvl="1" marL="717480" indent="-1792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BT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TMedium"/>
              </a:rPr>
              <a:t>Extend concept to include e.g. logical profiles of BDI agents</a:t>
            </a:r>
            <a:endParaRPr b="0" lang="en-US" sz="20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To measure, need a </a:t>
            </a:r>
            <a:r>
              <a:rPr b="0" i="1" lang="en-US" sz="2400" spc="-1" strike="noStrike">
                <a:solidFill>
                  <a:srgbClr val="ffffff"/>
                </a:solidFill>
                <a:latin typeface="BTMedium"/>
              </a:rPr>
              <a:t>metric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225"/>
                </a:solidFill>
                <a:latin typeface="BTMedium"/>
              </a:rPr>
              <a:t>Examples of use in MAS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Faratin et al use maximum value distance for negotiation trade-offs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Yenta uses correlation, direct comparison for matching profiles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Somlo and Howe use incremental clustering for web agents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  <a:p>
            <a:pPr marL="268200" indent="-26820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BT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TMedium"/>
              </a:rPr>
              <a:t>GRAPPA matches job applicants with vacancies</a:t>
            </a:r>
            <a:endParaRPr b="0" lang="en-US" sz="2400" spc="-1" strike="noStrike">
              <a:solidFill>
                <a:srgbClr val="ffffff"/>
              </a:solidFill>
              <a:latin typeface="BT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225"/>
                </a:solidFill>
                <a:latin typeface="BTMedium"/>
              </a:rPr>
              <a:t>Finding and remembering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801880" y="1494000"/>
            <a:ext cx="3352680" cy="3987360"/>
            <a:chOff x="2801880" y="1494000"/>
            <a:chExt cx="3352680" cy="3987360"/>
          </a:xfrm>
        </p:grpSpPr>
        <p:sp>
          <p:nvSpPr>
            <p:cNvPr id="102" name=""/>
            <p:cNvSpPr/>
            <p:nvPr/>
          </p:nvSpPr>
          <p:spPr>
            <a:xfrm>
              <a:off x="2801880" y="1494000"/>
              <a:ext cx="3352680" cy="1142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TMedium"/>
                </a:rPr>
                <a:t>Centraliz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01880" y="2916000"/>
              <a:ext cx="3352680" cy="1142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yriadLB"/>
                </a:rPr>
                <a:t>Left as a diffu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yriadLB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01880" y="4338720"/>
              <a:ext cx="3352680" cy="1142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yriadLB"/>
                </a:rPr>
                <a:t>As computatio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yriadLB"/>
                </a:rPr>
                <a:t>ecology 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225"/>
                </a:solidFill>
                <a:latin typeface="BTMedium"/>
              </a:rPr>
              <a:t>Agent and service discovery</a:t>
            </a:r>
            <a:endParaRPr b="0" lang="en-US" sz="3200" spc="-1" strike="noStrike">
              <a:solidFill>
                <a:srgbClr val="000225"/>
              </a:solidFill>
              <a:latin typeface="BTMedium"/>
            </a:endParaRPr>
          </a:p>
        </p:txBody>
      </p:sp>
      <p:sp>
        <p:nvSpPr>
          <p:cNvPr id="106" name=""/>
          <p:cNvSpPr/>
          <p:nvPr/>
        </p:nvSpPr>
        <p:spPr>
          <a:xfrm>
            <a:off x="2801880" y="1492200"/>
            <a:ext cx="3352680" cy="1143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LB"/>
              </a:rPr>
              <a:t>Use in cre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LB"/>
              </a:rPr>
              <a:t>yellow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01880" y="2914560"/>
            <a:ext cx="3352680" cy="1143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LB"/>
              </a:rPr>
              <a:t>Add profile info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yriadLB"/>
              </a:rPr>
              <a:t>white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0:28:43Z</dcterms:created>
  <dc:creator>Penny Noy</dc:creator>
  <dc:description/>
  <dc:language>en-US</dc:language>
  <cp:lastModifiedBy>James</cp:lastModifiedBy>
  <cp:lastPrinted>2003-05-03T21:23:06Z</cp:lastPrinted>
  <dcterms:modified xsi:type="dcterms:W3CDTF">2003-10-31T02:39:10Z</dcterms:modified>
  <cp:revision>30</cp:revision>
  <dc:subject/>
  <dc:title>Advancing Profile Use in Agent Societies</dc:title>
</cp:coreProperties>
</file>