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1871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1871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1871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1871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1871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1871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871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871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871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871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871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871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871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871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871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1871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1871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871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90720" cy="6858000"/>
          </a:xfrm>
          <a:prstGeom prst="rect">
            <a:avLst/>
          </a:prstGeom>
          <a:gradFill rotWithShape="0">
            <a:gsLst>
              <a:gs pos="0">
                <a:srgbClr val="666699"/>
              </a:gs>
              <a:gs pos="100000">
                <a:srgbClr val="3e3e5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1143000"/>
            <a:ext cx="8229600" cy="76320"/>
          </a:xfrm>
          <a:prstGeom prst="rect">
            <a:avLst/>
          </a:prstGeom>
          <a:gradFill rotWithShape="0">
            <a:gsLst>
              <a:gs pos="0">
                <a:srgbClr val="3e3e5c"/>
              </a:gs>
              <a:gs pos="100000">
                <a:srgbClr val="66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457200" y="6629040"/>
            <a:ext cx="8229600" cy="228600"/>
          </a:xfrm>
          <a:prstGeom prst="rect">
            <a:avLst/>
          </a:prstGeom>
          <a:solidFill>
            <a:srgbClr val="3e3e5c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66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ff"/>
                </a:solidFill>
                <a:latin typeface="Times New Roman"/>
              </a:rPr>
              <a:t>ESAW 2003 - Lond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686800" y="6629400"/>
            <a:ext cx="457200" cy="228600"/>
          </a:xfrm>
          <a:prstGeom prst="rect">
            <a:avLst/>
          </a:prstGeom>
          <a:solidFill>
            <a:srgbClr val="3e3e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E335A-7D22-40A6-A57F-38416E2EEFE8}" type="slidenum">
              <a:rPr b="0" lang="en-US" sz="1200" spc="-1" strike="noStrike">
                <a:solidFill>
                  <a:srgbClr val="6666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6629400"/>
            <a:ext cx="457200" cy="228600"/>
          </a:xfrm>
          <a:prstGeom prst="rect">
            <a:avLst/>
          </a:prstGeom>
          <a:solidFill>
            <a:srgbClr val="3e3e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457200" cy="228600"/>
          </a:xfrm>
          <a:prstGeom prst="rect">
            <a:avLst/>
          </a:prstGeom>
          <a:solidFill>
            <a:srgbClr val="3e3e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457200" y="0"/>
            <a:ext cx="8686800" cy="228600"/>
          </a:xfrm>
          <a:prstGeom prst="rect">
            <a:avLst/>
          </a:prstGeom>
          <a:solidFill>
            <a:srgbClr val="3e3e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"/>
              </a:rPr>
              <a:t>Formalizing the Reusability of Software Ag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90720" cy="6858000"/>
          </a:xfrm>
          <a:prstGeom prst="rect">
            <a:avLst/>
          </a:prstGeom>
          <a:gradFill rotWithShape="0">
            <a:gsLst>
              <a:gs pos="0">
                <a:srgbClr val="666699"/>
              </a:gs>
              <a:gs pos="100000">
                <a:srgbClr val="3e3e5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"/>
          <p:cNvSpPr/>
          <p:nvPr/>
        </p:nvSpPr>
        <p:spPr>
          <a:xfrm>
            <a:off x="0" y="-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4572000"/>
            <a:ext cx="1752480" cy="2286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2057400" y="3885840"/>
            <a:ext cx="6400800" cy="21337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Federico Bergen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133720" y="4503600"/>
          <a:ext cx="6248160" cy="1515960"/>
        </p:xfrm>
        <a:graphic>
          <a:graphicData uri="http://schemas.openxmlformats.org/drawingml/2006/table">
            <a:tbl>
              <a:tblPr/>
              <a:tblGrid>
                <a:gridCol w="3124080"/>
                <a:gridCol w="3124080"/>
              </a:tblGrid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OT La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RAMeTech S.R.L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arco Area delle Scienze, 181/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ia San Leonardo, 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3100 Parma, Italy</a:t>
                      </a: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	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3100 Parma, Ital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bergenti@ce.unipr.i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bergenti@frame-tech.i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http://aot.ce.unipr.i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http://www.frame-tech.i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2971800"/>
            <a:ext cx="1752480" cy="2158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0" y="1600200"/>
            <a:ext cx="1752480" cy="1854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752480" cy="16765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ormalizing the Reusability of Software Agents</a:t>
            </a:r>
            <a:endParaRPr b="0" i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38862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we assume a common (limited) model of the world and a common language, then semantic interoperability is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practica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even if not ideal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day, the work directed towards semantic interoperability (e.g., DAML-S) is limited by the use of task delegation instead of goal delega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1600200"/>
            <a:ext cx="8229600" cy="2209680"/>
          </a:xfrm>
          <a:prstGeom prst="rect">
            <a:avLst/>
          </a:prstGeom>
          <a:solidFill>
            <a:srgbClr val="605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Semantic Interoperability (2/2)</a:t>
            </a:r>
            <a:endParaRPr b="0" i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57200" y="1600200"/>
          <a:ext cx="8229600" cy="21877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he definition states that if (and only if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has a goal an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</a:t>
                      </a:r>
                      <a:r>
                        <a:rPr b="0" i="1" lang="en-US" sz="20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C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wants some </a:t>
                      </a: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to bring about this go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</a:t>
                      </a:r>
                      <a:r>
                        <a:rPr b="0" i="1" lang="en-US" sz="20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C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one(delegate(C, S, g)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hen, </a:t>
                      </a: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knows of this wis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</a:t>
                      </a:r>
                      <a:r>
                        <a:rPr b="0" i="1" lang="en-US" sz="20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S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</a:t>
                      </a:r>
                      <a:r>
                        <a:rPr b="0" i="1" lang="en-US" sz="20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C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one(delegate(C, S, g)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57200" y="4038480"/>
            <a:ext cx="8229600" cy="2514600"/>
          </a:xfrm>
          <a:prstGeom prst="rect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Semantic Composability (1/2)</a:t>
            </a:r>
            <a:endParaRPr b="0" i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rting from semantic interoperability, we can abstract away the requirement of agents knowing each othe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fore the interaction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fter the purpose of the interaction has been achiev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4022640"/>
            <a:ext cx="8229600" cy="26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finition of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Semantic Composa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iven a set of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agents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MA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={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…,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}, they are said to be semantically composable if and only i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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MA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g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 G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Tahoma"/>
              </a:rPr>
              <a:t>C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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MA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: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solves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Tahoma"/>
              </a:rPr>
              <a:t>S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G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Tahoma"/>
              </a:rPr>
              <a:t>C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done(delegate(C, S, g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here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solves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are the goals that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can sol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57200" y="1600200"/>
            <a:ext cx="8229600" cy="3352680"/>
          </a:xfrm>
          <a:prstGeom prst="rect">
            <a:avLst/>
          </a:prstGeom>
          <a:solidFill>
            <a:srgbClr val="605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457200" y="1600200"/>
          <a:ext cx="8229600" cy="33735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254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he definition states that the agents in a </a:t>
                      </a: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S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are semantically composable if (and only if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lives in the </a:t>
                      </a: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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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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nd </a:t>
                      </a: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has a go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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: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G</a:t>
                      </a:r>
                      <a:r>
                        <a:rPr b="0" i="1" lang="en-US" sz="20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C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f there is an </a:t>
                      </a: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in the </a:t>
                      </a: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S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capable of solving i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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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S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: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olves</a:t>
                      </a:r>
                      <a:r>
                        <a:rPr b="0" i="1" lang="en-US" sz="20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hen, </a:t>
                      </a: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can delegate the goal to </a:t>
                      </a:r>
                      <a:r>
                        <a:rPr b="0" i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</a:t>
                      </a:r>
                      <a:r>
                        <a:rPr b="0" i="1" lang="en-US" sz="20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S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</a:t>
                      </a:r>
                      <a:r>
                        <a:rPr b="0" i="1" lang="en-US" sz="2000" spc="-1" strike="noStrike" baseline="-25000">
                          <a:solidFill>
                            <a:srgbClr val="ffffff"/>
                          </a:solidFill>
                          <a:latin typeface="Tahoma"/>
                        </a:rPr>
                        <a:t>C</a:t>
                      </a: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one(delegate(C, S, g)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49525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 is compatible with the common approach of explicitly choosing the agent to interact wit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f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wants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to achieve goal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for it, then the goal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g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of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would be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g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ahoma"/>
              </a:rPr>
              <a:t>S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G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ahoma"/>
              </a:rPr>
              <a:t>C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G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ahoma"/>
              </a:rPr>
              <a:t>S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j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Semantic Composability (2/2)</a:t>
            </a:r>
            <a:endParaRPr b="0" i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57200" y="4952880"/>
            <a:ext cx="8229600" cy="1600200"/>
          </a:xfrm>
          <a:prstGeom prst="rect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Semantic Substituibility</a:t>
            </a:r>
            <a:endParaRPr b="0" i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amework reusability requires plugging new agents to customize a complete systems to new requiremen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we want to capture is that, from the point of view of any possible agent interested in the interaction, new and old agents provide the same servic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4937040"/>
            <a:ext cx="822960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finition of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Semantic Extensibility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Substituibility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iven two agents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we can say that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is a semantic extension of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if and only i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g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 solves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g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solves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g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Approximating the Ideal Model (1/4)</a:t>
            </a:r>
            <a:endParaRPr b="0" i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-51192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veryday components rely on object-oriented infrastructures to approximate ideal reusabil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77680" indent="-438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state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the knowledge of the component is approximated with the state of the component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77680" indent="-438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postcondition-of-next-call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G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the goals of a component are approximated with a singleton set containing the postcondition of the method that the component is about to invoke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77680" indent="-438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postconditions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solves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the goals a component can solve are approximated with the set of postconditions of its methods. Nothing is said about the state of the environmen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776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11920" indent="-51192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orer models of components (e.g., Javabeans) support poorer approximatio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Approximating the Ideal Model (2/4)</a:t>
            </a:r>
            <a:endParaRPr b="0" i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infrastructure provides only a message delivery servic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ly tasks can be deleg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done(execute-the-body-of-a-method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ed for an explicit knowledge of components before and after the interac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bstituibility is implemented with inherita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atic (design-time)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mantics embedded in methods signatur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Approximating the Ideal Model (3/4)</a:t>
            </a:r>
            <a:endParaRPr b="0" i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ADE 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DI) ag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we approximate the knowledge of the agent with what the agent beliefs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G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we approximate the goals of an agent with the intentions that it reasoned from its knowledge of and from its internal rules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capable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ahoma"/>
              </a:rPr>
              <a:t>A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solves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we approximate the goals that an agent can solve with the postconditions of its feasible action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ADE infrastructure provides a transparent matchmaking servi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Approximating the Ideal Model (4/4)</a:t>
            </a:r>
            <a:endParaRPr b="0" i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matchmaking service guarantees th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gents do not need to know each other nor before nor after the interaction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action is mainly driven by goal delega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al-driven, declarative behavior is embedded in an imperative Java cod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matchmaker implements substituibility because it reasons on published capabiliti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Discussion (1/2)</a:t>
            </a:r>
            <a:endParaRPr b="0" i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definitions that we provided put some constraints on software infrastructures that wants to support better approximations to (this sort of) ideal reusabilit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frastructures shoul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e a means for transferring knowledge and goals (mainly goals), and not only for moving data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pport agents finding each other transparently, i.e., without an explicit request (from the agent or from the programmer)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llow agents finding problem solvers and not just task executors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able choosing a problem solver on the basis of what it can do and not on how it can describe its capabiliti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Discussion (2/2)</a:t>
            </a:r>
            <a:endParaRPr b="0" i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me “intelligence” is moved to the infrastructu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ill, we do not program the infrastructur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tter approximations to the ideal model are obtained with better reasoning capabili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 the agents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 the infrastructur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asoning can 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nly in agents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omain-dependent part in agents together with domain-independent part in the infrastructur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Software Reuse</a:t>
            </a:r>
            <a:endParaRPr b="0" i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principle, an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ifac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f the software lifecycle can be reus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piece of specification (e.g., a use case)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piece of design (e.g., design pattern, architecture)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inkable modul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e.g., DLL, .NET module)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pieces source code (e.g., STL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focus on reusing linkable modu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at do we need to deliver reusable modu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at is the maximum level of reusability we might expect from a given technology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ffffff"/>
                </a:solidFill>
                <a:latin typeface="Tahoma"/>
              </a:rPr>
              <a:t>Thanks…</a:t>
            </a:r>
            <a:endParaRPr b="0" i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229600" cy="5410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3" name=""/>
          <p:cNvGraphicFramePr/>
          <p:nvPr/>
        </p:nvGraphicFramePr>
        <p:xfrm>
          <a:off x="457200" y="5113440"/>
          <a:ext cx="8229240" cy="151596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OT La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RAMeTech S.R.L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arco Area delle Scienze, 181/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ia San Leonardo, 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3100 Parma, Italy</a:t>
                      </a: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	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3100 Parma, Ital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bergenti@ce.unipr.i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bergenti@frame-tech.i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http://aot.ce.unipr.i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http://www.frame-tech.i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"/>
          <p:cNvSpPr/>
          <p:nvPr/>
        </p:nvSpPr>
        <p:spPr>
          <a:xfrm>
            <a:off x="685800" y="3119400"/>
            <a:ext cx="77724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4648320" y="1600200"/>
            <a:ext cx="4038480" cy="4952880"/>
            <a:chOff x="4648320" y="1600200"/>
            <a:chExt cx="4038480" cy="4952880"/>
          </a:xfrm>
        </p:grpSpPr>
        <p:sp>
          <p:nvSpPr>
            <p:cNvPr id="96" name=""/>
            <p:cNvSpPr/>
            <p:nvPr/>
          </p:nvSpPr>
          <p:spPr>
            <a:xfrm>
              <a:off x="4648320" y="1600200"/>
              <a:ext cx="4038480" cy="4952880"/>
            </a:xfrm>
            <a:prstGeom prst="rect">
              <a:avLst/>
            </a:prstGeom>
            <a:solidFill>
              <a:srgbClr val="60597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648320" y="3900600"/>
              <a:ext cx="403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frastructu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Software Components</a:t>
            </a:r>
            <a:endParaRPr b="0" i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usable (linkable) modules that we assembly to build a complete system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functionality of the system is developed making components interac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infrastructur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is the glue that enables interac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inker of the operating system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RBA, Web services, …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uple spaces, blackboard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infrastructure compris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model (with associated semantics) of the interaction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communication mean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4648320" y="1600200"/>
            <a:ext cx="4038480" cy="4952880"/>
            <a:chOff x="4648320" y="1600200"/>
            <a:chExt cx="4038480" cy="4952880"/>
          </a:xfrm>
        </p:grpSpPr>
        <p:grpSp>
          <p:nvGrpSpPr>
            <p:cNvPr id="101" name=""/>
            <p:cNvGrpSpPr/>
            <p:nvPr/>
          </p:nvGrpSpPr>
          <p:grpSpPr>
            <a:xfrm>
              <a:off x="7165800" y="1600200"/>
              <a:ext cx="1521000" cy="2259000"/>
              <a:chOff x="7165800" y="1600200"/>
              <a:chExt cx="1521000" cy="2259000"/>
            </a:xfrm>
          </p:grpSpPr>
          <p:sp>
            <p:nvSpPr>
              <p:cNvPr id="102" name=""/>
              <p:cNvSpPr/>
              <p:nvPr/>
            </p:nvSpPr>
            <p:spPr>
              <a:xfrm>
                <a:off x="7174080" y="1609560"/>
                <a:ext cx="1495080" cy="2230560"/>
              </a:xfrm>
              <a:custGeom>
                <a:avLst/>
                <a:gdLst/>
                <a:ahLst/>
                <a:rect l="l" t="t" r="r" b="b"/>
                <a:pathLst>
                  <a:path w="1062" h="1454">
                    <a:moveTo>
                      <a:pt x="323" y="1402"/>
                    </a:moveTo>
                    <a:lnTo>
                      <a:pt x="346" y="1408"/>
                    </a:lnTo>
                    <a:lnTo>
                      <a:pt x="364" y="1414"/>
                    </a:lnTo>
                    <a:lnTo>
                      <a:pt x="387" y="1414"/>
                    </a:lnTo>
                    <a:lnTo>
                      <a:pt x="404" y="1414"/>
                    </a:lnTo>
                    <a:lnTo>
                      <a:pt x="416" y="1414"/>
                    </a:lnTo>
                    <a:lnTo>
                      <a:pt x="427" y="1408"/>
                    </a:lnTo>
                    <a:lnTo>
                      <a:pt x="439" y="1402"/>
                    </a:lnTo>
                    <a:lnTo>
                      <a:pt x="445" y="1391"/>
                    </a:lnTo>
                    <a:lnTo>
                      <a:pt x="456" y="1385"/>
                    </a:lnTo>
                    <a:lnTo>
                      <a:pt x="456" y="1373"/>
                    </a:lnTo>
                    <a:lnTo>
                      <a:pt x="456" y="1362"/>
                    </a:lnTo>
                    <a:lnTo>
                      <a:pt x="456" y="1345"/>
                    </a:lnTo>
                    <a:lnTo>
                      <a:pt x="456" y="1333"/>
                    </a:lnTo>
                    <a:lnTo>
                      <a:pt x="450" y="1321"/>
                    </a:lnTo>
                    <a:lnTo>
                      <a:pt x="445" y="1310"/>
                    </a:lnTo>
                    <a:lnTo>
                      <a:pt x="433" y="1298"/>
                    </a:lnTo>
                    <a:lnTo>
                      <a:pt x="422" y="1287"/>
                    </a:lnTo>
                    <a:lnTo>
                      <a:pt x="410" y="1264"/>
                    </a:lnTo>
                    <a:lnTo>
                      <a:pt x="404" y="1246"/>
                    </a:lnTo>
                    <a:lnTo>
                      <a:pt x="398" y="1229"/>
                    </a:lnTo>
                    <a:lnTo>
                      <a:pt x="393" y="1212"/>
                    </a:lnTo>
                    <a:lnTo>
                      <a:pt x="387" y="1189"/>
                    </a:lnTo>
                    <a:lnTo>
                      <a:pt x="387" y="1171"/>
                    </a:lnTo>
                    <a:lnTo>
                      <a:pt x="393" y="1148"/>
                    </a:lnTo>
                    <a:lnTo>
                      <a:pt x="398" y="1131"/>
                    </a:lnTo>
                    <a:lnTo>
                      <a:pt x="404" y="1114"/>
                    </a:lnTo>
                    <a:lnTo>
                      <a:pt x="410" y="1108"/>
                    </a:lnTo>
                    <a:lnTo>
                      <a:pt x="416" y="1096"/>
                    </a:lnTo>
                    <a:lnTo>
                      <a:pt x="422" y="1091"/>
                    </a:lnTo>
                    <a:lnTo>
                      <a:pt x="427" y="1085"/>
                    </a:lnTo>
                    <a:lnTo>
                      <a:pt x="433" y="1079"/>
                    </a:lnTo>
                    <a:lnTo>
                      <a:pt x="445" y="1073"/>
                    </a:lnTo>
                    <a:lnTo>
                      <a:pt x="450" y="1073"/>
                    </a:lnTo>
                    <a:lnTo>
                      <a:pt x="462" y="1068"/>
                    </a:lnTo>
                    <a:lnTo>
                      <a:pt x="473" y="1062"/>
                    </a:lnTo>
                    <a:lnTo>
                      <a:pt x="485" y="1062"/>
                    </a:lnTo>
                    <a:lnTo>
                      <a:pt x="497" y="1056"/>
                    </a:lnTo>
                    <a:lnTo>
                      <a:pt x="508" y="1056"/>
                    </a:lnTo>
                    <a:lnTo>
                      <a:pt x="525" y="1056"/>
                    </a:lnTo>
                    <a:lnTo>
                      <a:pt x="537" y="1056"/>
                    </a:lnTo>
                    <a:lnTo>
                      <a:pt x="554" y="1062"/>
                    </a:lnTo>
                    <a:lnTo>
                      <a:pt x="566" y="1062"/>
                    </a:lnTo>
                    <a:lnTo>
                      <a:pt x="577" y="1068"/>
                    </a:lnTo>
                    <a:lnTo>
                      <a:pt x="589" y="1073"/>
                    </a:lnTo>
                    <a:lnTo>
                      <a:pt x="600" y="1073"/>
                    </a:lnTo>
                    <a:lnTo>
                      <a:pt x="606" y="1079"/>
                    </a:lnTo>
                    <a:lnTo>
                      <a:pt x="618" y="1085"/>
                    </a:lnTo>
                    <a:lnTo>
                      <a:pt x="623" y="1091"/>
                    </a:lnTo>
                    <a:lnTo>
                      <a:pt x="635" y="1096"/>
                    </a:lnTo>
                    <a:lnTo>
                      <a:pt x="641" y="1108"/>
                    </a:lnTo>
                    <a:lnTo>
                      <a:pt x="647" y="1120"/>
                    </a:lnTo>
                    <a:lnTo>
                      <a:pt x="658" y="1137"/>
                    </a:lnTo>
                    <a:lnTo>
                      <a:pt x="664" y="1154"/>
                    </a:lnTo>
                    <a:lnTo>
                      <a:pt x="664" y="1171"/>
                    </a:lnTo>
                    <a:lnTo>
                      <a:pt x="664" y="1195"/>
                    </a:lnTo>
                    <a:lnTo>
                      <a:pt x="664" y="1212"/>
                    </a:lnTo>
                    <a:lnTo>
                      <a:pt x="658" y="1229"/>
                    </a:lnTo>
                    <a:lnTo>
                      <a:pt x="652" y="1246"/>
                    </a:lnTo>
                    <a:lnTo>
                      <a:pt x="641" y="1258"/>
                    </a:lnTo>
                    <a:lnTo>
                      <a:pt x="629" y="1275"/>
                    </a:lnTo>
                    <a:lnTo>
                      <a:pt x="606" y="1298"/>
                    </a:lnTo>
                    <a:lnTo>
                      <a:pt x="595" y="1321"/>
                    </a:lnTo>
                    <a:lnTo>
                      <a:pt x="589" y="1333"/>
                    </a:lnTo>
                    <a:lnTo>
                      <a:pt x="583" y="1339"/>
                    </a:lnTo>
                    <a:lnTo>
                      <a:pt x="583" y="1350"/>
                    </a:lnTo>
                    <a:lnTo>
                      <a:pt x="583" y="1356"/>
                    </a:lnTo>
                    <a:lnTo>
                      <a:pt x="583" y="1368"/>
                    </a:lnTo>
                    <a:lnTo>
                      <a:pt x="583" y="1373"/>
                    </a:lnTo>
                    <a:lnTo>
                      <a:pt x="589" y="1379"/>
                    </a:lnTo>
                    <a:lnTo>
                      <a:pt x="595" y="1385"/>
                    </a:lnTo>
                    <a:lnTo>
                      <a:pt x="606" y="1396"/>
                    </a:lnTo>
                    <a:lnTo>
                      <a:pt x="612" y="1402"/>
                    </a:lnTo>
                    <a:lnTo>
                      <a:pt x="623" y="1408"/>
                    </a:lnTo>
                    <a:lnTo>
                      <a:pt x="641" y="1414"/>
                    </a:lnTo>
                    <a:lnTo>
                      <a:pt x="658" y="1420"/>
                    </a:lnTo>
                    <a:lnTo>
                      <a:pt x="681" y="1425"/>
                    </a:lnTo>
                    <a:lnTo>
                      <a:pt x="704" y="1437"/>
                    </a:lnTo>
                    <a:lnTo>
                      <a:pt x="727" y="1437"/>
                    </a:lnTo>
                    <a:lnTo>
                      <a:pt x="750" y="1443"/>
                    </a:lnTo>
                    <a:lnTo>
                      <a:pt x="774" y="1448"/>
                    </a:lnTo>
                    <a:lnTo>
                      <a:pt x="802" y="1454"/>
                    </a:lnTo>
                    <a:lnTo>
                      <a:pt x="831" y="1454"/>
                    </a:lnTo>
                    <a:lnTo>
                      <a:pt x="854" y="1454"/>
                    </a:lnTo>
                    <a:lnTo>
                      <a:pt x="883" y="1454"/>
                    </a:lnTo>
                    <a:lnTo>
                      <a:pt x="906" y="1454"/>
                    </a:lnTo>
                    <a:lnTo>
                      <a:pt x="929" y="1448"/>
                    </a:lnTo>
                    <a:lnTo>
                      <a:pt x="952" y="1443"/>
                    </a:lnTo>
                    <a:lnTo>
                      <a:pt x="975" y="1437"/>
                    </a:lnTo>
                    <a:lnTo>
                      <a:pt x="993" y="1425"/>
                    </a:lnTo>
                    <a:lnTo>
                      <a:pt x="1010" y="1414"/>
                    </a:lnTo>
                    <a:lnTo>
                      <a:pt x="1004" y="1396"/>
                    </a:lnTo>
                    <a:lnTo>
                      <a:pt x="1004" y="1373"/>
                    </a:lnTo>
                    <a:lnTo>
                      <a:pt x="999" y="1350"/>
                    </a:lnTo>
                    <a:lnTo>
                      <a:pt x="999" y="1327"/>
                    </a:lnTo>
                    <a:lnTo>
                      <a:pt x="999" y="1281"/>
                    </a:lnTo>
                    <a:lnTo>
                      <a:pt x="999" y="1229"/>
                    </a:lnTo>
                    <a:lnTo>
                      <a:pt x="1004" y="1183"/>
                    </a:lnTo>
                    <a:lnTo>
                      <a:pt x="1004" y="1137"/>
                    </a:lnTo>
                    <a:lnTo>
                      <a:pt x="1010" y="1102"/>
                    </a:lnTo>
                    <a:lnTo>
                      <a:pt x="1010" y="1073"/>
                    </a:lnTo>
                    <a:lnTo>
                      <a:pt x="1010" y="1068"/>
                    </a:lnTo>
                    <a:lnTo>
                      <a:pt x="1004" y="1056"/>
                    </a:lnTo>
                    <a:lnTo>
                      <a:pt x="999" y="1045"/>
                    </a:lnTo>
                    <a:lnTo>
                      <a:pt x="993" y="1033"/>
                    </a:lnTo>
                    <a:lnTo>
                      <a:pt x="981" y="1027"/>
                    </a:lnTo>
                    <a:lnTo>
                      <a:pt x="970" y="1021"/>
                    </a:lnTo>
                    <a:lnTo>
                      <a:pt x="958" y="1010"/>
                    </a:lnTo>
                    <a:lnTo>
                      <a:pt x="947" y="1010"/>
                    </a:lnTo>
                    <a:lnTo>
                      <a:pt x="935" y="1004"/>
                    </a:lnTo>
                    <a:lnTo>
                      <a:pt x="924" y="998"/>
                    </a:lnTo>
                    <a:lnTo>
                      <a:pt x="912" y="998"/>
                    </a:lnTo>
                    <a:lnTo>
                      <a:pt x="895" y="998"/>
                    </a:lnTo>
                    <a:lnTo>
                      <a:pt x="883" y="1004"/>
                    </a:lnTo>
                    <a:lnTo>
                      <a:pt x="872" y="1010"/>
                    </a:lnTo>
                    <a:lnTo>
                      <a:pt x="860" y="1016"/>
                    </a:lnTo>
                    <a:lnTo>
                      <a:pt x="854" y="1027"/>
                    </a:lnTo>
                    <a:lnTo>
                      <a:pt x="843" y="1033"/>
                    </a:lnTo>
                    <a:lnTo>
                      <a:pt x="831" y="1039"/>
                    </a:lnTo>
                    <a:lnTo>
                      <a:pt x="820" y="1045"/>
                    </a:lnTo>
                    <a:lnTo>
                      <a:pt x="802" y="1050"/>
                    </a:lnTo>
                    <a:lnTo>
                      <a:pt x="785" y="1050"/>
                    </a:lnTo>
                    <a:lnTo>
                      <a:pt x="768" y="1050"/>
                    </a:lnTo>
                    <a:lnTo>
                      <a:pt x="750" y="1050"/>
                    </a:lnTo>
                    <a:lnTo>
                      <a:pt x="733" y="1045"/>
                    </a:lnTo>
                    <a:lnTo>
                      <a:pt x="716" y="1039"/>
                    </a:lnTo>
                    <a:lnTo>
                      <a:pt x="699" y="1027"/>
                    </a:lnTo>
                    <a:lnTo>
                      <a:pt x="687" y="1016"/>
                    </a:lnTo>
                    <a:lnTo>
                      <a:pt x="670" y="1004"/>
                    </a:lnTo>
                    <a:lnTo>
                      <a:pt x="664" y="993"/>
                    </a:lnTo>
                    <a:lnTo>
                      <a:pt x="658" y="987"/>
                    </a:lnTo>
                    <a:lnTo>
                      <a:pt x="658" y="975"/>
                    </a:lnTo>
                    <a:lnTo>
                      <a:pt x="652" y="970"/>
                    </a:lnTo>
                    <a:lnTo>
                      <a:pt x="647" y="958"/>
                    </a:lnTo>
                    <a:lnTo>
                      <a:pt x="647" y="946"/>
                    </a:lnTo>
                    <a:lnTo>
                      <a:pt x="647" y="935"/>
                    </a:lnTo>
                    <a:lnTo>
                      <a:pt x="647" y="923"/>
                    </a:lnTo>
                    <a:lnTo>
                      <a:pt x="647" y="912"/>
                    </a:lnTo>
                    <a:lnTo>
                      <a:pt x="647" y="895"/>
                    </a:lnTo>
                    <a:lnTo>
                      <a:pt x="647" y="883"/>
                    </a:lnTo>
                    <a:lnTo>
                      <a:pt x="652" y="871"/>
                    </a:lnTo>
                    <a:lnTo>
                      <a:pt x="658" y="860"/>
                    </a:lnTo>
                    <a:lnTo>
                      <a:pt x="658" y="848"/>
                    </a:lnTo>
                    <a:lnTo>
                      <a:pt x="664" y="843"/>
                    </a:lnTo>
                    <a:lnTo>
                      <a:pt x="675" y="831"/>
                    </a:lnTo>
                    <a:lnTo>
                      <a:pt x="687" y="820"/>
                    </a:lnTo>
                    <a:lnTo>
                      <a:pt x="704" y="802"/>
                    </a:lnTo>
                    <a:lnTo>
                      <a:pt x="722" y="791"/>
                    </a:lnTo>
                    <a:lnTo>
                      <a:pt x="739" y="785"/>
                    </a:lnTo>
                    <a:lnTo>
                      <a:pt x="756" y="779"/>
                    </a:lnTo>
                    <a:lnTo>
                      <a:pt x="774" y="779"/>
                    </a:lnTo>
                    <a:lnTo>
                      <a:pt x="797" y="779"/>
                    </a:lnTo>
                    <a:lnTo>
                      <a:pt x="814" y="779"/>
                    </a:lnTo>
                    <a:lnTo>
                      <a:pt x="831" y="785"/>
                    </a:lnTo>
                    <a:lnTo>
                      <a:pt x="849" y="791"/>
                    </a:lnTo>
                    <a:lnTo>
                      <a:pt x="860" y="802"/>
                    </a:lnTo>
                    <a:lnTo>
                      <a:pt x="872" y="808"/>
                    </a:lnTo>
                    <a:lnTo>
                      <a:pt x="877" y="820"/>
                    </a:lnTo>
                    <a:lnTo>
                      <a:pt x="889" y="825"/>
                    </a:lnTo>
                    <a:lnTo>
                      <a:pt x="895" y="831"/>
                    </a:lnTo>
                    <a:lnTo>
                      <a:pt x="906" y="831"/>
                    </a:lnTo>
                    <a:lnTo>
                      <a:pt x="918" y="837"/>
                    </a:lnTo>
                    <a:lnTo>
                      <a:pt x="929" y="843"/>
                    </a:lnTo>
                    <a:lnTo>
                      <a:pt x="941" y="843"/>
                    </a:lnTo>
                    <a:lnTo>
                      <a:pt x="952" y="843"/>
                    </a:lnTo>
                    <a:lnTo>
                      <a:pt x="964" y="843"/>
                    </a:lnTo>
                    <a:lnTo>
                      <a:pt x="975" y="843"/>
                    </a:lnTo>
                    <a:lnTo>
                      <a:pt x="987" y="837"/>
                    </a:lnTo>
                    <a:lnTo>
                      <a:pt x="999" y="837"/>
                    </a:lnTo>
                    <a:lnTo>
                      <a:pt x="1010" y="831"/>
                    </a:lnTo>
                    <a:lnTo>
                      <a:pt x="1022" y="825"/>
                    </a:lnTo>
                    <a:lnTo>
                      <a:pt x="1033" y="820"/>
                    </a:lnTo>
                    <a:lnTo>
                      <a:pt x="1045" y="808"/>
                    </a:lnTo>
                    <a:lnTo>
                      <a:pt x="1045" y="802"/>
                    </a:lnTo>
                    <a:lnTo>
                      <a:pt x="1051" y="802"/>
                    </a:lnTo>
                    <a:lnTo>
                      <a:pt x="1056" y="791"/>
                    </a:lnTo>
                    <a:lnTo>
                      <a:pt x="1056" y="785"/>
                    </a:lnTo>
                    <a:lnTo>
                      <a:pt x="1062" y="768"/>
                    </a:lnTo>
                    <a:lnTo>
                      <a:pt x="1062" y="745"/>
                    </a:lnTo>
                    <a:lnTo>
                      <a:pt x="1062" y="721"/>
                    </a:lnTo>
                    <a:lnTo>
                      <a:pt x="1062" y="698"/>
                    </a:lnTo>
                    <a:lnTo>
                      <a:pt x="1062" y="675"/>
                    </a:lnTo>
                    <a:lnTo>
                      <a:pt x="1056" y="646"/>
                    </a:lnTo>
                    <a:lnTo>
                      <a:pt x="1045" y="594"/>
                    </a:lnTo>
                    <a:lnTo>
                      <a:pt x="1033" y="548"/>
                    </a:lnTo>
                    <a:lnTo>
                      <a:pt x="1022" y="502"/>
                    </a:lnTo>
                    <a:lnTo>
                      <a:pt x="1010" y="468"/>
                    </a:lnTo>
                    <a:lnTo>
                      <a:pt x="981" y="473"/>
                    </a:lnTo>
                    <a:lnTo>
                      <a:pt x="952" y="473"/>
                    </a:lnTo>
                    <a:lnTo>
                      <a:pt x="924" y="479"/>
                    </a:lnTo>
                    <a:lnTo>
                      <a:pt x="895" y="479"/>
                    </a:lnTo>
                    <a:lnTo>
                      <a:pt x="866" y="479"/>
                    </a:lnTo>
                    <a:lnTo>
                      <a:pt x="837" y="479"/>
                    </a:lnTo>
                    <a:lnTo>
                      <a:pt x="808" y="473"/>
                    </a:lnTo>
                    <a:lnTo>
                      <a:pt x="785" y="473"/>
                    </a:lnTo>
                    <a:lnTo>
                      <a:pt x="733" y="468"/>
                    </a:lnTo>
                    <a:lnTo>
                      <a:pt x="699" y="462"/>
                    </a:lnTo>
                    <a:lnTo>
                      <a:pt x="670" y="456"/>
                    </a:lnTo>
                    <a:lnTo>
                      <a:pt x="664" y="450"/>
                    </a:lnTo>
                    <a:lnTo>
                      <a:pt x="641" y="444"/>
                    </a:lnTo>
                    <a:lnTo>
                      <a:pt x="623" y="433"/>
                    </a:lnTo>
                    <a:lnTo>
                      <a:pt x="606" y="421"/>
                    </a:lnTo>
                    <a:lnTo>
                      <a:pt x="595" y="404"/>
                    </a:lnTo>
                    <a:lnTo>
                      <a:pt x="583" y="387"/>
                    </a:lnTo>
                    <a:lnTo>
                      <a:pt x="577" y="375"/>
                    </a:lnTo>
                    <a:lnTo>
                      <a:pt x="572" y="358"/>
                    </a:lnTo>
                    <a:lnTo>
                      <a:pt x="566" y="346"/>
                    </a:lnTo>
                    <a:lnTo>
                      <a:pt x="566" y="329"/>
                    </a:lnTo>
                    <a:lnTo>
                      <a:pt x="572" y="312"/>
                    </a:lnTo>
                    <a:lnTo>
                      <a:pt x="572" y="294"/>
                    </a:lnTo>
                    <a:lnTo>
                      <a:pt x="577" y="283"/>
                    </a:lnTo>
                    <a:lnTo>
                      <a:pt x="583" y="271"/>
                    </a:lnTo>
                    <a:lnTo>
                      <a:pt x="595" y="260"/>
                    </a:lnTo>
                    <a:lnTo>
                      <a:pt x="600" y="248"/>
                    </a:lnTo>
                    <a:lnTo>
                      <a:pt x="612" y="237"/>
                    </a:lnTo>
                    <a:lnTo>
                      <a:pt x="623" y="225"/>
                    </a:lnTo>
                    <a:lnTo>
                      <a:pt x="629" y="214"/>
                    </a:lnTo>
                    <a:lnTo>
                      <a:pt x="641" y="196"/>
                    </a:lnTo>
                    <a:lnTo>
                      <a:pt x="647" y="179"/>
                    </a:lnTo>
                    <a:lnTo>
                      <a:pt x="652" y="162"/>
                    </a:lnTo>
                    <a:lnTo>
                      <a:pt x="652" y="139"/>
                    </a:lnTo>
                    <a:lnTo>
                      <a:pt x="652" y="121"/>
                    </a:lnTo>
                    <a:lnTo>
                      <a:pt x="652" y="98"/>
                    </a:lnTo>
                    <a:lnTo>
                      <a:pt x="647" y="81"/>
                    </a:lnTo>
                    <a:lnTo>
                      <a:pt x="641" y="58"/>
                    </a:lnTo>
                    <a:lnTo>
                      <a:pt x="635" y="52"/>
                    </a:lnTo>
                    <a:lnTo>
                      <a:pt x="629" y="46"/>
                    </a:lnTo>
                    <a:lnTo>
                      <a:pt x="618" y="35"/>
                    </a:lnTo>
                    <a:lnTo>
                      <a:pt x="612" y="29"/>
                    </a:lnTo>
                    <a:lnTo>
                      <a:pt x="606" y="23"/>
                    </a:lnTo>
                    <a:lnTo>
                      <a:pt x="595" y="18"/>
                    </a:lnTo>
                    <a:lnTo>
                      <a:pt x="583" y="12"/>
                    </a:lnTo>
                    <a:lnTo>
                      <a:pt x="572" y="6"/>
                    </a:lnTo>
                    <a:lnTo>
                      <a:pt x="554" y="0"/>
                    </a:lnTo>
                    <a:lnTo>
                      <a:pt x="543" y="0"/>
                    </a:lnTo>
                    <a:lnTo>
                      <a:pt x="525" y="0"/>
                    </a:lnTo>
                    <a:lnTo>
                      <a:pt x="508" y="0"/>
                    </a:lnTo>
                    <a:lnTo>
                      <a:pt x="497" y="0"/>
                    </a:lnTo>
                    <a:lnTo>
                      <a:pt x="479" y="0"/>
                    </a:lnTo>
                    <a:lnTo>
                      <a:pt x="468" y="0"/>
                    </a:lnTo>
                    <a:lnTo>
                      <a:pt x="456" y="6"/>
                    </a:lnTo>
                    <a:lnTo>
                      <a:pt x="445" y="6"/>
                    </a:lnTo>
                    <a:lnTo>
                      <a:pt x="433" y="12"/>
                    </a:lnTo>
                    <a:lnTo>
                      <a:pt x="422" y="18"/>
                    </a:lnTo>
                    <a:lnTo>
                      <a:pt x="410" y="23"/>
                    </a:lnTo>
                    <a:lnTo>
                      <a:pt x="404" y="29"/>
                    </a:lnTo>
                    <a:lnTo>
                      <a:pt x="393" y="35"/>
                    </a:lnTo>
                    <a:lnTo>
                      <a:pt x="387" y="41"/>
                    </a:lnTo>
                    <a:lnTo>
                      <a:pt x="381" y="52"/>
                    </a:lnTo>
                    <a:lnTo>
                      <a:pt x="370" y="64"/>
                    </a:lnTo>
                    <a:lnTo>
                      <a:pt x="364" y="87"/>
                    </a:lnTo>
                    <a:lnTo>
                      <a:pt x="358" y="104"/>
                    </a:lnTo>
                    <a:lnTo>
                      <a:pt x="358" y="121"/>
                    </a:lnTo>
                    <a:lnTo>
                      <a:pt x="358" y="139"/>
                    </a:lnTo>
                    <a:lnTo>
                      <a:pt x="358" y="162"/>
                    </a:lnTo>
                    <a:lnTo>
                      <a:pt x="364" y="179"/>
                    </a:lnTo>
                    <a:lnTo>
                      <a:pt x="370" y="196"/>
                    </a:lnTo>
                    <a:lnTo>
                      <a:pt x="381" y="208"/>
                    </a:lnTo>
                    <a:lnTo>
                      <a:pt x="393" y="225"/>
                    </a:lnTo>
                    <a:lnTo>
                      <a:pt x="404" y="237"/>
                    </a:lnTo>
                    <a:lnTo>
                      <a:pt x="416" y="254"/>
                    </a:lnTo>
                    <a:lnTo>
                      <a:pt x="422" y="271"/>
                    </a:lnTo>
                    <a:lnTo>
                      <a:pt x="427" y="283"/>
                    </a:lnTo>
                    <a:lnTo>
                      <a:pt x="433" y="300"/>
                    </a:lnTo>
                    <a:lnTo>
                      <a:pt x="433" y="318"/>
                    </a:lnTo>
                    <a:lnTo>
                      <a:pt x="427" y="335"/>
                    </a:lnTo>
                    <a:lnTo>
                      <a:pt x="427" y="352"/>
                    </a:lnTo>
                    <a:lnTo>
                      <a:pt x="416" y="369"/>
                    </a:lnTo>
                    <a:lnTo>
                      <a:pt x="410" y="381"/>
                    </a:lnTo>
                    <a:lnTo>
                      <a:pt x="398" y="398"/>
                    </a:lnTo>
                    <a:lnTo>
                      <a:pt x="381" y="410"/>
                    </a:lnTo>
                    <a:lnTo>
                      <a:pt x="364" y="421"/>
                    </a:lnTo>
                    <a:lnTo>
                      <a:pt x="346" y="433"/>
                    </a:lnTo>
                    <a:lnTo>
                      <a:pt x="318" y="444"/>
                    </a:lnTo>
                    <a:lnTo>
                      <a:pt x="295" y="450"/>
                    </a:lnTo>
                    <a:lnTo>
                      <a:pt x="277" y="450"/>
                    </a:lnTo>
                    <a:lnTo>
                      <a:pt x="248" y="450"/>
                    </a:lnTo>
                    <a:lnTo>
                      <a:pt x="220" y="450"/>
                    </a:lnTo>
                    <a:lnTo>
                      <a:pt x="185" y="450"/>
                    </a:lnTo>
                    <a:lnTo>
                      <a:pt x="150" y="450"/>
                    </a:lnTo>
                    <a:lnTo>
                      <a:pt x="110" y="450"/>
                    </a:lnTo>
                    <a:lnTo>
                      <a:pt x="70" y="450"/>
                    </a:lnTo>
                    <a:lnTo>
                      <a:pt x="29" y="450"/>
                    </a:lnTo>
                    <a:lnTo>
                      <a:pt x="23" y="479"/>
                    </a:lnTo>
                    <a:lnTo>
                      <a:pt x="18" y="519"/>
                    </a:lnTo>
                    <a:lnTo>
                      <a:pt x="12" y="566"/>
                    </a:lnTo>
                    <a:lnTo>
                      <a:pt x="6" y="612"/>
                    </a:lnTo>
                    <a:lnTo>
                      <a:pt x="0" y="658"/>
                    </a:lnTo>
                    <a:lnTo>
                      <a:pt x="0" y="698"/>
                    </a:lnTo>
                    <a:lnTo>
                      <a:pt x="0" y="733"/>
                    </a:lnTo>
                    <a:lnTo>
                      <a:pt x="0" y="756"/>
                    </a:lnTo>
                    <a:lnTo>
                      <a:pt x="6" y="768"/>
                    </a:lnTo>
                    <a:lnTo>
                      <a:pt x="12" y="779"/>
                    </a:lnTo>
                    <a:lnTo>
                      <a:pt x="18" y="785"/>
                    </a:lnTo>
                    <a:lnTo>
                      <a:pt x="29" y="796"/>
                    </a:lnTo>
                    <a:lnTo>
                      <a:pt x="41" y="802"/>
                    </a:lnTo>
                    <a:lnTo>
                      <a:pt x="52" y="808"/>
                    </a:lnTo>
                    <a:lnTo>
                      <a:pt x="70" y="814"/>
                    </a:lnTo>
                    <a:lnTo>
                      <a:pt x="81" y="820"/>
                    </a:lnTo>
                    <a:lnTo>
                      <a:pt x="98" y="820"/>
                    </a:lnTo>
                    <a:lnTo>
                      <a:pt x="116" y="820"/>
                    </a:lnTo>
                    <a:lnTo>
                      <a:pt x="127" y="820"/>
                    </a:lnTo>
                    <a:lnTo>
                      <a:pt x="145" y="820"/>
                    </a:lnTo>
                    <a:lnTo>
                      <a:pt x="162" y="814"/>
                    </a:lnTo>
                    <a:lnTo>
                      <a:pt x="173" y="808"/>
                    </a:lnTo>
                    <a:lnTo>
                      <a:pt x="185" y="802"/>
                    </a:lnTo>
                    <a:lnTo>
                      <a:pt x="196" y="791"/>
                    </a:lnTo>
                    <a:lnTo>
                      <a:pt x="208" y="785"/>
                    </a:lnTo>
                    <a:lnTo>
                      <a:pt x="220" y="773"/>
                    </a:lnTo>
                    <a:lnTo>
                      <a:pt x="237" y="773"/>
                    </a:lnTo>
                    <a:lnTo>
                      <a:pt x="248" y="768"/>
                    </a:lnTo>
                    <a:lnTo>
                      <a:pt x="266" y="768"/>
                    </a:lnTo>
                    <a:lnTo>
                      <a:pt x="283" y="768"/>
                    </a:lnTo>
                    <a:lnTo>
                      <a:pt x="300" y="773"/>
                    </a:lnTo>
                    <a:lnTo>
                      <a:pt x="318" y="779"/>
                    </a:lnTo>
                    <a:lnTo>
                      <a:pt x="329" y="785"/>
                    </a:lnTo>
                    <a:lnTo>
                      <a:pt x="346" y="796"/>
                    </a:lnTo>
                    <a:lnTo>
                      <a:pt x="358" y="808"/>
                    </a:lnTo>
                    <a:lnTo>
                      <a:pt x="370" y="825"/>
                    </a:lnTo>
                    <a:lnTo>
                      <a:pt x="381" y="843"/>
                    </a:lnTo>
                    <a:lnTo>
                      <a:pt x="387" y="860"/>
                    </a:lnTo>
                    <a:lnTo>
                      <a:pt x="393" y="883"/>
                    </a:lnTo>
                    <a:lnTo>
                      <a:pt x="393" y="906"/>
                    </a:lnTo>
                    <a:lnTo>
                      <a:pt x="393" y="923"/>
                    </a:lnTo>
                    <a:lnTo>
                      <a:pt x="387" y="935"/>
                    </a:lnTo>
                    <a:lnTo>
                      <a:pt x="381" y="952"/>
                    </a:lnTo>
                    <a:lnTo>
                      <a:pt x="370" y="964"/>
                    </a:lnTo>
                    <a:lnTo>
                      <a:pt x="358" y="975"/>
                    </a:lnTo>
                    <a:lnTo>
                      <a:pt x="346" y="987"/>
                    </a:lnTo>
                    <a:lnTo>
                      <a:pt x="329" y="993"/>
                    </a:lnTo>
                    <a:lnTo>
                      <a:pt x="318" y="998"/>
                    </a:lnTo>
                    <a:lnTo>
                      <a:pt x="300" y="1004"/>
                    </a:lnTo>
                    <a:lnTo>
                      <a:pt x="283" y="1010"/>
                    </a:lnTo>
                    <a:lnTo>
                      <a:pt x="266" y="1010"/>
                    </a:lnTo>
                    <a:lnTo>
                      <a:pt x="248" y="1010"/>
                    </a:lnTo>
                    <a:lnTo>
                      <a:pt x="237" y="1004"/>
                    </a:lnTo>
                    <a:lnTo>
                      <a:pt x="220" y="998"/>
                    </a:lnTo>
                    <a:lnTo>
                      <a:pt x="208" y="987"/>
                    </a:lnTo>
                    <a:lnTo>
                      <a:pt x="196" y="975"/>
                    </a:lnTo>
                    <a:lnTo>
                      <a:pt x="185" y="964"/>
                    </a:lnTo>
                    <a:lnTo>
                      <a:pt x="173" y="958"/>
                    </a:lnTo>
                    <a:lnTo>
                      <a:pt x="162" y="952"/>
                    </a:lnTo>
                    <a:lnTo>
                      <a:pt x="150" y="946"/>
                    </a:lnTo>
                    <a:lnTo>
                      <a:pt x="139" y="946"/>
                    </a:lnTo>
                    <a:lnTo>
                      <a:pt x="127" y="946"/>
                    </a:lnTo>
                    <a:lnTo>
                      <a:pt x="110" y="946"/>
                    </a:lnTo>
                    <a:lnTo>
                      <a:pt x="98" y="946"/>
                    </a:lnTo>
                    <a:lnTo>
                      <a:pt x="87" y="958"/>
                    </a:lnTo>
                    <a:lnTo>
                      <a:pt x="70" y="964"/>
                    </a:lnTo>
                    <a:lnTo>
                      <a:pt x="58" y="970"/>
                    </a:lnTo>
                    <a:lnTo>
                      <a:pt x="46" y="981"/>
                    </a:lnTo>
                    <a:lnTo>
                      <a:pt x="35" y="993"/>
                    </a:lnTo>
                    <a:lnTo>
                      <a:pt x="29" y="1004"/>
                    </a:lnTo>
                    <a:lnTo>
                      <a:pt x="18" y="1016"/>
                    </a:lnTo>
                    <a:lnTo>
                      <a:pt x="12" y="1033"/>
                    </a:lnTo>
                    <a:lnTo>
                      <a:pt x="6" y="1045"/>
                    </a:lnTo>
                    <a:lnTo>
                      <a:pt x="6" y="1068"/>
                    </a:lnTo>
                    <a:lnTo>
                      <a:pt x="6" y="1085"/>
                    </a:lnTo>
                    <a:lnTo>
                      <a:pt x="12" y="1108"/>
                    </a:lnTo>
                    <a:lnTo>
                      <a:pt x="18" y="1160"/>
                    </a:lnTo>
                    <a:lnTo>
                      <a:pt x="29" y="1218"/>
                    </a:lnTo>
                    <a:lnTo>
                      <a:pt x="35" y="1246"/>
                    </a:lnTo>
                    <a:lnTo>
                      <a:pt x="41" y="1270"/>
                    </a:lnTo>
                    <a:lnTo>
                      <a:pt x="41" y="1298"/>
                    </a:lnTo>
                    <a:lnTo>
                      <a:pt x="46" y="1327"/>
                    </a:lnTo>
                    <a:lnTo>
                      <a:pt x="46" y="1350"/>
                    </a:lnTo>
                    <a:lnTo>
                      <a:pt x="41" y="1373"/>
                    </a:lnTo>
                    <a:lnTo>
                      <a:pt x="41" y="1385"/>
                    </a:lnTo>
                    <a:lnTo>
                      <a:pt x="35" y="1396"/>
                    </a:lnTo>
                    <a:lnTo>
                      <a:pt x="35" y="1408"/>
                    </a:lnTo>
                    <a:lnTo>
                      <a:pt x="29" y="1414"/>
                    </a:lnTo>
                    <a:lnTo>
                      <a:pt x="70" y="1408"/>
                    </a:lnTo>
                    <a:lnTo>
                      <a:pt x="110" y="1396"/>
                    </a:lnTo>
                    <a:lnTo>
                      <a:pt x="150" y="1396"/>
                    </a:lnTo>
                    <a:lnTo>
                      <a:pt x="185" y="1391"/>
                    </a:lnTo>
                    <a:lnTo>
                      <a:pt x="225" y="1385"/>
                    </a:lnTo>
                    <a:lnTo>
                      <a:pt x="260" y="1385"/>
                    </a:lnTo>
                    <a:lnTo>
                      <a:pt x="277" y="1391"/>
                    </a:lnTo>
                    <a:lnTo>
                      <a:pt x="295" y="1391"/>
                    </a:lnTo>
                    <a:lnTo>
                      <a:pt x="306" y="1396"/>
                    </a:lnTo>
                    <a:lnTo>
                      <a:pt x="323" y="140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165800" y="1600200"/>
                <a:ext cx="1521000" cy="2259000"/>
              </a:xfrm>
              <a:custGeom>
                <a:avLst/>
                <a:gdLst/>
                <a:ahLst/>
                <a:rect l="l" t="t" r="r" b="b"/>
                <a:pathLst>
                  <a:path w="1080" h="1472">
                    <a:moveTo>
                      <a:pt x="352" y="1426"/>
                    </a:moveTo>
                    <a:lnTo>
                      <a:pt x="352" y="1414"/>
                    </a:lnTo>
                    <a:lnTo>
                      <a:pt x="352" y="1426"/>
                    </a:lnTo>
                    <a:lnTo>
                      <a:pt x="370" y="1431"/>
                    </a:lnTo>
                    <a:lnTo>
                      <a:pt x="370" y="1431"/>
                    </a:lnTo>
                    <a:lnTo>
                      <a:pt x="370" y="1431"/>
                    </a:lnTo>
                    <a:lnTo>
                      <a:pt x="393" y="1431"/>
                    </a:lnTo>
                    <a:lnTo>
                      <a:pt x="410" y="1431"/>
                    </a:lnTo>
                    <a:lnTo>
                      <a:pt x="422" y="1431"/>
                    </a:lnTo>
                    <a:lnTo>
                      <a:pt x="428" y="1431"/>
                    </a:lnTo>
                    <a:lnTo>
                      <a:pt x="428" y="1431"/>
                    </a:lnTo>
                    <a:lnTo>
                      <a:pt x="439" y="1426"/>
                    </a:lnTo>
                    <a:lnTo>
                      <a:pt x="451" y="1420"/>
                    </a:lnTo>
                    <a:lnTo>
                      <a:pt x="451" y="1414"/>
                    </a:lnTo>
                    <a:lnTo>
                      <a:pt x="456" y="1414"/>
                    </a:lnTo>
                    <a:lnTo>
                      <a:pt x="462" y="1402"/>
                    </a:lnTo>
                    <a:lnTo>
                      <a:pt x="451" y="1397"/>
                    </a:lnTo>
                    <a:lnTo>
                      <a:pt x="456" y="1408"/>
                    </a:lnTo>
                    <a:lnTo>
                      <a:pt x="468" y="1402"/>
                    </a:lnTo>
                    <a:lnTo>
                      <a:pt x="474" y="1397"/>
                    </a:lnTo>
                    <a:lnTo>
                      <a:pt x="474" y="1391"/>
                    </a:lnTo>
                    <a:lnTo>
                      <a:pt x="474" y="1379"/>
                    </a:lnTo>
                    <a:lnTo>
                      <a:pt x="474" y="1368"/>
                    </a:lnTo>
                    <a:lnTo>
                      <a:pt x="474" y="1351"/>
                    </a:lnTo>
                    <a:lnTo>
                      <a:pt x="474" y="1339"/>
                    </a:lnTo>
                    <a:lnTo>
                      <a:pt x="474" y="1339"/>
                    </a:lnTo>
                    <a:lnTo>
                      <a:pt x="474" y="1339"/>
                    </a:lnTo>
                    <a:lnTo>
                      <a:pt x="468" y="1327"/>
                    </a:lnTo>
                    <a:lnTo>
                      <a:pt x="462" y="1316"/>
                    </a:lnTo>
                    <a:lnTo>
                      <a:pt x="462" y="1316"/>
                    </a:lnTo>
                    <a:lnTo>
                      <a:pt x="456" y="1310"/>
                    </a:lnTo>
                    <a:lnTo>
                      <a:pt x="445" y="1299"/>
                    </a:lnTo>
                    <a:lnTo>
                      <a:pt x="433" y="1287"/>
                    </a:lnTo>
                    <a:lnTo>
                      <a:pt x="428" y="1293"/>
                    </a:lnTo>
                    <a:lnTo>
                      <a:pt x="439" y="1293"/>
                    </a:lnTo>
                    <a:lnTo>
                      <a:pt x="428" y="1270"/>
                    </a:lnTo>
                    <a:lnTo>
                      <a:pt x="422" y="1252"/>
                    </a:lnTo>
                    <a:lnTo>
                      <a:pt x="416" y="1235"/>
                    </a:lnTo>
                    <a:lnTo>
                      <a:pt x="410" y="1218"/>
                    </a:lnTo>
                    <a:lnTo>
                      <a:pt x="404" y="1195"/>
                    </a:lnTo>
                    <a:lnTo>
                      <a:pt x="393" y="1195"/>
                    </a:lnTo>
                    <a:lnTo>
                      <a:pt x="404" y="1195"/>
                    </a:lnTo>
                    <a:lnTo>
                      <a:pt x="404" y="1177"/>
                    </a:lnTo>
                    <a:lnTo>
                      <a:pt x="393" y="1177"/>
                    </a:lnTo>
                    <a:lnTo>
                      <a:pt x="404" y="1183"/>
                    </a:lnTo>
                    <a:lnTo>
                      <a:pt x="410" y="1160"/>
                    </a:lnTo>
                    <a:lnTo>
                      <a:pt x="416" y="1143"/>
                    </a:lnTo>
                    <a:lnTo>
                      <a:pt x="422" y="1126"/>
                    </a:lnTo>
                    <a:lnTo>
                      <a:pt x="410" y="1120"/>
                    </a:lnTo>
                    <a:lnTo>
                      <a:pt x="416" y="1126"/>
                    </a:lnTo>
                    <a:lnTo>
                      <a:pt x="422" y="1120"/>
                    </a:lnTo>
                    <a:lnTo>
                      <a:pt x="428" y="1120"/>
                    </a:lnTo>
                    <a:lnTo>
                      <a:pt x="428" y="1120"/>
                    </a:lnTo>
                    <a:lnTo>
                      <a:pt x="433" y="1108"/>
                    </a:lnTo>
                    <a:lnTo>
                      <a:pt x="422" y="1102"/>
                    </a:lnTo>
                    <a:lnTo>
                      <a:pt x="428" y="1108"/>
                    </a:lnTo>
                    <a:lnTo>
                      <a:pt x="433" y="1102"/>
                    </a:lnTo>
                    <a:lnTo>
                      <a:pt x="439" y="1097"/>
                    </a:lnTo>
                    <a:lnTo>
                      <a:pt x="445" y="1091"/>
                    </a:lnTo>
                    <a:lnTo>
                      <a:pt x="439" y="1085"/>
                    </a:lnTo>
                    <a:lnTo>
                      <a:pt x="445" y="1097"/>
                    </a:lnTo>
                    <a:lnTo>
                      <a:pt x="456" y="1091"/>
                    </a:lnTo>
                    <a:lnTo>
                      <a:pt x="451" y="1079"/>
                    </a:lnTo>
                    <a:lnTo>
                      <a:pt x="451" y="1091"/>
                    </a:lnTo>
                    <a:lnTo>
                      <a:pt x="456" y="1091"/>
                    </a:lnTo>
                    <a:lnTo>
                      <a:pt x="462" y="1091"/>
                    </a:lnTo>
                    <a:lnTo>
                      <a:pt x="462" y="1091"/>
                    </a:lnTo>
                    <a:lnTo>
                      <a:pt x="474" y="1085"/>
                    </a:lnTo>
                    <a:lnTo>
                      <a:pt x="485" y="1079"/>
                    </a:lnTo>
                    <a:lnTo>
                      <a:pt x="479" y="1068"/>
                    </a:lnTo>
                    <a:lnTo>
                      <a:pt x="479" y="1079"/>
                    </a:lnTo>
                    <a:lnTo>
                      <a:pt x="491" y="1079"/>
                    </a:lnTo>
                    <a:lnTo>
                      <a:pt x="497" y="1079"/>
                    </a:lnTo>
                    <a:lnTo>
                      <a:pt x="497" y="1079"/>
                    </a:lnTo>
                    <a:lnTo>
                      <a:pt x="508" y="1074"/>
                    </a:lnTo>
                    <a:lnTo>
                      <a:pt x="503" y="1062"/>
                    </a:lnTo>
                    <a:lnTo>
                      <a:pt x="503" y="1074"/>
                    </a:lnTo>
                    <a:lnTo>
                      <a:pt x="514" y="1074"/>
                    </a:lnTo>
                    <a:lnTo>
                      <a:pt x="531" y="1074"/>
                    </a:lnTo>
                    <a:lnTo>
                      <a:pt x="543" y="1074"/>
                    </a:lnTo>
                    <a:lnTo>
                      <a:pt x="543" y="1062"/>
                    </a:lnTo>
                    <a:lnTo>
                      <a:pt x="543" y="1074"/>
                    </a:lnTo>
                    <a:lnTo>
                      <a:pt x="560" y="1079"/>
                    </a:lnTo>
                    <a:lnTo>
                      <a:pt x="560" y="1079"/>
                    </a:lnTo>
                    <a:lnTo>
                      <a:pt x="560" y="1079"/>
                    </a:lnTo>
                    <a:lnTo>
                      <a:pt x="572" y="1079"/>
                    </a:lnTo>
                    <a:lnTo>
                      <a:pt x="572" y="1068"/>
                    </a:lnTo>
                    <a:lnTo>
                      <a:pt x="572" y="1079"/>
                    </a:lnTo>
                    <a:lnTo>
                      <a:pt x="583" y="1085"/>
                    </a:lnTo>
                    <a:lnTo>
                      <a:pt x="595" y="1091"/>
                    </a:lnTo>
                    <a:lnTo>
                      <a:pt x="595" y="1091"/>
                    </a:lnTo>
                    <a:lnTo>
                      <a:pt x="595" y="1091"/>
                    </a:lnTo>
                    <a:lnTo>
                      <a:pt x="606" y="1091"/>
                    </a:lnTo>
                    <a:lnTo>
                      <a:pt x="606" y="1079"/>
                    </a:lnTo>
                    <a:lnTo>
                      <a:pt x="601" y="1085"/>
                    </a:lnTo>
                    <a:lnTo>
                      <a:pt x="606" y="1091"/>
                    </a:lnTo>
                    <a:lnTo>
                      <a:pt x="612" y="1097"/>
                    </a:lnTo>
                    <a:lnTo>
                      <a:pt x="612" y="1097"/>
                    </a:lnTo>
                    <a:lnTo>
                      <a:pt x="624" y="1102"/>
                    </a:lnTo>
                    <a:lnTo>
                      <a:pt x="624" y="1091"/>
                    </a:lnTo>
                    <a:lnTo>
                      <a:pt x="618" y="1097"/>
                    </a:lnTo>
                    <a:lnTo>
                      <a:pt x="624" y="1102"/>
                    </a:lnTo>
                    <a:lnTo>
                      <a:pt x="629" y="1108"/>
                    </a:lnTo>
                    <a:lnTo>
                      <a:pt x="629" y="1108"/>
                    </a:lnTo>
                    <a:lnTo>
                      <a:pt x="641" y="1114"/>
                    </a:lnTo>
                    <a:lnTo>
                      <a:pt x="641" y="1102"/>
                    </a:lnTo>
                    <a:lnTo>
                      <a:pt x="635" y="1108"/>
                    </a:lnTo>
                    <a:lnTo>
                      <a:pt x="641" y="1120"/>
                    </a:lnTo>
                    <a:lnTo>
                      <a:pt x="647" y="1131"/>
                    </a:lnTo>
                    <a:lnTo>
                      <a:pt x="658" y="1149"/>
                    </a:lnTo>
                    <a:lnTo>
                      <a:pt x="664" y="1166"/>
                    </a:lnTo>
                    <a:lnTo>
                      <a:pt x="670" y="1160"/>
                    </a:lnTo>
                    <a:lnTo>
                      <a:pt x="664" y="1160"/>
                    </a:lnTo>
                    <a:lnTo>
                      <a:pt x="664" y="1177"/>
                    </a:lnTo>
                    <a:lnTo>
                      <a:pt x="664" y="1201"/>
                    </a:lnTo>
                    <a:lnTo>
                      <a:pt x="664" y="1218"/>
                    </a:lnTo>
                    <a:lnTo>
                      <a:pt x="670" y="1218"/>
                    </a:lnTo>
                    <a:lnTo>
                      <a:pt x="664" y="1218"/>
                    </a:lnTo>
                    <a:lnTo>
                      <a:pt x="658" y="1235"/>
                    </a:lnTo>
                    <a:lnTo>
                      <a:pt x="653" y="1252"/>
                    </a:lnTo>
                    <a:lnTo>
                      <a:pt x="658" y="1252"/>
                    </a:lnTo>
                    <a:lnTo>
                      <a:pt x="653" y="1247"/>
                    </a:lnTo>
                    <a:lnTo>
                      <a:pt x="641" y="1258"/>
                    </a:lnTo>
                    <a:lnTo>
                      <a:pt x="641" y="1264"/>
                    </a:lnTo>
                    <a:lnTo>
                      <a:pt x="641" y="1264"/>
                    </a:lnTo>
                    <a:lnTo>
                      <a:pt x="629" y="1281"/>
                    </a:lnTo>
                    <a:lnTo>
                      <a:pt x="635" y="1281"/>
                    </a:lnTo>
                    <a:lnTo>
                      <a:pt x="629" y="1276"/>
                    </a:lnTo>
                    <a:lnTo>
                      <a:pt x="606" y="1299"/>
                    </a:lnTo>
                    <a:lnTo>
                      <a:pt x="606" y="1304"/>
                    </a:lnTo>
                    <a:lnTo>
                      <a:pt x="606" y="1304"/>
                    </a:lnTo>
                    <a:lnTo>
                      <a:pt x="595" y="1327"/>
                    </a:lnTo>
                    <a:lnTo>
                      <a:pt x="589" y="1339"/>
                    </a:lnTo>
                    <a:lnTo>
                      <a:pt x="595" y="1339"/>
                    </a:lnTo>
                    <a:lnTo>
                      <a:pt x="589" y="1333"/>
                    </a:lnTo>
                    <a:lnTo>
                      <a:pt x="583" y="1339"/>
                    </a:lnTo>
                    <a:lnTo>
                      <a:pt x="583" y="1345"/>
                    </a:lnTo>
                    <a:lnTo>
                      <a:pt x="583" y="1345"/>
                    </a:lnTo>
                    <a:lnTo>
                      <a:pt x="583" y="1356"/>
                    </a:lnTo>
                    <a:lnTo>
                      <a:pt x="583" y="1362"/>
                    </a:lnTo>
                    <a:lnTo>
                      <a:pt x="583" y="1374"/>
                    </a:lnTo>
                    <a:lnTo>
                      <a:pt x="583" y="1379"/>
                    </a:lnTo>
                    <a:lnTo>
                      <a:pt x="583" y="1385"/>
                    </a:lnTo>
                    <a:lnTo>
                      <a:pt x="583" y="1385"/>
                    </a:lnTo>
                    <a:lnTo>
                      <a:pt x="589" y="1391"/>
                    </a:lnTo>
                    <a:lnTo>
                      <a:pt x="595" y="1397"/>
                    </a:lnTo>
                    <a:lnTo>
                      <a:pt x="606" y="1408"/>
                    </a:lnTo>
                    <a:lnTo>
                      <a:pt x="612" y="1414"/>
                    </a:lnTo>
                    <a:lnTo>
                      <a:pt x="618" y="1420"/>
                    </a:lnTo>
                    <a:lnTo>
                      <a:pt x="618" y="1420"/>
                    </a:lnTo>
                    <a:lnTo>
                      <a:pt x="629" y="1426"/>
                    </a:lnTo>
                    <a:lnTo>
                      <a:pt x="647" y="1431"/>
                    </a:lnTo>
                    <a:lnTo>
                      <a:pt x="664" y="1437"/>
                    </a:lnTo>
                    <a:lnTo>
                      <a:pt x="653" y="1431"/>
                    </a:lnTo>
                    <a:lnTo>
                      <a:pt x="664" y="1437"/>
                    </a:lnTo>
                    <a:lnTo>
                      <a:pt x="687" y="1443"/>
                    </a:lnTo>
                    <a:lnTo>
                      <a:pt x="687" y="1431"/>
                    </a:lnTo>
                    <a:lnTo>
                      <a:pt x="687" y="1443"/>
                    </a:lnTo>
                    <a:lnTo>
                      <a:pt x="710" y="1454"/>
                    </a:lnTo>
                    <a:lnTo>
                      <a:pt x="710" y="1454"/>
                    </a:lnTo>
                    <a:lnTo>
                      <a:pt x="710" y="1454"/>
                    </a:lnTo>
                    <a:lnTo>
                      <a:pt x="733" y="1454"/>
                    </a:lnTo>
                    <a:lnTo>
                      <a:pt x="756" y="1460"/>
                    </a:lnTo>
                    <a:lnTo>
                      <a:pt x="780" y="1466"/>
                    </a:lnTo>
                    <a:lnTo>
                      <a:pt x="808" y="1472"/>
                    </a:lnTo>
                    <a:lnTo>
                      <a:pt x="837" y="1472"/>
                    </a:lnTo>
                    <a:lnTo>
                      <a:pt x="860" y="1472"/>
                    </a:lnTo>
                    <a:lnTo>
                      <a:pt x="889" y="1472"/>
                    </a:lnTo>
                    <a:lnTo>
                      <a:pt x="912" y="1472"/>
                    </a:lnTo>
                    <a:lnTo>
                      <a:pt x="935" y="1466"/>
                    </a:lnTo>
                    <a:lnTo>
                      <a:pt x="958" y="1460"/>
                    </a:lnTo>
                    <a:lnTo>
                      <a:pt x="981" y="1454"/>
                    </a:lnTo>
                    <a:lnTo>
                      <a:pt x="987" y="1449"/>
                    </a:lnTo>
                    <a:lnTo>
                      <a:pt x="987" y="1454"/>
                    </a:lnTo>
                    <a:lnTo>
                      <a:pt x="1005" y="1443"/>
                    </a:lnTo>
                    <a:lnTo>
                      <a:pt x="1022" y="1431"/>
                    </a:lnTo>
                    <a:lnTo>
                      <a:pt x="1028" y="1426"/>
                    </a:lnTo>
                    <a:lnTo>
                      <a:pt x="1028" y="1420"/>
                    </a:lnTo>
                    <a:lnTo>
                      <a:pt x="1022" y="1402"/>
                    </a:lnTo>
                    <a:lnTo>
                      <a:pt x="1010" y="1402"/>
                    </a:lnTo>
                    <a:lnTo>
                      <a:pt x="1022" y="1402"/>
                    </a:lnTo>
                    <a:lnTo>
                      <a:pt x="1022" y="1379"/>
                    </a:lnTo>
                    <a:lnTo>
                      <a:pt x="1022" y="1379"/>
                    </a:lnTo>
                    <a:lnTo>
                      <a:pt x="1022" y="1379"/>
                    </a:lnTo>
                    <a:lnTo>
                      <a:pt x="1016" y="1356"/>
                    </a:lnTo>
                    <a:lnTo>
                      <a:pt x="1005" y="1356"/>
                    </a:lnTo>
                    <a:lnTo>
                      <a:pt x="1016" y="1356"/>
                    </a:lnTo>
                    <a:lnTo>
                      <a:pt x="1016" y="1333"/>
                    </a:lnTo>
                    <a:lnTo>
                      <a:pt x="1016" y="1287"/>
                    </a:lnTo>
                    <a:lnTo>
                      <a:pt x="1016" y="1235"/>
                    </a:lnTo>
                    <a:lnTo>
                      <a:pt x="1022" y="1189"/>
                    </a:lnTo>
                    <a:lnTo>
                      <a:pt x="1022" y="1143"/>
                    </a:lnTo>
                    <a:lnTo>
                      <a:pt x="1028" y="1108"/>
                    </a:lnTo>
                    <a:lnTo>
                      <a:pt x="1028" y="1079"/>
                    </a:lnTo>
                    <a:lnTo>
                      <a:pt x="1028" y="1074"/>
                    </a:lnTo>
                    <a:lnTo>
                      <a:pt x="1028" y="1074"/>
                    </a:lnTo>
                    <a:lnTo>
                      <a:pt x="1028" y="1074"/>
                    </a:lnTo>
                    <a:lnTo>
                      <a:pt x="1022" y="1062"/>
                    </a:lnTo>
                    <a:lnTo>
                      <a:pt x="1016" y="1051"/>
                    </a:lnTo>
                    <a:lnTo>
                      <a:pt x="1010" y="1039"/>
                    </a:lnTo>
                    <a:lnTo>
                      <a:pt x="1005" y="1033"/>
                    </a:lnTo>
                    <a:lnTo>
                      <a:pt x="1005" y="1033"/>
                    </a:lnTo>
                    <a:lnTo>
                      <a:pt x="993" y="1027"/>
                    </a:lnTo>
                    <a:lnTo>
                      <a:pt x="981" y="1022"/>
                    </a:lnTo>
                    <a:lnTo>
                      <a:pt x="976" y="1027"/>
                    </a:lnTo>
                    <a:lnTo>
                      <a:pt x="981" y="1022"/>
                    </a:lnTo>
                    <a:lnTo>
                      <a:pt x="970" y="1010"/>
                    </a:lnTo>
                    <a:lnTo>
                      <a:pt x="970" y="1010"/>
                    </a:lnTo>
                    <a:lnTo>
                      <a:pt x="964" y="1010"/>
                    </a:lnTo>
                    <a:lnTo>
                      <a:pt x="953" y="1010"/>
                    </a:lnTo>
                    <a:lnTo>
                      <a:pt x="953" y="1016"/>
                    </a:lnTo>
                    <a:lnTo>
                      <a:pt x="958" y="1010"/>
                    </a:lnTo>
                    <a:lnTo>
                      <a:pt x="947" y="1004"/>
                    </a:lnTo>
                    <a:lnTo>
                      <a:pt x="935" y="999"/>
                    </a:lnTo>
                    <a:lnTo>
                      <a:pt x="935" y="999"/>
                    </a:lnTo>
                    <a:lnTo>
                      <a:pt x="930" y="999"/>
                    </a:lnTo>
                    <a:lnTo>
                      <a:pt x="918" y="999"/>
                    </a:lnTo>
                    <a:lnTo>
                      <a:pt x="901" y="999"/>
                    </a:lnTo>
                    <a:lnTo>
                      <a:pt x="901" y="999"/>
                    </a:lnTo>
                    <a:lnTo>
                      <a:pt x="901" y="999"/>
                    </a:lnTo>
                    <a:lnTo>
                      <a:pt x="889" y="1004"/>
                    </a:lnTo>
                    <a:lnTo>
                      <a:pt x="878" y="1010"/>
                    </a:lnTo>
                    <a:lnTo>
                      <a:pt x="866" y="1016"/>
                    </a:lnTo>
                    <a:lnTo>
                      <a:pt x="860" y="1016"/>
                    </a:lnTo>
                    <a:lnTo>
                      <a:pt x="860" y="1022"/>
                    </a:lnTo>
                    <a:lnTo>
                      <a:pt x="855" y="1033"/>
                    </a:lnTo>
                    <a:lnTo>
                      <a:pt x="860" y="1033"/>
                    </a:lnTo>
                    <a:lnTo>
                      <a:pt x="860" y="1027"/>
                    </a:lnTo>
                    <a:lnTo>
                      <a:pt x="849" y="1033"/>
                    </a:lnTo>
                    <a:lnTo>
                      <a:pt x="837" y="1039"/>
                    </a:lnTo>
                    <a:lnTo>
                      <a:pt x="826" y="1045"/>
                    </a:lnTo>
                    <a:lnTo>
                      <a:pt x="808" y="1051"/>
                    </a:lnTo>
                    <a:lnTo>
                      <a:pt x="808" y="1056"/>
                    </a:lnTo>
                    <a:lnTo>
                      <a:pt x="808" y="1051"/>
                    </a:lnTo>
                    <a:lnTo>
                      <a:pt x="791" y="1051"/>
                    </a:lnTo>
                    <a:lnTo>
                      <a:pt x="774" y="1051"/>
                    </a:lnTo>
                    <a:lnTo>
                      <a:pt x="756" y="1051"/>
                    </a:lnTo>
                    <a:lnTo>
                      <a:pt x="756" y="1056"/>
                    </a:lnTo>
                    <a:lnTo>
                      <a:pt x="762" y="1051"/>
                    </a:lnTo>
                    <a:lnTo>
                      <a:pt x="745" y="1045"/>
                    </a:lnTo>
                    <a:lnTo>
                      <a:pt x="728" y="1039"/>
                    </a:lnTo>
                    <a:lnTo>
                      <a:pt x="710" y="1027"/>
                    </a:lnTo>
                    <a:lnTo>
                      <a:pt x="705" y="1033"/>
                    </a:lnTo>
                    <a:lnTo>
                      <a:pt x="710" y="1027"/>
                    </a:lnTo>
                    <a:lnTo>
                      <a:pt x="699" y="1016"/>
                    </a:lnTo>
                    <a:lnTo>
                      <a:pt x="699" y="1016"/>
                    </a:lnTo>
                    <a:lnTo>
                      <a:pt x="699" y="1016"/>
                    </a:lnTo>
                    <a:lnTo>
                      <a:pt x="681" y="1004"/>
                    </a:lnTo>
                    <a:lnTo>
                      <a:pt x="676" y="1010"/>
                    </a:lnTo>
                    <a:lnTo>
                      <a:pt x="687" y="1010"/>
                    </a:lnTo>
                    <a:lnTo>
                      <a:pt x="681" y="999"/>
                    </a:lnTo>
                    <a:lnTo>
                      <a:pt x="681" y="999"/>
                    </a:lnTo>
                    <a:lnTo>
                      <a:pt x="676" y="993"/>
                    </a:lnTo>
                    <a:lnTo>
                      <a:pt x="670" y="987"/>
                    </a:lnTo>
                    <a:lnTo>
                      <a:pt x="664" y="993"/>
                    </a:lnTo>
                    <a:lnTo>
                      <a:pt x="676" y="993"/>
                    </a:lnTo>
                    <a:lnTo>
                      <a:pt x="676" y="981"/>
                    </a:lnTo>
                    <a:lnTo>
                      <a:pt x="676" y="981"/>
                    </a:lnTo>
                    <a:lnTo>
                      <a:pt x="670" y="976"/>
                    </a:lnTo>
                    <a:lnTo>
                      <a:pt x="664" y="970"/>
                    </a:lnTo>
                    <a:lnTo>
                      <a:pt x="658" y="976"/>
                    </a:lnTo>
                    <a:lnTo>
                      <a:pt x="670" y="976"/>
                    </a:lnTo>
                    <a:lnTo>
                      <a:pt x="664" y="964"/>
                    </a:lnTo>
                    <a:lnTo>
                      <a:pt x="653" y="964"/>
                    </a:lnTo>
                    <a:lnTo>
                      <a:pt x="664" y="964"/>
                    </a:lnTo>
                    <a:lnTo>
                      <a:pt x="664" y="952"/>
                    </a:lnTo>
                    <a:lnTo>
                      <a:pt x="664" y="941"/>
                    </a:lnTo>
                    <a:lnTo>
                      <a:pt x="664" y="929"/>
                    </a:lnTo>
                    <a:lnTo>
                      <a:pt x="664" y="918"/>
                    </a:lnTo>
                    <a:lnTo>
                      <a:pt x="664" y="901"/>
                    </a:lnTo>
                    <a:lnTo>
                      <a:pt x="664" y="889"/>
                    </a:lnTo>
                    <a:lnTo>
                      <a:pt x="653" y="889"/>
                    </a:lnTo>
                    <a:lnTo>
                      <a:pt x="664" y="895"/>
                    </a:lnTo>
                    <a:lnTo>
                      <a:pt x="670" y="883"/>
                    </a:lnTo>
                    <a:lnTo>
                      <a:pt x="676" y="872"/>
                    </a:lnTo>
                    <a:lnTo>
                      <a:pt x="676" y="872"/>
                    </a:lnTo>
                    <a:lnTo>
                      <a:pt x="676" y="866"/>
                    </a:lnTo>
                    <a:lnTo>
                      <a:pt x="676" y="854"/>
                    </a:lnTo>
                    <a:lnTo>
                      <a:pt x="664" y="854"/>
                    </a:lnTo>
                    <a:lnTo>
                      <a:pt x="670" y="860"/>
                    </a:lnTo>
                    <a:lnTo>
                      <a:pt x="676" y="854"/>
                    </a:lnTo>
                    <a:lnTo>
                      <a:pt x="687" y="843"/>
                    </a:lnTo>
                    <a:lnTo>
                      <a:pt x="699" y="831"/>
                    </a:lnTo>
                    <a:lnTo>
                      <a:pt x="716" y="814"/>
                    </a:lnTo>
                    <a:lnTo>
                      <a:pt x="710" y="808"/>
                    </a:lnTo>
                    <a:lnTo>
                      <a:pt x="716" y="820"/>
                    </a:lnTo>
                    <a:lnTo>
                      <a:pt x="733" y="808"/>
                    </a:lnTo>
                    <a:lnTo>
                      <a:pt x="751" y="802"/>
                    </a:lnTo>
                    <a:lnTo>
                      <a:pt x="768" y="797"/>
                    </a:lnTo>
                    <a:lnTo>
                      <a:pt x="762" y="785"/>
                    </a:lnTo>
                    <a:lnTo>
                      <a:pt x="762" y="797"/>
                    </a:lnTo>
                    <a:lnTo>
                      <a:pt x="780" y="797"/>
                    </a:lnTo>
                    <a:lnTo>
                      <a:pt x="803" y="797"/>
                    </a:lnTo>
                    <a:lnTo>
                      <a:pt x="820" y="797"/>
                    </a:lnTo>
                    <a:lnTo>
                      <a:pt x="820" y="785"/>
                    </a:lnTo>
                    <a:lnTo>
                      <a:pt x="820" y="797"/>
                    </a:lnTo>
                    <a:lnTo>
                      <a:pt x="837" y="802"/>
                    </a:lnTo>
                    <a:lnTo>
                      <a:pt x="855" y="808"/>
                    </a:lnTo>
                    <a:lnTo>
                      <a:pt x="855" y="797"/>
                    </a:lnTo>
                    <a:lnTo>
                      <a:pt x="849" y="802"/>
                    </a:lnTo>
                    <a:lnTo>
                      <a:pt x="860" y="814"/>
                    </a:lnTo>
                    <a:lnTo>
                      <a:pt x="866" y="820"/>
                    </a:lnTo>
                    <a:lnTo>
                      <a:pt x="866" y="820"/>
                    </a:lnTo>
                    <a:lnTo>
                      <a:pt x="878" y="826"/>
                    </a:lnTo>
                    <a:lnTo>
                      <a:pt x="878" y="814"/>
                    </a:lnTo>
                    <a:lnTo>
                      <a:pt x="872" y="820"/>
                    </a:lnTo>
                    <a:lnTo>
                      <a:pt x="878" y="831"/>
                    </a:lnTo>
                    <a:lnTo>
                      <a:pt x="878" y="831"/>
                    </a:lnTo>
                    <a:lnTo>
                      <a:pt x="883" y="837"/>
                    </a:lnTo>
                    <a:lnTo>
                      <a:pt x="895" y="843"/>
                    </a:lnTo>
                    <a:lnTo>
                      <a:pt x="895" y="831"/>
                    </a:lnTo>
                    <a:lnTo>
                      <a:pt x="889" y="837"/>
                    </a:lnTo>
                    <a:lnTo>
                      <a:pt x="895" y="843"/>
                    </a:lnTo>
                    <a:lnTo>
                      <a:pt x="901" y="849"/>
                    </a:lnTo>
                    <a:lnTo>
                      <a:pt x="901" y="849"/>
                    </a:lnTo>
                    <a:lnTo>
                      <a:pt x="912" y="849"/>
                    </a:lnTo>
                    <a:lnTo>
                      <a:pt x="912" y="837"/>
                    </a:lnTo>
                    <a:lnTo>
                      <a:pt x="912" y="849"/>
                    </a:lnTo>
                    <a:lnTo>
                      <a:pt x="924" y="854"/>
                    </a:lnTo>
                    <a:lnTo>
                      <a:pt x="935" y="860"/>
                    </a:lnTo>
                    <a:lnTo>
                      <a:pt x="935" y="860"/>
                    </a:lnTo>
                    <a:lnTo>
                      <a:pt x="935" y="860"/>
                    </a:lnTo>
                    <a:lnTo>
                      <a:pt x="947" y="860"/>
                    </a:lnTo>
                    <a:lnTo>
                      <a:pt x="958" y="860"/>
                    </a:lnTo>
                    <a:lnTo>
                      <a:pt x="970" y="860"/>
                    </a:lnTo>
                    <a:lnTo>
                      <a:pt x="981" y="860"/>
                    </a:lnTo>
                    <a:lnTo>
                      <a:pt x="987" y="860"/>
                    </a:lnTo>
                    <a:lnTo>
                      <a:pt x="987" y="860"/>
                    </a:lnTo>
                    <a:lnTo>
                      <a:pt x="999" y="854"/>
                    </a:lnTo>
                    <a:lnTo>
                      <a:pt x="993" y="843"/>
                    </a:lnTo>
                    <a:lnTo>
                      <a:pt x="993" y="854"/>
                    </a:lnTo>
                    <a:lnTo>
                      <a:pt x="1005" y="854"/>
                    </a:lnTo>
                    <a:lnTo>
                      <a:pt x="1010" y="854"/>
                    </a:lnTo>
                    <a:lnTo>
                      <a:pt x="1010" y="854"/>
                    </a:lnTo>
                    <a:lnTo>
                      <a:pt x="1022" y="849"/>
                    </a:lnTo>
                    <a:lnTo>
                      <a:pt x="1033" y="843"/>
                    </a:lnTo>
                    <a:lnTo>
                      <a:pt x="1045" y="837"/>
                    </a:lnTo>
                    <a:lnTo>
                      <a:pt x="1045" y="837"/>
                    </a:lnTo>
                    <a:lnTo>
                      <a:pt x="1045" y="831"/>
                    </a:lnTo>
                    <a:lnTo>
                      <a:pt x="1057" y="820"/>
                    </a:lnTo>
                    <a:lnTo>
                      <a:pt x="1062" y="820"/>
                    </a:lnTo>
                    <a:lnTo>
                      <a:pt x="1062" y="814"/>
                    </a:lnTo>
                    <a:lnTo>
                      <a:pt x="1062" y="808"/>
                    </a:lnTo>
                    <a:lnTo>
                      <a:pt x="1051" y="808"/>
                    </a:lnTo>
                    <a:lnTo>
                      <a:pt x="1051" y="820"/>
                    </a:lnTo>
                    <a:lnTo>
                      <a:pt x="1057" y="820"/>
                    </a:lnTo>
                    <a:lnTo>
                      <a:pt x="1062" y="820"/>
                    </a:lnTo>
                    <a:lnTo>
                      <a:pt x="1068" y="814"/>
                    </a:lnTo>
                    <a:lnTo>
                      <a:pt x="1074" y="802"/>
                    </a:lnTo>
                    <a:lnTo>
                      <a:pt x="1074" y="802"/>
                    </a:lnTo>
                    <a:lnTo>
                      <a:pt x="1074" y="797"/>
                    </a:lnTo>
                    <a:lnTo>
                      <a:pt x="1074" y="791"/>
                    </a:lnTo>
                    <a:lnTo>
                      <a:pt x="1062" y="791"/>
                    </a:lnTo>
                    <a:lnTo>
                      <a:pt x="1074" y="797"/>
                    </a:lnTo>
                    <a:lnTo>
                      <a:pt x="1080" y="779"/>
                    </a:lnTo>
                    <a:lnTo>
                      <a:pt x="1080" y="779"/>
                    </a:lnTo>
                    <a:lnTo>
                      <a:pt x="1080" y="774"/>
                    </a:lnTo>
                    <a:lnTo>
                      <a:pt x="1080" y="751"/>
                    </a:lnTo>
                    <a:lnTo>
                      <a:pt x="1080" y="727"/>
                    </a:lnTo>
                    <a:lnTo>
                      <a:pt x="1080" y="704"/>
                    </a:lnTo>
                    <a:lnTo>
                      <a:pt x="1080" y="681"/>
                    </a:lnTo>
                    <a:lnTo>
                      <a:pt x="1074" y="652"/>
                    </a:lnTo>
                    <a:lnTo>
                      <a:pt x="1068" y="624"/>
                    </a:lnTo>
                    <a:lnTo>
                      <a:pt x="1074" y="652"/>
                    </a:lnTo>
                    <a:lnTo>
                      <a:pt x="1062" y="600"/>
                    </a:lnTo>
                    <a:lnTo>
                      <a:pt x="1051" y="554"/>
                    </a:lnTo>
                    <a:lnTo>
                      <a:pt x="1039" y="508"/>
                    </a:lnTo>
                    <a:lnTo>
                      <a:pt x="1028" y="474"/>
                    </a:lnTo>
                    <a:lnTo>
                      <a:pt x="1022" y="462"/>
                    </a:lnTo>
                    <a:lnTo>
                      <a:pt x="1016" y="468"/>
                    </a:lnTo>
                    <a:lnTo>
                      <a:pt x="987" y="474"/>
                    </a:lnTo>
                    <a:lnTo>
                      <a:pt x="958" y="474"/>
                    </a:lnTo>
                    <a:lnTo>
                      <a:pt x="930" y="479"/>
                    </a:lnTo>
                    <a:lnTo>
                      <a:pt x="901" y="479"/>
                    </a:lnTo>
                    <a:lnTo>
                      <a:pt x="872" y="479"/>
                    </a:lnTo>
                    <a:lnTo>
                      <a:pt x="843" y="479"/>
                    </a:lnTo>
                    <a:lnTo>
                      <a:pt x="814" y="474"/>
                    </a:lnTo>
                    <a:lnTo>
                      <a:pt x="791" y="474"/>
                    </a:lnTo>
                    <a:lnTo>
                      <a:pt x="739" y="468"/>
                    </a:lnTo>
                    <a:lnTo>
                      <a:pt x="705" y="462"/>
                    </a:lnTo>
                    <a:lnTo>
                      <a:pt x="676" y="456"/>
                    </a:lnTo>
                    <a:lnTo>
                      <a:pt x="676" y="462"/>
                    </a:lnTo>
                    <a:lnTo>
                      <a:pt x="681" y="456"/>
                    </a:lnTo>
                    <a:lnTo>
                      <a:pt x="676" y="450"/>
                    </a:lnTo>
                    <a:lnTo>
                      <a:pt x="676" y="450"/>
                    </a:lnTo>
                    <a:lnTo>
                      <a:pt x="670" y="450"/>
                    </a:lnTo>
                    <a:lnTo>
                      <a:pt x="647" y="445"/>
                    </a:lnTo>
                    <a:lnTo>
                      <a:pt x="647" y="450"/>
                    </a:lnTo>
                    <a:lnTo>
                      <a:pt x="653" y="445"/>
                    </a:lnTo>
                    <a:lnTo>
                      <a:pt x="635" y="433"/>
                    </a:lnTo>
                    <a:lnTo>
                      <a:pt x="618" y="422"/>
                    </a:lnTo>
                    <a:lnTo>
                      <a:pt x="612" y="427"/>
                    </a:lnTo>
                    <a:lnTo>
                      <a:pt x="624" y="427"/>
                    </a:lnTo>
                    <a:lnTo>
                      <a:pt x="612" y="410"/>
                    </a:lnTo>
                    <a:lnTo>
                      <a:pt x="601" y="393"/>
                    </a:lnTo>
                    <a:lnTo>
                      <a:pt x="595" y="381"/>
                    </a:lnTo>
                    <a:lnTo>
                      <a:pt x="589" y="364"/>
                    </a:lnTo>
                    <a:lnTo>
                      <a:pt x="583" y="352"/>
                    </a:lnTo>
                    <a:lnTo>
                      <a:pt x="572" y="352"/>
                    </a:lnTo>
                    <a:lnTo>
                      <a:pt x="583" y="352"/>
                    </a:lnTo>
                    <a:lnTo>
                      <a:pt x="583" y="335"/>
                    </a:lnTo>
                    <a:lnTo>
                      <a:pt x="572" y="335"/>
                    </a:lnTo>
                    <a:lnTo>
                      <a:pt x="583" y="341"/>
                    </a:lnTo>
                    <a:lnTo>
                      <a:pt x="589" y="324"/>
                    </a:lnTo>
                    <a:lnTo>
                      <a:pt x="589" y="324"/>
                    </a:lnTo>
                    <a:lnTo>
                      <a:pt x="589" y="318"/>
                    </a:lnTo>
                    <a:lnTo>
                      <a:pt x="589" y="300"/>
                    </a:lnTo>
                    <a:lnTo>
                      <a:pt x="578" y="300"/>
                    </a:lnTo>
                    <a:lnTo>
                      <a:pt x="589" y="306"/>
                    </a:lnTo>
                    <a:lnTo>
                      <a:pt x="595" y="295"/>
                    </a:lnTo>
                    <a:lnTo>
                      <a:pt x="601" y="283"/>
                    </a:lnTo>
                    <a:lnTo>
                      <a:pt x="589" y="277"/>
                    </a:lnTo>
                    <a:lnTo>
                      <a:pt x="595" y="283"/>
                    </a:lnTo>
                    <a:lnTo>
                      <a:pt x="606" y="272"/>
                    </a:lnTo>
                    <a:lnTo>
                      <a:pt x="612" y="272"/>
                    </a:lnTo>
                    <a:lnTo>
                      <a:pt x="612" y="272"/>
                    </a:lnTo>
                    <a:lnTo>
                      <a:pt x="618" y="260"/>
                    </a:lnTo>
                    <a:lnTo>
                      <a:pt x="606" y="254"/>
                    </a:lnTo>
                    <a:lnTo>
                      <a:pt x="612" y="260"/>
                    </a:lnTo>
                    <a:lnTo>
                      <a:pt x="624" y="249"/>
                    </a:lnTo>
                    <a:lnTo>
                      <a:pt x="635" y="237"/>
                    </a:lnTo>
                    <a:lnTo>
                      <a:pt x="641" y="237"/>
                    </a:lnTo>
                    <a:lnTo>
                      <a:pt x="641" y="237"/>
                    </a:lnTo>
                    <a:lnTo>
                      <a:pt x="647" y="225"/>
                    </a:lnTo>
                    <a:lnTo>
                      <a:pt x="658" y="208"/>
                    </a:lnTo>
                    <a:lnTo>
                      <a:pt x="664" y="191"/>
                    </a:lnTo>
                    <a:lnTo>
                      <a:pt x="670" y="174"/>
                    </a:lnTo>
                    <a:lnTo>
                      <a:pt x="670" y="174"/>
                    </a:lnTo>
                    <a:lnTo>
                      <a:pt x="670" y="168"/>
                    </a:lnTo>
                    <a:lnTo>
                      <a:pt x="670" y="145"/>
                    </a:lnTo>
                    <a:lnTo>
                      <a:pt x="670" y="127"/>
                    </a:lnTo>
                    <a:lnTo>
                      <a:pt x="670" y="104"/>
                    </a:lnTo>
                    <a:lnTo>
                      <a:pt x="670" y="104"/>
                    </a:lnTo>
                    <a:lnTo>
                      <a:pt x="670" y="104"/>
                    </a:lnTo>
                    <a:lnTo>
                      <a:pt x="664" y="87"/>
                    </a:lnTo>
                    <a:lnTo>
                      <a:pt x="658" y="64"/>
                    </a:lnTo>
                    <a:lnTo>
                      <a:pt x="658" y="64"/>
                    </a:lnTo>
                    <a:lnTo>
                      <a:pt x="653" y="58"/>
                    </a:lnTo>
                    <a:lnTo>
                      <a:pt x="647" y="52"/>
                    </a:lnTo>
                    <a:lnTo>
                      <a:pt x="641" y="47"/>
                    </a:lnTo>
                    <a:lnTo>
                      <a:pt x="629" y="35"/>
                    </a:lnTo>
                    <a:lnTo>
                      <a:pt x="624" y="29"/>
                    </a:lnTo>
                    <a:lnTo>
                      <a:pt x="618" y="24"/>
                    </a:lnTo>
                    <a:lnTo>
                      <a:pt x="618" y="24"/>
                    </a:lnTo>
                    <a:lnTo>
                      <a:pt x="618" y="24"/>
                    </a:lnTo>
                    <a:lnTo>
                      <a:pt x="606" y="18"/>
                    </a:lnTo>
                    <a:lnTo>
                      <a:pt x="595" y="12"/>
                    </a:lnTo>
                    <a:lnTo>
                      <a:pt x="583" y="6"/>
                    </a:lnTo>
                    <a:lnTo>
                      <a:pt x="566" y="0"/>
                    </a:lnTo>
                    <a:lnTo>
                      <a:pt x="566" y="0"/>
                    </a:lnTo>
                    <a:lnTo>
                      <a:pt x="560" y="0"/>
                    </a:lnTo>
                    <a:lnTo>
                      <a:pt x="549" y="0"/>
                    </a:lnTo>
                    <a:lnTo>
                      <a:pt x="531" y="0"/>
                    </a:lnTo>
                    <a:lnTo>
                      <a:pt x="514" y="0"/>
                    </a:lnTo>
                    <a:lnTo>
                      <a:pt x="503" y="0"/>
                    </a:lnTo>
                    <a:lnTo>
                      <a:pt x="485" y="0"/>
                    </a:lnTo>
                    <a:lnTo>
                      <a:pt x="474" y="0"/>
                    </a:lnTo>
                    <a:lnTo>
                      <a:pt x="474" y="0"/>
                    </a:lnTo>
                    <a:lnTo>
                      <a:pt x="474" y="0"/>
                    </a:lnTo>
                    <a:lnTo>
                      <a:pt x="462" y="6"/>
                    </a:lnTo>
                    <a:lnTo>
                      <a:pt x="462" y="12"/>
                    </a:lnTo>
                    <a:lnTo>
                      <a:pt x="462" y="6"/>
                    </a:lnTo>
                    <a:lnTo>
                      <a:pt x="451" y="6"/>
                    </a:lnTo>
                    <a:lnTo>
                      <a:pt x="451" y="6"/>
                    </a:lnTo>
                    <a:lnTo>
                      <a:pt x="451" y="6"/>
                    </a:lnTo>
                    <a:lnTo>
                      <a:pt x="439" y="12"/>
                    </a:lnTo>
                    <a:lnTo>
                      <a:pt x="428" y="18"/>
                    </a:lnTo>
                    <a:lnTo>
                      <a:pt x="416" y="24"/>
                    </a:lnTo>
                    <a:lnTo>
                      <a:pt x="416" y="24"/>
                    </a:lnTo>
                    <a:lnTo>
                      <a:pt x="410" y="24"/>
                    </a:lnTo>
                    <a:lnTo>
                      <a:pt x="404" y="29"/>
                    </a:lnTo>
                    <a:lnTo>
                      <a:pt x="410" y="35"/>
                    </a:lnTo>
                    <a:lnTo>
                      <a:pt x="410" y="29"/>
                    </a:lnTo>
                    <a:lnTo>
                      <a:pt x="399" y="35"/>
                    </a:lnTo>
                    <a:lnTo>
                      <a:pt x="399" y="35"/>
                    </a:lnTo>
                    <a:lnTo>
                      <a:pt x="393" y="35"/>
                    </a:lnTo>
                    <a:lnTo>
                      <a:pt x="387" y="41"/>
                    </a:lnTo>
                    <a:lnTo>
                      <a:pt x="387" y="47"/>
                    </a:lnTo>
                    <a:lnTo>
                      <a:pt x="387" y="47"/>
                    </a:lnTo>
                    <a:lnTo>
                      <a:pt x="381" y="58"/>
                    </a:lnTo>
                    <a:lnTo>
                      <a:pt x="387" y="58"/>
                    </a:lnTo>
                    <a:lnTo>
                      <a:pt x="381" y="52"/>
                    </a:lnTo>
                    <a:lnTo>
                      <a:pt x="370" y="64"/>
                    </a:lnTo>
                    <a:lnTo>
                      <a:pt x="370" y="70"/>
                    </a:lnTo>
                    <a:lnTo>
                      <a:pt x="370" y="70"/>
                    </a:lnTo>
                    <a:lnTo>
                      <a:pt x="364" y="93"/>
                    </a:lnTo>
                    <a:lnTo>
                      <a:pt x="358" y="110"/>
                    </a:lnTo>
                    <a:lnTo>
                      <a:pt x="358" y="110"/>
                    </a:lnTo>
                    <a:lnTo>
                      <a:pt x="358" y="110"/>
                    </a:lnTo>
                    <a:lnTo>
                      <a:pt x="358" y="127"/>
                    </a:lnTo>
                    <a:lnTo>
                      <a:pt x="358" y="145"/>
                    </a:lnTo>
                    <a:lnTo>
                      <a:pt x="358" y="168"/>
                    </a:lnTo>
                    <a:lnTo>
                      <a:pt x="358" y="174"/>
                    </a:lnTo>
                    <a:lnTo>
                      <a:pt x="358" y="174"/>
                    </a:lnTo>
                    <a:lnTo>
                      <a:pt x="364" y="191"/>
                    </a:lnTo>
                    <a:lnTo>
                      <a:pt x="370" y="208"/>
                    </a:lnTo>
                    <a:lnTo>
                      <a:pt x="370" y="208"/>
                    </a:lnTo>
                    <a:lnTo>
                      <a:pt x="370" y="208"/>
                    </a:lnTo>
                    <a:lnTo>
                      <a:pt x="381" y="220"/>
                    </a:lnTo>
                    <a:lnTo>
                      <a:pt x="387" y="214"/>
                    </a:lnTo>
                    <a:lnTo>
                      <a:pt x="381" y="220"/>
                    </a:lnTo>
                    <a:lnTo>
                      <a:pt x="393" y="237"/>
                    </a:lnTo>
                    <a:lnTo>
                      <a:pt x="393" y="237"/>
                    </a:lnTo>
                    <a:lnTo>
                      <a:pt x="393" y="237"/>
                    </a:lnTo>
                    <a:lnTo>
                      <a:pt x="404" y="249"/>
                    </a:lnTo>
                    <a:lnTo>
                      <a:pt x="410" y="243"/>
                    </a:lnTo>
                    <a:lnTo>
                      <a:pt x="404" y="249"/>
                    </a:lnTo>
                    <a:lnTo>
                      <a:pt x="416" y="266"/>
                    </a:lnTo>
                    <a:lnTo>
                      <a:pt x="422" y="283"/>
                    </a:lnTo>
                    <a:lnTo>
                      <a:pt x="428" y="295"/>
                    </a:lnTo>
                    <a:lnTo>
                      <a:pt x="433" y="312"/>
                    </a:lnTo>
                    <a:lnTo>
                      <a:pt x="439" y="306"/>
                    </a:lnTo>
                    <a:lnTo>
                      <a:pt x="433" y="306"/>
                    </a:lnTo>
                    <a:lnTo>
                      <a:pt x="433" y="324"/>
                    </a:lnTo>
                    <a:lnTo>
                      <a:pt x="439" y="324"/>
                    </a:lnTo>
                    <a:lnTo>
                      <a:pt x="433" y="324"/>
                    </a:lnTo>
                    <a:lnTo>
                      <a:pt x="428" y="341"/>
                    </a:lnTo>
                    <a:lnTo>
                      <a:pt x="428" y="341"/>
                    </a:lnTo>
                    <a:lnTo>
                      <a:pt x="428" y="341"/>
                    </a:lnTo>
                    <a:lnTo>
                      <a:pt x="428" y="358"/>
                    </a:lnTo>
                    <a:lnTo>
                      <a:pt x="433" y="358"/>
                    </a:lnTo>
                    <a:lnTo>
                      <a:pt x="428" y="358"/>
                    </a:lnTo>
                    <a:lnTo>
                      <a:pt x="416" y="375"/>
                    </a:lnTo>
                    <a:lnTo>
                      <a:pt x="410" y="387"/>
                    </a:lnTo>
                    <a:lnTo>
                      <a:pt x="399" y="404"/>
                    </a:lnTo>
                    <a:lnTo>
                      <a:pt x="404" y="404"/>
                    </a:lnTo>
                    <a:lnTo>
                      <a:pt x="404" y="399"/>
                    </a:lnTo>
                    <a:lnTo>
                      <a:pt x="387" y="410"/>
                    </a:lnTo>
                    <a:lnTo>
                      <a:pt x="370" y="422"/>
                    </a:lnTo>
                    <a:lnTo>
                      <a:pt x="352" y="433"/>
                    </a:lnTo>
                    <a:lnTo>
                      <a:pt x="324" y="445"/>
                    </a:lnTo>
                    <a:lnTo>
                      <a:pt x="324" y="450"/>
                    </a:lnTo>
                    <a:lnTo>
                      <a:pt x="324" y="445"/>
                    </a:lnTo>
                    <a:lnTo>
                      <a:pt x="301" y="450"/>
                    </a:lnTo>
                    <a:lnTo>
                      <a:pt x="283" y="450"/>
                    </a:lnTo>
                    <a:lnTo>
                      <a:pt x="254" y="450"/>
                    </a:lnTo>
                    <a:lnTo>
                      <a:pt x="226" y="450"/>
                    </a:lnTo>
                    <a:lnTo>
                      <a:pt x="191" y="450"/>
                    </a:lnTo>
                    <a:lnTo>
                      <a:pt x="156" y="450"/>
                    </a:lnTo>
                    <a:lnTo>
                      <a:pt x="116" y="450"/>
                    </a:lnTo>
                    <a:lnTo>
                      <a:pt x="76" y="450"/>
                    </a:lnTo>
                    <a:lnTo>
                      <a:pt x="35" y="450"/>
                    </a:lnTo>
                    <a:lnTo>
                      <a:pt x="29" y="450"/>
                    </a:lnTo>
                    <a:lnTo>
                      <a:pt x="29" y="456"/>
                    </a:lnTo>
                    <a:lnTo>
                      <a:pt x="24" y="485"/>
                    </a:lnTo>
                    <a:lnTo>
                      <a:pt x="18" y="525"/>
                    </a:lnTo>
                    <a:lnTo>
                      <a:pt x="12" y="572"/>
                    </a:lnTo>
                    <a:lnTo>
                      <a:pt x="6" y="618"/>
                    </a:lnTo>
                    <a:lnTo>
                      <a:pt x="0" y="664"/>
                    </a:lnTo>
                    <a:lnTo>
                      <a:pt x="0" y="704"/>
                    </a:lnTo>
                    <a:lnTo>
                      <a:pt x="0" y="739"/>
                    </a:lnTo>
                    <a:lnTo>
                      <a:pt x="0" y="762"/>
                    </a:lnTo>
                    <a:lnTo>
                      <a:pt x="0" y="768"/>
                    </a:lnTo>
                    <a:lnTo>
                      <a:pt x="0" y="768"/>
                    </a:lnTo>
                    <a:lnTo>
                      <a:pt x="6" y="779"/>
                    </a:lnTo>
                    <a:lnTo>
                      <a:pt x="12" y="791"/>
                    </a:lnTo>
                    <a:lnTo>
                      <a:pt x="12" y="791"/>
                    </a:lnTo>
                    <a:lnTo>
                      <a:pt x="12" y="791"/>
                    </a:lnTo>
                    <a:lnTo>
                      <a:pt x="18" y="797"/>
                    </a:lnTo>
                    <a:lnTo>
                      <a:pt x="29" y="808"/>
                    </a:lnTo>
                    <a:lnTo>
                      <a:pt x="35" y="814"/>
                    </a:lnTo>
                    <a:lnTo>
                      <a:pt x="35" y="814"/>
                    </a:lnTo>
                    <a:lnTo>
                      <a:pt x="47" y="820"/>
                    </a:lnTo>
                    <a:lnTo>
                      <a:pt x="58" y="826"/>
                    </a:lnTo>
                    <a:lnTo>
                      <a:pt x="76" y="831"/>
                    </a:lnTo>
                    <a:lnTo>
                      <a:pt x="87" y="837"/>
                    </a:lnTo>
                    <a:lnTo>
                      <a:pt x="87" y="837"/>
                    </a:lnTo>
                    <a:lnTo>
                      <a:pt x="87" y="837"/>
                    </a:lnTo>
                    <a:lnTo>
                      <a:pt x="104" y="837"/>
                    </a:lnTo>
                    <a:lnTo>
                      <a:pt x="122" y="837"/>
                    </a:lnTo>
                    <a:lnTo>
                      <a:pt x="133" y="837"/>
                    </a:lnTo>
                    <a:lnTo>
                      <a:pt x="151" y="837"/>
                    </a:lnTo>
                    <a:lnTo>
                      <a:pt x="151" y="837"/>
                    </a:lnTo>
                    <a:lnTo>
                      <a:pt x="156" y="837"/>
                    </a:lnTo>
                    <a:lnTo>
                      <a:pt x="174" y="831"/>
                    </a:lnTo>
                    <a:lnTo>
                      <a:pt x="185" y="826"/>
                    </a:lnTo>
                    <a:lnTo>
                      <a:pt x="197" y="820"/>
                    </a:lnTo>
                    <a:lnTo>
                      <a:pt x="197" y="820"/>
                    </a:lnTo>
                    <a:lnTo>
                      <a:pt x="197" y="814"/>
                    </a:lnTo>
                    <a:lnTo>
                      <a:pt x="208" y="802"/>
                    </a:lnTo>
                    <a:lnTo>
                      <a:pt x="202" y="797"/>
                    </a:lnTo>
                    <a:lnTo>
                      <a:pt x="208" y="808"/>
                    </a:lnTo>
                    <a:lnTo>
                      <a:pt x="220" y="802"/>
                    </a:lnTo>
                    <a:lnTo>
                      <a:pt x="220" y="802"/>
                    </a:lnTo>
                    <a:lnTo>
                      <a:pt x="220" y="797"/>
                    </a:lnTo>
                    <a:lnTo>
                      <a:pt x="231" y="785"/>
                    </a:lnTo>
                    <a:lnTo>
                      <a:pt x="226" y="779"/>
                    </a:lnTo>
                    <a:lnTo>
                      <a:pt x="226" y="791"/>
                    </a:lnTo>
                    <a:lnTo>
                      <a:pt x="243" y="791"/>
                    </a:lnTo>
                    <a:lnTo>
                      <a:pt x="243" y="791"/>
                    </a:lnTo>
                    <a:lnTo>
                      <a:pt x="249" y="791"/>
                    </a:lnTo>
                    <a:lnTo>
                      <a:pt x="260" y="785"/>
                    </a:lnTo>
                    <a:lnTo>
                      <a:pt x="254" y="774"/>
                    </a:lnTo>
                    <a:lnTo>
                      <a:pt x="254" y="785"/>
                    </a:lnTo>
                    <a:lnTo>
                      <a:pt x="272" y="785"/>
                    </a:lnTo>
                    <a:lnTo>
                      <a:pt x="289" y="785"/>
                    </a:lnTo>
                    <a:lnTo>
                      <a:pt x="289" y="774"/>
                    </a:lnTo>
                    <a:lnTo>
                      <a:pt x="289" y="785"/>
                    </a:lnTo>
                    <a:lnTo>
                      <a:pt x="306" y="791"/>
                    </a:lnTo>
                    <a:lnTo>
                      <a:pt x="324" y="797"/>
                    </a:lnTo>
                    <a:lnTo>
                      <a:pt x="335" y="802"/>
                    </a:lnTo>
                    <a:lnTo>
                      <a:pt x="352" y="814"/>
                    </a:lnTo>
                    <a:lnTo>
                      <a:pt x="352" y="802"/>
                    </a:lnTo>
                    <a:lnTo>
                      <a:pt x="347" y="808"/>
                    </a:lnTo>
                    <a:lnTo>
                      <a:pt x="358" y="820"/>
                    </a:lnTo>
                    <a:lnTo>
                      <a:pt x="364" y="814"/>
                    </a:lnTo>
                    <a:lnTo>
                      <a:pt x="358" y="820"/>
                    </a:lnTo>
                    <a:lnTo>
                      <a:pt x="370" y="837"/>
                    </a:lnTo>
                    <a:lnTo>
                      <a:pt x="381" y="854"/>
                    </a:lnTo>
                    <a:lnTo>
                      <a:pt x="387" y="872"/>
                    </a:lnTo>
                    <a:lnTo>
                      <a:pt x="393" y="895"/>
                    </a:lnTo>
                    <a:lnTo>
                      <a:pt x="399" y="889"/>
                    </a:lnTo>
                    <a:lnTo>
                      <a:pt x="393" y="889"/>
                    </a:lnTo>
                    <a:lnTo>
                      <a:pt x="393" y="912"/>
                    </a:lnTo>
                    <a:lnTo>
                      <a:pt x="393" y="929"/>
                    </a:lnTo>
                    <a:lnTo>
                      <a:pt x="399" y="929"/>
                    </a:lnTo>
                    <a:lnTo>
                      <a:pt x="393" y="929"/>
                    </a:lnTo>
                    <a:lnTo>
                      <a:pt x="387" y="941"/>
                    </a:lnTo>
                    <a:lnTo>
                      <a:pt x="381" y="958"/>
                    </a:lnTo>
                    <a:lnTo>
                      <a:pt x="387" y="958"/>
                    </a:lnTo>
                    <a:lnTo>
                      <a:pt x="381" y="952"/>
                    </a:lnTo>
                    <a:lnTo>
                      <a:pt x="370" y="964"/>
                    </a:lnTo>
                    <a:lnTo>
                      <a:pt x="358" y="976"/>
                    </a:lnTo>
                    <a:lnTo>
                      <a:pt x="347" y="987"/>
                    </a:lnTo>
                    <a:lnTo>
                      <a:pt x="352" y="993"/>
                    </a:lnTo>
                    <a:lnTo>
                      <a:pt x="352" y="987"/>
                    </a:lnTo>
                    <a:lnTo>
                      <a:pt x="335" y="993"/>
                    </a:lnTo>
                    <a:lnTo>
                      <a:pt x="324" y="999"/>
                    </a:lnTo>
                    <a:lnTo>
                      <a:pt x="306" y="1004"/>
                    </a:lnTo>
                    <a:lnTo>
                      <a:pt x="289" y="1010"/>
                    </a:lnTo>
                    <a:lnTo>
                      <a:pt x="289" y="1016"/>
                    </a:lnTo>
                    <a:lnTo>
                      <a:pt x="289" y="1010"/>
                    </a:lnTo>
                    <a:lnTo>
                      <a:pt x="272" y="1010"/>
                    </a:lnTo>
                    <a:lnTo>
                      <a:pt x="254" y="1010"/>
                    </a:lnTo>
                    <a:lnTo>
                      <a:pt x="254" y="1016"/>
                    </a:lnTo>
                    <a:lnTo>
                      <a:pt x="260" y="1010"/>
                    </a:lnTo>
                    <a:lnTo>
                      <a:pt x="249" y="1004"/>
                    </a:lnTo>
                    <a:lnTo>
                      <a:pt x="231" y="999"/>
                    </a:lnTo>
                    <a:lnTo>
                      <a:pt x="226" y="1004"/>
                    </a:lnTo>
                    <a:lnTo>
                      <a:pt x="231" y="999"/>
                    </a:lnTo>
                    <a:lnTo>
                      <a:pt x="220" y="987"/>
                    </a:lnTo>
                    <a:lnTo>
                      <a:pt x="208" y="976"/>
                    </a:lnTo>
                    <a:lnTo>
                      <a:pt x="197" y="964"/>
                    </a:lnTo>
                    <a:lnTo>
                      <a:pt x="197" y="964"/>
                    </a:lnTo>
                    <a:lnTo>
                      <a:pt x="197" y="964"/>
                    </a:lnTo>
                    <a:lnTo>
                      <a:pt x="185" y="958"/>
                    </a:lnTo>
                    <a:lnTo>
                      <a:pt x="174" y="952"/>
                    </a:lnTo>
                    <a:lnTo>
                      <a:pt x="162" y="947"/>
                    </a:lnTo>
                    <a:lnTo>
                      <a:pt x="162" y="947"/>
                    </a:lnTo>
                    <a:lnTo>
                      <a:pt x="156" y="947"/>
                    </a:lnTo>
                    <a:lnTo>
                      <a:pt x="145" y="947"/>
                    </a:lnTo>
                    <a:lnTo>
                      <a:pt x="133" y="947"/>
                    </a:lnTo>
                    <a:lnTo>
                      <a:pt x="116" y="947"/>
                    </a:lnTo>
                    <a:lnTo>
                      <a:pt x="104" y="947"/>
                    </a:lnTo>
                    <a:lnTo>
                      <a:pt x="104" y="947"/>
                    </a:lnTo>
                    <a:lnTo>
                      <a:pt x="99" y="947"/>
                    </a:lnTo>
                    <a:lnTo>
                      <a:pt x="87" y="958"/>
                    </a:lnTo>
                    <a:lnTo>
                      <a:pt x="93" y="964"/>
                    </a:lnTo>
                    <a:lnTo>
                      <a:pt x="93" y="958"/>
                    </a:lnTo>
                    <a:lnTo>
                      <a:pt x="76" y="964"/>
                    </a:lnTo>
                    <a:lnTo>
                      <a:pt x="64" y="970"/>
                    </a:lnTo>
                    <a:lnTo>
                      <a:pt x="64" y="970"/>
                    </a:lnTo>
                    <a:lnTo>
                      <a:pt x="58" y="970"/>
                    </a:lnTo>
                    <a:lnTo>
                      <a:pt x="47" y="981"/>
                    </a:lnTo>
                    <a:lnTo>
                      <a:pt x="35" y="993"/>
                    </a:lnTo>
                    <a:lnTo>
                      <a:pt x="35" y="999"/>
                    </a:lnTo>
                    <a:lnTo>
                      <a:pt x="35" y="999"/>
                    </a:lnTo>
                    <a:lnTo>
                      <a:pt x="29" y="1010"/>
                    </a:lnTo>
                    <a:lnTo>
                      <a:pt x="35" y="1010"/>
                    </a:lnTo>
                    <a:lnTo>
                      <a:pt x="29" y="1004"/>
                    </a:lnTo>
                    <a:lnTo>
                      <a:pt x="18" y="1016"/>
                    </a:lnTo>
                    <a:lnTo>
                      <a:pt x="18" y="1022"/>
                    </a:lnTo>
                    <a:lnTo>
                      <a:pt x="18" y="1022"/>
                    </a:lnTo>
                    <a:lnTo>
                      <a:pt x="12" y="1039"/>
                    </a:lnTo>
                    <a:lnTo>
                      <a:pt x="6" y="1051"/>
                    </a:lnTo>
                    <a:lnTo>
                      <a:pt x="6" y="1051"/>
                    </a:lnTo>
                    <a:lnTo>
                      <a:pt x="6" y="1051"/>
                    </a:lnTo>
                    <a:lnTo>
                      <a:pt x="6" y="1074"/>
                    </a:lnTo>
                    <a:lnTo>
                      <a:pt x="6" y="1091"/>
                    </a:lnTo>
                    <a:lnTo>
                      <a:pt x="6" y="1091"/>
                    </a:lnTo>
                    <a:lnTo>
                      <a:pt x="6" y="1097"/>
                    </a:lnTo>
                    <a:lnTo>
                      <a:pt x="12" y="1120"/>
                    </a:lnTo>
                    <a:lnTo>
                      <a:pt x="18" y="1114"/>
                    </a:lnTo>
                    <a:lnTo>
                      <a:pt x="12" y="1114"/>
                    </a:lnTo>
                    <a:lnTo>
                      <a:pt x="18" y="1166"/>
                    </a:lnTo>
                    <a:lnTo>
                      <a:pt x="29" y="1224"/>
                    </a:lnTo>
                    <a:lnTo>
                      <a:pt x="35" y="1252"/>
                    </a:lnTo>
                    <a:lnTo>
                      <a:pt x="35" y="1270"/>
                    </a:lnTo>
                    <a:lnTo>
                      <a:pt x="35" y="1258"/>
                    </a:lnTo>
                    <a:lnTo>
                      <a:pt x="41" y="1281"/>
                    </a:lnTo>
                    <a:lnTo>
                      <a:pt x="47" y="1276"/>
                    </a:lnTo>
                    <a:lnTo>
                      <a:pt x="41" y="1276"/>
                    </a:lnTo>
                    <a:lnTo>
                      <a:pt x="41" y="1304"/>
                    </a:lnTo>
                    <a:lnTo>
                      <a:pt x="47" y="1333"/>
                    </a:lnTo>
                    <a:lnTo>
                      <a:pt x="47" y="1356"/>
                    </a:lnTo>
                    <a:lnTo>
                      <a:pt x="52" y="1356"/>
                    </a:lnTo>
                    <a:lnTo>
                      <a:pt x="47" y="1356"/>
                    </a:lnTo>
                    <a:lnTo>
                      <a:pt x="41" y="1379"/>
                    </a:lnTo>
                    <a:lnTo>
                      <a:pt x="41" y="1379"/>
                    </a:lnTo>
                    <a:lnTo>
                      <a:pt x="41" y="1379"/>
                    </a:lnTo>
                    <a:lnTo>
                      <a:pt x="41" y="1391"/>
                    </a:lnTo>
                    <a:lnTo>
                      <a:pt x="47" y="1391"/>
                    </a:lnTo>
                    <a:lnTo>
                      <a:pt x="41" y="1391"/>
                    </a:lnTo>
                    <a:lnTo>
                      <a:pt x="35" y="1402"/>
                    </a:lnTo>
                    <a:lnTo>
                      <a:pt x="35" y="1402"/>
                    </a:lnTo>
                    <a:lnTo>
                      <a:pt x="35" y="1402"/>
                    </a:lnTo>
                    <a:lnTo>
                      <a:pt x="35" y="1414"/>
                    </a:lnTo>
                    <a:lnTo>
                      <a:pt x="41" y="1414"/>
                    </a:lnTo>
                    <a:lnTo>
                      <a:pt x="35" y="1408"/>
                    </a:lnTo>
                    <a:lnTo>
                      <a:pt x="29" y="1414"/>
                    </a:lnTo>
                    <a:lnTo>
                      <a:pt x="12" y="1431"/>
                    </a:lnTo>
                    <a:lnTo>
                      <a:pt x="35" y="1431"/>
                    </a:lnTo>
                    <a:lnTo>
                      <a:pt x="76" y="1426"/>
                    </a:lnTo>
                    <a:lnTo>
                      <a:pt x="81" y="1420"/>
                    </a:lnTo>
                    <a:lnTo>
                      <a:pt x="81" y="1426"/>
                    </a:lnTo>
                    <a:lnTo>
                      <a:pt x="122" y="1414"/>
                    </a:lnTo>
                    <a:lnTo>
                      <a:pt x="116" y="1402"/>
                    </a:lnTo>
                    <a:lnTo>
                      <a:pt x="116" y="1414"/>
                    </a:lnTo>
                    <a:lnTo>
                      <a:pt x="156" y="1414"/>
                    </a:lnTo>
                    <a:lnTo>
                      <a:pt x="191" y="1408"/>
                    </a:lnTo>
                    <a:lnTo>
                      <a:pt x="231" y="1402"/>
                    </a:lnTo>
                    <a:lnTo>
                      <a:pt x="266" y="1402"/>
                    </a:lnTo>
                    <a:lnTo>
                      <a:pt x="266" y="1391"/>
                    </a:lnTo>
                    <a:lnTo>
                      <a:pt x="266" y="1402"/>
                    </a:lnTo>
                    <a:lnTo>
                      <a:pt x="283" y="1408"/>
                    </a:lnTo>
                    <a:lnTo>
                      <a:pt x="283" y="1408"/>
                    </a:lnTo>
                    <a:lnTo>
                      <a:pt x="283" y="1408"/>
                    </a:lnTo>
                    <a:lnTo>
                      <a:pt x="301" y="1408"/>
                    </a:lnTo>
                    <a:lnTo>
                      <a:pt x="301" y="1397"/>
                    </a:lnTo>
                    <a:lnTo>
                      <a:pt x="301" y="1408"/>
                    </a:lnTo>
                    <a:lnTo>
                      <a:pt x="312" y="1414"/>
                    </a:lnTo>
                    <a:lnTo>
                      <a:pt x="329" y="1420"/>
                    </a:lnTo>
                    <a:lnTo>
                      <a:pt x="318" y="1414"/>
                    </a:lnTo>
                    <a:lnTo>
                      <a:pt x="329" y="1420"/>
                    </a:lnTo>
                    <a:lnTo>
                      <a:pt x="352" y="1426"/>
                    </a:lnTo>
                    <a:close/>
                    <a:moveTo>
                      <a:pt x="329" y="1402"/>
                    </a:moveTo>
                    <a:lnTo>
                      <a:pt x="329" y="1408"/>
                    </a:lnTo>
                    <a:lnTo>
                      <a:pt x="335" y="1402"/>
                    </a:lnTo>
                    <a:lnTo>
                      <a:pt x="318" y="1397"/>
                    </a:lnTo>
                    <a:lnTo>
                      <a:pt x="306" y="1391"/>
                    </a:lnTo>
                    <a:lnTo>
                      <a:pt x="306" y="1391"/>
                    </a:lnTo>
                    <a:lnTo>
                      <a:pt x="301" y="1391"/>
                    </a:lnTo>
                    <a:lnTo>
                      <a:pt x="283" y="1391"/>
                    </a:lnTo>
                    <a:lnTo>
                      <a:pt x="283" y="1397"/>
                    </a:lnTo>
                    <a:lnTo>
                      <a:pt x="289" y="1391"/>
                    </a:lnTo>
                    <a:lnTo>
                      <a:pt x="272" y="1385"/>
                    </a:lnTo>
                    <a:lnTo>
                      <a:pt x="272" y="1385"/>
                    </a:lnTo>
                    <a:lnTo>
                      <a:pt x="266" y="1385"/>
                    </a:lnTo>
                    <a:lnTo>
                      <a:pt x="231" y="1385"/>
                    </a:lnTo>
                    <a:lnTo>
                      <a:pt x="191" y="1391"/>
                    </a:lnTo>
                    <a:lnTo>
                      <a:pt x="156" y="1397"/>
                    </a:lnTo>
                    <a:lnTo>
                      <a:pt x="116" y="1397"/>
                    </a:lnTo>
                    <a:lnTo>
                      <a:pt x="116" y="1397"/>
                    </a:lnTo>
                    <a:lnTo>
                      <a:pt x="116" y="1397"/>
                    </a:lnTo>
                    <a:lnTo>
                      <a:pt x="76" y="1408"/>
                    </a:lnTo>
                    <a:lnTo>
                      <a:pt x="76" y="1414"/>
                    </a:lnTo>
                    <a:lnTo>
                      <a:pt x="76" y="1408"/>
                    </a:lnTo>
                    <a:lnTo>
                      <a:pt x="35" y="1414"/>
                    </a:lnTo>
                    <a:lnTo>
                      <a:pt x="35" y="1420"/>
                    </a:lnTo>
                    <a:lnTo>
                      <a:pt x="41" y="1426"/>
                    </a:lnTo>
                    <a:lnTo>
                      <a:pt x="47" y="1420"/>
                    </a:lnTo>
                    <a:lnTo>
                      <a:pt x="52" y="1420"/>
                    </a:lnTo>
                    <a:lnTo>
                      <a:pt x="52" y="1414"/>
                    </a:lnTo>
                    <a:lnTo>
                      <a:pt x="52" y="1402"/>
                    </a:lnTo>
                    <a:lnTo>
                      <a:pt x="41" y="1402"/>
                    </a:lnTo>
                    <a:lnTo>
                      <a:pt x="52" y="1408"/>
                    </a:lnTo>
                    <a:lnTo>
                      <a:pt x="58" y="1397"/>
                    </a:lnTo>
                    <a:lnTo>
                      <a:pt x="58" y="1397"/>
                    </a:lnTo>
                    <a:lnTo>
                      <a:pt x="58" y="1391"/>
                    </a:lnTo>
                    <a:lnTo>
                      <a:pt x="58" y="1379"/>
                    </a:lnTo>
                    <a:lnTo>
                      <a:pt x="47" y="1379"/>
                    </a:lnTo>
                    <a:lnTo>
                      <a:pt x="58" y="1385"/>
                    </a:lnTo>
                    <a:lnTo>
                      <a:pt x="64" y="1362"/>
                    </a:lnTo>
                    <a:lnTo>
                      <a:pt x="64" y="1362"/>
                    </a:lnTo>
                    <a:lnTo>
                      <a:pt x="64" y="1356"/>
                    </a:lnTo>
                    <a:lnTo>
                      <a:pt x="64" y="1333"/>
                    </a:lnTo>
                    <a:lnTo>
                      <a:pt x="58" y="1304"/>
                    </a:lnTo>
                    <a:lnTo>
                      <a:pt x="58" y="1276"/>
                    </a:lnTo>
                    <a:lnTo>
                      <a:pt x="58" y="1276"/>
                    </a:lnTo>
                    <a:lnTo>
                      <a:pt x="58" y="1276"/>
                    </a:lnTo>
                    <a:lnTo>
                      <a:pt x="52" y="1252"/>
                    </a:lnTo>
                    <a:lnTo>
                      <a:pt x="41" y="1252"/>
                    </a:lnTo>
                    <a:lnTo>
                      <a:pt x="52" y="1252"/>
                    </a:lnTo>
                    <a:lnTo>
                      <a:pt x="47" y="1224"/>
                    </a:lnTo>
                    <a:lnTo>
                      <a:pt x="35" y="1166"/>
                    </a:lnTo>
                    <a:lnTo>
                      <a:pt x="29" y="1114"/>
                    </a:lnTo>
                    <a:lnTo>
                      <a:pt x="24" y="1108"/>
                    </a:lnTo>
                    <a:lnTo>
                      <a:pt x="29" y="1114"/>
                    </a:lnTo>
                    <a:lnTo>
                      <a:pt x="24" y="1091"/>
                    </a:lnTo>
                    <a:lnTo>
                      <a:pt x="12" y="1091"/>
                    </a:lnTo>
                    <a:lnTo>
                      <a:pt x="24" y="1091"/>
                    </a:lnTo>
                    <a:lnTo>
                      <a:pt x="24" y="1074"/>
                    </a:lnTo>
                    <a:lnTo>
                      <a:pt x="24" y="1051"/>
                    </a:lnTo>
                    <a:lnTo>
                      <a:pt x="12" y="1051"/>
                    </a:lnTo>
                    <a:lnTo>
                      <a:pt x="24" y="1056"/>
                    </a:lnTo>
                    <a:lnTo>
                      <a:pt x="29" y="1045"/>
                    </a:lnTo>
                    <a:lnTo>
                      <a:pt x="35" y="1027"/>
                    </a:lnTo>
                    <a:lnTo>
                      <a:pt x="24" y="1022"/>
                    </a:lnTo>
                    <a:lnTo>
                      <a:pt x="29" y="1027"/>
                    </a:lnTo>
                    <a:lnTo>
                      <a:pt x="41" y="1016"/>
                    </a:lnTo>
                    <a:lnTo>
                      <a:pt x="47" y="1016"/>
                    </a:lnTo>
                    <a:lnTo>
                      <a:pt x="47" y="1016"/>
                    </a:lnTo>
                    <a:lnTo>
                      <a:pt x="52" y="1004"/>
                    </a:lnTo>
                    <a:lnTo>
                      <a:pt x="41" y="999"/>
                    </a:lnTo>
                    <a:lnTo>
                      <a:pt x="47" y="1004"/>
                    </a:lnTo>
                    <a:lnTo>
                      <a:pt x="58" y="993"/>
                    </a:lnTo>
                    <a:lnTo>
                      <a:pt x="70" y="981"/>
                    </a:lnTo>
                    <a:lnTo>
                      <a:pt x="64" y="976"/>
                    </a:lnTo>
                    <a:lnTo>
                      <a:pt x="70" y="987"/>
                    </a:lnTo>
                    <a:lnTo>
                      <a:pt x="81" y="981"/>
                    </a:lnTo>
                    <a:lnTo>
                      <a:pt x="99" y="976"/>
                    </a:lnTo>
                    <a:lnTo>
                      <a:pt x="99" y="976"/>
                    </a:lnTo>
                    <a:lnTo>
                      <a:pt x="99" y="970"/>
                    </a:lnTo>
                    <a:lnTo>
                      <a:pt x="110" y="958"/>
                    </a:lnTo>
                    <a:lnTo>
                      <a:pt x="104" y="952"/>
                    </a:lnTo>
                    <a:lnTo>
                      <a:pt x="104" y="964"/>
                    </a:lnTo>
                    <a:lnTo>
                      <a:pt x="116" y="964"/>
                    </a:lnTo>
                    <a:lnTo>
                      <a:pt x="133" y="964"/>
                    </a:lnTo>
                    <a:lnTo>
                      <a:pt x="145" y="964"/>
                    </a:lnTo>
                    <a:lnTo>
                      <a:pt x="156" y="964"/>
                    </a:lnTo>
                    <a:lnTo>
                      <a:pt x="156" y="952"/>
                    </a:lnTo>
                    <a:lnTo>
                      <a:pt x="156" y="964"/>
                    </a:lnTo>
                    <a:lnTo>
                      <a:pt x="168" y="970"/>
                    </a:lnTo>
                    <a:lnTo>
                      <a:pt x="179" y="976"/>
                    </a:lnTo>
                    <a:lnTo>
                      <a:pt x="191" y="981"/>
                    </a:lnTo>
                    <a:lnTo>
                      <a:pt x="191" y="970"/>
                    </a:lnTo>
                    <a:lnTo>
                      <a:pt x="185" y="976"/>
                    </a:lnTo>
                    <a:lnTo>
                      <a:pt x="197" y="987"/>
                    </a:lnTo>
                    <a:lnTo>
                      <a:pt x="208" y="999"/>
                    </a:lnTo>
                    <a:lnTo>
                      <a:pt x="220" y="1010"/>
                    </a:lnTo>
                    <a:lnTo>
                      <a:pt x="226" y="1016"/>
                    </a:lnTo>
                    <a:lnTo>
                      <a:pt x="226" y="1016"/>
                    </a:lnTo>
                    <a:lnTo>
                      <a:pt x="243" y="1022"/>
                    </a:lnTo>
                    <a:lnTo>
                      <a:pt x="254" y="1027"/>
                    </a:lnTo>
                    <a:lnTo>
                      <a:pt x="254" y="1027"/>
                    </a:lnTo>
                    <a:lnTo>
                      <a:pt x="254" y="1027"/>
                    </a:lnTo>
                    <a:lnTo>
                      <a:pt x="272" y="1027"/>
                    </a:lnTo>
                    <a:lnTo>
                      <a:pt x="289" y="1027"/>
                    </a:lnTo>
                    <a:lnTo>
                      <a:pt x="295" y="1027"/>
                    </a:lnTo>
                    <a:lnTo>
                      <a:pt x="295" y="1027"/>
                    </a:lnTo>
                    <a:lnTo>
                      <a:pt x="312" y="1022"/>
                    </a:lnTo>
                    <a:lnTo>
                      <a:pt x="329" y="1016"/>
                    </a:lnTo>
                    <a:lnTo>
                      <a:pt x="341" y="1010"/>
                    </a:lnTo>
                    <a:lnTo>
                      <a:pt x="358" y="1004"/>
                    </a:lnTo>
                    <a:lnTo>
                      <a:pt x="358" y="1004"/>
                    </a:lnTo>
                    <a:lnTo>
                      <a:pt x="358" y="999"/>
                    </a:lnTo>
                    <a:lnTo>
                      <a:pt x="370" y="987"/>
                    </a:lnTo>
                    <a:lnTo>
                      <a:pt x="381" y="976"/>
                    </a:lnTo>
                    <a:lnTo>
                      <a:pt x="393" y="964"/>
                    </a:lnTo>
                    <a:lnTo>
                      <a:pt x="399" y="964"/>
                    </a:lnTo>
                    <a:lnTo>
                      <a:pt x="399" y="964"/>
                    </a:lnTo>
                    <a:lnTo>
                      <a:pt x="404" y="947"/>
                    </a:lnTo>
                    <a:lnTo>
                      <a:pt x="410" y="935"/>
                    </a:lnTo>
                    <a:lnTo>
                      <a:pt x="410" y="935"/>
                    </a:lnTo>
                    <a:lnTo>
                      <a:pt x="410" y="929"/>
                    </a:lnTo>
                    <a:lnTo>
                      <a:pt x="410" y="912"/>
                    </a:lnTo>
                    <a:lnTo>
                      <a:pt x="410" y="889"/>
                    </a:lnTo>
                    <a:lnTo>
                      <a:pt x="410" y="889"/>
                    </a:lnTo>
                    <a:lnTo>
                      <a:pt x="410" y="889"/>
                    </a:lnTo>
                    <a:lnTo>
                      <a:pt x="404" y="866"/>
                    </a:lnTo>
                    <a:lnTo>
                      <a:pt x="399" y="849"/>
                    </a:lnTo>
                    <a:lnTo>
                      <a:pt x="387" y="831"/>
                    </a:lnTo>
                    <a:lnTo>
                      <a:pt x="376" y="814"/>
                    </a:lnTo>
                    <a:lnTo>
                      <a:pt x="376" y="814"/>
                    </a:lnTo>
                    <a:lnTo>
                      <a:pt x="370" y="808"/>
                    </a:lnTo>
                    <a:lnTo>
                      <a:pt x="358" y="797"/>
                    </a:lnTo>
                    <a:lnTo>
                      <a:pt x="358" y="797"/>
                    </a:lnTo>
                    <a:lnTo>
                      <a:pt x="358" y="797"/>
                    </a:lnTo>
                    <a:lnTo>
                      <a:pt x="341" y="785"/>
                    </a:lnTo>
                    <a:lnTo>
                      <a:pt x="329" y="779"/>
                    </a:lnTo>
                    <a:lnTo>
                      <a:pt x="312" y="774"/>
                    </a:lnTo>
                    <a:lnTo>
                      <a:pt x="295" y="768"/>
                    </a:lnTo>
                    <a:lnTo>
                      <a:pt x="295" y="768"/>
                    </a:lnTo>
                    <a:lnTo>
                      <a:pt x="289" y="768"/>
                    </a:lnTo>
                    <a:lnTo>
                      <a:pt x="272" y="768"/>
                    </a:lnTo>
                    <a:lnTo>
                      <a:pt x="254" y="768"/>
                    </a:lnTo>
                    <a:lnTo>
                      <a:pt x="254" y="768"/>
                    </a:lnTo>
                    <a:lnTo>
                      <a:pt x="254" y="768"/>
                    </a:lnTo>
                    <a:lnTo>
                      <a:pt x="243" y="774"/>
                    </a:lnTo>
                    <a:lnTo>
                      <a:pt x="243" y="779"/>
                    </a:lnTo>
                    <a:lnTo>
                      <a:pt x="243" y="774"/>
                    </a:lnTo>
                    <a:lnTo>
                      <a:pt x="226" y="774"/>
                    </a:lnTo>
                    <a:lnTo>
                      <a:pt x="226" y="774"/>
                    </a:lnTo>
                    <a:lnTo>
                      <a:pt x="220" y="774"/>
                    </a:lnTo>
                    <a:lnTo>
                      <a:pt x="208" y="785"/>
                    </a:lnTo>
                    <a:lnTo>
                      <a:pt x="214" y="791"/>
                    </a:lnTo>
                    <a:lnTo>
                      <a:pt x="214" y="785"/>
                    </a:lnTo>
                    <a:lnTo>
                      <a:pt x="202" y="791"/>
                    </a:lnTo>
                    <a:lnTo>
                      <a:pt x="202" y="791"/>
                    </a:lnTo>
                    <a:lnTo>
                      <a:pt x="197" y="791"/>
                    </a:lnTo>
                    <a:lnTo>
                      <a:pt x="185" y="802"/>
                    </a:lnTo>
                    <a:lnTo>
                      <a:pt x="191" y="808"/>
                    </a:lnTo>
                    <a:lnTo>
                      <a:pt x="191" y="802"/>
                    </a:lnTo>
                    <a:lnTo>
                      <a:pt x="179" y="808"/>
                    </a:lnTo>
                    <a:lnTo>
                      <a:pt x="168" y="814"/>
                    </a:lnTo>
                    <a:lnTo>
                      <a:pt x="151" y="820"/>
                    </a:lnTo>
                    <a:lnTo>
                      <a:pt x="151" y="826"/>
                    </a:lnTo>
                    <a:lnTo>
                      <a:pt x="151" y="820"/>
                    </a:lnTo>
                    <a:lnTo>
                      <a:pt x="133" y="820"/>
                    </a:lnTo>
                    <a:lnTo>
                      <a:pt x="122" y="820"/>
                    </a:lnTo>
                    <a:lnTo>
                      <a:pt x="104" y="820"/>
                    </a:lnTo>
                    <a:lnTo>
                      <a:pt x="87" y="820"/>
                    </a:lnTo>
                    <a:lnTo>
                      <a:pt x="87" y="826"/>
                    </a:lnTo>
                    <a:lnTo>
                      <a:pt x="93" y="820"/>
                    </a:lnTo>
                    <a:lnTo>
                      <a:pt x="81" y="814"/>
                    </a:lnTo>
                    <a:lnTo>
                      <a:pt x="64" y="808"/>
                    </a:lnTo>
                    <a:lnTo>
                      <a:pt x="52" y="802"/>
                    </a:lnTo>
                    <a:lnTo>
                      <a:pt x="41" y="797"/>
                    </a:lnTo>
                    <a:lnTo>
                      <a:pt x="35" y="802"/>
                    </a:lnTo>
                    <a:lnTo>
                      <a:pt x="41" y="797"/>
                    </a:lnTo>
                    <a:lnTo>
                      <a:pt x="29" y="785"/>
                    </a:lnTo>
                    <a:lnTo>
                      <a:pt x="24" y="779"/>
                    </a:lnTo>
                    <a:lnTo>
                      <a:pt x="18" y="785"/>
                    </a:lnTo>
                    <a:lnTo>
                      <a:pt x="29" y="785"/>
                    </a:lnTo>
                    <a:lnTo>
                      <a:pt x="24" y="774"/>
                    </a:lnTo>
                    <a:lnTo>
                      <a:pt x="18" y="762"/>
                    </a:lnTo>
                    <a:lnTo>
                      <a:pt x="6" y="762"/>
                    </a:lnTo>
                    <a:lnTo>
                      <a:pt x="18" y="762"/>
                    </a:lnTo>
                    <a:lnTo>
                      <a:pt x="18" y="739"/>
                    </a:lnTo>
                    <a:lnTo>
                      <a:pt x="18" y="704"/>
                    </a:lnTo>
                    <a:lnTo>
                      <a:pt x="18" y="664"/>
                    </a:lnTo>
                    <a:lnTo>
                      <a:pt x="24" y="618"/>
                    </a:lnTo>
                    <a:lnTo>
                      <a:pt x="29" y="572"/>
                    </a:lnTo>
                    <a:lnTo>
                      <a:pt x="35" y="525"/>
                    </a:lnTo>
                    <a:lnTo>
                      <a:pt x="41" y="485"/>
                    </a:lnTo>
                    <a:lnTo>
                      <a:pt x="47" y="456"/>
                    </a:lnTo>
                    <a:lnTo>
                      <a:pt x="35" y="456"/>
                    </a:lnTo>
                    <a:lnTo>
                      <a:pt x="35" y="468"/>
                    </a:lnTo>
                    <a:lnTo>
                      <a:pt x="76" y="468"/>
                    </a:lnTo>
                    <a:lnTo>
                      <a:pt x="116" y="468"/>
                    </a:lnTo>
                    <a:lnTo>
                      <a:pt x="156" y="468"/>
                    </a:lnTo>
                    <a:lnTo>
                      <a:pt x="191" y="468"/>
                    </a:lnTo>
                    <a:lnTo>
                      <a:pt x="226" y="468"/>
                    </a:lnTo>
                    <a:lnTo>
                      <a:pt x="254" y="468"/>
                    </a:lnTo>
                    <a:lnTo>
                      <a:pt x="283" y="468"/>
                    </a:lnTo>
                    <a:lnTo>
                      <a:pt x="301" y="468"/>
                    </a:lnTo>
                    <a:lnTo>
                      <a:pt x="324" y="462"/>
                    </a:lnTo>
                    <a:lnTo>
                      <a:pt x="329" y="456"/>
                    </a:lnTo>
                    <a:lnTo>
                      <a:pt x="329" y="462"/>
                    </a:lnTo>
                    <a:lnTo>
                      <a:pt x="358" y="450"/>
                    </a:lnTo>
                    <a:lnTo>
                      <a:pt x="376" y="439"/>
                    </a:lnTo>
                    <a:lnTo>
                      <a:pt x="393" y="427"/>
                    </a:lnTo>
                    <a:lnTo>
                      <a:pt x="410" y="416"/>
                    </a:lnTo>
                    <a:lnTo>
                      <a:pt x="410" y="410"/>
                    </a:lnTo>
                    <a:lnTo>
                      <a:pt x="416" y="410"/>
                    </a:lnTo>
                    <a:lnTo>
                      <a:pt x="428" y="393"/>
                    </a:lnTo>
                    <a:lnTo>
                      <a:pt x="433" y="381"/>
                    </a:lnTo>
                    <a:lnTo>
                      <a:pt x="445" y="364"/>
                    </a:lnTo>
                    <a:lnTo>
                      <a:pt x="445" y="364"/>
                    </a:lnTo>
                    <a:lnTo>
                      <a:pt x="445" y="358"/>
                    </a:lnTo>
                    <a:lnTo>
                      <a:pt x="445" y="341"/>
                    </a:lnTo>
                    <a:lnTo>
                      <a:pt x="433" y="341"/>
                    </a:lnTo>
                    <a:lnTo>
                      <a:pt x="445" y="347"/>
                    </a:lnTo>
                    <a:lnTo>
                      <a:pt x="451" y="329"/>
                    </a:lnTo>
                    <a:lnTo>
                      <a:pt x="451" y="329"/>
                    </a:lnTo>
                    <a:lnTo>
                      <a:pt x="451" y="324"/>
                    </a:lnTo>
                    <a:lnTo>
                      <a:pt x="451" y="306"/>
                    </a:lnTo>
                    <a:lnTo>
                      <a:pt x="451" y="306"/>
                    </a:lnTo>
                    <a:lnTo>
                      <a:pt x="451" y="306"/>
                    </a:lnTo>
                    <a:lnTo>
                      <a:pt x="445" y="289"/>
                    </a:lnTo>
                    <a:lnTo>
                      <a:pt x="439" y="277"/>
                    </a:lnTo>
                    <a:lnTo>
                      <a:pt x="433" y="260"/>
                    </a:lnTo>
                    <a:lnTo>
                      <a:pt x="422" y="243"/>
                    </a:lnTo>
                    <a:lnTo>
                      <a:pt x="422" y="243"/>
                    </a:lnTo>
                    <a:lnTo>
                      <a:pt x="416" y="237"/>
                    </a:lnTo>
                    <a:lnTo>
                      <a:pt x="404" y="225"/>
                    </a:lnTo>
                    <a:lnTo>
                      <a:pt x="399" y="231"/>
                    </a:lnTo>
                    <a:lnTo>
                      <a:pt x="410" y="231"/>
                    </a:lnTo>
                    <a:lnTo>
                      <a:pt x="399" y="214"/>
                    </a:lnTo>
                    <a:lnTo>
                      <a:pt x="399" y="214"/>
                    </a:lnTo>
                    <a:lnTo>
                      <a:pt x="393" y="208"/>
                    </a:lnTo>
                    <a:lnTo>
                      <a:pt x="381" y="197"/>
                    </a:lnTo>
                    <a:lnTo>
                      <a:pt x="376" y="202"/>
                    </a:lnTo>
                    <a:lnTo>
                      <a:pt x="387" y="202"/>
                    </a:lnTo>
                    <a:lnTo>
                      <a:pt x="381" y="185"/>
                    </a:lnTo>
                    <a:lnTo>
                      <a:pt x="376" y="168"/>
                    </a:lnTo>
                    <a:lnTo>
                      <a:pt x="364" y="168"/>
                    </a:lnTo>
                    <a:lnTo>
                      <a:pt x="376" y="168"/>
                    </a:lnTo>
                    <a:lnTo>
                      <a:pt x="376" y="145"/>
                    </a:lnTo>
                    <a:lnTo>
                      <a:pt x="376" y="127"/>
                    </a:lnTo>
                    <a:lnTo>
                      <a:pt x="376" y="110"/>
                    </a:lnTo>
                    <a:lnTo>
                      <a:pt x="364" y="110"/>
                    </a:lnTo>
                    <a:lnTo>
                      <a:pt x="376" y="116"/>
                    </a:lnTo>
                    <a:lnTo>
                      <a:pt x="381" y="99"/>
                    </a:lnTo>
                    <a:lnTo>
                      <a:pt x="387" y="75"/>
                    </a:lnTo>
                    <a:lnTo>
                      <a:pt x="376" y="70"/>
                    </a:lnTo>
                    <a:lnTo>
                      <a:pt x="381" y="75"/>
                    </a:lnTo>
                    <a:lnTo>
                      <a:pt x="393" y="64"/>
                    </a:lnTo>
                    <a:lnTo>
                      <a:pt x="399" y="64"/>
                    </a:lnTo>
                    <a:lnTo>
                      <a:pt x="399" y="64"/>
                    </a:lnTo>
                    <a:lnTo>
                      <a:pt x="404" y="52"/>
                    </a:lnTo>
                    <a:lnTo>
                      <a:pt x="393" y="47"/>
                    </a:lnTo>
                    <a:lnTo>
                      <a:pt x="399" y="52"/>
                    </a:lnTo>
                    <a:lnTo>
                      <a:pt x="404" y="47"/>
                    </a:lnTo>
                    <a:lnTo>
                      <a:pt x="399" y="41"/>
                    </a:lnTo>
                    <a:lnTo>
                      <a:pt x="404" y="52"/>
                    </a:lnTo>
                    <a:lnTo>
                      <a:pt x="416" y="47"/>
                    </a:lnTo>
                    <a:lnTo>
                      <a:pt x="416" y="47"/>
                    </a:lnTo>
                    <a:lnTo>
                      <a:pt x="416" y="41"/>
                    </a:lnTo>
                    <a:lnTo>
                      <a:pt x="422" y="35"/>
                    </a:lnTo>
                    <a:lnTo>
                      <a:pt x="416" y="29"/>
                    </a:lnTo>
                    <a:lnTo>
                      <a:pt x="422" y="41"/>
                    </a:lnTo>
                    <a:lnTo>
                      <a:pt x="433" y="35"/>
                    </a:lnTo>
                    <a:lnTo>
                      <a:pt x="445" y="29"/>
                    </a:lnTo>
                    <a:lnTo>
                      <a:pt x="456" y="24"/>
                    </a:lnTo>
                    <a:lnTo>
                      <a:pt x="451" y="12"/>
                    </a:lnTo>
                    <a:lnTo>
                      <a:pt x="451" y="24"/>
                    </a:lnTo>
                    <a:lnTo>
                      <a:pt x="462" y="24"/>
                    </a:lnTo>
                    <a:lnTo>
                      <a:pt x="468" y="24"/>
                    </a:lnTo>
                    <a:lnTo>
                      <a:pt x="468" y="24"/>
                    </a:lnTo>
                    <a:lnTo>
                      <a:pt x="479" y="18"/>
                    </a:lnTo>
                    <a:lnTo>
                      <a:pt x="474" y="6"/>
                    </a:lnTo>
                    <a:lnTo>
                      <a:pt x="474" y="18"/>
                    </a:lnTo>
                    <a:lnTo>
                      <a:pt x="485" y="18"/>
                    </a:lnTo>
                    <a:lnTo>
                      <a:pt x="503" y="18"/>
                    </a:lnTo>
                    <a:lnTo>
                      <a:pt x="514" y="18"/>
                    </a:lnTo>
                    <a:lnTo>
                      <a:pt x="531" y="18"/>
                    </a:lnTo>
                    <a:lnTo>
                      <a:pt x="549" y="18"/>
                    </a:lnTo>
                    <a:lnTo>
                      <a:pt x="560" y="18"/>
                    </a:lnTo>
                    <a:lnTo>
                      <a:pt x="560" y="6"/>
                    </a:lnTo>
                    <a:lnTo>
                      <a:pt x="560" y="18"/>
                    </a:lnTo>
                    <a:lnTo>
                      <a:pt x="578" y="24"/>
                    </a:lnTo>
                    <a:lnTo>
                      <a:pt x="589" y="29"/>
                    </a:lnTo>
                    <a:lnTo>
                      <a:pt x="601" y="35"/>
                    </a:lnTo>
                    <a:lnTo>
                      <a:pt x="612" y="41"/>
                    </a:lnTo>
                    <a:lnTo>
                      <a:pt x="612" y="29"/>
                    </a:lnTo>
                    <a:lnTo>
                      <a:pt x="606" y="35"/>
                    </a:lnTo>
                    <a:lnTo>
                      <a:pt x="612" y="41"/>
                    </a:lnTo>
                    <a:lnTo>
                      <a:pt x="618" y="47"/>
                    </a:lnTo>
                    <a:lnTo>
                      <a:pt x="629" y="58"/>
                    </a:lnTo>
                    <a:lnTo>
                      <a:pt x="635" y="64"/>
                    </a:lnTo>
                    <a:lnTo>
                      <a:pt x="641" y="70"/>
                    </a:lnTo>
                    <a:lnTo>
                      <a:pt x="647" y="64"/>
                    </a:lnTo>
                    <a:lnTo>
                      <a:pt x="641" y="70"/>
                    </a:lnTo>
                    <a:lnTo>
                      <a:pt x="647" y="93"/>
                    </a:lnTo>
                    <a:lnTo>
                      <a:pt x="653" y="110"/>
                    </a:lnTo>
                    <a:lnTo>
                      <a:pt x="658" y="104"/>
                    </a:lnTo>
                    <a:lnTo>
                      <a:pt x="653" y="104"/>
                    </a:lnTo>
                    <a:lnTo>
                      <a:pt x="653" y="127"/>
                    </a:lnTo>
                    <a:lnTo>
                      <a:pt x="653" y="145"/>
                    </a:lnTo>
                    <a:lnTo>
                      <a:pt x="653" y="168"/>
                    </a:lnTo>
                    <a:lnTo>
                      <a:pt x="658" y="168"/>
                    </a:lnTo>
                    <a:lnTo>
                      <a:pt x="653" y="168"/>
                    </a:lnTo>
                    <a:lnTo>
                      <a:pt x="647" y="185"/>
                    </a:lnTo>
                    <a:lnTo>
                      <a:pt x="641" y="202"/>
                    </a:lnTo>
                    <a:lnTo>
                      <a:pt x="629" y="220"/>
                    </a:lnTo>
                    <a:lnTo>
                      <a:pt x="624" y="231"/>
                    </a:lnTo>
                    <a:lnTo>
                      <a:pt x="629" y="231"/>
                    </a:lnTo>
                    <a:lnTo>
                      <a:pt x="624" y="225"/>
                    </a:lnTo>
                    <a:lnTo>
                      <a:pt x="612" y="237"/>
                    </a:lnTo>
                    <a:lnTo>
                      <a:pt x="601" y="249"/>
                    </a:lnTo>
                    <a:lnTo>
                      <a:pt x="601" y="254"/>
                    </a:lnTo>
                    <a:lnTo>
                      <a:pt x="601" y="254"/>
                    </a:lnTo>
                    <a:lnTo>
                      <a:pt x="595" y="266"/>
                    </a:lnTo>
                    <a:lnTo>
                      <a:pt x="601" y="266"/>
                    </a:lnTo>
                    <a:lnTo>
                      <a:pt x="595" y="260"/>
                    </a:lnTo>
                    <a:lnTo>
                      <a:pt x="583" y="272"/>
                    </a:lnTo>
                    <a:lnTo>
                      <a:pt x="583" y="277"/>
                    </a:lnTo>
                    <a:lnTo>
                      <a:pt x="583" y="277"/>
                    </a:lnTo>
                    <a:lnTo>
                      <a:pt x="578" y="289"/>
                    </a:lnTo>
                    <a:lnTo>
                      <a:pt x="572" y="300"/>
                    </a:lnTo>
                    <a:lnTo>
                      <a:pt x="572" y="300"/>
                    </a:lnTo>
                    <a:lnTo>
                      <a:pt x="572" y="300"/>
                    </a:lnTo>
                    <a:lnTo>
                      <a:pt x="572" y="318"/>
                    </a:lnTo>
                    <a:lnTo>
                      <a:pt x="578" y="318"/>
                    </a:lnTo>
                    <a:lnTo>
                      <a:pt x="572" y="318"/>
                    </a:lnTo>
                    <a:lnTo>
                      <a:pt x="566" y="335"/>
                    </a:lnTo>
                    <a:lnTo>
                      <a:pt x="566" y="335"/>
                    </a:lnTo>
                    <a:lnTo>
                      <a:pt x="566" y="335"/>
                    </a:lnTo>
                    <a:lnTo>
                      <a:pt x="566" y="352"/>
                    </a:lnTo>
                    <a:lnTo>
                      <a:pt x="566" y="358"/>
                    </a:lnTo>
                    <a:lnTo>
                      <a:pt x="566" y="358"/>
                    </a:lnTo>
                    <a:lnTo>
                      <a:pt x="572" y="370"/>
                    </a:lnTo>
                    <a:lnTo>
                      <a:pt x="578" y="387"/>
                    </a:lnTo>
                    <a:lnTo>
                      <a:pt x="583" y="399"/>
                    </a:lnTo>
                    <a:lnTo>
                      <a:pt x="595" y="416"/>
                    </a:lnTo>
                    <a:lnTo>
                      <a:pt x="606" y="433"/>
                    </a:lnTo>
                    <a:lnTo>
                      <a:pt x="606" y="433"/>
                    </a:lnTo>
                    <a:lnTo>
                      <a:pt x="612" y="439"/>
                    </a:lnTo>
                    <a:lnTo>
                      <a:pt x="629" y="450"/>
                    </a:lnTo>
                    <a:lnTo>
                      <a:pt x="647" y="462"/>
                    </a:lnTo>
                    <a:lnTo>
                      <a:pt x="641" y="456"/>
                    </a:lnTo>
                    <a:lnTo>
                      <a:pt x="647" y="462"/>
                    </a:lnTo>
                    <a:lnTo>
                      <a:pt x="670" y="468"/>
                    </a:lnTo>
                    <a:lnTo>
                      <a:pt x="670" y="456"/>
                    </a:lnTo>
                    <a:lnTo>
                      <a:pt x="664" y="462"/>
                    </a:lnTo>
                    <a:lnTo>
                      <a:pt x="670" y="468"/>
                    </a:lnTo>
                    <a:lnTo>
                      <a:pt x="670" y="468"/>
                    </a:lnTo>
                    <a:lnTo>
                      <a:pt x="676" y="474"/>
                    </a:lnTo>
                    <a:lnTo>
                      <a:pt x="705" y="479"/>
                    </a:lnTo>
                    <a:lnTo>
                      <a:pt x="739" y="485"/>
                    </a:lnTo>
                    <a:lnTo>
                      <a:pt x="791" y="491"/>
                    </a:lnTo>
                    <a:lnTo>
                      <a:pt x="814" y="491"/>
                    </a:lnTo>
                    <a:lnTo>
                      <a:pt x="843" y="497"/>
                    </a:lnTo>
                    <a:lnTo>
                      <a:pt x="872" y="497"/>
                    </a:lnTo>
                    <a:lnTo>
                      <a:pt x="901" y="497"/>
                    </a:lnTo>
                    <a:lnTo>
                      <a:pt x="930" y="497"/>
                    </a:lnTo>
                    <a:lnTo>
                      <a:pt x="958" y="491"/>
                    </a:lnTo>
                    <a:lnTo>
                      <a:pt x="987" y="491"/>
                    </a:lnTo>
                    <a:lnTo>
                      <a:pt x="1016" y="485"/>
                    </a:lnTo>
                    <a:lnTo>
                      <a:pt x="1016" y="474"/>
                    </a:lnTo>
                    <a:lnTo>
                      <a:pt x="1010" y="479"/>
                    </a:lnTo>
                    <a:lnTo>
                      <a:pt x="1022" y="514"/>
                    </a:lnTo>
                    <a:lnTo>
                      <a:pt x="1033" y="560"/>
                    </a:lnTo>
                    <a:lnTo>
                      <a:pt x="1045" y="606"/>
                    </a:lnTo>
                    <a:lnTo>
                      <a:pt x="1057" y="658"/>
                    </a:lnTo>
                    <a:lnTo>
                      <a:pt x="1062" y="652"/>
                    </a:lnTo>
                    <a:lnTo>
                      <a:pt x="1057" y="652"/>
                    </a:lnTo>
                    <a:lnTo>
                      <a:pt x="1062" y="681"/>
                    </a:lnTo>
                    <a:lnTo>
                      <a:pt x="1062" y="704"/>
                    </a:lnTo>
                    <a:lnTo>
                      <a:pt x="1062" y="727"/>
                    </a:lnTo>
                    <a:lnTo>
                      <a:pt x="1062" y="751"/>
                    </a:lnTo>
                    <a:lnTo>
                      <a:pt x="1062" y="774"/>
                    </a:lnTo>
                    <a:lnTo>
                      <a:pt x="1068" y="774"/>
                    </a:lnTo>
                    <a:lnTo>
                      <a:pt x="1062" y="774"/>
                    </a:lnTo>
                    <a:lnTo>
                      <a:pt x="1057" y="791"/>
                    </a:lnTo>
                    <a:lnTo>
                      <a:pt x="1057" y="791"/>
                    </a:lnTo>
                    <a:lnTo>
                      <a:pt x="1057" y="791"/>
                    </a:lnTo>
                    <a:lnTo>
                      <a:pt x="1057" y="797"/>
                    </a:lnTo>
                    <a:lnTo>
                      <a:pt x="1062" y="797"/>
                    </a:lnTo>
                    <a:lnTo>
                      <a:pt x="1057" y="797"/>
                    </a:lnTo>
                    <a:lnTo>
                      <a:pt x="1051" y="808"/>
                    </a:lnTo>
                    <a:lnTo>
                      <a:pt x="1057" y="808"/>
                    </a:lnTo>
                    <a:lnTo>
                      <a:pt x="1057" y="802"/>
                    </a:lnTo>
                    <a:lnTo>
                      <a:pt x="1051" y="802"/>
                    </a:lnTo>
                    <a:lnTo>
                      <a:pt x="1045" y="802"/>
                    </a:lnTo>
                    <a:lnTo>
                      <a:pt x="1045" y="808"/>
                    </a:lnTo>
                    <a:lnTo>
                      <a:pt x="1045" y="814"/>
                    </a:lnTo>
                    <a:lnTo>
                      <a:pt x="1051" y="814"/>
                    </a:lnTo>
                    <a:lnTo>
                      <a:pt x="1045" y="808"/>
                    </a:lnTo>
                    <a:lnTo>
                      <a:pt x="1033" y="820"/>
                    </a:lnTo>
                    <a:lnTo>
                      <a:pt x="1039" y="826"/>
                    </a:lnTo>
                    <a:lnTo>
                      <a:pt x="1039" y="820"/>
                    </a:lnTo>
                    <a:lnTo>
                      <a:pt x="1028" y="826"/>
                    </a:lnTo>
                    <a:lnTo>
                      <a:pt x="1016" y="831"/>
                    </a:lnTo>
                    <a:lnTo>
                      <a:pt x="1005" y="837"/>
                    </a:lnTo>
                    <a:lnTo>
                      <a:pt x="1005" y="843"/>
                    </a:lnTo>
                    <a:lnTo>
                      <a:pt x="1005" y="837"/>
                    </a:lnTo>
                    <a:lnTo>
                      <a:pt x="993" y="837"/>
                    </a:lnTo>
                    <a:lnTo>
                      <a:pt x="993" y="837"/>
                    </a:lnTo>
                    <a:lnTo>
                      <a:pt x="993" y="837"/>
                    </a:lnTo>
                    <a:lnTo>
                      <a:pt x="981" y="843"/>
                    </a:lnTo>
                    <a:lnTo>
                      <a:pt x="981" y="849"/>
                    </a:lnTo>
                    <a:lnTo>
                      <a:pt x="981" y="843"/>
                    </a:lnTo>
                    <a:lnTo>
                      <a:pt x="970" y="843"/>
                    </a:lnTo>
                    <a:lnTo>
                      <a:pt x="958" y="843"/>
                    </a:lnTo>
                    <a:lnTo>
                      <a:pt x="947" y="843"/>
                    </a:lnTo>
                    <a:lnTo>
                      <a:pt x="935" y="843"/>
                    </a:lnTo>
                    <a:lnTo>
                      <a:pt x="935" y="849"/>
                    </a:lnTo>
                    <a:lnTo>
                      <a:pt x="941" y="843"/>
                    </a:lnTo>
                    <a:lnTo>
                      <a:pt x="930" y="837"/>
                    </a:lnTo>
                    <a:lnTo>
                      <a:pt x="918" y="831"/>
                    </a:lnTo>
                    <a:lnTo>
                      <a:pt x="918" y="831"/>
                    </a:lnTo>
                    <a:lnTo>
                      <a:pt x="912" y="831"/>
                    </a:lnTo>
                    <a:lnTo>
                      <a:pt x="901" y="831"/>
                    </a:lnTo>
                    <a:lnTo>
                      <a:pt x="901" y="837"/>
                    </a:lnTo>
                    <a:lnTo>
                      <a:pt x="906" y="831"/>
                    </a:lnTo>
                    <a:lnTo>
                      <a:pt x="901" y="826"/>
                    </a:lnTo>
                    <a:lnTo>
                      <a:pt x="901" y="826"/>
                    </a:lnTo>
                    <a:lnTo>
                      <a:pt x="901" y="826"/>
                    </a:lnTo>
                    <a:lnTo>
                      <a:pt x="889" y="820"/>
                    </a:lnTo>
                    <a:lnTo>
                      <a:pt x="883" y="826"/>
                    </a:lnTo>
                    <a:lnTo>
                      <a:pt x="895" y="826"/>
                    </a:lnTo>
                    <a:lnTo>
                      <a:pt x="889" y="814"/>
                    </a:lnTo>
                    <a:lnTo>
                      <a:pt x="883" y="808"/>
                    </a:lnTo>
                    <a:lnTo>
                      <a:pt x="883" y="808"/>
                    </a:lnTo>
                    <a:lnTo>
                      <a:pt x="872" y="802"/>
                    </a:lnTo>
                    <a:lnTo>
                      <a:pt x="866" y="808"/>
                    </a:lnTo>
                    <a:lnTo>
                      <a:pt x="872" y="802"/>
                    </a:lnTo>
                    <a:lnTo>
                      <a:pt x="860" y="791"/>
                    </a:lnTo>
                    <a:lnTo>
                      <a:pt x="860" y="791"/>
                    </a:lnTo>
                    <a:lnTo>
                      <a:pt x="860" y="791"/>
                    </a:lnTo>
                    <a:lnTo>
                      <a:pt x="843" y="785"/>
                    </a:lnTo>
                    <a:lnTo>
                      <a:pt x="826" y="779"/>
                    </a:lnTo>
                    <a:lnTo>
                      <a:pt x="826" y="779"/>
                    </a:lnTo>
                    <a:lnTo>
                      <a:pt x="820" y="779"/>
                    </a:lnTo>
                    <a:lnTo>
                      <a:pt x="803" y="779"/>
                    </a:lnTo>
                    <a:lnTo>
                      <a:pt x="780" y="779"/>
                    </a:lnTo>
                    <a:lnTo>
                      <a:pt x="762" y="779"/>
                    </a:lnTo>
                    <a:lnTo>
                      <a:pt x="762" y="779"/>
                    </a:lnTo>
                    <a:lnTo>
                      <a:pt x="762" y="779"/>
                    </a:lnTo>
                    <a:lnTo>
                      <a:pt x="745" y="785"/>
                    </a:lnTo>
                    <a:lnTo>
                      <a:pt x="728" y="791"/>
                    </a:lnTo>
                    <a:lnTo>
                      <a:pt x="710" y="802"/>
                    </a:lnTo>
                    <a:lnTo>
                      <a:pt x="710" y="802"/>
                    </a:lnTo>
                    <a:lnTo>
                      <a:pt x="705" y="802"/>
                    </a:lnTo>
                    <a:lnTo>
                      <a:pt x="687" y="820"/>
                    </a:lnTo>
                    <a:lnTo>
                      <a:pt x="676" y="831"/>
                    </a:lnTo>
                    <a:lnTo>
                      <a:pt x="664" y="843"/>
                    </a:lnTo>
                    <a:lnTo>
                      <a:pt x="658" y="849"/>
                    </a:lnTo>
                    <a:lnTo>
                      <a:pt x="658" y="854"/>
                    </a:lnTo>
                    <a:lnTo>
                      <a:pt x="658" y="854"/>
                    </a:lnTo>
                    <a:lnTo>
                      <a:pt x="658" y="866"/>
                    </a:lnTo>
                    <a:lnTo>
                      <a:pt x="664" y="866"/>
                    </a:lnTo>
                    <a:lnTo>
                      <a:pt x="658" y="866"/>
                    </a:lnTo>
                    <a:lnTo>
                      <a:pt x="653" y="877"/>
                    </a:lnTo>
                    <a:lnTo>
                      <a:pt x="647" y="889"/>
                    </a:lnTo>
                    <a:lnTo>
                      <a:pt x="647" y="889"/>
                    </a:lnTo>
                    <a:lnTo>
                      <a:pt x="647" y="889"/>
                    </a:lnTo>
                    <a:lnTo>
                      <a:pt x="647" y="901"/>
                    </a:lnTo>
                    <a:lnTo>
                      <a:pt x="647" y="918"/>
                    </a:lnTo>
                    <a:lnTo>
                      <a:pt x="647" y="929"/>
                    </a:lnTo>
                    <a:lnTo>
                      <a:pt x="647" y="941"/>
                    </a:lnTo>
                    <a:lnTo>
                      <a:pt x="647" y="952"/>
                    </a:lnTo>
                    <a:lnTo>
                      <a:pt x="647" y="964"/>
                    </a:lnTo>
                    <a:lnTo>
                      <a:pt x="647" y="970"/>
                    </a:lnTo>
                    <a:lnTo>
                      <a:pt x="647" y="970"/>
                    </a:lnTo>
                    <a:lnTo>
                      <a:pt x="653" y="981"/>
                    </a:lnTo>
                    <a:lnTo>
                      <a:pt x="653" y="981"/>
                    </a:lnTo>
                    <a:lnTo>
                      <a:pt x="653" y="981"/>
                    </a:lnTo>
                    <a:lnTo>
                      <a:pt x="658" y="987"/>
                    </a:lnTo>
                    <a:lnTo>
                      <a:pt x="664" y="981"/>
                    </a:lnTo>
                    <a:lnTo>
                      <a:pt x="658" y="981"/>
                    </a:lnTo>
                    <a:lnTo>
                      <a:pt x="658" y="993"/>
                    </a:lnTo>
                    <a:lnTo>
                      <a:pt x="658" y="999"/>
                    </a:lnTo>
                    <a:lnTo>
                      <a:pt x="658" y="999"/>
                    </a:lnTo>
                    <a:lnTo>
                      <a:pt x="664" y="1004"/>
                    </a:lnTo>
                    <a:lnTo>
                      <a:pt x="670" y="999"/>
                    </a:lnTo>
                    <a:lnTo>
                      <a:pt x="664" y="1004"/>
                    </a:lnTo>
                    <a:lnTo>
                      <a:pt x="670" y="1016"/>
                    </a:lnTo>
                    <a:lnTo>
                      <a:pt x="670" y="1016"/>
                    </a:lnTo>
                    <a:lnTo>
                      <a:pt x="676" y="1022"/>
                    </a:lnTo>
                    <a:lnTo>
                      <a:pt x="693" y="1033"/>
                    </a:lnTo>
                    <a:lnTo>
                      <a:pt x="693" y="1022"/>
                    </a:lnTo>
                    <a:lnTo>
                      <a:pt x="687" y="1027"/>
                    </a:lnTo>
                    <a:lnTo>
                      <a:pt x="699" y="1039"/>
                    </a:lnTo>
                    <a:lnTo>
                      <a:pt x="705" y="1045"/>
                    </a:lnTo>
                    <a:lnTo>
                      <a:pt x="705" y="1045"/>
                    </a:lnTo>
                    <a:lnTo>
                      <a:pt x="722" y="1056"/>
                    </a:lnTo>
                    <a:lnTo>
                      <a:pt x="739" y="1062"/>
                    </a:lnTo>
                    <a:lnTo>
                      <a:pt x="756" y="1068"/>
                    </a:lnTo>
                    <a:lnTo>
                      <a:pt x="756" y="1068"/>
                    </a:lnTo>
                    <a:lnTo>
                      <a:pt x="756" y="1068"/>
                    </a:lnTo>
                    <a:lnTo>
                      <a:pt x="774" y="1068"/>
                    </a:lnTo>
                    <a:lnTo>
                      <a:pt x="791" y="1068"/>
                    </a:lnTo>
                    <a:lnTo>
                      <a:pt x="808" y="1068"/>
                    </a:lnTo>
                    <a:lnTo>
                      <a:pt x="814" y="1068"/>
                    </a:lnTo>
                    <a:lnTo>
                      <a:pt x="814" y="1068"/>
                    </a:lnTo>
                    <a:lnTo>
                      <a:pt x="831" y="1062"/>
                    </a:lnTo>
                    <a:lnTo>
                      <a:pt x="843" y="1056"/>
                    </a:lnTo>
                    <a:lnTo>
                      <a:pt x="855" y="1051"/>
                    </a:lnTo>
                    <a:lnTo>
                      <a:pt x="866" y="1045"/>
                    </a:lnTo>
                    <a:lnTo>
                      <a:pt x="866" y="1039"/>
                    </a:lnTo>
                    <a:lnTo>
                      <a:pt x="872" y="1039"/>
                    </a:lnTo>
                    <a:lnTo>
                      <a:pt x="878" y="1027"/>
                    </a:lnTo>
                    <a:lnTo>
                      <a:pt x="866" y="1022"/>
                    </a:lnTo>
                    <a:lnTo>
                      <a:pt x="872" y="1033"/>
                    </a:lnTo>
                    <a:lnTo>
                      <a:pt x="883" y="1027"/>
                    </a:lnTo>
                    <a:lnTo>
                      <a:pt x="895" y="1022"/>
                    </a:lnTo>
                    <a:lnTo>
                      <a:pt x="906" y="1016"/>
                    </a:lnTo>
                    <a:lnTo>
                      <a:pt x="901" y="1004"/>
                    </a:lnTo>
                    <a:lnTo>
                      <a:pt x="901" y="1016"/>
                    </a:lnTo>
                    <a:lnTo>
                      <a:pt x="918" y="1016"/>
                    </a:lnTo>
                    <a:lnTo>
                      <a:pt x="930" y="1016"/>
                    </a:lnTo>
                    <a:lnTo>
                      <a:pt x="930" y="1004"/>
                    </a:lnTo>
                    <a:lnTo>
                      <a:pt x="930" y="1016"/>
                    </a:lnTo>
                    <a:lnTo>
                      <a:pt x="941" y="1022"/>
                    </a:lnTo>
                    <a:lnTo>
                      <a:pt x="953" y="1027"/>
                    </a:lnTo>
                    <a:lnTo>
                      <a:pt x="953" y="1027"/>
                    </a:lnTo>
                    <a:lnTo>
                      <a:pt x="953" y="1027"/>
                    </a:lnTo>
                    <a:lnTo>
                      <a:pt x="964" y="1027"/>
                    </a:lnTo>
                    <a:lnTo>
                      <a:pt x="964" y="1016"/>
                    </a:lnTo>
                    <a:lnTo>
                      <a:pt x="958" y="1022"/>
                    </a:lnTo>
                    <a:lnTo>
                      <a:pt x="970" y="1033"/>
                    </a:lnTo>
                    <a:lnTo>
                      <a:pt x="976" y="1039"/>
                    </a:lnTo>
                    <a:lnTo>
                      <a:pt x="976" y="1039"/>
                    </a:lnTo>
                    <a:lnTo>
                      <a:pt x="987" y="1045"/>
                    </a:lnTo>
                    <a:lnTo>
                      <a:pt x="999" y="1051"/>
                    </a:lnTo>
                    <a:lnTo>
                      <a:pt x="999" y="1039"/>
                    </a:lnTo>
                    <a:lnTo>
                      <a:pt x="993" y="1045"/>
                    </a:lnTo>
                    <a:lnTo>
                      <a:pt x="999" y="1056"/>
                    </a:lnTo>
                    <a:lnTo>
                      <a:pt x="1005" y="1068"/>
                    </a:lnTo>
                    <a:lnTo>
                      <a:pt x="1010" y="1079"/>
                    </a:lnTo>
                    <a:lnTo>
                      <a:pt x="1016" y="1074"/>
                    </a:lnTo>
                    <a:lnTo>
                      <a:pt x="1010" y="1074"/>
                    </a:lnTo>
                    <a:lnTo>
                      <a:pt x="1010" y="1079"/>
                    </a:lnTo>
                    <a:lnTo>
                      <a:pt x="1010" y="1108"/>
                    </a:lnTo>
                    <a:lnTo>
                      <a:pt x="1005" y="1143"/>
                    </a:lnTo>
                    <a:lnTo>
                      <a:pt x="1005" y="1189"/>
                    </a:lnTo>
                    <a:lnTo>
                      <a:pt x="999" y="1235"/>
                    </a:lnTo>
                    <a:lnTo>
                      <a:pt x="999" y="1287"/>
                    </a:lnTo>
                    <a:lnTo>
                      <a:pt x="999" y="1333"/>
                    </a:lnTo>
                    <a:lnTo>
                      <a:pt x="999" y="1356"/>
                    </a:lnTo>
                    <a:lnTo>
                      <a:pt x="999" y="1362"/>
                    </a:lnTo>
                    <a:lnTo>
                      <a:pt x="999" y="1362"/>
                    </a:lnTo>
                    <a:lnTo>
                      <a:pt x="1005" y="1385"/>
                    </a:lnTo>
                    <a:lnTo>
                      <a:pt x="1010" y="1379"/>
                    </a:lnTo>
                    <a:lnTo>
                      <a:pt x="1005" y="1379"/>
                    </a:lnTo>
                    <a:lnTo>
                      <a:pt x="1005" y="1402"/>
                    </a:lnTo>
                    <a:lnTo>
                      <a:pt x="1005" y="1408"/>
                    </a:lnTo>
                    <a:lnTo>
                      <a:pt x="1005" y="1408"/>
                    </a:lnTo>
                    <a:lnTo>
                      <a:pt x="1010" y="1426"/>
                    </a:lnTo>
                    <a:lnTo>
                      <a:pt x="1016" y="1420"/>
                    </a:lnTo>
                    <a:lnTo>
                      <a:pt x="1016" y="1414"/>
                    </a:lnTo>
                    <a:lnTo>
                      <a:pt x="999" y="1426"/>
                    </a:lnTo>
                    <a:lnTo>
                      <a:pt x="981" y="1437"/>
                    </a:lnTo>
                    <a:lnTo>
                      <a:pt x="981" y="1443"/>
                    </a:lnTo>
                    <a:lnTo>
                      <a:pt x="981" y="1437"/>
                    </a:lnTo>
                    <a:lnTo>
                      <a:pt x="958" y="1443"/>
                    </a:lnTo>
                    <a:lnTo>
                      <a:pt x="935" y="1449"/>
                    </a:lnTo>
                    <a:lnTo>
                      <a:pt x="912" y="1454"/>
                    </a:lnTo>
                    <a:lnTo>
                      <a:pt x="889" y="1454"/>
                    </a:lnTo>
                    <a:lnTo>
                      <a:pt x="860" y="1454"/>
                    </a:lnTo>
                    <a:lnTo>
                      <a:pt x="837" y="1454"/>
                    </a:lnTo>
                    <a:lnTo>
                      <a:pt x="808" y="1454"/>
                    </a:lnTo>
                    <a:lnTo>
                      <a:pt x="780" y="1449"/>
                    </a:lnTo>
                    <a:lnTo>
                      <a:pt x="756" y="1443"/>
                    </a:lnTo>
                    <a:lnTo>
                      <a:pt x="733" y="1437"/>
                    </a:lnTo>
                    <a:lnTo>
                      <a:pt x="710" y="1437"/>
                    </a:lnTo>
                    <a:lnTo>
                      <a:pt x="710" y="1443"/>
                    </a:lnTo>
                    <a:lnTo>
                      <a:pt x="716" y="1437"/>
                    </a:lnTo>
                    <a:lnTo>
                      <a:pt x="693" y="1426"/>
                    </a:lnTo>
                    <a:lnTo>
                      <a:pt x="693" y="1426"/>
                    </a:lnTo>
                    <a:lnTo>
                      <a:pt x="687" y="1426"/>
                    </a:lnTo>
                    <a:lnTo>
                      <a:pt x="664" y="1420"/>
                    </a:lnTo>
                    <a:lnTo>
                      <a:pt x="664" y="1426"/>
                    </a:lnTo>
                    <a:lnTo>
                      <a:pt x="670" y="1420"/>
                    </a:lnTo>
                    <a:lnTo>
                      <a:pt x="653" y="1414"/>
                    </a:lnTo>
                    <a:lnTo>
                      <a:pt x="635" y="1408"/>
                    </a:lnTo>
                    <a:lnTo>
                      <a:pt x="624" y="1402"/>
                    </a:lnTo>
                    <a:lnTo>
                      <a:pt x="618" y="1408"/>
                    </a:lnTo>
                    <a:lnTo>
                      <a:pt x="624" y="1402"/>
                    </a:lnTo>
                    <a:lnTo>
                      <a:pt x="618" y="1397"/>
                    </a:lnTo>
                    <a:lnTo>
                      <a:pt x="606" y="1385"/>
                    </a:lnTo>
                    <a:lnTo>
                      <a:pt x="601" y="1379"/>
                    </a:lnTo>
                    <a:lnTo>
                      <a:pt x="595" y="1374"/>
                    </a:lnTo>
                    <a:lnTo>
                      <a:pt x="589" y="1379"/>
                    </a:lnTo>
                    <a:lnTo>
                      <a:pt x="601" y="1379"/>
                    </a:lnTo>
                    <a:lnTo>
                      <a:pt x="601" y="1374"/>
                    </a:lnTo>
                    <a:lnTo>
                      <a:pt x="601" y="1362"/>
                    </a:lnTo>
                    <a:lnTo>
                      <a:pt x="601" y="1356"/>
                    </a:lnTo>
                    <a:lnTo>
                      <a:pt x="601" y="1345"/>
                    </a:lnTo>
                    <a:lnTo>
                      <a:pt x="589" y="1345"/>
                    </a:lnTo>
                    <a:lnTo>
                      <a:pt x="595" y="1351"/>
                    </a:lnTo>
                    <a:lnTo>
                      <a:pt x="601" y="1345"/>
                    </a:lnTo>
                    <a:lnTo>
                      <a:pt x="606" y="1345"/>
                    </a:lnTo>
                    <a:lnTo>
                      <a:pt x="606" y="1345"/>
                    </a:lnTo>
                    <a:lnTo>
                      <a:pt x="612" y="1333"/>
                    </a:lnTo>
                    <a:lnTo>
                      <a:pt x="624" y="1310"/>
                    </a:lnTo>
                    <a:lnTo>
                      <a:pt x="612" y="1304"/>
                    </a:lnTo>
                    <a:lnTo>
                      <a:pt x="618" y="1310"/>
                    </a:lnTo>
                    <a:lnTo>
                      <a:pt x="641" y="1287"/>
                    </a:lnTo>
                    <a:lnTo>
                      <a:pt x="647" y="1287"/>
                    </a:lnTo>
                    <a:lnTo>
                      <a:pt x="647" y="1287"/>
                    </a:lnTo>
                    <a:lnTo>
                      <a:pt x="658" y="1270"/>
                    </a:lnTo>
                    <a:lnTo>
                      <a:pt x="647" y="1264"/>
                    </a:lnTo>
                    <a:lnTo>
                      <a:pt x="653" y="1270"/>
                    </a:lnTo>
                    <a:lnTo>
                      <a:pt x="664" y="1258"/>
                    </a:lnTo>
                    <a:lnTo>
                      <a:pt x="670" y="1258"/>
                    </a:lnTo>
                    <a:lnTo>
                      <a:pt x="670" y="1258"/>
                    </a:lnTo>
                    <a:lnTo>
                      <a:pt x="676" y="1241"/>
                    </a:lnTo>
                    <a:lnTo>
                      <a:pt x="681" y="1224"/>
                    </a:lnTo>
                    <a:lnTo>
                      <a:pt x="681" y="1224"/>
                    </a:lnTo>
                    <a:lnTo>
                      <a:pt x="681" y="1218"/>
                    </a:lnTo>
                    <a:lnTo>
                      <a:pt x="681" y="1201"/>
                    </a:lnTo>
                    <a:lnTo>
                      <a:pt x="681" y="1177"/>
                    </a:lnTo>
                    <a:lnTo>
                      <a:pt x="681" y="1160"/>
                    </a:lnTo>
                    <a:lnTo>
                      <a:pt x="681" y="1160"/>
                    </a:lnTo>
                    <a:lnTo>
                      <a:pt x="681" y="1160"/>
                    </a:lnTo>
                    <a:lnTo>
                      <a:pt x="676" y="1143"/>
                    </a:lnTo>
                    <a:lnTo>
                      <a:pt x="664" y="1126"/>
                    </a:lnTo>
                    <a:lnTo>
                      <a:pt x="658" y="1114"/>
                    </a:lnTo>
                    <a:lnTo>
                      <a:pt x="653" y="1102"/>
                    </a:lnTo>
                    <a:lnTo>
                      <a:pt x="647" y="1097"/>
                    </a:lnTo>
                    <a:lnTo>
                      <a:pt x="647" y="1097"/>
                    </a:lnTo>
                    <a:lnTo>
                      <a:pt x="635" y="1091"/>
                    </a:lnTo>
                    <a:lnTo>
                      <a:pt x="629" y="1097"/>
                    </a:lnTo>
                    <a:lnTo>
                      <a:pt x="635" y="1091"/>
                    </a:lnTo>
                    <a:lnTo>
                      <a:pt x="629" y="1085"/>
                    </a:lnTo>
                    <a:lnTo>
                      <a:pt x="629" y="1085"/>
                    </a:lnTo>
                    <a:lnTo>
                      <a:pt x="629" y="1085"/>
                    </a:lnTo>
                    <a:lnTo>
                      <a:pt x="618" y="1079"/>
                    </a:lnTo>
                    <a:lnTo>
                      <a:pt x="612" y="1085"/>
                    </a:lnTo>
                    <a:lnTo>
                      <a:pt x="618" y="1079"/>
                    </a:lnTo>
                    <a:lnTo>
                      <a:pt x="612" y="1074"/>
                    </a:lnTo>
                    <a:lnTo>
                      <a:pt x="612" y="1074"/>
                    </a:lnTo>
                    <a:lnTo>
                      <a:pt x="606" y="1074"/>
                    </a:lnTo>
                    <a:lnTo>
                      <a:pt x="595" y="1074"/>
                    </a:lnTo>
                    <a:lnTo>
                      <a:pt x="595" y="1079"/>
                    </a:lnTo>
                    <a:lnTo>
                      <a:pt x="601" y="1074"/>
                    </a:lnTo>
                    <a:lnTo>
                      <a:pt x="589" y="1068"/>
                    </a:lnTo>
                    <a:lnTo>
                      <a:pt x="578" y="1062"/>
                    </a:lnTo>
                    <a:lnTo>
                      <a:pt x="578" y="1062"/>
                    </a:lnTo>
                    <a:lnTo>
                      <a:pt x="572" y="1062"/>
                    </a:lnTo>
                    <a:lnTo>
                      <a:pt x="560" y="1062"/>
                    </a:lnTo>
                    <a:lnTo>
                      <a:pt x="560" y="1068"/>
                    </a:lnTo>
                    <a:lnTo>
                      <a:pt x="566" y="1062"/>
                    </a:lnTo>
                    <a:lnTo>
                      <a:pt x="549" y="1056"/>
                    </a:lnTo>
                    <a:lnTo>
                      <a:pt x="549" y="1056"/>
                    </a:lnTo>
                    <a:lnTo>
                      <a:pt x="543" y="1056"/>
                    </a:lnTo>
                    <a:lnTo>
                      <a:pt x="531" y="1056"/>
                    </a:lnTo>
                    <a:lnTo>
                      <a:pt x="514" y="1056"/>
                    </a:lnTo>
                    <a:lnTo>
                      <a:pt x="503" y="1056"/>
                    </a:lnTo>
                    <a:lnTo>
                      <a:pt x="503" y="1056"/>
                    </a:lnTo>
                    <a:lnTo>
                      <a:pt x="503" y="1056"/>
                    </a:lnTo>
                    <a:lnTo>
                      <a:pt x="491" y="1062"/>
                    </a:lnTo>
                    <a:lnTo>
                      <a:pt x="491" y="1068"/>
                    </a:lnTo>
                    <a:lnTo>
                      <a:pt x="491" y="1062"/>
                    </a:lnTo>
                    <a:lnTo>
                      <a:pt x="479" y="1062"/>
                    </a:lnTo>
                    <a:lnTo>
                      <a:pt x="479" y="1062"/>
                    </a:lnTo>
                    <a:lnTo>
                      <a:pt x="479" y="1062"/>
                    </a:lnTo>
                    <a:lnTo>
                      <a:pt x="468" y="1068"/>
                    </a:lnTo>
                    <a:lnTo>
                      <a:pt x="456" y="1074"/>
                    </a:lnTo>
                    <a:lnTo>
                      <a:pt x="456" y="1079"/>
                    </a:lnTo>
                    <a:lnTo>
                      <a:pt x="456" y="1074"/>
                    </a:lnTo>
                    <a:lnTo>
                      <a:pt x="451" y="1074"/>
                    </a:lnTo>
                    <a:lnTo>
                      <a:pt x="451" y="1074"/>
                    </a:lnTo>
                    <a:lnTo>
                      <a:pt x="451" y="1074"/>
                    </a:lnTo>
                    <a:lnTo>
                      <a:pt x="439" y="1079"/>
                    </a:lnTo>
                    <a:lnTo>
                      <a:pt x="439" y="1079"/>
                    </a:lnTo>
                    <a:lnTo>
                      <a:pt x="433" y="1079"/>
                    </a:lnTo>
                    <a:lnTo>
                      <a:pt x="428" y="1085"/>
                    </a:lnTo>
                    <a:lnTo>
                      <a:pt x="422" y="1091"/>
                    </a:lnTo>
                    <a:lnTo>
                      <a:pt x="416" y="1097"/>
                    </a:lnTo>
                    <a:lnTo>
                      <a:pt x="416" y="1102"/>
                    </a:lnTo>
                    <a:lnTo>
                      <a:pt x="416" y="1102"/>
                    </a:lnTo>
                    <a:lnTo>
                      <a:pt x="410" y="1114"/>
                    </a:lnTo>
                    <a:lnTo>
                      <a:pt x="416" y="1114"/>
                    </a:lnTo>
                    <a:lnTo>
                      <a:pt x="410" y="1108"/>
                    </a:lnTo>
                    <a:lnTo>
                      <a:pt x="404" y="1114"/>
                    </a:lnTo>
                    <a:lnTo>
                      <a:pt x="404" y="1120"/>
                    </a:lnTo>
                    <a:lnTo>
                      <a:pt x="404" y="1120"/>
                    </a:lnTo>
                    <a:lnTo>
                      <a:pt x="399" y="1137"/>
                    </a:lnTo>
                    <a:lnTo>
                      <a:pt x="393" y="1154"/>
                    </a:lnTo>
                    <a:lnTo>
                      <a:pt x="387" y="1177"/>
                    </a:lnTo>
                    <a:lnTo>
                      <a:pt x="387" y="1177"/>
                    </a:lnTo>
                    <a:lnTo>
                      <a:pt x="387" y="1177"/>
                    </a:lnTo>
                    <a:lnTo>
                      <a:pt x="387" y="1195"/>
                    </a:lnTo>
                    <a:lnTo>
                      <a:pt x="387" y="1201"/>
                    </a:lnTo>
                    <a:lnTo>
                      <a:pt x="387" y="1201"/>
                    </a:lnTo>
                    <a:lnTo>
                      <a:pt x="393" y="1224"/>
                    </a:lnTo>
                    <a:lnTo>
                      <a:pt x="399" y="1241"/>
                    </a:lnTo>
                    <a:lnTo>
                      <a:pt x="404" y="1258"/>
                    </a:lnTo>
                    <a:lnTo>
                      <a:pt x="410" y="1276"/>
                    </a:lnTo>
                    <a:lnTo>
                      <a:pt x="422" y="1299"/>
                    </a:lnTo>
                    <a:lnTo>
                      <a:pt x="422" y="1299"/>
                    </a:lnTo>
                    <a:lnTo>
                      <a:pt x="422" y="1299"/>
                    </a:lnTo>
                    <a:lnTo>
                      <a:pt x="433" y="1310"/>
                    </a:lnTo>
                    <a:lnTo>
                      <a:pt x="445" y="1322"/>
                    </a:lnTo>
                    <a:lnTo>
                      <a:pt x="451" y="1316"/>
                    </a:lnTo>
                    <a:lnTo>
                      <a:pt x="445" y="1322"/>
                    </a:lnTo>
                    <a:lnTo>
                      <a:pt x="451" y="1333"/>
                    </a:lnTo>
                    <a:lnTo>
                      <a:pt x="456" y="1345"/>
                    </a:lnTo>
                    <a:lnTo>
                      <a:pt x="462" y="1339"/>
                    </a:lnTo>
                    <a:lnTo>
                      <a:pt x="456" y="1339"/>
                    </a:lnTo>
                    <a:lnTo>
                      <a:pt x="456" y="1351"/>
                    </a:lnTo>
                    <a:lnTo>
                      <a:pt x="456" y="1368"/>
                    </a:lnTo>
                    <a:lnTo>
                      <a:pt x="456" y="1379"/>
                    </a:lnTo>
                    <a:lnTo>
                      <a:pt x="456" y="1391"/>
                    </a:lnTo>
                    <a:lnTo>
                      <a:pt x="462" y="1391"/>
                    </a:lnTo>
                    <a:lnTo>
                      <a:pt x="462" y="1385"/>
                    </a:lnTo>
                    <a:lnTo>
                      <a:pt x="451" y="1391"/>
                    </a:lnTo>
                    <a:lnTo>
                      <a:pt x="445" y="1391"/>
                    </a:lnTo>
                    <a:lnTo>
                      <a:pt x="445" y="1397"/>
                    </a:lnTo>
                    <a:lnTo>
                      <a:pt x="439" y="1408"/>
                    </a:lnTo>
                    <a:lnTo>
                      <a:pt x="445" y="1408"/>
                    </a:lnTo>
                    <a:lnTo>
                      <a:pt x="445" y="1402"/>
                    </a:lnTo>
                    <a:lnTo>
                      <a:pt x="433" y="1408"/>
                    </a:lnTo>
                    <a:lnTo>
                      <a:pt x="422" y="1414"/>
                    </a:lnTo>
                    <a:lnTo>
                      <a:pt x="422" y="1420"/>
                    </a:lnTo>
                    <a:lnTo>
                      <a:pt x="422" y="1414"/>
                    </a:lnTo>
                    <a:lnTo>
                      <a:pt x="410" y="1414"/>
                    </a:lnTo>
                    <a:lnTo>
                      <a:pt x="393" y="1414"/>
                    </a:lnTo>
                    <a:lnTo>
                      <a:pt x="370" y="1414"/>
                    </a:lnTo>
                    <a:lnTo>
                      <a:pt x="370" y="1420"/>
                    </a:lnTo>
                    <a:lnTo>
                      <a:pt x="376" y="1414"/>
                    </a:lnTo>
                    <a:lnTo>
                      <a:pt x="358" y="1408"/>
                    </a:lnTo>
                    <a:lnTo>
                      <a:pt x="364" y="1408"/>
                    </a:lnTo>
                    <a:lnTo>
                      <a:pt x="352" y="1408"/>
                    </a:lnTo>
                    <a:lnTo>
                      <a:pt x="329" y="14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6256440" y="4497480"/>
              <a:ext cx="2430360" cy="2055600"/>
              <a:chOff x="6256440" y="4497480"/>
              <a:chExt cx="2430360" cy="2055600"/>
            </a:xfrm>
          </p:grpSpPr>
          <p:sp>
            <p:nvSpPr>
              <p:cNvPr id="105" name=""/>
              <p:cNvSpPr/>
              <p:nvPr/>
            </p:nvSpPr>
            <p:spPr>
              <a:xfrm>
                <a:off x="6264720" y="4506840"/>
                <a:ext cx="2404800" cy="2027520"/>
              </a:xfrm>
              <a:custGeom>
                <a:avLst/>
                <a:gdLst/>
                <a:ahLst/>
                <a:rect l="l" t="t" r="r" b="b"/>
                <a:pathLst>
                  <a:path w="1708" h="1321">
                    <a:moveTo>
                      <a:pt x="335" y="756"/>
                    </a:moveTo>
                    <a:lnTo>
                      <a:pt x="329" y="762"/>
                    </a:lnTo>
                    <a:lnTo>
                      <a:pt x="317" y="767"/>
                    </a:lnTo>
                    <a:lnTo>
                      <a:pt x="306" y="773"/>
                    </a:lnTo>
                    <a:lnTo>
                      <a:pt x="300" y="779"/>
                    </a:lnTo>
                    <a:lnTo>
                      <a:pt x="288" y="779"/>
                    </a:lnTo>
                    <a:lnTo>
                      <a:pt x="277" y="779"/>
                    </a:lnTo>
                    <a:lnTo>
                      <a:pt x="271" y="773"/>
                    </a:lnTo>
                    <a:lnTo>
                      <a:pt x="260" y="773"/>
                    </a:lnTo>
                    <a:lnTo>
                      <a:pt x="236" y="762"/>
                    </a:lnTo>
                    <a:lnTo>
                      <a:pt x="219" y="756"/>
                    </a:lnTo>
                    <a:lnTo>
                      <a:pt x="202" y="744"/>
                    </a:lnTo>
                    <a:lnTo>
                      <a:pt x="179" y="733"/>
                    </a:lnTo>
                    <a:lnTo>
                      <a:pt x="161" y="721"/>
                    </a:lnTo>
                    <a:lnTo>
                      <a:pt x="138" y="715"/>
                    </a:lnTo>
                    <a:lnTo>
                      <a:pt x="127" y="715"/>
                    </a:lnTo>
                    <a:lnTo>
                      <a:pt x="121" y="710"/>
                    </a:lnTo>
                    <a:lnTo>
                      <a:pt x="110" y="710"/>
                    </a:lnTo>
                    <a:lnTo>
                      <a:pt x="98" y="710"/>
                    </a:lnTo>
                    <a:lnTo>
                      <a:pt x="86" y="715"/>
                    </a:lnTo>
                    <a:lnTo>
                      <a:pt x="75" y="715"/>
                    </a:lnTo>
                    <a:lnTo>
                      <a:pt x="63" y="721"/>
                    </a:lnTo>
                    <a:lnTo>
                      <a:pt x="58" y="733"/>
                    </a:lnTo>
                    <a:lnTo>
                      <a:pt x="46" y="739"/>
                    </a:lnTo>
                    <a:lnTo>
                      <a:pt x="35" y="750"/>
                    </a:lnTo>
                    <a:lnTo>
                      <a:pt x="23" y="767"/>
                    </a:lnTo>
                    <a:lnTo>
                      <a:pt x="11" y="785"/>
                    </a:lnTo>
                    <a:lnTo>
                      <a:pt x="6" y="790"/>
                    </a:lnTo>
                    <a:lnTo>
                      <a:pt x="0" y="802"/>
                    </a:lnTo>
                    <a:lnTo>
                      <a:pt x="0" y="819"/>
                    </a:lnTo>
                    <a:lnTo>
                      <a:pt x="0" y="837"/>
                    </a:lnTo>
                    <a:lnTo>
                      <a:pt x="0" y="848"/>
                    </a:lnTo>
                    <a:lnTo>
                      <a:pt x="6" y="865"/>
                    </a:lnTo>
                    <a:lnTo>
                      <a:pt x="17" y="883"/>
                    </a:lnTo>
                    <a:lnTo>
                      <a:pt x="23" y="894"/>
                    </a:lnTo>
                    <a:lnTo>
                      <a:pt x="35" y="912"/>
                    </a:lnTo>
                    <a:lnTo>
                      <a:pt x="52" y="923"/>
                    </a:lnTo>
                    <a:lnTo>
                      <a:pt x="58" y="923"/>
                    </a:lnTo>
                    <a:lnTo>
                      <a:pt x="63" y="929"/>
                    </a:lnTo>
                    <a:lnTo>
                      <a:pt x="75" y="935"/>
                    </a:lnTo>
                    <a:lnTo>
                      <a:pt x="86" y="935"/>
                    </a:lnTo>
                    <a:lnTo>
                      <a:pt x="98" y="940"/>
                    </a:lnTo>
                    <a:lnTo>
                      <a:pt x="110" y="940"/>
                    </a:lnTo>
                    <a:lnTo>
                      <a:pt x="121" y="940"/>
                    </a:lnTo>
                    <a:lnTo>
                      <a:pt x="133" y="940"/>
                    </a:lnTo>
                    <a:lnTo>
                      <a:pt x="150" y="940"/>
                    </a:lnTo>
                    <a:lnTo>
                      <a:pt x="161" y="935"/>
                    </a:lnTo>
                    <a:lnTo>
                      <a:pt x="173" y="935"/>
                    </a:lnTo>
                    <a:lnTo>
                      <a:pt x="190" y="929"/>
                    </a:lnTo>
                    <a:lnTo>
                      <a:pt x="219" y="917"/>
                    </a:lnTo>
                    <a:lnTo>
                      <a:pt x="236" y="912"/>
                    </a:lnTo>
                    <a:lnTo>
                      <a:pt x="260" y="906"/>
                    </a:lnTo>
                    <a:lnTo>
                      <a:pt x="277" y="906"/>
                    </a:lnTo>
                    <a:lnTo>
                      <a:pt x="288" y="906"/>
                    </a:lnTo>
                    <a:lnTo>
                      <a:pt x="294" y="912"/>
                    </a:lnTo>
                    <a:lnTo>
                      <a:pt x="300" y="912"/>
                    </a:lnTo>
                    <a:lnTo>
                      <a:pt x="311" y="917"/>
                    </a:lnTo>
                    <a:lnTo>
                      <a:pt x="317" y="923"/>
                    </a:lnTo>
                    <a:lnTo>
                      <a:pt x="323" y="935"/>
                    </a:lnTo>
                    <a:lnTo>
                      <a:pt x="329" y="940"/>
                    </a:lnTo>
                    <a:lnTo>
                      <a:pt x="335" y="958"/>
                    </a:lnTo>
                    <a:lnTo>
                      <a:pt x="340" y="969"/>
                    </a:lnTo>
                    <a:lnTo>
                      <a:pt x="346" y="987"/>
                    </a:lnTo>
                    <a:lnTo>
                      <a:pt x="352" y="1004"/>
                    </a:lnTo>
                    <a:lnTo>
                      <a:pt x="358" y="1021"/>
                    </a:lnTo>
                    <a:lnTo>
                      <a:pt x="358" y="1044"/>
                    </a:lnTo>
                    <a:lnTo>
                      <a:pt x="363" y="1067"/>
                    </a:lnTo>
                    <a:lnTo>
                      <a:pt x="363" y="1091"/>
                    </a:lnTo>
                    <a:lnTo>
                      <a:pt x="363" y="1114"/>
                    </a:lnTo>
                    <a:lnTo>
                      <a:pt x="363" y="1137"/>
                    </a:lnTo>
                    <a:lnTo>
                      <a:pt x="363" y="1160"/>
                    </a:lnTo>
                    <a:lnTo>
                      <a:pt x="358" y="1183"/>
                    </a:lnTo>
                    <a:lnTo>
                      <a:pt x="358" y="1206"/>
                    </a:lnTo>
                    <a:lnTo>
                      <a:pt x="352" y="1229"/>
                    </a:lnTo>
                    <a:lnTo>
                      <a:pt x="346" y="1252"/>
                    </a:lnTo>
                    <a:lnTo>
                      <a:pt x="340" y="1275"/>
                    </a:lnTo>
                    <a:lnTo>
                      <a:pt x="335" y="1292"/>
                    </a:lnTo>
                    <a:lnTo>
                      <a:pt x="375" y="1292"/>
                    </a:lnTo>
                    <a:lnTo>
                      <a:pt x="415" y="1292"/>
                    </a:lnTo>
                    <a:lnTo>
                      <a:pt x="456" y="1292"/>
                    </a:lnTo>
                    <a:lnTo>
                      <a:pt x="490" y="1292"/>
                    </a:lnTo>
                    <a:lnTo>
                      <a:pt x="525" y="1292"/>
                    </a:lnTo>
                    <a:lnTo>
                      <a:pt x="560" y="1292"/>
                    </a:lnTo>
                    <a:lnTo>
                      <a:pt x="588" y="1292"/>
                    </a:lnTo>
                    <a:lnTo>
                      <a:pt x="606" y="1292"/>
                    </a:lnTo>
                    <a:lnTo>
                      <a:pt x="635" y="1287"/>
                    </a:lnTo>
                    <a:lnTo>
                      <a:pt x="658" y="1281"/>
                    </a:lnTo>
                    <a:lnTo>
                      <a:pt x="675" y="1264"/>
                    </a:lnTo>
                    <a:lnTo>
                      <a:pt x="698" y="1252"/>
                    </a:lnTo>
                    <a:lnTo>
                      <a:pt x="710" y="1241"/>
                    </a:lnTo>
                    <a:lnTo>
                      <a:pt x="721" y="1229"/>
                    </a:lnTo>
                    <a:lnTo>
                      <a:pt x="733" y="1212"/>
                    </a:lnTo>
                    <a:lnTo>
                      <a:pt x="739" y="1194"/>
                    </a:lnTo>
                    <a:lnTo>
                      <a:pt x="744" y="1177"/>
                    </a:lnTo>
                    <a:lnTo>
                      <a:pt x="744" y="1166"/>
                    </a:lnTo>
                    <a:lnTo>
                      <a:pt x="744" y="1148"/>
                    </a:lnTo>
                    <a:lnTo>
                      <a:pt x="744" y="1131"/>
                    </a:lnTo>
                    <a:lnTo>
                      <a:pt x="739" y="1114"/>
                    </a:lnTo>
                    <a:lnTo>
                      <a:pt x="727" y="1102"/>
                    </a:lnTo>
                    <a:lnTo>
                      <a:pt x="721" y="1085"/>
                    </a:lnTo>
                    <a:lnTo>
                      <a:pt x="704" y="1073"/>
                    </a:lnTo>
                    <a:lnTo>
                      <a:pt x="692" y="1056"/>
                    </a:lnTo>
                    <a:lnTo>
                      <a:pt x="681" y="1044"/>
                    </a:lnTo>
                    <a:lnTo>
                      <a:pt x="675" y="1027"/>
                    </a:lnTo>
                    <a:lnTo>
                      <a:pt x="669" y="1010"/>
                    </a:lnTo>
                    <a:lnTo>
                      <a:pt x="669" y="987"/>
                    </a:lnTo>
                    <a:lnTo>
                      <a:pt x="669" y="969"/>
                    </a:lnTo>
                    <a:lnTo>
                      <a:pt x="669" y="952"/>
                    </a:lnTo>
                    <a:lnTo>
                      <a:pt x="675" y="935"/>
                    </a:lnTo>
                    <a:lnTo>
                      <a:pt x="681" y="917"/>
                    </a:lnTo>
                    <a:lnTo>
                      <a:pt x="692" y="900"/>
                    </a:lnTo>
                    <a:lnTo>
                      <a:pt x="704" y="894"/>
                    </a:lnTo>
                    <a:lnTo>
                      <a:pt x="710" y="883"/>
                    </a:lnTo>
                    <a:lnTo>
                      <a:pt x="715" y="877"/>
                    </a:lnTo>
                    <a:lnTo>
                      <a:pt x="727" y="877"/>
                    </a:lnTo>
                    <a:lnTo>
                      <a:pt x="733" y="871"/>
                    </a:lnTo>
                    <a:lnTo>
                      <a:pt x="744" y="865"/>
                    </a:lnTo>
                    <a:lnTo>
                      <a:pt x="756" y="860"/>
                    </a:lnTo>
                    <a:lnTo>
                      <a:pt x="767" y="854"/>
                    </a:lnTo>
                    <a:lnTo>
                      <a:pt x="779" y="854"/>
                    </a:lnTo>
                    <a:lnTo>
                      <a:pt x="796" y="848"/>
                    </a:lnTo>
                    <a:lnTo>
                      <a:pt x="814" y="848"/>
                    </a:lnTo>
                    <a:lnTo>
                      <a:pt x="825" y="848"/>
                    </a:lnTo>
                    <a:lnTo>
                      <a:pt x="842" y="848"/>
                    </a:lnTo>
                    <a:lnTo>
                      <a:pt x="860" y="848"/>
                    </a:lnTo>
                    <a:lnTo>
                      <a:pt x="871" y="854"/>
                    </a:lnTo>
                    <a:lnTo>
                      <a:pt x="889" y="860"/>
                    </a:lnTo>
                    <a:lnTo>
                      <a:pt x="900" y="860"/>
                    </a:lnTo>
                    <a:lnTo>
                      <a:pt x="912" y="865"/>
                    </a:lnTo>
                    <a:lnTo>
                      <a:pt x="917" y="871"/>
                    </a:lnTo>
                    <a:lnTo>
                      <a:pt x="929" y="877"/>
                    </a:lnTo>
                    <a:lnTo>
                      <a:pt x="940" y="883"/>
                    </a:lnTo>
                    <a:lnTo>
                      <a:pt x="946" y="894"/>
                    </a:lnTo>
                    <a:lnTo>
                      <a:pt x="952" y="900"/>
                    </a:lnTo>
                    <a:lnTo>
                      <a:pt x="958" y="912"/>
                    </a:lnTo>
                    <a:lnTo>
                      <a:pt x="964" y="929"/>
                    </a:lnTo>
                    <a:lnTo>
                      <a:pt x="969" y="946"/>
                    </a:lnTo>
                    <a:lnTo>
                      <a:pt x="969" y="969"/>
                    </a:lnTo>
                    <a:lnTo>
                      <a:pt x="969" y="987"/>
                    </a:lnTo>
                    <a:lnTo>
                      <a:pt x="969" y="1010"/>
                    </a:lnTo>
                    <a:lnTo>
                      <a:pt x="964" y="1027"/>
                    </a:lnTo>
                    <a:lnTo>
                      <a:pt x="958" y="1044"/>
                    </a:lnTo>
                    <a:lnTo>
                      <a:pt x="952" y="1062"/>
                    </a:lnTo>
                    <a:lnTo>
                      <a:pt x="940" y="1073"/>
                    </a:lnTo>
                    <a:lnTo>
                      <a:pt x="929" y="1085"/>
                    </a:lnTo>
                    <a:lnTo>
                      <a:pt x="917" y="1091"/>
                    </a:lnTo>
                    <a:lnTo>
                      <a:pt x="906" y="1102"/>
                    </a:lnTo>
                    <a:lnTo>
                      <a:pt x="900" y="1114"/>
                    </a:lnTo>
                    <a:lnTo>
                      <a:pt x="894" y="1131"/>
                    </a:lnTo>
                    <a:lnTo>
                      <a:pt x="889" y="1142"/>
                    </a:lnTo>
                    <a:lnTo>
                      <a:pt x="889" y="1154"/>
                    </a:lnTo>
                    <a:lnTo>
                      <a:pt x="883" y="1171"/>
                    </a:lnTo>
                    <a:lnTo>
                      <a:pt x="883" y="1189"/>
                    </a:lnTo>
                    <a:lnTo>
                      <a:pt x="889" y="1200"/>
                    </a:lnTo>
                    <a:lnTo>
                      <a:pt x="894" y="1217"/>
                    </a:lnTo>
                    <a:lnTo>
                      <a:pt x="900" y="1235"/>
                    </a:lnTo>
                    <a:lnTo>
                      <a:pt x="912" y="1246"/>
                    </a:lnTo>
                    <a:lnTo>
                      <a:pt x="923" y="1264"/>
                    </a:lnTo>
                    <a:lnTo>
                      <a:pt x="940" y="1275"/>
                    </a:lnTo>
                    <a:lnTo>
                      <a:pt x="958" y="1287"/>
                    </a:lnTo>
                    <a:lnTo>
                      <a:pt x="981" y="1292"/>
                    </a:lnTo>
                    <a:lnTo>
                      <a:pt x="992" y="1298"/>
                    </a:lnTo>
                    <a:lnTo>
                      <a:pt x="1016" y="1304"/>
                    </a:lnTo>
                    <a:lnTo>
                      <a:pt x="1056" y="1310"/>
                    </a:lnTo>
                    <a:lnTo>
                      <a:pt x="1102" y="1316"/>
                    </a:lnTo>
                    <a:lnTo>
                      <a:pt x="1131" y="1316"/>
                    </a:lnTo>
                    <a:lnTo>
                      <a:pt x="1160" y="1321"/>
                    </a:lnTo>
                    <a:lnTo>
                      <a:pt x="1189" y="1321"/>
                    </a:lnTo>
                    <a:lnTo>
                      <a:pt x="1217" y="1321"/>
                    </a:lnTo>
                    <a:lnTo>
                      <a:pt x="1246" y="1321"/>
                    </a:lnTo>
                    <a:lnTo>
                      <a:pt x="1281" y="1321"/>
                    </a:lnTo>
                    <a:lnTo>
                      <a:pt x="1304" y="1316"/>
                    </a:lnTo>
                    <a:lnTo>
                      <a:pt x="1333" y="1310"/>
                    </a:lnTo>
                    <a:lnTo>
                      <a:pt x="1333" y="1298"/>
                    </a:lnTo>
                    <a:lnTo>
                      <a:pt x="1327" y="1281"/>
                    </a:lnTo>
                    <a:lnTo>
                      <a:pt x="1321" y="1264"/>
                    </a:lnTo>
                    <a:lnTo>
                      <a:pt x="1321" y="1246"/>
                    </a:lnTo>
                    <a:lnTo>
                      <a:pt x="1321" y="1206"/>
                    </a:lnTo>
                    <a:lnTo>
                      <a:pt x="1321" y="1166"/>
                    </a:lnTo>
                    <a:lnTo>
                      <a:pt x="1321" y="1119"/>
                    </a:lnTo>
                    <a:lnTo>
                      <a:pt x="1327" y="1079"/>
                    </a:lnTo>
                    <a:lnTo>
                      <a:pt x="1333" y="1039"/>
                    </a:lnTo>
                    <a:lnTo>
                      <a:pt x="1333" y="1004"/>
                    </a:lnTo>
                    <a:lnTo>
                      <a:pt x="1339" y="987"/>
                    </a:lnTo>
                    <a:lnTo>
                      <a:pt x="1344" y="975"/>
                    </a:lnTo>
                    <a:lnTo>
                      <a:pt x="1350" y="964"/>
                    </a:lnTo>
                    <a:lnTo>
                      <a:pt x="1362" y="958"/>
                    </a:lnTo>
                    <a:lnTo>
                      <a:pt x="1368" y="952"/>
                    </a:lnTo>
                    <a:lnTo>
                      <a:pt x="1379" y="946"/>
                    </a:lnTo>
                    <a:lnTo>
                      <a:pt x="1391" y="946"/>
                    </a:lnTo>
                    <a:lnTo>
                      <a:pt x="1402" y="946"/>
                    </a:lnTo>
                    <a:lnTo>
                      <a:pt x="1414" y="946"/>
                    </a:lnTo>
                    <a:lnTo>
                      <a:pt x="1431" y="952"/>
                    </a:lnTo>
                    <a:lnTo>
                      <a:pt x="1443" y="958"/>
                    </a:lnTo>
                    <a:lnTo>
                      <a:pt x="1454" y="964"/>
                    </a:lnTo>
                    <a:lnTo>
                      <a:pt x="1466" y="969"/>
                    </a:lnTo>
                    <a:lnTo>
                      <a:pt x="1477" y="975"/>
                    </a:lnTo>
                    <a:lnTo>
                      <a:pt x="1494" y="987"/>
                    </a:lnTo>
                    <a:lnTo>
                      <a:pt x="1500" y="998"/>
                    </a:lnTo>
                    <a:lnTo>
                      <a:pt x="1512" y="1010"/>
                    </a:lnTo>
                    <a:lnTo>
                      <a:pt x="1523" y="1015"/>
                    </a:lnTo>
                    <a:lnTo>
                      <a:pt x="1541" y="1021"/>
                    </a:lnTo>
                    <a:lnTo>
                      <a:pt x="1558" y="1027"/>
                    </a:lnTo>
                    <a:lnTo>
                      <a:pt x="1569" y="1027"/>
                    </a:lnTo>
                    <a:lnTo>
                      <a:pt x="1587" y="1033"/>
                    </a:lnTo>
                    <a:lnTo>
                      <a:pt x="1604" y="1027"/>
                    </a:lnTo>
                    <a:lnTo>
                      <a:pt x="1621" y="1027"/>
                    </a:lnTo>
                    <a:lnTo>
                      <a:pt x="1633" y="1021"/>
                    </a:lnTo>
                    <a:lnTo>
                      <a:pt x="1650" y="1015"/>
                    </a:lnTo>
                    <a:lnTo>
                      <a:pt x="1662" y="1004"/>
                    </a:lnTo>
                    <a:lnTo>
                      <a:pt x="1673" y="992"/>
                    </a:lnTo>
                    <a:lnTo>
                      <a:pt x="1685" y="981"/>
                    </a:lnTo>
                    <a:lnTo>
                      <a:pt x="1696" y="964"/>
                    </a:lnTo>
                    <a:lnTo>
                      <a:pt x="1702" y="946"/>
                    </a:lnTo>
                    <a:lnTo>
                      <a:pt x="1708" y="923"/>
                    </a:lnTo>
                    <a:lnTo>
                      <a:pt x="1708" y="912"/>
                    </a:lnTo>
                    <a:lnTo>
                      <a:pt x="1708" y="900"/>
                    </a:lnTo>
                    <a:lnTo>
                      <a:pt x="1708" y="889"/>
                    </a:lnTo>
                    <a:lnTo>
                      <a:pt x="1708" y="877"/>
                    </a:lnTo>
                    <a:lnTo>
                      <a:pt x="1702" y="871"/>
                    </a:lnTo>
                    <a:lnTo>
                      <a:pt x="1696" y="860"/>
                    </a:lnTo>
                    <a:lnTo>
                      <a:pt x="1696" y="848"/>
                    </a:lnTo>
                    <a:lnTo>
                      <a:pt x="1691" y="842"/>
                    </a:lnTo>
                    <a:lnTo>
                      <a:pt x="1679" y="825"/>
                    </a:lnTo>
                    <a:lnTo>
                      <a:pt x="1662" y="814"/>
                    </a:lnTo>
                    <a:lnTo>
                      <a:pt x="1645" y="802"/>
                    </a:lnTo>
                    <a:lnTo>
                      <a:pt x="1627" y="790"/>
                    </a:lnTo>
                    <a:lnTo>
                      <a:pt x="1610" y="785"/>
                    </a:lnTo>
                    <a:lnTo>
                      <a:pt x="1593" y="779"/>
                    </a:lnTo>
                    <a:lnTo>
                      <a:pt x="1569" y="779"/>
                    </a:lnTo>
                    <a:lnTo>
                      <a:pt x="1552" y="779"/>
                    </a:lnTo>
                    <a:lnTo>
                      <a:pt x="1535" y="785"/>
                    </a:lnTo>
                    <a:lnTo>
                      <a:pt x="1518" y="790"/>
                    </a:lnTo>
                    <a:lnTo>
                      <a:pt x="1512" y="790"/>
                    </a:lnTo>
                    <a:lnTo>
                      <a:pt x="1506" y="796"/>
                    </a:lnTo>
                    <a:lnTo>
                      <a:pt x="1500" y="802"/>
                    </a:lnTo>
                    <a:lnTo>
                      <a:pt x="1494" y="814"/>
                    </a:lnTo>
                    <a:lnTo>
                      <a:pt x="1483" y="825"/>
                    </a:lnTo>
                    <a:lnTo>
                      <a:pt x="1471" y="837"/>
                    </a:lnTo>
                    <a:lnTo>
                      <a:pt x="1460" y="842"/>
                    </a:lnTo>
                    <a:lnTo>
                      <a:pt x="1448" y="848"/>
                    </a:lnTo>
                    <a:lnTo>
                      <a:pt x="1437" y="848"/>
                    </a:lnTo>
                    <a:lnTo>
                      <a:pt x="1419" y="848"/>
                    </a:lnTo>
                    <a:lnTo>
                      <a:pt x="1408" y="848"/>
                    </a:lnTo>
                    <a:lnTo>
                      <a:pt x="1396" y="842"/>
                    </a:lnTo>
                    <a:lnTo>
                      <a:pt x="1385" y="842"/>
                    </a:lnTo>
                    <a:lnTo>
                      <a:pt x="1373" y="837"/>
                    </a:lnTo>
                    <a:lnTo>
                      <a:pt x="1362" y="825"/>
                    </a:lnTo>
                    <a:lnTo>
                      <a:pt x="1350" y="819"/>
                    </a:lnTo>
                    <a:lnTo>
                      <a:pt x="1344" y="814"/>
                    </a:lnTo>
                    <a:lnTo>
                      <a:pt x="1339" y="802"/>
                    </a:lnTo>
                    <a:lnTo>
                      <a:pt x="1333" y="796"/>
                    </a:lnTo>
                    <a:lnTo>
                      <a:pt x="1333" y="785"/>
                    </a:lnTo>
                    <a:lnTo>
                      <a:pt x="1333" y="756"/>
                    </a:lnTo>
                    <a:lnTo>
                      <a:pt x="1333" y="715"/>
                    </a:lnTo>
                    <a:lnTo>
                      <a:pt x="1333" y="652"/>
                    </a:lnTo>
                    <a:lnTo>
                      <a:pt x="1333" y="589"/>
                    </a:lnTo>
                    <a:lnTo>
                      <a:pt x="1333" y="525"/>
                    </a:lnTo>
                    <a:lnTo>
                      <a:pt x="1333" y="456"/>
                    </a:lnTo>
                    <a:lnTo>
                      <a:pt x="1333" y="398"/>
                    </a:lnTo>
                    <a:lnTo>
                      <a:pt x="1333" y="352"/>
                    </a:lnTo>
                    <a:lnTo>
                      <a:pt x="1316" y="358"/>
                    </a:lnTo>
                    <a:lnTo>
                      <a:pt x="1298" y="369"/>
                    </a:lnTo>
                    <a:lnTo>
                      <a:pt x="1275" y="375"/>
                    </a:lnTo>
                    <a:lnTo>
                      <a:pt x="1252" y="381"/>
                    </a:lnTo>
                    <a:lnTo>
                      <a:pt x="1229" y="387"/>
                    </a:lnTo>
                    <a:lnTo>
                      <a:pt x="1206" y="387"/>
                    </a:lnTo>
                    <a:lnTo>
                      <a:pt x="1177" y="387"/>
                    </a:lnTo>
                    <a:lnTo>
                      <a:pt x="1148" y="387"/>
                    </a:lnTo>
                    <a:lnTo>
                      <a:pt x="1125" y="387"/>
                    </a:lnTo>
                    <a:lnTo>
                      <a:pt x="1096" y="387"/>
                    </a:lnTo>
                    <a:lnTo>
                      <a:pt x="1067" y="381"/>
                    </a:lnTo>
                    <a:lnTo>
                      <a:pt x="1044" y="375"/>
                    </a:lnTo>
                    <a:lnTo>
                      <a:pt x="1021" y="369"/>
                    </a:lnTo>
                    <a:lnTo>
                      <a:pt x="998" y="364"/>
                    </a:lnTo>
                    <a:lnTo>
                      <a:pt x="975" y="358"/>
                    </a:lnTo>
                    <a:lnTo>
                      <a:pt x="958" y="352"/>
                    </a:lnTo>
                    <a:lnTo>
                      <a:pt x="946" y="346"/>
                    </a:lnTo>
                    <a:lnTo>
                      <a:pt x="935" y="335"/>
                    </a:lnTo>
                    <a:lnTo>
                      <a:pt x="923" y="329"/>
                    </a:lnTo>
                    <a:lnTo>
                      <a:pt x="912" y="323"/>
                    </a:lnTo>
                    <a:lnTo>
                      <a:pt x="906" y="317"/>
                    </a:lnTo>
                    <a:lnTo>
                      <a:pt x="900" y="312"/>
                    </a:lnTo>
                    <a:lnTo>
                      <a:pt x="900" y="300"/>
                    </a:lnTo>
                    <a:lnTo>
                      <a:pt x="900" y="294"/>
                    </a:lnTo>
                    <a:lnTo>
                      <a:pt x="900" y="289"/>
                    </a:lnTo>
                    <a:lnTo>
                      <a:pt x="900" y="277"/>
                    </a:lnTo>
                    <a:lnTo>
                      <a:pt x="906" y="271"/>
                    </a:lnTo>
                    <a:lnTo>
                      <a:pt x="912" y="260"/>
                    </a:lnTo>
                    <a:lnTo>
                      <a:pt x="923" y="237"/>
                    </a:lnTo>
                    <a:lnTo>
                      <a:pt x="946" y="214"/>
                    </a:lnTo>
                    <a:lnTo>
                      <a:pt x="958" y="202"/>
                    </a:lnTo>
                    <a:lnTo>
                      <a:pt x="969" y="185"/>
                    </a:lnTo>
                    <a:lnTo>
                      <a:pt x="975" y="167"/>
                    </a:lnTo>
                    <a:lnTo>
                      <a:pt x="981" y="150"/>
                    </a:lnTo>
                    <a:lnTo>
                      <a:pt x="981" y="133"/>
                    </a:lnTo>
                    <a:lnTo>
                      <a:pt x="981" y="115"/>
                    </a:lnTo>
                    <a:lnTo>
                      <a:pt x="981" y="98"/>
                    </a:lnTo>
                    <a:lnTo>
                      <a:pt x="975" y="81"/>
                    </a:lnTo>
                    <a:lnTo>
                      <a:pt x="969" y="64"/>
                    </a:lnTo>
                    <a:lnTo>
                      <a:pt x="958" y="46"/>
                    </a:lnTo>
                    <a:lnTo>
                      <a:pt x="952" y="40"/>
                    </a:lnTo>
                    <a:lnTo>
                      <a:pt x="940" y="35"/>
                    </a:lnTo>
                    <a:lnTo>
                      <a:pt x="935" y="29"/>
                    </a:lnTo>
                    <a:lnTo>
                      <a:pt x="923" y="23"/>
                    </a:lnTo>
                    <a:lnTo>
                      <a:pt x="917" y="17"/>
                    </a:lnTo>
                    <a:lnTo>
                      <a:pt x="906" y="12"/>
                    </a:lnTo>
                    <a:lnTo>
                      <a:pt x="894" y="12"/>
                    </a:lnTo>
                    <a:lnTo>
                      <a:pt x="883" y="6"/>
                    </a:lnTo>
                    <a:lnTo>
                      <a:pt x="865" y="6"/>
                    </a:lnTo>
                    <a:lnTo>
                      <a:pt x="854" y="0"/>
                    </a:lnTo>
                    <a:lnTo>
                      <a:pt x="842" y="0"/>
                    </a:lnTo>
                    <a:lnTo>
                      <a:pt x="825" y="0"/>
                    </a:lnTo>
                    <a:lnTo>
                      <a:pt x="814" y="0"/>
                    </a:lnTo>
                    <a:lnTo>
                      <a:pt x="796" y="6"/>
                    </a:lnTo>
                    <a:lnTo>
                      <a:pt x="785" y="6"/>
                    </a:lnTo>
                    <a:lnTo>
                      <a:pt x="773" y="6"/>
                    </a:lnTo>
                    <a:lnTo>
                      <a:pt x="767" y="12"/>
                    </a:lnTo>
                    <a:lnTo>
                      <a:pt x="756" y="17"/>
                    </a:lnTo>
                    <a:lnTo>
                      <a:pt x="750" y="23"/>
                    </a:lnTo>
                    <a:lnTo>
                      <a:pt x="739" y="29"/>
                    </a:lnTo>
                    <a:lnTo>
                      <a:pt x="733" y="35"/>
                    </a:lnTo>
                    <a:lnTo>
                      <a:pt x="727" y="40"/>
                    </a:lnTo>
                    <a:lnTo>
                      <a:pt x="721" y="46"/>
                    </a:lnTo>
                    <a:lnTo>
                      <a:pt x="715" y="58"/>
                    </a:lnTo>
                    <a:lnTo>
                      <a:pt x="710" y="75"/>
                    </a:lnTo>
                    <a:lnTo>
                      <a:pt x="704" y="92"/>
                    </a:lnTo>
                    <a:lnTo>
                      <a:pt x="704" y="110"/>
                    </a:lnTo>
                    <a:lnTo>
                      <a:pt x="704" y="127"/>
                    </a:lnTo>
                    <a:lnTo>
                      <a:pt x="704" y="150"/>
                    </a:lnTo>
                    <a:lnTo>
                      <a:pt x="710" y="167"/>
                    </a:lnTo>
                    <a:lnTo>
                      <a:pt x="715" y="190"/>
                    </a:lnTo>
                    <a:lnTo>
                      <a:pt x="727" y="208"/>
                    </a:lnTo>
                    <a:lnTo>
                      <a:pt x="733" y="225"/>
                    </a:lnTo>
                    <a:lnTo>
                      <a:pt x="750" y="237"/>
                    </a:lnTo>
                    <a:lnTo>
                      <a:pt x="756" y="248"/>
                    </a:lnTo>
                    <a:lnTo>
                      <a:pt x="767" y="260"/>
                    </a:lnTo>
                    <a:lnTo>
                      <a:pt x="767" y="271"/>
                    </a:lnTo>
                    <a:lnTo>
                      <a:pt x="773" y="283"/>
                    </a:lnTo>
                    <a:lnTo>
                      <a:pt x="773" y="294"/>
                    </a:lnTo>
                    <a:lnTo>
                      <a:pt x="773" y="306"/>
                    </a:lnTo>
                    <a:lnTo>
                      <a:pt x="767" y="317"/>
                    </a:lnTo>
                    <a:lnTo>
                      <a:pt x="762" y="329"/>
                    </a:lnTo>
                    <a:lnTo>
                      <a:pt x="756" y="335"/>
                    </a:lnTo>
                    <a:lnTo>
                      <a:pt x="744" y="346"/>
                    </a:lnTo>
                    <a:lnTo>
                      <a:pt x="727" y="352"/>
                    </a:lnTo>
                    <a:lnTo>
                      <a:pt x="715" y="352"/>
                    </a:lnTo>
                    <a:lnTo>
                      <a:pt x="698" y="352"/>
                    </a:lnTo>
                    <a:lnTo>
                      <a:pt x="681" y="352"/>
                    </a:lnTo>
                    <a:lnTo>
                      <a:pt x="658" y="346"/>
                    </a:lnTo>
                    <a:lnTo>
                      <a:pt x="635" y="335"/>
                    </a:lnTo>
                    <a:lnTo>
                      <a:pt x="617" y="335"/>
                    </a:lnTo>
                    <a:lnTo>
                      <a:pt x="606" y="329"/>
                    </a:lnTo>
                    <a:lnTo>
                      <a:pt x="588" y="323"/>
                    </a:lnTo>
                    <a:lnTo>
                      <a:pt x="571" y="323"/>
                    </a:lnTo>
                    <a:lnTo>
                      <a:pt x="537" y="323"/>
                    </a:lnTo>
                    <a:lnTo>
                      <a:pt x="496" y="323"/>
                    </a:lnTo>
                    <a:lnTo>
                      <a:pt x="456" y="329"/>
                    </a:lnTo>
                    <a:lnTo>
                      <a:pt x="415" y="335"/>
                    </a:lnTo>
                    <a:lnTo>
                      <a:pt x="375" y="340"/>
                    </a:lnTo>
                    <a:lnTo>
                      <a:pt x="335" y="352"/>
                    </a:lnTo>
                    <a:lnTo>
                      <a:pt x="335" y="358"/>
                    </a:lnTo>
                    <a:lnTo>
                      <a:pt x="335" y="381"/>
                    </a:lnTo>
                    <a:lnTo>
                      <a:pt x="335" y="398"/>
                    </a:lnTo>
                    <a:lnTo>
                      <a:pt x="335" y="427"/>
                    </a:lnTo>
                    <a:lnTo>
                      <a:pt x="340" y="485"/>
                    </a:lnTo>
                    <a:lnTo>
                      <a:pt x="346" y="554"/>
                    </a:lnTo>
                    <a:lnTo>
                      <a:pt x="352" y="583"/>
                    </a:lnTo>
                    <a:lnTo>
                      <a:pt x="352" y="617"/>
                    </a:lnTo>
                    <a:lnTo>
                      <a:pt x="352" y="652"/>
                    </a:lnTo>
                    <a:lnTo>
                      <a:pt x="358" y="675"/>
                    </a:lnTo>
                    <a:lnTo>
                      <a:pt x="352" y="704"/>
                    </a:lnTo>
                    <a:lnTo>
                      <a:pt x="352" y="727"/>
                    </a:lnTo>
                    <a:lnTo>
                      <a:pt x="346" y="739"/>
                    </a:lnTo>
                    <a:lnTo>
                      <a:pt x="346" y="744"/>
                    </a:lnTo>
                    <a:lnTo>
                      <a:pt x="340" y="750"/>
                    </a:lnTo>
                    <a:lnTo>
                      <a:pt x="335" y="756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256440" y="4497480"/>
                <a:ext cx="2430360" cy="2055600"/>
              </a:xfrm>
              <a:custGeom>
                <a:avLst/>
                <a:gdLst/>
                <a:ahLst/>
                <a:rect l="l" t="t" r="r" b="b"/>
                <a:pathLst>
                  <a:path w="1726" h="1339">
                    <a:moveTo>
                      <a:pt x="329" y="762"/>
                    </a:moveTo>
                    <a:lnTo>
                      <a:pt x="335" y="768"/>
                    </a:lnTo>
                    <a:lnTo>
                      <a:pt x="335" y="762"/>
                    </a:lnTo>
                    <a:lnTo>
                      <a:pt x="323" y="768"/>
                    </a:lnTo>
                    <a:lnTo>
                      <a:pt x="312" y="773"/>
                    </a:lnTo>
                    <a:lnTo>
                      <a:pt x="312" y="773"/>
                    </a:lnTo>
                    <a:lnTo>
                      <a:pt x="306" y="773"/>
                    </a:lnTo>
                    <a:lnTo>
                      <a:pt x="300" y="779"/>
                    </a:lnTo>
                    <a:lnTo>
                      <a:pt x="306" y="785"/>
                    </a:lnTo>
                    <a:lnTo>
                      <a:pt x="306" y="779"/>
                    </a:lnTo>
                    <a:lnTo>
                      <a:pt x="294" y="779"/>
                    </a:lnTo>
                    <a:lnTo>
                      <a:pt x="283" y="779"/>
                    </a:lnTo>
                    <a:lnTo>
                      <a:pt x="283" y="785"/>
                    </a:lnTo>
                    <a:lnTo>
                      <a:pt x="289" y="779"/>
                    </a:lnTo>
                    <a:lnTo>
                      <a:pt x="283" y="773"/>
                    </a:lnTo>
                    <a:lnTo>
                      <a:pt x="283" y="773"/>
                    </a:lnTo>
                    <a:lnTo>
                      <a:pt x="277" y="773"/>
                    </a:lnTo>
                    <a:lnTo>
                      <a:pt x="266" y="773"/>
                    </a:lnTo>
                    <a:lnTo>
                      <a:pt x="266" y="779"/>
                    </a:lnTo>
                    <a:lnTo>
                      <a:pt x="271" y="773"/>
                    </a:lnTo>
                    <a:lnTo>
                      <a:pt x="248" y="762"/>
                    </a:lnTo>
                    <a:lnTo>
                      <a:pt x="231" y="756"/>
                    </a:lnTo>
                    <a:lnTo>
                      <a:pt x="214" y="745"/>
                    </a:lnTo>
                    <a:lnTo>
                      <a:pt x="191" y="733"/>
                    </a:lnTo>
                    <a:lnTo>
                      <a:pt x="173" y="721"/>
                    </a:lnTo>
                    <a:lnTo>
                      <a:pt x="173" y="721"/>
                    </a:lnTo>
                    <a:lnTo>
                      <a:pt x="167" y="721"/>
                    </a:lnTo>
                    <a:lnTo>
                      <a:pt x="144" y="716"/>
                    </a:lnTo>
                    <a:lnTo>
                      <a:pt x="133" y="716"/>
                    </a:lnTo>
                    <a:lnTo>
                      <a:pt x="133" y="721"/>
                    </a:lnTo>
                    <a:lnTo>
                      <a:pt x="139" y="716"/>
                    </a:lnTo>
                    <a:lnTo>
                      <a:pt x="133" y="710"/>
                    </a:lnTo>
                    <a:lnTo>
                      <a:pt x="133" y="710"/>
                    </a:lnTo>
                    <a:lnTo>
                      <a:pt x="127" y="710"/>
                    </a:lnTo>
                    <a:lnTo>
                      <a:pt x="116" y="710"/>
                    </a:lnTo>
                    <a:lnTo>
                      <a:pt x="104" y="710"/>
                    </a:lnTo>
                    <a:lnTo>
                      <a:pt x="104" y="710"/>
                    </a:lnTo>
                    <a:lnTo>
                      <a:pt x="104" y="710"/>
                    </a:lnTo>
                    <a:lnTo>
                      <a:pt x="92" y="716"/>
                    </a:lnTo>
                    <a:lnTo>
                      <a:pt x="92" y="721"/>
                    </a:lnTo>
                    <a:lnTo>
                      <a:pt x="92" y="716"/>
                    </a:lnTo>
                    <a:lnTo>
                      <a:pt x="81" y="716"/>
                    </a:lnTo>
                    <a:lnTo>
                      <a:pt x="81" y="716"/>
                    </a:lnTo>
                    <a:lnTo>
                      <a:pt x="81" y="716"/>
                    </a:lnTo>
                    <a:lnTo>
                      <a:pt x="69" y="721"/>
                    </a:lnTo>
                    <a:lnTo>
                      <a:pt x="64" y="721"/>
                    </a:lnTo>
                    <a:lnTo>
                      <a:pt x="64" y="727"/>
                    </a:lnTo>
                    <a:lnTo>
                      <a:pt x="58" y="739"/>
                    </a:lnTo>
                    <a:lnTo>
                      <a:pt x="64" y="739"/>
                    </a:lnTo>
                    <a:lnTo>
                      <a:pt x="64" y="733"/>
                    </a:lnTo>
                    <a:lnTo>
                      <a:pt x="52" y="739"/>
                    </a:lnTo>
                    <a:lnTo>
                      <a:pt x="52" y="739"/>
                    </a:lnTo>
                    <a:lnTo>
                      <a:pt x="46" y="739"/>
                    </a:lnTo>
                    <a:lnTo>
                      <a:pt x="35" y="750"/>
                    </a:lnTo>
                    <a:lnTo>
                      <a:pt x="35" y="756"/>
                    </a:lnTo>
                    <a:lnTo>
                      <a:pt x="35" y="756"/>
                    </a:lnTo>
                    <a:lnTo>
                      <a:pt x="23" y="773"/>
                    </a:lnTo>
                    <a:lnTo>
                      <a:pt x="12" y="791"/>
                    </a:lnTo>
                    <a:lnTo>
                      <a:pt x="17" y="791"/>
                    </a:lnTo>
                    <a:lnTo>
                      <a:pt x="12" y="785"/>
                    </a:lnTo>
                    <a:lnTo>
                      <a:pt x="6" y="791"/>
                    </a:lnTo>
                    <a:lnTo>
                      <a:pt x="6" y="796"/>
                    </a:lnTo>
                    <a:lnTo>
                      <a:pt x="6" y="796"/>
                    </a:lnTo>
                    <a:lnTo>
                      <a:pt x="0" y="808"/>
                    </a:lnTo>
                    <a:lnTo>
                      <a:pt x="0" y="808"/>
                    </a:lnTo>
                    <a:lnTo>
                      <a:pt x="0" y="808"/>
                    </a:lnTo>
                    <a:lnTo>
                      <a:pt x="0" y="825"/>
                    </a:lnTo>
                    <a:lnTo>
                      <a:pt x="0" y="843"/>
                    </a:lnTo>
                    <a:lnTo>
                      <a:pt x="0" y="854"/>
                    </a:lnTo>
                    <a:lnTo>
                      <a:pt x="0" y="860"/>
                    </a:lnTo>
                    <a:lnTo>
                      <a:pt x="0" y="860"/>
                    </a:lnTo>
                    <a:lnTo>
                      <a:pt x="6" y="877"/>
                    </a:lnTo>
                    <a:lnTo>
                      <a:pt x="17" y="895"/>
                    </a:lnTo>
                    <a:lnTo>
                      <a:pt x="23" y="906"/>
                    </a:lnTo>
                    <a:lnTo>
                      <a:pt x="35" y="923"/>
                    </a:lnTo>
                    <a:lnTo>
                      <a:pt x="35" y="923"/>
                    </a:lnTo>
                    <a:lnTo>
                      <a:pt x="41" y="929"/>
                    </a:lnTo>
                    <a:lnTo>
                      <a:pt x="58" y="941"/>
                    </a:lnTo>
                    <a:lnTo>
                      <a:pt x="58" y="941"/>
                    </a:lnTo>
                    <a:lnTo>
                      <a:pt x="58" y="941"/>
                    </a:lnTo>
                    <a:lnTo>
                      <a:pt x="64" y="941"/>
                    </a:lnTo>
                    <a:lnTo>
                      <a:pt x="64" y="929"/>
                    </a:lnTo>
                    <a:lnTo>
                      <a:pt x="58" y="935"/>
                    </a:lnTo>
                    <a:lnTo>
                      <a:pt x="64" y="941"/>
                    </a:lnTo>
                    <a:lnTo>
                      <a:pt x="69" y="946"/>
                    </a:lnTo>
                    <a:lnTo>
                      <a:pt x="69" y="946"/>
                    </a:lnTo>
                    <a:lnTo>
                      <a:pt x="81" y="952"/>
                    </a:lnTo>
                    <a:lnTo>
                      <a:pt x="81" y="952"/>
                    </a:lnTo>
                    <a:lnTo>
                      <a:pt x="81" y="952"/>
                    </a:lnTo>
                    <a:lnTo>
                      <a:pt x="92" y="952"/>
                    </a:lnTo>
                    <a:lnTo>
                      <a:pt x="92" y="941"/>
                    </a:lnTo>
                    <a:lnTo>
                      <a:pt x="92" y="952"/>
                    </a:lnTo>
                    <a:lnTo>
                      <a:pt x="104" y="958"/>
                    </a:lnTo>
                    <a:lnTo>
                      <a:pt x="104" y="958"/>
                    </a:lnTo>
                    <a:lnTo>
                      <a:pt x="104" y="958"/>
                    </a:lnTo>
                    <a:lnTo>
                      <a:pt x="116" y="958"/>
                    </a:lnTo>
                    <a:lnTo>
                      <a:pt x="127" y="958"/>
                    </a:lnTo>
                    <a:lnTo>
                      <a:pt x="139" y="958"/>
                    </a:lnTo>
                    <a:lnTo>
                      <a:pt x="156" y="958"/>
                    </a:lnTo>
                    <a:lnTo>
                      <a:pt x="156" y="958"/>
                    </a:lnTo>
                    <a:lnTo>
                      <a:pt x="162" y="958"/>
                    </a:lnTo>
                    <a:lnTo>
                      <a:pt x="173" y="952"/>
                    </a:lnTo>
                    <a:lnTo>
                      <a:pt x="167" y="941"/>
                    </a:lnTo>
                    <a:lnTo>
                      <a:pt x="167" y="952"/>
                    </a:lnTo>
                    <a:lnTo>
                      <a:pt x="179" y="952"/>
                    </a:lnTo>
                    <a:lnTo>
                      <a:pt x="185" y="952"/>
                    </a:lnTo>
                    <a:lnTo>
                      <a:pt x="185" y="952"/>
                    </a:lnTo>
                    <a:lnTo>
                      <a:pt x="202" y="946"/>
                    </a:lnTo>
                    <a:lnTo>
                      <a:pt x="231" y="935"/>
                    </a:lnTo>
                    <a:lnTo>
                      <a:pt x="248" y="929"/>
                    </a:lnTo>
                    <a:lnTo>
                      <a:pt x="242" y="918"/>
                    </a:lnTo>
                    <a:lnTo>
                      <a:pt x="242" y="929"/>
                    </a:lnTo>
                    <a:lnTo>
                      <a:pt x="266" y="923"/>
                    </a:lnTo>
                    <a:lnTo>
                      <a:pt x="283" y="923"/>
                    </a:lnTo>
                    <a:lnTo>
                      <a:pt x="294" y="923"/>
                    </a:lnTo>
                    <a:lnTo>
                      <a:pt x="294" y="912"/>
                    </a:lnTo>
                    <a:lnTo>
                      <a:pt x="289" y="918"/>
                    </a:lnTo>
                    <a:lnTo>
                      <a:pt x="294" y="923"/>
                    </a:lnTo>
                    <a:lnTo>
                      <a:pt x="300" y="929"/>
                    </a:lnTo>
                    <a:lnTo>
                      <a:pt x="300" y="929"/>
                    </a:lnTo>
                    <a:lnTo>
                      <a:pt x="306" y="929"/>
                    </a:lnTo>
                    <a:lnTo>
                      <a:pt x="306" y="918"/>
                    </a:lnTo>
                    <a:lnTo>
                      <a:pt x="306" y="929"/>
                    </a:lnTo>
                    <a:lnTo>
                      <a:pt x="317" y="935"/>
                    </a:lnTo>
                    <a:lnTo>
                      <a:pt x="317" y="923"/>
                    </a:lnTo>
                    <a:lnTo>
                      <a:pt x="312" y="929"/>
                    </a:lnTo>
                    <a:lnTo>
                      <a:pt x="317" y="935"/>
                    </a:lnTo>
                    <a:lnTo>
                      <a:pt x="323" y="929"/>
                    </a:lnTo>
                    <a:lnTo>
                      <a:pt x="317" y="935"/>
                    </a:lnTo>
                    <a:lnTo>
                      <a:pt x="323" y="946"/>
                    </a:lnTo>
                    <a:lnTo>
                      <a:pt x="323" y="946"/>
                    </a:lnTo>
                    <a:lnTo>
                      <a:pt x="323" y="946"/>
                    </a:lnTo>
                    <a:lnTo>
                      <a:pt x="329" y="952"/>
                    </a:lnTo>
                    <a:lnTo>
                      <a:pt x="335" y="946"/>
                    </a:lnTo>
                    <a:lnTo>
                      <a:pt x="329" y="952"/>
                    </a:lnTo>
                    <a:lnTo>
                      <a:pt x="335" y="970"/>
                    </a:lnTo>
                    <a:lnTo>
                      <a:pt x="341" y="981"/>
                    </a:lnTo>
                    <a:lnTo>
                      <a:pt x="346" y="998"/>
                    </a:lnTo>
                    <a:lnTo>
                      <a:pt x="352" y="1016"/>
                    </a:lnTo>
                    <a:lnTo>
                      <a:pt x="358" y="1033"/>
                    </a:lnTo>
                    <a:lnTo>
                      <a:pt x="364" y="1027"/>
                    </a:lnTo>
                    <a:lnTo>
                      <a:pt x="358" y="1027"/>
                    </a:lnTo>
                    <a:lnTo>
                      <a:pt x="358" y="1050"/>
                    </a:lnTo>
                    <a:lnTo>
                      <a:pt x="358" y="1056"/>
                    </a:lnTo>
                    <a:lnTo>
                      <a:pt x="358" y="1056"/>
                    </a:lnTo>
                    <a:lnTo>
                      <a:pt x="364" y="1079"/>
                    </a:lnTo>
                    <a:lnTo>
                      <a:pt x="369" y="1073"/>
                    </a:lnTo>
                    <a:lnTo>
                      <a:pt x="364" y="1073"/>
                    </a:lnTo>
                    <a:lnTo>
                      <a:pt x="364" y="1097"/>
                    </a:lnTo>
                    <a:lnTo>
                      <a:pt x="364" y="1120"/>
                    </a:lnTo>
                    <a:lnTo>
                      <a:pt x="364" y="1143"/>
                    </a:lnTo>
                    <a:lnTo>
                      <a:pt x="364" y="1166"/>
                    </a:lnTo>
                    <a:lnTo>
                      <a:pt x="369" y="1166"/>
                    </a:lnTo>
                    <a:lnTo>
                      <a:pt x="364" y="1166"/>
                    </a:lnTo>
                    <a:lnTo>
                      <a:pt x="358" y="1189"/>
                    </a:lnTo>
                    <a:lnTo>
                      <a:pt x="358" y="1189"/>
                    </a:lnTo>
                    <a:lnTo>
                      <a:pt x="358" y="1189"/>
                    </a:lnTo>
                    <a:lnTo>
                      <a:pt x="358" y="1212"/>
                    </a:lnTo>
                    <a:lnTo>
                      <a:pt x="364" y="1212"/>
                    </a:lnTo>
                    <a:lnTo>
                      <a:pt x="358" y="1212"/>
                    </a:lnTo>
                    <a:lnTo>
                      <a:pt x="352" y="1235"/>
                    </a:lnTo>
                    <a:lnTo>
                      <a:pt x="346" y="1258"/>
                    </a:lnTo>
                    <a:lnTo>
                      <a:pt x="341" y="1281"/>
                    </a:lnTo>
                    <a:lnTo>
                      <a:pt x="335" y="1298"/>
                    </a:lnTo>
                    <a:lnTo>
                      <a:pt x="329" y="1304"/>
                    </a:lnTo>
                    <a:lnTo>
                      <a:pt x="341" y="1310"/>
                    </a:lnTo>
                    <a:lnTo>
                      <a:pt x="381" y="1310"/>
                    </a:lnTo>
                    <a:lnTo>
                      <a:pt x="421" y="1310"/>
                    </a:lnTo>
                    <a:lnTo>
                      <a:pt x="462" y="1310"/>
                    </a:lnTo>
                    <a:lnTo>
                      <a:pt x="496" y="1310"/>
                    </a:lnTo>
                    <a:lnTo>
                      <a:pt x="531" y="1310"/>
                    </a:lnTo>
                    <a:lnTo>
                      <a:pt x="566" y="1310"/>
                    </a:lnTo>
                    <a:lnTo>
                      <a:pt x="594" y="1310"/>
                    </a:lnTo>
                    <a:lnTo>
                      <a:pt x="612" y="1310"/>
                    </a:lnTo>
                    <a:lnTo>
                      <a:pt x="641" y="1304"/>
                    </a:lnTo>
                    <a:lnTo>
                      <a:pt x="664" y="1298"/>
                    </a:lnTo>
                    <a:lnTo>
                      <a:pt x="669" y="1293"/>
                    </a:lnTo>
                    <a:lnTo>
                      <a:pt x="669" y="1293"/>
                    </a:lnTo>
                    <a:lnTo>
                      <a:pt x="687" y="1275"/>
                    </a:lnTo>
                    <a:lnTo>
                      <a:pt x="681" y="1270"/>
                    </a:lnTo>
                    <a:lnTo>
                      <a:pt x="687" y="1281"/>
                    </a:lnTo>
                    <a:lnTo>
                      <a:pt x="710" y="1270"/>
                    </a:lnTo>
                    <a:lnTo>
                      <a:pt x="710" y="1270"/>
                    </a:lnTo>
                    <a:lnTo>
                      <a:pt x="710" y="1264"/>
                    </a:lnTo>
                    <a:lnTo>
                      <a:pt x="721" y="1252"/>
                    </a:lnTo>
                    <a:lnTo>
                      <a:pt x="733" y="1241"/>
                    </a:lnTo>
                    <a:lnTo>
                      <a:pt x="739" y="1241"/>
                    </a:lnTo>
                    <a:lnTo>
                      <a:pt x="739" y="1241"/>
                    </a:lnTo>
                    <a:lnTo>
                      <a:pt x="750" y="1223"/>
                    </a:lnTo>
                    <a:lnTo>
                      <a:pt x="756" y="1206"/>
                    </a:lnTo>
                    <a:lnTo>
                      <a:pt x="762" y="1189"/>
                    </a:lnTo>
                    <a:lnTo>
                      <a:pt x="762" y="1189"/>
                    </a:lnTo>
                    <a:lnTo>
                      <a:pt x="762" y="1183"/>
                    </a:lnTo>
                    <a:lnTo>
                      <a:pt x="762" y="1172"/>
                    </a:lnTo>
                    <a:lnTo>
                      <a:pt x="762" y="1154"/>
                    </a:lnTo>
                    <a:lnTo>
                      <a:pt x="762" y="1137"/>
                    </a:lnTo>
                    <a:lnTo>
                      <a:pt x="762" y="1137"/>
                    </a:lnTo>
                    <a:lnTo>
                      <a:pt x="762" y="1137"/>
                    </a:lnTo>
                    <a:lnTo>
                      <a:pt x="756" y="1120"/>
                    </a:lnTo>
                    <a:lnTo>
                      <a:pt x="756" y="1120"/>
                    </a:lnTo>
                    <a:lnTo>
                      <a:pt x="750" y="1114"/>
                    </a:lnTo>
                    <a:lnTo>
                      <a:pt x="739" y="1102"/>
                    </a:lnTo>
                    <a:lnTo>
                      <a:pt x="733" y="1108"/>
                    </a:lnTo>
                    <a:lnTo>
                      <a:pt x="745" y="1108"/>
                    </a:lnTo>
                    <a:lnTo>
                      <a:pt x="739" y="1091"/>
                    </a:lnTo>
                    <a:lnTo>
                      <a:pt x="733" y="1085"/>
                    </a:lnTo>
                    <a:lnTo>
                      <a:pt x="733" y="1085"/>
                    </a:lnTo>
                    <a:lnTo>
                      <a:pt x="716" y="1073"/>
                    </a:lnTo>
                    <a:lnTo>
                      <a:pt x="710" y="1079"/>
                    </a:lnTo>
                    <a:lnTo>
                      <a:pt x="721" y="1079"/>
                    </a:lnTo>
                    <a:lnTo>
                      <a:pt x="710" y="1062"/>
                    </a:lnTo>
                    <a:lnTo>
                      <a:pt x="710" y="1062"/>
                    </a:lnTo>
                    <a:lnTo>
                      <a:pt x="704" y="1056"/>
                    </a:lnTo>
                    <a:lnTo>
                      <a:pt x="693" y="1045"/>
                    </a:lnTo>
                    <a:lnTo>
                      <a:pt x="687" y="1050"/>
                    </a:lnTo>
                    <a:lnTo>
                      <a:pt x="698" y="1050"/>
                    </a:lnTo>
                    <a:lnTo>
                      <a:pt x="693" y="1033"/>
                    </a:lnTo>
                    <a:lnTo>
                      <a:pt x="687" y="1016"/>
                    </a:lnTo>
                    <a:lnTo>
                      <a:pt x="675" y="1016"/>
                    </a:lnTo>
                    <a:lnTo>
                      <a:pt x="687" y="1016"/>
                    </a:lnTo>
                    <a:lnTo>
                      <a:pt x="687" y="993"/>
                    </a:lnTo>
                    <a:lnTo>
                      <a:pt x="687" y="975"/>
                    </a:lnTo>
                    <a:lnTo>
                      <a:pt x="687" y="958"/>
                    </a:lnTo>
                    <a:lnTo>
                      <a:pt x="675" y="958"/>
                    </a:lnTo>
                    <a:lnTo>
                      <a:pt x="687" y="964"/>
                    </a:lnTo>
                    <a:lnTo>
                      <a:pt x="693" y="946"/>
                    </a:lnTo>
                    <a:lnTo>
                      <a:pt x="698" y="929"/>
                    </a:lnTo>
                    <a:lnTo>
                      <a:pt x="710" y="912"/>
                    </a:lnTo>
                    <a:lnTo>
                      <a:pt x="698" y="906"/>
                    </a:lnTo>
                    <a:lnTo>
                      <a:pt x="704" y="918"/>
                    </a:lnTo>
                    <a:lnTo>
                      <a:pt x="716" y="912"/>
                    </a:lnTo>
                    <a:lnTo>
                      <a:pt x="716" y="906"/>
                    </a:lnTo>
                    <a:lnTo>
                      <a:pt x="721" y="906"/>
                    </a:lnTo>
                    <a:lnTo>
                      <a:pt x="727" y="895"/>
                    </a:lnTo>
                    <a:lnTo>
                      <a:pt x="716" y="889"/>
                    </a:lnTo>
                    <a:lnTo>
                      <a:pt x="721" y="895"/>
                    </a:lnTo>
                    <a:lnTo>
                      <a:pt x="727" y="889"/>
                    </a:lnTo>
                    <a:lnTo>
                      <a:pt x="721" y="883"/>
                    </a:lnTo>
                    <a:lnTo>
                      <a:pt x="721" y="895"/>
                    </a:lnTo>
                    <a:lnTo>
                      <a:pt x="733" y="895"/>
                    </a:lnTo>
                    <a:lnTo>
                      <a:pt x="739" y="895"/>
                    </a:lnTo>
                    <a:lnTo>
                      <a:pt x="739" y="889"/>
                    </a:lnTo>
                    <a:lnTo>
                      <a:pt x="745" y="883"/>
                    </a:lnTo>
                    <a:lnTo>
                      <a:pt x="739" y="877"/>
                    </a:lnTo>
                    <a:lnTo>
                      <a:pt x="745" y="889"/>
                    </a:lnTo>
                    <a:lnTo>
                      <a:pt x="756" y="883"/>
                    </a:lnTo>
                    <a:lnTo>
                      <a:pt x="768" y="877"/>
                    </a:lnTo>
                    <a:lnTo>
                      <a:pt x="779" y="871"/>
                    </a:lnTo>
                    <a:lnTo>
                      <a:pt x="773" y="860"/>
                    </a:lnTo>
                    <a:lnTo>
                      <a:pt x="773" y="871"/>
                    </a:lnTo>
                    <a:lnTo>
                      <a:pt x="785" y="871"/>
                    </a:lnTo>
                    <a:lnTo>
                      <a:pt x="791" y="871"/>
                    </a:lnTo>
                    <a:lnTo>
                      <a:pt x="791" y="871"/>
                    </a:lnTo>
                    <a:lnTo>
                      <a:pt x="808" y="866"/>
                    </a:lnTo>
                    <a:lnTo>
                      <a:pt x="802" y="854"/>
                    </a:lnTo>
                    <a:lnTo>
                      <a:pt x="802" y="866"/>
                    </a:lnTo>
                    <a:lnTo>
                      <a:pt x="820" y="866"/>
                    </a:lnTo>
                    <a:lnTo>
                      <a:pt x="831" y="866"/>
                    </a:lnTo>
                    <a:lnTo>
                      <a:pt x="848" y="866"/>
                    </a:lnTo>
                    <a:lnTo>
                      <a:pt x="866" y="866"/>
                    </a:lnTo>
                    <a:lnTo>
                      <a:pt x="866" y="854"/>
                    </a:lnTo>
                    <a:lnTo>
                      <a:pt x="866" y="866"/>
                    </a:lnTo>
                    <a:lnTo>
                      <a:pt x="877" y="871"/>
                    </a:lnTo>
                    <a:lnTo>
                      <a:pt x="895" y="877"/>
                    </a:lnTo>
                    <a:lnTo>
                      <a:pt x="895" y="877"/>
                    </a:lnTo>
                    <a:lnTo>
                      <a:pt x="895" y="877"/>
                    </a:lnTo>
                    <a:lnTo>
                      <a:pt x="906" y="877"/>
                    </a:lnTo>
                    <a:lnTo>
                      <a:pt x="906" y="866"/>
                    </a:lnTo>
                    <a:lnTo>
                      <a:pt x="906" y="877"/>
                    </a:lnTo>
                    <a:lnTo>
                      <a:pt x="918" y="883"/>
                    </a:lnTo>
                    <a:lnTo>
                      <a:pt x="918" y="871"/>
                    </a:lnTo>
                    <a:lnTo>
                      <a:pt x="912" y="877"/>
                    </a:lnTo>
                    <a:lnTo>
                      <a:pt x="918" y="883"/>
                    </a:lnTo>
                    <a:lnTo>
                      <a:pt x="923" y="889"/>
                    </a:lnTo>
                    <a:lnTo>
                      <a:pt x="923" y="889"/>
                    </a:lnTo>
                    <a:lnTo>
                      <a:pt x="935" y="895"/>
                    </a:lnTo>
                    <a:lnTo>
                      <a:pt x="946" y="900"/>
                    </a:lnTo>
                    <a:lnTo>
                      <a:pt x="946" y="889"/>
                    </a:lnTo>
                    <a:lnTo>
                      <a:pt x="941" y="895"/>
                    </a:lnTo>
                    <a:lnTo>
                      <a:pt x="946" y="906"/>
                    </a:lnTo>
                    <a:lnTo>
                      <a:pt x="946" y="906"/>
                    </a:lnTo>
                    <a:lnTo>
                      <a:pt x="946" y="906"/>
                    </a:lnTo>
                    <a:lnTo>
                      <a:pt x="952" y="912"/>
                    </a:lnTo>
                    <a:lnTo>
                      <a:pt x="958" y="906"/>
                    </a:lnTo>
                    <a:lnTo>
                      <a:pt x="952" y="912"/>
                    </a:lnTo>
                    <a:lnTo>
                      <a:pt x="958" y="923"/>
                    </a:lnTo>
                    <a:lnTo>
                      <a:pt x="964" y="941"/>
                    </a:lnTo>
                    <a:lnTo>
                      <a:pt x="970" y="958"/>
                    </a:lnTo>
                    <a:lnTo>
                      <a:pt x="975" y="952"/>
                    </a:lnTo>
                    <a:lnTo>
                      <a:pt x="970" y="952"/>
                    </a:lnTo>
                    <a:lnTo>
                      <a:pt x="970" y="975"/>
                    </a:lnTo>
                    <a:lnTo>
                      <a:pt x="970" y="993"/>
                    </a:lnTo>
                    <a:lnTo>
                      <a:pt x="970" y="1016"/>
                    </a:lnTo>
                    <a:lnTo>
                      <a:pt x="975" y="1016"/>
                    </a:lnTo>
                    <a:lnTo>
                      <a:pt x="970" y="1016"/>
                    </a:lnTo>
                    <a:lnTo>
                      <a:pt x="964" y="1033"/>
                    </a:lnTo>
                    <a:lnTo>
                      <a:pt x="958" y="1050"/>
                    </a:lnTo>
                    <a:lnTo>
                      <a:pt x="952" y="1068"/>
                    </a:lnTo>
                    <a:lnTo>
                      <a:pt x="958" y="1068"/>
                    </a:lnTo>
                    <a:lnTo>
                      <a:pt x="952" y="1062"/>
                    </a:lnTo>
                    <a:lnTo>
                      <a:pt x="941" y="1073"/>
                    </a:lnTo>
                    <a:lnTo>
                      <a:pt x="929" y="1085"/>
                    </a:lnTo>
                    <a:lnTo>
                      <a:pt x="935" y="1091"/>
                    </a:lnTo>
                    <a:lnTo>
                      <a:pt x="935" y="1085"/>
                    </a:lnTo>
                    <a:lnTo>
                      <a:pt x="923" y="1091"/>
                    </a:lnTo>
                    <a:lnTo>
                      <a:pt x="923" y="1091"/>
                    </a:lnTo>
                    <a:lnTo>
                      <a:pt x="918" y="1091"/>
                    </a:lnTo>
                    <a:lnTo>
                      <a:pt x="906" y="1102"/>
                    </a:lnTo>
                    <a:lnTo>
                      <a:pt x="906" y="1108"/>
                    </a:lnTo>
                    <a:lnTo>
                      <a:pt x="906" y="1108"/>
                    </a:lnTo>
                    <a:lnTo>
                      <a:pt x="900" y="1120"/>
                    </a:lnTo>
                    <a:lnTo>
                      <a:pt x="895" y="1137"/>
                    </a:lnTo>
                    <a:lnTo>
                      <a:pt x="889" y="1148"/>
                    </a:lnTo>
                    <a:lnTo>
                      <a:pt x="889" y="1148"/>
                    </a:lnTo>
                    <a:lnTo>
                      <a:pt x="889" y="1148"/>
                    </a:lnTo>
                    <a:lnTo>
                      <a:pt x="889" y="1160"/>
                    </a:lnTo>
                    <a:lnTo>
                      <a:pt x="895" y="1160"/>
                    </a:lnTo>
                    <a:lnTo>
                      <a:pt x="889" y="1160"/>
                    </a:lnTo>
                    <a:lnTo>
                      <a:pt x="883" y="1177"/>
                    </a:lnTo>
                    <a:lnTo>
                      <a:pt x="883" y="1177"/>
                    </a:lnTo>
                    <a:lnTo>
                      <a:pt x="883" y="1177"/>
                    </a:lnTo>
                    <a:lnTo>
                      <a:pt x="883" y="1195"/>
                    </a:lnTo>
                    <a:lnTo>
                      <a:pt x="883" y="1195"/>
                    </a:lnTo>
                    <a:lnTo>
                      <a:pt x="883" y="1200"/>
                    </a:lnTo>
                    <a:lnTo>
                      <a:pt x="889" y="1212"/>
                    </a:lnTo>
                    <a:lnTo>
                      <a:pt x="895" y="1229"/>
                    </a:lnTo>
                    <a:lnTo>
                      <a:pt x="900" y="1247"/>
                    </a:lnTo>
                    <a:lnTo>
                      <a:pt x="900" y="1247"/>
                    </a:lnTo>
                    <a:lnTo>
                      <a:pt x="900" y="1247"/>
                    </a:lnTo>
                    <a:lnTo>
                      <a:pt x="912" y="1258"/>
                    </a:lnTo>
                    <a:lnTo>
                      <a:pt x="918" y="1252"/>
                    </a:lnTo>
                    <a:lnTo>
                      <a:pt x="912" y="1258"/>
                    </a:lnTo>
                    <a:lnTo>
                      <a:pt x="923" y="1275"/>
                    </a:lnTo>
                    <a:lnTo>
                      <a:pt x="923" y="1275"/>
                    </a:lnTo>
                    <a:lnTo>
                      <a:pt x="929" y="1281"/>
                    </a:lnTo>
                    <a:lnTo>
                      <a:pt x="946" y="1293"/>
                    </a:lnTo>
                    <a:lnTo>
                      <a:pt x="964" y="1304"/>
                    </a:lnTo>
                    <a:lnTo>
                      <a:pt x="958" y="1298"/>
                    </a:lnTo>
                    <a:lnTo>
                      <a:pt x="964" y="1304"/>
                    </a:lnTo>
                    <a:lnTo>
                      <a:pt x="987" y="1310"/>
                    </a:lnTo>
                    <a:lnTo>
                      <a:pt x="987" y="1298"/>
                    </a:lnTo>
                    <a:lnTo>
                      <a:pt x="987" y="1310"/>
                    </a:lnTo>
                    <a:lnTo>
                      <a:pt x="998" y="1316"/>
                    </a:lnTo>
                    <a:lnTo>
                      <a:pt x="993" y="1310"/>
                    </a:lnTo>
                    <a:lnTo>
                      <a:pt x="998" y="1316"/>
                    </a:lnTo>
                    <a:lnTo>
                      <a:pt x="1022" y="1322"/>
                    </a:lnTo>
                    <a:lnTo>
                      <a:pt x="1062" y="1327"/>
                    </a:lnTo>
                    <a:lnTo>
                      <a:pt x="1108" y="1333"/>
                    </a:lnTo>
                    <a:lnTo>
                      <a:pt x="1137" y="1333"/>
                    </a:lnTo>
                    <a:lnTo>
                      <a:pt x="1166" y="1339"/>
                    </a:lnTo>
                    <a:lnTo>
                      <a:pt x="1195" y="1339"/>
                    </a:lnTo>
                    <a:lnTo>
                      <a:pt x="1223" y="1339"/>
                    </a:lnTo>
                    <a:lnTo>
                      <a:pt x="1252" y="1339"/>
                    </a:lnTo>
                    <a:lnTo>
                      <a:pt x="1287" y="1339"/>
                    </a:lnTo>
                    <a:lnTo>
                      <a:pt x="1310" y="1333"/>
                    </a:lnTo>
                    <a:lnTo>
                      <a:pt x="1339" y="1327"/>
                    </a:lnTo>
                    <a:lnTo>
                      <a:pt x="1345" y="1322"/>
                    </a:lnTo>
                    <a:lnTo>
                      <a:pt x="1350" y="1316"/>
                    </a:lnTo>
                    <a:lnTo>
                      <a:pt x="1350" y="1304"/>
                    </a:lnTo>
                    <a:lnTo>
                      <a:pt x="1350" y="1304"/>
                    </a:lnTo>
                    <a:lnTo>
                      <a:pt x="1350" y="1304"/>
                    </a:lnTo>
                    <a:lnTo>
                      <a:pt x="1345" y="1287"/>
                    </a:lnTo>
                    <a:lnTo>
                      <a:pt x="1339" y="1270"/>
                    </a:lnTo>
                    <a:lnTo>
                      <a:pt x="1327" y="1270"/>
                    </a:lnTo>
                    <a:lnTo>
                      <a:pt x="1339" y="1270"/>
                    </a:lnTo>
                    <a:lnTo>
                      <a:pt x="1339" y="1252"/>
                    </a:lnTo>
                    <a:lnTo>
                      <a:pt x="1339" y="1212"/>
                    </a:lnTo>
                    <a:lnTo>
                      <a:pt x="1339" y="1172"/>
                    </a:lnTo>
                    <a:lnTo>
                      <a:pt x="1339" y="1125"/>
                    </a:lnTo>
                    <a:lnTo>
                      <a:pt x="1345" y="1085"/>
                    </a:lnTo>
                    <a:lnTo>
                      <a:pt x="1350" y="1045"/>
                    </a:lnTo>
                    <a:lnTo>
                      <a:pt x="1350" y="1010"/>
                    </a:lnTo>
                    <a:lnTo>
                      <a:pt x="1339" y="1010"/>
                    </a:lnTo>
                    <a:lnTo>
                      <a:pt x="1350" y="1016"/>
                    </a:lnTo>
                    <a:lnTo>
                      <a:pt x="1356" y="998"/>
                    </a:lnTo>
                    <a:lnTo>
                      <a:pt x="1362" y="987"/>
                    </a:lnTo>
                    <a:lnTo>
                      <a:pt x="1368" y="975"/>
                    </a:lnTo>
                    <a:lnTo>
                      <a:pt x="1356" y="970"/>
                    </a:lnTo>
                    <a:lnTo>
                      <a:pt x="1362" y="981"/>
                    </a:lnTo>
                    <a:lnTo>
                      <a:pt x="1374" y="975"/>
                    </a:lnTo>
                    <a:lnTo>
                      <a:pt x="1374" y="975"/>
                    </a:lnTo>
                    <a:lnTo>
                      <a:pt x="1374" y="970"/>
                    </a:lnTo>
                    <a:lnTo>
                      <a:pt x="1379" y="964"/>
                    </a:lnTo>
                    <a:lnTo>
                      <a:pt x="1374" y="958"/>
                    </a:lnTo>
                    <a:lnTo>
                      <a:pt x="1379" y="970"/>
                    </a:lnTo>
                    <a:lnTo>
                      <a:pt x="1391" y="964"/>
                    </a:lnTo>
                    <a:lnTo>
                      <a:pt x="1385" y="952"/>
                    </a:lnTo>
                    <a:lnTo>
                      <a:pt x="1385" y="964"/>
                    </a:lnTo>
                    <a:lnTo>
                      <a:pt x="1397" y="964"/>
                    </a:lnTo>
                    <a:lnTo>
                      <a:pt x="1408" y="964"/>
                    </a:lnTo>
                    <a:lnTo>
                      <a:pt x="1420" y="964"/>
                    </a:lnTo>
                    <a:lnTo>
                      <a:pt x="1420" y="952"/>
                    </a:lnTo>
                    <a:lnTo>
                      <a:pt x="1420" y="964"/>
                    </a:lnTo>
                    <a:lnTo>
                      <a:pt x="1437" y="970"/>
                    </a:lnTo>
                    <a:lnTo>
                      <a:pt x="1449" y="975"/>
                    </a:lnTo>
                    <a:lnTo>
                      <a:pt x="1460" y="981"/>
                    </a:lnTo>
                    <a:lnTo>
                      <a:pt x="1472" y="987"/>
                    </a:lnTo>
                    <a:lnTo>
                      <a:pt x="1483" y="993"/>
                    </a:lnTo>
                    <a:lnTo>
                      <a:pt x="1500" y="1004"/>
                    </a:lnTo>
                    <a:lnTo>
                      <a:pt x="1500" y="993"/>
                    </a:lnTo>
                    <a:lnTo>
                      <a:pt x="1495" y="998"/>
                    </a:lnTo>
                    <a:lnTo>
                      <a:pt x="1500" y="1010"/>
                    </a:lnTo>
                    <a:lnTo>
                      <a:pt x="1500" y="1010"/>
                    </a:lnTo>
                    <a:lnTo>
                      <a:pt x="1500" y="1010"/>
                    </a:lnTo>
                    <a:lnTo>
                      <a:pt x="1512" y="1021"/>
                    </a:lnTo>
                    <a:lnTo>
                      <a:pt x="1518" y="1027"/>
                    </a:lnTo>
                    <a:lnTo>
                      <a:pt x="1518" y="1027"/>
                    </a:lnTo>
                    <a:lnTo>
                      <a:pt x="1529" y="1033"/>
                    </a:lnTo>
                    <a:lnTo>
                      <a:pt x="1547" y="1039"/>
                    </a:lnTo>
                    <a:lnTo>
                      <a:pt x="1564" y="1045"/>
                    </a:lnTo>
                    <a:lnTo>
                      <a:pt x="1564" y="1045"/>
                    </a:lnTo>
                    <a:lnTo>
                      <a:pt x="1564" y="1045"/>
                    </a:lnTo>
                    <a:lnTo>
                      <a:pt x="1575" y="1045"/>
                    </a:lnTo>
                    <a:lnTo>
                      <a:pt x="1575" y="1033"/>
                    </a:lnTo>
                    <a:lnTo>
                      <a:pt x="1575" y="1045"/>
                    </a:lnTo>
                    <a:lnTo>
                      <a:pt x="1593" y="1050"/>
                    </a:lnTo>
                    <a:lnTo>
                      <a:pt x="1593" y="1050"/>
                    </a:lnTo>
                    <a:lnTo>
                      <a:pt x="1599" y="1050"/>
                    </a:lnTo>
                    <a:lnTo>
                      <a:pt x="1616" y="1045"/>
                    </a:lnTo>
                    <a:lnTo>
                      <a:pt x="1610" y="1033"/>
                    </a:lnTo>
                    <a:lnTo>
                      <a:pt x="1610" y="1045"/>
                    </a:lnTo>
                    <a:lnTo>
                      <a:pt x="1627" y="1045"/>
                    </a:lnTo>
                    <a:lnTo>
                      <a:pt x="1627" y="1045"/>
                    </a:lnTo>
                    <a:lnTo>
                      <a:pt x="1633" y="1045"/>
                    </a:lnTo>
                    <a:lnTo>
                      <a:pt x="1645" y="1039"/>
                    </a:lnTo>
                    <a:lnTo>
                      <a:pt x="1662" y="1033"/>
                    </a:lnTo>
                    <a:lnTo>
                      <a:pt x="1662" y="1033"/>
                    </a:lnTo>
                    <a:lnTo>
                      <a:pt x="1662" y="1027"/>
                    </a:lnTo>
                    <a:lnTo>
                      <a:pt x="1674" y="1016"/>
                    </a:lnTo>
                    <a:lnTo>
                      <a:pt x="1685" y="1004"/>
                    </a:lnTo>
                    <a:lnTo>
                      <a:pt x="1697" y="993"/>
                    </a:lnTo>
                    <a:lnTo>
                      <a:pt x="1702" y="993"/>
                    </a:lnTo>
                    <a:lnTo>
                      <a:pt x="1702" y="993"/>
                    </a:lnTo>
                    <a:lnTo>
                      <a:pt x="1714" y="975"/>
                    </a:lnTo>
                    <a:lnTo>
                      <a:pt x="1720" y="958"/>
                    </a:lnTo>
                    <a:lnTo>
                      <a:pt x="1726" y="935"/>
                    </a:lnTo>
                    <a:lnTo>
                      <a:pt x="1726" y="935"/>
                    </a:lnTo>
                    <a:lnTo>
                      <a:pt x="1726" y="929"/>
                    </a:lnTo>
                    <a:lnTo>
                      <a:pt x="1726" y="918"/>
                    </a:lnTo>
                    <a:lnTo>
                      <a:pt x="1726" y="906"/>
                    </a:lnTo>
                    <a:lnTo>
                      <a:pt x="1726" y="895"/>
                    </a:lnTo>
                    <a:lnTo>
                      <a:pt x="1726" y="883"/>
                    </a:lnTo>
                    <a:lnTo>
                      <a:pt x="1726" y="883"/>
                    </a:lnTo>
                    <a:lnTo>
                      <a:pt x="1720" y="877"/>
                    </a:lnTo>
                    <a:lnTo>
                      <a:pt x="1714" y="871"/>
                    </a:lnTo>
                    <a:lnTo>
                      <a:pt x="1708" y="877"/>
                    </a:lnTo>
                    <a:lnTo>
                      <a:pt x="1720" y="877"/>
                    </a:lnTo>
                    <a:lnTo>
                      <a:pt x="1714" y="866"/>
                    </a:lnTo>
                    <a:lnTo>
                      <a:pt x="1702" y="866"/>
                    </a:lnTo>
                    <a:lnTo>
                      <a:pt x="1714" y="866"/>
                    </a:lnTo>
                    <a:lnTo>
                      <a:pt x="1714" y="854"/>
                    </a:lnTo>
                    <a:lnTo>
                      <a:pt x="1714" y="854"/>
                    </a:lnTo>
                    <a:lnTo>
                      <a:pt x="1708" y="848"/>
                    </a:lnTo>
                    <a:lnTo>
                      <a:pt x="1702" y="843"/>
                    </a:lnTo>
                    <a:lnTo>
                      <a:pt x="1697" y="848"/>
                    </a:lnTo>
                    <a:lnTo>
                      <a:pt x="1708" y="848"/>
                    </a:lnTo>
                    <a:lnTo>
                      <a:pt x="1697" y="831"/>
                    </a:lnTo>
                    <a:lnTo>
                      <a:pt x="1691" y="825"/>
                    </a:lnTo>
                    <a:lnTo>
                      <a:pt x="1691" y="825"/>
                    </a:lnTo>
                    <a:lnTo>
                      <a:pt x="1674" y="814"/>
                    </a:lnTo>
                    <a:lnTo>
                      <a:pt x="1656" y="802"/>
                    </a:lnTo>
                    <a:lnTo>
                      <a:pt x="1639" y="791"/>
                    </a:lnTo>
                    <a:lnTo>
                      <a:pt x="1622" y="785"/>
                    </a:lnTo>
                    <a:lnTo>
                      <a:pt x="1604" y="779"/>
                    </a:lnTo>
                    <a:lnTo>
                      <a:pt x="1604" y="779"/>
                    </a:lnTo>
                    <a:lnTo>
                      <a:pt x="1599" y="779"/>
                    </a:lnTo>
                    <a:lnTo>
                      <a:pt x="1575" y="779"/>
                    </a:lnTo>
                    <a:lnTo>
                      <a:pt x="1558" y="779"/>
                    </a:lnTo>
                    <a:lnTo>
                      <a:pt x="1558" y="779"/>
                    </a:lnTo>
                    <a:lnTo>
                      <a:pt x="1558" y="779"/>
                    </a:lnTo>
                    <a:lnTo>
                      <a:pt x="1541" y="785"/>
                    </a:lnTo>
                    <a:lnTo>
                      <a:pt x="1524" y="791"/>
                    </a:lnTo>
                    <a:lnTo>
                      <a:pt x="1524" y="796"/>
                    </a:lnTo>
                    <a:lnTo>
                      <a:pt x="1524" y="791"/>
                    </a:lnTo>
                    <a:lnTo>
                      <a:pt x="1518" y="791"/>
                    </a:lnTo>
                    <a:lnTo>
                      <a:pt x="1518" y="791"/>
                    </a:lnTo>
                    <a:lnTo>
                      <a:pt x="1512" y="791"/>
                    </a:lnTo>
                    <a:lnTo>
                      <a:pt x="1506" y="796"/>
                    </a:lnTo>
                    <a:lnTo>
                      <a:pt x="1500" y="802"/>
                    </a:lnTo>
                    <a:lnTo>
                      <a:pt x="1500" y="808"/>
                    </a:lnTo>
                    <a:lnTo>
                      <a:pt x="1500" y="808"/>
                    </a:lnTo>
                    <a:lnTo>
                      <a:pt x="1495" y="820"/>
                    </a:lnTo>
                    <a:lnTo>
                      <a:pt x="1500" y="820"/>
                    </a:lnTo>
                    <a:lnTo>
                      <a:pt x="1495" y="814"/>
                    </a:lnTo>
                    <a:lnTo>
                      <a:pt x="1483" y="825"/>
                    </a:lnTo>
                    <a:lnTo>
                      <a:pt x="1472" y="837"/>
                    </a:lnTo>
                    <a:lnTo>
                      <a:pt x="1477" y="843"/>
                    </a:lnTo>
                    <a:lnTo>
                      <a:pt x="1477" y="837"/>
                    </a:lnTo>
                    <a:lnTo>
                      <a:pt x="1466" y="843"/>
                    </a:lnTo>
                    <a:lnTo>
                      <a:pt x="1454" y="848"/>
                    </a:lnTo>
                    <a:lnTo>
                      <a:pt x="1454" y="854"/>
                    </a:lnTo>
                    <a:lnTo>
                      <a:pt x="1454" y="848"/>
                    </a:lnTo>
                    <a:lnTo>
                      <a:pt x="1443" y="848"/>
                    </a:lnTo>
                    <a:lnTo>
                      <a:pt x="1425" y="848"/>
                    </a:lnTo>
                    <a:lnTo>
                      <a:pt x="1414" y="848"/>
                    </a:lnTo>
                    <a:lnTo>
                      <a:pt x="1414" y="854"/>
                    </a:lnTo>
                    <a:lnTo>
                      <a:pt x="1420" y="848"/>
                    </a:lnTo>
                    <a:lnTo>
                      <a:pt x="1408" y="843"/>
                    </a:lnTo>
                    <a:lnTo>
                      <a:pt x="1408" y="843"/>
                    </a:lnTo>
                    <a:lnTo>
                      <a:pt x="1402" y="843"/>
                    </a:lnTo>
                    <a:lnTo>
                      <a:pt x="1391" y="843"/>
                    </a:lnTo>
                    <a:lnTo>
                      <a:pt x="1391" y="848"/>
                    </a:lnTo>
                    <a:lnTo>
                      <a:pt x="1397" y="843"/>
                    </a:lnTo>
                    <a:lnTo>
                      <a:pt x="1385" y="837"/>
                    </a:lnTo>
                    <a:lnTo>
                      <a:pt x="1379" y="843"/>
                    </a:lnTo>
                    <a:lnTo>
                      <a:pt x="1385" y="837"/>
                    </a:lnTo>
                    <a:lnTo>
                      <a:pt x="1374" y="825"/>
                    </a:lnTo>
                    <a:lnTo>
                      <a:pt x="1374" y="825"/>
                    </a:lnTo>
                    <a:lnTo>
                      <a:pt x="1374" y="825"/>
                    </a:lnTo>
                    <a:lnTo>
                      <a:pt x="1362" y="820"/>
                    </a:lnTo>
                    <a:lnTo>
                      <a:pt x="1356" y="825"/>
                    </a:lnTo>
                    <a:lnTo>
                      <a:pt x="1362" y="820"/>
                    </a:lnTo>
                    <a:lnTo>
                      <a:pt x="1356" y="814"/>
                    </a:lnTo>
                    <a:lnTo>
                      <a:pt x="1350" y="820"/>
                    </a:lnTo>
                    <a:lnTo>
                      <a:pt x="1362" y="820"/>
                    </a:lnTo>
                    <a:lnTo>
                      <a:pt x="1356" y="808"/>
                    </a:lnTo>
                    <a:lnTo>
                      <a:pt x="1356" y="808"/>
                    </a:lnTo>
                    <a:lnTo>
                      <a:pt x="1350" y="802"/>
                    </a:lnTo>
                    <a:lnTo>
                      <a:pt x="1345" y="796"/>
                    </a:lnTo>
                    <a:lnTo>
                      <a:pt x="1339" y="802"/>
                    </a:lnTo>
                    <a:lnTo>
                      <a:pt x="1350" y="802"/>
                    </a:lnTo>
                    <a:lnTo>
                      <a:pt x="1350" y="791"/>
                    </a:lnTo>
                    <a:lnTo>
                      <a:pt x="1350" y="762"/>
                    </a:lnTo>
                    <a:lnTo>
                      <a:pt x="1350" y="721"/>
                    </a:lnTo>
                    <a:lnTo>
                      <a:pt x="1350" y="658"/>
                    </a:lnTo>
                    <a:lnTo>
                      <a:pt x="1350" y="595"/>
                    </a:lnTo>
                    <a:lnTo>
                      <a:pt x="1350" y="531"/>
                    </a:lnTo>
                    <a:lnTo>
                      <a:pt x="1350" y="462"/>
                    </a:lnTo>
                    <a:lnTo>
                      <a:pt x="1350" y="404"/>
                    </a:lnTo>
                    <a:lnTo>
                      <a:pt x="1350" y="358"/>
                    </a:lnTo>
                    <a:lnTo>
                      <a:pt x="1350" y="346"/>
                    </a:lnTo>
                    <a:lnTo>
                      <a:pt x="1339" y="352"/>
                    </a:lnTo>
                    <a:lnTo>
                      <a:pt x="1322" y="358"/>
                    </a:lnTo>
                    <a:lnTo>
                      <a:pt x="1304" y="370"/>
                    </a:lnTo>
                    <a:lnTo>
                      <a:pt x="1304" y="375"/>
                    </a:lnTo>
                    <a:lnTo>
                      <a:pt x="1304" y="370"/>
                    </a:lnTo>
                    <a:lnTo>
                      <a:pt x="1281" y="375"/>
                    </a:lnTo>
                    <a:lnTo>
                      <a:pt x="1258" y="381"/>
                    </a:lnTo>
                    <a:lnTo>
                      <a:pt x="1235" y="387"/>
                    </a:lnTo>
                    <a:lnTo>
                      <a:pt x="1212" y="387"/>
                    </a:lnTo>
                    <a:lnTo>
                      <a:pt x="1183" y="387"/>
                    </a:lnTo>
                    <a:lnTo>
                      <a:pt x="1154" y="387"/>
                    </a:lnTo>
                    <a:lnTo>
                      <a:pt x="1131" y="387"/>
                    </a:lnTo>
                    <a:lnTo>
                      <a:pt x="1102" y="387"/>
                    </a:lnTo>
                    <a:lnTo>
                      <a:pt x="1073" y="381"/>
                    </a:lnTo>
                    <a:lnTo>
                      <a:pt x="1050" y="375"/>
                    </a:lnTo>
                    <a:lnTo>
                      <a:pt x="1027" y="370"/>
                    </a:lnTo>
                    <a:lnTo>
                      <a:pt x="1004" y="364"/>
                    </a:lnTo>
                    <a:lnTo>
                      <a:pt x="981" y="358"/>
                    </a:lnTo>
                    <a:lnTo>
                      <a:pt x="981" y="364"/>
                    </a:lnTo>
                    <a:lnTo>
                      <a:pt x="987" y="358"/>
                    </a:lnTo>
                    <a:lnTo>
                      <a:pt x="970" y="352"/>
                    </a:lnTo>
                    <a:lnTo>
                      <a:pt x="958" y="346"/>
                    </a:lnTo>
                    <a:lnTo>
                      <a:pt x="952" y="352"/>
                    </a:lnTo>
                    <a:lnTo>
                      <a:pt x="958" y="346"/>
                    </a:lnTo>
                    <a:lnTo>
                      <a:pt x="946" y="335"/>
                    </a:lnTo>
                    <a:lnTo>
                      <a:pt x="946" y="335"/>
                    </a:lnTo>
                    <a:lnTo>
                      <a:pt x="946" y="335"/>
                    </a:lnTo>
                    <a:lnTo>
                      <a:pt x="935" y="329"/>
                    </a:lnTo>
                    <a:lnTo>
                      <a:pt x="923" y="323"/>
                    </a:lnTo>
                    <a:lnTo>
                      <a:pt x="918" y="329"/>
                    </a:lnTo>
                    <a:lnTo>
                      <a:pt x="923" y="323"/>
                    </a:lnTo>
                    <a:lnTo>
                      <a:pt x="918" y="318"/>
                    </a:lnTo>
                    <a:lnTo>
                      <a:pt x="912" y="312"/>
                    </a:lnTo>
                    <a:lnTo>
                      <a:pt x="906" y="318"/>
                    </a:lnTo>
                    <a:lnTo>
                      <a:pt x="918" y="318"/>
                    </a:lnTo>
                    <a:lnTo>
                      <a:pt x="918" y="306"/>
                    </a:lnTo>
                    <a:lnTo>
                      <a:pt x="918" y="300"/>
                    </a:lnTo>
                    <a:lnTo>
                      <a:pt x="918" y="295"/>
                    </a:lnTo>
                    <a:lnTo>
                      <a:pt x="918" y="283"/>
                    </a:lnTo>
                    <a:lnTo>
                      <a:pt x="906" y="283"/>
                    </a:lnTo>
                    <a:lnTo>
                      <a:pt x="912" y="289"/>
                    </a:lnTo>
                    <a:lnTo>
                      <a:pt x="918" y="283"/>
                    </a:lnTo>
                    <a:lnTo>
                      <a:pt x="923" y="283"/>
                    </a:lnTo>
                    <a:lnTo>
                      <a:pt x="923" y="283"/>
                    </a:lnTo>
                    <a:lnTo>
                      <a:pt x="929" y="271"/>
                    </a:lnTo>
                    <a:lnTo>
                      <a:pt x="941" y="248"/>
                    </a:lnTo>
                    <a:lnTo>
                      <a:pt x="929" y="243"/>
                    </a:lnTo>
                    <a:lnTo>
                      <a:pt x="935" y="248"/>
                    </a:lnTo>
                    <a:lnTo>
                      <a:pt x="958" y="225"/>
                    </a:lnTo>
                    <a:lnTo>
                      <a:pt x="970" y="214"/>
                    </a:lnTo>
                    <a:lnTo>
                      <a:pt x="975" y="214"/>
                    </a:lnTo>
                    <a:lnTo>
                      <a:pt x="975" y="214"/>
                    </a:lnTo>
                    <a:lnTo>
                      <a:pt x="987" y="196"/>
                    </a:lnTo>
                    <a:lnTo>
                      <a:pt x="993" y="179"/>
                    </a:lnTo>
                    <a:lnTo>
                      <a:pt x="998" y="162"/>
                    </a:lnTo>
                    <a:lnTo>
                      <a:pt x="998" y="162"/>
                    </a:lnTo>
                    <a:lnTo>
                      <a:pt x="998" y="156"/>
                    </a:lnTo>
                    <a:lnTo>
                      <a:pt x="998" y="139"/>
                    </a:lnTo>
                    <a:lnTo>
                      <a:pt x="998" y="121"/>
                    </a:lnTo>
                    <a:lnTo>
                      <a:pt x="998" y="104"/>
                    </a:lnTo>
                    <a:lnTo>
                      <a:pt x="998" y="104"/>
                    </a:lnTo>
                    <a:lnTo>
                      <a:pt x="998" y="104"/>
                    </a:lnTo>
                    <a:lnTo>
                      <a:pt x="993" y="87"/>
                    </a:lnTo>
                    <a:lnTo>
                      <a:pt x="987" y="70"/>
                    </a:lnTo>
                    <a:lnTo>
                      <a:pt x="975" y="52"/>
                    </a:lnTo>
                    <a:lnTo>
                      <a:pt x="975" y="52"/>
                    </a:lnTo>
                    <a:lnTo>
                      <a:pt x="970" y="46"/>
                    </a:lnTo>
                    <a:lnTo>
                      <a:pt x="964" y="41"/>
                    </a:lnTo>
                    <a:lnTo>
                      <a:pt x="964" y="41"/>
                    </a:lnTo>
                    <a:lnTo>
                      <a:pt x="964" y="41"/>
                    </a:lnTo>
                    <a:lnTo>
                      <a:pt x="952" y="35"/>
                    </a:lnTo>
                    <a:lnTo>
                      <a:pt x="946" y="41"/>
                    </a:lnTo>
                    <a:lnTo>
                      <a:pt x="952" y="35"/>
                    </a:lnTo>
                    <a:lnTo>
                      <a:pt x="946" y="29"/>
                    </a:lnTo>
                    <a:lnTo>
                      <a:pt x="946" y="29"/>
                    </a:lnTo>
                    <a:lnTo>
                      <a:pt x="946" y="29"/>
                    </a:lnTo>
                    <a:lnTo>
                      <a:pt x="935" y="23"/>
                    </a:lnTo>
                    <a:lnTo>
                      <a:pt x="929" y="29"/>
                    </a:lnTo>
                    <a:lnTo>
                      <a:pt x="935" y="23"/>
                    </a:lnTo>
                    <a:lnTo>
                      <a:pt x="929" y="18"/>
                    </a:lnTo>
                    <a:lnTo>
                      <a:pt x="929" y="18"/>
                    </a:lnTo>
                    <a:lnTo>
                      <a:pt x="929" y="18"/>
                    </a:lnTo>
                    <a:lnTo>
                      <a:pt x="918" y="12"/>
                    </a:lnTo>
                    <a:lnTo>
                      <a:pt x="918" y="12"/>
                    </a:lnTo>
                    <a:lnTo>
                      <a:pt x="912" y="12"/>
                    </a:lnTo>
                    <a:lnTo>
                      <a:pt x="900" y="12"/>
                    </a:lnTo>
                    <a:lnTo>
                      <a:pt x="900" y="18"/>
                    </a:lnTo>
                    <a:lnTo>
                      <a:pt x="906" y="12"/>
                    </a:lnTo>
                    <a:lnTo>
                      <a:pt x="895" y="6"/>
                    </a:lnTo>
                    <a:lnTo>
                      <a:pt x="895" y="6"/>
                    </a:lnTo>
                    <a:lnTo>
                      <a:pt x="889" y="6"/>
                    </a:lnTo>
                    <a:lnTo>
                      <a:pt x="871" y="6"/>
                    </a:lnTo>
                    <a:lnTo>
                      <a:pt x="871" y="12"/>
                    </a:lnTo>
                    <a:lnTo>
                      <a:pt x="877" y="6"/>
                    </a:lnTo>
                    <a:lnTo>
                      <a:pt x="866" y="0"/>
                    </a:lnTo>
                    <a:lnTo>
                      <a:pt x="866" y="0"/>
                    </a:lnTo>
                    <a:lnTo>
                      <a:pt x="860" y="0"/>
                    </a:lnTo>
                    <a:lnTo>
                      <a:pt x="848" y="0"/>
                    </a:lnTo>
                    <a:lnTo>
                      <a:pt x="831" y="0"/>
                    </a:lnTo>
                    <a:lnTo>
                      <a:pt x="820" y="0"/>
                    </a:lnTo>
                    <a:lnTo>
                      <a:pt x="820" y="0"/>
                    </a:lnTo>
                    <a:lnTo>
                      <a:pt x="820" y="0"/>
                    </a:lnTo>
                    <a:lnTo>
                      <a:pt x="802" y="6"/>
                    </a:lnTo>
                    <a:lnTo>
                      <a:pt x="802" y="12"/>
                    </a:lnTo>
                    <a:lnTo>
                      <a:pt x="802" y="6"/>
                    </a:lnTo>
                    <a:lnTo>
                      <a:pt x="791" y="6"/>
                    </a:lnTo>
                    <a:lnTo>
                      <a:pt x="779" y="6"/>
                    </a:lnTo>
                    <a:lnTo>
                      <a:pt x="779" y="6"/>
                    </a:lnTo>
                    <a:lnTo>
                      <a:pt x="773" y="6"/>
                    </a:lnTo>
                    <a:lnTo>
                      <a:pt x="768" y="12"/>
                    </a:lnTo>
                    <a:lnTo>
                      <a:pt x="773" y="18"/>
                    </a:lnTo>
                    <a:lnTo>
                      <a:pt x="773" y="12"/>
                    </a:lnTo>
                    <a:lnTo>
                      <a:pt x="762" y="18"/>
                    </a:lnTo>
                    <a:lnTo>
                      <a:pt x="762" y="18"/>
                    </a:lnTo>
                    <a:lnTo>
                      <a:pt x="756" y="18"/>
                    </a:lnTo>
                    <a:lnTo>
                      <a:pt x="750" y="23"/>
                    </a:lnTo>
                    <a:lnTo>
                      <a:pt x="756" y="29"/>
                    </a:lnTo>
                    <a:lnTo>
                      <a:pt x="756" y="23"/>
                    </a:lnTo>
                    <a:lnTo>
                      <a:pt x="745" y="29"/>
                    </a:lnTo>
                    <a:lnTo>
                      <a:pt x="745" y="29"/>
                    </a:lnTo>
                    <a:lnTo>
                      <a:pt x="739" y="29"/>
                    </a:lnTo>
                    <a:lnTo>
                      <a:pt x="733" y="35"/>
                    </a:lnTo>
                    <a:lnTo>
                      <a:pt x="727" y="41"/>
                    </a:lnTo>
                    <a:lnTo>
                      <a:pt x="721" y="46"/>
                    </a:lnTo>
                    <a:lnTo>
                      <a:pt x="721" y="52"/>
                    </a:lnTo>
                    <a:lnTo>
                      <a:pt x="721" y="52"/>
                    </a:lnTo>
                    <a:lnTo>
                      <a:pt x="716" y="64"/>
                    </a:lnTo>
                    <a:lnTo>
                      <a:pt x="710" y="81"/>
                    </a:lnTo>
                    <a:lnTo>
                      <a:pt x="704" y="98"/>
                    </a:lnTo>
                    <a:lnTo>
                      <a:pt x="704" y="98"/>
                    </a:lnTo>
                    <a:lnTo>
                      <a:pt x="704" y="98"/>
                    </a:lnTo>
                    <a:lnTo>
                      <a:pt x="704" y="116"/>
                    </a:lnTo>
                    <a:lnTo>
                      <a:pt x="704" y="133"/>
                    </a:lnTo>
                    <a:lnTo>
                      <a:pt x="704" y="156"/>
                    </a:lnTo>
                    <a:lnTo>
                      <a:pt x="704" y="162"/>
                    </a:lnTo>
                    <a:lnTo>
                      <a:pt x="704" y="162"/>
                    </a:lnTo>
                    <a:lnTo>
                      <a:pt x="710" y="179"/>
                    </a:lnTo>
                    <a:lnTo>
                      <a:pt x="716" y="202"/>
                    </a:lnTo>
                    <a:lnTo>
                      <a:pt x="727" y="220"/>
                    </a:lnTo>
                    <a:lnTo>
                      <a:pt x="733" y="237"/>
                    </a:lnTo>
                    <a:lnTo>
                      <a:pt x="733" y="237"/>
                    </a:lnTo>
                    <a:lnTo>
                      <a:pt x="739" y="243"/>
                    </a:lnTo>
                    <a:lnTo>
                      <a:pt x="756" y="254"/>
                    </a:lnTo>
                    <a:lnTo>
                      <a:pt x="756" y="243"/>
                    </a:lnTo>
                    <a:lnTo>
                      <a:pt x="750" y="248"/>
                    </a:lnTo>
                    <a:lnTo>
                      <a:pt x="756" y="260"/>
                    </a:lnTo>
                    <a:lnTo>
                      <a:pt x="756" y="260"/>
                    </a:lnTo>
                    <a:lnTo>
                      <a:pt x="756" y="260"/>
                    </a:lnTo>
                    <a:lnTo>
                      <a:pt x="768" y="271"/>
                    </a:lnTo>
                    <a:lnTo>
                      <a:pt x="773" y="266"/>
                    </a:lnTo>
                    <a:lnTo>
                      <a:pt x="768" y="266"/>
                    </a:lnTo>
                    <a:lnTo>
                      <a:pt x="768" y="277"/>
                    </a:lnTo>
                    <a:lnTo>
                      <a:pt x="768" y="283"/>
                    </a:lnTo>
                    <a:lnTo>
                      <a:pt x="768" y="283"/>
                    </a:lnTo>
                    <a:lnTo>
                      <a:pt x="773" y="295"/>
                    </a:lnTo>
                    <a:lnTo>
                      <a:pt x="779" y="289"/>
                    </a:lnTo>
                    <a:lnTo>
                      <a:pt x="773" y="289"/>
                    </a:lnTo>
                    <a:lnTo>
                      <a:pt x="773" y="300"/>
                    </a:lnTo>
                    <a:lnTo>
                      <a:pt x="773" y="312"/>
                    </a:lnTo>
                    <a:lnTo>
                      <a:pt x="779" y="312"/>
                    </a:lnTo>
                    <a:lnTo>
                      <a:pt x="773" y="312"/>
                    </a:lnTo>
                    <a:lnTo>
                      <a:pt x="768" y="323"/>
                    </a:lnTo>
                    <a:lnTo>
                      <a:pt x="762" y="335"/>
                    </a:lnTo>
                    <a:lnTo>
                      <a:pt x="768" y="335"/>
                    </a:lnTo>
                    <a:lnTo>
                      <a:pt x="762" y="329"/>
                    </a:lnTo>
                    <a:lnTo>
                      <a:pt x="756" y="335"/>
                    </a:lnTo>
                    <a:lnTo>
                      <a:pt x="745" y="346"/>
                    </a:lnTo>
                    <a:lnTo>
                      <a:pt x="750" y="352"/>
                    </a:lnTo>
                    <a:lnTo>
                      <a:pt x="750" y="346"/>
                    </a:lnTo>
                    <a:lnTo>
                      <a:pt x="733" y="352"/>
                    </a:lnTo>
                    <a:lnTo>
                      <a:pt x="733" y="358"/>
                    </a:lnTo>
                    <a:lnTo>
                      <a:pt x="733" y="352"/>
                    </a:lnTo>
                    <a:lnTo>
                      <a:pt x="721" y="352"/>
                    </a:lnTo>
                    <a:lnTo>
                      <a:pt x="704" y="352"/>
                    </a:lnTo>
                    <a:lnTo>
                      <a:pt x="687" y="352"/>
                    </a:lnTo>
                    <a:lnTo>
                      <a:pt x="664" y="346"/>
                    </a:lnTo>
                    <a:lnTo>
                      <a:pt x="664" y="352"/>
                    </a:lnTo>
                    <a:lnTo>
                      <a:pt x="669" y="346"/>
                    </a:lnTo>
                    <a:lnTo>
                      <a:pt x="646" y="335"/>
                    </a:lnTo>
                    <a:lnTo>
                      <a:pt x="646" y="335"/>
                    </a:lnTo>
                    <a:lnTo>
                      <a:pt x="641" y="335"/>
                    </a:lnTo>
                    <a:lnTo>
                      <a:pt x="623" y="335"/>
                    </a:lnTo>
                    <a:lnTo>
                      <a:pt x="623" y="341"/>
                    </a:lnTo>
                    <a:lnTo>
                      <a:pt x="629" y="335"/>
                    </a:lnTo>
                    <a:lnTo>
                      <a:pt x="618" y="329"/>
                    </a:lnTo>
                    <a:lnTo>
                      <a:pt x="600" y="323"/>
                    </a:lnTo>
                    <a:lnTo>
                      <a:pt x="600" y="323"/>
                    </a:lnTo>
                    <a:lnTo>
                      <a:pt x="594" y="323"/>
                    </a:lnTo>
                    <a:lnTo>
                      <a:pt x="577" y="323"/>
                    </a:lnTo>
                    <a:lnTo>
                      <a:pt x="543" y="323"/>
                    </a:lnTo>
                    <a:lnTo>
                      <a:pt x="502" y="323"/>
                    </a:lnTo>
                    <a:lnTo>
                      <a:pt x="462" y="329"/>
                    </a:lnTo>
                    <a:lnTo>
                      <a:pt x="421" y="335"/>
                    </a:lnTo>
                    <a:lnTo>
                      <a:pt x="381" y="341"/>
                    </a:lnTo>
                    <a:lnTo>
                      <a:pt x="375" y="341"/>
                    </a:lnTo>
                    <a:lnTo>
                      <a:pt x="381" y="341"/>
                    </a:lnTo>
                    <a:lnTo>
                      <a:pt x="341" y="352"/>
                    </a:lnTo>
                    <a:lnTo>
                      <a:pt x="335" y="352"/>
                    </a:lnTo>
                    <a:lnTo>
                      <a:pt x="335" y="358"/>
                    </a:lnTo>
                    <a:lnTo>
                      <a:pt x="335" y="364"/>
                    </a:lnTo>
                    <a:lnTo>
                      <a:pt x="335" y="387"/>
                    </a:lnTo>
                    <a:lnTo>
                      <a:pt x="335" y="404"/>
                    </a:lnTo>
                    <a:lnTo>
                      <a:pt x="335" y="433"/>
                    </a:lnTo>
                    <a:lnTo>
                      <a:pt x="341" y="491"/>
                    </a:lnTo>
                    <a:lnTo>
                      <a:pt x="346" y="560"/>
                    </a:lnTo>
                    <a:lnTo>
                      <a:pt x="352" y="589"/>
                    </a:lnTo>
                    <a:lnTo>
                      <a:pt x="352" y="623"/>
                    </a:lnTo>
                    <a:lnTo>
                      <a:pt x="352" y="658"/>
                    </a:lnTo>
                    <a:lnTo>
                      <a:pt x="352" y="658"/>
                    </a:lnTo>
                    <a:lnTo>
                      <a:pt x="352" y="664"/>
                    </a:lnTo>
                    <a:lnTo>
                      <a:pt x="358" y="687"/>
                    </a:lnTo>
                    <a:lnTo>
                      <a:pt x="364" y="681"/>
                    </a:lnTo>
                    <a:lnTo>
                      <a:pt x="358" y="681"/>
                    </a:lnTo>
                    <a:lnTo>
                      <a:pt x="352" y="710"/>
                    </a:lnTo>
                    <a:lnTo>
                      <a:pt x="352" y="733"/>
                    </a:lnTo>
                    <a:lnTo>
                      <a:pt x="358" y="733"/>
                    </a:lnTo>
                    <a:lnTo>
                      <a:pt x="352" y="733"/>
                    </a:lnTo>
                    <a:lnTo>
                      <a:pt x="346" y="745"/>
                    </a:lnTo>
                    <a:lnTo>
                      <a:pt x="346" y="745"/>
                    </a:lnTo>
                    <a:lnTo>
                      <a:pt x="346" y="745"/>
                    </a:lnTo>
                    <a:lnTo>
                      <a:pt x="346" y="750"/>
                    </a:lnTo>
                    <a:lnTo>
                      <a:pt x="352" y="750"/>
                    </a:lnTo>
                    <a:lnTo>
                      <a:pt x="346" y="745"/>
                    </a:lnTo>
                    <a:lnTo>
                      <a:pt x="341" y="750"/>
                    </a:lnTo>
                    <a:lnTo>
                      <a:pt x="335" y="756"/>
                    </a:lnTo>
                    <a:lnTo>
                      <a:pt x="329" y="762"/>
                    </a:lnTo>
                    <a:close/>
                    <a:moveTo>
                      <a:pt x="346" y="768"/>
                    </a:moveTo>
                    <a:lnTo>
                      <a:pt x="352" y="762"/>
                    </a:lnTo>
                    <a:lnTo>
                      <a:pt x="358" y="756"/>
                    </a:lnTo>
                    <a:lnTo>
                      <a:pt x="364" y="756"/>
                    </a:lnTo>
                    <a:lnTo>
                      <a:pt x="364" y="750"/>
                    </a:lnTo>
                    <a:lnTo>
                      <a:pt x="364" y="745"/>
                    </a:lnTo>
                    <a:lnTo>
                      <a:pt x="352" y="745"/>
                    </a:lnTo>
                    <a:lnTo>
                      <a:pt x="364" y="750"/>
                    </a:lnTo>
                    <a:lnTo>
                      <a:pt x="369" y="739"/>
                    </a:lnTo>
                    <a:lnTo>
                      <a:pt x="369" y="739"/>
                    </a:lnTo>
                    <a:lnTo>
                      <a:pt x="369" y="733"/>
                    </a:lnTo>
                    <a:lnTo>
                      <a:pt x="369" y="710"/>
                    </a:lnTo>
                    <a:lnTo>
                      <a:pt x="375" y="681"/>
                    </a:lnTo>
                    <a:lnTo>
                      <a:pt x="375" y="681"/>
                    </a:lnTo>
                    <a:lnTo>
                      <a:pt x="375" y="681"/>
                    </a:lnTo>
                    <a:lnTo>
                      <a:pt x="369" y="658"/>
                    </a:lnTo>
                    <a:lnTo>
                      <a:pt x="358" y="658"/>
                    </a:lnTo>
                    <a:lnTo>
                      <a:pt x="369" y="658"/>
                    </a:lnTo>
                    <a:lnTo>
                      <a:pt x="369" y="623"/>
                    </a:lnTo>
                    <a:lnTo>
                      <a:pt x="369" y="589"/>
                    </a:lnTo>
                    <a:lnTo>
                      <a:pt x="364" y="560"/>
                    </a:lnTo>
                    <a:lnTo>
                      <a:pt x="358" y="491"/>
                    </a:lnTo>
                    <a:lnTo>
                      <a:pt x="352" y="433"/>
                    </a:lnTo>
                    <a:lnTo>
                      <a:pt x="352" y="404"/>
                    </a:lnTo>
                    <a:lnTo>
                      <a:pt x="352" y="387"/>
                    </a:lnTo>
                    <a:lnTo>
                      <a:pt x="352" y="364"/>
                    </a:lnTo>
                    <a:lnTo>
                      <a:pt x="352" y="358"/>
                    </a:lnTo>
                    <a:lnTo>
                      <a:pt x="341" y="358"/>
                    </a:lnTo>
                    <a:lnTo>
                      <a:pt x="346" y="370"/>
                    </a:lnTo>
                    <a:lnTo>
                      <a:pt x="387" y="358"/>
                    </a:lnTo>
                    <a:lnTo>
                      <a:pt x="381" y="346"/>
                    </a:lnTo>
                    <a:lnTo>
                      <a:pt x="381" y="358"/>
                    </a:lnTo>
                    <a:lnTo>
                      <a:pt x="421" y="352"/>
                    </a:lnTo>
                    <a:lnTo>
                      <a:pt x="462" y="346"/>
                    </a:lnTo>
                    <a:lnTo>
                      <a:pt x="502" y="341"/>
                    </a:lnTo>
                    <a:lnTo>
                      <a:pt x="543" y="341"/>
                    </a:lnTo>
                    <a:lnTo>
                      <a:pt x="577" y="341"/>
                    </a:lnTo>
                    <a:lnTo>
                      <a:pt x="594" y="341"/>
                    </a:lnTo>
                    <a:lnTo>
                      <a:pt x="594" y="329"/>
                    </a:lnTo>
                    <a:lnTo>
                      <a:pt x="594" y="341"/>
                    </a:lnTo>
                    <a:lnTo>
                      <a:pt x="612" y="346"/>
                    </a:lnTo>
                    <a:lnTo>
                      <a:pt x="623" y="352"/>
                    </a:lnTo>
                    <a:lnTo>
                      <a:pt x="623" y="352"/>
                    </a:lnTo>
                    <a:lnTo>
                      <a:pt x="623" y="352"/>
                    </a:lnTo>
                    <a:lnTo>
                      <a:pt x="641" y="352"/>
                    </a:lnTo>
                    <a:lnTo>
                      <a:pt x="641" y="341"/>
                    </a:lnTo>
                    <a:lnTo>
                      <a:pt x="641" y="352"/>
                    </a:lnTo>
                    <a:lnTo>
                      <a:pt x="664" y="364"/>
                    </a:lnTo>
                    <a:lnTo>
                      <a:pt x="658" y="358"/>
                    </a:lnTo>
                    <a:lnTo>
                      <a:pt x="664" y="364"/>
                    </a:lnTo>
                    <a:lnTo>
                      <a:pt x="687" y="370"/>
                    </a:lnTo>
                    <a:lnTo>
                      <a:pt x="704" y="370"/>
                    </a:lnTo>
                    <a:lnTo>
                      <a:pt x="721" y="370"/>
                    </a:lnTo>
                    <a:lnTo>
                      <a:pt x="733" y="370"/>
                    </a:lnTo>
                    <a:lnTo>
                      <a:pt x="739" y="370"/>
                    </a:lnTo>
                    <a:lnTo>
                      <a:pt x="739" y="370"/>
                    </a:lnTo>
                    <a:lnTo>
                      <a:pt x="756" y="364"/>
                    </a:lnTo>
                    <a:lnTo>
                      <a:pt x="756" y="364"/>
                    </a:lnTo>
                    <a:lnTo>
                      <a:pt x="756" y="358"/>
                    </a:lnTo>
                    <a:lnTo>
                      <a:pt x="768" y="346"/>
                    </a:lnTo>
                    <a:lnTo>
                      <a:pt x="773" y="341"/>
                    </a:lnTo>
                    <a:lnTo>
                      <a:pt x="779" y="341"/>
                    </a:lnTo>
                    <a:lnTo>
                      <a:pt x="779" y="341"/>
                    </a:lnTo>
                    <a:lnTo>
                      <a:pt x="785" y="329"/>
                    </a:lnTo>
                    <a:lnTo>
                      <a:pt x="791" y="318"/>
                    </a:lnTo>
                    <a:lnTo>
                      <a:pt x="791" y="318"/>
                    </a:lnTo>
                    <a:lnTo>
                      <a:pt x="791" y="312"/>
                    </a:lnTo>
                    <a:lnTo>
                      <a:pt x="791" y="300"/>
                    </a:lnTo>
                    <a:lnTo>
                      <a:pt x="791" y="289"/>
                    </a:lnTo>
                    <a:lnTo>
                      <a:pt x="791" y="289"/>
                    </a:lnTo>
                    <a:lnTo>
                      <a:pt x="791" y="289"/>
                    </a:lnTo>
                    <a:lnTo>
                      <a:pt x="785" y="277"/>
                    </a:lnTo>
                    <a:lnTo>
                      <a:pt x="773" y="277"/>
                    </a:lnTo>
                    <a:lnTo>
                      <a:pt x="785" y="277"/>
                    </a:lnTo>
                    <a:lnTo>
                      <a:pt x="785" y="266"/>
                    </a:lnTo>
                    <a:lnTo>
                      <a:pt x="785" y="266"/>
                    </a:lnTo>
                    <a:lnTo>
                      <a:pt x="779" y="260"/>
                    </a:lnTo>
                    <a:lnTo>
                      <a:pt x="768" y="248"/>
                    </a:lnTo>
                    <a:lnTo>
                      <a:pt x="762" y="254"/>
                    </a:lnTo>
                    <a:lnTo>
                      <a:pt x="773" y="254"/>
                    </a:lnTo>
                    <a:lnTo>
                      <a:pt x="768" y="243"/>
                    </a:lnTo>
                    <a:lnTo>
                      <a:pt x="762" y="237"/>
                    </a:lnTo>
                    <a:lnTo>
                      <a:pt x="762" y="237"/>
                    </a:lnTo>
                    <a:lnTo>
                      <a:pt x="745" y="225"/>
                    </a:lnTo>
                    <a:lnTo>
                      <a:pt x="739" y="231"/>
                    </a:lnTo>
                    <a:lnTo>
                      <a:pt x="750" y="231"/>
                    </a:lnTo>
                    <a:lnTo>
                      <a:pt x="745" y="214"/>
                    </a:lnTo>
                    <a:lnTo>
                      <a:pt x="733" y="196"/>
                    </a:lnTo>
                    <a:lnTo>
                      <a:pt x="727" y="173"/>
                    </a:lnTo>
                    <a:lnTo>
                      <a:pt x="721" y="156"/>
                    </a:lnTo>
                    <a:lnTo>
                      <a:pt x="710" y="156"/>
                    </a:lnTo>
                    <a:lnTo>
                      <a:pt x="721" y="156"/>
                    </a:lnTo>
                    <a:lnTo>
                      <a:pt x="721" y="133"/>
                    </a:lnTo>
                    <a:lnTo>
                      <a:pt x="721" y="116"/>
                    </a:lnTo>
                    <a:lnTo>
                      <a:pt x="721" y="98"/>
                    </a:lnTo>
                    <a:lnTo>
                      <a:pt x="710" y="98"/>
                    </a:lnTo>
                    <a:lnTo>
                      <a:pt x="721" y="104"/>
                    </a:lnTo>
                    <a:lnTo>
                      <a:pt x="727" y="87"/>
                    </a:lnTo>
                    <a:lnTo>
                      <a:pt x="733" y="70"/>
                    </a:lnTo>
                    <a:lnTo>
                      <a:pt x="739" y="58"/>
                    </a:lnTo>
                    <a:lnTo>
                      <a:pt x="727" y="52"/>
                    </a:lnTo>
                    <a:lnTo>
                      <a:pt x="733" y="58"/>
                    </a:lnTo>
                    <a:lnTo>
                      <a:pt x="739" y="52"/>
                    </a:lnTo>
                    <a:lnTo>
                      <a:pt x="745" y="46"/>
                    </a:lnTo>
                    <a:lnTo>
                      <a:pt x="750" y="41"/>
                    </a:lnTo>
                    <a:lnTo>
                      <a:pt x="745" y="35"/>
                    </a:lnTo>
                    <a:lnTo>
                      <a:pt x="750" y="46"/>
                    </a:lnTo>
                    <a:lnTo>
                      <a:pt x="762" y="41"/>
                    </a:lnTo>
                    <a:lnTo>
                      <a:pt x="762" y="41"/>
                    </a:lnTo>
                    <a:lnTo>
                      <a:pt x="762" y="35"/>
                    </a:lnTo>
                    <a:lnTo>
                      <a:pt x="768" y="29"/>
                    </a:lnTo>
                    <a:lnTo>
                      <a:pt x="762" y="23"/>
                    </a:lnTo>
                    <a:lnTo>
                      <a:pt x="768" y="35"/>
                    </a:lnTo>
                    <a:lnTo>
                      <a:pt x="779" y="29"/>
                    </a:lnTo>
                    <a:lnTo>
                      <a:pt x="779" y="29"/>
                    </a:lnTo>
                    <a:lnTo>
                      <a:pt x="779" y="23"/>
                    </a:lnTo>
                    <a:lnTo>
                      <a:pt x="785" y="18"/>
                    </a:lnTo>
                    <a:lnTo>
                      <a:pt x="779" y="12"/>
                    </a:lnTo>
                    <a:lnTo>
                      <a:pt x="779" y="23"/>
                    </a:lnTo>
                    <a:lnTo>
                      <a:pt x="791" y="23"/>
                    </a:lnTo>
                    <a:lnTo>
                      <a:pt x="802" y="23"/>
                    </a:lnTo>
                    <a:lnTo>
                      <a:pt x="808" y="23"/>
                    </a:lnTo>
                    <a:lnTo>
                      <a:pt x="808" y="23"/>
                    </a:lnTo>
                    <a:lnTo>
                      <a:pt x="825" y="18"/>
                    </a:lnTo>
                    <a:lnTo>
                      <a:pt x="820" y="6"/>
                    </a:lnTo>
                    <a:lnTo>
                      <a:pt x="820" y="18"/>
                    </a:lnTo>
                    <a:lnTo>
                      <a:pt x="831" y="18"/>
                    </a:lnTo>
                    <a:lnTo>
                      <a:pt x="848" y="18"/>
                    </a:lnTo>
                    <a:lnTo>
                      <a:pt x="860" y="18"/>
                    </a:lnTo>
                    <a:lnTo>
                      <a:pt x="860" y="6"/>
                    </a:lnTo>
                    <a:lnTo>
                      <a:pt x="860" y="18"/>
                    </a:lnTo>
                    <a:lnTo>
                      <a:pt x="871" y="23"/>
                    </a:lnTo>
                    <a:lnTo>
                      <a:pt x="871" y="23"/>
                    </a:lnTo>
                    <a:lnTo>
                      <a:pt x="871" y="23"/>
                    </a:lnTo>
                    <a:lnTo>
                      <a:pt x="889" y="23"/>
                    </a:lnTo>
                    <a:lnTo>
                      <a:pt x="889" y="12"/>
                    </a:lnTo>
                    <a:lnTo>
                      <a:pt x="889" y="23"/>
                    </a:lnTo>
                    <a:lnTo>
                      <a:pt x="900" y="29"/>
                    </a:lnTo>
                    <a:lnTo>
                      <a:pt x="900" y="29"/>
                    </a:lnTo>
                    <a:lnTo>
                      <a:pt x="900" y="29"/>
                    </a:lnTo>
                    <a:lnTo>
                      <a:pt x="912" y="29"/>
                    </a:lnTo>
                    <a:lnTo>
                      <a:pt x="912" y="18"/>
                    </a:lnTo>
                    <a:lnTo>
                      <a:pt x="912" y="29"/>
                    </a:lnTo>
                    <a:lnTo>
                      <a:pt x="923" y="35"/>
                    </a:lnTo>
                    <a:lnTo>
                      <a:pt x="923" y="23"/>
                    </a:lnTo>
                    <a:lnTo>
                      <a:pt x="918" y="29"/>
                    </a:lnTo>
                    <a:lnTo>
                      <a:pt x="923" y="35"/>
                    </a:lnTo>
                    <a:lnTo>
                      <a:pt x="929" y="41"/>
                    </a:lnTo>
                    <a:lnTo>
                      <a:pt x="929" y="41"/>
                    </a:lnTo>
                    <a:lnTo>
                      <a:pt x="941" y="46"/>
                    </a:lnTo>
                    <a:lnTo>
                      <a:pt x="941" y="35"/>
                    </a:lnTo>
                    <a:lnTo>
                      <a:pt x="935" y="41"/>
                    </a:lnTo>
                    <a:lnTo>
                      <a:pt x="941" y="46"/>
                    </a:lnTo>
                    <a:lnTo>
                      <a:pt x="946" y="52"/>
                    </a:lnTo>
                    <a:lnTo>
                      <a:pt x="946" y="52"/>
                    </a:lnTo>
                    <a:lnTo>
                      <a:pt x="958" y="58"/>
                    </a:lnTo>
                    <a:lnTo>
                      <a:pt x="958" y="46"/>
                    </a:lnTo>
                    <a:lnTo>
                      <a:pt x="952" y="52"/>
                    </a:lnTo>
                    <a:lnTo>
                      <a:pt x="958" y="58"/>
                    </a:lnTo>
                    <a:lnTo>
                      <a:pt x="964" y="52"/>
                    </a:lnTo>
                    <a:lnTo>
                      <a:pt x="958" y="58"/>
                    </a:lnTo>
                    <a:lnTo>
                      <a:pt x="970" y="75"/>
                    </a:lnTo>
                    <a:lnTo>
                      <a:pt x="975" y="93"/>
                    </a:lnTo>
                    <a:lnTo>
                      <a:pt x="981" y="110"/>
                    </a:lnTo>
                    <a:lnTo>
                      <a:pt x="987" y="104"/>
                    </a:lnTo>
                    <a:lnTo>
                      <a:pt x="981" y="104"/>
                    </a:lnTo>
                    <a:lnTo>
                      <a:pt x="981" y="121"/>
                    </a:lnTo>
                    <a:lnTo>
                      <a:pt x="981" y="139"/>
                    </a:lnTo>
                    <a:lnTo>
                      <a:pt x="981" y="156"/>
                    </a:lnTo>
                    <a:lnTo>
                      <a:pt x="987" y="156"/>
                    </a:lnTo>
                    <a:lnTo>
                      <a:pt x="981" y="156"/>
                    </a:lnTo>
                    <a:lnTo>
                      <a:pt x="975" y="173"/>
                    </a:lnTo>
                    <a:lnTo>
                      <a:pt x="970" y="191"/>
                    </a:lnTo>
                    <a:lnTo>
                      <a:pt x="958" y="208"/>
                    </a:lnTo>
                    <a:lnTo>
                      <a:pt x="964" y="208"/>
                    </a:lnTo>
                    <a:lnTo>
                      <a:pt x="958" y="202"/>
                    </a:lnTo>
                    <a:lnTo>
                      <a:pt x="946" y="214"/>
                    </a:lnTo>
                    <a:lnTo>
                      <a:pt x="923" y="237"/>
                    </a:lnTo>
                    <a:lnTo>
                      <a:pt x="923" y="243"/>
                    </a:lnTo>
                    <a:lnTo>
                      <a:pt x="923" y="243"/>
                    </a:lnTo>
                    <a:lnTo>
                      <a:pt x="912" y="266"/>
                    </a:lnTo>
                    <a:lnTo>
                      <a:pt x="906" y="277"/>
                    </a:lnTo>
                    <a:lnTo>
                      <a:pt x="912" y="277"/>
                    </a:lnTo>
                    <a:lnTo>
                      <a:pt x="906" y="271"/>
                    </a:lnTo>
                    <a:lnTo>
                      <a:pt x="900" y="277"/>
                    </a:lnTo>
                    <a:lnTo>
                      <a:pt x="900" y="283"/>
                    </a:lnTo>
                    <a:lnTo>
                      <a:pt x="900" y="283"/>
                    </a:lnTo>
                    <a:lnTo>
                      <a:pt x="900" y="295"/>
                    </a:lnTo>
                    <a:lnTo>
                      <a:pt x="900" y="300"/>
                    </a:lnTo>
                    <a:lnTo>
                      <a:pt x="900" y="306"/>
                    </a:lnTo>
                    <a:lnTo>
                      <a:pt x="900" y="318"/>
                    </a:lnTo>
                    <a:lnTo>
                      <a:pt x="900" y="323"/>
                    </a:lnTo>
                    <a:lnTo>
                      <a:pt x="900" y="323"/>
                    </a:lnTo>
                    <a:lnTo>
                      <a:pt x="906" y="329"/>
                    </a:lnTo>
                    <a:lnTo>
                      <a:pt x="912" y="335"/>
                    </a:lnTo>
                    <a:lnTo>
                      <a:pt x="918" y="341"/>
                    </a:lnTo>
                    <a:lnTo>
                      <a:pt x="918" y="341"/>
                    </a:lnTo>
                    <a:lnTo>
                      <a:pt x="929" y="346"/>
                    </a:lnTo>
                    <a:lnTo>
                      <a:pt x="941" y="352"/>
                    </a:lnTo>
                    <a:lnTo>
                      <a:pt x="941" y="341"/>
                    </a:lnTo>
                    <a:lnTo>
                      <a:pt x="935" y="346"/>
                    </a:lnTo>
                    <a:lnTo>
                      <a:pt x="946" y="358"/>
                    </a:lnTo>
                    <a:lnTo>
                      <a:pt x="952" y="364"/>
                    </a:lnTo>
                    <a:lnTo>
                      <a:pt x="952" y="364"/>
                    </a:lnTo>
                    <a:lnTo>
                      <a:pt x="964" y="370"/>
                    </a:lnTo>
                    <a:lnTo>
                      <a:pt x="981" y="375"/>
                    </a:lnTo>
                    <a:lnTo>
                      <a:pt x="970" y="370"/>
                    </a:lnTo>
                    <a:lnTo>
                      <a:pt x="981" y="375"/>
                    </a:lnTo>
                    <a:lnTo>
                      <a:pt x="1004" y="381"/>
                    </a:lnTo>
                    <a:lnTo>
                      <a:pt x="1027" y="387"/>
                    </a:lnTo>
                    <a:lnTo>
                      <a:pt x="1050" y="393"/>
                    </a:lnTo>
                    <a:lnTo>
                      <a:pt x="1073" y="398"/>
                    </a:lnTo>
                    <a:lnTo>
                      <a:pt x="1102" y="404"/>
                    </a:lnTo>
                    <a:lnTo>
                      <a:pt x="1131" y="404"/>
                    </a:lnTo>
                    <a:lnTo>
                      <a:pt x="1154" y="404"/>
                    </a:lnTo>
                    <a:lnTo>
                      <a:pt x="1183" y="404"/>
                    </a:lnTo>
                    <a:lnTo>
                      <a:pt x="1212" y="404"/>
                    </a:lnTo>
                    <a:lnTo>
                      <a:pt x="1235" y="404"/>
                    </a:lnTo>
                    <a:lnTo>
                      <a:pt x="1258" y="398"/>
                    </a:lnTo>
                    <a:lnTo>
                      <a:pt x="1281" y="393"/>
                    </a:lnTo>
                    <a:lnTo>
                      <a:pt x="1304" y="387"/>
                    </a:lnTo>
                    <a:lnTo>
                      <a:pt x="1310" y="381"/>
                    </a:lnTo>
                    <a:lnTo>
                      <a:pt x="1310" y="387"/>
                    </a:lnTo>
                    <a:lnTo>
                      <a:pt x="1327" y="375"/>
                    </a:lnTo>
                    <a:lnTo>
                      <a:pt x="1345" y="370"/>
                    </a:lnTo>
                    <a:lnTo>
                      <a:pt x="1339" y="358"/>
                    </a:lnTo>
                    <a:lnTo>
                      <a:pt x="1333" y="358"/>
                    </a:lnTo>
                    <a:lnTo>
                      <a:pt x="1333" y="404"/>
                    </a:lnTo>
                    <a:lnTo>
                      <a:pt x="1333" y="462"/>
                    </a:lnTo>
                    <a:lnTo>
                      <a:pt x="1333" y="531"/>
                    </a:lnTo>
                    <a:lnTo>
                      <a:pt x="1333" y="595"/>
                    </a:lnTo>
                    <a:lnTo>
                      <a:pt x="1333" y="658"/>
                    </a:lnTo>
                    <a:lnTo>
                      <a:pt x="1333" y="721"/>
                    </a:lnTo>
                    <a:lnTo>
                      <a:pt x="1333" y="762"/>
                    </a:lnTo>
                    <a:lnTo>
                      <a:pt x="1333" y="791"/>
                    </a:lnTo>
                    <a:lnTo>
                      <a:pt x="1333" y="802"/>
                    </a:lnTo>
                    <a:lnTo>
                      <a:pt x="1333" y="808"/>
                    </a:lnTo>
                    <a:lnTo>
                      <a:pt x="1333" y="808"/>
                    </a:lnTo>
                    <a:lnTo>
                      <a:pt x="1339" y="814"/>
                    </a:lnTo>
                    <a:lnTo>
                      <a:pt x="1345" y="808"/>
                    </a:lnTo>
                    <a:lnTo>
                      <a:pt x="1339" y="814"/>
                    </a:lnTo>
                    <a:lnTo>
                      <a:pt x="1345" y="825"/>
                    </a:lnTo>
                    <a:lnTo>
                      <a:pt x="1345" y="825"/>
                    </a:lnTo>
                    <a:lnTo>
                      <a:pt x="1345" y="825"/>
                    </a:lnTo>
                    <a:lnTo>
                      <a:pt x="1350" y="831"/>
                    </a:lnTo>
                    <a:lnTo>
                      <a:pt x="1356" y="837"/>
                    </a:lnTo>
                    <a:lnTo>
                      <a:pt x="1356" y="837"/>
                    </a:lnTo>
                    <a:lnTo>
                      <a:pt x="1368" y="843"/>
                    </a:lnTo>
                    <a:lnTo>
                      <a:pt x="1368" y="831"/>
                    </a:lnTo>
                    <a:lnTo>
                      <a:pt x="1362" y="837"/>
                    </a:lnTo>
                    <a:lnTo>
                      <a:pt x="1374" y="848"/>
                    </a:lnTo>
                    <a:lnTo>
                      <a:pt x="1379" y="854"/>
                    </a:lnTo>
                    <a:lnTo>
                      <a:pt x="1379" y="854"/>
                    </a:lnTo>
                    <a:lnTo>
                      <a:pt x="1391" y="860"/>
                    </a:lnTo>
                    <a:lnTo>
                      <a:pt x="1391" y="860"/>
                    </a:lnTo>
                    <a:lnTo>
                      <a:pt x="1391" y="860"/>
                    </a:lnTo>
                    <a:lnTo>
                      <a:pt x="1402" y="860"/>
                    </a:lnTo>
                    <a:lnTo>
                      <a:pt x="1402" y="848"/>
                    </a:lnTo>
                    <a:lnTo>
                      <a:pt x="1402" y="860"/>
                    </a:lnTo>
                    <a:lnTo>
                      <a:pt x="1414" y="866"/>
                    </a:lnTo>
                    <a:lnTo>
                      <a:pt x="1414" y="866"/>
                    </a:lnTo>
                    <a:lnTo>
                      <a:pt x="1414" y="866"/>
                    </a:lnTo>
                    <a:lnTo>
                      <a:pt x="1425" y="866"/>
                    </a:lnTo>
                    <a:lnTo>
                      <a:pt x="1443" y="866"/>
                    </a:lnTo>
                    <a:lnTo>
                      <a:pt x="1454" y="866"/>
                    </a:lnTo>
                    <a:lnTo>
                      <a:pt x="1460" y="866"/>
                    </a:lnTo>
                    <a:lnTo>
                      <a:pt x="1460" y="866"/>
                    </a:lnTo>
                    <a:lnTo>
                      <a:pt x="1472" y="860"/>
                    </a:lnTo>
                    <a:lnTo>
                      <a:pt x="1483" y="854"/>
                    </a:lnTo>
                    <a:lnTo>
                      <a:pt x="1483" y="854"/>
                    </a:lnTo>
                    <a:lnTo>
                      <a:pt x="1483" y="848"/>
                    </a:lnTo>
                    <a:lnTo>
                      <a:pt x="1495" y="837"/>
                    </a:lnTo>
                    <a:lnTo>
                      <a:pt x="1506" y="825"/>
                    </a:lnTo>
                    <a:lnTo>
                      <a:pt x="1512" y="825"/>
                    </a:lnTo>
                    <a:lnTo>
                      <a:pt x="1512" y="825"/>
                    </a:lnTo>
                    <a:lnTo>
                      <a:pt x="1518" y="814"/>
                    </a:lnTo>
                    <a:lnTo>
                      <a:pt x="1506" y="808"/>
                    </a:lnTo>
                    <a:lnTo>
                      <a:pt x="1512" y="814"/>
                    </a:lnTo>
                    <a:lnTo>
                      <a:pt x="1518" y="808"/>
                    </a:lnTo>
                    <a:lnTo>
                      <a:pt x="1524" y="802"/>
                    </a:lnTo>
                    <a:lnTo>
                      <a:pt x="1518" y="796"/>
                    </a:lnTo>
                    <a:lnTo>
                      <a:pt x="1518" y="808"/>
                    </a:lnTo>
                    <a:lnTo>
                      <a:pt x="1524" y="808"/>
                    </a:lnTo>
                    <a:lnTo>
                      <a:pt x="1529" y="808"/>
                    </a:lnTo>
                    <a:lnTo>
                      <a:pt x="1529" y="808"/>
                    </a:lnTo>
                    <a:lnTo>
                      <a:pt x="1547" y="802"/>
                    </a:lnTo>
                    <a:lnTo>
                      <a:pt x="1564" y="796"/>
                    </a:lnTo>
                    <a:lnTo>
                      <a:pt x="1558" y="785"/>
                    </a:lnTo>
                    <a:lnTo>
                      <a:pt x="1558" y="796"/>
                    </a:lnTo>
                    <a:lnTo>
                      <a:pt x="1575" y="796"/>
                    </a:lnTo>
                    <a:lnTo>
                      <a:pt x="1599" y="796"/>
                    </a:lnTo>
                    <a:lnTo>
                      <a:pt x="1599" y="785"/>
                    </a:lnTo>
                    <a:lnTo>
                      <a:pt x="1599" y="796"/>
                    </a:lnTo>
                    <a:lnTo>
                      <a:pt x="1616" y="802"/>
                    </a:lnTo>
                    <a:lnTo>
                      <a:pt x="1633" y="808"/>
                    </a:lnTo>
                    <a:lnTo>
                      <a:pt x="1651" y="820"/>
                    </a:lnTo>
                    <a:lnTo>
                      <a:pt x="1668" y="831"/>
                    </a:lnTo>
                    <a:lnTo>
                      <a:pt x="1685" y="843"/>
                    </a:lnTo>
                    <a:lnTo>
                      <a:pt x="1685" y="831"/>
                    </a:lnTo>
                    <a:lnTo>
                      <a:pt x="1679" y="837"/>
                    </a:lnTo>
                    <a:lnTo>
                      <a:pt x="1691" y="854"/>
                    </a:lnTo>
                    <a:lnTo>
                      <a:pt x="1691" y="854"/>
                    </a:lnTo>
                    <a:lnTo>
                      <a:pt x="1691" y="854"/>
                    </a:lnTo>
                    <a:lnTo>
                      <a:pt x="1697" y="860"/>
                    </a:lnTo>
                    <a:lnTo>
                      <a:pt x="1702" y="854"/>
                    </a:lnTo>
                    <a:lnTo>
                      <a:pt x="1697" y="854"/>
                    </a:lnTo>
                    <a:lnTo>
                      <a:pt x="1697" y="866"/>
                    </a:lnTo>
                    <a:lnTo>
                      <a:pt x="1697" y="871"/>
                    </a:lnTo>
                    <a:lnTo>
                      <a:pt x="1697" y="871"/>
                    </a:lnTo>
                    <a:lnTo>
                      <a:pt x="1702" y="883"/>
                    </a:lnTo>
                    <a:lnTo>
                      <a:pt x="1702" y="883"/>
                    </a:lnTo>
                    <a:lnTo>
                      <a:pt x="1702" y="883"/>
                    </a:lnTo>
                    <a:lnTo>
                      <a:pt x="1708" y="889"/>
                    </a:lnTo>
                    <a:lnTo>
                      <a:pt x="1714" y="883"/>
                    </a:lnTo>
                    <a:lnTo>
                      <a:pt x="1708" y="883"/>
                    </a:lnTo>
                    <a:lnTo>
                      <a:pt x="1708" y="895"/>
                    </a:lnTo>
                    <a:lnTo>
                      <a:pt x="1708" y="906"/>
                    </a:lnTo>
                    <a:lnTo>
                      <a:pt x="1708" y="918"/>
                    </a:lnTo>
                    <a:lnTo>
                      <a:pt x="1708" y="929"/>
                    </a:lnTo>
                    <a:lnTo>
                      <a:pt x="1714" y="929"/>
                    </a:lnTo>
                    <a:lnTo>
                      <a:pt x="1708" y="929"/>
                    </a:lnTo>
                    <a:lnTo>
                      <a:pt x="1702" y="952"/>
                    </a:lnTo>
                    <a:lnTo>
                      <a:pt x="1697" y="970"/>
                    </a:lnTo>
                    <a:lnTo>
                      <a:pt x="1685" y="987"/>
                    </a:lnTo>
                    <a:lnTo>
                      <a:pt x="1691" y="987"/>
                    </a:lnTo>
                    <a:lnTo>
                      <a:pt x="1685" y="981"/>
                    </a:lnTo>
                    <a:lnTo>
                      <a:pt x="1674" y="993"/>
                    </a:lnTo>
                    <a:lnTo>
                      <a:pt x="1662" y="1004"/>
                    </a:lnTo>
                    <a:lnTo>
                      <a:pt x="1651" y="1016"/>
                    </a:lnTo>
                    <a:lnTo>
                      <a:pt x="1656" y="1021"/>
                    </a:lnTo>
                    <a:lnTo>
                      <a:pt x="1656" y="1016"/>
                    </a:lnTo>
                    <a:lnTo>
                      <a:pt x="1639" y="1021"/>
                    </a:lnTo>
                    <a:lnTo>
                      <a:pt x="1627" y="1027"/>
                    </a:lnTo>
                    <a:lnTo>
                      <a:pt x="1627" y="1033"/>
                    </a:lnTo>
                    <a:lnTo>
                      <a:pt x="1627" y="1027"/>
                    </a:lnTo>
                    <a:lnTo>
                      <a:pt x="1610" y="1027"/>
                    </a:lnTo>
                    <a:lnTo>
                      <a:pt x="1610" y="1027"/>
                    </a:lnTo>
                    <a:lnTo>
                      <a:pt x="1610" y="1027"/>
                    </a:lnTo>
                    <a:lnTo>
                      <a:pt x="1593" y="1033"/>
                    </a:lnTo>
                    <a:lnTo>
                      <a:pt x="1593" y="1039"/>
                    </a:lnTo>
                    <a:lnTo>
                      <a:pt x="1599" y="1033"/>
                    </a:lnTo>
                    <a:lnTo>
                      <a:pt x="1581" y="1027"/>
                    </a:lnTo>
                    <a:lnTo>
                      <a:pt x="1581" y="1027"/>
                    </a:lnTo>
                    <a:lnTo>
                      <a:pt x="1575" y="1027"/>
                    </a:lnTo>
                    <a:lnTo>
                      <a:pt x="1564" y="1027"/>
                    </a:lnTo>
                    <a:lnTo>
                      <a:pt x="1564" y="1033"/>
                    </a:lnTo>
                    <a:lnTo>
                      <a:pt x="1570" y="1027"/>
                    </a:lnTo>
                    <a:lnTo>
                      <a:pt x="1552" y="1021"/>
                    </a:lnTo>
                    <a:lnTo>
                      <a:pt x="1535" y="1016"/>
                    </a:lnTo>
                    <a:lnTo>
                      <a:pt x="1524" y="1010"/>
                    </a:lnTo>
                    <a:lnTo>
                      <a:pt x="1518" y="1016"/>
                    </a:lnTo>
                    <a:lnTo>
                      <a:pt x="1524" y="1010"/>
                    </a:lnTo>
                    <a:lnTo>
                      <a:pt x="1512" y="998"/>
                    </a:lnTo>
                    <a:lnTo>
                      <a:pt x="1506" y="1004"/>
                    </a:lnTo>
                    <a:lnTo>
                      <a:pt x="1518" y="1004"/>
                    </a:lnTo>
                    <a:lnTo>
                      <a:pt x="1512" y="993"/>
                    </a:lnTo>
                    <a:lnTo>
                      <a:pt x="1506" y="987"/>
                    </a:lnTo>
                    <a:lnTo>
                      <a:pt x="1506" y="987"/>
                    </a:lnTo>
                    <a:lnTo>
                      <a:pt x="1489" y="975"/>
                    </a:lnTo>
                    <a:lnTo>
                      <a:pt x="1477" y="970"/>
                    </a:lnTo>
                    <a:lnTo>
                      <a:pt x="1466" y="964"/>
                    </a:lnTo>
                    <a:lnTo>
                      <a:pt x="1454" y="958"/>
                    </a:lnTo>
                    <a:lnTo>
                      <a:pt x="1443" y="952"/>
                    </a:lnTo>
                    <a:lnTo>
                      <a:pt x="1425" y="946"/>
                    </a:lnTo>
                    <a:lnTo>
                      <a:pt x="1425" y="946"/>
                    </a:lnTo>
                    <a:lnTo>
                      <a:pt x="1420" y="946"/>
                    </a:lnTo>
                    <a:lnTo>
                      <a:pt x="1408" y="946"/>
                    </a:lnTo>
                    <a:lnTo>
                      <a:pt x="1397" y="946"/>
                    </a:lnTo>
                    <a:lnTo>
                      <a:pt x="1385" y="946"/>
                    </a:lnTo>
                    <a:lnTo>
                      <a:pt x="1385" y="946"/>
                    </a:lnTo>
                    <a:lnTo>
                      <a:pt x="1385" y="946"/>
                    </a:lnTo>
                    <a:lnTo>
                      <a:pt x="1374" y="952"/>
                    </a:lnTo>
                    <a:lnTo>
                      <a:pt x="1374" y="952"/>
                    </a:lnTo>
                    <a:lnTo>
                      <a:pt x="1368" y="952"/>
                    </a:lnTo>
                    <a:lnTo>
                      <a:pt x="1362" y="958"/>
                    </a:lnTo>
                    <a:lnTo>
                      <a:pt x="1368" y="964"/>
                    </a:lnTo>
                    <a:lnTo>
                      <a:pt x="1368" y="958"/>
                    </a:lnTo>
                    <a:lnTo>
                      <a:pt x="1356" y="964"/>
                    </a:lnTo>
                    <a:lnTo>
                      <a:pt x="1350" y="964"/>
                    </a:lnTo>
                    <a:lnTo>
                      <a:pt x="1350" y="970"/>
                    </a:lnTo>
                    <a:lnTo>
                      <a:pt x="1345" y="981"/>
                    </a:lnTo>
                    <a:lnTo>
                      <a:pt x="1339" y="993"/>
                    </a:lnTo>
                    <a:lnTo>
                      <a:pt x="1333" y="1010"/>
                    </a:lnTo>
                    <a:lnTo>
                      <a:pt x="1333" y="1010"/>
                    </a:lnTo>
                    <a:lnTo>
                      <a:pt x="1333" y="1010"/>
                    </a:lnTo>
                    <a:lnTo>
                      <a:pt x="1333" y="1045"/>
                    </a:lnTo>
                    <a:lnTo>
                      <a:pt x="1327" y="1085"/>
                    </a:lnTo>
                    <a:lnTo>
                      <a:pt x="1322" y="1125"/>
                    </a:lnTo>
                    <a:lnTo>
                      <a:pt x="1322" y="1172"/>
                    </a:lnTo>
                    <a:lnTo>
                      <a:pt x="1322" y="1212"/>
                    </a:lnTo>
                    <a:lnTo>
                      <a:pt x="1322" y="1252"/>
                    </a:lnTo>
                    <a:lnTo>
                      <a:pt x="1322" y="1270"/>
                    </a:lnTo>
                    <a:lnTo>
                      <a:pt x="1322" y="1275"/>
                    </a:lnTo>
                    <a:lnTo>
                      <a:pt x="1322" y="1275"/>
                    </a:lnTo>
                    <a:lnTo>
                      <a:pt x="1327" y="1293"/>
                    </a:lnTo>
                    <a:lnTo>
                      <a:pt x="1333" y="1310"/>
                    </a:lnTo>
                    <a:lnTo>
                      <a:pt x="1339" y="1304"/>
                    </a:lnTo>
                    <a:lnTo>
                      <a:pt x="1333" y="1304"/>
                    </a:lnTo>
                    <a:lnTo>
                      <a:pt x="1333" y="1316"/>
                    </a:lnTo>
                    <a:lnTo>
                      <a:pt x="1339" y="1316"/>
                    </a:lnTo>
                    <a:lnTo>
                      <a:pt x="1339" y="1310"/>
                    </a:lnTo>
                    <a:lnTo>
                      <a:pt x="1310" y="1316"/>
                    </a:lnTo>
                    <a:lnTo>
                      <a:pt x="1287" y="1322"/>
                    </a:lnTo>
                    <a:lnTo>
                      <a:pt x="1252" y="1322"/>
                    </a:lnTo>
                    <a:lnTo>
                      <a:pt x="1223" y="1322"/>
                    </a:lnTo>
                    <a:lnTo>
                      <a:pt x="1195" y="1322"/>
                    </a:lnTo>
                    <a:lnTo>
                      <a:pt x="1166" y="1322"/>
                    </a:lnTo>
                    <a:lnTo>
                      <a:pt x="1137" y="1316"/>
                    </a:lnTo>
                    <a:lnTo>
                      <a:pt x="1108" y="1316"/>
                    </a:lnTo>
                    <a:lnTo>
                      <a:pt x="1062" y="1310"/>
                    </a:lnTo>
                    <a:lnTo>
                      <a:pt x="1022" y="1304"/>
                    </a:lnTo>
                    <a:lnTo>
                      <a:pt x="998" y="1298"/>
                    </a:lnTo>
                    <a:lnTo>
                      <a:pt x="998" y="1304"/>
                    </a:lnTo>
                    <a:lnTo>
                      <a:pt x="1004" y="1298"/>
                    </a:lnTo>
                    <a:lnTo>
                      <a:pt x="993" y="1293"/>
                    </a:lnTo>
                    <a:lnTo>
                      <a:pt x="993" y="1293"/>
                    </a:lnTo>
                    <a:lnTo>
                      <a:pt x="987" y="1293"/>
                    </a:lnTo>
                    <a:lnTo>
                      <a:pt x="964" y="1287"/>
                    </a:lnTo>
                    <a:lnTo>
                      <a:pt x="964" y="1293"/>
                    </a:lnTo>
                    <a:lnTo>
                      <a:pt x="970" y="1287"/>
                    </a:lnTo>
                    <a:lnTo>
                      <a:pt x="952" y="1275"/>
                    </a:lnTo>
                    <a:lnTo>
                      <a:pt x="935" y="1264"/>
                    </a:lnTo>
                    <a:lnTo>
                      <a:pt x="929" y="1270"/>
                    </a:lnTo>
                    <a:lnTo>
                      <a:pt x="941" y="1270"/>
                    </a:lnTo>
                    <a:lnTo>
                      <a:pt x="929" y="1252"/>
                    </a:lnTo>
                    <a:lnTo>
                      <a:pt x="929" y="1252"/>
                    </a:lnTo>
                    <a:lnTo>
                      <a:pt x="923" y="1247"/>
                    </a:lnTo>
                    <a:lnTo>
                      <a:pt x="912" y="1235"/>
                    </a:lnTo>
                    <a:lnTo>
                      <a:pt x="906" y="1241"/>
                    </a:lnTo>
                    <a:lnTo>
                      <a:pt x="918" y="1241"/>
                    </a:lnTo>
                    <a:lnTo>
                      <a:pt x="912" y="1223"/>
                    </a:lnTo>
                    <a:lnTo>
                      <a:pt x="906" y="1206"/>
                    </a:lnTo>
                    <a:lnTo>
                      <a:pt x="900" y="1195"/>
                    </a:lnTo>
                    <a:lnTo>
                      <a:pt x="889" y="1195"/>
                    </a:lnTo>
                    <a:lnTo>
                      <a:pt x="900" y="1195"/>
                    </a:lnTo>
                    <a:lnTo>
                      <a:pt x="900" y="1177"/>
                    </a:lnTo>
                    <a:lnTo>
                      <a:pt x="889" y="1177"/>
                    </a:lnTo>
                    <a:lnTo>
                      <a:pt x="900" y="1183"/>
                    </a:lnTo>
                    <a:lnTo>
                      <a:pt x="906" y="1166"/>
                    </a:lnTo>
                    <a:lnTo>
                      <a:pt x="906" y="1166"/>
                    </a:lnTo>
                    <a:lnTo>
                      <a:pt x="906" y="1160"/>
                    </a:lnTo>
                    <a:lnTo>
                      <a:pt x="906" y="1148"/>
                    </a:lnTo>
                    <a:lnTo>
                      <a:pt x="895" y="1148"/>
                    </a:lnTo>
                    <a:lnTo>
                      <a:pt x="906" y="1154"/>
                    </a:lnTo>
                    <a:lnTo>
                      <a:pt x="912" y="1143"/>
                    </a:lnTo>
                    <a:lnTo>
                      <a:pt x="918" y="1125"/>
                    </a:lnTo>
                    <a:lnTo>
                      <a:pt x="923" y="1114"/>
                    </a:lnTo>
                    <a:lnTo>
                      <a:pt x="912" y="1108"/>
                    </a:lnTo>
                    <a:lnTo>
                      <a:pt x="918" y="1114"/>
                    </a:lnTo>
                    <a:lnTo>
                      <a:pt x="929" y="1102"/>
                    </a:lnTo>
                    <a:lnTo>
                      <a:pt x="923" y="1097"/>
                    </a:lnTo>
                    <a:lnTo>
                      <a:pt x="929" y="1108"/>
                    </a:lnTo>
                    <a:lnTo>
                      <a:pt x="941" y="1102"/>
                    </a:lnTo>
                    <a:lnTo>
                      <a:pt x="941" y="1102"/>
                    </a:lnTo>
                    <a:lnTo>
                      <a:pt x="941" y="1097"/>
                    </a:lnTo>
                    <a:lnTo>
                      <a:pt x="952" y="1085"/>
                    </a:lnTo>
                    <a:lnTo>
                      <a:pt x="964" y="1073"/>
                    </a:lnTo>
                    <a:lnTo>
                      <a:pt x="970" y="1073"/>
                    </a:lnTo>
                    <a:lnTo>
                      <a:pt x="970" y="1073"/>
                    </a:lnTo>
                    <a:lnTo>
                      <a:pt x="975" y="1056"/>
                    </a:lnTo>
                    <a:lnTo>
                      <a:pt x="981" y="1039"/>
                    </a:lnTo>
                    <a:lnTo>
                      <a:pt x="987" y="1021"/>
                    </a:lnTo>
                    <a:lnTo>
                      <a:pt x="987" y="1021"/>
                    </a:lnTo>
                    <a:lnTo>
                      <a:pt x="987" y="1016"/>
                    </a:lnTo>
                    <a:lnTo>
                      <a:pt x="987" y="993"/>
                    </a:lnTo>
                    <a:lnTo>
                      <a:pt x="987" y="975"/>
                    </a:lnTo>
                    <a:lnTo>
                      <a:pt x="987" y="952"/>
                    </a:lnTo>
                    <a:lnTo>
                      <a:pt x="987" y="952"/>
                    </a:lnTo>
                    <a:lnTo>
                      <a:pt x="987" y="952"/>
                    </a:lnTo>
                    <a:lnTo>
                      <a:pt x="981" y="935"/>
                    </a:lnTo>
                    <a:lnTo>
                      <a:pt x="975" y="918"/>
                    </a:lnTo>
                    <a:lnTo>
                      <a:pt x="970" y="906"/>
                    </a:lnTo>
                    <a:lnTo>
                      <a:pt x="970" y="906"/>
                    </a:lnTo>
                    <a:lnTo>
                      <a:pt x="964" y="900"/>
                    </a:lnTo>
                    <a:lnTo>
                      <a:pt x="958" y="895"/>
                    </a:lnTo>
                    <a:lnTo>
                      <a:pt x="952" y="900"/>
                    </a:lnTo>
                    <a:lnTo>
                      <a:pt x="964" y="900"/>
                    </a:lnTo>
                    <a:lnTo>
                      <a:pt x="958" y="889"/>
                    </a:lnTo>
                    <a:lnTo>
                      <a:pt x="952" y="883"/>
                    </a:lnTo>
                    <a:lnTo>
                      <a:pt x="952" y="883"/>
                    </a:lnTo>
                    <a:lnTo>
                      <a:pt x="941" y="877"/>
                    </a:lnTo>
                    <a:lnTo>
                      <a:pt x="929" y="871"/>
                    </a:lnTo>
                    <a:lnTo>
                      <a:pt x="923" y="877"/>
                    </a:lnTo>
                    <a:lnTo>
                      <a:pt x="929" y="871"/>
                    </a:lnTo>
                    <a:lnTo>
                      <a:pt x="923" y="866"/>
                    </a:lnTo>
                    <a:lnTo>
                      <a:pt x="923" y="866"/>
                    </a:lnTo>
                    <a:lnTo>
                      <a:pt x="923" y="866"/>
                    </a:lnTo>
                    <a:lnTo>
                      <a:pt x="912" y="860"/>
                    </a:lnTo>
                    <a:lnTo>
                      <a:pt x="912" y="860"/>
                    </a:lnTo>
                    <a:lnTo>
                      <a:pt x="906" y="860"/>
                    </a:lnTo>
                    <a:lnTo>
                      <a:pt x="895" y="860"/>
                    </a:lnTo>
                    <a:lnTo>
                      <a:pt x="895" y="866"/>
                    </a:lnTo>
                    <a:lnTo>
                      <a:pt x="900" y="860"/>
                    </a:lnTo>
                    <a:lnTo>
                      <a:pt x="883" y="854"/>
                    </a:lnTo>
                    <a:lnTo>
                      <a:pt x="871" y="848"/>
                    </a:lnTo>
                    <a:lnTo>
                      <a:pt x="871" y="848"/>
                    </a:lnTo>
                    <a:lnTo>
                      <a:pt x="866" y="848"/>
                    </a:lnTo>
                    <a:lnTo>
                      <a:pt x="848" y="848"/>
                    </a:lnTo>
                    <a:lnTo>
                      <a:pt x="831" y="848"/>
                    </a:lnTo>
                    <a:lnTo>
                      <a:pt x="820" y="848"/>
                    </a:lnTo>
                    <a:lnTo>
                      <a:pt x="802" y="848"/>
                    </a:lnTo>
                    <a:lnTo>
                      <a:pt x="802" y="848"/>
                    </a:lnTo>
                    <a:lnTo>
                      <a:pt x="802" y="848"/>
                    </a:lnTo>
                    <a:lnTo>
                      <a:pt x="785" y="854"/>
                    </a:lnTo>
                    <a:lnTo>
                      <a:pt x="785" y="860"/>
                    </a:lnTo>
                    <a:lnTo>
                      <a:pt x="785" y="854"/>
                    </a:lnTo>
                    <a:lnTo>
                      <a:pt x="773" y="854"/>
                    </a:lnTo>
                    <a:lnTo>
                      <a:pt x="773" y="854"/>
                    </a:lnTo>
                    <a:lnTo>
                      <a:pt x="773" y="854"/>
                    </a:lnTo>
                    <a:lnTo>
                      <a:pt x="762" y="860"/>
                    </a:lnTo>
                    <a:lnTo>
                      <a:pt x="750" y="866"/>
                    </a:lnTo>
                    <a:lnTo>
                      <a:pt x="739" y="871"/>
                    </a:lnTo>
                    <a:lnTo>
                      <a:pt x="739" y="871"/>
                    </a:lnTo>
                    <a:lnTo>
                      <a:pt x="733" y="871"/>
                    </a:lnTo>
                    <a:lnTo>
                      <a:pt x="727" y="877"/>
                    </a:lnTo>
                    <a:lnTo>
                      <a:pt x="733" y="883"/>
                    </a:lnTo>
                    <a:lnTo>
                      <a:pt x="733" y="877"/>
                    </a:lnTo>
                    <a:lnTo>
                      <a:pt x="721" y="877"/>
                    </a:lnTo>
                    <a:lnTo>
                      <a:pt x="721" y="877"/>
                    </a:lnTo>
                    <a:lnTo>
                      <a:pt x="716" y="877"/>
                    </a:lnTo>
                    <a:lnTo>
                      <a:pt x="710" y="883"/>
                    </a:lnTo>
                    <a:lnTo>
                      <a:pt x="710" y="889"/>
                    </a:lnTo>
                    <a:lnTo>
                      <a:pt x="710" y="889"/>
                    </a:lnTo>
                    <a:lnTo>
                      <a:pt x="704" y="900"/>
                    </a:lnTo>
                    <a:lnTo>
                      <a:pt x="710" y="900"/>
                    </a:lnTo>
                    <a:lnTo>
                      <a:pt x="710" y="895"/>
                    </a:lnTo>
                    <a:lnTo>
                      <a:pt x="698" y="900"/>
                    </a:lnTo>
                    <a:lnTo>
                      <a:pt x="693" y="900"/>
                    </a:lnTo>
                    <a:lnTo>
                      <a:pt x="693" y="906"/>
                    </a:lnTo>
                    <a:lnTo>
                      <a:pt x="681" y="923"/>
                    </a:lnTo>
                    <a:lnTo>
                      <a:pt x="675" y="941"/>
                    </a:lnTo>
                    <a:lnTo>
                      <a:pt x="669" y="958"/>
                    </a:lnTo>
                    <a:lnTo>
                      <a:pt x="669" y="958"/>
                    </a:lnTo>
                    <a:lnTo>
                      <a:pt x="669" y="958"/>
                    </a:lnTo>
                    <a:lnTo>
                      <a:pt x="669" y="975"/>
                    </a:lnTo>
                    <a:lnTo>
                      <a:pt x="669" y="993"/>
                    </a:lnTo>
                    <a:lnTo>
                      <a:pt x="669" y="1016"/>
                    </a:lnTo>
                    <a:lnTo>
                      <a:pt x="669" y="1021"/>
                    </a:lnTo>
                    <a:lnTo>
                      <a:pt x="669" y="1021"/>
                    </a:lnTo>
                    <a:lnTo>
                      <a:pt x="675" y="1039"/>
                    </a:lnTo>
                    <a:lnTo>
                      <a:pt x="681" y="1056"/>
                    </a:lnTo>
                    <a:lnTo>
                      <a:pt x="681" y="1056"/>
                    </a:lnTo>
                    <a:lnTo>
                      <a:pt x="681" y="1056"/>
                    </a:lnTo>
                    <a:lnTo>
                      <a:pt x="693" y="1068"/>
                    </a:lnTo>
                    <a:lnTo>
                      <a:pt x="698" y="1062"/>
                    </a:lnTo>
                    <a:lnTo>
                      <a:pt x="693" y="1068"/>
                    </a:lnTo>
                    <a:lnTo>
                      <a:pt x="704" y="1085"/>
                    </a:lnTo>
                    <a:lnTo>
                      <a:pt x="704" y="1085"/>
                    </a:lnTo>
                    <a:lnTo>
                      <a:pt x="710" y="1091"/>
                    </a:lnTo>
                    <a:lnTo>
                      <a:pt x="727" y="1102"/>
                    </a:lnTo>
                    <a:lnTo>
                      <a:pt x="727" y="1091"/>
                    </a:lnTo>
                    <a:lnTo>
                      <a:pt x="721" y="1097"/>
                    </a:lnTo>
                    <a:lnTo>
                      <a:pt x="727" y="1114"/>
                    </a:lnTo>
                    <a:lnTo>
                      <a:pt x="727" y="1114"/>
                    </a:lnTo>
                    <a:lnTo>
                      <a:pt x="727" y="1114"/>
                    </a:lnTo>
                    <a:lnTo>
                      <a:pt x="739" y="1125"/>
                    </a:lnTo>
                    <a:lnTo>
                      <a:pt x="745" y="1120"/>
                    </a:lnTo>
                    <a:lnTo>
                      <a:pt x="739" y="1125"/>
                    </a:lnTo>
                    <a:lnTo>
                      <a:pt x="745" y="1143"/>
                    </a:lnTo>
                    <a:lnTo>
                      <a:pt x="750" y="1137"/>
                    </a:lnTo>
                    <a:lnTo>
                      <a:pt x="745" y="1137"/>
                    </a:lnTo>
                    <a:lnTo>
                      <a:pt x="745" y="1154"/>
                    </a:lnTo>
                    <a:lnTo>
                      <a:pt x="745" y="1172"/>
                    </a:lnTo>
                    <a:lnTo>
                      <a:pt x="745" y="1183"/>
                    </a:lnTo>
                    <a:lnTo>
                      <a:pt x="750" y="1183"/>
                    </a:lnTo>
                    <a:lnTo>
                      <a:pt x="745" y="1183"/>
                    </a:lnTo>
                    <a:lnTo>
                      <a:pt x="739" y="1200"/>
                    </a:lnTo>
                    <a:lnTo>
                      <a:pt x="733" y="1218"/>
                    </a:lnTo>
                    <a:lnTo>
                      <a:pt x="721" y="1235"/>
                    </a:lnTo>
                    <a:lnTo>
                      <a:pt x="727" y="1235"/>
                    </a:lnTo>
                    <a:lnTo>
                      <a:pt x="721" y="1229"/>
                    </a:lnTo>
                    <a:lnTo>
                      <a:pt x="710" y="1241"/>
                    </a:lnTo>
                    <a:lnTo>
                      <a:pt x="698" y="1252"/>
                    </a:lnTo>
                    <a:lnTo>
                      <a:pt x="704" y="1258"/>
                    </a:lnTo>
                    <a:lnTo>
                      <a:pt x="704" y="1252"/>
                    </a:lnTo>
                    <a:lnTo>
                      <a:pt x="681" y="1264"/>
                    </a:lnTo>
                    <a:lnTo>
                      <a:pt x="681" y="1264"/>
                    </a:lnTo>
                    <a:lnTo>
                      <a:pt x="675" y="1264"/>
                    </a:lnTo>
                    <a:lnTo>
                      <a:pt x="658" y="1281"/>
                    </a:lnTo>
                    <a:lnTo>
                      <a:pt x="664" y="1287"/>
                    </a:lnTo>
                    <a:lnTo>
                      <a:pt x="664" y="1281"/>
                    </a:lnTo>
                    <a:lnTo>
                      <a:pt x="641" y="1287"/>
                    </a:lnTo>
                    <a:lnTo>
                      <a:pt x="612" y="1293"/>
                    </a:lnTo>
                    <a:lnTo>
                      <a:pt x="594" y="1293"/>
                    </a:lnTo>
                    <a:lnTo>
                      <a:pt x="566" y="1293"/>
                    </a:lnTo>
                    <a:lnTo>
                      <a:pt x="531" y="1293"/>
                    </a:lnTo>
                    <a:lnTo>
                      <a:pt x="496" y="1293"/>
                    </a:lnTo>
                    <a:lnTo>
                      <a:pt x="462" y="1293"/>
                    </a:lnTo>
                    <a:lnTo>
                      <a:pt x="421" y="1293"/>
                    </a:lnTo>
                    <a:lnTo>
                      <a:pt x="381" y="1293"/>
                    </a:lnTo>
                    <a:lnTo>
                      <a:pt x="341" y="1293"/>
                    </a:lnTo>
                    <a:lnTo>
                      <a:pt x="341" y="1298"/>
                    </a:lnTo>
                    <a:lnTo>
                      <a:pt x="352" y="1304"/>
                    </a:lnTo>
                    <a:lnTo>
                      <a:pt x="358" y="1287"/>
                    </a:lnTo>
                    <a:lnTo>
                      <a:pt x="364" y="1264"/>
                    </a:lnTo>
                    <a:lnTo>
                      <a:pt x="369" y="1241"/>
                    </a:lnTo>
                    <a:lnTo>
                      <a:pt x="375" y="1218"/>
                    </a:lnTo>
                    <a:lnTo>
                      <a:pt x="375" y="1218"/>
                    </a:lnTo>
                    <a:lnTo>
                      <a:pt x="375" y="1212"/>
                    </a:lnTo>
                    <a:lnTo>
                      <a:pt x="375" y="1189"/>
                    </a:lnTo>
                    <a:lnTo>
                      <a:pt x="364" y="1189"/>
                    </a:lnTo>
                    <a:lnTo>
                      <a:pt x="375" y="1195"/>
                    </a:lnTo>
                    <a:lnTo>
                      <a:pt x="381" y="1172"/>
                    </a:lnTo>
                    <a:lnTo>
                      <a:pt x="381" y="1172"/>
                    </a:lnTo>
                    <a:lnTo>
                      <a:pt x="381" y="1166"/>
                    </a:lnTo>
                    <a:lnTo>
                      <a:pt x="381" y="1143"/>
                    </a:lnTo>
                    <a:lnTo>
                      <a:pt x="381" y="1120"/>
                    </a:lnTo>
                    <a:lnTo>
                      <a:pt x="381" y="1097"/>
                    </a:lnTo>
                    <a:lnTo>
                      <a:pt x="381" y="1073"/>
                    </a:lnTo>
                    <a:lnTo>
                      <a:pt x="381" y="1073"/>
                    </a:lnTo>
                    <a:lnTo>
                      <a:pt x="381" y="1073"/>
                    </a:lnTo>
                    <a:lnTo>
                      <a:pt x="375" y="1050"/>
                    </a:lnTo>
                    <a:lnTo>
                      <a:pt x="364" y="1050"/>
                    </a:lnTo>
                    <a:lnTo>
                      <a:pt x="375" y="1050"/>
                    </a:lnTo>
                    <a:lnTo>
                      <a:pt x="375" y="1027"/>
                    </a:lnTo>
                    <a:lnTo>
                      <a:pt x="375" y="1027"/>
                    </a:lnTo>
                    <a:lnTo>
                      <a:pt x="375" y="1027"/>
                    </a:lnTo>
                    <a:lnTo>
                      <a:pt x="369" y="1010"/>
                    </a:lnTo>
                    <a:lnTo>
                      <a:pt x="364" y="993"/>
                    </a:lnTo>
                    <a:lnTo>
                      <a:pt x="358" y="975"/>
                    </a:lnTo>
                    <a:lnTo>
                      <a:pt x="352" y="964"/>
                    </a:lnTo>
                    <a:lnTo>
                      <a:pt x="346" y="946"/>
                    </a:lnTo>
                    <a:lnTo>
                      <a:pt x="346" y="946"/>
                    </a:lnTo>
                    <a:lnTo>
                      <a:pt x="341" y="941"/>
                    </a:lnTo>
                    <a:lnTo>
                      <a:pt x="335" y="935"/>
                    </a:lnTo>
                    <a:lnTo>
                      <a:pt x="329" y="941"/>
                    </a:lnTo>
                    <a:lnTo>
                      <a:pt x="341" y="941"/>
                    </a:lnTo>
                    <a:lnTo>
                      <a:pt x="335" y="929"/>
                    </a:lnTo>
                    <a:lnTo>
                      <a:pt x="335" y="929"/>
                    </a:lnTo>
                    <a:lnTo>
                      <a:pt x="329" y="923"/>
                    </a:lnTo>
                    <a:lnTo>
                      <a:pt x="323" y="918"/>
                    </a:lnTo>
                    <a:lnTo>
                      <a:pt x="323" y="918"/>
                    </a:lnTo>
                    <a:lnTo>
                      <a:pt x="323" y="918"/>
                    </a:lnTo>
                    <a:lnTo>
                      <a:pt x="312" y="912"/>
                    </a:lnTo>
                    <a:lnTo>
                      <a:pt x="312" y="912"/>
                    </a:lnTo>
                    <a:lnTo>
                      <a:pt x="306" y="912"/>
                    </a:lnTo>
                    <a:lnTo>
                      <a:pt x="300" y="912"/>
                    </a:lnTo>
                    <a:lnTo>
                      <a:pt x="300" y="918"/>
                    </a:lnTo>
                    <a:lnTo>
                      <a:pt x="306" y="912"/>
                    </a:lnTo>
                    <a:lnTo>
                      <a:pt x="300" y="906"/>
                    </a:lnTo>
                    <a:lnTo>
                      <a:pt x="300" y="906"/>
                    </a:lnTo>
                    <a:lnTo>
                      <a:pt x="294" y="906"/>
                    </a:lnTo>
                    <a:lnTo>
                      <a:pt x="283" y="906"/>
                    </a:lnTo>
                    <a:lnTo>
                      <a:pt x="266" y="906"/>
                    </a:lnTo>
                    <a:lnTo>
                      <a:pt x="242" y="912"/>
                    </a:lnTo>
                    <a:lnTo>
                      <a:pt x="231" y="912"/>
                    </a:lnTo>
                    <a:lnTo>
                      <a:pt x="242" y="912"/>
                    </a:lnTo>
                    <a:lnTo>
                      <a:pt x="225" y="918"/>
                    </a:lnTo>
                    <a:lnTo>
                      <a:pt x="196" y="929"/>
                    </a:lnTo>
                    <a:lnTo>
                      <a:pt x="179" y="935"/>
                    </a:lnTo>
                    <a:lnTo>
                      <a:pt x="179" y="941"/>
                    </a:lnTo>
                    <a:lnTo>
                      <a:pt x="179" y="935"/>
                    </a:lnTo>
                    <a:lnTo>
                      <a:pt x="167" y="935"/>
                    </a:lnTo>
                    <a:lnTo>
                      <a:pt x="167" y="935"/>
                    </a:lnTo>
                    <a:lnTo>
                      <a:pt x="167" y="935"/>
                    </a:lnTo>
                    <a:lnTo>
                      <a:pt x="156" y="941"/>
                    </a:lnTo>
                    <a:lnTo>
                      <a:pt x="156" y="946"/>
                    </a:lnTo>
                    <a:lnTo>
                      <a:pt x="156" y="941"/>
                    </a:lnTo>
                    <a:lnTo>
                      <a:pt x="139" y="941"/>
                    </a:lnTo>
                    <a:lnTo>
                      <a:pt x="127" y="941"/>
                    </a:lnTo>
                    <a:lnTo>
                      <a:pt x="116" y="941"/>
                    </a:lnTo>
                    <a:lnTo>
                      <a:pt x="104" y="941"/>
                    </a:lnTo>
                    <a:lnTo>
                      <a:pt x="104" y="946"/>
                    </a:lnTo>
                    <a:lnTo>
                      <a:pt x="110" y="941"/>
                    </a:lnTo>
                    <a:lnTo>
                      <a:pt x="98" y="935"/>
                    </a:lnTo>
                    <a:lnTo>
                      <a:pt x="98" y="935"/>
                    </a:lnTo>
                    <a:lnTo>
                      <a:pt x="92" y="935"/>
                    </a:lnTo>
                    <a:lnTo>
                      <a:pt x="81" y="935"/>
                    </a:lnTo>
                    <a:lnTo>
                      <a:pt x="81" y="941"/>
                    </a:lnTo>
                    <a:lnTo>
                      <a:pt x="87" y="935"/>
                    </a:lnTo>
                    <a:lnTo>
                      <a:pt x="75" y="929"/>
                    </a:lnTo>
                    <a:lnTo>
                      <a:pt x="69" y="935"/>
                    </a:lnTo>
                    <a:lnTo>
                      <a:pt x="75" y="929"/>
                    </a:lnTo>
                    <a:lnTo>
                      <a:pt x="69" y="923"/>
                    </a:lnTo>
                    <a:lnTo>
                      <a:pt x="69" y="923"/>
                    </a:lnTo>
                    <a:lnTo>
                      <a:pt x="64" y="923"/>
                    </a:lnTo>
                    <a:lnTo>
                      <a:pt x="58" y="923"/>
                    </a:lnTo>
                    <a:lnTo>
                      <a:pt x="58" y="929"/>
                    </a:lnTo>
                    <a:lnTo>
                      <a:pt x="64" y="923"/>
                    </a:lnTo>
                    <a:lnTo>
                      <a:pt x="46" y="912"/>
                    </a:lnTo>
                    <a:lnTo>
                      <a:pt x="41" y="918"/>
                    </a:lnTo>
                    <a:lnTo>
                      <a:pt x="52" y="918"/>
                    </a:lnTo>
                    <a:lnTo>
                      <a:pt x="41" y="900"/>
                    </a:lnTo>
                    <a:lnTo>
                      <a:pt x="35" y="889"/>
                    </a:lnTo>
                    <a:lnTo>
                      <a:pt x="23" y="871"/>
                    </a:lnTo>
                    <a:lnTo>
                      <a:pt x="17" y="854"/>
                    </a:lnTo>
                    <a:lnTo>
                      <a:pt x="6" y="854"/>
                    </a:lnTo>
                    <a:lnTo>
                      <a:pt x="17" y="854"/>
                    </a:lnTo>
                    <a:lnTo>
                      <a:pt x="17" y="843"/>
                    </a:lnTo>
                    <a:lnTo>
                      <a:pt x="17" y="825"/>
                    </a:lnTo>
                    <a:lnTo>
                      <a:pt x="17" y="808"/>
                    </a:lnTo>
                    <a:lnTo>
                      <a:pt x="6" y="808"/>
                    </a:lnTo>
                    <a:lnTo>
                      <a:pt x="17" y="814"/>
                    </a:lnTo>
                    <a:lnTo>
                      <a:pt x="23" y="802"/>
                    </a:lnTo>
                    <a:lnTo>
                      <a:pt x="12" y="796"/>
                    </a:lnTo>
                    <a:lnTo>
                      <a:pt x="17" y="802"/>
                    </a:lnTo>
                    <a:lnTo>
                      <a:pt x="23" y="796"/>
                    </a:lnTo>
                    <a:lnTo>
                      <a:pt x="29" y="796"/>
                    </a:lnTo>
                    <a:lnTo>
                      <a:pt x="29" y="796"/>
                    </a:lnTo>
                    <a:lnTo>
                      <a:pt x="41" y="779"/>
                    </a:lnTo>
                    <a:lnTo>
                      <a:pt x="52" y="762"/>
                    </a:lnTo>
                    <a:lnTo>
                      <a:pt x="41" y="756"/>
                    </a:lnTo>
                    <a:lnTo>
                      <a:pt x="46" y="762"/>
                    </a:lnTo>
                    <a:lnTo>
                      <a:pt x="58" y="750"/>
                    </a:lnTo>
                    <a:lnTo>
                      <a:pt x="52" y="745"/>
                    </a:lnTo>
                    <a:lnTo>
                      <a:pt x="58" y="756"/>
                    </a:lnTo>
                    <a:lnTo>
                      <a:pt x="69" y="750"/>
                    </a:lnTo>
                    <a:lnTo>
                      <a:pt x="69" y="745"/>
                    </a:lnTo>
                    <a:lnTo>
                      <a:pt x="75" y="745"/>
                    </a:lnTo>
                    <a:lnTo>
                      <a:pt x="81" y="733"/>
                    </a:lnTo>
                    <a:lnTo>
                      <a:pt x="69" y="727"/>
                    </a:lnTo>
                    <a:lnTo>
                      <a:pt x="75" y="739"/>
                    </a:lnTo>
                    <a:lnTo>
                      <a:pt x="87" y="733"/>
                    </a:lnTo>
                    <a:lnTo>
                      <a:pt x="81" y="721"/>
                    </a:lnTo>
                    <a:lnTo>
                      <a:pt x="81" y="733"/>
                    </a:lnTo>
                    <a:lnTo>
                      <a:pt x="92" y="733"/>
                    </a:lnTo>
                    <a:lnTo>
                      <a:pt x="98" y="733"/>
                    </a:lnTo>
                    <a:lnTo>
                      <a:pt x="98" y="733"/>
                    </a:lnTo>
                    <a:lnTo>
                      <a:pt x="110" y="727"/>
                    </a:lnTo>
                    <a:lnTo>
                      <a:pt x="104" y="716"/>
                    </a:lnTo>
                    <a:lnTo>
                      <a:pt x="104" y="727"/>
                    </a:lnTo>
                    <a:lnTo>
                      <a:pt x="116" y="727"/>
                    </a:lnTo>
                    <a:lnTo>
                      <a:pt x="127" y="727"/>
                    </a:lnTo>
                    <a:lnTo>
                      <a:pt x="127" y="716"/>
                    </a:lnTo>
                    <a:lnTo>
                      <a:pt x="121" y="721"/>
                    </a:lnTo>
                    <a:lnTo>
                      <a:pt x="127" y="727"/>
                    </a:lnTo>
                    <a:lnTo>
                      <a:pt x="133" y="733"/>
                    </a:lnTo>
                    <a:lnTo>
                      <a:pt x="133" y="733"/>
                    </a:lnTo>
                    <a:lnTo>
                      <a:pt x="144" y="733"/>
                    </a:lnTo>
                    <a:lnTo>
                      <a:pt x="167" y="739"/>
                    </a:lnTo>
                    <a:lnTo>
                      <a:pt x="167" y="727"/>
                    </a:lnTo>
                    <a:lnTo>
                      <a:pt x="167" y="739"/>
                    </a:lnTo>
                    <a:lnTo>
                      <a:pt x="185" y="750"/>
                    </a:lnTo>
                    <a:lnTo>
                      <a:pt x="208" y="762"/>
                    </a:lnTo>
                    <a:lnTo>
                      <a:pt x="225" y="773"/>
                    </a:lnTo>
                    <a:lnTo>
                      <a:pt x="242" y="779"/>
                    </a:lnTo>
                    <a:lnTo>
                      <a:pt x="266" y="791"/>
                    </a:lnTo>
                    <a:lnTo>
                      <a:pt x="266" y="791"/>
                    </a:lnTo>
                    <a:lnTo>
                      <a:pt x="266" y="791"/>
                    </a:lnTo>
                    <a:lnTo>
                      <a:pt x="277" y="791"/>
                    </a:lnTo>
                    <a:lnTo>
                      <a:pt x="277" y="779"/>
                    </a:lnTo>
                    <a:lnTo>
                      <a:pt x="271" y="785"/>
                    </a:lnTo>
                    <a:lnTo>
                      <a:pt x="277" y="791"/>
                    </a:lnTo>
                    <a:lnTo>
                      <a:pt x="283" y="796"/>
                    </a:lnTo>
                    <a:lnTo>
                      <a:pt x="283" y="796"/>
                    </a:lnTo>
                    <a:lnTo>
                      <a:pt x="294" y="796"/>
                    </a:lnTo>
                    <a:lnTo>
                      <a:pt x="306" y="796"/>
                    </a:lnTo>
                    <a:lnTo>
                      <a:pt x="312" y="796"/>
                    </a:lnTo>
                    <a:lnTo>
                      <a:pt x="312" y="791"/>
                    </a:lnTo>
                    <a:lnTo>
                      <a:pt x="317" y="785"/>
                    </a:lnTo>
                    <a:lnTo>
                      <a:pt x="312" y="779"/>
                    </a:lnTo>
                    <a:lnTo>
                      <a:pt x="317" y="791"/>
                    </a:lnTo>
                    <a:lnTo>
                      <a:pt x="329" y="785"/>
                    </a:lnTo>
                    <a:lnTo>
                      <a:pt x="341" y="779"/>
                    </a:lnTo>
                    <a:lnTo>
                      <a:pt x="341" y="779"/>
                    </a:lnTo>
                    <a:lnTo>
                      <a:pt x="341" y="773"/>
                    </a:lnTo>
                    <a:lnTo>
                      <a:pt x="346" y="7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4648320" y="3922560"/>
              <a:ext cx="1471320" cy="2630520"/>
              <a:chOff x="4648320" y="3922560"/>
              <a:chExt cx="1471320" cy="2630520"/>
            </a:xfrm>
          </p:grpSpPr>
          <p:sp>
            <p:nvSpPr>
              <p:cNvPr id="108" name=""/>
              <p:cNvSpPr/>
              <p:nvPr/>
            </p:nvSpPr>
            <p:spPr>
              <a:xfrm>
                <a:off x="4656600" y="3931920"/>
                <a:ext cx="1445760" cy="2602440"/>
              </a:xfrm>
              <a:custGeom>
                <a:avLst/>
                <a:gdLst/>
                <a:ahLst/>
                <a:rect l="l" t="t" r="r" b="b"/>
                <a:pathLst>
                  <a:path w="1027" h="1696">
                    <a:moveTo>
                      <a:pt x="179" y="831"/>
                    </a:moveTo>
                    <a:lnTo>
                      <a:pt x="185" y="825"/>
                    </a:lnTo>
                    <a:lnTo>
                      <a:pt x="190" y="813"/>
                    </a:lnTo>
                    <a:lnTo>
                      <a:pt x="196" y="813"/>
                    </a:lnTo>
                    <a:lnTo>
                      <a:pt x="202" y="807"/>
                    </a:lnTo>
                    <a:lnTo>
                      <a:pt x="219" y="802"/>
                    </a:lnTo>
                    <a:lnTo>
                      <a:pt x="237" y="796"/>
                    </a:lnTo>
                    <a:lnTo>
                      <a:pt x="254" y="796"/>
                    </a:lnTo>
                    <a:lnTo>
                      <a:pt x="277" y="796"/>
                    </a:lnTo>
                    <a:lnTo>
                      <a:pt x="294" y="802"/>
                    </a:lnTo>
                    <a:lnTo>
                      <a:pt x="312" y="807"/>
                    </a:lnTo>
                    <a:lnTo>
                      <a:pt x="329" y="819"/>
                    </a:lnTo>
                    <a:lnTo>
                      <a:pt x="346" y="831"/>
                    </a:lnTo>
                    <a:lnTo>
                      <a:pt x="364" y="842"/>
                    </a:lnTo>
                    <a:lnTo>
                      <a:pt x="375" y="859"/>
                    </a:lnTo>
                    <a:lnTo>
                      <a:pt x="375" y="871"/>
                    </a:lnTo>
                    <a:lnTo>
                      <a:pt x="381" y="877"/>
                    </a:lnTo>
                    <a:lnTo>
                      <a:pt x="387" y="888"/>
                    </a:lnTo>
                    <a:lnTo>
                      <a:pt x="392" y="894"/>
                    </a:lnTo>
                    <a:lnTo>
                      <a:pt x="392" y="906"/>
                    </a:lnTo>
                    <a:lnTo>
                      <a:pt x="392" y="917"/>
                    </a:lnTo>
                    <a:lnTo>
                      <a:pt x="392" y="929"/>
                    </a:lnTo>
                    <a:lnTo>
                      <a:pt x="392" y="940"/>
                    </a:lnTo>
                    <a:lnTo>
                      <a:pt x="387" y="957"/>
                    </a:lnTo>
                    <a:lnTo>
                      <a:pt x="381" y="981"/>
                    </a:lnTo>
                    <a:lnTo>
                      <a:pt x="369" y="992"/>
                    </a:lnTo>
                    <a:lnTo>
                      <a:pt x="358" y="1009"/>
                    </a:lnTo>
                    <a:lnTo>
                      <a:pt x="346" y="1021"/>
                    </a:lnTo>
                    <a:lnTo>
                      <a:pt x="335" y="1032"/>
                    </a:lnTo>
                    <a:lnTo>
                      <a:pt x="317" y="1038"/>
                    </a:lnTo>
                    <a:lnTo>
                      <a:pt x="300" y="1044"/>
                    </a:lnTo>
                    <a:lnTo>
                      <a:pt x="289" y="1050"/>
                    </a:lnTo>
                    <a:lnTo>
                      <a:pt x="271" y="1050"/>
                    </a:lnTo>
                    <a:lnTo>
                      <a:pt x="254" y="1050"/>
                    </a:lnTo>
                    <a:lnTo>
                      <a:pt x="237" y="1044"/>
                    </a:lnTo>
                    <a:lnTo>
                      <a:pt x="219" y="1038"/>
                    </a:lnTo>
                    <a:lnTo>
                      <a:pt x="208" y="1032"/>
                    </a:lnTo>
                    <a:lnTo>
                      <a:pt x="196" y="1027"/>
                    </a:lnTo>
                    <a:lnTo>
                      <a:pt x="185" y="1015"/>
                    </a:lnTo>
                    <a:lnTo>
                      <a:pt x="173" y="1004"/>
                    </a:lnTo>
                    <a:lnTo>
                      <a:pt x="162" y="992"/>
                    </a:lnTo>
                    <a:lnTo>
                      <a:pt x="150" y="986"/>
                    </a:lnTo>
                    <a:lnTo>
                      <a:pt x="133" y="981"/>
                    </a:lnTo>
                    <a:lnTo>
                      <a:pt x="121" y="975"/>
                    </a:lnTo>
                    <a:lnTo>
                      <a:pt x="110" y="969"/>
                    </a:lnTo>
                    <a:lnTo>
                      <a:pt x="98" y="963"/>
                    </a:lnTo>
                    <a:lnTo>
                      <a:pt x="87" y="963"/>
                    </a:lnTo>
                    <a:lnTo>
                      <a:pt x="75" y="963"/>
                    </a:lnTo>
                    <a:lnTo>
                      <a:pt x="64" y="963"/>
                    </a:lnTo>
                    <a:lnTo>
                      <a:pt x="52" y="969"/>
                    </a:lnTo>
                    <a:lnTo>
                      <a:pt x="40" y="975"/>
                    </a:lnTo>
                    <a:lnTo>
                      <a:pt x="29" y="981"/>
                    </a:lnTo>
                    <a:lnTo>
                      <a:pt x="23" y="992"/>
                    </a:lnTo>
                    <a:lnTo>
                      <a:pt x="17" y="1004"/>
                    </a:lnTo>
                    <a:lnTo>
                      <a:pt x="17" y="1021"/>
                    </a:lnTo>
                    <a:lnTo>
                      <a:pt x="12" y="1056"/>
                    </a:lnTo>
                    <a:lnTo>
                      <a:pt x="6" y="1096"/>
                    </a:lnTo>
                    <a:lnTo>
                      <a:pt x="0" y="1136"/>
                    </a:lnTo>
                    <a:lnTo>
                      <a:pt x="0" y="1177"/>
                    </a:lnTo>
                    <a:lnTo>
                      <a:pt x="0" y="1223"/>
                    </a:lnTo>
                    <a:lnTo>
                      <a:pt x="0" y="1263"/>
                    </a:lnTo>
                    <a:lnTo>
                      <a:pt x="6" y="1281"/>
                    </a:lnTo>
                    <a:lnTo>
                      <a:pt x="6" y="1298"/>
                    </a:lnTo>
                    <a:lnTo>
                      <a:pt x="12" y="1315"/>
                    </a:lnTo>
                    <a:lnTo>
                      <a:pt x="17" y="1327"/>
                    </a:lnTo>
                    <a:lnTo>
                      <a:pt x="46" y="1321"/>
                    </a:lnTo>
                    <a:lnTo>
                      <a:pt x="87" y="1315"/>
                    </a:lnTo>
                    <a:lnTo>
                      <a:pt x="133" y="1309"/>
                    </a:lnTo>
                    <a:lnTo>
                      <a:pt x="185" y="1309"/>
                    </a:lnTo>
                    <a:lnTo>
                      <a:pt x="237" y="1304"/>
                    </a:lnTo>
                    <a:lnTo>
                      <a:pt x="277" y="1304"/>
                    </a:lnTo>
                    <a:lnTo>
                      <a:pt x="317" y="1309"/>
                    </a:lnTo>
                    <a:lnTo>
                      <a:pt x="346" y="1309"/>
                    </a:lnTo>
                    <a:lnTo>
                      <a:pt x="375" y="1315"/>
                    </a:lnTo>
                    <a:lnTo>
                      <a:pt x="398" y="1321"/>
                    </a:lnTo>
                    <a:lnTo>
                      <a:pt x="421" y="1333"/>
                    </a:lnTo>
                    <a:lnTo>
                      <a:pt x="439" y="1344"/>
                    </a:lnTo>
                    <a:lnTo>
                      <a:pt x="450" y="1350"/>
                    </a:lnTo>
                    <a:lnTo>
                      <a:pt x="462" y="1361"/>
                    </a:lnTo>
                    <a:lnTo>
                      <a:pt x="473" y="1373"/>
                    </a:lnTo>
                    <a:lnTo>
                      <a:pt x="479" y="1384"/>
                    </a:lnTo>
                    <a:lnTo>
                      <a:pt x="479" y="1396"/>
                    </a:lnTo>
                    <a:lnTo>
                      <a:pt x="479" y="1408"/>
                    </a:lnTo>
                    <a:lnTo>
                      <a:pt x="479" y="1419"/>
                    </a:lnTo>
                    <a:lnTo>
                      <a:pt x="479" y="1431"/>
                    </a:lnTo>
                    <a:lnTo>
                      <a:pt x="473" y="1442"/>
                    </a:lnTo>
                    <a:lnTo>
                      <a:pt x="467" y="1454"/>
                    </a:lnTo>
                    <a:lnTo>
                      <a:pt x="456" y="1465"/>
                    </a:lnTo>
                    <a:lnTo>
                      <a:pt x="444" y="1471"/>
                    </a:lnTo>
                    <a:lnTo>
                      <a:pt x="433" y="1488"/>
                    </a:lnTo>
                    <a:lnTo>
                      <a:pt x="427" y="1500"/>
                    </a:lnTo>
                    <a:lnTo>
                      <a:pt x="421" y="1517"/>
                    </a:lnTo>
                    <a:lnTo>
                      <a:pt x="416" y="1534"/>
                    </a:lnTo>
                    <a:lnTo>
                      <a:pt x="416" y="1552"/>
                    </a:lnTo>
                    <a:lnTo>
                      <a:pt x="416" y="1575"/>
                    </a:lnTo>
                    <a:lnTo>
                      <a:pt x="416" y="1592"/>
                    </a:lnTo>
                    <a:lnTo>
                      <a:pt x="421" y="1609"/>
                    </a:lnTo>
                    <a:lnTo>
                      <a:pt x="433" y="1627"/>
                    </a:lnTo>
                    <a:lnTo>
                      <a:pt x="444" y="1644"/>
                    </a:lnTo>
                    <a:lnTo>
                      <a:pt x="456" y="1656"/>
                    </a:lnTo>
                    <a:lnTo>
                      <a:pt x="467" y="1673"/>
                    </a:lnTo>
                    <a:lnTo>
                      <a:pt x="479" y="1679"/>
                    </a:lnTo>
                    <a:lnTo>
                      <a:pt x="491" y="1684"/>
                    </a:lnTo>
                    <a:lnTo>
                      <a:pt x="496" y="1684"/>
                    </a:lnTo>
                    <a:lnTo>
                      <a:pt x="508" y="1690"/>
                    </a:lnTo>
                    <a:lnTo>
                      <a:pt x="519" y="1696"/>
                    </a:lnTo>
                    <a:lnTo>
                      <a:pt x="531" y="1696"/>
                    </a:lnTo>
                    <a:lnTo>
                      <a:pt x="542" y="1696"/>
                    </a:lnTo>
                    <a:lnTo>
                      <a:pt x="554" y="1696"/>
                    </a:lnTo>
                    <a:lnTo>
                      <a:pt x="583" y="1696"/>
                    </a:lnTo>
                    <a:lnTo>
                      <a:pt x="606" y="1690"/>
                    </a:lnTo>
                    <a:lnTo>
                      <a:pt x="623" y="1679"/>
                    </a:lnTo>
                    <a:lnTo>
                      <a:pt x="641" y="1673"/>
                    </a:lnTo>
                    <a:lnTo>
                      <a:pt x="658" y="1656"/>
                    </a:lnTo>
                    <a:lnTo>
                      <a:pt x="675" y="1644"/>
                    </a:lnTo>
                    <a:lnTo>
                      <a:pt x="687" y="1633"/>
                    </a:lnTo>
                    <a:lnTo>
                      <a:pt x="693" y="1615"/>
                    </a:lnTo>
                    <a:lnTo>
                      <a:pt x="698" y="1598"/>
                    </a:lnTo>
                    <a:lnTo>
                      <a:pt x="698" y="1581"/>
                    </a:lnTo>
                    <a:lnTo>
                      <a:pt x="704" y="1563"/>
                    </a:lnTo>
                    <a:lnTo>
                      <a:pt x="698" y="1546"/>
                    </a:lnTo>
                    <a:lnTo>
                      <a:pt x="693" y="1529"/>
                    </a:lnTo>
                    <a:lnTo>
                      <a:pt x="687" y="1511"/>
                    </a:lnTo>
                    <a:lnTo>
                      <a:pt x="675" y="1494"/>
                    </a:lnTo>
                    <a:lnTo>
                      <a:pt x="658" y="1483"/>
                    </a:lnTo>
                    <a:lnTo>
                      <a:pt x="646" y="1465"/>
                    </a:lnTo>
                    <a:lnTo>
                      <a:pt x="641" y="1454"/>
                    </a:lnTo>
                    <a:lnTo>
                      <a:pt x="629" y="1436"/>
                    </a:lnTo>
                    <a:lnTo>
                      <a:pt x="623" y="1419"/>
                    </a:lnTo>
                    <a:lnTo>
                      <a:pt x="623" y="1402"/>
                    </a:lnTo>
                    <a:lnTo>
                      <a:pt x="623" y="1384"/>
                    </a:lnTo>
                    <a:lnTo>
                      <a:pt x="623" y="1373"/>
                    </a:lnTo>
                    <a:lnTo>
                      <a:pt x="623" y="1356"/>
                    </a:lnTo>
                    <a:lnTo>
                      <a:pt x="629" y="1344"/>
                    </a:lnTo>
                    <a:lnTo>
                      <a:pt x="635" y="1327"/>
                    </a:lnTo>
                    <a:lnTo>
                      <a:pt x="641" y="1315"/>
                    </a:lnTo>
                    <a:lnTo>
                      <a:pt x="652" y="1309"/>
                    </a:lnTo>
                    <a:lnTo>
                      <a:pt x="658" y="1298"/>
                    </a:lnTo>
                    <a:lnTo>
                      <a:pt x="669" y="1292"/>
                    </a:lnTo>
                    <a:lnTo>
                      <a:pt x="681" y="1286"/>
                    </a:lnTo>
                    <a:lnTo>
                      <a:pt x="687" y="1286"/>
                    </a:lnTo>
                    <a:lnTo>
                      <a:pt x="704" y="1286"/>
                    </a:lnTo>
                    <a:lnTo>
                      <a:pt x="733" y="1292"/>
                    </a:lnTo>
                    <a:lnTo>
                      <a:pt x="762" y="1292"/>
                    </a:lnTo>
                    <a:lnTo>
                      <a:pt x="802" y="1298"/>
                    </a:lnTo>
                    <a:lnTo>
                      <a:pt x="848" y="1304"/>
                    </a:lnTo>
                    <a:lnTo>
                      <a:pt x="894" y="1304"/>
                    </a:lnTo>
                    <a:lnTo>
                      <a:pt x="941" y="1309"/>
                    </a:lnTo>
                    <a:lnTo>
                      <a:pt x="993" y="1309"/>
                    </a:lnTo>
                    <a:lnTo>
                      <a:pt x="1004" y="1292"/>
                    </a:lnTo>
                    <a:lnTo>
                      <a:pt x="1010" y="1269"/>
                    </a:lnTo>
                    <a:lnTo>
                      <a:pt x="1016" y="1246"/>
                    </a:lnTo>
                    <a:lnTo>
                      <a:pt x="1021" y="1223"/>
                    </a:lnTo>
                    <a:lnTo>
                      <a:pt x="1027" y="1200"/>
                    </a:lnTo>
                    <a:lnTo>
                      <a:pt x="1027" y="1177"/>
                    </a:lnTo>
                    <a:lnTo>
                      <a:pt x="1027" y="1154"/>
                    </a:lnTo>
                    <a:lnTo>
                      <a:pt x="1027" y="1131"/>
                    </a:lnTo>
                    <a:lnTo>
                      <a:pt x="1027" y="1108"/>
                    </a:lnTo>
                    <a:lnTo>
                      <a:pt x="1027" y="1084"/>
                    </a:lnTo>
                    <a:lnTo>
                      <a:pt x="1021" y="1061"/>
                    </a:lnTo>
                    <a:lnTo>
                      <a:pt x="1021" y="1038"/>
                    </a:lnTo>
                    <a:lnTo>
                      <a:pt x="1016" y="1021"/>
                    </a:lnTo>
                    <a:lnTo>
                      <a:pt x="1010" y="1004"/>
                    </a:lnTo>
                    <a:lnTo>
                      <a:pt x="1004" y="986"/>
                    </a:lnTo>
                    <a:lnTo>
                      <a:pt x="998" y="975"/>
                    </a:lnTo>
                    <a:lnTo>
                      <a:pt x="993" y="957"/>
                    </a:lnTo>
                    <a:lnTo>
                      <a:pt x="987" y="952"/>
                    </a:lnTo>
                    <a:lnTo>
                      <a:pt x="981" y="940"/>
                    </a:lnTo>
                    <a:lnTo>
                      <a:pt x="975" y="934"/>
                    </a:lnTo>
                    <a:lnTo>
                      <a:pt x="964" y="929"/>
                    </a:lnTo>
                    <a:lnTo>
                      <a:pt x="958" y="929"/>
                    </a:lnTo>
                    <a:lnTo>
                      <a:pt x="952" y="923"/>
                    </a:lnTo>
                    <a:lnTo>
                      <a:pt x="941" y="923"/>
                    </a:lnTo>
                    <a:lnTo>
                      <a:pt x="923" y="923"/>
                    </a:lnTo>
                    <a:lnTo>
                      <a:pt x="900" y="929"/>
                    </a:lnTo>
                    <a:lnTo>
                      <a:pt x="877" y="934"/>
                    </a:lnTo>
                    <a:lnTo>
                      <a:pt x="854" y="946"/>
                    </a:lnTo>
                    <a:lnTo>
                      <a:pt x="837" y="952"/>
                    </a:lnTo>
                    <a:lnTo>
                      <a:pt x="825" y="952"/>
                    </a:lnTo>
                    <a:lnTo>
                      <a:pt x="808" y="957"/>
                    </a:lnTo>
                    <a:lnTo>
                      <a:pt x="796" y="957"/>
                    </a:lnTo>
                    <a:lnTo>
                      <a:pt x="779" y="957"/>
                    </a:lnTo>
                    <a:lnTo>
                      <a:pt x="768" y="957"/>
                    </a:lnTo>
                    <a:lnTo>
                      <a:pt x="762" y="957"/>
                    </a:lnTo>
                    <a:lnTo>
                      <a:pt x="744" y="952"/>
                    </a:lnTo>
                    <a:lnTo>
                      <a:pt x="739" y="952"/>
                    </a:lnTo>
                    <a:lnTo>
                      <a:pt x="727" y="946"/>
                    </a:lnTo>
                    <a:lnTo>
                      <a:pt x="721" y="946"/>
                    </a:lnTo>
                    <a:lnTo>
                      <a:pt x="710" y="940"/>
                    </a:lnTo>
                    <a:lnTo>
                      <a:pt x="698" y="929"/>
                    </a:lnTo>
                    <a:lnTo>
                      <a:pt x="687" y="911"/>
                    </a:lnTo>
                    <a:lnTo>
                      <a:pt x="675" y="900"/>
                    </a:lnTo>
                    <a:lnTo>
                      <a:pt x="669" y="882"/>
                    </a:lnTo>
                    <a:lnTo>
                      <a:pt x="664" y="865"/>
                    </a:lnTo>
                    <a:lnTo>
                      <a:pt x="664" y="854"/>
                    </a:lnTo>
                    <a:lnTo>
                      <a:pt x="664" y="836"/>
                    </a:lnTo>
                    <a:lnTo>
                      <a:pt x="664" y="825"/>
                    </a:lnTo>
                    <a:lnTo>
                      <a:pt x="669" y="813"/>
                    </a:lnTo>
                    <a:lnTo>
                      <a:pt x="675" y="802"/>
                    </a:lnTo>
                    <a:lnTo>
                      <a:pt x="681" y="784"/>
                    </a:lnTo>
                    <a:lnTo>
                      <a:pt x="693" y="767"/>
                    </a:lnTo>
                    <a:lnTo>
                      <a:pt x="704" y="756"/>
                    </a:lnTo>
                    <a:lnTo>
                      <a:pt x="716" y="750"/>
                    </a:lnTo>
                    <a:lnTo>
                      <a:pt x="727" y="744"/>
                    </a:lnTo>
                    <a:lnTo>
                      <a:pt x="739" y="738"/>
                    </a:lnTo>
                    <a:lnTo>
                      <a:pt x="750" y="732"/>
                    </a:lnTo>
                    <a:lnTo>
                      <a:pt x="762" y="727"/>
                    </a:lnTo>
                    <a:lnTo>
                      <a:pt x="773" y="727"/>
                    </a:lnTo>
                    <a:lnTo>
                      <a:pt x="779" y="727"/>
                    </a:lnTo>
                    <a:lnTo>
                      <a:pt x="791" y="732"/>
                    </a:lnTo>
                    <a:lnTo>
                      <a:pt x="802" y="732"/>
                    </a:lnTo>
                    <a:lnTo>
                      <a:pt x="825" y="744"/>
                    </a:lnTo>
                    <a:lnTo>
                      <a:pt x="843" y="750"/>
                    </a:lnTo>
                    <a:lnTo>
                      <a:pt x="866" y="761"/>
                    </a:lnTo>
                    <a:lnTo>
                      <a:pt x="883" y="773"/>
                    </a:lnTo>
                    <a:lnTo>
                      <a:pt x="900" y="784"/>
                    </a:lnTo>
                    <a:lnTo>
                      <a:pt x="923" y="790"/>
                    </a:lnTo>
                    <a:lnTo>
                      <a:pt x="935" y="790"/>
                    </a:lnTo>
                    <a:lnTo>
                      <a:pt x="941" y="796"/>
                    </a:lnTo>
                    <a:lnTo>
                      <a:pt x="952" y="796"/>
                    </a:lnTo>
                    <a:lnTo>
                      <a:pt x="964" y="790"/>
                    </a:lnTo>
                    <a:lnTo>
                      <a:pt x="969" y="790"/>
                    </a:lnTo>
                    <a:lnTo>
                      <a:pt x="981" y="784"/>
                    </a:lnTo>
                    <a:lnTo>
                      <a:pt x="993" y="779"/>
                    </a:lnTo>
                    <a:lnTo>
                      <a:pt x="998" y="773"/>
                    </a:lnTo>
                    <a:lnTo>
                      <a:pt x="1004" y="767"/>
                    </a:lnTo>
                    <a:lnTo>
                      <a:pt x="1010" y="761"/>
                    </a:lnTo>
                    <a:lnTo>
                      <a:pt x="1010" y="756"/>
                    </a:lnTo>
                    <a:lnTo>
                      <a:pt x="1016" y="744"/>
                    </a:lnTo>
                    <a:lnTo>
                      <a:pt x="1021" y="721"/>
                    </a:lnTo>
                    <a:lnTo>
                      <a:pt x="1021" y="698"/>
                    </a:lnTo>
                    <a:lnTo>
                      <a:pt x="1021" y="669"/>
                    </a:lnTo>
                    <a:lnTo>
                      <a:pt x="1016" y="634"/>
                    </a:lnTo>
                    <a:lnTo>
                      <a:pt x="1016" y="606"/>
                    </a:lnTo>
                    <a:lnTo>
                      <a:pt x="1010" y="571"/>
                    </a:lnTo>
                    <a:lnTo>
                      <a:pt x="1004" y="502"/>
                    </a:lnTo>
                    <a:lnTo>
                      <a:pt x="998" y="444"/>
                    </a:lnTo>
                    <a:lnTo>
                      <a:pt x="998" y="421"/>
                    </a:lnTo>
                    <a:lnTo>
                      <a:pt x="998" y="398"/>
                    </a:lnTo>
                    <a:lnTo>
                      <a:pt x="998" y="381"/>
                    </a:lnTo>
                    <a:lnTo>
                      <a:pt x="998" y="369"/>
                    </a:lnTo>
                    <a:lnTo>
                      <a:pt x="981" y="381"/>
                    </a:lnTo>
                    <a:lnTo>
                      <a:pt x="958" y="392"/>
                    </a:lnTo>
                    <a:lnTo>
                      <a:pt x="935" y="398"/>
                    </a:lnTo>
                    <a:lnTo>
                      <a:pt x="906" y="404"/>
                    </a:lnTo>
                    <a:lnTo>
                      <a:pt x="877" y="409"/>
                    </a:lnTo>
                    <a:lnTo>
                      <a:pt x="848" y="409"/>
                    </a:lnTo>
                    <a:lnTo>
                      <a:pt x="819" y="409"/>
                    </a:lnTo>
                    <a:lnTo>
                      <a:pt x="791" y="409"/>
                    </a:lnTo>
                    <a:lnTo>
                      <a:pt x="762" y="409"/>
                    </a:lnTo>
                    <a:lnTo>
                      <a:pt x="727" y="409"/>
                    </a:lnTo>
                    <a:lnTo>
                      <a:pt x="704" y="404"/>
                    </a:lnTo>
                    <a:lnTo>
                      <a:pt x="675" y="398"/>
                    </a:lnTo>
                    <a:lnTo>
                      <a:pt x="652" y="392"/>
                    </a:lnTo>
                    <a:lnTo>
                      <a:pt x="635" y="386"/>
                    </a:lnTo>
                    <a:lnTo>
                      <a:pt x="617" y="375"/>
                    </a:lnTo>
                    <a:lnTo>
                      <a:pt x="600" y="369"/>
                    </a:lnTo>
                    <a:lnTo>
                      <a:pt x="589" y="357"/>
                    </a:lnTo>
                    <a:lnTo>
                      <a:pt x="583" y="352"/>
                    </a:lnTo>
                    <a:lnTo>
                      <a:pt x="577" y="346"/>
                    </a:lnTo>
                    <a:lnTo>
                      <a:pt x="571" y="334"/>
                    </a:lnTo>
                    <a:lnTo>
                      <a:pt x="571" y="329"/>
                    </a:lnTo>
                    <a:lnTo>
                      <a:pt x="571" y="317"/>
                    </a:lnTo>
                    <a:lnTo>
                      <a:pt x="571" y="311"/>
                    </a:lnTo>
                    <a:lnTo>
                      <a:pt x="571" y="300"/>
                    </a:lnTo>
                    <a:lnTo>
                      <a:pt x="577" y="294"/>
                    </a:lnTo>
                    <a:lnTo>
                      <a:pt x="583" y="282"/>
                    </a:lnTo>
                    <a:lnTo>
                      <a:pt x="589" y="271"/>
                    </a:lnTo>
                    <a:lnTo>
                      <a:pt x="600" y="265"/>
                    </a:lnTo>
                    <a:lnTo>
                      <a:pt x="617" y="242"/>
                    </a:lnTo>
                    <a:lnTo>
                      <a:pt x="641" y="219"/>
                    </a:lnTo>
                    <a:lnTo>
                      <a:pt x="652" y="202"/>
                    </a:lnTo>
                    <a:lnTo>
                      <a:pt x="658" y="184"/>
                    </a:lnTo>
                    <a:lnTo>
                      <a:pt x="664" y="167"/>
                    </a:lnTo>
                    <a:lnTo>
                      <a:pt x="669" y="156"/>
                    </a:lnTo>
                    <a:lnTo>
                      <a:pt x="669" y="132"/>
                    </a:lnTo>
                    <a:lnTo>
                      <a:pt x="669" y="115"/>
                    </a:lnTo>
                    <a:lnTo>
                      <a:pt x="664" y="98"/>
                    </a:lnTo>
                    <a:lnTo>
                      <a:pt x="658" y="81"/>
                    </a:lnTo>
                    <a:lnTo>
                      <a:pt x="646" y="63"/>
                    </a:lnTo>
                    <a:lnTo>
                      <a:pt x="635" y="52"/>
                    </a:lnTo>
                    <a:lnTo>
                      <a:pt x="623" y="34"/>
                    </a:lnTo>
                    <a:lnTo>
                      <a:pt x="606" y="23"/>
                    </a:lnTo>
                    <a:lnTo>
                      <a:pt x="589" y="17"/>
                    </a:lnTo>
                    <a:lnTo>
                      <a:pt x="571" y="6"/>
                    </a:lnTo>
                    <a:lnTo>
                      <a:pt x="548" y="0"/>
                    </a:lnTo>
                    <a:lnTo>
                      <a:pt x="525" y="0"/>
                    </a:lnTo>
                    <a:lnTo>
                      <a:pt x="502" y="0"/>
                    </a:lnTo>
                    <a:lnTo>
                      <a:pt x="485" y="6"/>
                    </a:lnTo>
                    <a:lnTo>
                      <a:pt x="467" y="17"/>
                    </a:lnTo>
                    <a:lnTo>
                      <a:pt x="444" y="23"/>
                    </a:lnTo>
                    <a:lnTo>
                      <a:pt x="427" y="34"/>
                    </a:lnTo>
                    <a:lnTo>
                      <a:pt x="410" y="52"/>
                    </a:lnTo>
                    <a:lnTo>
                      <a:pt x="398" y="63"/>
                    </a:lnTo>
                    <a:lnTo>
                      <a:pt x="387" y="81"/>
                    </a:lnTo>
                    <a:lnTo>
                      <a:pt x="381" y="98"/>
                    </a:lnTo>
                    <a:lnTo>
                      <a:pt x="375" y="115"/>
                    </a:lnTo>
                    <a:lnTo>
                      <a:pt x="369" y="132"/>
                    </a:lnTo>
                    <a:lnTo>
                      <a:pt x="369" y="156"/>
                    </a:lnTo>
                    <a:lnTo>
                      <a:pt x="369" y="173"/>
                    </a:lnTo>
                    <a:lnTo>
                      <a:pt x="375" y="190"/>
                    </a:lnTo>
                    <a:lnTo>
                      <a:pt x="381" y="196"/>
                    </a:lnTo>
                    <a:lnTo>
                      <a:pt x="387" y="207"/>
                    </a:lnTo>
                    <a:lnTo>
                      <a:pt x="392" y="213"/>
                    </a:lnTo>
                    <a:lnTo>
                      <a:pt x="398" y="219"/>
                    </a:lnTo>
                    <a:lnTo>
                      <a:pt x="410" y="236"/>
                    </a:lnTo>
                    <a:lnTo>
                      <a:pt x="421" y="248"/>
                    </a:lnTo>
                    <a:lnTo>
                      <a:pt x="433" y="265"/>
                    </a:lnTo>
                    <a:lnTo>
                      <a:pt x="439" y="277"/>
                    </a:lnTo>
                    <a:lnTo>
                      <a:pt x="444" y="294"/>
                    </a:lnTo>
                    <a:lnTo>
                      <a:pt x="450" y="306"/>
                    </a:lnTo>
                    <a:lnTo>
                      <a:pt x="450" y="317"/>
                    </a:lnTo>
                    <a:lnTo>
                      <a:pt x="450" y="323"/>
                    </a:lnTo>
                    <a:lnTo>
                      <a:pt x="450" y="334"/>
                    </a:lnTo>
                    <a:lnTo>
                      <a:pt x="444" y="346"/>
                    </a:lnTo>
                    <a:lnTo>
                      <a:pt x="439" y="352"/>
                    </a:lnTo>
                    <a:lnTo>
                      <a:pt x="433" y="357"/>
                    </a:lnTo>
                    <a:lnTo>
                      <a:pt x="427" y="363"/>
                    </a:lnTo>
                    <a:lnTo>
                      <a:pt x="416" y="369"/>
                    </a:lnTo>
                    <a:lnTo>
                      <a:pt x="404" y="369"/>
                    </a:lnTo>
                    <a:lnTo>
                      <a:pt x="387" y="369"/>
                    </a:lnTo>
                    <a:lnTo>
                      <a:pt x="335" y="369"/>
                    </a:lnTo>
                    <a:lnTo>
                      <a:pt x="277" y="375"/>
                    </a:lnTo>
                    <a:lnTo>
                      <a:pt x="225" y="375"/>
                    </a:lnTo>
                    <a:lnTo>
                      <a:pt x="173" y="381"/>
                    </a:lnTo>
                    <a:lnTo>
                      <a:pt x="121" y="381"/>
                    </a:lnTo>
                    <a:lnTo>
                      <a:pt x="81" y="381"/>
                    </a:lnTo>
                    <a:lnTo>
                      <a:pt x="58" y="381"/>
                    </a:lnTo>
                    <a:lnTo>
                      <a:pt x="40" y="381"/>
                    </a:lnTo>
                    <a:lnTo>
                      <a:pt x="29" y="375"/>
                    </a:lnTo>
                    <a:lnTo>
                      <a:pt x="17" y="369"/>
                    </a:lnTo>
                    <a:lnTo>
                      <a:pt x="17" y="415"/>
                    </a:lnTo>
                    <a:lnTo>
                      <a:pt x="17" y="479"/>
                    </a:lnTo>
                    <a:lnTo>
                      <a:pt x="17" y="542"/>
                    </a:lnTo>
                    <a:lnTo>
                      <a:pt x="17" y="611"/>
                    </a:lnTo>
                    <a:lnTo>
                      <a:pt x="17" y="675"/>
                    </a:lnTo>
                    <a:lnTo>
                      <a:pt x="17" y="732"/>
                    </a:lnTo>
                    <a:lnTo>
                      <a:pt x="17" y="779"/>
                    </a:lnTo>
                    <a:lnTo>
                      <a:pt x="17" y="802"/>
                    </a:lnTo>
                    <a:lnTo>
                      <a:pt x="17" y="813"/>
                    </a:lnTo>
                    <a:lnTo>
                      <a:pt x="23" y="819"/>
                    </a:lnTo>
                    <a:lnTo>
                      <a:pt x="23" y="831"/>
                    </a:lnTo>
                    <a:lnTo>
                      <a:pt x="35" y="836"/>
                    </a:lnTo>
                    <a:lnTo>
                      <a:pt x="40" y="848"/>
                    </a:lnTo>
                    <a:lnTo>
                      <a:pt x="52" y="854"/>
                    </a:lnTo>
                    <a:lnTo>
                      <a:pt x="64" y="859"/>
                    </a:lnTo>
                    <a:lnTo>
                      <a:pt x="75" y="859"/>
                    </a:lnTo>
                    <a:lnTo>
                      <a:pt x="87" y="865"/>
                    </a:lnTo>
                    <a:lnTo>
                      <a:pt x="104" y="865"/>
                    </a:lnTo>
                    <a:lnTo>
                      <a:pt x="115" y="865"/>
                    </a:lnTo>
                    <a:lnTo>
                      <a:pt x="127" y="865"/>
                    </a:lnTo>
                    <a:lnTo>
                      <a:pt x="144" y="859"/>
                    </a:lnTo>
                    <a:lnTo>
                      <a:pt x="156" y="854"/>
                    </a:lnTo>
                    <a:lnTo>
                      <a:pt x="167" y="842"/>
                    </a:lnTo>
                    <a:lnTo>
                      <a:pt x="179" y="831"/>
                    </a:lnTo>
                    <a:close/>
                  </a:path>
                </a:pathLst>
              </a:cu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648320" y="3922560"/>
                <a:ext cx="1471320" cy="2630520"/>
              </a:xfrm>
              <a:custGeom>
                <a:avLst/>
                <a:gdLst/>
                <a:ahLst/>
                <a:rect l="l" t="t" r="r" b="b"/>
                <a:pathLst>
                  <a:path w="1045" h="1714">
                    <a:moveTo>
                      <a:pt x="196" y="837"/>
                    </a:moveTo>
                    <a:lnTo>
                      <a:pt x="202" y="837"/>
                    </a:lnTo>
                    <a:lnTo>
                      <a:pt x="202" y="837"/>
                    </a:lnTo>
                    <a:lnTo>
                      <a:pt x="208" y="825"/>
                    </a:lnTo>
                    <a:lnTo>
                      <a:pt x="196" y="819"/>
                    </a:lnTo>
                    <a:lnTo>
                      <a:pt x="196" y="831"/>
                    </a:lnTo>
                    <a:lnTo>
                      <a:pt x="202" y="831"/>
                    </a:lnTo>
                    <a:lnTo>
                      <a:pt x="208" y="831"/>
                    </a:lnTo>
                    <a:lnTo>
                      <a:pt x="208" y="825"/>
                    </a:lnTo>
                    <a:lnTo>
                      <a:pt x="214" y="819"/>
                    </a:lnTo>
                    <a:lnTo>
                      <a:pt x="208" y="813"/>
                    </a:lnTo>
                    <a:lnTo>
                      <a:pt x="214" y="825"/>
                    </a:lnTo>
                    <a:lnTo>
                      <a:pt x="231" y="819"/>
                    </a:lnTo>
                    <a:lnTo>
                      <a:pt x="248" y="813"/>
                    </a:lnTo>
                    <a:lnTo>
                      <a:pt x="243" y="802"/>
                    </a:lnTo>
                    <a:lnTo>
                      <a:pt x="243" y="813"/>
                    </a:lnTo>
                    <a:lnTo>
                      <a:pt x="260" y="813"/>
                    </a:lnTo>
                    <a:lnTo>
                      <a:pt x="283" y="813"/>
                    </a:lnTo>
                    <a:lnTo>
                      <a:pt x="283" y="802"/>
                    </a:lnTo>
                    <a:lnTo>
                      <a:pt x="283" y="813"/>
                    </a:lnTo>
                    <a:lnTo>
                      <a:pt x="300" y="819"/>
                    </a:lnTo>
                    <a:lnTo>
                      <a:pt x="318" y="825"/>
                    </a:lnTo>
                    <a:lnTo>
                      <a:pt x="335" y="837"/>
                    </a:lnTo>
                    <a:lnTo>
                      <a:pt x="352" y="848"/>
                    </a:lnTo>
                    <a:lnTo>
                      <a:pt x="370" y="860"/>
                    </a:lnTo>
                    <a:lnTo>
                      <a:pt x="370" y="848"/>
                    </a:lnTo>
                    <a:lnTo>
                      <a:pt x="364" y="854"/>
                    </a:lnTo>
                    <a:lnTo>
                      <a:pt x="375" y="871"/>
                    </a:lnTo>
                    <a:lnTo>
                      <a:pt x="381" y="865"/>
                    </a:lnTo>
                    <a:lnTo>
                      <a:pt x="375" y="865"/>
                    </a:lnTo>
                    <a:lnTo>
                      <a:pt x="375" y="877"/>
                    </a:lnTo>
                    <a:lnTo>
                      <a:pt x="375" y="883"/>
                    </a:lnTo>
                    <a:lnTo>
                      <a:pt x="375" y="883"/>
                    </a:lnTo>
                    <a:lnTo>
                      <a:pt x="381" y="888"/>
                    </a:lnTo>
                    <a:lnTo>
                      <a:pt x="387" y="883"/>
                    </a:lnTo>
                    <a:lnTo>
                      <a:pt x="381" y="888"/>
                    </a:lnTo>
                    <a:lnTo>
                      <a:pt x="387" y="900"/>
                    </a:lnTo>
                    <a:lnTo>
                      <a:pt x="387" y="900"/>
                    </a:lnTo>
                    <a:lnTo>
                      <a:pt x="387" y="900"/>
                    </a:lnTo>
                    <a:lnTo>
                      <a:pt x="393" y="906"/>
                    </a:lnTo>
                    <a:lnTo>
                      <a:pt x="398" y="900"/>
                    </a:lnTo>
                    <a:lnTo>
                      <a:pt x="393" y="900"/>
                    </a:lnTo>
                    <a:lnTo>
                      <a:pt x="393" y="912"/>
                    </a:lnTo>
                    <a:lnTo>
                      <a:pt x="393" y="923"/>
                    </a:lnTo>
                    <a:lnTo>
                      <a:pt x="393" y="935"/>
                    </a:lnTo>
                    <a:lnTo>
                      <a:pt x="393" y="946"/>
                    </a:lnTo>
                    <a:lnTo>
                      <a:pt x="398" y="946"/>
                    </a:lnTo>
                    <a:lnTo>
                      <a:pt x="393" y="946"/>
                    </a:lnTo>
                    <a:lnTo>
                      <a:pt x="387" y="963"/>
                    </a:lnTo>
                    <a:lnTo>
                      <a:pt x="381" y="987"/>
                    </a:lnTo>
                    <a:lnTo>
                      <a:pt x="387" y="987"/>
                    </a:lnTo>
                    <a:lnTo>
                      <a:pt x="381" y="981"/>
                    </a:lnTo>
                    <a:lnTo>
                      <a:pt x="370" y="992"/>
                    </a:lnTo>
                    <a:lnTo>
                      <a:pt x="370" y="998"/>
                    </a:lnTo>
                    <a:lnTo>
                      <a:pt x="370" y="998"/>
                    </a:lnTo>
                    <a:lnTo>
                      <a:pt x="358" y="1015"/>
                    </a:lnTo>
                    <a:lnTo>
                      <a:pt x="364" y="1015"/>
                    </a:lnTo>
                    <a:lnTo>
                      <a:pt x="358" y="1010"/>
                    </a:lnTo>
                    <a:lnTo>
                      <a:pt x="346" y="1021"/>
                    </a:lnTo>
                    <a:lnTo>
                      <a:pt x="335" y="1033"/>
                    </a:lnTo>
                    <a:lnTo>
                      <a:pt x="341" y="1038"/>
                    </a:lnTo>
                    <a:lnTo>
                      <a:pt x="341" y="1033"/>
                    </a:lnTo>
                    <a:lnTo>
                      <a:pt x="323" y="1038"/>
                    </a:lnTo>
                    <a:lnTo>
                      <a:pt x="306" y="1044"/>
                    </a:lnTo>
                    <a:lnTo>
                      <a:pt x="295" y="1050"/>
                    </a:lnTo>
                    <a:lnTo>
                      <a:pt x="295" y="1056"/>
                    </a:lnTo>
                    <a:lnTo>
                      <a:pt x="295" y="1050"/>
                    </a:lnTo>
                    <a:lnTo>
                      <a:pt x="277" y="1050"/>
                    </a:lnTo>
                    <a:lnTo>
                      <a:pt x="260" y="1050"/>
                    </a:lnTo>
                    <a:lnTo>
                      <a:pt x="260" y="1056"/>
                    </a:lnTo>
                    <a:lnTo>
                      <a:pt x="266" y="1050"/>
                    </a:lnTo>
                    <a:lnTo>
                      <a:pt x="248" y="1044"/>
                    </a:lnTo>
                    <a:lnTo>
                      <a:pt x="231" y="1038"/>
                    </a:lnTo>
                    <a:lnTo>
                      <a:pt x="220" y="1033"/>
                    </a:lnTo>
                    <a:lnTo>
                      <a:pt x="208" y="1027"/>
                    </a:lnTo>
                    <a:lnTo>
                      <a:pt x="202" y="1033"/>
                    </a:lnTo>
                    <a:lnTo>
                      <a:pt x="208" y="1027"/>
                    </a:lnTo>
                    <a:lnTo>
                      <a:pt x="196" y="1015"/>
                    </a:lnTo>
                    <a:lnTo>
                      <a:pt x="185" y="1004"/>
                    </a:lnTo>
                    <a:lnTo>
                      <a:pt x="173" y="992"/>
                    </a:lnTo>
                    <a:lnTo>
                      <a:pt x="173" y="992"/>
                    </a:lnTo>
                    <a:lnTo>
                      <a:pt x="173" y="992"/>
                    </a:lnTo>
                    <a:lnTo>
                      <a:pt x="162" y="987"/>
                    </a:lnTo>
                    <a:lnTo>
                      <a:pt x="145" y="981"/>
                    </a:lnTo>
                    <a:lnTo>
                      <a:pt x="133" y="975"/>
                    </a:lnTo>
                    <a:lnTo>
                      <a:pt x="121" y="969"/>
                    </a:lnTo>
                    <a:lnTo>
                      <a:pt x="110" y="963"/>
                    </a:lnTo>
                    <a:lnTo>
                      <a:pt x="110" y="963"/>
                    </a:lnTo>
                    <a:lnTo>
                      <a:pt x="104" y="963"/>
                    </a:lnTo>
                    <a:lnTo>
                      <a:pt x="93" y="963"/>
                    </a:lnTo>
                    <a:lnTo>
                      <a:pt x="81" y="963"/>
                    </a:lnTo>
                    <a:lnTo>
                      <a:pt x="70" y="963"/>
                    </a:lnTo>
                    <a:lnTo>
                      <a:pt x="70" y="963"/>
                    </a:lnTo>
                    <a:lnTo>
                      <a:pt x="70" y="963"/>
                    </a:lnTo>
                    <a:lnTo>
                      <a:pt x="58" y="969"/>
                    </a:lnTo>
                    <a:lnTo>
                      <a:pt x="46" y="975"/>
                    </a:lnTo>
                    <a:lnTo>
                      <a:pt x="35" y="981"/>
                    </a:lnTo>
                    <a:lnTo>
                      <a:pt x="29" y="981"/>
                    </a:lnTo>
                    <a:lnTo>
                      <a:pt x="29" y="987"/>
                    </a:lnTo>
                    <a:lnTo>
                      <a:pt x="23" y="998"/>
                    </a:lnTo>
                    <a:lnTo>
                      <a:pt x="18" y="1010"/>
                    </a:lnTo>
                    <a:lnTo>
                      <a:pt x="18" y="1010"/>
                    </a:lnTo>
                    <a:lnTo>
                      <a:pt x="18" y="1010"/>
                    </a:lnTo>
                    <a:lnTo>
                      <a:pt x="18" y="1027"/>
                    </a:lnTo>
                    <a:lnTo>
                      <a:pt x="12" y="1062"/>
                    </a:lnTo>
                    <a:lnTo>
                      <a:pt x="6" y="1102"/>
                    </a:lnTo>
                    <a:lnTo>
                      <a:pt x="0" y="1142"/>
                    </a:lnTo>
                    <a:lnTo>
                      <a:pt x="0" y="1183"/>
                    </a:lnTo>
                    <a:lnTo>
                      <a:pt x="0" y="1229"/>
                    </a:lnTo>
                    <a:lnTo>
                      <a:pt x="0" y="1269"/>
                    </a:lnTo>
                    <a:lnTo>
                      <a:pt x="0" y="1269"/>
                    </a:lnTo>
                    <a:lnTo>
                      <a:pt x="0" y="1275"/>
                    </a:lnTo>
                    <a:lnTo>
                      <a:pt x="6" y="1292"/>
                    </a:lnTo>
                    <a:lnTo>
                      <a:pt x="12" y="1287"/>
                    </a:lnTo>
                    <a:lnTo>
                      <a:pt x="6" y="1287"/>
                    </a:lnTo>
                    <a:lnTo>
                      <a:pt x="6" y="1304"/>
                    </a:lnTo>
                    <a:lnTo>
                      <a:pt x="6" y="1304"/>
                    </a:lnTo>
                    <a:lnTo>
                      <a:pt x="6" y="1310"/>
                    </a:lnTo>
                    <a:lnTo>
                      <a:pt x="12" y="1327"/>
                    </a:lnTo>
                    <a:lnTo>
                      <a:pt x="18" y="1339"/>
                    </a:lnTo>
                    <a:lnTo>
                      <a:pt x="18" y="1344"/>
                    </a:lnTo>
                    <a:lnTo>
                      <a:pt x="23" y="1344"/>
                    </a:lnTo>
                    <a:lnTo>
                      <a:pt x="52" y="1339"/>
                    </a:lnTo>
                    <a:lnTo>
                      <a:pt x="93" y="1333"/>
                    </a:lnTo>
                    <a:lnTo>
                      <a:pt x="139" y="1327"/>
                    </a:lnTo>
                    <a:lnTo>
                      <a:pt x="191" y="1327"/>
                    </a:lnTo>
                    <a:lnTo>
                      <a:pt x="243" y="1321"/>
                    </a:lnTo>
                    <a:lnTo>
                      <a:pt x="283" y="1321"/>
                    </a:lnTo>
                    <a:lnTo>
                      <a:pt x="323" y="1327"/>
                    </a:lnTo>
                    <a:lnTo>
                      <a:pt x="352" y="1327"/>
                    </a:lnTo>
                    <a:lnTo>
                      <a:pt x="381" y="1333"/>
                    </a:lnTo>
                    <a:lnTo>
                      <a:pt x="404" y="1339"/>
                    </a:lnTo>
                    <a:lnTo>
                      <a:pt x="404" y="1327"/>
                    </a:lnTo>
                    <a:lnTo>
                      <a:pt x="404" y="1339"/>
                    </a:lnTo>
                    <a:lnTo>
                      <a:pt x="427" y="1350"/>
                    </a:lnTo>
                    <a:lnTo>
                      <a:pt x="445" y="1362"/>
                    </a:lnTo>
                    <a:lnTo>
                      <a:pt x="456" y="1367"/>
                    </a:lnTo>
                    <a:lnTo>
                      <a:pt x="456" y="1356"/>
                    </a:lnTo>
                    <a:lnTo>
                      <a:pt x="450" y="1362"/>
                    </a:lnTo>
                    <a:lnTo>
                      <a:pt x="462" y="1373"/>
                    </a:lnTo>
                    <a:lnTo>
                      <a:pt x="473" y="1385"/>
                    </a:lnTo>
                    <a:lnTo>
                      <a:pt x="479" y="1379"/>
                    </a:lnTo>
                    <a:lnTo>
                      <a:pt x="473" y="1385"/>
                    </a:lnTo>
                    <a:lnTo>
                      <a:pt x="479" y="1396"/>
                    </a:lnTo>
                    <a:lnTo>
                      <a:pt x="485" y="1390"/>
                    </a:lnTo>
                    <a:lnTo>
                      <a:pt x="479" y="1390"/>
                    </a:lnTo>
                    <a:lnTo>
                      <a:pt x="479" y="1402"/>
                    </a:lnTo>
                    <a:lnTo>
                      <a:pt x="479" y="1414"/>
                    </a:lnTo>
                    <a:lnTo>
                      <a:pt x="479" y="1425"/>
                    </a:lnTo>
                    <a:lnTo>
                      <a:pt x="479" y="1437"/>
                    </a:lnTo>
                    <a:lnTo>
                      <a:pt x="485" y="1437"/>
                    </a:lnTo>
                    <a:lnTo>
                      <a:pt x="479" y="1437"/>
                    </a:lnTo>
                    <a:lnTo>
                      <a:pt x="473" y="1448"/>
                    </a:lnTo>
                    <a:lnTo>
                      <a:pt x="468" y="1460"/>
                    </a:lnTo>
                    <a:lnTo>
                      <a:pt x="473" y="1460"/>
                    </a:lnTo>
                    <a:lnTo>
                      <a:pt x="468" y="1454"/>
                    </a:lnTo>
                    <a:lnTo>
                      <a:pt x="456" y="1465"/>
                    </a:lnTo>
                    <a:lnTo>
                      <a:pt x="462" y="1471"/>
                    </a:lnTo>
                    <a:lnTo>
                      <a:pt x="462" y="1465"/>
                    </a:lnTo>
                    <a:lnTo>
                      <a:pt x="450" y="1471"/>
                    </a:lnTo>
                    <a:lnTo>
                      <a:pt x="445" y="1471"/>
                    </a:lnTo>
                    <a:lnTo>
                      <a:pt x="445" y="1477"/>
                    </a:lnTo>
                    <a:lnTo>
                      <a:pt x="433" y="1494"/>
                    </a:lnTo>
                    <a:lnTo>
                      <a:pt x="427" y="1506"/>
                    </a:lnTo>
                    <a:lnTo>
                      <a:pt x="422" y="1523"/>
                    </a:lnTo>
                    <a:lnTo>
                      <a:pt x="416" y="1540"/>
                    </a:lnTo>
                    <a:lnTo>
                      <a:pt x="416" y="1540"/>
                    </a:lnTo>
                    <a:lnTo>
                      <a:pt x="416" y="1540"/>
                    </a:lnTo>
                    <a:lnTo>
                      <a:pt x="416" y="1558"/>
                    </a:lnTo>
                    <a:lnTo>
                      <a:pt x="416" y="1581"/>
                    </a:lnTo>
                    <a:lnTo>
                      <a:pt x="416" y="1598"/>
                    </a:lnTo>
                    <a:lnTo>
                      <a:pt x="416" y="1598"/>
                    </a:lnTo>
                    <a:lnTo>
                      <a:pt x="416" y="1604"/>
                    </a:lnTo>
                    <a:lnTo>
                      <a:pt x="422" y="1621"/>
                    </a:lnTo>
                    <a:lnTo>
                      <a:pt x="433" y="1639"/>
                    </a:lnTo>
                    <a:lnTo>
                      <a:pt x="445" y="1656"/>
                    </a:lnTo>
                    <a:lnTo>
                      <a:pt x="445" y="1656"/>
                    </a:lnTo>
                    <a:lnTo>
                      <a:pt x="445" y="1656"/>
                    </a:lnTo>
                    <a:lnTo>
                      <a:pt x="456" y="1667"/>
                    </a:lnTo>
                    <a:lnTo>
                      <a:pt x="462" y="1662"/>
                    </a:lnTo>
                    <a:lnTo>
                      <a:pt x="456" y="1667"/>
                    </a:lnTo>
                    <a:lnTo>
                      <a:pt x="468" y="1685"/>
                    </a:lnTo>
                    <a:lnTo>
                      <a:pt x="468" y="1685"/>
                    </a:lnTo>
                    <a:lnTo>
                      <a:pt x="473" y="1690"/>
                    </a:lnTo>
                    <a:lnTo>
                      <a:pt x="485" y="1696"/>
                    </a:lnTo>
                    <a:lnTo>
                      <a:pt x="497" y="1702"/>
                    </a:lnTo>
                    <a:lnTo>
                      <a:pt x="497" y="1702"/>
                    </a:lnTo>
                    <a:lnTo>
                      <a:pt x="497" y="1702"/>
                    </a:lnTo>
                    <a:lnTo>
                      <a:pt x="502" y="1702"/>
                    </a:lnTo>
                    <a:lnTo>
                      <a:pt x="502" y="1690"/>
                    </a:lnTo>
                    <a:lnTo>
                      <a:pt x="502" y="1702"/>
                    </a:lnTo>
                    <a:lnTo>
                      <a:pt x="514" y="1708"/>
                    </a:lnTo>
                    <a:lnTo>
                      <a:pt x="525" y="1714"/>
                    </a:lnTo>
                    <a:lnTo>
                      <a:pt x="525" y="1714"/>
                    </a:lnTo>
                    <a:lnTo>
                      <a:pt x="525" y="1714"/>
                    </a:lnTo>
                    <a:lnTo>
                      <a:pt x="537" y="1714"/>
                    </a:lnTo>
                    <a:lnTo>
                      <a:pt x="548" y="1714"/>
                    </a:lnTo>
                    <a:lnTo>
                      <a:pt x="560" y="1714"/>
                    </a:lnTo>
                    <a:lnTo>
                      <a:pt x="589" y="1714"/>
                    </a:lnTo>
                    <a:lnTo>
                      <a:pt x="612" y="1708"/>
                    </a:lnTo>
                    <a:lnTo>
                      <a:pt x="618" y="1702"/>
                    </a:lnTo>
                    <a:lnTo>
                      <a:pt x="618" y="1708"/>
                    </a:lnTo>
                    <a:lnTo>
                      <a:pt x="635" y="1696"/>
                    </a:lnTo>
                    <a:lnTo>
                      <a:pt x="652" y="1690"/>
                    </a:lnTo>
                    <a:lnTo>
                      <a:pt x="652" y="1690"/>
                    </a:lnTo>
                    <a:lnTo>
                      <a:pt x="652" y="1685"/>
                    </a:lnTo>
                    <a:lnTo>
                      <a:pt x="670" y="1667"/>
                    </a:lnTo>
                    <a:lnTo>
                      <a:pt x="664" y="1662"/>
                    </a:lnTo>
                    <a:lnTo>
                      <a:pt x="670" y="1673"/>
                    </a:lnTo>
                    <a:lnTo>
                      <a:pt x="687" y="1662"/>
                    </a:lnTo>
                    <a:lnTo>
                      <a:pt x="687" y="1662"/>
                    </a:lnTo>
                    <a:lnTo>
                      <a:pt x="687" y="1656"/>
                    </a:lnTo>
                    <a:lnTo>
                      <a:pt x="699" y="1644"/>
                    </a:lnTo>
                    <a:lnTo>
                      <a:pt x="704" y="1644"/>
                    </a:lnTo>
                    <a:lnTo>
                      <a:pt x="704" y="1644"/>
                    </a:lnTo>
                    <a:lnTo>
                      <a:pt x="710" y="1627"/>
                    </a:lnTo>
                    <a:lnTo>
                      <a:pt x="716" y="1610"/>
                    </a:lnTo>
                    <a:lnTo>
                      <a:pt x="716" y="1610"/>
                    </a:lnTo>
                    <a:lnTo>
                      <a:pt x="716" y="1604"/>
                    </a:lnTo>
                    <a:lnTo>
                      <a:pt x="716" y="1587"/>
                    </a:lnTo>
                    <a:lnTo>
                      <a:pt x="704" y="1587"/>
                    </a:lnTo>
                    <a:lnTo>
                      <a:pt x="716" y="1592"/>
                    </a:lnTo>
                    <a:lnTo>
                      <a:pt x="722" y="1575"/>
                    </a:lnTo>
                    <a:lnTo>
                      <a:pt x="722" y="1569"/>
                    </a:lnTo>
                    <a:lnTo>
                      <a:pt x="722" y="1569"/>
                    </a:lnTo>
                    <a:lnTo>
                      <a:pt x="716" y="1552"/>
                    </a:lnTo>
                    <a:lnTo>
                      <a:pt x="710" y="1535"/>
                    </a:lnTo>
                    <a:lnTo>
                      <a:pt x="704" y="1517"/>
                    </a:lnTo>
                    <a:lnTo>
                      <a:pt x="693" y="1500"/>
                    </a:lnTo>
                    <a:lnTo>
                      <a:pt x="687" y="1494"/>
                    </a:lnTo>
                    <a:lnTo>
                      <a:pt x="687" y="1494"/>
                    </a:lnTo>
                    <a:lnTo>
                      <a:pt x="670" y="1483"/>
                    </a:lnTo>
                    <a:lnTo>
                      <a:pt x="664" y="1489"/>
                    </a:lnTo>
                    <a:lnTo>
                      <a:pt x="675" y="1489"/>
                    </a:lnTo>
                    <a:lnTo>
                      <a:pt x="664" y="1471"/>
                    </a:lnTo>
                    <a:lnTo>
                      <a:pt x="658" y="1460"/>
                    </a:lnTo>
                    <a:lnTo>
                      <a:pt x="647" y="1442"/>
                    </a:lnTo>
                    <a:lnTo>
                      <a:pt x="641" y="1425"/>
                    </a:lnTo>
                    <a:lnTo>
                      <a:pt x="629" y="1425"/>
                    </a:lnTo>
                    <a:lnTo>
                      <a:pt x="641" y="1425"/>
                    </a:lnTo>
                    <a:lnTo>
                      <a:pt x="641" y="1408"/>
                    </a:lnTo>
                    <a:lnTo>
                      <a:pt x="641" y="1390"/>
                    </a:lnTo>
                    <a:lnTo>
                      <a:pt x="641" y="1379"/>
                    </a:lnTo>
                    <a:lnTo>
                      <a:pt x="641" y="1362"/>
                    </a:lnTo>
                    <a:lnTo>
                      <a:pt x="629" y="1362"/>
                    </a:lnTo>
                    <a:lnTo>
                      <a:pt x="641" y="1367"/>
                    </a:lnTo>
                    <a:lnTo>
                      <a:pt x="647" y="1356"/>
                    </a:lnTo>
                    <a:lnTo>
                      <a:pt x="652" y="1339"/>
                    </a:lnTo>
                    <a:lnTo>
                      <a:pt x="658" y="1327"/>
                    </a:lnTo>
                    <a:lnTo>
                      <a:pt x="647" y="1321"/>
                    </a:lnTo>
                    <a:lnTo>
                      <a:pt x="652" y="1333"/>
                    </a:lnTo>
                    <a:lnTo>
                      <a:pt x="664" y="1327"/>
                    </a:lnTo>
                    <a:lnTo>
                      <a:pt x="664" y="1321"/>
                    </a:lnTo>
                    <a:lnTo>
                      <a:pt x="670" y="1321"/>
                    </a:lnTo>
                    <a:lnTo>
                      <a:pt x="675" y="1310"/>
                    </a:lnTo>
                    <a:lnTo>
                      <a:pt x="664" y="1304"/>
                    </a:lnTo>
                    <a:lnTo>
                      <a:pt x="670" y="1315"/>
                    </a:lnTo>
                    <a:lnTo>
                      <a:pt x="681" y="1310"/>
                    </a:lnTo>
                    <a:lnTo>
                      <a:pt x="693" y="1304"/>
                    </a:lnTo>
                    <a:lnTo>
                      <a:pt x="687" y="1292"/>
                    </a:lnTo>
                    <a:lnTo>
                      <a:pt x="687" y="1304"/>
                    </a:lnTo>
                    <a:lnTo>
                      <a:pt x="693" y="1304"/>
                    </a:lnTo>
                    <a:lnTo>
                      <a:pt x="710" y="1304"/>
                    </a:lnTo>
                    <a:lnTo>
                      <a:pt x="739" y="1310"/>
                    </a:lnTo>
                    <a:lnTo>
                      <a:pt x="768" y="1310"/>
                    </a:lnTo>
                    <a:lnTo>
                      <a:pt x="808" y="1315"/>
                    </a:lnTo>
                    <a:lnTo>
                      <a:pt x="854" y="1321"/>
                    </a:lnTo>
                    <a:lnTo>
                      <a:pt x="900" y="1321"/>
                    </a:lnTo>
                    <a:lnTo>
                      <a:pt x="947" y="1327"/>
                    </a:lnTo>
                    <a:lnTo>
                      <a:pt x="999" y="1327"/>
                    </a:lnTo>
                    <a:lnTo>
                      <a:pt x="1004" y="1327"/>
                    </a:lnTo>
                    <a:lnTo>
                      <a:pt x="1010" y="1321"/>
                    </a:lnTo>
                    <a:lnTo>
                      <a:pt x="1022" y="1304"/>
                    </a:lnTo>
                    <a:lnTo>
                      <a:pt x="1027" y="1281"/>
                    </a:lnTo>
                    <a:lnTo>
                      <a:pt x="1033" y="1258"/>
                    </a:lnTo>
                    <a:lnTo>
                      <a:pt x="1039" y="1235"/>
                    </a:lnTo>
                    <a:lnTo>
                      <a:pt x="1045" y="1212"/>
                    </a:lnTo>
                    <a:lnTo>
                      <a:pt x="1045" y="1212"/>
                    </a:lnTo>
                    <a:lnTo>
                      <a:pt x="1045" y="1206"/>
                    </a:lnTo>
                    <a:lnTo>
                      <a:pt x="1045" y="1183"/>
                    </a:lnTo>
                    <a:lnTo>
                      <a:pt x="1045" y="1160"/>
                    </a:lnTo>
                    <a:lnTo>
                      <a:pt x="1045" y="1137"/>
                    </a:lnTo>
                    <a:lnTo>
                      <a:pt x="1045" y="1114"/>
                    </a:lnTo>
                    <a:lnTo>
                      <a:pt x="1045" y="1090"/>
                    </a:lnTo>
                    <a:lnTo>
                      <a:pt x="1045" y="1090"/>
                    </a:lnTo>
                    <a:lnTo>
                      <a:pt x="1045" y="1090"/>
                    </a:lnTo>
                    <a:lnTo>
                      <a:pt x="1039" y="1067"/>
                    </a:lnTo>
                    <a:lnTo>
                      <a:pt x="1027" y="1067"/>
                    </a:lnTo>
                    <a:lnTo>
                      <a:pt x="1039" y="1067"/>
                    </a:lnTo>
                    <a:lnTo>
                      <a:pt x="1039" y="1044"/>
                    </a:lnTo>
                    <a:lnTo>
                      <a:pt x="1039" y="1044"/>
                    </a:lnTo>
                    <a:lnTo>
                      <a:pt x="1039" y="1044"/>
                    </a:lnTo>
                    <a:lnTo>
                      <a:pt x="1033" y="1027"/>
                    </a:lnTo>
                    <a:lnTo>
                      <a:pt x="1027" y="1010"/>
                    </a:lnTo>
                    <a:lnTo>
                      <a:pt x="1022" y="992"/>
                    </a:lnTo>
                    <a:lnTo>
                      <a:pt x="1016" y="981"/>
                    </a:lnTo>
                    <a:lnTo>
                      <a:pt x="1010" y="963"/>
                    </a:lnTo>
                    <a:lnTo>
                      <a:pt x="1010" y="963"/>
                    </a:lnTo>
                    <a:lnTo>
                      <a:pt x="1004" y="958"/>
                    </a:lnTo>
                    <a:lnTo>
                      <a:pt x="999" y="952"/>
                    </a:lnTo>
                    <a:lnTo>
                      <a:pt x="993" y="958"/>
                    </a:lnTo>
                    <a:lnTo>
                      <a:pt x="1004" y="958"/>
                    </a:lnTo>
                    <a:lnTo>
                      <a:pt x="999" y="946"/>
                    </a:lnTo>
                    <a:lnTo>
                      <a:pt x="999" y="946"/>
                    </a:lnTo>
                    <a:lnTo>
                      <a:pt x="993" y="940"/>
                    </a:lnTo>
                    <a:lnTo>
                      <a:pt x="987" y="935"/>
                    </a:lnTo>
                    <a:lnTo>
                      <a:pt x="987" y="935"/>
                    </a:lnTo>
                    <a:lnTo>
                      <a:pt x="987" y="935"/>
                    </a:lnTo>
                    <a:lnTo>
                      <a:pt x="975" y="929"/>
                    </a:lnTo>
                    <a:lnTo>
                      <a:pt x="975" y="929"/>
                    </a:lnTo>
                    <a:lnTo>
                      <a:pt x="970" y="929"/>
                    </a:lnTo>
                    <a:lnTo>
                      <a:pt x="964" y="929"/>
                    </a:lnTo>
                    <a:lnTo>
                      <a:pt x="964" y="935"/>
                    </a:lnTo>
                    <a:lnTo>
                      <a:pt x="970" y="929"/>
                    </a:lnTo>
                    <a:lnTo>
                      <a:pt x="964" y="923"/>
                    </a:lnTo>
                    <a:lnTo>
                      <a:pt x="964" y="923"/>
                    </a:lnTo>
                    <a:lnTo>
                      <a:pt x="958" y="923"/>
                    </a:lnTo>
                    <a:lnTo>
                      <a:pt x="947" y="923"/>
                    </a:lnTo>
                    <a:lnTo>
                      <a:pt x="929" y="923"/>
                    </a:lnTo>
                    <a:lnTo>
                      <a:pt x="906" y="929"/>
                    </a:lnTo>
                    <a:lnTo>
                      <a:pt x="883" y="935"/>
                    </a:lnTo>
                    <a:lnTo>
                      <a:pt x="877" y="935"/>
                    </a:lnTo>
                    <a:lnTo>
                      <a:pt x="883" y="935"/>
                    </a:lnTo>
                    <a:lnTo>
                      <a:pt x="860" y="946"/>
                    </a:lnTo>
                    <a:lnTo>
                      <a:pt x="843" y="952"/>
                    </a:lnTo>
                    <a:lnTo>
                      <a:pt x="843" y="958"/>
                    </a:lnTo>
                    <a:lnTo>
                      <a:pt x="843" y="952"/>
                    </a:lnTo>
                    <a:lnTo>
                      <a:pt x="831" y="952"/>
                    </a:lnTo>
                    <a:lnTo>
                      <a:pt x="831" y="952"/>
                    </a:lnTo>
                    <a:lnTo>
                      <a:pt x="831" y="952"/>
                    </a:lnTo>
                    <a:lnTo>
                      <a:pt x="814" y="958"/>
                    </a:lnTo>
                    <a:lnTo>
                      <a:pt x="814" y="963"/>
                    </a:lnTo>
                    <a:lnTo>
                      <a:pt x="814" y="958"/>
                    </a:lnTo>
                    <a:lnTo>
                      <a:pt x="802" y="958"/>
                    </a:lnTo>
                    <a:lnTo>
                      <a:pt x="785" y="958"/>
                    </a:lnTo>
                    <a:lnTo>
                      <a:pt x="774" y="958"/>
                    </a:lnTo>
                    <a:lnTo>
                      <a:pt x="768" y="958"/>
                    </a:lnTo>
                    <a:lnTo>
                      <a:pt x="768" y="963"/>
                    </a:lnTo>
                    <a:lnTo>
                      <a:pt x="774" y="958"/>
                    </a:lnTo>
                    <a:lnTo>
                      <a:pt x="756" y="952"/>
                    </a:lnTo>
                    <a:lnTo>
                      <a:pt x="756" y="952"/>
                    </a:lnTo>
                    <a:lnTo>
                      <a:pt x="750" y="952"/>
                    </a:lnTo>
                    <a:lnTo>
                      <a:pt x="745" y="952"/>
                    </a:lnTo>
                    <a:lnTo>
                      <a:pt x="745" y="958"/>
                    </a:lnTo>
                    <a:lnTo>
                      <a:pt x="750" y="952"/>
                    </a:lnTo>
                    <a:lnTo>
                      <a:pt x="739" y="946"/>
                    </a:lnTo>
                    <a:lnTo>
                      <a:pt x="739" y="946"/>
                    </a:lnTo>
                    <a:lnTo>
                      <a:pt x="733" y="946"/>
                    </a:lnTo>
                    <a:lnTo>
                      <a:pt x="727" y="946"/>
                    </a:lnTo>
                    <a:lnTo>
                      <a:pt x="727" y="952"/>
                    </a:lnTo>
                    <a:lnTo>
                      <a:pt x="733" y="946"/>
                    </a:lnTo>
                    <a:lnTo>
                      <a:pt x="722" y="940"/>
                    </a:lnTo>
                    <a:lnTo>
                      <a:pt x="716" y="946"/>
                    </a:lnTo>
                    <a:lnTo>
                      <a:pt x="722" y="940"/>
                    </a:lnTo>
                    <a:lnTo>
                      <a:pt x="710" y="929"/>
                    </a:lnTo>
                    <a:lnTo>
                      <a:pt x="704" y="935"/>
                    </a:lnTo>
                    <a:lnTo>
                      <a:pt x="716" y="935"/>
                    </a:lnTo>
                    <a:lnTo>
                      <a:pt x="704" y="917"/>
                    </a:lnTo>
                    <a:lnTo>
                      <a:pt x="704" y="917"/>
                    </a:lnTo>
                    <a:lnTo>
                      <a:pt x="699" y="912"/>
                    </a:lnTo>
                    <a:lnTo>
                      <a:pt x="687" y="900"/>
                    </a:lnTo>
                    <a:lnTo>
                      <a:pt x="681" y="906"/>
                    </a:lnTo>
                    <a:lnTo>
                      <a:pt x="693" y="906"/>
                    </a:lnTo>
                    <a:lnTo>
                      <a:pt x="687" y="888"/>
                    </a:lnTo>
                    <a:lnTo>
                      <a:pt x="681" y="871"/>
                    </a:lnTo>
                    <a:lnTo>
                      <a:pt x="670" y="871"/>
                    </a:lnTo>
                    <a:lnTo>
                      <a:pt x="681" y="871"/>
                    </a:lnTo>
                    <a:lnTo>
                      <a:pt x="681" y="860"/>
                    </a:lnTo>
                    <a:lnTo>
                      <a:pt x="681" y="842"/>
                    </a:lnTo>
                    <a:lnTo>
                      <a:pt x="681" y="831"/>
                    </a:lnTo>
                    <a:lnTo>
                      <a:pt x="670" y="831"/>
                    </a:lnTo>
                    <a:lnTo>
                      <a:pt x="681" y="837"/>
                    </a:lnTo>
                    <a:lnTo>
                      <a:pt x="687" y="825"/>
                    </a:lnTo>
                    <a:lnTo>
                      <a:pt x="693" y="813"/>
                    </a:lnTo>
                    <a:lnTo>
                      <a:pt x="699" y="796"/>
                    </a:lnTo>
                    <a:lnTo>
                      <a:pt x="710" y="779"/>
                    </a:lnTo>
                    <a:lnTo>
                      <a:pt x="699" y="773"/>
                    </a:lnTo>
                    <a:lnTo>
                      <a:pt x="704" y="779"/>
                    </a:lnTo>
                    <a:lnTo>
                      <a:pt x="716" y="767"/>
                    </a:lnTo>
                    <a:lnTo>
                      <a:pt x="710" y="762"/>
                    </a:lnTo>
                    <a:lnTo>
                      <a:pt x="716" y="773"/>
                    </a:lnTo>
                    <a:lnTo>
                      <a:pt x="727" y="767"/>
                    </a:lnTo>
                    <a:lnTo>
                      <a:pt x="739" y="762"/>
                    </a:lnTo>
                    <a:lnTo>
                      <a:pt x="750" y="756"/>
                    </a:lnTo>
                    <a:lnTo>
                      <a:pt x="762" y="750"/>
                    </a:lnTo>
                    <a:lnTo>
                      <a:pt x="774" y="744"/>
                    </a:lnTo>
                    <a:lnTo>
                      <a:pt x="768" y="733"/>
                    </a:lnTo>
                    <a:lnTo>
                      <a:pt x="768" y="744"/>
                    </a:lnTo>
                    <a:lnTo>
                      <a:pt x="779" y="744"/>
                    </a:lnTo>
                    <a:lnTo>
                      <a:pt x="785" y="744"/>
                    </a:lnTo>
                    <a:lnTo>
                      <a:pt x="785" y="733"/>
                    </a:lnTo>
                    <a:lnTo>
                      <a:pt x="785" y="744"/>
                    </a:lnTo>
                    <a:lnTo>
                      <a:pt x="797" y="750"/>
                    </a:lnTo>
                    <a:lnTo>
                      <a:pt x="797" y="750"/>
                    </a:lnTo>
                    <a:lnTo>
                      <a:pt x="797" y="750"/>
                    </a:lnTo>
                    <a:lnTo>
                      <a:pt x="808" y="750"/>
                    </a:lnTo>
                    <a:lnTo>
                      <a:pt x="808" y="738"/>
                    </a:lnTo>
                    <a:lnTo>
                      <a:pt x="808" y="750"/>
                    </a:lnTo>
                    <a:lnTo>
                      <a:pt x="831" y="762"/>
                    </a:lnTo>
                    <a:lnTo>
                      <a:pt x="849" y="767"/>
                    </a:lnTo>
                    <a:lnTo>
                      <a:pt x="872" y="779"/>
                    </a:lnTo>
                    <a:lnTo>
                      <a:pt x="889" y="790"/>
                    </a:lnTo>
                    <a:lnTo>
                      <a:pt x="906" y="802"/>
                    </a:lnTo>
                    <a:lnTo>
                      <a:pt x="900" y="796"/>
                    </a:lnTo>
                    <a:lnTo>
                      <a:pt x="906" y="802"/>
                    </a:lnTo>
                    <a:lnTo>
                      <a:pt x="929" y="808"/>
                    </a:lnTo>
                    <a:lnTo>
                      <a:pt x="941" y="808"/>
                    </a:lnTo>
                    <a:lnTo>
                      <a:pt x="941" y="796"/>
                    </a:lnTo>
                    <a:lnTo>
                      <a:pt x="935" y="802"/>
                    </a:lnTo>
                    <a:lnTo>
                      <a:pt x="941" y="808"/>
                    </a:lnTo>
                    <a:lnTo>
                      <a:pt x="947" y="813"/>
                    </a:lnTo>
                    <a:lnTo>
                      <a:pt x="947" y="813"/>
                    </a:lnTo>
                    <a:lnTo>
                      <a:pt x="958" y="813"/>
                    </a:lnTo>
                    <a:lnTo>
                      <a:pt x="964" y="813"/>
                    </a:lnTo>
                    <a:lnTo>
                      <a:pt x="964" y="813"/>
                    </a:lnTo>
                    <a:lnTo>
                      <a:pt x="975" y="808"/>
                    </a:lnTo>
                    <a:lnTo>
                      <a:pt x="970" y="796"/>
                    </a:lnTo>
                    <a:lnTo>
                      <a:pt x="970" y="808"/>
                    </a:lnTo>
                    <a:lnTo>
                      <a:pt x="975" y="808"/>
                    </a:lnTo>
                    <a:lnTo>
                      <a:pt x="981" y="808"/>
                    </a:lnTo>
                    <a:lnTo>
                      <a:pt x="981" y="808"/>
                    </a:lnTo>
                    <a:lnTo>
                      <a:pt x="993" y="802"/>
                    </a:lnTo>
                    <a:lnTo>
                      <a:pt x="1004" y="796"/>
                    </a:lnTo>
                    <a:lnTo>
                      <a:pt x="1004" y="796"/>
                    </a:lnTo>
                    <a:lnTo>
                      <a:pt x="1004" y="790"/>
                    </a:lnTo>
                    <a:lnTo>
                      <a:pt x="1010" y="785"/>
                    </a:lnTo>
                    <a:lnTo>
                      <a:pt x="1016" y="779"/>
                    </a:lnTo>
                    <a:lnTo>
                      <a:pt x="1022" y="773"/>
                    </a:lnTo>
                    <a:lnTo>
                      <a:pt x="1027" y="773"/>
                    </a:lnTo>
                    <a:lnTo>
                      <a:pt x="1027" y="767"/>
                    </a:lnTo>
                    <a:lnTo>
                      <a:pt x="1027" y="762"/>
                    </a:lnTo>
                    <a:lnTo>
                      <a:pt x="1016" y="762"/>
                    </a:lnTo>
                    <a:lnTo>
                      <a:pt x="1027" y="767"/>
                    </a:lnTo>
                    <a:lnTo>
                      <a:pt x="1033" y="756"/>
                    </a:lnTo>
                    <a:lnTo>
                      <a:pt x="1039" y="733"/>
                    </a:lnTo>
                    <a:lnTo>
                      <a:pt x="1039" y="733"/>
                    </a:lnTo>
                    <a:lnTo>
                      <a:pt x="1039" y="727"/>
                    </a:lnTo>
                    <a:lnTo>
                      <a:pt x="1039" y="704"/>
                    </a:lnTo>
                    <a:lnTo>
                      <a:pt x="1039" y="675"/>
                    </a:lnTo>
                    <a:lnTo>
                      <a:pt x="1033" y="640"/>
                    </a:lnTo>
                    <a:lnTo>
                      <a:pt x="1033" y="612"/>
                    </a:lnTo>
                    <a:lnTo>
                      <a:pt x="1027" y="577"/>
                    </a:lnTo>
                    <a:lnTo>
                      <a:pt x="1022" y="508"/>
                    </a:lnTo>
                    <a:lnTo>
                      <a:pt x="1016" y="450"/>
                    </a:lnTo>
                    <a:lnTo>
                      <a:pt x="1016" y="427"/>
                    </a:lnTo>
                    <a:lnTo>
                      <a:pt x="1016" y="404"/>
                    </a:lnTo>
                    <a:lnTo>
                      <a:pt x="1016" y="387"/>
                    </a:lnTo>
                    <a:lnTo>
                      <a:pt x="1016" y="375"/>
                    </a:lnTo>
                    <a:lnTo>
                      <a:pt x="1016" y="358"/>
                    </a:lnTo>
                    <a:lnTo>
                      <a:pt x="1004" y="369"/>
                    </a:lnTo>
                    <a:lnTo>
                      <a:pt x="987" y="381"/>
                    </a:lnTo>
                    <a:lnTo>
                      <a:pt x="964" y="392"/>
                    </a:lnTo>
                    <a:lnTo>
                      <a:pt x="964" y="398"/>
                    </a:lnTo>
                    <a:lnTo>
                      <a:pt x="964" y="392"/>
                    </a:lnTo>
                    <a:lnTo>
                      <a:pt x="941" y="398"/>
                    </a:lnTo>
                    <a:lnTo>
                      <a:pt x="912" y="404"/>
                    </a:lnTo>
                    <a:lnTo>
                      <a:pt x="883" y="410"/>
                    </a:lnTo>
                    <a:lnTo>
                      <a:pt x="854" y="410"/>
                    </a:lnTo>
                    <a:lnTo>
                      <a:pt x="825" y="410"/>
                    </a:lnTo>
                    <a:lnTo>
                      <a:pt x="797" y="410"/>
                    </a:lnTo>
                    <a:lnTo>
                      <a:pt x="768" y="410"/>
                    </a:lnTo>
                    <a:lnTo>
                      <a:pt x="733" y="410"/>
                    </a:lnTo>
                    <a:lnTo>
                      <a:pt x="710" y="404"/>
                    </a:lnTo>
                    <a:lnTo>
                      <a:pt x="681" y="398"/>
                    </a:lnTo>
                    <a:lnTo>
                      <a:pt x="658" y="392"/>
                    </a:lnTo>
                    <a:lnTo>
                      <a:pt x="658" y="398"/>
                    </a:lnTo>
                    <a:lnTo>
                      <a:pt x="664" y="392"/>
                    </a:lnTo>
                    <a:lnTo>
                      <a:pt x="647" y="387"/>
                    </a:lnTo>
                    <a:lnTo>
                      <a:pt x="629" y="375"/>
                    </a:lnTo>
                    <a:lnTo>
                      <a:pt x="612" y="369"/>
                    </a:lnTo>
                    <a:lnTo>
                      <a:pt x="606" y="375"/>
                    </a:lnTo>
                    <a:lnTo>
                      <a:pt x="612" y="369"/>
                    </a:lnTo>
                    <a:lnTo>
                      <a:pt x="600" y="358"/>
                    </a:lnTo>
                    <a:lnTo>
                      <a:pt x="595" y="352"/>
                    </a:lnTo>
                    <a:lnTo>
                      <a:pt x="589" y="346"/>
                    </a:lnTo>
                    <a:lnTo>
                      <a:pt x="583" y="352"/>
                    </a:lnTo>
                    <a:lnTo>
                      <a:pt x="595" y="352"/>
                    </a:lnTo>
                    <a:lnTo>
                      <a:pt x="589" y="340"/>
                    </a:lnTo>
                    <a:lnTo>
                      <a:pt x="577" y="340"/>
                    </a:lnTo>
                    <a:lnTo>
                      <a:pt x="589" y="340"/>
                    </a:lnTo>
                    <a:lnTo>
                      <a:pt x="589" y="335"/>
                    </a:lnTo>
                    <a:lnTo>
                      <a:pt x="589" y="323"/>
                    </a:lnTo>
                    <a:lnTo>
                      <a:pt x="589" y="317"/>
                    </a:lnTo>
                    <a:lnTo>
                      <a:pt x="589" y="306"/>
                    </a:lnTo>
                    <a:lnTo>
                      <a:pt x="577" y="306"/>
                    </a:lnTo>
                    <a:lnTo>
                      <a:pt x="583" y="312"/>
                    </a:lnTo>
                    <a:lnTo>
                      <a:pt x="589" y="306"/>
                    </a:lnTo>
                    <a:lnTo>
                      <a:pt x="595" y="306"/>
                    </a:lnTo>
                    <a:lnTo>
                      <a:pt x="595" y="306"/>
                    </a:lnTo>
                    <a:lnTo>
                      <a:pt x="600" y="294"/>
                    </a:lnTo>
                    <a:lnTo>
                      <a:pt x="606" y="283"/>
                    </a:lnTo>
                    <a:lnTo>
                      <a:pt x="595" y="277"/>
                    </a:lnTo>
                    <a:lnTo>
                      <a:pt x="600" y="288"/>
                    </a:lnTo>
                    <a:lnTo>
                      <a:pt x="612" y="283"/>
                    </a:lnTo>
                    <a:lnTo>
                      <a:pt x="612" y="277"/>
                    </a:lnTo>
                    <a:lnTo>
                      <a:pt x="612" y="277"/>
                    </a:lnTo>
                    <a:lnTo>
                      <a:pt x="629" y="254"/>
                    </a:lnTo>
                    <a:lnTo>
                      <a:pt x="652" y="231"/>
                    </a:lnTo>
                    <a:lnTo>
                      <a:pt x="658" y="231"/>
                    </a:lnTo>
                    <a:lnTo>
                      <a:pt x="658" y="231"/>
                    </a:lnTo>
                    <a:lnTo>
                      <a:pt x="670" y="213"/>
                    </a:lnTo>
                    <a:lnTo>
                      <a:pt x="675" y="196"/>
                    </a:lnTo>
                    <a:lnTo>
                      <a:pt x="681" y="179"/>
                    </a:lnTo>
                    <a:lnTo>
                      <a:pt x="687" y="167"/>
                    </a:lnTo>
                    <a:lnTo>
                      <a:pt x="687" y="167"/>
                    </a:lnTo>
                    <a:lnTo>
                      <a:pt x="687" y="162"/>
                    </a:lnTo>
                    <a:lnTo>
                      <a:pt x="687" y="138"/>
                    </a:lnTo>
                    <a:lnTo>
                      <a:pt x="687" y="121"/>
                    </a:lnTo>
                    <a:lnTo>
                      <a:pt x="687" y="121"/>
                    </a:lnTo>
                    <a:lnTo>
                      <a:pt x="687" y="121"/>
                    </a:lnTo>
                    <a:lnTo>
                      <a:pt x="681" y="104"/>
                    </a:lnTo>
                    <a:lnTo>
                      <a:pt x="675" y="87"/>
                    </a:lnTo>
                    <a:lnTo>
                      <a:pt x="664" y="69"/>
                    </a:lnTo>
                    <a:lnTo>
                      <a:pt x="664" y="69"/>
                    </a:lnTo>
                    <a:lnTo>
                      <a:pt x="658" y="63"/>
                    </a:lnTo>
                    <a:lnTo>
                      <a:pt x="647" y="52"/>
                    </a:lnTo>
                    <a:lnTo>
                      <a:pt x="641" y="58"/>
                    </a:lnTo>
                    <a:lnTo>
                      <a:pt x="652" y="58"/>
                    </a:lnTo>
                    <a:lnTo>
                      <a:pt x="641" y="40"/>
                    </a:lnTo>
                    <a:lnTo>
                      <a:pt x="635" y="35"/>
                    </a:lnTo>
                    <a:lnTo>
                      <a:pt x="635" y="35"/>
                    </a:lnTo>
                    <a:lnTo>
                      <a:pt x="618" y="23"/>
                    </a:lnTo>
                    <a:lnTo>
                      <a:pt x="600" y="17"/>
                    </a:lnTo>
                    <a:lnTo>
                      <a:pt x="583" y="6"/>
                    </a:lnTo>
                    <a:lnTo>
                      <a:pt x="583" y="6"/>
                    </a:lnTo>
                    <a:lnTo>
                      <a:pt x="577" y="6"/>
                    </a:lnTo>
                    <a:lnTo>
                      <a:pt x="554" y="0"/>
                    </a:lnTo>
                    <a:lnTo>
                      <a:pt x="531" y="0"/>
                    </a:lnTo>
                    <a:lnTo>
                      <a:pt x="508" y="0"/>
                    </a:lnTo>
                    <a:lnTo>
                      <a:pt x="508" y="0"/>
                    </a:lnTo>
                    <a:lnTo>
                      <a:pt x="508" y="0"/>
                    </a:lnTo>
                    <a:lnTo>
                      <a:pt x="491" y="6"/>
                    </a:lnTo>
                    <a:lnTo>
                      <a:pt x="473" y="17"/>
                    </a:lnTo>
                    <a:lnTo>
                      <a:pt x="473" y="23"/>
                    </a:lnTo>
                    <a:lnTo>
                      <a:pt x="473" y="17"/>
                    </a:lnTo>
                    <a:lnTo>
                      <a:pt x="450" y="23"/>
                    </a:lnTo>
                    <a:lnTo>
                      <a:pt x="445" y="23"/>
                    </a:lnTo>
                    <a:lnTo>
                      <a:pt x="450" y="23"/>
                    </a:lnTo>
                    <a:lnTo>
                      <a:pt x="433" y="35"/>
                    </a:lnTo>
                    <a:lnTo>
                      <a:pt x="433" y="35"/>
                    </a:lnTo>
                    <a:lnTo>
                      <a:pt x="427" y="35"/>
                    </a:lnTo>
                    <a:lnTo>
                      <a:pt x="410" y="52"/>
                    </a:lnTo>
                    <a:lnTo>
                      <a:pt x="398" y="63"/>
                    </a:lnTo>
                    <a:lnTo>
                      <a:pt x="398" y="69"/>
                    </a:lnTo>
                    <a:lnTo>
                      <a:pt x="398" y="69"/>
                    </a:lnTo>
                    <a:lnTo>
                      <a:pt x="387" y="87"/>
                    </a:lnTo>
                    <a:lnTo>
                      <a:pt x="381" y="104"/>
                    </a:lnTo>
                    <a:lnTo>
                      <a:pt x="375" y="121"/>
                    </a:lnTo>
                    <a:lnTo>
                      <a:pt x="370" y="138"/>
                    </a:lnTo>
                    <a:lnTo>
                      <a:pt x="370" y="138"/>
                    </a:lnTo>
                    <a:lnTo>
                      <a:pt x="370" y="138"/>
                    </a:lnTo>
                    <a:lnTo>
                      <a:pt x="370" y="162"/>
                    </a:lnTo>
                    <a:lnTo>
                      <a:pt x="370" y="179"/>
                    </a:lnTo>
                    <a:lnTo>
                      <a:pt x="370" y="179"/>
                    </a:lnTo>
                    <a:lnTo>
                      <a:pt x="370" y="185"/>
                    </a:lnTo>
                    <a:lnTo>
                      <a:pt x="375" y="202"/>
                    </a:lnTo>
                    <a:lnTo>
                      <a:pt x="375" y="202"/>
                    </a:lnTo>
                    <a:lnTo>
                      <a:pt x="375" y="202"/>
                    </a:lnTo>
                    <a:lnTo>
                      <a:pt x="381" y="208"/>
                    </a:lnTo>
                    <a:lnTo>
                      <a:pt x="387" y="202"/>
                    </a:lnTo>
                    <a:lnTo>
                      <a:pt x="381" y="208"/>
                    </a:lnTo>
                    <a:lnTo>
                      <a:pt x="387" y="219"/>
                    </a:lnTo>
                    <a:lnTo>
                      <a:pt x="387" y="219"/>
                    </a:lnTo>
                    <a:lnTo>
                      <a:pt x="387" y="219"/>
                    </a:lnTo>
                    <a:lnTo>
                      <a:pt x="393" y="225"/>
                    </a:lnTo>
                    <a:lnTo>
                      <a:pt x="398" y="231"/>
                    </a:lnTo>
                    <a:lnTo>
                      <a:pt x="404" y="225"/>
                    </a:lnTo>
                    <a:lnTo>
                      <a:pt x="398" y="231"/>
                    </a:lnTo>
                    <a:lnTo>
                      <a:pt x="410" y="248"/>
                    </a:lnTo>
                    <a:lnTo>
                      <a:pt x="410" y="248"/>
                    </a:lnTo>
                    <a:lnTo>
                      <a:pt x="410" y="248"/>
                    </a:lnTo>
                    <a:lnTo>
                      <a:pt x="422" y="260"/>
                    </a:lnTo>
                    <a:lnTo>
                      <a:pt x="427" y="254"/>
                    </a:lnTo>
                    <a:lnTo>
                      <a:pt x="422" y="260"/>
                    </a:lnTo>
                    <a:lnTo>
                      <a:pt x="433" y="277"/>
                    </a:lnTo>
                    <a:lnTo>
                      <a:pt x="439" y="288"/>
                    </a:lnTo>
                    <a:lnTo>
                      <a:pt x="445" y="306"/>
                    </a:lnTo>
                    <a:lnTo>
                      <a:pt x="450" y="317"/>
                    </a:lnTo>
                    <a:lnTo>
                      <a:pt x="456" y="312"/>
                    </a:lnTo>
                    <a:lnTo>
                      <a:pt x="450" y="312"/>
                    </a:lnTo>
                    <a:lnTo>
                      <a:pt x="450" y="323"/>
                    </a:lnTo>
                    <a:lnTo>
                      <a:pt x="450" y="329"/>
                    </a:lnTo>
                    <a:lnTo>
                      <a:pt x="450" y="340"/>
                    </a:lnTo>
                    <a:lnTo>
                      <a:pt x="456" y="340"/>
                    </a:lnTo>
                    <a:lnTo>
                      <a:pt x="450" y="340"/>
                    </a:lnTo>
                    <a:lnTo>
                      <a:pt x="445" y="352"/>
                    </a:lnTo>
                    <a:lnTo>
                      <a:pt x="450" y="352"/>
                    </a:lnTo>
                    <a:lnTo>
                      <a:pt x="445" y="346"/>
                    </a:lnTo>
                    <a:lnTo>
                      <a:pt x="439" y="352"/>
                    </a:lnTo>
                    <a:lnTo>
                      <a:pt x="433" y="358"/>
                    </a:lnTo>
                    <a:lnTo>
                      <a:pt x="427" y="363"/>
                    </a:lnTo>
                    <a:lnTo>
                      <a:pt x="433" y="369"/>
                    </a:lnTo>
                    <a:lnTo>
                      <a:pt x="433" y="363"/>
                    </a:lnTo>
                    <a:lnTo>
                      <a:pt x="422" y="369"/>
                    </a:lnTo>
                    <a:lnTo>
                      <a:pt x="422" y="375"/>
                    </a:lnTo>
                    <a:lnTo>
                      <a:pt x="422" y="369"/>
                    </a:lnTo>
                    <a:lnTo>
                      <a:pt x="410" y="369"/>
                    </a:lnTo>
                    <a:lnTo>
                      <a:pt x="393" y="369"/>
                    </a:lnTo>
                    <a:lnTo>
                      <a:pt x="341" y="369"/>
                    </a:lnTo>
                    <a:lnTo>
                      <a:pt x="283" y="375"/>
                    </a:lnTo>
                    <a:lnTo>
                      <a:pt x="231" y="375"/>
                    </a:lnTo>
                    <a:lnTo>
                      <a:pt x="179" y="381"/>
                    </a:lnTo>
                    <a:lnTo>
                      <a:pt x="127" y="381"/>
                    </a:lnTo>
                    <a:lnTo>
                      <a:pt x="87" y="381"/>
                    </a:lnTo>
                    <a:lnTo>
                      <a:pt x="64" y="381"/>
                    </a:lnTo>
                    <a:lnTo>
                      <a:pt x="46" y="381"/>
                    </a:lnTo>
                    <a:lnTo>
                      <a:pt x="46" y="387"/>
                    </a:lnTo>
                    <a:lnTo>
                      <a:pt x="52" y="381"/>
                    </a:lnTo>
                    <a:lnTo>
                      <a:pt x="41" y="375"/>
                    </a:lnTo>
                    <a:lnTo>
                      <a:pt x="29" y="369"/>
                    </a:lnTo>
                    <a:lnTo>
                      <a:pt x="18" y="363"/>
                    </a:lnTo>
                    <a:lnTo>
                      <a:pt x="18" y="375"/>
                    </a:lnTo>
                    <a:lnTo>
                      <a:pt x="18" y="421"/>
                    </a:lnTo>
                    <a:lnTo>
                      <a:pt x="18" y="485"/>
                    </a:lnTo>
                    <a:lnTo>
                      <a:pt x="18" y="548"/>
                    </a:lnTo>
                    <a:lnTo>
                      <a:pt x="18" y="617"/>
                    </a:lnTo>
                    <a:lnTo>
                      <a:pt x="18" y="681"/>
                    </a:lnTo>
                    <a:lnTo>
                      <a:pt x="18" y="738"/>
                    </a:lnTo>
                    <a:lnTo>
                      <a:pt x="18" y="785"/>
                    </a:lnTo>
                    <a:lnTo>
                      <a:pt x="18" y="808"/>
                    </a:lnTo>
                    <a:lnTo>
                      <a:pt x="18" y="819"/>
                    </a:lnTo>
                    <a:lnTo>
                      <a:pt x="18" y="825"/>
                    </a:lnTo>
                    <a:lnTo>
                      <a:pt x="18" y="825"/>
                    </a:lnTo>
                    <a:lnTo>
                      <a:pt x="23" y="831"/>
                    </a:lnTo>
                    <a:lnTo>
                      <a:pt x="29" y="825"/>
                    </a:lnTo>
                    <a:lnTo>
                      <a:pt x="23" y="825"/>
                    </a:lnTo>
                    <a:lnTo>
                      <a:pt x="23" y="837"/>
                    </a:lnTo>
                    <a:lnTo>
                      <a:pt x="23" y="842"/>
                    </a:lnTo>
                    <a:lnTo>
                      <a:pt x="29" y="848"/>
                    </a:lnTo>
                    <a:lnTo>
                      <a:pt x="41" y="854"/>
                    </a:lnTo>
                    <a:lnTo>
                      <a:pt x="41" y="842"/>
                    </a:lnTo>
                    <a:lnTo>
                      <a:pt x="35" y="848"/>
                    </a:lnTo>
                    <a:lnTo>
                      <a:pt x="41" y="860"/>
                    </a:lnTo>
                    <a:lnTo>
                      <a:pt x="41" y="860"/>
                    </a:lnTo>
                    <a:lnTo>
                      <a:pt x="46" y="865"/>
                    </a:lnTo>
                    <a:lnTo>
                      <a:pt x="58" y="871"/>
                    </a:lnTo>
                    <a:lnTo>
                      <a:pt x="70" y="877"/>
                    </a:lnTo>
                    <a:lnTo>
                      <a:pt x="70" y="877"/>
                    </a:lnTo>
                    <a:lnTo>
                      <a:pt x="70" y="877"/>
                    </a:lnTo>
                    <a:lnTo>
                      <a:pt x="81" y="877"/>
                    </a:lnTo>
                    <a:lnTo>
                      <a:pt x="81" y="865"/>
                    </a:lnTo>
                    <a:lnTo>
                      <a:pt x="81" y="877"/>
                    </a:lnTo>
                    <a:lnTo>
                      <a:pt x="93" y="883"/>
                    </a:lnTo>
                    <a:lnTo>
                      <a:pt x="93" y="883"/>
                    </a:lnTo>
                    <a:lnTo>
                      <a:pt x="93" y="883"/>
                    </a:lnTo>
                    <a:lnTo>
                      <a:pt x="110" y="883"/>
                    </a:lnTo>
                    <a:lnTo>
                      <a:pt x="121" y="883"/>
                    </a:lnTo>
                    <a:lnTo>
                      <a:pt x="133" y="883"/>
                    </a:lnTo>
                    <a:lnTo>
                      <a:pt x="139" y="883"/>
                    </a:lnTo>
                    <a:lnTo>
                      <a:pt x="139" y="883"/>
                    </a:lnTo>
                    <a:lnTo>
                      <a:pt x="156" y="877"/>
                    </a:lnTo>
                    <a:lnTo>
                      <a:pt x="168" y="871"/>
                    </a:lnTo>
                    <a:lnTo>
                      <a:pt x="168" y="871"/>
                    </a:lnTo>
                    <a:lnTo>
                      <a:pt x="168" y="865"/>
                    </a:lnTo>
                    <a:lnTo>
                      <a:pt x="179" y="854"/>
                    </a:lnTo>
                    <a:lnTo>
                      <a:pt x="191" y="842"/>
                    </a:lnTo>
                    <a:lnTo>
                      <a:pt x="196" y="837"/>
                    </a:lnTo>
                    <a:close/>
                    <a:moveTo>
                      <a:pt x="179" y="831"/>
                    </a:moveTo>
                    <a:lnTo>
                      <a:pt x="168" y="842"/>
                    </a:lnTo>
                    <a:lnTo>
                      <a:pt x="156" y="854"/>
                    </a:lnTo>
                    <a:lnTo>
                      <a:pt x="162" y="860"/>
                    </a:lnTo>
                    <a:lnTo>
                      <a:pt x="162" y="854"/>
                    </a:lnTo>
                    <a:lnTo>
                      <a:pt x="150" y="860"/>
                    </a:lnTo>
                    <a:lnTo>
                      <a:pt x="133" y="865"/>
                    </a:lnTo>
                    <a:lnTo>
                      <a:pt x="133" y="871"/>
                    </a:lnTo>
                    <a:lnTo>
                      <a:pt x="133" y="865"/>
                    </a:lnTo>
                    <a:lnTo>
                      <a:pt x="121" y="865"/>
                    </a:lnTo>
                    <a:lnTo>
                      <a:pt x="110" y="865"/>
                    </a:lnTo>
                    <a:lnTo>
                      <a:pt x="93" y="865"/>
                    </a:lnTo>
                    <a:lnTo>
                      <a:pt x="93" y="871"/>
                    </a:lnTo>
                    <a:lnTo>
                      <a:pt x="98" y="865"/>
                    </a:lnTo>
                    <a:lnTo>
                      <a:pt x="87" y="860"/>
                    </a:lnTo>
                    <a:lnTo>
                      <a:pt x="87" y="860"/>
                    </a:lnTo>
                    <a:lnTo>
                      <a:pt x="81" y="860"/>
                    </a:lnTo>
                    <a:lnTo>
                      <a:pt x="70" y="860"/>
                    </a:lnTo>
                    <a:lnTo>
                      <a:pt x="70" y="865"/>
                    </a:lnTo>
                    <a:lnTo>
                      <a:pt x="75" y="860"/>
                    </a:lnTo>
                    <a:lnTo>
                      <a:pt x="64" y="854"/>
                    </a:lnTo>
                    <a:lnTo>
                      <a:pt x="52" y="848"/>
                    </a:lnTo>
                    <a:lnTo>
                      <a:pt x="46" y="854"/>
                    </a:lnTo>
                    <a:lnTo>
                      <a:pt x="58" y="854"/>
                    </a:lnTo>
                    <a:lnTo>
                      <a:pt x="52" y="842"/>
                    </a:lnTo>
                    <a:lnTo>
                      <a:pt x="46" y="837"/>
                    </a:lnTo>
                    <a:lnTo>
                      <a:pt x="46" y="837"/>
                    </a:lnTo>
                    <a:lnTo>
                      <a:pt x="35" y="831"/>
                    </a:lnTo>
                    <a:lnTo>
                      <a:pt x="29" y="837"/>
                    </a:lnTo>
                    <a:lnTo>
                      <a:pt x="41" y="837"/>
                    </a:lnTo>
                    <a:lnTo>
                      <a:pt x="41" y="825"/>
                    </a:lnTo>
                    <a:lnTo>
                      <a:pt x="41" y="825"/>
                    </a:lnTo>
                    <a:lnTo>
                      <a:pt x="35" y="819"/>
                    </a:lnTo>
                    <a:lnTo>
                      <a:pt x="29" y="813"/>
                    </a:lnTo>
                    <a:lnTo>
                      <a:pt x="23" y="819"/>
                    </a:lnTo>
                    <a:lnTo>
                      <a:pt x="35" y="819"/>
                    </a:lnTo>
                    <a:lnTo>
                      <a:pt x="35" y="808"/>
                    </a:lnTo>
                    <a:lnTo>
                      <a:pt x="35" y="785"/>
                    </a:lnTo>
                    <a:lnTo>
                      <a:pt x="35" y="738"/>
                    </a:lnTo>
                    <a:lnTo>
                      <a:pt x="35" y="681"/>
                    </a:lnTo>
                    <a:lnTo>
                      <a:pt x="35" y="617"/>
                    </a:lnTo>
                    <a:lnTo>
                      <a:pt x="35" y="548"/>
                    </a:lnTo>
                    <a:lnTo>
                      <a:pt x="35" y="485"/>
                    </a:lnTo>
                    <a:lnTo>
                      <a:pt x="35" y="421"/>
                    </a:lnTo>
                    <a:lnTo>
                      <a:pt x="35" y="375"/>
                    </a:lnTo>
                    <a:lnTo>
                      <a:pt x="23" y="375"/>
                    </a:lnTo>
                    <a:lnTo>
                      <a:pt x="23" y="387"/>
                    </a:lnTo>
                    <a:lnTo>
                      <a:pt x="35" y="392"/>
                    </a:lnTo>
                    <a:lnTo>
                      <a:pt x="46" y="398"/>
                    </a:lnTo>
                    <a:lnTo>
                      <a:pt x="46" y="398"/>
                    </a:lnTo>
                    <a:lnTo>
                      <a:pt x="46" y="398"/>
                    </a:lnTo>
                    <a:lnTo>
                      <a:pt x="64" y="398"/>
                    </a:lnTo>
                    <a:lnTo>
                      <a:pt x="87" y="398"/>
                    </a:lnTo>
                    <a:lnTo>
                      <a:pt x="127" y="398"/>
                    </a:lnTo>
                    <a:lnTo>
                      <a:pt x="179" y="398"/>
                    </a:lnTo>
                    <a:lnTo>
                      <a:pt x="231" y="392"/>
                    </a:lnTo>
                    <a:lnTo>
                      <a:pt x="283" y="392"/>
                    </a:lnTo>
                    <a:lnTo>
                      <a:pt x="341" y="387"/>
                    </a:lnTo>
                    <a:lnTo>
                      <a:pt x="393" y="387"/>
                    </a:lnTo>
                    <a:lnTo>
                      <a:pt x="410" y="387"/>
                    </a:lnTo>
                    <a:lnTo>
                      <a:pt x="422" y="387"/>
                    </a:lnTo>
                    <a:lnTo>
                      <a:pt x="427" y="387"/>
                    </a:lnTo>
                    <a:lnTo>
                      <a:pt x="427" y="387"/>
                    </a:lnTo>
                    <a:lnTo>
                      <a:pt x="439" y="381"/>
                    </a:lnTo>
                    <a:lnTo>
                      <a:pt x="439" y="381"/>
                    </a:lnTo>
                    <a:lnTo>
                      <a:pt x="439" y="375"/>
                    </a:lnTo>
                    <a:lnTo>
                      <a:pt x="445" y="369"/>
                    </a:lnTo>
                    <a:lnTo>
                      <a:pt x="450" y="363"/>
                    </a:lnTo>
                    <a:lnTo>
                      <a:pt x="456" y="358"/>
                    </a:lnTo>
                    <a:lnTo>
                      <a:pt x="462" y="358"/>
                    </a:lnTo>
                    <a:lnTo>
                      <a:pt x="462" y="358"/>
                    </a:lnTo>
                    <a:lnTo>
                      <a:pt x="468" y="346"/>
                    </a:lnTo>
                    <a:lnTo>
                      <a:pt x="468" y="346"/>
                    </a:lnTo>
                    <a:lnTo>
                      <a:pt x="468" y="340"/>
                    </a:lnTo>
                    <a:lnTo>
                      <a:pt x="468" y="329"/>
                    </a:lnTo>
                    <a:lnTo>
                      <a:pt x="468" y="323"/>
                    </a:lnTo>
                    <a:lnTo>
                      <a:pt x="468" y="312"/>
                    </a:lnTo>
                    <a:lnTo>
                      <a:pt x="468" y="312"/>
                    </a:lnTo>
                    <a:lnTo>
                      <a:pt x="468" y="312"/>
                    </a:lnTo>
                    <a:lnTo>
                      <a:pt x="462" y="300"/>
                    </a:lnTo>
                    <a:lnTo>
                      <a:pt x="456" y="283"/>
                    </a:lnTo>
                    <a:lnTo>
                      <a:pt x="450" y="271"/>
                    </a:lnTo>
                    <a:lnTo>
                      <a:pt x="439" y="254"/>
                    </a:lnTo>
                    <a:lnTo>
                      <a:pt x="439" y="254"/>
                    </a:lnTo>
                    <a:lnTo>
                      <a:pt x="433" y="248"/>
                    </a:lnTo>
                    <a:lnTo>
                      <a:pt x="422" y="237"/>
                    </a:lnTo>
                    <a:lnTo>
                      <a:pt x="416" y="242"/>
                    </a:lnTo>
                    <a:lnTo>
                      <a:pt x="427" y="242"/>
                    </a:lnTo>
                    <a:lnTo>
                      <a:pt x="416" y="225"/>
                    </a:lnTo>
                    <a:lnTo>
                      <a:pt x="416" y="225"/>
                    </a:lnTo>
                    <a:lnTo>
                      <a:pt x="410" y="219"/>
                    </a:lnTo>
                    <a:lnTo>
                      <a:pt x="404" y="213"/>
                    </a:lnTo>
                    <a:lnTo>
                      <a:pt x="398" y="208"/>
                    </a:lnTo>
                    <a:lnTo>
                      <a:pt x="393" y="213"/>
                    </a:lnTo>
                    <a:lnTo>
                      <a:pt x="404" y="213"/>
                    </a:lnTo>
                    <a:lnTo>
                      <a:pt x="398" y="202"/>
                    </a:lnTo>
                    <a:lnTo>
                      <a:pt x="398" y="202"/>
                    </a:lnTo>
                    <a:lnTo>
                      <a:pt x="393" y="196"/>
                    </a:lnTo>
                    <a:lnTo>
                      <a:pt x="387" y="190"/>
                    </a:lnTo>
                    <a:lnTo>
                      <a:pt x="381" y="196"/>
                    </a:lnTo>
                    <a:lnTo>
                      <a:pt x="393" y="196"/>
                    </a:lnTo>
                    <a:lnTo>
                      <a:pt x="387" y="179"/>
                    </a:lnTo>
                    <a:lnTo>
                      <a:pt x="375" y="179"/>
                    </a:lnTo>
                    <a:lnTo>
                      <a:pt x="387" y="179"/>
                    </a:lnTo>
                    <a:lnTo>
                      <a:pt x="387" y="162"/>
                    </a:lnTo>
                    <a:lnTo>
                      <a:pt x="387" y="138"/>
                    </a:lnTo>
                    <a:lnTo>
                      <a:pt x="375" y="138"/>
                    </a:lnTo>
                    <a:lnTo>
                      <a:pt x="387" y="144"/>
                    </a:lnTo>
                    <a:lnTo>
                      <a:pt x="393" y="127"/>
                    </a:lnTo>
                    <a:lnTo>
                      <a:pt x="398" y="110"/>
                    </a:lnTo>
                    <a:lnTo>
                      <a:pt x="404" y="92"/>
                    </a:lnTo>
                    <a:lnTo>
                      <a:pt x="416" y="75"/>
                    </a:lnTo>
                    <a:lnTo>
                      <a:pt x="404" y="69"/>
                    </a:lnTo>
                    <a:lnTo>
                      <a:pt x="410" y="75"/>
                    </a:lnTo>
                    <a:lnTo>
                      <a:pt x="422" y="63"/>
                    </a:lnTo>
                    <a:lnTo>
                      <a:pt x="439" y="46"/>
                    </a:lnTo>
                    <a:lnTo>
                      <a:pt x="433" y="40"/>
                    </a:lnTo>
                    <a:lnTo>
                      <a:pt x="439" y="52"/>
                    </a:lnTo>
                    <a:lnTo>
                      <a:pt x="456" y="40"/>
                    </a:lnTo>
                    <a:lnTo>
                      <a:pt x="450" y="29"/>
                    </a:lnTo>
                    <a:lnTo>
                      <a:pt x="450" y="40"/>
                    </a:lnTo>
                    <a:lnTo>
                      <a:pt x="473" y="35"/>
                    </a:lnTo>
                    <a:lnTo>
                      <a:pt x="479" y="29"/>
                    </a:lnTo>
                    <a:lnTo>
                      <a:pt x="479" y="35"/>
                    </a:lnTo>
                    <a:lnTo>
                      <a:pt x="497" y="23"/>
                    </a:lnTo>
                    <a:lnTo>
                      <a:pt x="514" y="17"/>
                    </a:lnTo>
                    <a:lnTo>
                      <a:pt x="508" y="6"/>
                    </a:lnTo>
                    <a:lnTo>
                      <a:pt x="508" y="17"/>
                    </a:lnTo>
                    <a:lnTo>
                      <a:pt x="531" y="17"/>
                    </a:lnTo>
                    <a:lnTo>
                      <a:pt x="554" y="17"/>
                    </a:lnTo>
                    <a:lnTo>
                      <a:pt x="577" y="23"/>
                    </a:lnTo>
                    <a:lnTo>
                      <a:pt x="577" y="12"/>
                    </a:lnTo>
                    <a:lnTo>
                      <a:pt x="577" y="23"/>
                    </a:lnTo>
                    <a:lnTo>
                      <a:pt x="595" y="35"/>
                    </a:lnTo>
                    <a:lnTo>
                      <a:pt x="612" y="40"/>
                    </a:lnTo>
                    <a:lnTo>
                      <a:pt x="629" y="52"/>
                    </a:lnTo>
                    <a:lnTo>
                      <a:pt x="629" y="40"/>
                    </a:lnTo>
                    <a:lnTo>
                      <a:pt x="623" y="46"/>
                    </a:lnTo>
                    <a:lnTo>
                      <a:pt x="635" y="63"/>
                    </a:lnTo>
                    <a:lnTo>
                      <a:pt x="635" y="63"/>
                    </a:lnTo>
                    <a:lnTo>
                      <a:pt x="635" y="63"/>
                    </a:lnTo>
                    <a:lnTo>
                      <a:pt x="647" y="75"/>
                    </a:lnTo>
                    <a:lnTo>
                      <a:pt x="652" y="69"/>
                    </a:lnTo>
                    <a:lnTo>
                      <a:pt x="647" y="75"/>
                    </a:lnTo>
                    <a:lnTo>
                      <a:pt x="658" y="92"/>
                    </a:lnTo>
                    <a:lnTo>
                      <a:pt x="664" y="110"/>
                    </a:lnTo>
                    <a:lnTo>
                      <a:pt x="670" y="127"/>
                    </a:lnTo>
                    <a:lnTo>
                      <a:pt x="675" y="121"/>
                    </a:lnTo>
                    <a:lnTo>
                      <a:pt x="670" y="121"/>
                    </a:lnTo>
                    <a:lnTo>
                      <a:pt x="670" y="138"/>
                    </a:lnTo>
                    <a:lnTo>
                      <a:pt x="670" y="162"/>
                    </a:lnTo>
                    <a:lnTo>
                      <a:pt x="675" y="162"/>
                    </a:lnTo>
                    <a:lnTo>
                      <a:pt x="670" y="162"/>
                    </a:lnTo>
                    <a:lnTo>
                      <a:pt x="664" y="173"/>
                    </a:lnTo>
                    <a:lnTo>
                      <a:pt x="658" y="190"/>
                    </a:lnTo>
                    <a:lnTo>
                      <a:pt x="652" y="208"/>
                    </a:lnTo>
                    <a:lnTo>
                      <a:pt x="641" y="225"/>
                    </a:lnTo>
                    <a:lnTo>
                      <a:pt x="647" y="225"/>
                    </a:lnTo>
                    <a:lnTo>
                      <a:pt x="641" y="219"/>
                    </a:lnTo>
                    <a:lnTo>
                      <a:pt x="618" y="242"/>
                    </a:lnTo>
                    <a:lnTo>
                      <a:pt x="600" y="265"/>
                    </a:lnTo>
                    <a:lnTo>
                      <a:pt x="606" y="271"/>
                    </a:lnTo>
                    <a:lnTo>
                      <a:pt x="606" y="265"/>
                    </a:lnTo>
                    <a:lnTo>
                      <a:pt x="595" y="271"/>
                    </a:lnTo>
                    <a:lnTo>
                      <a:pt x="589" y="271"/>
                    </a:lnTo>
                    <a:lnTo>
                      <a:pt x="589" y="277"/>
                    </a:lnTo>
                    <a:lnTo>
                      <a:pt x="583" y="288"/>
                    </a:lnTo>
                    <a:lnTo>
                      <a:pt x="577" y="300"/>
                    </a:lnTo>
                    <a:lnTo>
                      <a:pt x="583" y="300"/>
                    </a:lnTo>
                    <a:lnTo>
                      <a:pt x="577" y="294"/>
                    </a:lnTo>
                    <a:lnTo>
                      <a:pt x="572" y="300"/>
                    </a:lnTo>
                    <a:lnTo>
                      <a:pt x="572" y="306"/>
                    </a:lnTo>
                    <a:lnTo>
                      <a:pt x="572" y="306"/>
                    </a:lnTo>
                    <a:lnTo>
                      <a:pt x="572" y="317"/>
                    </a:lnTo>
                    <a:lnTo>
                      <a:pt x="572" y="323"/>
                    </a:lnTo>
                    <a:lnTo>
                      <a:pt x="572" y="335"/>
                    </a:lnTo>
                    <a:lnTo>
                      <a:pt x="572" y="340"/>
                    </a:lnTo>
                    <a:lnTo>
                      <a:pt x="572" y="346"/>
                    </a:lnTo>
                    <a:lnTo>
                      <a:pt x="572" y="346"/>
                    </a:lnTo>
                    <a:lnTo>
                      <a:pt x="577" y="358"/>
                    </a:lnTo>
                    <a:lnTo>
                      <a:pt x="577" y="358"/>
                    </a:lnTo>
                    <a:lnTo>
                      <a:pt x="577" y="358"/>
                    </a:lnTo>
                    <a:lnTo>
                      <a:pt x="583" y="363"/>
                    </a:lnTo>
                    <a:lnTo>
                      <a:pt x="589" y="369"/>
                    </a:lnTo>
                    <a:lnTo>
                      <a:pt x="600" y="381"/>
                    </a:lnTo>
                    <a:lnTo>
                      <a:pt x="606" y="387"/>
                    </a:lnTo>
                    <a:lnTo>
                      <a:pt x="606" y="387"/>
                    </a:lnTo>
                    <a:lnTo>
                      <a:pt x="623" y="392"/>
                    </a:lnTo>
                    <a:lnTo>
                      <a:pt x="641" y="404"/>
                    </a:lnTo>
                    <a:lnTo>
                      <a:pt x="658" y="410"/>
                    </a:lnTo>
                    <a:lnTo>
                      <a:pt x="647" y="404"/>
                    </a:lnTo>
                    <a:lnTo>
                      <a:pt x="658" y="410"/>
                    </a:lnTo>
                    <a:lnTo>
                      <a:pt x="681" y="415"/>
                    </a:lnTo>
                    <a:lnTo>
                      <a:pt x="710" y="421"/>
                    </a:lnTo>
                    <a:lnTo>
                      <a:pt x="733" y="427"/>
                    </a:lnTo>
                    <a:lnTo>
                      <a:pt x="768" y="427"/>
                    </a:lnTo>
                    <a:lnTo>
                      <a:pt x="797" y="427"/>
                    </a:lnTo>
                    <a:lnTo>
                      <a:pt x="825" y="427"/>
                    </a:lnTo>
                    <a:lnTo>
                      <a:pt x="854" y="427"/>
                    </a:lnTo>
                    <a:lnTo>
                      <a:pt x="883" y="427"/>
                    </a:lnTo>
                    <a:lnTo>
                      <a:pt x="912" y="421"/>
                    </a:lnTo>
                    <a:lnTo>
                      <a:pt x="941" y="415"/>
                    </a:lnTo>
                    <a:lnTo>
                      <a:pt x="964" y="410"/>
                    </a:lnTo>
                    <a:lnTo>
                      <a:pt x="970" y="404"/>
                    </a:lnTo>
                    <a:lnTo>
                      <a:pt x="970" y="410"/>
                    </a:lnTo>
                    <a:lnTo>
                      <a:pt x="993" y="398"/>
                    </a:lnTo>
                    <a:lnTo>
                      <a:pt x="1010" y="387"/>
                    </a:lnTo>
                    <a:lnTo>
                      <a:pt x="1004" y="375"/>
                    </a:lnTo>
                    <a:lnTo>
                      <a:pt x="999" y="375"/>
                    </a:lnTo>
                    <a:lnTo>
                      <a:pt x="999" y="387"/>
                    </a:lnTo>
                    <a:lnTo>
                      <a:pt x="999" y="404"/>
                    </a:lnTo>
                    <a:lnTo>
                      <a:pt x="999" y="427"/>
                    </a:lnTo>
                    <a:lnTo>
                      <a:pt x="999" y="450"/>
                    </a:lnTo>
                    <a:lnTo>
                      <a:pt x="1004" y="508"/>
                    </a:lnTo>
                    <a:lnTo>
                      <a:pt x="1010" y="577"/>
                    </a:lnTo>
                    <a:lnTo>
                      <a:pt x="1016" y="612"/>
                    </a:lnTo>
                    <a:lnTo>
                      <a:pt x="1016" y="640"/>
                    </a:lnTo>
                    <a:lnTo>
                      <a:pt x="1022" y="675"/>
                    </a:lnTo>
                    <a:lnTo>
                      <a:pt x="1022" y="704"/>
                    </a:lnTo>
                    <a:lnTo>
                      <a:pt x="1022" y="727"/>
                    </a:lnTo>
                    <a:lnTo>
                      <a:pt x="1027" y="727"/>
                    </a:lnTo>
                    <a:lnTo>
                      <a:pt x="1022" y="727"/>
                    </a:lnTo>
                    <a:lnTo>
                      <a:pt x="1016" y="750"/>
                    </a:lnTo>
                    <a:lnTo>
                      <a:pt x="1010" y="762"/>
                    </a:lnTo>
                    <a:lnTo>
                      <a:pt x="1010" y="762"/>
                    </a:lnTo>
                    <a:lnTo>
                      <a:pt x="1010" y="762"/>
                    </a:lnTo>
                    <a:lnTo>
                      <a:pt x="1010" y="767"/>
                    </a:lnTo>
                    <a:lnTo>
                      <a:pt x="1016" y="767"/>
                    </a:lnTo>
                    <a:lnTo>
                      <a:pt x="1010" y="762"/>
                    </a:lnTo>
                    <a:lnTo>
                      <a:pt x="1004" y="767"/>
                    </a:lnTo>
                    <a:lnTo>
                      <a:pt x="999" y="773"/>
                    </a:lnTo>
                    <a:lnTo>
                      <a:pt x="993" y="779"/>
                    </a:lnTo>
                    <a:lnTo>
                      <a:pt x="999" y="785"/>
                    </a:lnTo>
                    <a:lnTo>
                      <a:pt x="999" y="779"/>
                    </a:lnTo>
                    <a:lnTo>
                      <a:pt x="987" y="785"/>
                    </a:lnTo>
                    <a:lnTo>
                      <a:pt x="975" y="790"/>
                    </a:lnTo>
                    <a:lnTo>
                      <a:pt x="975" y="796"/>
                    </a:lnTo>
                    <a:lnTo>
                      <a:pt x="975" y="790"/>
                    </a:lnTo>
                    <a:lnTo>
                      <a:pt x="970" y="790"/>
                    </a:lnTo>
                    <a:lnTo>
                      <a:pt x="970" y="790"/>
                    </a:lnTo>
                    <a:lnTo>
                      <a:pt x="970" y="790"/>
                    </a:lnTo>
                    <a:lnTo>
                      <a:pt x="958" y="796"/>
                    </a:lnTo>
                    <a:lnTo>
                      <a:pt x="958" y="802"/>
                    </a:lnTo>
                    <a:lnTo>
                      <a:pt x="958" y="796"/>
                    </a:lnTo>
                    <a:lnTo>
                      <a:pt x="947" y="796"/>
                    </a:lnTo>
                    <a:lnTo>
                      <a:pt x="947" y="802"/>
                    </a:lnTo>
                    <a:lnTo>
                      <a:pt x="952" y="796"/>
                    </a:lnTo>
                    <a:lnTo>
                      <a:pt x="947" y="790"/>
                    </a:lnTo>
                    <a:lnTo>
                      <a:pt x="947" y="790"/>
                    </a:lnTo>
                    <a:lnTo>
                      <a:pt x="941" y="790"/>
                    </a:lnTo>
                    <a:lnTo>
                      <a:pt x="929" y="790"/>
                    </a:lnTo>
                    <a:lnTo>
                      <a:pt x="906" y="785"/>
                    </a:lnTo>
                    <a:lnTo>
                      <a:pt x="906" y="790"/>
                    </a:lnTo>
                    <a:lnTo>
                      <a:pt x="912" y="785"/>
                    </a:lnTo>
                    <a:lnTo>
                      <a:pt x="895" y="773"/>
                    </a:lnTo>
                    <a:lnTo>
                      <a:pt x="877" y="762"/>
                    </a:lnTo>
                    <a:lnTo>
                      <a:pt x="854" y="750"/>
                    </a:lnTo>
                    <a:lnTo>
                      <a:pt x="837" y="744"/>
                    </a:lnTo>
                    <a:lnTo>
                      <a:pt x="814" y="733"/>
                    </a:lnTo>
                    <a:lnTo>
                      <a:pt x="814" y="733"/>
                    </a:lnTo>
                    <a:lnTo>
                      <a:pt x="808" y="733"/>
                    </a:lnTo>
                    <a:lnTo>
                      <a:pt x="797" y="733"/>
                    </a:lnTo>
                    <a:lnTo>
                      <a:pt x="797" y="738"/>
                    </a:lnTo>
                    <a:lnTo>
                      <a:pt x="802" y="733"/>
                    </a:lnTo>
                    <a:lnTo>
                      <a:pt x="791" y="727"/>
                    </a:lnTo>
                    <a:lnTo>
                      <a:pt x="791" y="727"/>
                    </a:lnTo>
                    <a:lnTo>
                      <a:pt x="785" y="727"/>
                    </a:lnTo>
                    <a:lnTo>
                      <a:pt x="779" y="727"/>
                    </a:lnTo>
                    <a:lnTo>
                      <a:pt x="768" y="727"/>
                    </a:lnTo>
                    <a:lnTo>
                      <a:pt x="768" y="727"/>
                    </a:lnTo>
                    <a:lnTo>
                      <a:pt x="768" y="727"/>
                    </a:lnTo>
                    <a:lnTo>
                      <a:pt x="756" y="733"/>
                    </a:lnTo>
                    <a:lnTo>
                      <a:pt x="745" y="738"/>
                    </a:lnTo>
                    <a:lnTo>
                      <a:pt x="733" y="744"/>
                    </a:lnTo>
                    <a:lnTo>
                      <a:pt x="722" y="750"/>
                    </a:lnTo>
                    <a:lnTo>
                      <a:pt x="710" y="756"/>
                    </a:lnTo>
                    <a:lnTo>
                      <a:pt x="710" y="756"/>
                    </a:lnTo>
                    <a:lnTo>
                      <a:pt x="704" y="756"/>
                    </a:lnTo>
                    <a:lnTo>
                      <a:pt x="693" y="767"/>
                    </a:lnTo>
                    <a:lnTo>
                      <a:pt x="693" y="773"/>
                    </a:lnTo>
                    <a:lnTo>
                      <a:pt x="693" y="773"/>
                    </a:lnTo>
                    <a:lnTo>
                      <a:pt x="681" y="790"/>
                    </a:lnTo>
                    <a:lnTo>
                      <a:pt x="675" y="808"/>
                    </a:lnTo>
                    <a:lnTo>
                      <a:pt x="670" y="819"/>
                    </a:lnTo>
                    <a:lnTo>
                      <a:pt x="664" y="831"/>
                    </a:lnTo>
                    <a:lnTo>
                      <a:pt x="664" y="831"/>
                    </a:lnTo>
                    <a:lnTo>
                      <a:pt x="664" y="831"/>
                    </a:lnTo>
                    <a:lnTo>
                      <a:pt x="664" y="842"/>
                    </a:lnTo>
                    <a:lnTo>
                      <a:pt x="664" y="860"/>
                    </a:lnTo>
                    <a:lnTo>
                      <a:pt x="664" y="871"/>
                    </a:lnTo>
                    <a:lnTo>
                      <a:pt x="664" y="877"/>
                    </a:lnTo>
                    <a:lnTo>
                      <a:pt x="664" y="877"/>
                    </a:lnTo>
                    <a:lnTo>
                      <a:pt x="670" y="894"/>
                    </a:lnTo>
                    <a:lnTo>
                      <a:pt x="675" y="912"/>
                    </a:lnTo>
                    <a:lnTo>
                      <a:pt x="675" y="912"/>
                    </a:lnTo>
                    <a:lnTo>
                      <a:pt x="675" y="912"/>
                    </a:lnTo>
                    <a:lnTo>
                      <a:pt x="687" y="923"/>
                    </a:lnTo>
                    <a:lnTo>
                      <a:pt x="693" y="917"/>
                    </a:lnTo>
                    <a:lnTo>
                      <a:pt x="687" y="923"/>
                    </a:lnTo>
                    <a:lnTo>
                      <a:pt x="699" y="940"/>
                    </a:lnTo>
                    <a:lnTo>
                      <a:pt x="699" y="940"/>
                    </a:lnTo>
                    <a:lnTo>
                      <a:pt x="699" y="940"/>
                    </a:lnTo>
                    <a:lnTo>
                      <a:pt x="710" y="952"/>
                    </a:lnTo>
                    <a:lnTo>
                      <a:pt x="716" y="958"/>
                    </a:lnTo>
                    <a:lnTo>
                      <a:pt x="716" y="958"/>
                    </a:lnTo>
                    <a:lnTo>
                      <a:pt x="727" y="963"/>
                    </a:lnTo>
                    <a:lnTo>
                      <a:pt x="727" y="963"/>
                    </a:lnTo>
                    <a:lnTo>
                      <a:pt x="727" y="963"/>
                    </a:lnTo>
                    <a:lnTo>
                      <a:pt x="733" y="963"/>
                    </a:lnTo>
                    <a:lnTo>
                      <a:pt x="733" y="952"/>
                    </a:lnTo>
                    <a:lnTo>
                      <a:pt x="733" y="963"/>
                    </a:lnTo>
                    <a:lnTo>
                      <a:pt x="745" y="969"/>
                    </a:lnTo>
                    <a:lnTo>
                      <a:pt x="745" y="969"/>
                    </a:lnTo>
                    <a:lnTo>
                      <a:pt x="745" y="969"/>
                    </a:lnTo>
                    <a:lnTo>
                      <a:pt x="750" y="969"/>
                    </a:lnTo>
                    <a:lnTo>
                      <a:pt x="750" y="958"/>
                    </a:lnTo>
                    <a:lnTo>
                      <a:pt x="750" y="969"/>
                    </a:lnTo>
                    <a:lnTo>
                      <a:pt x="768" y="975"/>
                    </a:lnTo>
                    <a:lnTo>
                      <a:pt x="768" y="975"/>
                    </a:lnTo>
                    <a:lnTo>
                      <a:pt x="768" y="975"/>
                    </a:lnTo>
                    <a:lnTo>
                      <a:pt x="774" y="975"/>
                    </a:lnTo>
                    <a:lnTo>
                      <a:pt x="785" y="975"/>
                    </a:lnTo>
                    <a:lnTo>
                      <a:pt x="802" y="975"/>
                    </a:lnTo>
                    <a:lnTo>
                      <a:pt x="814" y="975"/>
                    </a:lnTo>
                    <a:lnTo>
                      <a:pt x="820" y="975"/>
                    </a:lnTo>
                    <a:lnTo>
                      <a:pt x="820" y="975"/>
                    </a:lnTo>
                    <a:lnTo>
                      <a:pt x="837" y="969"/>
                    </a:lnTo>
                    <a:lnTo>
                      <a:pt x="831" y="958"/>
                    </a:lnTo>
                    <a:lnTo>
                      <a:pt x="831" y="969"/>
                    </a:lnTo>
                    <a:lnTo>
                      <a:pt x="843" y="969"/>
                    </a:lnTo>
                    <a:lnTo>
                      <a:pt x="849" y="969"/>
                    </a:lnTo>
                    <a:lnTo>
                      <a:pt x="849" y="969"/>
                    </a:lnTo>
                    <a:lnTo>
                      <a:pt x="866" y="963"/>
                    </a:lnTo>
                    <a:lnTo>
                      <a:pt x="889" y="952"/>
                    </a:lnTo>
                    <a:lnTo>
                      <a:pt x="883" y="940"/>
                    </a:lnTo>
                    <a:lnTo>
                      <a:pt x="883" y="952"/>
                    </a:lnTo>
                    <a:lnTo>
                      <a:pt x="906" y="946"/>
                    </a:lnTo>
                    <a:lnTo>
                      <a:pt x="929" y="940"/>
                    </a:lnTo>
                    <a:lnTo>
                      <a:pt x="947" y="940"/>
                    </a:lnTo>
                    <a:lnTo>
                      <a:pt x="958" y="940"/>
                    </a:lnTo>
                    <a:lnTo>
                      <a:pt x="958" y="929"/>
                    </a:lnTo>
                    <a:lnTo>
                      <a:pt x="952" y="935"/>
                    </a:lnTo>
                    <a:lnTo>
                      <a:pt x="958" y="940"/>
                    </a:lnTo>
                    <a:lnTo>
                      <a:pt x="964" y="946"/>
                    </a:lnTo>
                    <a:lnTo>
                      <a:pt x="964" y="946"/>
                    </a:lnTo>
                    <a:lnTo>
                      <a:pt x="970" y="946"/>
                    </a:lnTo>
                    <a:lnTo>
                      <a:pt x="970" y="935"/>
                    </a:lnTo>
                    <a:lnTo>
                      <a:pt x="970" y="946"/>
                    </a:lnTo>
                    <a:lnTo>
                      <a:pt x="981" y="952"/>
                    </a:lnTo>
                    <a:lnTo>
                      <a:pt x="981" y="940"/>
                    </a:lnTo>
                    <a:lnTo>
                      <a:pt x="975" y="946"/>
                    </a:lnTo>
                    <a:lnTo>
                      <a:pt x="981" y="952"/>
                    </a:lnTo>
                    <a:lnTo>
                      <a:pt x="987" y="946"/>
                    </a:lnTo>
                    <a:lnTo>
                      <a:pt x="981" y="952"/>
                    </a:lnTo>
                    <a:lnTo>
                      <a:pt x="987" y="963"/>
                    </a:lnTo>
                    <a:lnTo>
                      <a:pt x="987" y="963"/>
                    </a:lnTo>
                    <a:lnTo>
                      <a:pt x="987" y="963"/>
                    </a:lnTo>
                    <a:lnTo>
                      <a:pt x="993" y="969"/>
                    </a:lnTo>
                    <a:lnTo>
                      <a:pt x="999" y="963"/>
                    </a:lnTo>
                    <a:lnTo>
                      <a:pt x="993" y="969"/>
                    </a:lnTo>
                    <a:lnTo>
                      <a:pt x="999" y="987"/>
                    </a:lnTo>
                    <a:lnTo>
                      <a:pt x="1004" y="998"/>
                    </a:lnTo>
                    <a:lnTo>
                      <a:pt x="1010" y="1015"/>
                    </a:lnTo>
                    <a:lnTo>
                      <a:pt x="1016" y="1033"/>
                    </a:lnTo>
                    <a:lnTo>
                      <a:pt x="1022" y="1050"/>
                    </a:lnTo>
                    <a:lnTo>
                      <a:pt x="1027" y="1044"/>
                    </a:lnTo>
                    <a:lnTo>
                      <a:pt x="1022" y="1044"/>
                    </a:lnTo>
                    <a:lnTo>
                      <a:pt x="1022" y="1067"/>
                    </a:lnTo>
                    <a:lnTo>
                      <a:pt x="1022" y="1073"/>
                    </a:lnTo>
                    <a:lnTo>
                      <a:pt x="1022" y="1073"/>
                    </a:lnTo>
                    <a:lnTo>
                      <a:pt x="1027" y="1096"/>
                    </a:lnTo>
                    <a:lnTo>
                      <a:pt x="1033" y="1090"/>
                    </a:lnTo>
                    <a:lnTo>
                      <a:pt x="1027" y="1090"/>
                    </a:lnTo>
                    <a:lnTo>
                      <a:pt x="1027" y="1114"/>
                    </a:lnTo>
                    <a:lnTo>
                      <a:pt x="1027" y="1137"/>
                    </a:lnTo>
                    <a:lnTo>
                      <a:pt x="1027" y="1160"/>
                    </a:lnTo>
                    <a:lnTo>
                      <a:pt x="1027" y="1183"/>
                    </a:lnTo>
                    <a:lnTo>
                      <a:pt x="1027" y="1206"/>
                    </a:lnTo>
                    <a:lnTo>
                      <a:pt x="1033" y="1206"/>
                    </a:lnTo>
                    <a:lnTo>
                      <a:pt x="1027" y="1206"/>
                    </a:lnTo>
                    <a:lnTo>
                      <a:pt x="1022" y="1229"/>
                    </a:lnTo>
                    <a:lnTo>
                      <a:pt x="1016" y="1252"/>
                    </a:lnTo>
                    <a:lnTo>
                      <a:pt x="1010" y="1275"/>
                    </a:lnTo>
                    <a:lnTo>
                      <a:pt x="1004" y="1298"/>
                    </a:lnTo>
                    <a:lnTo>
                      <a:pt x="993" y="1315"/>
                    </a:lnTo>
                    <a:lnTo>
                      <a:pt x="999" y="1315"/>
                    </a:lnTo>
                    <a:lnTo>
                      <a:pt x="999" y="1310"/>
                    </a:lnTo>
                    <a:lnTo>
                      <a:pt x="947" y="1310"/>
                    </a:lnTo>
                    <a:lnTo>
                      <a:pt x="900" y="1304"/>
                    </a:lnTo>
                    <a:lnTo>
                      <a:pt x="854" y="1304"/>
                    </a:lnTo>
                    <a:lnTo>
                      <a:pt x="808" y="1298"/>
                    </a:lnTo>
                    <a:lnTo>
                      <a:pt x="768" y="1292"/>
                    </a:lnTo>
                    <a:lnTo>
                      <a:pt x="739" y="1292"/>
                    </a:lnTo>
                    <a:lnTo>
                      <a:pt x="710" y="1287"/>
                    </a:lnTo>
                    <a:lnTo>
                      <a:pt x="693" y="1287"/>
                    </a:lnTo>
                    <a:lnTo>
                      <a:pt x="687" y="1287"/>
                    </a:lnTo>
                    <a:lnTo>
                      <a:pt x="687" y="1287"/>
                    </a:lnTo>
                    <a:lnTo>
                      <a:pt x="687" y="1287"/>
                    </a:lnTo>
                    <a:lnTo>
                      <a:pt x="675" y="1292"/>
                    </a:lnTo>
                    <a:lnTo>
                      <a:pt x="664" y="1298"/>
                    </a:lnTo>
                    <a:lnTo>
                      <a:pt x="658" y="1298"/>
                    </a:lnTo>
                    <a:lnTo>
                      <a:pt x="658" y="1304"/>
                    </a:lnTo>
                    <a:lnTo>
                      <a:pt x="652" y="1315"/>
                    </a:lnTo>
                    <a:lnTo>
                      <a:pt x="658" y="1315"/>
                    </a:lnTo>
                    <a:lnTo>
                      <a:pt x="658" y="1310"/>
                    </a:lnTo>
                    <a:lnTo>
                      <a:pt x="647" y="1315"/>
                    </a:lnTo>
                    <a:lnTo>
                      <a:pt x="641" y="1315"/>
                    </a:lnTo>
                    <a:lnTo>
                      <a:pt x="641" y="1321"/>
                    </a:lnTo>
                    <a:lnTo>
                      <a:pt x="635" y="1333"/>
                    </a:lnTo>
                    <a:lnTo>
                      <a:pt x="629" y="1350"/>
                    </a:lnTo>
                    <a:lnTo>
                      <a:pt x="623" y="1362"/>
                    </a:lnTo>
                    <a:lnTo>
                      <a:pt x="623" y="1362"/>
                    </a:lnTo>
                    <a:lnTo>
                      <a:pt x="623" y="1362"/>
                    </a:lnTo>
                    <a:lnTo>
                      <a:pt x="623" y="1379"/>
                    </a:lnTo>
                    <a:lnTo>
                      <a:pt x="623" y="1390"/>
                    </a:lnTo>
                    <a:lnTo>
                      <a:pt x="623" y="1408"/>
                    </a:lnTo>
                    <a:lnTo>
                      <a:pt x="623" y="1425"/>
                    </a:lnTo>
                    <a:lnTo>
                      <a:pt x="623" y="1431"/>
                    </a:lnTo>
                    <a:lnTo>
                      <a:pt x="623" y="1431"/>
                    </a:lnTo>
                    <a:lnTo>
                      <a:pt x="629" y="1448"/>
                    </a:lnTo>
                    <a:lnTo>
                      <a:pt x="641" y="1465"/>
                    </a:lnTo>
                    <a:lnTo>
                      <a:pt x="647" y="1477"/>
                    </a:lnTo>
                    <a:lnTo>
                      <a:pt x="658" y="1494"/>
                    </a:lnTo>
                    <a:lnTo>
                      <a:pt x="658" y="1494"/>
                    </a:lnTo>
                    <a:lnTo>
                      <a:pt x="664" y="1500"/>
                    </a:lnTo>
                    <a:lnTo>
                      <a:pt x="681" y="1512"/>
                    </a:lnTo>
                    <a:lnTo>
                      <a:pt x="681" y="1500"/>
                    </a:lnTo>
                    <a:lnTo>
                      <a:pt x="675" y="1506"/>
                    </a:lnTo>
                    <a:lnTo>
                      <a:pt x="687" y="1523"/>
                    </a:lnTo>
                    <a:lnTo>
                      <a:pt x="693" y="1540"/>
                    </a:lnTo>
                    <a:lnTo>
                      <a:pt x="699" y="1558"/>
                    </a:lnTo>
                    <a:lnTo>
                      <a:pt x="704" y="1575"/>
                    </a:lnTo>
                    <a:lnTo>
                      <a:pt x="710" y="1569"/>
                    </a:lnTo>
                    <a:lnTo>
                      <a:pt x="704" y="1569"/>
                    </a:lnTo>
                    <a:lnTo>
                      <a:pt x="699" y="1587"/>
                    </a:lnTo>
                    <a:lnTo>
                      <a:pt x="699" y="1587"/>
                    </a:lnTo>
                    <a:lnTo>
                      <a:pt x="699" y="1587"/>
                    </a:lnTo>
                    <a:lnTo>
                      <a:pt x="699" y="1604"/>
                    </a:lnTo>
                    <a:lnTo>
                      <a:pt x="704" y="1604"/>
                    </a:lnTo>
                    <a:lnTo>
                      <a:pt x="699" y="1604"/>
                    </a:lnTo>
                    <a:lnTo>
                      <a:pt x="693" y="1621"/>
                    </a:lnTo>
                    <a:lnTo>
                      <a:pt x="687" y="1639"/>
                    </a:lnTo>
                    <a:lnTo>
                      <a:pt x="693" y="1639"/>
                    </a:lnTo>
                    <a:lnTo>
                      <a:pt x="687" y="1633"/>
                    </a:lnTo>
                    <a:lnTo>
                      <a:pt x="675" y="1644"/>
                    </a:lnTo>
                    <a:lnTo>
                      <a:pt x="681" y="1650"/>
                    </a:lnTo>
                    <a:lnTo>
                      <a:pt x="681" y="1644"/>
                    </a:lnTo>
                    <a:lnTo>
                      <a:pt x="664" y="1656"/>
                    </a:lnTo>
                    <a:lnTo>
                      <a:pt x="664" y="1656"/>
                    </a:lnTo>
                    <a:lnTo>
                      <a:pt x="658" y="1656"/>
                    </a:lnTo>
                    <a:lnTo>
                      <a:pt x="641" y="1673"/>
                    </a:lnTo>
                    <a:lnTo>
                      <a:pt x="647" y="1679"/>
                    </a:lnTo>
                    <a:lnTo>
                      <a:pt x="647" y="1673"/>
                    </a:lnTo>
                    <a:lnTo>
                      <a:pt x="629" y="1679"/>
                    </a:lnTo>
                    <a:lnTo>
                      <a:pt x="612" y="1690"/>
                    </a:lnTo>
                    <a:lnTo>
                      <a:pt x="612" y="1696"/>
                    </a:lnTo>
                    <a:lnTo>
                      <a:pt x="612" y="1690"/>
                    </a:lnTo>
                    <a:lnTo>
                      <a:pt x="589" y="1696"/>
                    </a:lnTo>
                    <a:lnTo>
                      <a:pt x="560" y="1696"/>
                    </a:lnTo>
                    <a:lnTo>
                      <a:pt x="548" y="1696"/>
                    </a:lnTo>
                    <a:lnTo>
                      <a:pt x="537" y="1696"/>
                    </a:lnTo>
                    <a:lnTo>
                      <a:pt x="525" y="1696"/>
                    </a:lnTo>
                    <a:lnTo>
                      <a:pt x="525" y="1702"/>
                    </a:lnTo>
                    <a:lnTo>
                      <a:pt x="531" y="1696"/>
                    </a:lnTo>
                    <a:lnTo>
                      <a:pt x="520" y="1690"/>
                    </a:lnTo>
                    <a:lnTo>
                      <a:pt x="508" y="1685"/>
                    </a:lnTo>
                    <a:lnTo>
                      <a:pt x="508" y="1685"/>
                    </a:lnTo>
                    <a:lnTo>
                      <a:pt x="502" y="1685"/>
                    </a:lnTo>
                    <a:lnTo>
                      <a:pt x="497" y="1685"/>
                    </a:lnTo>
                    <a:lnTo>
                      <a:pt x="497" y="1690"/>
                    </a:lnTo>
                    <a:lnTo>
                      <a:pt x="502" y="1685"/>
                    </a:lnTo>
                    <a:lnTo>
                      <a:pt x="491" y="1679"/>
                    </a:lnTo>
                    <a:lnTo>
                      <a:pt x="479" y="1673"/>
                    </a:lnTo>
                    <a:lnTo>
                      <a:pt x="473" y="1679"/>
                    </a:lnTo>
                    <a:lnTo>
                      <a:pt x="485" y="1679"/>
                    </a:lnTo>
                    <a:lnTo>
                      <a:pt x="473" y="1662"/>
                    </a:lnTo>
                    <a:lnTo>
                      <a:pt x="473" y="1662"/>
                    </a:lnTo>
                    <a:lnTo>
                      <a:pt x="468" y="1656"/>
                    </a:lnTo>
                    <a:lnTo>
                      <a:pt x="456" y="1644"/>
                    </a:lnTo>
                    <a:lnTo>
                      <a:pt x="450" y="1650"/>
                    </a:lnTo>
                    <a:lnTo>
                      <a:pt x="462" y="1650"/>
                    </a:lnTo>
                    <a:lnTo>
                      <a:pt x="450" y="1633"/>
                    </a:lnTo>
                    <a:lnTo>
                      <a:pt x="439" y="1615"/>
                    </a:lnTo>
                    <a:lnTo>
                      <a:pt x="433" y="1598"/>
                    </a:lnTo>
                    <a:lnTo>
                      <a:pt x="422" y="1598"/>
                    </a:lnTo>
                    <a:lnTo>
                      <a:pt x="433" y="1598"/>
                    </a:lnTo>
                    <a:lnTo>
                      <a:pt x="433" y="1581"/>
                    </a:lnTo>
                    <a:lnTo>
                      <a:pt x="433" y="1558"/>
                    </a:lnTo>
                    <a:lnTo>
                      <a:pt x="433" y="1540"/>
                    </a:lnTo>
                    <a:lnTo>
                      <a:pt x="422" y="1540"/>
                    </a:lnTo>
                    <a:lnTo>
                      <a:pt x="433" y="1546"/>
                    </a:lnTo>
                    <a:lnTo>
                      <a:pt x="439" y="1529"/>
                    </a:lnTo>
                    <a:lnTo>
                      <a:pt x="445" y="1512"/>
                    </a:lnTo>
                    <a:lnTo>
                      <a:pt x="450" y="1500"/>
                    </a:lnTo>
                    <a:lnTo>
                      <a:pt x="462" y="1483"/>
                    </a:lnTo>
                    <a:lnTo>
                      <a:pt x="450" y="1477"/>
                    </a:lnTo>
                    <a:lnTo>
                      <a:pt x="456" y="1489"/>
                    </a:lnTo>
                    <a:lnTo>
                      <a:pt x="468" y="1483"/>
                    </a:lnTo>
                    <a:lnTo>
                      <a:pt x="468" y="1483"/>
                    </a:lnTo>
                    <a:lnTo>
                      <a:pt x="468" y="1477"/>
                    </a:lnTo>
                    <a:lnTo>
                      <a:pt x="479" y="1465"/>
                    </a:lnTo>
                    <a:lnTo>
                      <a:pt x="485" y="1465"/>
                    </a:lnTo>
                    <a:lnTo>
                      <a:pt x="485" y="1465"/>
                    </a:lnTo>
                    <a:lnTo>
                      <a:pt x="491" y="1454"/>
                    </a:lnTo>
                    <a:lnTo>
                      <a:pt x="497" y="1442"/>
                    </a:lnTo>
                    <a:lnTo>
                      <a:pt x="497" y="1442"/>
                    </a:lnTo>
                    <a:lnTo>
                      <a:pt x="497" y="1437"/>
                    </a:lnTo>
                    <a:lnTo>
                      <a:pt x="497" y="1425"/>
                    </a:lnTo>
                    <a:lnTo>
                      <a:pt x="497" y="1414"/>
                    </a:lnTo>
                    <a:lnTo>
                      <a:pt x="497" y="1402"/>
                    </a:lnTo>
                    <a:lnTo>
                      <a:pt x="497" y="1390"/>
                    </a:lnTo>
                    <a:lnTo>
                      <a:pt x="497" y="1390"/>
                    </a:lnTo>
                    <a:lnTo>
                      <a:pt x="497" y="1390"/>
                    </a:lnTo>
                    <a:lnTo>
                      <a:pt x="491" y="1379"/>
                    </a:lnTo>
                    <a:lnTo>
                      <a:pt x="491" y="1379"/>
                    </a:lnTo>
                    <a:lnTo>
                      <a:pt x="485" y="1373"/>
                    </a:lnTo>
                    <a:lnTo>
                      <a:pt x="473" y="1362"/>
                    </a:lnTo>
                    <a:lnTo>
                      <a:pt x="462" y="1350"/>
                    </a:lnTo>
                    <a:lnTo>
                      <a:pt x="462" y="1350"/>
                    </a:lnTo>
                    <a:lnTo>
                      <a:pt x="462" y="1350"/>
                    </a:lnTo>
                    <a:lnTo>
                      <a:pt x="450" y="1344"/>
                    </a:lnTo>
                    <a:lnTo>
                      <a:pt x="433" y="1333"/>
                    </a:lnTo>
                    <a:lnTo>
                      <a:pt x="410" y="1321"/>
                    </a:lnTo>
                    <a:lnTo>
                      <a:pt x="410" y="1321"/>
                    </a:lnTo>
                    <a:lnTo>
                      <a:pt x="404" y="1321"/>
                    </a:lnTo>
                    <a:lnTo>
                      <a:pt x="381" y="1315"/>
                    </a:lnTo>
                    <a:lnTo>
                      <a:pt x="352" y="1310"/>
                    </a:lnTo>
                    <a:lnTo>
                      <a:pt x="323" y="1310"/>
                    </a:lnTo>
                    <a:lnTo>
                      <a:pt x="283" y="1304"/>
                    </a:lnTo>
                    <a:lnTo>
                      <a:pt x="243" y="1304"/>
                    </a:lnTo>
                    <a:lnTo>
                      <a:pt x="191" y="1310"/>
                    </a:lnTo>
                    <a:lnTo>
                      <a:pt x="139" y="1310"/>
                    </a:lnTo>
                    <a:lnTo>
                      <a:pt x="93" y="1315"/>
                    </a:lnTo>
                    <a:lnTo>
                      <a:pt x="52" y="1321"/>
                    </a:lnTo>
                    <a:lnTo>
                      <a:pt x="23" y="1327"/>
                    </a:lnTo>
                    <a:lnTo>
                      <a:pt x="23" y="1333"/>
                    </a:lnTo>
                    <a:lnTo>
                      <a:pt x="35" y="1333"/>
                    </a:lnTo>
                    <a:lnTo>
                      <a:pt x="29" y="1321"/>
                    </a:lnTo>
                    <a:lnTo>
                      <a:pt x="23" y="1304"/>
                    </a:lnTo>
                    <a:lnTo>
                      <a:pt x="12" y="1304"/>
                    </a:lnTo>
                    <a:lnTo>
                      <a:pt x="23" y="1304"/>
                    </a:lnTo>
                    <a:lnTo>
                      <a:pt x="23" y="1287"/>
                    </a:lnTo>
                    <a:lnTo>
                      <a:pt x="23" y="1287"/>
                    </a:lnTo>
                    <a:lnTo>
                      <a:pt x="23" y="1287"/>
                    </a:lnTo>
                    <a:lnTo>
                      <a:pt x="18" y="1269"/>
                    </a:lnTo>
                    <a:lnTo>
                      <a:pt x="6" y="1269"/>
                    </a:lnTo>
                    <a:lnTo>
                      <a:pt x="18" y="1269"/>
                    </a:lnTo>
                    <a:lnTo>
                      <a:pt x="18" y="1229"/>
                    </a:lnTo>
                    <a:lnTo>
                      <a:pt x="18" y="1183"/>
                    </a:lnTo>
                    <a:lnTo>
                      <a:pt x="18" y="1142"/>
                    </a:lnTo>
                    <a:lnTo>
                      <a:pt x="23" y="1102"/>
                    </a:lnTo>
                    <a:lnTo>
                      <a:pt x="29" y="1062"/>
                    </a:lnTo>
                    <a:lnTo>
                      <a:pt x="35" y="1027"/>
                    </a:lnTo>
                    <a:lnTo>
                      <a:pt x="35" y="1010"/>
                    </a:lnTo>
                    <a:lnTo>
                      <a:pt x="23" y="1010"/>
                    </a:lnTo>
                    <a:lnTo>
                      <a:pt x="35" y="1015"/>
                    </a:lnTo>
                    <a:lnTo>
                      <a:pt x="41" y="1004"/>
                    </a:lnTo>
                    <a:lnTo>
                      <a:pt x="46" y="992"/>
                    </a:lnTo>
                    <a:lnTo>
                      <a:pt x="35" y="987"/>
                    </a:lnTo>
                    <a:lnTo>
                      <a:pt x="41" y="998"/>
                    </a:lnTo>
                    <a:lnTo>
                      <a:pt x="52" y="992"/>
                    </a:lnTo>
                    <a:lnTo>
                      <a:pt x="64" y="987"/>
                    </a:lnTo>
                    <a:lnTo>
                      <a:pt x="75" y="981"/>
                    </a:lnTo>
                    <a:lnTo>
                      <a:pt x="70" y="969"/>
                    </a:lnTo>
                    <a:lnTo>
                      <a:pt x="70" y="981"/>
                    </a:lnTo>
                    <a:lnTo>
                      <a:pt x="81" y="981"/>
                    </a:lnTo>
                    <a:lnTo>
                      <a:pt x="93" y="981"/>
                    </a:lnTo>
                    <a:lnTo>
                      <a:pt x="104" y="981"/>
                    </a:lnTo>
                    <a:lnTo>
                      <a:pt x="104" y="969"/>
                    </a:lnTo>
                    <a:lnTo>
                      <a:pt x="104" y="981"/>
                    </a:lnTo>
                    <a:lnTo>
                      <a:pt x="116" y="987"/>
                    </a:lnTo>
                    <a:lnTo>
                      <a:pt x="127" y="992"/>
                    </a:lnTo>
                    <a:lnTo>
                      <a:pt x="139" y="998"/>
                    </a:lnTo>
                    <a:lnTo>
                      <a:pt x="156" y="1004"/>
                    </a:lnTo>
                    <a:lnTo>
                      <a:pt x="168" y="1010"/>
                    </a:lnTo>
                    <a:lnTo>
                      <a:pt x="168" y="998"/>
                    </a:lnTo>
                    <a:lnTo>
                      <a:pt x="162" y="1004"/>
                    </a:lnTo>
                    <a:lnTo>
                      <a:pt x="173" y="1015"/>
                    </a:lnTo>
                    <a:lnTo>
                      <a:pt x="185" y="1027"/>
                    </a:lnTo>
                    <a:lnTo>
                      <a:pt x="196" y="1038"/>
                    </a:lnTo>
                    <a:lnTo>
                      <a:pt x="202" y="1044"/>
                    </a:lnTo>
                    <a:lnTo>
                      <a:pt x="202" y="1044"/>
                    </a:lnTo>
                    <a:lnTo>
                      <a:pt x="214" y="1050"/>
                    </a:lnTo>
                    <a:lnTo>
                      <a:pt x="225" y="1056"/>
                    </a:lnTo>
                    <a:lnTo>
                      <a:pt x="243" y="1062"/>
                    </a:lnTo>
                    <a:lnTo>
                      <a:pt x="260" y="1067"/>
                    </a:lnTo>
                    <a:lnTo>
                      <a:pt x="260" y="1067"/>
                    </a:lnTo>
                    <a:lnTo>
                      <a:pt x="260" y="1067"/>
                    </a:lnTo>
                    <a:lnTo>
                      <a:pt x="277" y="1067"/>
                    </a:lnTo>
                    <a:lnTo>
                      <a:pt x="295" y="1067"/>
                    </a:lnTo>
                    <a:lnTo>
                      <a:pt x="300" y="1067"/>
                    </a:lnTo>
                    <a:lnTo>
                      <a:pt x="300" y="1067"/>
                    </a:lnTo>
                    <a:lnTo>
                      <a:pt x="312" y="1062"/>
                    </a:lnTo>
                    <a:lnTo>
                      <a:pt x="329" y="1056"/>
                    </a:lnTo>
                    <a:lnTo>
                      <a:pt x="346" y="1050"/>
                    </a:lnTo>
                    <a:lnTo>
                      <a:pt x="346" y="1050"/>
                    </a:lnTo>
                    <a:lnTo>
                      <a:pt x="346" y="1044"/>
                    </a:lnTo>
                    <a:lnTo>
                      <a:pt x="358" y="1033"/>
                    </a:lnTo>
                    <a:lnTo>
                      <a:pt x="370" y="1021"/>
                    </a:lnTo>
                    <a:lnTo>
                      <a:pt x="375" y="1021"/>
                    </a:lnTo>
                    <a:lnTo>
                      <a:pt x="375" y="1021"/>
                    </a:lnTo>
                    <a:lnTo>
                      <a:pt x="387" y="1004"/>
                    </a:lnTo>
                    <a:lnTo>
                      <a:pt x="375" y="998"/>
                    </a:lnTo>
                    <a:lnTo>
                      <a:pt x="381" y="1004"/>
                    </a:lnTo>
                    <a:lnTo>
                      <a:pt x="393" y="992"/>
                    </a:lnTo>
                    <a:lnTo>
                      <a:pt x="398" y="992"/>
                    </a:lnTo>
                    <a:lnTo>
                      <a:pt x="398" y="992"/>
                    </a:lnTo>
                    <a:lnTo>
                      <a:pt x="404" y="969"/>
                    </a:lnTo>
                    <a:lnTo>
                      <a:pt x="410" y="952"/>
                    </a:lnTo>
                    <a:lnTo>
                      <a:pt x="410" y="952"/>
                    </a:lnTo>
                    <a:lnTo>
                      <a:pt x="410" y="946"/>
                    </a:lnTo>
                    <a:lnTo>
                      <a:pt x="410" y="935"/>
                    </a:lnTo>
                    <a:lnTo>
                      <a:pt x="410" y="923"/>
                    </a:lnTo>
                    <a:lnTo>
                      <a:pt x="410" y="912"/>
                    </a:lnTo>
                    <a:lnTo>
                      <a:pt x="410" y="900"/>
                    </a:lnTo>
                    <a:lnTo>
                      <a:pt x="410" y="900"/>
                    </a:lnTo>
                    <a:lnTo>
                      <a:pt x="404" y="894"/>
                    </a:lnTo>
                    <a:lnTo>
                      <a:pt x="398" y="888"/>
                    </a:lnTo>
                    <a:lnTo>
                      <a:pt x="393" y="894"/>
                    </a:lnTo>
                    <a:lnTo>
                      <a:pt x="404" y="894"/>
                    </a:lnTo>
                    <a:lnTo>
                      <a:pt x="398" y="883"/>
                    </a:lnTo>
                    <a:lnTo>
                      <a:pt x="398" y="883"/>
                    </a:lnTo>
                    <a:lnTo>
                      <a:pt x="393" y="877"/>
                    </a:lnTo>
                    <a:lnTo>
                      <a:pt x="387" y="871"/>
                    </a:lnTo>
                    <a:lnTo>
                      <a:pt x="381" y="877"/>
                    </a:lnTo>
                    <a:lnTo>
                      <a:pt x="393" y="877"/>
                    </a:lnTo>
                    <a:lnTo>
                      <a:pt x="393" y="865"/>
                    </a:lnTo>
                    <a:lnTo>
                      <a:pt x="393" y="865"/>
                    </a:lnTo>
                    <a:lnTo>
                      <a:pt x="393" y="865"/>
                    </a:lnTo>
                    <a:lnTo>
                      <a:pt x="381" y="848"/>
                    </a:lnTo>
                    <a:lnTo>
                      <a:pt x="375" y="842"/>
                    </a:lnTo>
                    <a:lnTo>
                      <a:pt x="375" y="842"/>
                    </a:lnTo>
                    <a:lnTo>
                      <a:pt x="358" y="831"/>
                    </a:lnTo>
                    <a:lnTo>
                      <a:pt x="341" y="819"/>
                    </a:lnTo>
                    <a:lnTo>
                      <a:pt x="323" y="808"/>
                    </a:lnTo>
                    <a:lnTo>
                      <a:pt x="306" y="802"/>
                    </a:lnTo>
                    <a:lnTo>
                      <a:pt x="289" y="796"/>
                    </a:lnTo>
                    <a:lnTo>
                      <a:pt x="289" y="796"/>
                    </a:lnTo>
                    <a:lnTo>
                      <a:pt x="283" y="796"/>
                    </a:lnTo>
                    <a:lnTo>
                      <a:pt x="260" y="796"/>
                    </a:lnTo>
                    <a:lnTo>
                      <a:pt x="243" y="796"/>
                    </a:lnTo>
                    <a:lnTo>
                      <a:pt x="243" y="796"/>
                    </a:lnTo>
                    <a:lnTo>
                      <a:pt x="243" y="796"/>
                    </a:lnTo>
                    <a:lnTo>
                      <a:pt x="225" y="802"/>
                    </a:lnTo>
                    <a:lnTo>
                      <a:pt x="208" y="808"/>
                    </a:lnTo>
                    <a:lnTo>
                      <a:pt x="208" y="808"/>
                    </a:lnTo>
                    <a:lnTo>
                      <a:pt x="202" y="808"/>
                    </a:lnTo>
                    <a:lnTo>
                      <a:pt x="196" y="813"/>
                    </a:lnTo>
                    <a:lnTo>
                      <a:pt x="202" y="819"/>
                    </a:lnTo>
                    <a:lnTo>
                      <a:pt x="202" y="813"/>
                    </a:lnTo>
                    <a:lnTo>
                      <a:pt x="196" y="813"/>
                    </a:lnTo>
                    <a:lnTo>
                      <a:pt x="191" y="813"/>
                    </a:lnTo>
                    <a:lnTo>
                      <a:pt x="191" y="819"/>
                    </a:lnTo>
                    <a:lnTo>
                      <a:pt x="185" y="831"/>
                    </a:lnTo>
                    <a:lnTo>
                      <a:pt x="191" y="831"/>
                    </a:lnTo>
                    <a:lnTo>
                      <a:pt x="185" y="825"/>
                    </a:lnTo>
                    <a:lnTo>
                      <a:pt x="179" y="8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4648320" y="2224080"/>
              <a:ext cx="2471760" cy="1585800"/>
              <a:chOff x="4648320" y="2224080"/>
              <a:chExt cx="2471760" cy="1585800"/>
            </a:xfrm>
          </p:grpSpPr>
          <p:sp>
            <p:nvSpPr>
              <p:cNvPr id="111" name=""/>
              <p:cNvSpPr/>
              <p:nvPr/>
            </p:nvSpPr>
            <p:spPr>
              <a:xfrm>
                <a:off x="4656600" y="2233080"/>
                <a:ext cx="2446560" cy="1558080"/>
              </a:xfrm>
              <a:custGeom>
                <a:avLst/>
                <a:gdLst/>
                <a:ahLst/>
                <a:rect l="l" t="t" r="r" b="b"/>
                <a:pathLst>
                  <a:path w="1737" h="1015">
                    <a:moveTo>
                      <a:pt x="750" y="975"/>
                    </a:moveTo>
                    <a:lnTo>
                      <a:pt x="762" y="975"/>
                    </a:lnTo>
                    <a:lnTo>
                      <a:pt x="779" y="969"/>
                    </a:lnTo>
                    <a:lnTo>
                      <a:pt x="785" y="969"/>
                    </a:lnTo>
                    <a:lnTo>
                      <a:pt x="797" y="963"/>
                    </a:lnTo>
                    <a:lnTo>
                      <a:pt x="802" y="952"/>
                    </a:lnTo>
                    <a:lnTo>
                      <a:pt x="808" y="946"/>
                    </a:lnTo>
                    <a:lnTo>
                      <a:pt x="808" y="940"/>
                    </a:lnTo>
                    <a:lnTo>
                      <a:pt x="814" y="929"/>
                    </a:lnTo>
                    <a:lnTo>
                      <a:pt x="814" y="917"/>
                    </a:lnTo>
                    <a:lnTo>
                      <a:pt x="808" y="906"/>
                    </a:lnTo>
                    <a:lnTo>
                      <a:pt x="808" y="894"/>
                    </a:lnTo>
                    <a:lnTo>
                      <a:pt x="802" y="883"/>
                    </a:lnTo>
                    <a:lnTo>
                      <a:pt x="791" y="871"/>
                    </a:lnTo>
                    <a:lnTo>
                      <a:pt x="785" y="854"/>
                    </a:lnTo>
                    <a:lnTo>
                      <a:pt x="774" y="842"/>
                    </a:lnTo>
                    <a:lnTo>
                      <a:pt x="762" y="825"/>
                    </a:lnTo>
                    <a:lnTo>
                      <a:pt x="750" y="819"/>
                    </a:lnTo>
                    <a:lnTo>
                      <a:pt x="745" y="808"/>
                    </a:lnTo>
                    <a:lnTo>
                      <a:pt x="745" y="802"/>
                    </a:lnTo>
                    <a:lnTo>
                      <a:pt x="739" y="790"/>
                    </a:lnTo>
                    <a:lnTo>
                      <a:pt x="733" y="773"/>
                    </a:lnTo>
                    <a:lnTo>
                      <a:pt x="727" y="756"/>
                    </a:lnTo>
                    <a:lnTo>
                      <a:pt x="727" y="738"/>
                    </a:lnTo>
                    <a:lnTo>
                      <a:pt x="733" y="715"/>
                    </a:lnTo>
                    <a:lnTo>
                      <a:pt x="739" y="698"/>
                    </a:lnTo>
                    <a:lnTo>
                      <a:pt x="750" y="681"/>
                    </a:lnTo>
                    <a:lnTo>
                      <a:pt x="762" y="663"/>
                    </a:lnTo>
                    <a:lnTo>
                      <a:pt x="774" y="652"/>
                    </a:lnTo>
                    <a:lnTo>
                      <a:pt x="791" y="635"/>
                    </a:lnTo>
                    <a:lnTo>
                      <a:pt x="808" y="623"/>
                    </a:lnTo>
                    <a:lnTo>
                      <a:pt x="825" y="617"/>
                    </a:lnTo>
                    <a:lnTo>
                      <a:pt x="849" y="606"/>
                    </a:lnTo>
                    <a:lnTo>
                      <a:pt x="866" y="600"/>
                    </a:lnTo>
                    <a:lnTo>
                      <a:pt x="889" y="600"/>
                    </a:lnTo>
                    <a:lnTo>
                      <a:pt x="912" y="600"/>
                    </a:lnTo>
                    <a:lnTo>
                      <a:pt x="929" y="606"/>
                    </a:lnTo>
                    <a:lnTo>
                      <a:pt x="952" y="617"/>
                    </a:lnTo>
                    <a:lnTo>
                      <a:pt x="964" y="623"/>
                    </a:lnTo>
                    <a:lnTo>
                      <a:pt x="981" y="640"/>
                    </a:lnTo>
                    <a:lnTo>
                      <a:pt x="993" y="652"/>
                    </a:lnTo>
                    <a:lnTo>
                      <a:pt x="1004" y="663"/>
                    </a:lnTo>
                    <a:lnTo>
                      <a:pt x="1016" y="681"/>
                    </a:lnTo>
                    <a:lnTo>
                      <a:pt x="1022" y="704"/>
                    </a:lnTo>
                    <a:lnTo>
                      <a:pt x="1027" y="721"/>
                    </a:lnTo>
                    <a:lnTo>
                      <a:pt x="1033" y="738"/>
                    </a:lnTo>
                    <a:lnTo>
                      <a:pt x="1033" y="756"/>
                    </a:lnTo>
                    <a:lnTo>
                      <a:pt x="1027" y="773"/>
                    </a:lnTo>
                    <a:lnTo>
                      <a:pt x="1022" y="790"/>
                    </a:lnTo>
                    <a:lnTo>
                      <a:pt x="1016" y="808"/>
                    </a:lnTo>
                    <a:lnTo>
                      <a:pt x="1004" y="819"/>
                    </a:lnTo>
                    <a:lnTo>
                      <a:pt x="981" y="842"/>
                    </a:lnTo>
                    <a:lnTo>
                      <a:pt x="958" y="865"/>
                    </a:lnTo>
                    <a:lnTo>
                      <a:pt x="952" y="877"/>
                    </a:lnTo>
                    <a:lnTo>
                      <a:pt x="947" y="888"/>
                    </a:lnTo>
                    <a:lnTo>
                      <a:pt x="941" y="894"/>
                    </a:lnTo>
                    <a:lnTo>
                      <a:pt x="935" y="906"/>
                    </a:lnTo>
                    <a:lnTo>
                      <a:pt x="935" y="917"/>
                    </a:lnTo>
                    <a:lnTo>
                      <a:pt x="935" y="923"/>
                    </a:lnTo>
                    <a:lnTo>
                      <a:pt x="935" y="935"/>
                    </a:lnTo>
                    <a:lnTo>
                      <a:pt x="935" y="940"/>
                    </a:lnTo>
                    <a:lnTo>
                      <a:pt x="941" y="946"/>
                    </a:lnTo>
                    <a:lnTo>
                      <a:pt x="947" y="958"/>
                    </a:lnTo>
                    <a:lnTo>
                      <a:pt x="952" y="963"/>
                    </a:lnTo>
                    <a:lnTo>
                      <a:pt x="964" y="975"/>
                    </a:lnTo>
                    <a:lnTo>
                      <a:pt x="981" y="981"/>
                    </a:lnTo>
                    <a:lnTo>
                      <a:pt x="993" y="992"/>
                    </a:lnTo>
                    <a:lnTo>
                      <a:pt x="1016" y="998"/>
                    </a:lnTo>
                    <a:lnTo>
                      <a:pt x="1039" y="1004"/>
                    </a:lnTo>
                    <a:lnTo>
                      <a:pt x="1068" y="1010"/>
                    </a:lnTo>
                    <a:lnTo>
                      <a:pt x="1091" y="1010"/>
                    </a:lnTo>
                    <a:lnTo>
                      <a:pt x="1120" y="1015"/>
                    </a:lnTo>
                    <a:lnTo>
                      <a:pt x="1149" y="1015"/>
                    </a:lnTo>
                    <a:lnTo>
                      <a:pt x="1177" y="1015"/>
                    </a:lnTo>
                    <a:lnTo>
                      <a:pt x="1206" y="1015"/>
                    </a:lnTo>
                    <a:lnTo>
                      <a:pt x="1241" y="1010"/>
                    </a:lnTo>
                    <a:lnTo>
                      <a:pt x="1264" y="1010"/>
                    </a:lnTo>
                    <a:lnTo>
                      <a:pt x="1293" y="1004"/>
                    </a:lnTo>
                    <a:lnTo>
                      <a:pt x="1322" y="998"/>
                    </a:lnTo>
                    <a:lnTo>
                      <a:pt x="1339" y="987"/>
                    </a:lnTo>
                    <a:lnTo>
                      <a:pt x="1362" y="975"/>
                    </a:lnTo>
                    <a:lnTo>
                      <a:pt x="1368" y="963"/>
                    </a:lnTo>
                    <a:lnTo>
                      <a:pt x="1368" y="952"/>
                    </a:lnTo>
                    <a:lnTo>
                      <a:pt x="1374" y="946"/>
                    </a:lnTo>
                    <a:lnTo>
                      <a:pt x="1374" y="935"/>
                    </a:lnTo>
                    <a:lnTo>
                      <a:pt x="1374" y="912"/>
                    </a:lnTo>
                    <a:lnTo>
                      <a:pt x="1374" y="888"/>
                    </a:lnTo>
                    <a:lnTo>
                      <a:pt x="1374" y="860"/>
                    </a:lnTo>
                    <a:lnTo>
                      <a:pt x="1374" y="831"/>
                    </a:lnTo>
                    <a:lnTo>
                      <a:pt x="1368" y="808"/>
                    </a:lnTo>
                    <a:lnTo>
                      <a:pt x="1362" y="779"/>
                    </a:lnTo>
                    <a:lnTo>
                      <a:pt x="1351" y="727"/>
                    </a:lnTo>
                    <a:lnTo>
                      <a:pt x="1339" y="675"/>
                    </a:lnTo>
                    <a:lnTo>
                      <a:pt x="1339" y="652"/>
                    </a:lnTo>
                    <a:lnTo>
                      <a:pt x="1339" y="629"/>
                    </a:lnTo>
                    <a:lnTo>
                      <a:pt x="1339" y="612"/>
                    </a:lnTo>
                    <a:lnTo>
                      <a:pt x="1345" y="594"/>
                    </a:lnTo>
                    <a:lnTo>
                      <a:pt x="1351" y="583"/>
                    </a:lnTo>
                    <a:lnTo>
                      <a:pt x="1356" y="565"/>
                    </a:lnTo>
                    <a:lnTo>
                      <a:pt x="1368" y="554"/>
                    </a:lnTo>
                    <a:lnTo>
                      <a:pt x="1379" y="548"/>
                    </a:lnTo>
                    <a:lnTo>
                      <a:pt x="1391" y="537"/>
                    </a:lnTo>
                    <a:lnTo>
                      <a:pt x="1403" y="525"/>
                    </a:lnTo>
                    <a:lnTo>
                      <a:pt x="1420" y="519"/>
                    </a:lnTo>
                    <a:lnTo>
                      <a:pt x="1431" y="513"/>
                    </a:lnTo>
                    <a:lnTo>
                      <a:pt x="1443" y="513"/>
                    </a:lnTo>
                    <a:lnTo>
                      <a:pt x="1460" y="508"/>
                    </a:lnTo>
                    <a:lnTo>
                      <a:pt x="1472" y="508"/>
                    </a:lnTo>
                    <a:lnTo>
                      <a:pt x="1489" y="513"/>
                    </a:lnTo>
                    <a:lnTo>
                      <a:pt x="1501" y="513"/>
                    </a:lnTo>
                    <a:lnTo>
                      <a:pt x="1512" y="525"/>
                    </a:lnTo>
                    <a:lnTo>
                      <a:pt x="1524" y="531"/>
                    </a:lnTo>
                    <a:lnTo>
                      <a:pt x="1535" y="542"/>
                    </a:lnTo>
                    <a:lnTo>
                      <a:pt x="1547" y="554"/>
                    </a:lnTo>
                    <a:lnTo>
                      <a:pt x="1558" y="560"/>
                    </a:lnTo>
                    <a:lnTo>
                      <a:pt x="1570" y="571"/>
                    </a:lnTo>
                    <a:lnTo>
                      <a:pt x="1587" y="577"/>
                    </a:lnTo>
                    <a:lnTo>
                      <a:pt x="1604" y="577"/>
                    </a:lnTo>
                    <a:lnTo>
                      <a:pt x="1622" y="577"/>
                    </a:lnTo>
                    <a:lnTo>
                      <a:pt x="1639" y="571"/>
                    </a:lnTo>
                    <a:lnTo>
                      <a:pt x="1656" y="565"/>
                    </a:lnTo>
                    <a:lnTo>
                      <a:pt x="1674" y="560"/>
                    </a:lnTo>
                    <a:lnTo>
                      <a:pt x="1685" y="548"/>
                    </a:lnTo>
                    <a:lnTo>
                      <a:pt x="1703" y="542"/>
                    </a:lnTo>
                    <a:lnTo>
                      <a:pt x="1714" y="531"/>
                    </a:lnTo>
                    <a:lnTo>
                      <a:pt x="1720" y="519"/>
                    </a:lnTo>
                    <a:lnTo>
                      <a:pt x="1731" y="502"/>
                    </a:lnTo>
                    <a:lnTo>
                      <a:pt x="1731" y="485"/>
                    </a:lnTo>
                    <a:lnTo>
                      <a:pt x="1737" y="473"/>
                    </a:lnTo>
                    <a:lnTo>
                      <a:pt x="1731" y="450"/>
                    </a:lnTo>
                    <a:lnTo>
                      <a:pt x="1731" y="427"/>
                    </a:lnTo>
                    <a:lnTo>
                      <a:pt x="1720" y="410"/>
                    </a:lnTo>
                    <a:lnTo>
                      <a:pt x="1714" y="392"/>
                    </a:lnTo>
                    <a:lnTo>
                      <a:pt x="1703" y="375"/>
                    </a:lnTo>
                    <a:lnTo>
                      <a:pt x="1685" y="363"/>
                    </a:lnTo>
                    <a:lnTo>
                      <a:pt x="1674" y="358"/>
                    </a:lnTo>
                    <a:lnTo>
                      <a:pt x="1656" y="346"/>
                    </a:lnTo>
                    <a:lnTo>
                      <a:pt x="1639" y="340"/>
                    </a:lnTo>
                    <a:lnTo>
                      <a:pt x="1622" y="335"/>
                    </a:lnTo>
                    <a:lnTo>
                      <a:pt x="1604" y="335"/>
                    </a:lnTo>
                    <a:lnTo>
                      <a:pt x="1587" y="335"/>
                    </a:lnTo>
                    <a:lnTo>
                      <a:pt x="1570" y="340"/>
                    </a:lnTo>
                    <a:lnTo>
                      <a:pt x="1558" y="346"/>
                    </a:lnTo>
                    <a:lnTo>
                      <a:pt x="1547" y="352"/>
                    </a:lnTo>
                    <a:lnTo>
                      <a:pt x="1535" y="358"/>
                    </a:lnTo>
                    <a:lnTo>
                      <a:pt x="1524" y="369"/>
                    </a:lnTo>
                    <a:lnTo>
                      <a:pt x="1512" y="375"/>
                    </a:lnTo>
                    <a:lnTo>
                      <a:pt x="1495" y="381"/>
                    </a:lnTo>
                    <a:lnTo>
                      <a:pt x="1483" y="387"/>
                    </a:lnTo>
                    <a:lnTo>
                      <a:pt x="1466" y="387"/>
                    </a:lnTo>
                    <a:lnTo>
                      <a:pt x="1449" y="387"/>
                    </a:lnTo>
                    <a:lnTo>
                      <a:pt x="1431" y="387"/>
                    </a:lnTo>
                    <a:lnTo>
                      <a:pt x="1420" y="387"/>
                    </a:lnTo>
                    <a:lnTo>
                      <a:pt x="1403" y="381"/>
                    </a:lnTo>
                    <a:lnTo>
                      <a:pt x="1385" y="375"/>
                    </a:lnTo>
                    <a:lnTo>
                      <a:pt x="1374" y="375"/>
                    </a:lnTo>
                    <a:lnTo>
                      <a:pt x="1362" y="363"/>
                    </a:lnTo>
                    <a:lnTo>
                      <a:pt x="1351" y="358"/>
                    </a:lnTo>
                    <a:lnTo>
                      <a:pt x="1339" y="346"/>
                    </a:lnTo>
                    <a:lnTo>
                      <a:pt x="1339" y="335"/>
                    </a:lnTo>
                    <a:lnTo>
                      <a:pt x="1333" y="323"/>
                    </a:lnTo>
                    <a:lnTo>
                      <a:pt x="1333" y="306"/>
                    </a:lnTo>
                    <a:lnTo>
                      <a:pt x="1333" y="271"/>
                    </a:lnTo>
                    <a:lnTo>
                      <a:pt x="1333" y="231"/>
                    </a:lnTo>
                    <a:lnTo>
                      <a:pt x="1339" y="185"/>
                    </a:lnTo>
                    <a:lnTo>
                      <a:pt x="1345" y="138"/>
                    </a:lnTo>
                    <a:lnTo>
                      <a:pt x="1351" y="92"/>
                    </a:lnTo>
                    <a:lnTo>
                      <a:pt x="1356" y="58"/>
                    </a:lnTo>
                    <a:lnTo>
                      <a:pt x="1362" y="23"/>
                    </a:lnTo>
                    <a:lnTo>
                      <a:pt x="1356" y="23"/>
                    </a:lnTo>
                    <a:lnTo>
                      <a:pt x="1356" y="23"/>
                    </a:lnTo>
                    <a:lnTo>
                      <a:pt x="1304" y="23"/>
                    </a:lnTo>
                    <a:lnTo>
                      <a:pt x="1252" y="17"/>
                    </a:lnTo>
                    <a:lnTo>
                      <a:pt x="1206" y="17"/>
                    </a:lnTo>
                    <a:lnTo>
                      <a:pt x="1166" y="11"/>
                    </a:lnTo>
                    <a:lnTo>
                      <a:pt x="1126" y="6"/>
                    </a:lnTo>
                    <a:lnTo>
                      <a:pt x="1091" y="6"/>
                    </a:lnTo>
                    <a:lnTo>
                      <a:pt x="1068" y="0"/>
                    </a:lnTo>
                    <a:lnTo>
                      <a:pt x="1051" y="0"/>
                    </a:lnTo>
                    <a:lnTo>
                      <a:pt x="1039" y="0"/>
                    </a:lnTo>
                    <a:lnTo>
                      <a:pt x="1033" y="6"/>
                    </a:lnTo>
                    <a:lnTo>
                      <a:pt x="1022" y="11"/>
                    </a:lnTo>
                    <a:lnTo>
                      <a:pt x="1010" y="23"/>
                    </a:lnTo>
                    <a:lnTo>
                      <a:pt x="1004" y="29"/>
                    </a:lnTo>
                    <a:lnTo>
                      <a:pt x="993" y="40"/>
                    </a:lnTo>
                    <a:lnTo>
                      <a:pt x="993" y="58"/>
                    </a:lnTo>
                    <a:lnTo>
                      <a:pt x="987" y="69"/>
                    </a:lnTo>
                    <a:lnTo>
                      <a:pt x="981" y="86"/>
                    </a:lnTo>
                    <a:lnTo>
                      <a:pt x="981" y="104"/>
                    </a:lnTo>
                    <a:lnTo>
                      <a:pt x="981" y="121"/>
                    </a:lnTo>
                    <a:lnTo>
                      <a:pt x="987" y="133"/>
                    </a:lnTo>
                    <a:lnTo>
                      <a:pt x="993" y="150"/>
                    </a:lnTo>
                    <a:lnTo>
                      <a:pt x="999" y="167"/>
                    </a:lnTo>
                    <a:lnTo>
                      <a:pt x="1010" y="185"/>
                    </a:lnTo>
                    <a:lnTo>
                      <a:pt x="1022" y="196"/>
                    </a:lnTo>
                    <a:lnTo>
                      <a:pt x="1039" y="208"/>
                    </a:lnTo>
                    <a:lnTo>
                      <a:pt x="1045" y="225"/>
                    </a:lnTo>
                    <a:lnTo>
                      <a:pt x="1056" y="248"/>
                    </a:lnTo>
                    <a:lnTo>
                      <a:pt x="1062" y="260"/>
                    </a:lnTo>
                    <a:lnTo>
                      <a:pt x="1062" y="283"/>
                    </a:lnTo>
                    <a:lnTo>
                      <a:pt x="1062" y="300"/>
                    </a:lnTo>
                    <a:lnTo>
                      <a:pt x="1062" y="317"/>
                    </a:lnTo>
                    <a:lnTo>
                      <a:pt x="1051" y="329"/>
                    </a:lnTo>
                    <a:lnTo>
                      <a:pt x="1045" y="346"/>
                    </a:lnTo>
                    <a:lnTo>
                      <a:pt x="1033" y="363"/>
                    </a:lnTo>
                    <a:lnTo>
                      <a:pt x="1022" y="375"/>
                    </a:lnTo>
                    <a:lnTo>
                      <a:pt x="1004" y="387"/>
                    </a:lnTo>
                    <a:lnTo>
                      <a:pt x="987" y="398"/>
                    </a:lnTo>
                    <a:lnTo>
                      <a:pt x="964" y="404"/>
                    </a:lnTo>
                    <a:lnTo>
                      <a:pt x="941" y="410"/>
                    </a:lnTo>
                    <a:lnTo>
                      <a:pt x="918" y="415"/>
                    </a:lnTo>
                    <a:lnTo>
                      <a:pt x="906" y="415"/>
                    </a:lnTo>
                    <a:lnTo>
                      <a:pt x="895" y="415"/>
                    </a:lnTo>
                    <a:lnTo>
                      <a:pt x="883" y="410"/>
                    </a:lnTo>
                    <a:lnTo>
                      <a:pt x="872" y="410"/>
                    </a:lnTo>
                    <a:lnTo>
                      <a:pt x="860" y="404"/>
                    </a:lnTo>
                    <a:lnTo>
                      <a:pt x="849" y="398"/>
                    </a:lnTo>
                    <a:lnTo>
                      <a:pt x="843" y="392"/>
                    </a:lnTo>
                    <a:lnTo>
                      <a:pt x="831" y="387"/>
                    </a:lnTo>
                    <a:lnTo>
                      <a:pt x="814" y="375"/>
                    </a:lnTo>
                    <a:lnTo>
                      <a:pt x="802" y="363"/>
                    </a:lnTo>
                    <a:lnTo>
                      <a:pt x="791" y="346"/>
                    </a:lnTo>
                    <a:lnTo>
                      <a:pt x="785" y="329"/>
                    </a:lnTo>
                    <a:lnTo>
                      <a:pt x="779" y="312"/>
                    </a:lnTo>
                    <a:lnTo>
                      <a:pt x="779" y="288"/>
                    </a:lnTo>
                    <a:lnTo>
                      <a:pt x="774" y="271"/>
                    </a:lnTo>
                    <a:lnTo>
                      <a:pt x="779" y="254"/>
                    </a:lnTo>
                    <a:lnTo>
                      <a:pt x="779" y="231"/>
                    </a:lnTo>
                    <a:lnTo>
                      <a:pt x="791" y="219"/>
                    </a:lnTo>
                    <a:lnTo>
                      <a:pt x="797" y="202"/>
                    </a:lnTo>
                    <a:lnTo>
                      <a:pt x="808" y="190"/>
                    </a:lnTo>
                    <a:lnTo>
                      <a:pt x="820" y="179"/>
                    </a:lnTo>
                    <a:lnTo>
                      <a:pt x="825" y="167"/>
                    </a:lnTo>
                    <a:lnTo>
                      <a:pt x="831" y="156"/>
                    </a:lnTo>
                    <a:lnTo>
                      <a:pt x="837" y="144"/>
                    </a:lnTo>
                    <a:lnTo>
                      <a:pt x="843" y="133"/>
                    </a:lnTo>
                    <a:lnTo>
                      <a:pt x="843" y="121"/>
                    </a:lnTo>
                    <a:lnTo>
                      <a:pt x="843" y="110"/>
                    </a:lnTo>
                    <a:lnTo>
                      <a:pt x="837" y="98"/>
                    </a:lnTo>
                    <a:lnTo>
                      <a:pt x="831" y="86"/>
                    </a:lnTo>
                    <a:lnTo>
                      <a:pt x="825" y="75"/>
                    </a:lnTo>
                    <a:lnTo>
                      <a:pt x="814" y="63"/>
                    </a:lnTo>
                    <a:lnTo>
                      <a:pt x="797" y="58"/>
                    </a:lnTo>
                    <a:lnTo>
                      <a:pt x="779" y="46"/>
                    </a:lnTo>
                    <a:lnTo>
                      <a:pt x="762" y="40"/>
                    </a:lnTo>
                    <a:lnTo>
                      <a:pt x="739" y="29"/>
                    </a:lnTo>
                    <a:lnTo>
                      <a:pt x="710" y="23"/>
                    </a:lnTo>
                    <a:lnTo>
                      <a:pt x="681" y="23"/>
                    </a:lnTo>
                    <a:lnTo>
                      <a:pt x="641" y="17"/>
                    </a:lnTo>
                    <a:lnTo>
                      <a:pt x="595" y="17"/>
                    </a:lnTo>
                    <a:lnTo>
                      <a:pt x="548" y="23"/>
                    </a:lnTo>
                    <a:lnTo>
                      <a:pt x="497" y="23"/>
                    </a:lnTo>
                    <a:lnTo>
                      <a:pt x="450" y="29"/>
                    </a:lnTo>
                    <a:lnTo>
                      <a:pt x="410" y="35"/>
                    </a:lnTo>
                    <a:lnTo>
                      <a:pt x="381" y="40"/>
                    </a:lnTo>
                    <a:lnTo>
                      <a:pt x="387" y="75"/>
                    </a:lnTo>
                    <a:lnTo>
                      <a:pt x="404" y="115"/>
                    </a:lnTo>
                    <a:lnTo>
                      <a:pt x="416" y="167"/>
                    </a:lnTo>
                    <a:lnTo>
                      <a:pt x="427" y="219"/>
                    </a:lnTo>
                    <a:lnTo>
                      <a:pt x="427" y="242"/>
                    </a:lnTo>
                    <a:lnTo>
                      <a:pt x="433" y="271"/>
                    </a:lnTo>
                    <a:lnTo>
                      <a:pt x="433" y="294"/>
                    </a:lnTo>
                    <a:lnTo>
                      <a:pt x="433" y="317"/>
                    </a:lnTo>
                    <a:lnTo>
                      <a:pt x="433" y="335"/>
                    </a:lnTo>
                    <a:lnTo>
                      <a:pt x="427" y="352"/>
                    </a:lnTo>
                    <a:lnTo>
                      <a:pt x="422" y="358"/>
                    </a:lnTo>
                    <a:lnTo>
                      <a:pt x="422" y="369"/>
                    </a:lnTo>
                    <a:lnTo>
                      <a:pt x="416" y="375"/>
                    </a:lnTo>
                    <a:lnTo>
                      <a:pt x="410" y="375"/>
                    </a:lnTo>
                    <a:lnTo>
                      <a:pt x="404" y="387"/>
                    </a:lnTo>
                    <a:lnTo>
                      <a:pt x="387" y="392"/>
                    </a:lnTo>
                    <a:lnTo>
                      <a:pt x="381" y="398"/>
                    </a:lnTo>
                    <a:lnTo>
                      <a:pt x="364" y="404"/>
                    </a:lnTo>
                    <a:lnTo>
                      <a:pt x="352" y="410"/>
                    </a:lnTo>
                    <a:lnTo>
                      <a:pt x="341" y="410"/>
                    </a:lnTo>
                    <a:lnTo>
                      <a:pt x="329" y="410"/>
                    </a:lnTo>
                    <a:lnTo>
                      <a:pt x="318" y="410"/>
                    </a:lnTo>
                    <a:lnTo>
                      <a:pt x="306" y="410"/>
                    </a:lnTo>
                    <a:lnTo>
                      <a:pt x="295" y="410"/>
                    </a:lnTo>
                    <a:lnTo>
                      <a:pt x="283" y="404"/>
                    </a:lnTo>
                    <a:lnTo>
                      <a:pt x="271" y="404"/>
                    </a:lnTo>
                    <a:lnTo>
                      <a:pt x="260" y="398"/>
                    </a:lnTo>
                    <a:lnTo>
                      <a:pt x="248" y="392"/>
                    </a:lnTo>
                    <a:lnTo>
                      <a:pt x="243" y="387"/>
                    </a:lnTo>
                    <a:lnTo>
                      <a:pt x="237" y="375"/>
                    </a:lnTo>
                    <a:lnTo>
                      <a:pt x="225" y="369"/>
                    </a:lnTo>
                    <a:lnTo>
                      <a:pt x="208" y="358"/>
                    </a:lnTo>
                    <a:lnTo>
                      <a:pt x="191" y="352"/>
                    </a:lnTo>
                    <a:lnTo>
                      <a:pt x="173" y="346"/>
                    </a:lnTo>
                    <a:lnTo>
                      <a:pt x="156" y="346"/>
                    </a:lnTo>
                    <a:lnTo>
                      <a:pt x="139" y="346"/>
                    </a:lnTo>
                    <a:lnTo>
                      <a:pt x="116" y="346"/>
                    </a:lnTo>
                    <a:lnTo>
                      <a:pt x="98" y="352"/>
                    </a:lnTo>
                    <a:lnTo>
                      <a:pt x="81" y="358"/>
                    </a:lnTo>
                    <a:lnTo>
                      <a:pt x="64" y="369"/>
                    </a:lnTo>
                    <a:lnTo>
                      <a:pt x="46" y="387"/>
                    </a:lnTo>
                    <a:lnTo>
                      <a:pt x="29" y="398"/>
                    </a:lnTo>
                    <a:lnTo>
                      <a:pt x="23" y="410"/>
                    </a:lnTo>
                    <a:lnTo>
                      <a:pt x="18" y="415"/>
                    </a:lnTo>
                    <a:lnTo>
                      <a:pt x="18" y="427"/>
                    </a:lnTo>
                    <a:lnTo>
                      <a:pt x="12" y="438"/>
                    </a:lnTo>
                    <a:lnTo>
                      <a:pt x="6" y="450"/>
                    </a:lnTo>
                    <a:lnTo>
                      <a:pt x="6" y="462"/>
                    </a:lnTo>
                    <a:lnTo>
                      <a:pt x="0" y="479"/>
                    </a:lnTo>
                    <a:lnTo>
                      <a:pt x="0" y="490"/>
                    </a:lnTo>
                    <a:lnTo>
                      <a:pt x="0" y="502"/>
                    </a:lnTo>
                    <a:lnTo>
                      <a:pt x="6" y="513"/>
                    </a:lnTo>
                    <a:lnTo>
                      <a:pt x="6" y="525"/>
                    </a:lnTo>
                    <a:lnTo>
                      <a:pt x="12" y="531"/>
                    </a:lnTo>
                    <a:lnTo>
                      <a:pt x="12" y="542"/>
                    </a:lnTo>
                    <a:lnTo>
                      <a:pt x="18" y="548"/>
                    </a:lnTo>
                    <a:lnTo>
                      <a:pt x="23" y="560"/>
                    </a:lnTo>
                    <a:lnTo>
                      <a:pt x="29" y="565"/>
                    </a:lnTo>
                    <a:lnTo>
                      <a:pt x="41" y="583"/>
                    </a:lnTo>
                    <a:lnTo>
                      <a:pt x="58" y="594"/>
                    </a:lnTo>
                    <a:lnTo>
                      <a:pt x="75" y="600"/>
                    </a:lnTo>
                    <a:lnTo>
                      <a:pt x="93" y="606"/>
                    </a:lnTo>
                    <a:lnTo>
                      <a:pt x="110" y="612"/>
                    </a:lnTo>
                    <a:lnTo>
                      <a:pt x="127" y="617"/>
                    </a:lnTo>
                    <a:lnTo>
                      <a:pt x="150" y="617"/>
                    </a:lnTo>
                    <a:lnTo>
                      <a:pt x="168" y="617"/>
                    </a:lnTo>
                    <a:lnTo>
                      <a:pt x="179" y="612"/>
                    </a:lnTo>
                    <a:lnTo>
                      <a:pt x="196" y="606"/>
                    </a:lnTo>
                    <a:lnTo>
                      <a:pt x="208" y="600"/>
                    </a:lnTo>
                    <a:lnTo>
                      <a:pt x="214" y="588"/>
                    </a:lnTo>
                    <a:lnTo>
                      <a:pt x="225" y="583"/>
                    </a:lnTo>
                    <a:lnTo>
                      <a:pt x="237" y="577"/>
                    </a:lnTo>
                    <a:lnTo>
                      <a:pt x="248" y="571"/>
                    </a:lnTo>
                    <a:lnTo>
                      <a:pt x="260" y="565"/>
                    </a:lnTo>
                    <a:lnTo>
                      <a:pt x="271" y="565"/>
                    </a:lnTo>
                    <a:lnTo>
                      <a:pt x="289" y="565"/>
                    </a:lnTo>
                    <a:lnTo>
                      <a:pt x="300" y="571"/>
                    </a:lnTo>
                    <a:lnTo>
                      <a:pt x="312" y="571"/>
                    </a:lnTo>
                    <a:lnTo>
                      <a:pt x="329" y="577"/>
                    </a:lnTo>
                    <a:lnTo>
                      <a:pt x="341" y="583"/>
                    </a:lnTo>
                    <a:lnTo>
                      <a:pt x="346" y="588"/>
                    </a:lnTo>
                    <a:lnTo>
                      <a:pt x="358" y="600"/>
                    </a:lnTo>
                    <a:lnTo>
                      <a:pt x="364" y="612"/>
                    </a:lnTo>
                    <a:lnTo>
                      <a:pt x="375" y="617"/>
                    </a:lnTo>
                    <a:lnTo>
                      <a:pt x="375" y="629"/>
                    </a:lnTo>
                    <a:lnTo>
                      <a:pt x="381" y="640"/>
                    </a:lnTo>
                    <a:lnTo>
                      <a:pt x="375" y="669"/>
                    </a:lnTo>
                    <a:lnTo>
                      <a:pt x="375" y="704"/>
                    </a:lnTo>
                    <a:lnTo>
                      <a:pt x="370" y="744"/>
                    </a:lnTo>
                    <a:lnTo>
                      <a:pt x="370" y="790"/>
                    </a:lnTo>
                    <a:lnTo>
                      <a:pt x="364" y="842"/>
                    </a:lnTo>
                    <a:lnTo>
                      <a:pt x="364" y="888"/>
                    </a:lnTo>
                    <a:lnTo>
                      <a:pt x="370" y="912"/>
                    </a:lnTo>
                    <a:lnTo>
                      <a:pt x="370" y="935"/>
                    </a:lnTo>
                    <a:lnTo>
                      <a:pt x="375" y="952"/>
                    </a:lnTo>
                    <a:lnTo>
                      <a:pt x="381" y="975"/>
                    </a:lnTo>
                    <a:lnTo>
                      <a:pt x="387" y="981"/>
                    </a:lnTo>
                    <a:lnTo>
                      <a:pt x="404" y="981"/>
                    </a:lnTo>
                    <a:lnTo>
                      <a:pt x="422" y="987"/>
                    </a:lnTo>
                    <a:lnTo>
                      <a:pt x="439" y="987"/>
                    </a:lnTo>
                    <a:lnTo>
                      <a:pt x="485" y="987"/>
                    </a:lnTo>
                    <a:lnTo>
                      <a:pt x="531" y="987"/>
                    </a:lnTo>
                    <a:lnTo>
                      <a:pt x="589" y="981"/>
                    </a:lnTo>
                    <a:lnTo>
                      <a:pt x="641" y="981"/>
                    </a:lnTo>
                    <a:lnTo>
                      <a:pt x="698" y="975"/>
                    </a:lnTo>
                    <a:lnTo>
                      <a:pt x="750" y="975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648320" y="2224080"/>
                <a:ext cx="2471760" cy="1585800"/>
              </a:xfrm>
              <a:custGeom>
                <a:avLst/>
                <a:gdLst/>
                <a:ahLst/>
                <a:rect l="l" t="t" r="r" b="b"/>
                <a:pathLst>
                  <a:path w="1755" h="1033">
                    <a:moveTo>
                      <a:pt x="768" y="993"/>
                    </a:moveTo>
                    <a:lnTo>
                      <a:pt x="774" y="993"/>
                    </a:lnTo>
                    <a:lnTo>
                      <a:pt x="774" y="993"/>
                    </a:lnTo>
                    <a:lnTo>
                      <a:pt x="791" y="987"/>
                    </a:lnTo>
                    <a:lnTo>
                      <a:pt x="785" y="975"/>
                    </a:lnTo>
                    <a:lnTo>
                      <a:pt x="785" y="987"/>
                    </a:lnTo>
                    <a:lnTo>
                      <a:pt x="791" y="987"/>
                    </a:lnTo>
                    <a:lnTo>
                      <a:pt x="797" y="987"/>
                    </a:lnTo>
                    <a:lnTo>
                      <a:pt x="797" y="987"/>
                    </a:lnTo>
                    <a:lnTo>
                      <a:pt x="808" y="981"/>
                    </a:lnTo>
                    <a:lnTo>
                      <a:pt x="808" y="975"/>
                    </a:lnTo>
                    <a:lnTo>
                      <a:pt x="814" y="975"/>
                    </a:lnTo>
                    <a:lnTo>
                      <a:pt x="820" y="964"/>
                    </a:lnTo>
                    <a:lnTo>
                      <a:pt x="808" y="958"/>
                    </a:lnTo>
                    <a:lnTo>
                      <a:pt x="814" y="964"/>
                    </a:lnTo>
                    <a:lnTo>
                      <a:pt x="820" y="958"/>
                    </a:lnTo>
                    <a:lnTo>
                      <a:pt x="826" y="958"/>
                    </a:lnTo>
                    <a:lnTo>
                      <a:pt x="826" y="952"/>
                    </a:lnTo>
                    <a:lnTo>
                      <a:pt x="826" y="946"/>
                    </a:lnTo>
                    <a:lnTo>
                      <a:pt x="814" y="946"/>
                    </a:lnTo>
                    <a:lnTo>
                      <a:pt x="826" y="952"/>
                    </a:lnTo>
                    <a:lnTo>
                      <a:pt x="831" y="941"/>
                    </a:lnTo>
                    <a:lnTo>
                      <a:pt x="831" y="941"/>
                    </a:lnTo>
                    <a:lnTo>
                      <a:pt x="831" y="935"/>
                    </a:lnTo>
                    <a:lnTo>
                      <a:pt x="831" y="923"/>
                    </a:lnTo>
                    <a:lnTo>
                      <a:pt x="831" y="923"/>
                    </a:lnTo>
                    <a:lnTo>
                      <a:pt x="831" y="923"/>
                    </a:lnTo>
                    <a:lnTo>
                      <a:pt x="826" y="912"/>
                    </a:lnTo>
                    <a:lnTo>
                      <a:pt x="814" y="912"/>
                    </a:lnTo>
                    <a:lnTo>
                      <a:pt x="826" y="912"/>
                    </a:lnTo>
                    <a:lnTo>
                      <a:pt x="826" y="900"/>
                    </a:lnTo>
                    <a:lnTo>
                      <a:pt x="826" y="900"/>
                    </a:lnTo>
                    <a:lnTo>
                      <a:pt x="826" y="900"/>
                    </a:lnTo>
                    <a:lnTo>
                      <a:pt x="820" y="889"/>
                    </a:lnTo>
                    <a:lnTo>
                      <a:pt x="820" y="889"/>
                    </a:lnTo>
                    <a:lnTo>
                      <a:pt x="814" y="883"/>
                    </a:lnTo>
                    <a:lnTo>
                      <a:pt x="803" y="871"/>
                    </a:lnTo>
                    <a:lnTo>
                      <a:pt x="797" y="877"/>
                    </a:lnTo>
                    <a:lnTo>
                      <a:pt x="808" y="877"/>
                    </a:lnTo>
                    <a:lnTo>
                      <a:pt x="803" y="860"/>
                    </a:lnTo>
                    <a:lnTo>
                      <a:pt x="803" y="860"/>
                    </a:lnTo>
                    <a:lnTo>
                      <a:pt x="797" y="854"/>
                    </a:lnTo>
                    <a:lnTo>
                      <a:pt x="785" y="843"/>
                    </a:lnTo>
                    <a:lnTo>
                      <a:pt x="780" y="848"/>
                    </a:lnTo>
                    <a:lnTo>
                      <a:pt x="791" y="848"/>
                    </a:lnTo>
                    <a:lnTo>
                      <a:pt x="780" y="831"/>
                    </a:lnTo>
                    <a:lnTo>
                      <a:pt x="774" y="825"/>
                    </a:lnTo>
                    <a:lnTo>
                      <a:pt x="774" y="825"/>
                    </a:lnTo>
                    <a:lnTo>
                      <a:pt x="762" y="819"/>
                    </a:lnTo>
                    <a:lnTo>
                      <a:pt x="756" y="825"/>
                    </a:lnTo>
                    <a:lnTo>
                      <a:pt x="768" y="825"/>
                    </a:lnTo>
                    <a:lnTo>
                      <a:pt x="762" y="814"/>
                    </a:lnTo>
                    <a:lnTo>
                      <a:pt x="751" y="814"/>
                    </a:lnTo>
                    <a:lnTo>
                      <a:pt x="762" y="814"/>
                    </a:lnTo>
                    <a:lnTo>
                      <a:pt x="762" y="808"/>
                    </a:lnTo>
                    <a:lnTo>
                      <a:pt x="762" y="808"/>
                    </a:lnTo>
                    <a:lnTo>
                      <a:pt x="762" y="808"/>
                    </a:lnTo>
                    <a:lnTo>
                      <a:pt x="756" y="796"/>
                    </a:lnTo>
                    <a:lnTo>
                      <a:pt x="751" y="779"/>
                    </a:lnTo>
                    <a:lnTo>
                      <a:pt x="745" y="762"/>
                    </a:lnTo>
                    <a:lnTo>
                      <a:pt x="733" y="762"/>
                    </a:lnTo>
                    <a:lnTo>
                      <a:pt x="745" y="762"/>
                    </a:lnTo>
                    <a:lnTo>
                      <a:pt x="745" y="744"/>
                    </a:lnTo>
                    <a:lnTo>
                      <a:pt x="733" y="744"/>
                    </a:lnTo>
                    <a:lnTo>
                      <a:pt x="745" y="750"/>
                    </a:lnTo>
                    <a:lnTo>
                      <a:pt x="751" y="727"/>
                    </a:lnTo>
                    <a:lnTo>
                      <a:pt x="756" y="710"/>
                    </a:lnTo>
                    <a:lnTo>
                      <a:pt x="768" y="693"/>
                    </a:lnTo>
                    <a:lnTo>
                      <a:pt x="780" y="675"/>
                    </a:lnTo>
                    <a:lnTo>
                      <a:pt x="768" y="669"/>
                    </a:lnTo>
                    <a:lnTo>
                      <a:pt x="774" y="675"/>
                    </a:lnTo>
                    <a:lnTo>
                      <a:pt x="785" y="664"/>
                    </a:lnTo>
                    <a:lnTo>
                      <a:pt x="803" y="646"/>
                    </a:lnTo>
                    <a:lnTo>
                      <a:pt x="797" y="641"/>
                    </a:lnTo>
                    <a:lnTo>
                      <a:pt x="803" y="652"/>
                    </a:lnTo>
                    <a:lnTo>
                      <a:pt x="820" y="641"/>
                    </a:lnTo>
                    <a:lnTo>
                      <a:pt x="837" y="635"/>
                    </a:lnTo>
                    <a:lnTo>
                      <a:pt x="860" y="623"/>
                    </a:lnTo>
                    <a:lnTo>
                      <a:pt x="878" y="618"/>
                    </a:lnTo>
                    <a:lnTo>
                      <a:pt x="872" y="606"/>
                    </a:lnTo>
                    <a:lnTo>
                      <a:pt x="872" y="618"/>
                    </a:lnTo>
                    <a:lnTo>
                      <a:pt x="895" y="618"/>
                    </a:lnTo>
                    <a:lnTo>
                      <a:pt x="918" y="618"/>
                    </a:lnTo>
                    <a:lnTo>
                      <a:pt x="918" y="606"/>
                    </a:lnTo>
                    <a:lnTo>
                      <a:pt x="918" y="618"/>
                    </a:lnTo>
                    <a:lnTo>
                      <a:pt x="935" y="623"/>
                    </a:lnTo>
                    <a:lnTo>
                      <a:pt x="958" y="635"/>
                    </a:lnTo>
                    <a:lnTo>
                      <a:pt x="970" y="641"/>
                    </a:lnTo>
                    <a:lnTo>
                      <a:pt x="970" y="629"/>
                    </a:lnTo>
                    <a:lnTo>
                      <a:pt x="964" y="635"/>
                    </a:lnTo>
                    <a:lnTo>
                      <a:pt x="981" y="652"/>
                    </a:lnTo>
                    <a:lnTo>
                      <a:pt x="993" y="664"/>
                    </a:lnTo>
                    <a:lnTo>
                      <a:pt x="1005" y="675"/>
                    </a:lnTo>
                    <a:lnTo>
                      <a:pt x="1010" y="669"/>
                    </a:lnTo>
                    <a:lnTo>
                      <a:pt x="1005" y="675"/>
                    </a:lnTo>
                    <a:lnTo>
                      <a:pt x="1016" y="693"/>
                    </a:lnTo>
                    <a:lnTo>
                      <a:pt x="1022" y="716"/>
                    </a:lnTo>
                    <a:lnTo>
                      <a:pt x="1028" y="733"/>
                    </a:lnTo>
                    <a:lnTo>
                      <a:pt x="1033" y="750"/>
                    </a:lnTo>
                    <a:lnTo>
                      <a:pt x="1039" y="744"/>
                    </a:lnTo>
                    <a:lnTo>
                      <a:pt x="1033" y="744"/>
                    </a:lnTo>
                    <a:lnTo>
                      <a:pt x="1033" y="762"/>
                    </a:lnTo>
                    <a:lnTo>
                      <a:pt x="1039" y="762"/>
                    </a:lnTo>
                    <a:lnTo>
                      <a:pt x="1033" y="762"/>
                    </a:lnTo>
                    <a:lnTo>
                      <a:pt x="1028" y="779"/>
                    </a:lnTo>
                    <a:lnTo>
                      <a:pt x="1022" y="796"/>
                    </a:lnTo>
                    <a:lnTo>
                      <a:pt x="1016" y="814"/>
                    </a:lnTo>
                    <a:lnTo>
                      <a:pt x="1022" y="814"/>
                    </a:lnTo>
                    <a:lnTo>
                      <a:pt x="1016" y="808"/>
                    </a:lnTo>
                    <a:lnTo>
                      <a:pt x="1005" y="819"/>
                    </a:lnTo>
                    <a:lnTo>
                      <a:pt x="981" y="843"/>
                    </a:lnTo>
                    <a:lnTo>
                      <a:pt x="958" y="866"/>
                    </a:lnTo>
                    <a:lnTo>
                      <a:pt x="958" y="871"/>
                    </a:lnTo>
                    <a:lnTo>
                      <a:pt x="958" y="871"/>
                    </a:lnTo>
                    <a:lnTo>
                      <a:pt x="953" y="883"/>
                    </a:lnTo>
                    <a:lnTo>
                      <a:pt x="947" y="894"/>
                    </a:lnTo>
                    <a:lnTo>
                      <a:pt x="953" y="894"/>
                    </a:lnTo>
                    <a:lnTo>
                      <a:pt x="947" y="889"/>
                    </a:lnTo>
                    <a:lnTo>
                      <a:pt x="941" y="894"/>
                    </a:lnTo>
                    <a:lnTo>
                      <a:pt x="941" y="900"/>
                    </a:lnTo>
                    <a:lnTo>
                      <a:pt x="941" y="900"/>
                    </a:lnTo>
                    <a:lnTo>
                      <a:pt x="935" y="912"/>
                    </a:lnTo>
                    <a:lnTo>
                      <a:pt x="935" y="912"/>
                    </a:lnTo>
                    <a:lnTo>
                      <a:pt x="935" y="912"/>
                    </a:lnTo>
                    <a:lnTo>
                      <a:pt x="935" y="923"/>
                    </a:lnTo>
                    <a:lnTo>
                      <a:pt x="935" y="929"/>
                    </a:lnTo>
                    <a:lnTo>
                      <a:pt x="935" y="941"/>
                    </a:lnTo>
                    <a:lnTo>
                      <a:pt x="935" y="946"/>
                    </a:lnTo>
                    <a:lnTo>
                      <a:pt x="935" y="952"/>
                    </a:lnTo>
                    <a:lnTo>
                      <a:pt x="935" y="952"/>
                    </a:lnTo>
                    <a:lnTo>
                      <a:pt x="941" y="958"/>
                    </a:lnTo>
                    <a:lnTo>
                      <a:pt x="947" y="952"/>
                    </a:lnTo>
                    <a:lnTo>
                      <a:pt x="941" y="958"/>
                    </a:lnTo>
                    <a:lnTo>
                      <a:pt x="947" y="969"/>
                    </a:lnTo>
                    <a:lnTo>
                      <a:pt x="947" y="969"/>
                    </a:lnTo>
                    <a:lnTo>
                      <a:pt x="947" y="969"/>
                    </a:lnTo>
                    <a:lnTo>
                      <a:pt x="953" y="975"/>
                    </a:lnTo>
                    <a:lnTo>
                      <a:pt x="964" y="987"/>
                    </a:lnTo>
                    <a:lnTo>
                      <a:pt x="970" y="993"/>
                    </a:lnTo>
                    <a:lnTo>
                      <a:pt x="970" y="993"/>
                    </a:lnTo>
                    <a:lnTo>
                      <a:pt x="987" y="998"/>
                    </a:lnTo>
                    <a:lnTo>
                      <a:pt x="987" y="987"/>
                    </a:lnTo>
                    <a:lnTo>
                      <a:pt x="981" y="993"/>
                    </a:lnTo>
                    <a:lnTo>
                      <a:pt x="993" y="1004"/>
                    </a:lnTo>
                    <a:lnTo>
                      <a:pt x="993" y="1004"/>
                    </a:lnTo>
                    <a:lnTo>
                      <a:pt x="999" y="1010"/>
                    </a:lnTo>
                    <a:lnTo>
                      <a:pt x="1022" y="1016"/>
                    </a:lnTo>
                    <a:lnTo>
                      <a:pt x="1045" y="1021"/>
                    </a:lnTo>
                    <a:lnTo>
                      <a:pt x="1074" y="1027"/>
                    </a:lnTo>
                    <a:lnTo>
                      <a:pt x="1097" y="1027"/>
                    </a:lnTo>
                    <a:lnTo>
                      <a:pt x="1126" y="1033"/>
                    </a:lnTo>
                    <a:lnTo>
                      <a:pt x="1155" y="1033"/>
                    </a:lnTo>
                    <a:lnTo>
                      <a:pt x="1183" y="1033"/>
                    </a:lnTo>
                    <a:lnTo>
                      <a:pt x="1212" y="1033"/>
                    </a:lnTo>
                    <a:lnTo>
                      <a:pt x="1247" y="1027"/>
                    </a:lnTo>
                    <a:lnTo>
                      <a:pt x="1270" y="1027"/>
                    </a:lnTo>
                    <a:lnTo>
                      <a:pt x="1299" y="1021"/>
                    </a:lnTo>
                    <a:lnTo>
                      <a:pt x="1328" y="1016"/>
                    </a:lnTo>
                    <a:lnTo>
                      <a:pt x="1333" y="1010"/>
                    </a:lnTo>
                    <a:lnTo>
                      <a:pt x="1333" y="1016"/>
                    </a:lnTo>
                    <a:lnTo>
                      <a:pt x="1351" y="1004"/>
                    </a:lnTo>
                    <a:lnTo>
                      <a:pt x="1374" y="993"/>
                    </a:lnTo>
                    <a:lnTo>
                      <a:pt x="1374" y="987"/>
                    </a:lnTo>
                    <a:lnTo>
                      <a:pt x="1380" y="987"/>
                    </a:lnTo>
                    <a:lnTo>
                      <a:pt x="1385" y="975"/>
                    </a:lnTo>
                    <a:lnTo>
                      <a:pt x="1385" y="975"/>
                    </a:lnTo>
                    <a:lnTo>
                      <a:pt x="1385" y="969"/>
                    </a:lnTo>
                    <a:lnTo>
                      <a:pt x="1385" y="958"/>
                    </a:lnTo>
                    <a:lnTo>
                      <a:pt x="1374" y="958"/>
                    </a:lnTo>
                    <a:lnTo>
                      <a:pt x="1380" y="964"/>
                    </a:lnTo>
                    <a:lnTo>
                      <a:pt x="1385" y="958"/>
                    </a:lnTo>
                    <a:lnTo>
                      <a:pt x="1391" y="958"/>
                    </a:lnTo>
                    <a:lnTo>
                      <a:pt x="1391" y="952"/>
                    </a:lnTo>
                    <a:lnTo>
                      <a:pt x="1391" y="941"/>
                    </a:lnTo>
                    <a:lnTo>
                      <a:pt x="1391" y="918"/>
                    </a:lnTo>
                    <a:lnTo>
                      <a:pt x="1391" y="894"/>
                    </a:lnTo>
                    <a:lnTo>
                      <a:pt x="1391" y="866"/>
                    </a:lnTo>
                    <a:lnTo>
                      <a:pt x="1391" y="837"/>
                    </a:lnTo>
                    <a:lnTo>
                      <a:pt x="1391" y="837"/>
                    </a:lnTo>
                    <a:lnTo>
                      <a:pt x="1391" y="837"/>
                    </a:lnTo>
                    <a:lnTo>
                      <a:pt x="1385" y="814"/>
                    </a:lnTo>
                    <a:lnTo>
                      <a:pt x="1374" y="814"/>
                    </a:lnTo>
                    <a:lnTo>
                      <a:pt x="1385" y="814"/>
                    </a:lnTo>
                    <a:lnTo>
                      <a:pt x="1380" y="785"/>
                    </a:lnTo>
                    <a:lnTo>
                      <a:pt x="1374" y="756"/>
                    </a:lnTo>
                    <a:lnTo>
                      <a:pt x="1380" y="785"/>
                    </a:lnTo>
                    <a:lnTo>
                      <a:pt x="1368" y="733"/>
                    </a:lnTo>
                    <a:lnTo>
                      <a:pt x="1357" y="681"/>
                    </a:lnTo>
                    <a:lnTo>
                      <a:pt x="1345" y="681"/>
                    </a:lnTo>
                    <a:lnTo>
                      <a:pt x="1357" y="681"/>
                    </a:lnTo>
                    <a:lnTo>
                      <a:pt x="1357" y="658"/>
                    </a:lnTo>
                    <a:lnTo>
                      <a:pt x="1357" y="635"/>
                    </a:lnTo>
                    <a:lnTo>
                      <a:pt x="1357" y="618"/>
                    </a:lnTo>
                    <a:lnTo>
                      <a:pt x="1345" y="618"/>
                    </a:lnTo>
                    <a:lnTo>
                      <a:pt x="1357" y="623"/>
                    </a:lnTo>
                    <a:lnTo>
                      <a:pt x="1362" y="606"/>
                    </a:lnTo>
                    <a:lnTo>
                      <a:pt x="1368" y="594"/>
                    </a:lnTo>
                    <a:lnTo>
                      <a:pt x="1374" y="577"/>
                    </a:lnTo>
                    <a:lnTo>
                      <a:pt x="1362" y="571"/>
                    </a:lnTo>
                    <a:lnTo>
                      <a:pt x="1368" y="577"/>
                    </a:lnTo>
                    <a:lnTo>
                      <a:pt x="1380" y="566"/>
                    </a:lnTo>
                    <a:lnTo>
                      <a:pt x="1374" y="560"/>
                    </a:lnTo>
                    <a:lnTo>
                      <a:pt x="1380" y="571"/>
                    </a:lnTo>
                    <a:lnTo>
                      <a:pt x="1391" y="566"/>
                    </a:lnTo>
                    <a:lnTo>
                      <a:pt x="1391" y="566"/>
                    </a:lnTo>
                    <a:lnTo>
                      <a:pt x="1391" y="560"/>
                    </a:lnTo>
                    <a:lnTo>
                      <a:pt x="1403" y="548"/>
                    </a:lnTo>
                    <a:lnTo>
                      <a:pt x="1414" y="537"/>
                    </a:lnTo>
                    <a:lnTo>
                      <a:pt x="1409" y="531"/>
                    </a:lnTo>
                    <a:lnTo>
                      <a:pt x="1414" y="543"/>
                    </a:lnTo>
                    <a:lnTo>
                      <a:pt x="1432" y="537"/>
                    </a:lnTo>
                    <a:lnTo>
                      <a:pt x="1443" y="531"/>
                    </a:lnTo>
                    <a:lnTo>
                      <a:pt x="1437" y="519"/>
                    </a:lnTo>
                    <a:lnTo>
                      <a:pt x="1437" y="531"/>
                    </a:lnTo>
                    <a:lnTo>
                      <a:pt x="1449" y="531"/>
                    </a:lnTo>
                    <a:lnTo>
                      <a:pt x="1455" y="531"/>
                    </a:lnTo>
                    <a:lnTo>
                      <a:pt x="1455" y="531"/>
                    </a:lnTo>
                    <a:lnTo>
                      <a:pt x="1472" y="525"/>
                    </a:lnTo>
                    <a:lnTo>
                      <a:pt x="1466" y="514"/>
                    </a:lnTo>
                    <a:lnTo>
                      <a:pt x="1466" y="525"/>
                    </a:lnTo>
                    <a:lnTo>
                      <a:pt x="1478" y="525"/>
                    </a:lnTo>
                    <a:lnTo>
                      <a:pt x="1478" y="514"/>
                    </a:lnTo>
                    <a:lnTo>
                      <a:pt x="1478" y="525"/>
                    </a:lnTo>
                    <a:lnTo>
                      <a:pt x="1495" y="531"/>
                    </a:lnTo>
                    <a:lnTo>
                      <a:pt x="1495" y="531"/>
                    </a:lnTo>
                    <a:lnTo>
                      <a:pt x="1495" y="531"/>
                    </a:lnTo>
                    <a:lnTo>
                      <a:pt x="1507" y="531"/>
                    </a:lnTo>
                    <a:lnTo>
                      <a:pt x="1507" y="519"/>
                    </a:lnTo>
                    <a:lnTo>
                      <a:pt x="1501" y="525"/>
                    </a:lnTo>
                    <a:lnTo>
                      <a:pt x="1512" y="537"/>
                    </a:lnTo>
                    <a:lnTo>
                      <a:pt x="1518" y="543"/>
                    </a:lnTo>
                    <a:lnTo>
                      <a:pt x="1518" y="543"/>
                    </a:lnTo>
                    <a:lnTo>
                      <a:pt x="1530" y="548"/>
                    </a:lnTo>
                    <a:lnTo>
                      <a:pt x="1530" y="537"/>
                    </a:lnTo>
                    <a:lnTo>
                      <a:pt x="1524" y="543"/>
                    </a:lnTo>
                    <a:lnTo>
                      <a:pt x="1535" y="554"/>
                    </a:lnTo>
                    <a:lnTo>
                      <a:pt x="1547" y="566"/>
                    </a:lnTo>
                    <a:lnTo>
                      <a:pt x="1553" y="571"/>
                    </a:lnTo>
                    <a:lnTo>
                      <a:pt x="1553" y="571"/>
                    </a:lnTo>
                    <a:lnTo>
                      <a:pt x="1564" y="577"/>
                    </a:lnTo>
                    <a:lnTo>
                      <a:pt x="1564" y="566"/>
                    </a:lnTo>
                    <a:lnTo>
                      <a:pt x="1559" y="571"/>
                    </a:lnTo>
                    <a:lnTo>
                      <a:pt x="1570" y="583"/>
                    </a:lnTo>
                    <a:lnTo>
                      <a:pt x="1576" y="589"/>
                    </a:lnTo>
                    <a:lnTo>
                      <a:pt x="1576" y="589"/>
                    </a:lnTo>
                    <a:lnTo>
                      <a:pt x="1593" y="594"/>
                    </a:lnTo>
                    <a:lnTo>
                      <a:pt x="1593" y="594"/>
                    </a:lnTo>
                    <a:lnTo>
                      <a:pt x="1593" y="594"/>
                    </a:lnTo>
                    <a:lnTo>
                      <a:pt x="1610" y="594"/>
                    </a:lnTo>
                    <a:lnTo>
                      <a:pt x="1628" y="594"/>
                    </a:lnTo>
                    <a:lnTo>
                      <a:pt x="1628" y="594"/>
                    </a:lnTo>
                    <a:lnTo>
                      <a:pt x="1634" y="594"/>
                    </a:lnTo>
                    <a:lnTo>
                      <a:pt x="1651" y="589"/>
                    </a:lnTo>
                    <a:lnTo>
                      <a:pt x="1668" y="583"/>
                    </a:lnTo>
                    <a:lnTo>
                      <a:pt x="1685" y="577"/>
                    </a:lnTo>
                    <a:lnTo>
                      <a:pt x="1685" y="577"/>
                    </a:lnTo>
                    <a:lnTo>
                      <a:pt x="1685" y="571"/>
                    </a:lnTo>
                    <a:lnTo>
                      <a:pt x="1697" y="560"/>
                    </a:lnTo>
                    <a:lnTo>
                      <a:pt x="1691" y="554"/>
                    </a:lnTo>
                    <a:lnTo>
                      <a:pt x="1697" y="566"/>
                    </a:lnTo>
                    <a:lnTo>
                      <a:pt x="1714" y="560"/>
                    </a:lnTo>
                    <a:lnTo>
                      <a:pt x="1714" y="560"/>
                    </a:lnTo>
                    <a:lnTo>
                      <a:pt x="1714" y="554"/>
                    </a:lnTo>
                    <a:lnTo>
                      <a:pt x="1726" y="543"/>
                    </a:lnTo>
                    <a:lnTo>
                      <a:pt x="1732" y="543"/>
                    </a:lnTo>
                    <a:lnTo>
                      <a:pt x="1732" y="543"/>
                    </a:lnTo>
                    <a:lnTo>
                      <a:pt x="1737" y="531"/>
                    </a:lnTo>
                    <a:lnTo>
                      <a:pt x="1749" y="514"/>
                    </a:lnTo>
                    <a:lnTo>
                      <a:pt x="1749" y="514"/>
                    </a:lnTo>
                    <a:lnTo>
                      <a:pt x="1749" y="508"/>
                    </a:lnTo>
                    <a:lnTo>
                      <a:pt x="1749" y="491"/>
                    </a:lnTo>
                    <a:lnTo>
                      <a:pt x="1737" y="491"/>
                    </a:lnTo>
                    <a:lnTo>
                      <a:pt x="1749" y="496"/>
                    </a:lnTo>
                    <a:lnTo>
                      <a:pt x="1755" y="485"/>
                    </a:lnTo>
                    <a:lnTo>
                      <a:pt x="1755" y="479"/>
                    </a:lnTo>
                    <a:lnTo>
                      <a:pt x="1755" y="479"/>
                    </a:lnTo>
                    <a:lnTo>
                      <a:pt x="1749" y="456"/>
                    </a:lnTo>
                    <a:lnTo>
                      <a:pt x="1737" y="456"/>
                    </a:lnTo>
                    <a:lnTo>
                      <a:pt x="1749" y="456"/>
                    </a:lnTo>
                    <a:lnTo>
                      <a:pt x="1749" y="433"/>
                    </a:lnTo>
                    <a:lnTo>
                      <a:pt x="1749" y="433"/>
                    </a:lnTo>
                    <a:lnTo>
                      <a:pt x="1749" y="433"/>
                    </a:lnTo>
                    <a:lnTo>
                      <a:pt x="1737" y="416"/>
                    </a:lnTo>
                    <a:lnTo>
                      <a:pt x="1732" y="398"/>
                    </a:lnTo>
                    <a:lnTo>
                      <a:pt x="1720" y="381"/>
                    </a:lnTo>
                    <a:lnTo>
                      <a:pt x="1714" y="375"/>
                    </a:lnTo>
                    <a:lnTo>
                      <a:pt x="1714" y="375"/>
                    </a:lnTo>
                    <a:lnTo>
                      <a:pt x="1697" y="364"/>
                    </a:lnTo>
                    <a:lnTo>
                      <a:pt x="1685" y="358"/>
                    </a:lnTo>
                    <a:lnTo>
                      <a:pt x="1668" y="346"/>
                    </a:lnTo>
                    <a:lnTo>
                      <a:pt x="1651" y="341"/>
                    </a:lnTo>
                    <a:lnTo>
                      <a:pt x="1634" y="335"/>
                    </a:lnTo>
                    <a:lnTo>
                      <a:pt x="1634" y="335"/>
                    </a:lnTo>
                    <a:lnTo>
                      <a:pt x="1628" y="335"/>
                    </a:lnTo>
                    <a:lnTo>
                      <a:pt x="1610" y="335"/>
                    </a:lnTo>
                    <a:lnTo>
                      <a:pt x="1593" y="335"/>
                    </a:lnTo>
                    <a:lnTo>
                      <a:pt x="1593" y="335"/>
                    </a:lnTo>
                    <a:lnTo>
                      <a:pt x="1593" y="335"/>
                    </a:lnTo>
                    <a:lnTo>
                      <a:pt x="1576" y="341"/>
                    </a:lnTo>
                    <a:lnTo>
                      <a:pt x="1564" y="346"/>
                    </a:lnTo>
                    <a:lnTo>
                      <a:pt x="1553" y="352"/>
                    </a:lnTo>
                    <a:lnTo>
                      <a:pt x="1541" y="358"/>
                    </a:lnTo>
                    <a:lnTo>
                      <a:pt x="1541" y="358"/>
                    </a:lnTo>
                    <a:lnTo>
                      <a:pt x="1535" y="358"/>
                    </a:lnTo>
                    <a:lnTo>
                      <a:pt x="1524" y="369"/>
                    </a:lnTo>
                    <a:lnTo>
                      <a:pt x="1530" y="375"/>
                    </a:lnTo>
                    <a:lnTo>
                      <a:pt x="1530" y="369"/>
                    </a:lnTo>
                    <a:lnTo>
                      <a:pt x="1518" y="375"/>
                    </a:lnTo>
                    <a:lnTo>
                      <a:pt x="1501" y="381"/>
                    </a:lnTo>
                    <a:lnTo>
                      <a:pt x="1489" y="387"/>
                    </a:lnTo>
                    <a:lnTo>
                      <a:pt x="1489" y="393"/>
                    </a:lnTo>
                    <a:lnTo>
                      <a:pt x="1489" y="387"/>
                    </a:lnTo>
                    <a:lnTo>
                      <a:pt x="1472" y="387"/>
                    </a:lnTo>
                    <a:lnTo>
                      <a:pt x="1455" y="387"/>
                    </a:lnTo>
                    <a:lnTo>
                      <a:pt x="1437" y="387"/>
                    </a:lnTo>
                    <a:lnTo>
                      <a:pt x="1426" y="387"/>
                    </a:lnTo>
                    <a:lnTo>
                      <a:pt x="1426" y="393"/>
                    </a:lnTo>
                    <a:lnTo>
                      <a:pt x="1432" y="387"/>
                    </a:lnTo>
                    <a:lnTo>
                      <a:pt x="1414" y="381"/>
                    </a:lnTo>
                    <a:lnTo>
                      <a:pt x="1397" y="375"/>
                    </a:lnTo>
                    <a:lnTo>
                      <a:pt x="1397" y="375"/>
                    </a:lnTo>
                    <a:lnTo>
                      <a:pt x="1391" y="375"/>
                    </a:lnTo>
                    <a:lnTo>
                      <a:pt x="1380" y="375"/>
                    </a:lnTo>
                    <a:lnTo>
                      <a:pt x="1380" y="381"/>
                    </a:lnTo>
                    <a:lnTo>
                      <a:pt x="1385" y="375"/>
                    </a:lnTo>
                    <a:lnTo>
                      <a:pt x="1374" y="364"/>
                    </a:lnTo>
                    <a:lnTo>
                      <a:pt x="1374" y="364"/>
                    </a:lnTo>
                    <a:lnTo>
                      <a:pt x="1374" y="364"/>
                    </a:lnTo>
                    <a:lnTo>
                      <a:pt x="1362" y="358"/>
                    </a:lnTo>
                    <a:lnTo>
                      <a:pt x="1357" y="364"/>
                    </a:lnTo>
                    <a:lnTo>
                      <a:pt x="1362" y="358"/>
                    </a:lnTo>
                    <a:lnTo>
                      <a:pt x="1351" y="346"/>
                    </a:lnTo>
                    <a:lnTo>
                      <a:pt x="1345" y="352"/>
                    </a:lnTo>
                    <a:lnTo>
                      <a:pt x="1357" y="352"/>
                    </a:lnTo>
                    <a:lnTo>
                      <a:pt x="1357" y="341"/>
                    </a:lnTo>
                    <a:lnTo>
                      <a:pt x="1357" y="341"/>
                    </a:lnTo>
                    <a:lnTo>
                      <a:pt x="1357" y="341"/>
                    </a:lnTo>
                    <a:lnTo>
                      <a:pt x="1351" y="329"/>
                    </a:lnTo>
                    <a:lnTo>
                      <a:pt x="1339" y="329"/>
                    </a:lnTo>
                    <a:lnTo>
                      <a:pt x="1351" y="329"/>
                    </a:lnTo>
                    <a:lnTo>
                      <a:pt x="1351" y="312"/>
                    </a:lnTo>
                    <a:lnTo>
                      <a:pt x="1351" y="277"/>
                    </a:lnTo>
                    <a:lnTo>
                      <a:pt x="1351" y="237"/>
                    </a:lnTo>
                    <a:lnTo>
                      <a:pt x="1357" y="191"/>
                    </a:lnTo>
                    <a:lnTo>
                      <a:pt x="1362" y="144"/>
                    </a:lnTo>
                    <a:lnTo>
                      <a:pt x="1368" y="98"/>
                    </a:lnTo>
                    <a:lnTo>
                      <a:pt x="1374" y="64"/>
                    </a:lnTo>
                    <a:lnTo>
                      <a:pt x="1380" y="29"/>
                    </a:lnTo>
                    <a:lnTo>
                      <a:pt x="1380" y="23"/>
                    </a:lnTo>
                    <a:lnTo>
                      <a:pt x="1368" y="23"/>
                    </a:lnTo>
                    <a:lnTo>
                      <a:pt x="1362" y="23"/>
                    </a:lnTo>
                    <a:lnTo>
                      <a:pt x="1310" y="23"/>
                    </a:lnTo>
                    <a:lnTo>
                      <a:pt x="1258" y="17"/>
                    </a:lnTo>
                    <a:lnTo>
                      <a:pt x="1212" y="17"/>
                    </a:lnTo>
                    <a:lnTo>
                      <a:pt x="1172" y="12"/>
                    </a:lnTo>
                    <a:lnTo>
                      <a:pt x="1132" y="6"/>
                    </a:lnTo>
                    <a:lnTo>
                      <a:pt x="1097" y="6"/>
                    </a:lnTo>
                    <a:lnTo>
                      <a:pt x="1074" y="0"/>
                    </a:lnTo>
                    <a:lnTo>
                      <a:pt x="1057" y="0"/>
                    </a:lnTo>
                    <a:lnTo>
                      <a:pt x="1045" y="0"/>
                    </a:lnTo>
                    <a:lnTo>
                      <a:pt x="1045" y="0"/>
                    </a:lnTo>
                    <a:lnTo>
                      <a:pt x="1039" y="0"/>
                    </a:lnTo>
                    <a:lnTo>
                      <a:pt x="1033" y="6"/>
                    </a:lnTo>
                    <a:lnTo>
                      <a:pt x="1039" y="12"/>
                    </a:lnTo>
                    <a:lnTo>
                      <a:pt x="1039" y="6"/>
                    </a:lnTo>
                    <a:lnTo>
                      <a:pt x="1028" y="12"/>
                    </a:lnTo>
                    <a:lnTo>
                      <a:pt x="1028" y="12"/>
                    </a:lnTo>
                    <a:lnTo>
                      <a:pt x="1022" y="12"/>
                    </a:lnTo>
                    <a:lnTo>
                      <a:pt x="1010" y="23"/>
                    </a:lnTo>
                    <a:lnTo>
                      <a:pt x="1005" y="29"/>
                    </a:lnTo>
                    <a:lnTo>
                      <a:pt x="993" y="41"/>
                    </a:lnTo>
                    <a:lnTo>
                      <a:pt x="993" y="46"/>
                    </a:lnTo>
                    <a:lnTo>
                      <a:pt x="993" y="46"/>
                    </a:lnTo>
                    <a:lnTo>
                      <a:pt x="993" y="64"/>
                    </a:lnTo>
                    <a:lnTo>
                      <a:pt x="999" y="64"/>
                    </a:lnTo>
                    <a:lnTo>
                      <a:pt x="993" y="64"/>
                    </a:lnTo>
                    <a:lnTo>
                      <a:pt x="987" y="75"/>
                    </a:lnTo>
                    <a:lnTo>
                      <a:pt x="981" y="92"/>
                    </a:lnTo>
                    <a:lnTo>
                      <a:pt x="981" y="92"/>
                    </a:lnTo>
                    <a:lnTo>
                      <a:pt x="981" y="92"/>
                    </a:lnTo>
                    <a:lnTo>
                      <a:pt x="981" y="110"/>
                    </a:lnTo>
                    <a:lnTo>
                      <a:pt x="981" y="127"/>
                    </a:lnTo>
                    <a:lnTo>
                      <a:pt x="981" y="127"/>
                    </a:lnTo>
                    <a:lnTo>
                      <a:pt x="981" y="133"/>
                    </a:lnTo>
                    <a:lnTo>
                      <a:pt x="987" y="144"/>
                    </a:lnTo>
                    <a:lnTo>
                      <a:pt x="993" y="162"/>
                    </a:lnTo>
                    <a:lnTo>
                      <a:pt x="999" y="179"/>
                    </a:lnTo>
                    <a:lnTo>
                      <a:pt x="1010" y="196"/>
                    </a:lnTo>
                    <a:lnTo>
                      <a:pt x="1010" y="196"/>
                    </a:lnTo>
                    <a:lnTo>
                      <a:pt x="1010" y="196"/>
                    </a:lnTo>
                    <a:lnTo>
                      <a:pt x="1022" y="208"/>
                    </a:lnTo>
                    <a:lnTo>
                      <a:pt x="1028" y="214"/>
                    </a:lnTo>
                    <a:lnTo>
                      <a:pt x="1028" y="214"/>
                    </a:lnTo>
                    <a:lnTo>
                      <a:pt x="1045" y="225"/>
                    </a:lnTo>
                    <a:lnTo>
                      <a:pt x="1045" y="214"/>
                    </a:lnTo>
                    <a:lnTo>
                      <a:pt x="1039" y="219"/>
                    </a:lnTo>
                    <a:lnTo>
                      <a:pt x="1045" y="237"/>
                    </a:lnTo>
                    <a:lnTo>
                      <a:pt x="1057" y="260"/>
                    </a:lnTo>
                    <a:lnTo>
                      <a:pt x="1062" y="271"/>
                    </a:lnTo>
                    <a:lnTo>
                      <a:pt x="1068" y="266"/>
                    </a:lnTo>
                    <a:lnTo>
                      <a:pt x="1062" y="266"/>
                    </a:lnTo>
                    <a:lnTo>
                      <a:pt x="1062" y="289"/>
                    </a:lnTo>
                    <a:lnTo>
                      <a:pt x="1062" y="306"/>
                    </a:lnTo>
                    <a:lnTo>
                      <a:pt x="1062" y="323"/>
                    </a:lnTo>
                    <a:lnTo>
                      <a:pt x="1068" y="323"/>
                    </a:lnTo>
                    <a:lnTo>
                      <a:pt x="1062" y="318"/>
                    </a:lnTo>
                    <a:lnTo>
                      <a:pt x="1051" y="329"/>
                    </a:lnTo>
                    <a:lnTo>
                      <a:pt x="1051" y="335"/>
                    </a:lnTo>
                    <a:lnTo>
                      <a:pt x="1051" y="335"/>
                    </a:lnTo>
                    <a:lnTo>
                      <a:pt x="1045" y="352"/>
                    </a:lnTo>
                    <a:lnTo>
                      <a:pt x="1033" y="369"/>
                    </a:lnTo>
                    <a:lnTo>
                      <a:pt x="1039" y="369"/>
                    </a:lnTo>
                    <a:lnTo>
                      <a:pt x="1033" y="364"/>
                    </a:lnTo>
                    <a:lnTo>
                      <a:pt x="1022" y="375"/>
                    </a:lnTo>
                    <a:lnTo>
                      <a:pt x="1028" y="381"/>
                    </a:lnTo>
                    <a:lnTo>
                      <a:pt x="1028" y="375"/>
                    </a:lnTo>
                    <a:lnTo>
                      <a:pt x="1010" y="387"/>
                    </a:lnTo>
                    <a:lnTo>
                      <a:pt x="993" y="398"/>
                    </a:lnTo>
                    <a:lnTo>
                      <a:pt x="993" y="404"/>
                    </a:lnTo>
                    <a:lnTo>
                      <a:pt x="993" y="398"/>
                    </a:lnTo>
                    <a:lnTo>
                      <a:pt x="970" y="404"/>
                    </a:lnTo>
                    <a:lnTo>
                      <a:pt x="947" y="410"/>
                    </a:lnTo>
                    <a:lnTo>
                      <a:pt x="924" y="416"/>
                    </a:lnTo>
                    <a:lnTo>
                      <a:pt x="912" y="416"/>
                    </a:lnTo>
                    <a:lnTo>
                      <a:pt x="901" y="416"/>
                    </a:lnTo>
                    <a:lnTo>
                      <a:pt x="901" y="421"/>
                    </a:lnTo>
                    <a:lnTo>
                      <a:pt x="906" y="416"/>
                    </a:lnTo>
                    <a:lnTo>
                      <a:pt x="895" y="410"/>
                    </a:lnTo>
                    <a:lnTo>
                      <a:pt x="895" y="410"/>
                    </a:lnTo>
                    <a:lnTo>
                      <a:pt x="889" y="410"/>
                    </a:lnTo>
                    <a:lnTo>
                      <a:pt x="878" y="410"/>
                    </a:lnTo>
                    <a:lnTo>
                      <a:pt x="878" y="416"/>
                    </a:lnTo>
                    <a:lnTo>
                      <a:pt x="883" y="410"/>
                    </a:lnTo>
                    <a:lnTo>
                      <a:pt x="872" y="404"/>
                    </a:lnTo>
                    <a:lnTo>
                      <a:pt x="860" y="398"/>
                    </a:lnTo>
                    <a:lnTo>
                      <a:pt x="855" y="404"/>
                    </a:lnTo>
                    <a:lnTo>
                      <a:pt x="860" y="398"/>
                    </a:lnTo>
                    <a:lnTo>
                      <a:pt x="855" y="393"/>
                    </a:lnTo>
                    <a:lnTo>
                      <a:pt x="855" y="393"/>
                    </a:lnTo>
                    <a:lnTo>
                      <a:pt x="855" y="393"/>
                    </a:lnTo>
                    <a:lnTo>
                      <a:pt x="843" y="387"/>
                    </a:lnTo>
                    <a:lnTo>
                      <a:pt x="826" y="375"/>
                    </a:lnTo>
                    <a:lnTo>
                      <a:pt x="820" y="381"/>
                    </a:lnTo>
                    <a:lnTo>
                      <a:pt x="826" y="375"/>
                    </a:lnTo>
                    <a:lnTo>
                      <a:pt x="814" y="364"/>
                    </a:lnTo>
                    <a:lnTo>
                      <a:pt x="808" y="369"/>
                    </a:lnTo>
                    <a:lnTo>
                      <a:pt x="820" y="369"/>
                    </a:lnTo>
                    <a:lnTo>
                      <a:pt x="808" y="352"/>
                    </a:lnTo>
                    <a:lnTo>
                      <a:pt x="803" y="335"/>
                    </a:lnTo>
                    <a:lnTo>
                      <a:pt x="797" y="318"/>
                    </a:lnTo>
                    <a:lnTo>
                      <a:pt x="785" y="318"/>
                    </a:lnTo>
                    <a:lnTo>
                      <a:pt x="797" y="318"/>
                    </a:lnTo>
                    <a:lnTo>
                      <a:pt x="797" y="294"/>
                    </a:lnTo>
                    <a:lnTo>
                      <a:pt x="797" y="294"/>
                    </a:lnTo>
                    <a:lnTo>
                      <a:pt x="797" y="294"/>
                    </a:lnTo>
                    <a:lnTo>
                      <a:pt x="791" y="277"/>
                    </a:lnTo>
                    <a:lnTo>
                      <a:pt x="780" y="277"/>
                    </a:lnTo>
                    <a:lnTo>
                      <a:pt x="791" y="283"/>
                    </a:lnTo>
                    <a:lnTo>
                      <a:pt x="797" y="266"/>
                    </a:lnTo>
                    <a:lnTo>
                      <a:pt x="797" y="266"/>
                    </a:lnTo>
                    <a:lnTo>
                      <a:pt x="797" y="260"/>
                    </a:lnTo>
                    <a:lnTo>
                      <a:pt x="797" y="237"/>
                    </a:lnTo>
                    <a:lnTo>
                      <a:pt x="785" y="237"/>
                    </a:lnTo>
                    <a:lnTo>
                      <a:pt x="791" y="243"/>
                    </a:lnTo>
                    <a:lnTo>
                      <a:pt x="803" y="231"/>
                    </a:lnTo>
                    <a:lnTo>
                      <a:pt x="808" y="231"/>
                    </a:lnTo>
                    <a:lnTo>
                      <a:pt x="808" y="231"/>
                    </a:lnTo>
                    <a:lnTo>
                      <a:pt x="814" y="214"/>
                    </a:lnTo>
                    <a:lnTo>
                      <a:pt x="803" y="208"/>
                    </a:lnTo>
                    <a:lnTo>
                      <a:pt x="808" y="214"/>
                    </a:lnTo>
                    <a:lnTo>
                      <a:pt x="820" y="202"/>
                    </a:lnTo>
                    <a:lnTo>
                      <a:pt x="831" y="191"/>
                    </a:lnTo>
                    <a:lnTo>
                      <a:pt x="837" y="191"/>
                    </a:lnTo>
                    <a:lnTo>
                      <a:pt x="837" y="191"/>
                    </a:lnTo>
                    <a:lnTo>
                      <a:pt x="843" y="179"/>
                    </a:lnTo>
                    <a:lnTo>
                      <a:pt x="849" y="167"/>
                    </a:lnTo>
                    <a:lnTo>
                      <a:pt x="855" y="156"/>
                    </a:lnTo>
                    <a:lnTo>
                      <a:pt x="860" y="144"/>
                    </a:lnTo>
                    <a:lnTo>
                      <a:pt x="860" y="144"/>
                    </a:lnTo>
                    <a:lnTo>
                      <a:pt x="860" y="139"/>
                    </a:lnTo>
                    <a:lnTo>
                      <a:pt x="860" y="127"/>
                    </a:lnTo>
                    <a:lnTo>
                      <a:pt x="860" y="116"/>
                    </a:lnTo>
                    <a:lnTo>
                      <a:pt x="860" y="116"/>
                    </a:lnTo>
                    <a:lnTo>
                      <a:pt x="860" y="116"/>
                    </a:lnTo>
                    <a:lnTo>
                      <a:pt x="855" y="104"/>
                    </a:lnTo>
                    <a:lnTo>
                      <a:pt x="849" y="92"/>
                    </a:lnTo>
                    <a:lnTo>
                      <a:pt x="843" y="81"/>
                    </a:lnTo>
                    <a:lnTo>
                      <a:pt x="843" y="81"/>
                    </a:lnTo>
                    <a:lnTo>
                      <a:pt x="837" y="75"/>
                    </a:lnTo>
                    <a:lnTo>
                      <a:pt x="826" y="64"/>
                    </a:lnTo>
                    <a:lnTo>
                      <a:pt x="826" y="64"/>
                    </a:lnTo>
                    <a:lnTo>
                      <a:pt x="826" y="64"/>
                    </a:lnTo>
                    <a:lnTo>
                      <a:pt x="808" y="58"/>
                    </a:lnTo>
                    <a:lnTo>
                      <a:pt x="791" y="46"/>
                    </a:lnTo>
                    <a:lnTo>
                      <a:pt x="774" y="41"/>
                    </a:lnTo>
                    <a:lnTo>
                      <a:pt x="751" y="29"/>
                    </a:lnTo>
                    <a:lnTo>
                      <a:pt x="751" y="29"/>
                    </a:lnTo>
                    <a:lnTo>
                      <a:pt x="745" y="29"/>
                    </a:lnTo>
                    <a:lnTo>
                      <a:pt x="716" y="23"/>
                    </a:lnTo>
                    <a:lnTo>
                      <a:pt x="687" y="23"/>
                    </a:lnTo>
                    <a:lnTo>
                      <a:pt x="647" y="17"/>
                    </a:lnTo>
                    <a:lnTo>
                      <a:pt x="601" y="17"/>
                    </a:lnTo>
                    <a:lnTo>
                      <a:pt x="554" y="23"/>
                    </a:lnTo>
                    <a:lnTo>
                      <a:pt x="503" y="23"/>
                    </a:lnTo>
                    <a:lnTo>
                      <a:pt x="456" y="29"/>
                    </a:lnTo>
                    <a:lnTo>
                      <a:pt x="416" y="35"/>
                    </a:lnTo>
                    <a:lnTo>
                      <a:pt x="387" y="41"/>
                    </a:lnTo>
                    <a:lnTo>
                      <a:pt x="376" y="41"/>
                    </a:lnTo>
                    <a:lnTo>
                      <a:pt x="381" y="46"/>
                    </a:lnTo>
                    <a:lnTo>
                      <a:pt x="387" y="81"/>
                    </a:lnTo>
                    <a:lnTo>
                      <a:pt x="387" y="87"/>
                    </a:lnTo>
                    <a:lnTo>
                      <a:pt x="387" y="87"/>
                    </a:lnTo>
                    <a:lnTo>
                      <a:pt x="404" y="127"/>
                    </a:lnTo>
                    <a:lnTo>
                      <a:pt x="416" y="179"/>
                    </a:lnTo>
                    <a:lnTo>
                      <a:pt x="428" y="231"/>
                    </a:lnTo>
                    <a:lnTo>
                      <a:pt x="433" y="225"/>
                    </a:lnTo>
                    <a:lnTo>
                      <a:pt x="428" y="225"/>
                    </a:lnTo>
                    <a:lnTo>
                      <a:pt x="428" y="248"/>
                    </a:lnTo>
                    <a:lnTo>
                      <a:pt x="433" y="277"/>
                    </a:lnTo>
                    <a:lnTo>
                      <a:pt x="433" y="300"/>
                    </a:lnTo>
                    <a:lnTo>
                      <a:pt x="433" y="323"/>
                    </a:lnTo>
                    <a:lnTo>
                      <a:pt x="433" y="341"/>
                    </a:lnTo>
                    <a:lnTo>
                      <a:pt x="439" y="341"/>
                    </a:lnTo>
                    <a:lnTo>
                      <a:pt x="433" y="341"/>
                    </a:lnTo>
                    <a:lnTo>
                      <a:pt x="428" y="358"/>
                    </a:lnTo>
                    <a:lnTo>
                      <a:pt x="433" y="358"/>
                    </a:lnTo>
                    <a:lnTo>
                      <a:pt x="428" y="352"/>
                    </a:lnTo>
                    <a:lnTo>
                      <a:pt x="422" y="358"/>
                    </a:lnTo>
                    <a:lnTo>
                      <a:pt x="422" y="364"/>
                    </a:lnTo>
                    <a:lnTo>
                      <a:pt x="422" y="364"/>
                    </a:lnTo>
                    <a:lnTo>
                      <a:pt x="422" y="375"/>
                    </a:lnTo>
                    <a:lnTo>
                      <a:pt x="428" y="375"/>
                    </a:lnTo>
                    <a:lnTo>
                      <a:pt x="422" y="369"/>
                    </a:lnTo>
                    <a:lnTo>
                      <a:pt x="416" y="375"/>
                    </a:lnTo>
                    <a:lnTo>
                      <a:pt x="422" y="381"/>
                    </a:lnTo>
                    <a:lnTo>
                      <a:pt x="422" y="375"/>
                    </a:lnTo>
                    <a:lnTo>
                      <a:pt x="416" y="375"/>
                    </a:lnTo>
                    <a:lnTo>
                      <a:pt x="410" y="375"/>
                    </a:lnTo>
                    <a:lnTo>
                      <a:pt x="410" y="381"/>
                    </a:lnTo>
                    <a:lnTo>
                      <a:pt x="404" y="393"/>
                    </a:lnTo>
                    <a:lnTo>
                      <a:pt x="410" y="393"/>
                    </a:lnTo>
                    <a:lnTo>
                      <a:pt x="410" y="387"/>
                    </a:lnTo>
                    <a:lnTo>
                      <a:pt x="393" y="393"/>
                    </a:lnTo>
                    <a:lnTo>
                      <a:pt x="393" y="393"/>
                    </a:lnTo>
                    <a:lnTo>
                      <a:pt x="387" y="393"/>
                    </a:lnTo>
                    <a:lnTo>
                      <a:pt x="381" y="398"/>
                    </a:lnTo>
                    <a:lnTo>
                      <a:pt x="387" y="404"/>
                    </a:lnTo>
                    <a:lnTo>
                      <a:pt x="387" y="398"/>
                    </a:lnTo>
                    <a:lnTo>
                      <a:pt x="370" y="404"/>
                    </a:lnTo>
                    <a:lnTo>
                      <a:pt x="358" y="410"/>
                    </a:lnTo>
                    <a:lnTo>
                      <a:pt x="358" y="416"/>
                    </a:lnTo>
                    <a:lnTo>
                      <a:pt x="358" y="410"/>
                    </a:lnTo>
                    <a:lnTo>
                      <a:pt x="347" y="410"/>
                    </a:lnTo>
                    <a:lnTo>
                      <a:pt x="335" y="410"/>
                    </a:lnTo>
                    <a:lnTo>
                      <a:pt x="324" y="410"/>
                    </a:lnTo>
                    <a:lnTo>
                      <a:pt x="312" y="410"/>
                    </a:lnTo>
                    <a:lnTo>
                      <a:pt x="301" y="410"/>
                    </a:lnTo>
                    <a:lnTo>
                      <a:pt x="301" y="416"/>
                    </a:lnTo>
                    <a:lnTo>
                      <a:pt x="306" y="410"/>
                    </a:lnTo>
                    <a:lnTo>
                      <a:pt x="295" y="404"/>
                    </a:lnTo>
                    <a:lnTo>
                      <a:pt x="295" y="404"/>
                    </a:lnTo>
                    <a:lnTo>
                      <a:pt x="289" y="404"/>
                    </a:lnTo>
                    <a:lnTo>
                      <a:pt x="277" y="404"/>
                    </a:lnTo>
                    <a:lnTo>
                      <a:pt x="277" y="410"/>
                    </a:lnTo>
                    <a:lnTo>
                      <a:pt x="283" y="404"/>
                    </a:lnTo>
                    <a:lnTo>
                      <a:pt x="272" y="398"/>
                    </a:lnTo>
                    <a:lnTo>
                      <a:pt x="260" y="393"/>
                    </a:lnTo>
                    <a:lnTo>
                      <a:pt x="254" y="398"/>
                    </a:lnTo>
                    <a:lnTo>
                      <a:pt x="260" y="393"/>
                    </a:lnTo>
                    <a:lnTo>
                      <a:pt x="254" y="387"/>
                    </a:lnTo>
                    <a:lnTo>
                      <a:pt x="249" y="393"/>
                    </a:lnTo>
                    <a:lnTo>
                      <a:pt x="260" y="393"/>
                    </a:lnTo>
                    <a:lnTo>
                      <a:pt x="254" y="381"/>
                    </a:lnTo>
                    <a:lnTo>
                      <a:pt x="249" y="375"/>
                    </a:lnTo>
                    <a:lnTo>
                      <a:pt x="249" y="375"/>
                    </a:lnTo>
                    <a:lnTo>
                      <a:pt x="237" y="369"/>
                    </a:lnTo>
                    <a:lnTo>
                      <a:pt x="220" y="358"/>
                    </a:lnTo>
                    <a:lnTo>
                      <a:pt x="202" y="352"/>
                    </a:lnTo>
                    <a:lnTo>
                      <a:pt x="185" y="346"/>
                    </a:lnTo>
                    <a:lnTo>
                      <a:pt x="185" y="346"/>
                    </a:lnTo>
                    <a:lnTo>
                      <a:pt x="179" y="346"/>
                    </a:lnTo>
                    <a:lnTo>
                      <a:pt x="162" y="346"/>
                    </a:lnTo>
                    <a:lnTo>
                      <a:pt x="145" y="346"/>
                    </a:lnTo>
                    <a:lnTo>
                      <a:pt x="122" y="346"/>
                    </a:lnTo>
                    <a:lnTo>
                      <a:pt x="122" y="346"/>
                    </a:lnTo>
                    <a:lnTo>
                      <a:pt x="122" y="346"/>
                    </a:lnTo>
                    <a:lnTo>
                      <a:pt x="104" y="352"/>
                    </a:lnTo>
                    <a:lnTo>
                      <a:pt x="87" y="358"/>
                    </a:lnTo>
                    <a:lnTo>
                      <a:pt x="70" y="369"/>
                    </a:lnTo>
                    <a:lnTo>
                      <a:pt x="70" y="369"/>
                    </a:lnTo>
                    <a:lnTo>
                      <a:pt x="64" y="369"/>
                    </a:lnTo>
                    <a:lnTo>
                      <a:pt x="47" y="387"/>
                    </a:lnTo>
                    <a:lnTo>
                      <a:pt x="52" y="393"/>
                    </a:lnTo>
                    <a:lnTo>
                      <a:pt x="52" y="387"/>
                    </a:lnTo>
                    <a:lnTo>
                      <a:pt x="35" y="398"/>
                    </a:lnTo>
                    <a:lnTo>
                      <a:pt x="29" y="398"/>
                    </a:lnTo>
                    <a:lnTo>
                      <a:pt x="29" y="404"/>
                    </a:lnTo>
                    <a:lnTo>
                      <a:pt x="24" y="416"/>
                    </a:lnTo>
                    <a:lnTo>
                      <a:pt x="29" y="416"/>
                    </a:lnTo>
                    <a:lnTo>
                      <a:pt x="24" y="410"/>
                    </a:lnTo>
                    <a:lnTo>
                      <a:pt x="18" y="416"/>
                    </a:lnTo>
                    <a:lnTo>
                      <a:pt x="18" y="421"/>
                    </a:lnTo>
                    <a:lnTo>
                      <a:pt x="18" y="421"/>
                    </a:lnTo>
                    <a:lnTo>
                      <a:pt x="18" y="433"/>
                    </a:lnTo>
                    <a:lnTo>
                      <a:pt x="24" y="433"/>
                    </a:lnTo>
                    <a:lnTo>
                      <a:pt x="18" y="433"/>
                    </a:lnTo>
                    <a:lnTo>
                      <a:pt x="12" y="444"/>
                    </a:lnTo>
                    <a:lnTo>
                      <a:pt x="6" y="456"/>
                    </a:lnTo>
                    <a:lnTo>
                      <a:pt x="6" y="456"/>
                    </a:lnTo>
                    <a:lnTo>
                      <a:pt x="6" y="456"/>
                    </a:lnTo>
                    <a:lnTo>
                      <a:pt x="6" y="468"/>
                    </a:lnTo>
                    <a:lnTo>
                      <a:pt x="12" y="468"/>
                    </a:lnTo>
                    <a:lnTo>
                      <a:pt x="6" y="468"/>
                    </a:lnTo>
                    <a:lnTo>
                      <a:pt x="0" y="485"/>
                    </a:lnTo>
                    <a:lnTo>
                      <a:pt x="0" y="485"/>
                    </a:lnTo>
                    <a:lnTo>
                      <a:pt x="0" y="485"/>
                    </a:lnTo>
                    <a:lnTo>
                      <a:pt x="0" y="496"/>
                    </a:lnTo>
                    <a:lnTo>
                      <a:pt x="0" y="508"/>
                    </a:lnTo>
                    <a:lnTo>
                      <a:pt x="0" y="514"/>
                    </a:lnTo>
                    <a:lnTo>
                      <a:pt x="0" y="514"/>
                    </a:lnTo>
                    <a:lnTo>
                      <a:pt x="6" y="525"/>
                    </a:lnTo>
                    <a:lnTo>
                      <a:pt x="12" y="519"/>
                    </a:lnTo>
                    <a:lnTo>
                      <a:pt x="6" y="519"/>
                    </a:lnTo>
                    <a:lnTo>
                      <a:pt x="6" y="531"/>
                    </a:lnTo>
                    <a:lnTo>
                      <a:pt x="6" y="537"/>
                    </a:lnTo>
                    <a:lnTo>
                      <a:pt x="6" y="537"/>
                    </a:lnTo>
                    <a:lnTo>
                      <a:pt x="12" y="543"/>
                    </a:lnTo>
                    <a:lnTo>
                      <a:pt x="18" y="537"/>
                    </a:lnTo>
                    <a:lnTo>
                      <a:pt x="12" y="537"/>
                    </a:lnTo>
                    <a:lnTo>
                      <a:pt x="12" y="548"/>
                    </a:lnTo>
                    <a:lnTo>
                      <a:pt x="12" y="554"/>
                    </a:lnTo>
                    <a:lnTo>
                      <a:pt x="12" y="554"/>
                    </a:lnTo>
                    <a:lnTo>
                      <a:pt x="18" y="560"/>
                    </a:lnTo>
                    <a:lnTo>
                      <a:pt x="24" y="554"/>
                    </a:lnTo>
                    <a:lnTo>
                      <a:pt x="18" y="560"/>
                    </a:lnTo>
                    <a:lnTo>
                      <a:pt x="24" y="571"/>
                    </a:lnTo>
                    <a:lnTo>
                      <a:pt x="24" y="571"/>
                    </a:lnTo>
                    <a:lnTo>
                      <a:pt x="24" y="571"/>
                    </a:lnTo>
                    <a:lnTo>
                      <a:pt x="29" y="577"/>
                    </a:lnTo>
                    <a:lnTo>
                      <a:pt x="35" y="571"/>
                    </a:lnTo>
                    <a:lnTo>
                      <a:pt x="29" y="577"/>
                    </a:lnTo>
                    <a:lnTo>
                      <a:pt x="41" y="594"/>
                    </a:lnTo>
                    <a:lnTo>
                      <a:pt x="41" y="594"/>
                    </a:lnTo>
                    <a:lnTo>
                      <a:pt x="47" y="600"/>
                    </a:lnTo>
                    <a:lnTo>
                      <a:pt x="64" y="612"/>
                    </a:lnTo>
                    <a:lnTo>
                      <a:pt x="81" y="618"/>
                    </a:lnTo>
                    <a:lnTo>
                      <a:pt x="99" y="623"/>
                    </a:lnTo>
                    <a:lnTo>
                      <a:pt x="116" y="629"/>
                    </a:lnTo>
                    <a:lnTo>
                      <a:pt x="133" y="635"/>
                    </a:lnTo>
                    <a:lnTo>
                      <a:pt x="133" y="635"/>
                    </a:lnTo>
                    <a:lnTo>
                      <a:pt x="133" y="635"/>
                    </a:lnTo>
                    <a:lnTo>
                      <a:pt x="156" y="635"/>
                    </a:lnTo>
                    <a:lnTo>
                      <a:pt x="174" y="635"/>
                    </a:lnTo>
                    <a:lnTo>
                      <a:pt x="174" y="635"/>
                    </a:lnTo>
                    <a:lnTo>
                      <a:pt x="179" y="635"/>
                    </a:lnTo>
                    <a:lnTo>
                      <a:pt x="191" y="629"/>
                    </a:lnTo>
                    <a:lnTo>
                      <a:pt x="208" y="623"/>
                    </a:lnTo>
                    <a:lnTo>
                      <a:pt x="220" y="618"/>
                    </a:lnTo>
                    <a:lnTo>
                      <a:pt x="220" y="612"/>
                    </a:lnTo>
                    <a:lnTo>
                      <a:pt x="226" y="612"/>
                    </a:lnTo>
                    <a:lnTo>
                      <a:pt x="231" y="600"/>
                    </a:lnTo>
                    <a:lnTo>
                      <a:pt x="220" y="594"/>
                    </a:lnTo>
                    <a:lnTo>
                      <a:pt x="226" y="606"/>
                    </a:lnTo>
                    <a:lnTo>
                      <a:pt x="237" y="600"/>
                    </a:lnTo>
                    <a:lnTo>
                      <a:pt x="249" y="594"/>
                    </a:lnTo>
                    <a:lnTo>
                      <a:pt x="260" y="589"/>
                    </a:lnTo>
                    <a:lnTo>
                      <a:pt x="272" y="583"/>
                    </a:lnTo>
                    <a:lnTo>
                      <a:pt x="266" y="571"/>
                    </a:lnTo>
                    <a:lnTo>
                      <a:pt x="266" y="583"/>
                    </a:lnTo>
                    <a:lnTo>
                      <a:pt x="277" y="583"/>
                    </a:lnTo>
                    <a:lnTo>
                      <a:pt x="295" y="583"/>
                    </a:lnTo>
                    <a:lnTo>
                      <a:pt x="295" y="571"/>
                    </a:lnTo>
                    <a:lnTo>
                      <a:pt x="295" y="583"/>
                    </a:lnTo>
                    <a:lnTo>
                      <a:pt x="306" y="589"/>
                    </a:lnTo>
                    <a:lnTo>
                      <a:pt x="306" y="589"/>
                    </a:lnTo>
                    <a:lnTo>
                      <a:pt x="306" y="589"/>
                    </a:lnTo>
                    <a:lnTo>
                      <a:pt x="318" y="589"/>
                    </a:lnTo>
                    <a:lnTo>
                      <a:pt x="318" y="577"/>
                    </a:lnTo>
                    <a:lnTo>
                      <a:pt x="318" y="589"/>
                    </a:lnTo>
                    <a:lnTo>
                      <a:pt x="335" y="594"/>
                    </a:lnTo>
                    <a:lnTo>
                      <a:pt x="347" y="600"/>
                    </a:lnTo>
                    <a:lnTo>
                      <a:pt x="347" y="589"/>
                    </a:lnTo>
                    <a:lnTo>
                      <a:pt x="341" y="594"/>
                    </a:lnTo>
                    <a:lnTo>
                      <a:pt x="347" y="600"/>
                    </a:lnTo>
                    <a:lnTo>
                      <a:pt x="358" y="612"/>
                    </a:lnTo>
                    <a:lnTo>
                      <a:pt x="364" y="606"/>
                    </a:lnTo>
                    <a:lnTo>
                      <a:pt x="358" y="612"/>
                    </a:lnTo>
                    <a:lnTo>
                      <a:pt x="364" y="623"/>
                    </a:lnTo>
                    <a:lnTo>
                      <a:pt x="364" y="623"/>
                    </a:lnTo>
                    <a:lnTo>
                      <a:pt x="370" y="629"/>
                    </a:lnTo>
                    <a:lnTo>
                      <a:pt x="381" y="635"/>
                    </a:lnTo>
                    <a:lnTo>
                      <a:pt x="381" y="623"/>
                    </a:lnTo>
                    <a:lnTo>
                      <a:pt x="376" y="623"/>
                    </a:lnTo>
                    <a:lnTo>
                      <a:pt x="376" y="635"/>
                    </a:lnTo>
                    <a:lnTo>
                      <a:pt x="376" y="641"/>
                    </a:lnTo>
                    <a:lnTo>
                      <a:pt x="376" y="641"/>
                    </a:lnTo>
                    <a:lnTo>
                      <a:pt x="381" y="652"/>
                    </a:lnTo>
                    <a:lnTo>
                      <a:pt x="387" y="646"/>
                    </a:lnTo>
                    <a:lnTo>
                      <a:pt x="381" y="646"/>
                    </a:lnTo>
                    <a:lnTo>
                      <a:pt x="376" y="675"/>
                    </a:lnTo>
                    <a:lnTo>
                      <a:pt x="376" y="710"/>
                    </a:lnTo>
                    <a:lnTo>
                      <a:pt x="370" y="750"/>
                    </a:lnTo>
                    <a:lnTo>
                      <a:pt x="370" y="796"/>
                    </a:lnTo>
                    <a:lnTo>
                      <a:pt x="364" y="848"/>
                    </a:lnTo>
                    <a:lnTo>
                      <a:pt x="364" y="894"/>
                    </a:lnTo>
                    <a:lnTo>
                      <a:pt x="364" y="900"/>
                    </a:lnTo>
                    <a:lnTo>
                      <a:pt x="364" y="900"/>
                    </a:lnTo>
                    <a:lnTo>
                      <a:pt x="370" y="923"/>
                    </a:lnTo>
                    <a:lnTo>
                      <a:pt x="376" y="918"/>
                    </a:lnTo>
                    <a:lnTo>
                      <a:pt x="370" y="918"/>
                    </a:lnTo>
                    <a:lnTo>
                      <a:pt x="370" y="941"/>
                    </a:lnTo>
                    <a:lnTo>
                      <a:pt x="370" y="946"/>
                    </a:lnTo>
                    <a:lnTo>
                      <a:pt x="370" y="946"/>
                    </a:lnTo>
                    <a:lnTo>
                      <a:pt x="376" y="964"/>
                    </a:lnTo>
                    <a:lnTo>
                      <a:pt x="381" y="987"/>
                    </a:lnTo>
                    <a:lnTo>
                      <a:pt x="381" y="987"/>
                    </a:lnTo>
                    <a:lnTo>
                      <a:pt x="381" y="987"/>
                    </a:lnTo>
                    <a:lnTo>
                      <a:pt x="387" y="993"/>
                    </a:lnTo>
                    <a:lnTo>
                      <a:pt x="393" y="998"/>
                    </a:lnTo>
                    <a:lnTo>
                      <a:pt x="393" y="998"/>
                    </a:lnTo>
                    <a:lnTo>
                      <a:pt x="410" y="998"/>
                    </a:lnTo>
                    <a:lnTo>
                      <a:pt x="410" y="987"/>
                    </a:lnTo>
                    <a:lnTo>
                      <a:pt x="410" y="998"/>
                    </a:lnTo>
                    <a:lnTo>
                      <a:pt x="428" y="1004"/>
                    </a:lnTo>
                    <a:lnTo>
                      <a:pt x="428" y="1004"/>
                    </a:lnTo>
                    <a:lnTo>
                      <a:pt x="428" y="1004"/>
                    </a:lnTo>
                    <a:lnTo>
                      <a:pt x="445" y="1004"/>
                    </a:lnTo>
                    <a:lnTo>
                      <a:pt x="491" y="1004"/>
                    </a:lnTo>
                    <a:lnTo>
                      <a:pt x="537" y="1004"/>
                    </a:lnTo>
                    <a:lnTo>
                      <a:pt x="595" y="998"/>
                    </a:lnTo>
                    <a:lnTo>
                      <a:pt x="647" y="998"/>
                    </a:lnTo>
                    <a:lnTo>
                      <a:pt x="704" y="993"/>
                    </a:lnTo>
                    <a:lnTo>
                      <a:pt x="756" y="993"/>
                    </a:lnTo>
                    <a:lnTo>
                      <a:pt x="768" y="993"/>
                    </a:lnTo>
                    <a:close/>
                    <a:moveTo>
                      <a:pt x="756" y="975"/>
                    </a:moveTo>
                    <a:lnTo>
                      <a:pt x="704" y="975"/>
                    </a:lnTo>
                    <a:lnTo>
                      <a:pt x="647" y="981"/>
                    </a:lnTo>
                    <a:lnTo>
                      <a:pt x="595" y="981"/>
                    </a:lnTo>
                    <a:lnTo>
                      <a:pt x="537" y="987"/>
                    </a:lnTo>
                    <a:lnTo>
                      <a:pt x="491" y="987"/>
                    </a:lnTo>
                    <a:lnTo>
                      <a:pt x="445" y="987"/>
                    </a:lnTo>
                    <a:lnTo>
                      <a:pt x="428" y="987"/>
                    </a:lnTo>
                    <a:lnTo>
                      <a:pt x="428" y="993"/>
                    </a:lnTo>
                    <a:lnTo>
                      <a:pt x="433" y="987"/>
                    </a:lnTo>
                    <a:lnTo>
                      <a:pt x="416" y="981"/>
                    </a:lnTo>
                    <a:lnTo>
                      <a:pt x="416" y="981"/>
                    </a:lnTo>
                    <a:lnTo>
                      <a:pt x="410" y="981"/>
                    </a:lnTo>
                    <a:lnTo>
                      <a:pt x="393" y="981"/>
                    </a:lnTo>
                    <a:lnTo>
                      <a:pt x="393" y="987"/>
                    </a:lnTo>
                    <a:lnTo>
                      <a:pt x="399" y="981"/>
                    </a:lnTo>
                    <a:lnTo>
                      <a:pt x="393" y="975"/>
                    </a:lnTo>
                    <a:lnTo>
                      <a:pt x="387" y="981"/>
                    </a:lnTo>
                    <a:lnTo>
                      <a:pt x="399" y="981"/>
                    </a:lnTo>
                    <a:lnTo>
                      <a:pt x="393" y="958"/>
                    </a:lnTo>
                    <a:lnTo>
                      <a:pt x="387" y="941"/>
                    </a:lnTo>
                    <a:lnTo>
                      <a:pt x="376" y="941"/>
                    </a:lnTo>
                    <a:lnTo>
                      <a:pt x="387" y="941"/>
                    </a:lnTo>
                    <a:lnTo>
                      <a:pt x="387" y="918"/>
                    </a:lnTo>
                    <a:lnTo>
                      <a:pt x="387" y="918"/>
                    </a:lnTo>
                    <a:lnTo>
                      <a:pt x="387" y="918"/>
                    </a:lnTo>
                    <a:lnTo>
                      <a:pt x="381" y="894"/>
                    </a:lnTo>
                    <a:lnTo>
                      <a:pt x="370" y="894"/>
                    </a:lnTo>
                    <a:lnTo>
                      <a:pt x="381" y="894"/>
                    </a:lnTo>
                    <a:lnTo>
                      <a:pt x="381" y="848"/>
                    </a:lnTo>
                    <a:lnTo>
                      <a:pt x="387" y="796"/>
                    </a:lnTo>
                    <a:lnTo>
                      <a:pt x="387" y="750"/>
                    </a:lnTo>
                    <a:lnTo>
                      <a:pt x="393" y="710"/>
                    </a:lnTo>
                    <a:lnTo>
                      <a:pt x="393" y="675"/>
                    </a:lnTo>
                    <a:lnTo>
                      <a:pt x="399" y="646"/>
                    </a:lnTo>
                    <a:lnTo>
                      <a:pt x="399" y="646"/>
                    </a:lnTo>
                    <a:lnTo>
                      <a:pt x="399" y="646"/>
                    </a:lnTo>
                    <a:lnTo>
                      <a:pt x="393" y="635"/>
                    </a:lnTo>
                    <a:lnTo>
                      <a:pt x="381" y="635"/>
                    </a:lnTo>
                    <a:lnTo>
                      <a:pt x="393" y="635"/>
                    </a:lnTo>
                    <a:lnTo>
                      <a:pt x="393" y="623"/>
                    </a:lnTo>
                    <a:lnTo>
                      <a:pt x="393" y="618"/>
                    </a:lnTo>
                    <a:lnTo>
                      <a:pt x="387" y="618"/>
                    </a:lnTo>
                    <a:lnTo>
                      <a:pt x="376" y="612"/>
                    </a:lnTo>
                    <a:lnTo>
                      <a:pt x="370" y="618"/>
                    </a:lnTo>
                    <a:lnTo>
                      <a:pt x="381" y="618"/>
                    </a:lnTo>
                    <a:lnTo>
                      <a:pt x="376" y="606"/>
                    </a:lnTo>
                    <a:lnTo>
                      <a:pt x="376" y="606"/>
                    </a:lnTo>
                    <a:lnTo>
                      <a:pt x="370" y="600"/>
                    </a:lnTo>
                    <a:lnTo>
                      <a:pt x="358" y="589"/>
                    </a:lnTo>
                    <a:lnTo>
                      <a:pt x="352" y="583"/>
                    </a:lnTo>
                    <a:lnTo>
                      <a:pt x="352" y="583"/>
                    </a:lnTo>
                    <a:lnTo>
                      <a:pt x="352" y="583"/>
                    </a:lnTo>
                    <a:lnTo>
                      <a:pt x="341" y="577"/>
                    </a:lnTo>
                    <a:lnTo>
                      <a:pt x="324" y="571"/>
                    </a:lnTo>
                    <a:lnTo>
                      <a:pt x="324" y="571"/>
                    </a:lnTo>
                    <a:lnTo>
                      <a:pt x="318" y="571"/>
                    </a:lnTo>
                    <a:lnTo>
                      <a:pt x="306" y="571"/>
                    </a:lnTo>
                    <a:lnTo>
                      <a:pt x="306" y="577"/>
                    </a:lnTo>
                    <a:lnTo>
                      <a:pt x="312" y="571"/>
                    </a:lnTo>
                    <a:lnTo>
                      <a:pt x="301" y="566"/>
                    </a:lnTo>
                    <a:lnTo>
                      <a:pt x="301" y="566"/>
                    </a:lnTo>
                    <a:lnTo>
                      <a:pt x="295" y="566"/>
                    </a:lnTo>
                    <a:lnTo>
                      <a:pt x="277" y="566"/>
                    </a:lnTo>
                    <a:lnTo>
                      <a:pt x="266" y="566"/>
                    </a:lnTo>
                    <a:lnTo>
                      <a:pt x="266" y="566"/>
                    </a:lnTo>
                    <a:lnTo>
                      <a:pt x="266" y="566"/>
                    </a:lnTo>
                    <a:lnTo>
                      <a:pt x="254" y="571"/>
                    </a:lnTo>
                    <a:lnTo>
                      <a:pt x="243" y="577"/>
                    </a:lnTo>
                    <a:lnTo>
                      <a:pt x="231" y="583"/>
                    </a:lnTo>
                    <a:lnTo>
                      <a:pt x="220" y="589"/>
                    </a:lnTo>
                    <a:lnTo>
                      <a:pt x="214" y="589"/>
                    </a:lnTo>
                    <a:lnTo>
                      <a:pt x="214" y="594"/>
                    </a:lnTo>
                    <a:lnTo>
                      <a:pt x="208" y="606"/>
                    </a:lnTo>
                    <a:lnTo>
                      <a:pt x="214" y="606"/>
                    </a:lnTo>
                    <a:lnTo>
                      <a:pt x="214" y="600"/>
                    </a:lnTo>
                    <a:lnTo>
                      <a:pt x="202" y="606"/>
                    </a:lnTo>
                    <a:lnTo>
                      <a:pt x="185" y="612"/>
                    </a:lnTo>
                    <a:lnTo>
                      <a:pt x="174" y="618"/>
                    </a:lnTo>
                    <a:lnTo>
                      <a:pt x="174" y="623"/>
                    </a:lnTo>
                    <a:lnTo>
                      <a:pt x="174" y="618"/>
                    </a:lnTo>
                    <a:lnTo>
                      <a:pt x="156" y="618"/>
                    </a:lnTo>
                    <a:lnTo>
                      <a:pt x="133" y="618"/>
                    </a:lnTo>
                    <a:lnTo>
                      <a:pt x="133" y="623"/>
                    </a:lnTo>
                    <a:lnTo>
                      <a:pt x="139" y="618"/>
                    </a:lnTo>
                    <a:lnTo>
                      <a:pt x="122" y="612"/>
                    </a:lnTo>
                    <a:lnTo>
                      <a:pt x="104" y="606"/>
                    </a:lnTo>
                    <a:lnTo>
                      <a:pt x="87" y="600"/>
                    </a:lnTo>
                    <a:lnTo>
                      <a:pt x="70" y="594"/>
                    </a:lnTo>
                    <a:lnTo>
                      <a:pt x="52" y="583"/>
                    </a:lnTo>
                    <a:lnTo>
                      <a:pt x="47" y="589"/>
                    </a:lnTo>
                    <a:lnTo>
                      <a:pt x="58" y="589"/>
                    </a:lnTo>
                    <a:lnTo>
                      <a:pt x="47" y="571"/>
                    </a:lnTo>
                    <a:lnTo>
                      <a:pt x="47" y="571"/>
                    </a:lnTo>
                    <a:lnTo>
                      <a:pt x="41" y="566"/>
                    </a:lnTo>
                    <a:lnTo>
                      <a:pt x="35" y="560"/>
                    </a:lnTo>
                    <a:lnTo>
                      <a:pt x="29" y="566"/>
                    </a:lnTo>
                    <a:lnTo>
                      <a:pt x="41" y="566"/>
                    </a:lnTo>
                    <a:lnTo>
                      <a:pt x="35" y="554"/>
                    </a:lnTo>
                    <a:lnTo>
                      <a:pt x="35" y="554"/>
                    </a:lnTo>
                    <a:lnTo>
                      <a:pt x="29" y="548"/>
                    </a:lnTo>
                    <a:lnTo>
                      <a:pt x="24" y="543"/>
                    </a:lnTo>
                    <a:lnTo>
                      <a:pt x="18" y="548"/>
                    </a:lnTo>
                    <a:lnTo>
                      <a:pt x="29" y="548"/>
                    </a:lnTo>
                    <a:lnTo>
                      <a:pt x="29" y="537"/>
                    </a:lnTo>
                    <a:lnTo>
                      <a:pt x="29" y="537"/>
                    </a:lnTo>
                    <a:lnTo>
                      <a:pt x="24" y="531"/>
                    </a:lnTo>
                    <a:lnTo>
                      <a:pt x="18" y="525"/>
                    </a:lnTo>
                    <a:lnTo>
                      <a:pt x="12" y="531"/>
                    </a:lnTo>
                    <a:lnTo>
                      <a:pt x="24" y="531"/>
                    </a:lnTo>
                    <a:lnTo>
                      <a:pt x="24" y="519"/>
                    </a:lnTo>
                    <a:lnTo>
                      <a:pt x="24" y="519"/>
                    </a:lnTo>
                    <a:lnTo>
                      <a:pt x="24" y="519"/>
                    </a:lnTo>
                    <a:lnTo>
                      <a:pt x="18" y="508"/>
                    </a:lnTo>
                    <a:lnTo>
                      <a:pt x="6" y="508"/>
                    </a:lnTo>
                    <a:lnTo>
                      <a:pt x="18" y="508"/>
                    </a:lnTo>
                    <a:lnTo>
                      <a:pt x="18" y="496"/>
                    </a:lnTo>
                    <a:lnTo>
                      <a:pt x="18" y="485"/>
                    </a:lnTo>
                    <a:lnTo>
                      <a:pt x="6" y="485"/>
                    </a:lnTo>
                    <a:lnTo>
                      <a:pt x="18" y="491"/>
                    </a:lnTo>
                    <a:lnTo>
                      <a:pt x="24" y="473"/>
                    </a:lnTo>
                    <a:lnTo>
                      <a:pt x="24" y="473"/>
                    </a:lnTo>
                    <a:lnTo>
                      <a:pt x="24" y="468"/>
                    </a:lnTo>
                    <a:lnTo>
                      <a:pt x="24" y="456"/>
                    </a:lnTo>
                    <a:lnTo>
                      <a:pt x="12" y="456"/>
                    </a:lnTo>
                    <a:lnTo>
                      <a:pt x="24" y="462"/>
                    </a:lnTo>
                    <a:lnTo>
                      <a:pt x="29" y="450"/>
                    </a:lnTo>
                    <a:lnTo>
                      <a:pt x="35" y="439"/>
                    </a:lnTo>
                    <a:lnTo>
                      <a:pt x="35" y="439"/>
                    </a:lnTo>
                    <a:lnTo>
                      <a:pt x="35" y="433"/>
                    </a:lnTo>
                    <a:lnTo>
                      <a:pt x="35" y="421"/>
                    </a:lnTo>
                    <a:lnTo>
                      <a:pt x="24" y="421"/>
                    </a:lnTo>
                    <a:lnTo>
                      <a:pt x="29" y="427"/>
                    </a:lnTo>
                    <a:lnTo>
                      <a:pt x="35" y="421"/>
                    </a:lnTo>
                    <a:lnTo>
                      <a:pt x="41" y="421"/>
                    </a:lnTo>
                    <a:lnTo>
                      <a:pt x="41" y="421"/>
                    </a:lnTo>
                    <a:lnTo>
                      <a:pt x="47" y="410"/>
                    </a:lnTo>
                    <a:lnTo>
                      <a:pt x="35" y="404"/>
                    </a:lnTo>
                    <a:lnTo>
                      <a:pt x="41" y="416"/>
                    </a:lnTo>
                    <a:lnTo>
                      <a:pt x="58" y="404"/>
                    </a:lnTo>
                    <a:lnTo>
                      <a:pt x="58" y="404"/>
                    </a:lnTo>
                    <a:lnTo>
                      <a:pt x="58" y="398"/>
                    </a:lnTo>
                    <a:lnTo>
                      <a:pt x="75" y="381"/>
                    </a:lnTo>
                    <a:lnTo>
                      <a:pt x="70" y="375"/>
                    </a:lnTo>
                    <a:lnTo>
                      <a:pt x="75" y="387"/>
                    </a:lnTo>
                    <a:lnTo>
                      <a:pt x="93" y="375"/>
                    </a:lnTo>
                    <a:lnTo>
                      <a:pt x="110" y="369"/>
                    </a:lnTo>
                    <a:lnTo>
                      <a:pt x="127" y="364"/>
                    </a:lnTo>
                    <a:lnTo>
                      <a:pt x="122" y="352"/>
                    </a:lnTo>
                    <a:lnTo>
                      <a:pt x="122" y="364"/>
                    </a:lnTo>
                    <a:lnTo>
                      <a:pt x="145" y="364"/>
                    </a:lnTo>
                    <a:lnTo>
                      <a:pt x="162" y="364"/>
                    </a:lnTo>
                    <a:lnTo>
                      <a:pt x="179" y="364"/>
                    </a:lnTo>
                    <a:lnTo>
                      <a:pt x="179" y="352"/>
                    </a:lnTo>
                    <a:lnTo>
                      <a:pt x="179" y="364"/>
                    </a:lnTo>
                    <a:lnTo>
                      <a:pt x="197" y="369"/>
                    </a:lnTo>
                    <a:lnTo>
                      <a:pt x="214" y="375"/>
                    </a:lnTo>
                    <a:lnTo>
                      <a:pt x="231" y="387"/>
                    </a:lnTo>
                    <a:lnTo>
                      <a:pt x="243" y="393"/>
                    </a:lnTo>
                    <a:lnTo>
                      <a:pt x="243" y="381"/>
                    </a:lnTo>
                    <a:lnTo>
                      <a:pt x="237" y="387"/>
                    </a:lnTo>
                    <a:lnTo>
                      <a:pt x="243" y="398"/>
                    </a:lnTo>
                    <a:lnTo>
                      <a:pt x="243" y="398"/>
                    </a:lnTo>
                    <a:lnTo>
                      <a:pt x="243" y="398"/>
                    </a:lnTo>
                    <a:lnTo>
                      <a:pt x="249" y="404"/>
                    </a:lnTo>
                    <a:lnTo>
                      <a:pt x="254" y="410"/>
                    </a:lnTo>
                    <a:lnTo>
                      <a:pt x="254" y="410"/>
                    </a:lnTo>
                    <a:lnTo>
                      <a:pt x="266" y="416"/>
                    </a:lnTo>
                    <a:lnTo>
                      <a:pt x="277" y="421"/>
                    </a:lnTo>
                    <a:lnTo>
                      <a:pt x="277" y="421"/>
                    </a:lnTo>
                    <a:lnTo>
                      <a:pt x="277" y="421"/>
                    </a:lnTo>
                    <a:lnTo>
                      <a:pt x="289" y="421"/>
                    </a:lnTo>
                    <a:lnTo>
                      <a:pt x="289" y="410"/>
                    </a:lnTo>
                    <a:lnTo>
                      <a:pt x="289" y="421"/>
                    </a:lnTo>
                    <a:lnTo>
                      <a:pt x="301" y="427"/>
                    </a:lnTo>
                    <a:lnTo>
                      <a:pt x="301" y="427"/>
                    </a:lnTo>
                    <a:lnTo>
                      <a:pt x="301" y="427"/>
                    </a:lnTo>
                    <a:lnTo>
                      <a:pt x="312" y="427"/>
                    </a:lnTo>
                    <a:lnTo>
                      <a:pt x="324" y="427"/>
                    </a:lnTo>
                    <a:lnTo>
                      <a:pt x="335" y="427"/>
                    </a:lnTo>
                    <a:lnTo>
                      <a:pt x="347" y="427"/>
                    </a:lnTo>
                    <a:lnTo>
                      <a:pt x="358" y="427"/>
                    </a:lnTo>
                    <a:lnTo>
                      <a:pt x="364" y="427"/>
                    </a:lnTo>
                    <a:lnTo>
                      <a:pt x="364" y="427"/>
                    </a:lnTo>
                    <a:lnTo>
                      <a:pt x="376" y="421"/>
                    </a:lnTo>
                    <a:lnTo>
                      <a:pt x="393" y="416"/>
                    </a:lnTo>
                    <a:lnTo>
                      <a:pt x="393" y="416"/>
                    </a:lnTo>
                    <a:lnTo>
                      <a:pt x="393" y="410"/>
                    </a:lnTo>
                    <a:lnTo>
                      <a:pt x="399" y="404"/>
                    </a:lnTo>
                    <a:lnTo>
                      <a:pt x="393" y="398"/>
                    </a:lnTo>
                    <a:lnTo>
                      <a:pt x="399" y="410"/>
                    </a:lnTo>
                    <a:lnTo>
                      <a:pt x="416" y="404"/>
                    </a:lnTo>
                    <a:lnTo>
                      <a:pt x="416" y="398"/>
                    </a:lnTo>
                    <a:lnTo>
                      <a:pt x="422" y="398"/>
                    </a:lnTo>
                    <a:lnTo>
                      <a:pt x="428" y="387"/>
                    </a:lnTo>
                    <a:lnTo>
                      <a:pt x="416" y="381"/>
                    </a:lnTo>
                    <a:lnTo>
                      <a:pt x="416" y="393"/>
                    </a:lnTo>
                    <a:lnTo>
                      <a:pt x="422" y="393"/>
                    </a:lnTo>
                    <a:lnTo>
                      <a:pt x="428" y="393"/>
                    </a:lnTo>
                    <a:lnTo>
                      <a:pt x="428" y="387"/>
                    </a:lnTo>
                    <a:lnTo>
                      <a:pt x="433" y="381"/>
                    </a:lnTo>
                    <a:lnTo>
                      <a:pt x="439" y="381"/>
                    </a:lnTo>
                    <a:lnTo>
                      <a:pt x="439" y="375"/>
                    </a:lnTo>
                    <a:lnTo>
                      <a:pt x="439" y="364"/>
                    </a:lnTo>
                    <a:lnTo>
                      <a:pt x="428" y="364"/>
                    </a:lnTo>
                    <a:lnTo>
                      <a:pt x="433" y="369"/>
                    </a:lnTo>
                    <a:lnTo>
                      <a:pt x="439" y="364"/>
                    </a:lnTo>
                    <a:lnTo>
                      <a:pt x="445" y="364"/>
                    </a:lnTo>
                    <a:lnTo>
                      <a:pt x="445" y="364"/>
                    </a:lnTo>
                    <a:lnTo>
                      <a:pt x="451" y="346"/>
                    </a:lnTo>
                    <a:lnTo>
                      <a:pt x="451" y="346"/>
                    </a:lnTo>
                    <a:lnTo>
                      <a:pt x="451" y="341"/>
                    </a:lnTo>
                    <a:lnTo>
                      <a:pt x="451" y="323"/>
                    </a:lnTo>
                    <a:lnTo>
                      <a:pt x="451" y="300"/>
                    </a:lnTo>
                    <a:lnTo>
                      <a:pt x="451" y="277"/>
                    </a:lnTo>
                    <a:lnTo>
                      <a:pt x="445" y="248"/>
                    </a:lnTo>
                    <a:lnTo>
                      <a:pt x="445" y="225"/>
                    </a:lnTo>
                    <a:lnTo>
                      <a:pt x="445" y="225"/>
                    </a:lnTo>
                    <a:lnTo>
                      <a:pt x="445" y="225"/>
                    </a:lnTo>
                    <a:lnTo>
                      <a:pt x="433" y="173"/>
                    </a:lnTo>
                    <a:lnTo>
                      <a:pt x="422" y="121"/>
                    </a:lnTo>
                    <a:lnTo>
                      <a:pt x="404" y="81"/>
                    </a:lnTo>
                    <a:lnTo>
                      <a:pt x="393" y="81"/>
                    </a:lnTo>
                    <a:lnTo>
                      <a:pt x="404" y="81"/>
                    </a:lnTo>
                    <a:lnTo>
                      <a:pt x="399" y="46"/>
                    </a:lnTo>
                    <a:lnTo>
                      <a:pt x="387" y="46"/>
                    </a:lnTo>
                    <a:lnTo>
                      <a:pt x="387" y="58"/>
                    </a:lnTo>
                    <a:lnTo>
                      <a:pt x="416" y="52"/>
                    </a:lnTo>
                    <a:lnTo>
                      <a:pt x="456" y="46"/>
                    </a:lnTo>
                    <a:lnTo>
                      <a:pt x="503" y="41"/>
                    </a:lnTo>
                    <a:lnTo>
                      <a:pt x="554" y="41"/>
                    </a:lnTo>
                    <a:lnTo>
                      <a:pt x="601" y="35"/>
                    </a:lnTo>
                    <a:lnTo>
                      <a:pt x="647" y="35"/>
                    </a:lnTo>
                    <a:lnTo>
                      <a:pt x="687" y="41"/>
                    </a:lnTo>
                    <a:lnTo>
                      <a:pt x="716" y="41"/>
                    </a:lnTo>
                    <a:lnTo>
                      <a:pt x="745" y="46"/>
                    </a:lnTo>
                    <a:lnTo>
                      <a:pt x="745" y="35"/>
                    </a:lnTo>
                    <a:lnTo>
                      <a:pt x="745" y="46"/>
                    </a:lnTo>
                    <a:lnTo>
                      <a:pt x="768" y="58"/>
                    </a:lnTo>
                    <a:lnTo>
                      <a:pt x="785" y="64"/>
                    </a:lnTo>
                    <a:lnTo>
                      <a:pt x="803" y="75"/>
                    </a:lnTo>
                    <a:lnTo>
                      <a:pt x="820" y="81"/>
                    </a:lnTo>
                    <a:lnTo>
                      <a:pt x="820" y="69"/>
                    </a:lnTo>
                    <a:lnTo>
                      <a:pt x="814" y="75"/>
                    </a:lnTo>
                    <a:lnTo>
                      <a:pt x="826" y="87"/>
                    </a:lnTo>
                    <a:lnTo>
                      <a:pt x="831" y="81"/>
                    </a:lnTo>
                    <a:lnTo>
                      <a:pt x="826" y="87"/>
                    </a:lnTo>
                    <a:lnTo>
                      <a:pt x="831" y="98"/>
                    </a:lnTo>
                    <a:lnTo>
                      <a:pt x="837" y="110"/>
                    </a:lnTo>
                    <a:lnTo>
                      <a:pt x="843" y="121"/>
                    </a:lnTo>
                    <a:lnTo>
                      <a:pt x="849" y="116"/>
                    </a:lnTo>
                    <a:lnTo>
                      <a:pt x="843" y="116"/>
                    </a:lnTo>
                    <a:lnTo>
                      <a:pt x="843" y="127"/>
                    </a:lnTo>
                    <a:lnTo>
                      <a:pt x="843" y="139"/>
                    </a:lnTo>
                    <a:lnTo>
                      <a:pt x="849" y="139"/>
                    </a:lnTo>
                    <a:lnTo>
                      <a:pt x="843" y="139"/>
                    </a:lnTo>
                    <a:lnTo>
                      <a:pt x="837" y="150"/>
                    </a:lnTo>
                    <a:lnTo>
                      <a:pt x="831" y="162"/>
                    </a:lnTo>
                    <a:lnTo>
                      <a:pt x="826" y="173"/>
                    </a:lnTo>
                    <a:lnTo>
                      <a:pt x="820" y="185"/>
                    </a:lnTo>
                    <a:lnTo>
                      <a:pt x="826" y="185"/>
                    </a:lnTo>
                    <a:lnTo>
                      <a:pt x="820" y="179"/>
                    </a:lnTo>
                    <a:lnTo>
                      <a:pt x="808" y="191"/>
                    </a:lnTo>
                    <a:lnTo>
                      <a:pt x="797" y="202"/>
                    </a:lnTo>
                    <a:lnTo>
                      <a:pt x="797" y="208"/>
                    </a:lnTo>
                    <a:lnTo>
                      <a:pt x="797" y="208"/>
                    </a:lnTo>
                    <a:lnTo>
                      <a:pt x="791" y="225"/>
                    </a:lnTo>
                    <a:lnTo>
                      <a:pt x="797" y="225"/>
                    </a:lnTo>
                    <a:lnTo>
                      <a:pt x="791" y="219"/>
                    </a:lnTo>
                    <a:lnTo>
                      <a:pt x="780" y="231"/>
                    </a:lnTo>
                    <a:lnTo>
                      <a:pt x="780" y="237"/>
                    </a:lnTo>
                    <a:lnTo>
                      <a:pt x="780" y="237"/>
                    </a:lnTo>
                    <a:lnTo>
                      <a:pt x="780" y="260"/>
                    </a:lnTo>
                    <a:lnTo>
                      <a:pt x="785" y="260"/>
                    </a:lnTo>
                    <a:lnTo>
                      <a:pt x="780" y="260"/>
                    </a:lnTo>
                    <a:lnTo>
                      <a:pt x="774" y="277"/>
                    </a:lnTo>
                    <a:lnTo>
                      <a:pt x="768" y="277"/>
                    </a:lnTo>
                    <a:lnTo>
                      <a:pt x="774" y="283"/>
                    </a:lnTo>
                    <a:lnTo>
                      <a:pt x="780" y="300"/>
                    </a:lnTo>
                    <a:lnTo>
                      <a:pt x="785" y="294"/>
                    </a:lnTo>
                    <a:lnTo>
                      <a:pt x="780" y="294"/>
                    </a:lnTo>
                    <a:lnTo>
                      <a:pt x="780" y="318"/>
                    </a:lnTo>
                    <a:lnTo>
                      <a:pt x="780" y="323"/>
                    </a:lnTo>
                    <a:lnTo>
                      <a:pt x="780" y="323"/>
                    </a:lnTo>
                    <a:lnTo>
                      <a:pt x="785" y="341"/>
                    </a:lnTo>
                    <a:lnTo>
                      <a:pt x="791" y="358"/>
                    </a:lnTo>
                    <a:lnTo>
                      <a:pt x="803" y="375"/>
                    </a:lnTo>
                    <a:lnTo>
                      <a:pt x="803" y="375"/>
                    </a:lnTo>
                    <a:lnTo>
                      <a:pt x="803" y="375"/>
                    </a:lnTo>
                    <a:lnTo>
                      <a:pt x="814" y="387"/>
                    </a:lnTo>
                    <a:lnTo>
                      <a:pt x="820" y="393"/>
                    </a:lnTo>
                    <a:lnTo>
                      <a:pt x="820" y="393"/>
                    </a:lnTo>
                    <a:lnTo>
                      <a:pt x="837" y="404"/>
                    </a:lnTo>
                    <a:lnTo>
                      <a:pt x="849" y="410"/>
                    </a:lnTo>
                    <a:lnTo>
                      <a:pt x="849" y="398"/>
                    </a:lnTo>
                    <a:lnTo>
                      <a:pt x="843" y="404"/>
                    </a:lnTo>
                    <a:lnTo>
                      <a:pt x="849" y="410"/>
                    </a:lnTo>
                    <a:lnTo>
                      <a:pt x="855" y="416"/>
                    </a:lnTo>
                    <a:lnTo>
                      <a:pt x="855" y="416"/>
                    </a:lnTo>
                    <a:lnTo>
                      <a:pt x="866" y="421"/>
                    </a:lnTo>
                    <a:lnTo>
                      <a:pt x="878" y="427"/>
                    </a:lnTo>
                    <a:lnTo>
                      <a:pt x="878" y="427"/>
                    </a:lnTo>
                    <a:lnTo>
                      <a:pt x="878" y="427"/>
                    </a:lnTo>
                    <a:lnTo>
                      <a:pt x="889" y="427"/>
                    </a:lnTo>
                    <a:lnTo>
                      <a:pt x="889" y="416"/>
                    </a:lnTo>
                    <a:lnTo>
                      <a:pt x="889" y="427"/>
                    </a:lnTo>
                    <a:lnTo>
                      <a:pt x="901" y="433"/>
                    </a:lnTo>
                    <a:lnTo>
                      <a:pt x="901" y="433"/>
                    </a:lnTo>
                    <a:lnTo>
                      <a:pt x="901" y="433"/>
                    </a:lnTo>
                    <a:lnTo>
                      <a:pt x="912" y="433"/>
                    </a:lnTo>
                    <a:lnTo>
                      <a:pt x="924" y="433"/>
                    </a:lnTo>
                    <a:lnTo>
                      <a:pt x="947" y="427"/>
                    </a:lnTo>
                    <a:lnTo>
                      <a:pt x="970" y="421"/>
                    </a:lnTo>
                    <a:lnTo>
                      <a:pt x="993" y="416"/>
                    </a:lnTo>
                    <a:lnTo>
                      <a:pt x="999" y="410"/>
                    </a:lnTo>
                    <a:lnTo>
                      <a:pt x="999" y="416"/>
                    </a:lnTo>
                    <a:lnTo>
                      <a:pt x="1016" y="404"/>
                    </a:lnTo>
                    <a:lnTo>
                      <a:pt x="1033" y="393"/>
                    </a:lnTo>
                    <a:lnTo>
                      <a:pt x="1033" y="393"/>
                    </a:lnTo>
                    <a:lnTo>
                      <a:pt x="1033" y="387"/>
                    </a:lnTo>
                    <a:lnTo>
                      <a:pt x="1045" y="375"/>
                    </a:lnTo>
                    <a:lnTo>
                      <a:pt x="1051" y="375"/>
                    </a:lnTo>
                    <a:lnTo>
                      <a:pt x="1051" y="375"/>
                    </a:lnTo>
                    <a:lnTo>
                      <a:pt x="1062" y="358"/>
                    </a:lnTo>
                    <a:lnTo>
                      <a:pt x="1068" y="341"/>
                    </a:lnTo>
                    <a:lnTo>
                      <a:pt x="1057" y="335"/>
                    </a:lnTo>
                    <a:lnTo>
                      <a:pt x="1062" y="341"/>
                    </a:lnTo>
                    <a:lnTo>
                      <a:pt x="1074" y="329"/>
                    </a:lnTo>
                    <a:lnTo>
                      <a:pt x="1080" y="329"/>
                    </a:lnTo>
                    <a:lnTo>
                      <a:pt x="1080" y="323"/>
                    </a:lnTo>
                    <a:lnTo>
                      <a:pt x="1080" y="306"/>
                    </a:lnTo>
                    <a:lnTo>
                      <a:pt x="1080" y="289"/>
                    </a:lnTo>
                    <a:lnTo>
                      <a:pt x="1080" y="266"/>
                    </a:lnTo>
                    <a:lnTo>
                      <a:pt x="1080" y="266"/>
                    </a:lnTo>
                    <a:lnTo>
                      <a:pt x="1080" y="266"/>
                    </a:lnTo>
                    <a:lnTo>
                      <a:pt x="1074" y="254"/>
                    </a:lnTo>
                    <a:lnTo>
                      <a:pt x="1062" y="231"/>
                    </a:lnTo>
                    <a:lnTo>
                      <a:pt x="1057" y="214"/>
                    </a:lnTo>
                    <a:lnTo>
                      <a:pt x="1051" y="208"/>
                    </a:lnTo>
                    <a:lnTo>
                      <a:pt x="1051" y="208"/>
                    </a:lnTo>
                    <a:lnTo>
                      <a:pt x="1033" y="196"/>
                    </a:lnTo>
                    <a:lnTo>
                      <a:pt x="1028" y="202"/>
                    </a:lnTo>
                    <a:lnTo>
                      <a:pt x="1033" y="196"/>
                    </a:lnTo>
                    <a:lnTo>
                      <a:pt x="1022" y="185"/>
                    </a:lnTo>
                    <a:lnTo>
                      <a:pt x="1016" y="191"/>
                    </a:lnTo>
                    <a:lnTo>
                      <a:pt x="1028" y="191"/>
                    </a:lnTo>
                    <a:lnTo>
                      <a:pt x="1016" y="173"/>
                    </a:lnTo>
                    <a:lnTo>
                      <a:pt x="1010" y="156"/>
                    </a:lnTo>
                    <a:lnTo>
                      <a:pt x="1005" y="139"/>
                    </a:lnTo>
                    <a:lnTo>
                      <a:pt x="999" y="127"/>
                    </a:lnTo>
                    <a:lnTo>
                      <a:pt x="987" y="127"/>
                    </a:lnTo>
                    <a:lnTo>
                      <a:pt x="999" y="127"/>
                    </a:lnTo>
                    <a:lnTo>
                      <a:pt x="999" y="110"/>
                    </a:lnTo>
                    <a:lnTo>
                      <a:pt x="999" y="92"/>
                    </a:lnTo>
                    <a:lnTo>
                      <a:pt x="987" y="92"/>
                    </a:lnTo>
                    <a:lnTo>
                      <a:pt x="999" y="98"/>
                    </a:lnTo>
                    <a:lnTo>
                      <a:pt x="1005" y="81"/>
                    </a:lnTo>
                    <a:lnTo>
                      <a:pt x="1010" y="69"/>
                    </a:lnTo>
                    <a:lnTo>
                      <a:pt x="1010" y="69"/>
                    </a:lnTo>
                    <a:lnTo>
                      <a:pt x="1010" y="64"/>
                    </a:lnTo>
                    <a:lnTo>
                      <a:pt x="1010" y="46"/>
                    </a:lnTo>
                    <a:lnTo>
                      <a:pt x="999" y="46"/>
                    </a:lnTo>
                    <a:lnTo>
                      <a:pt x="1005" y="52"/>
                    </a:lnTo>
                    <a:lnTo>
                      <a:pt x="1016" y="41"/>
                    </a:lnTo>
                    <a:lnTo>
                      <a:pt x="1022" y="35"/>
                    </a:lnTo>
                    <a:lnTo>
                      <a:pt x="1033" y="23"/>
                    </a:lnTo>
                    <a:lnTo>
                      <a:pt x="1028" y="17"/>
                    </a:lnTo>
                    <a:lnTo>
                      <a:pt x="1033" y="29"/>
                    </a:lnTo>
                    <a:lnTo>
                      <a:pt x="1045" y="23"/>
                    </a:lnTo>
                    <a:lnTo>
                      <a:pt x="1045" y="23"/>
                    </a:lnTo>
                    <a:lnTo>
                      <a:pt x="1045" y="17"/>
                    </a:lnTo>
                    <a:lnTo>
                      <a:pt x="1051" y="12"/>
                    </a:lnTo>
                    <a:lnTo>
                      <a:pt x="1045" y="6"/>
                    </a:lnTo>
                    <a:lnTo>
                      <a:pt x="1045" y="17"/>
                    </a:lnTo>
                    <a:lnTo>
                      <a:pt x="1057" y="17"/>
                    </a:lnTo>
                    <a:lnTo>
                      <a:pt x="1074" y="17"/>
                    </a:lnTo>
                    <a:lnTo>
                      <a:pt x="1097" y="23"/>
                    </a:lnTo>
                    <a:lnTo>
                      <a:pt x="1132" y="23"/>
                    </a:lnTo>
                    <a:lnTo>
                      <a:pt x="1172" y="29"/>
                    </a:lnTo>
                    <a:lnTo>
                      <a:pt x="1212" y="35"/>
                    </a:lnTo>
                    <a:lnTo>
                      <a:pt x="1258" y="35"/>
                    </a:lnTo>
                    <a:lnTo>
                      <a:pt x="1310" y="41"/>
                    </a:lnTo>
                    <a:lnTo>
                      <a:pt x="1362" y="41"/>
                    </a:lnTo>
                    <a:lnTo>
                      <a:pt x="1368" y="41"/>
                    </a:lnTo>
                    <a:lnTo>
                      <a:pt x="1368" y="29"/>
                    </a:lnTo>
                    <a:lnTo>
                      <a:pt x="1362" y="29"/>
                    </a:lnTo>
                    <a:lnTo>
                      <a:pt x="1357" y="64"/>
                    </a:lnTo>
                    <a:lnTo>
                      <a:pt x="1351" y="98"/>
                    </a:lnTo>
                    <a:lnTo>
                      <a:pt x="1345" y="144"/>
                    </a:lnTo>
                    <a:lnTo>
                      <a:pt x="1339" y="191"/>
                    </a:lnTo>
                    <a:lnTo>
                      <a:pt x="1333" y="237"/>
                    </a:lnTo>
                    <a:lnTo>
                      <a:pt x="1333" y="277"/>
                    </a:lnTo>
                    <a:lnTo>
                      <a:pt x="1333" y="312"/>
                    </a:lnTo>
                    <a:lnTo>
                      <a:pt x="1333" y="329"/>
                    </a:lnTo>
                    <a:lnTo>
                      <a:pt x="1333" y="335"/>
                    </a:lnTo>
                    <a:lnTo>
                      <a:pt x="1333" y="335"/>
                    </a:lnTo>
                    <a:lnTo>
                      <a:pt x="1339" y="346"/>
                    </a:lnTo>
                    <a:lnTo>
                      <a:pt x="1345" y="341"/>
                    </a:lnTo>
                    <a:lnTo>
                      <a:pt x="1339" y="341"/>
                    </a:lnTo>
                    <a:lnTo>
                      <a:pt x="1339" y="352"/>
                    </a:lnTo>
                    <a:lnTo>
                      <a:pt x="1339" y="358"/>
                    </a:lnTo>
                    <a:lnTo>
                      <a:pt x="1339" y="358"/>
                    </a:lnTo>
                    <a:lnTo>
                      <a:pt x="1351" y="369"/>
                    </a:lnTo>
                    <a:lnTo>
                      <a:pt x="1357" y="375"/>
                    </a:lnTo>
                    <a:lnTo>
                      <a:pt x="1357" y="375"/>
                    </a:lnTo>
                    <a:lnTo>
                      <a:pt x="1368" y="381"/>
                    </a:lnTo>
                    <a:lnTo>
                      <a:pt x="1368" y="369"/>
                    </a:lnTo>
                    <a:lnTo>
                      <a:pt x="1362" y="375"/>
                    </a:lnTo>
                    <a:lnTo>
                      <a:pt x="1374" y="387"/>
                    </a:lnTo>
                    <a:lnTo>
                      <a:pt x="1380" y="393"/>
                    </a:lnTo>
                    <a:lnTo>
                      <a:pt x="1380" y="393"/>
                    </a:lnTo>
                    <a:lnTo>
                      <a:pt x="1391" y="393"/>
                    </a:lnTo>
                    <a:lnTo>
                      <a:pt x="1391" y="381"/>
                    </a:lnTo>
                    <a:lnTo>
                      <a:pt x="1391" y="393"/>
                    </a:lnTo>
                    <a:lnTo>
                      <a:pt x="1409" y="398"/>
                    </a:lnTo>
                    <a:lnTo>
                      <a:pt x="1426" y="404"/>
                    </a:lnTo>
                    <a:lnTo>
                      <a:pt x="1426" y="404"/>
                    </a:lnTo>
                    <a:lnTo>
                      <a:pt x="1426" y="404"/>
                    </a:lnTo>
                    <a:lnTo>
                      <a:pt x="1437" y="404"/>
                    </a:lnTo>
                    <a:lnTo>
                      <a:pt x="1455" y="404"/>
                    </a:lnTo>
                    <a:lnTo>
                      <a:pt x="1472" y="404"/>
                    </a:lnTo>
                    <a:lnTo>
                      <a:pt x="1489" y="404"/>
                    </a:lnTo>
                    <a:lnTo>
                      <a:pt x="1495" y="404"/>
                    </a:lnTo>
                    <a:lnTo>
                      <a:pt x="1495" y="404"/>
                    </a:lnTo>
                    <a:lnTo>
                      <a:pt x="1507" y="398"/>
                    </a:lnTo>
                    <a:lnTo>
                      <a:pt x="1524" y="393"/>
                    </a:lnTo>
                    <a:lnTo>
                      <a:pt x="1535" y="387"/>
                    </a:lnTo>
                    <a:lnTo>
                      <a:pt x="1535" y="387"/>
                    </a:lnTo>
                    <a:lnTo>
                      <a:pt x="1535" y="381"/>
                    </a:lnTo>
                    <a:lnTo>
                      <a:pt x="1547" y="369"/>
                    </a:lnTo>
                    <a:lnTo>
                      <a:pt x="1541" y="364"/>
                    </a:lnTo>
                    <a:lnTo>
                      <a:pt x="1547" y="375"/>
                    </a:lnTo>
                    <a:lnTo>
                      <a:pt x="1559" y="369"/>
                    </a:lnTo>
                    <a:lnTo>
                      <a:pt x="1570" y="364"/>
                    </a:lnTo>
                    <a:lnTo>
                      <a:pt x="1582" y="358"/>
                    </a:lnTo>
                    <a:lnTo>
                      <a:pt x="1599" y="352"/>
                    </a:lnTo>
                    <a:lnTo>
                      <a:pt x="1593" y="341"/>
                    </a:lnTo>
                    <a:lnTo>
                      <a:pt x="1593" y="352"/>
                    </a:lnTo>
                    <a:lnTo>
                      <a:pt x="1610" y="352"/>
                    </a:lnTo>
                    <a:lnTo>
                      <a:pt x="1628" y="352"/>
                    </a:lnTo>
                    <a:lnTo>
                      <a:pt x="1628" y="341"/>
                    </a:lnTo>
                    <a:lnTo>
                      <a:pt x="1628" y="352"/>
                    </a:lnTo>
                    <a:lnTo>
                      <a:pt x="1645" y="358"/>
                    </a:lnTo>
                    <a:lnTo>
                      <a:pt x="1662" y="364"/>
                    </a:lnTo>
                    <a:lnTo>
                      <a:pt x="1680" y="375"/>
                    </a:lnTo>
                    <a:lnTo>
                      <a:pt x="1691" y="381"/>
                    </a:lnTo>
                    <a:lnTo>
                      <a:pt x="1709" y="393"/>
                    </a:lnTo>
                    <a:lnTo>
                      <a:pt x="1709" y="381"/>
                    </a:lnTo>
                    <a:lnTo>
                      <a:pt x="1703" y="387"/>
                    </a:lnTo>
                    <a:lnTo>
                      <a:pt x="1714" y="404"/>
                    </a:lnTo>
                    <a:lnTo>
                      <a:pt x="1720" y="421"/>
                    </a:lnTo>
                    <a:lnTo>
                      <a:pt x="1732" y="439"/>
                    </a:lnTo>
                    <a:lnTo>
                      <a:pt x="1737" y="433"/>
                    </a:lnTo>
                    <a:lnTo>
                      <a:pt x="1732" y="433"/>
                    </a:lnTo>
                    <a:lnTo>
                      <a:pt x="1732" y="456"/>
                    </a:lnTo>
                    <a:lnTo>
                      <a:pt x="1732" y="462"/>
                    </a:lnTo>
                    <a:lnTo>
                      <a:pt x="1732" y="462"/>
                    </a:lnTo>
                    <a:lnTo>
                      <a:pt x="1737" y="485"/>
                    </a:lnTo>
                    <a:lnTo>
                      <a:pt x="1743" y="479"/>
                    </a:lnTo>
                    <a:lnTo>
                      <a:pt x="1737" y="479"/>
                    </a:lnTo>
                    <a:lnTo>
                      <a:pt x="1732" y="491"/>
                    </a:lnTo>
                    <a:lnTo>
                      <a:pt x="1732" y="491"/>
                    </a:lnTo>
                    <a:lnTo>
                      <a:pt x="1732" y="491"/>
                    </a:lnTo>
                    <a:lnTo>
                      <a:pt x="1732" y="508"/>
                    </a:lnTo>
                    <a:lnTo>
                      <a:pt x="1737" y="508"/>
                    </a:lnTo>
                    <a:lnTo>
                      <a:pt x="1732" y="508"/>
                    </a:lnTo>
                    <a:lnTo>
                      <a:pt x="1720" y="525"/>
                    </a:lnTo>
                    <a:lnTo>
                      <a:pt x="1714" y="537"/>
                    </a:lnTo>
                    <a:lnTo>
                      <a:pt x="1720" y="537"/>
                    </a:lnTo>
                    <a:lnTo>
                      <a:pt x="1714" y="531"/>
                    </a:lnTo>
                    <a:lnTo>
                      <a:pt x="1703" y="543"/>
                    </a:lnTo>
                    <a:lnTo>
                      <a:pt x="1709" y="548"/>
                    </a:lnTo>
                    <a:lnTo>
                      <a:pt x="1709" y="543"/>
                    </a:lnTo>
                    <a:lnTo>
                      <a:pt x="1691" y="548"/>
                    </a:lnTo>
                    <a:lnTo>
                      <a:pt x="1691" y="548"/>
                    </a:lnTo>
                    <a:lnTo>
                      <a:pt x="1685" y="548"/>
                    </a:lnTo>
                    <a:lnTo>
                      <a:pt x="1674" y="560"/>
                    </a:lnTo>
                    <a:lnTo>
                      <a:pt x="1680" y="566"/>
                    </a:lnTo>
                    <a:lnTo>
                      <a:pt x="1680" y="560"/>
                    </a:lnTo>
                    <a:lnTo>
                      <a:pt x="1662" y="566"/>
                    </a:lnTo>
                    <a:lnTo>
                      <a:pt x="1645" y="571"/>
                    </a:lnTo>
                    <a:lnTo>
                      <a:pt x="1628" y="577"/>
                    </a:lnTo>
                    <a:lnTo>
                      <a:pt x="1628" y="583"/>
                    </a:lnTo>
                    <a:lnTo>
                      <a:pt x="1628" y="577"/>
                    </a:lnTo>
                    <a:lnTo>
                      <a:pt x="1610" y="577"/>
                    </a:lnTo>
                    <a:lnTo>
                      <a:pt x="1593" y="577"/>
                    </a:lnTo>
                    <a:lnTo>
                      <a:pt x="1593" y="583"/>
                    </a:lnTo>
                    <a:lnTo>
                      <a:pt x="1599" y="577"/>
                    </a:lnTo>
                    <a:lnTo>
                      <a:pt x="1582" y="571"/>
                    </a:lnTo>
                    <a:lnTo>
                      <a:pt x="1576" y="577"/>
                    </a:lnTo>
                    <a:lnTo>
                      <a:pt x="1582" y="571"/>
                    </a:lnTo>
                    <a:lnTo>
                      <a:pt x="1570" y="560"/>
                    </a:lnTo>
                    <a:lnTo>
                      <a:pt x="1570" y="560"/>
                    </a:lnTo>
                    <a:lnTo>
                      <a:pt x="1570" y="560"/>
                    </a:lnTo>
                    <a:lnTo>
                      <a:pt x="1559" y="554"/>
                    </a:lnTo>
                    <a:lnTo>
                      <a:pt x="1553" y="560"/>
                    </a:lnTo>
                    <a:lnTo>
                      <a:pt x="1559" y="554"/>
                    </a:lnTo>
                    <a:lnTo>
                      <a:pt x="1547" y="543"/>
                    </a:lnTo>
                    <a:lnTo>
                      <a:pt x="1535" y="531"/>
                    </a:lnTo>
                    <a:lnTo>
                      <a:pt x="1535" y="531"/>
                    </a:lnTo>
                    <a:lnTo>
                      <a:pt x="1535" y="531"/>
                    </a:lnTo>
                    <a:lnTo>
                      <a:pt x="1524" y="525"/>
                    </a:lnTo>
                    <a:lnTo>
                      <a:pt x="1518" y="531"/>
                    </a:lnTo>
                    <a:lnTo>
                      <a:pt x="1524" y="525"/>
                    </a:lnTo>
                    <a:lnTo>
                      <a:pt x="1512" y="514"/>
                    </a:lnTo>
                    <a:lnTo>
                      <a:pt x="1512" y="514"/>
                    </a:lnTo>
                    <a:lnTo>
                      <a:pt x="1507" y="514"/>
                    </a:lnTo>
                    <a:lnTo>
                      <a:pt x="1495" y="514"/>
                    </a:lnTo>
                    <a:lnTo>
                      <a:pt x="1495" y="519"/>
                    </a:lnTo>
                    <a:lnTo>
                      <a:pt x="1501" y="514"/>
                    </a:lnTo>
                    <a:lnTo>
                      <a:pt x="1484" y="508"/>
                    </a:lnTo>
                    <a:lnTo>
                      <a:pt x="1484" y="508"/>
                    </a:lnTo>
                    <a:lnTo>
                      <a:pt x="1478" y="508"/>
                    </a:lnTo>
                    <a:lnTo>
                      <a:pt x="1466" y="508"/>
                    </a:lnTo>
                    <a:lnTo>
                      <a:pt x="1466" y="508"/>
                    </a:lnTo>
                    <a:lnTo>
                      <a:pt x="1466" y="508"/>
                    </a:lnTo>
                    <a:lnTo>
                      <a:pt x="1449" y="514"/>
                    </a:lnTo>
                    <a:lnTo>
                      <a:pt x="1449" y="519"/>
                    </a:lnTo>
                    <a:lnTo>
                      <a:pt x="1449" y="514"/>
                    </a:lnTo>
                    <a:lnTo>
                      <a:pt x="1437" y="514"/>
                    </a:lnTo>
                    <a:lnTo>
                      <a:pt x="1437" y="514"/>
                    </a:lnTo>
                    <a:lnTo>
                      <a:pt x="1437" y="514"/>
                    </a:lnTo>
                    <a:lnTo>
                      <a:pt x="1426" y="519"/>
                    </a:lnTo>
                    <a:lnTo>
                      <a:pt x="1409" y="525"/>
                    </a:lnTo>
                    <a:lnTo>
                      <a:pt x="1409" y="525"/>
                    </a:lnTo>
                    <a:lnTo>
                      <a:pt x="1403" y="525"/>
                    </a:lnTo>
                    <a:lnTo>
                      <a:pt x="1391" y="537"/>
                    </a:lnTo>
                    <a:lnTo>
                      <a:pt x="1380" y="548"/>
                    </a:lnTo>
                    <a:lnTo>
                      <a:pt x="1385" y="554"/>
                    </a:lnTo>
                    <a:lnTo>
                      <a:pt x="1385" y="548"/>
                    </a:lnTo>
                    <a:lnTo>
                      <a:pt x="1374" y="554"/>
                    </a:lnTo>
                    <a:lnTo>
                      <a:pt x="1374" y="554"/>
                    </a:lnTo>
                    <a:lnTo>
                      <a:pt x="1368" y="554"/>
                    </a:lnTo>
                    <a:lnTo>
                      <a:pt x="1357" y="566"/>
                    </a:lnTo>
                    <a:lnTo>
                      <a:pt x="1357" y="571"/>
                    </a:lnTo>
                    <a:lnTo>
                      <a:pt x="1357" y="571"/>
                    </a:lnTo>
                    <a:lnTo>
                      <a:pt x="1351" y="589"/>
                    </a:lnTo>
                    <a:lnTo>
                      <a:pt x="1345" y="600"/>
                    </a:lnTo>
                    <a:lnTo>
                      <a:pt x="1339" y="618"/>
                    </a:lnTo>
                    <a:lnTo>
                      <a:pt x="1339" y="618"/>
                    </a:lnTo>
                    <a:lnTo>
                      <a:pt x="1339" y="618"/>
                    </a:lnTo>
                    <a:lnTo>
                      <a:pt x="1339" y="635"/>
                    </a:lnTo>
                    <a:lnTo>
                      <a:pt x="1339" y="658"/>
                    </a:lnTo>
                    <a:lnTo>
                      <a:pt x="1339" y="681"/>
                    </a:lnTo>
                    <a:lnTo>
                      <a:pt x="1339" y="687"/>
                    </a:lnTo>
                    <a:lnTo>
                      <a:pt x="1339" y="687"/>
                    </a:lnTo>
                    <a:lnTo>
                      <a:pt x="1351" y="739"/>
                    </a:lnTo>
                    <a:lnTo>
                      <a:pt x="1362" y="791"/>
                    </a:lnTo>
                    <a:lnTo>
                      <a:pt x="1368" y="785"/>
                    </a:lnTo>
                    <a:lnTo>
                      <a:pt x="1362" y="785"/>
                    </a:lnTo>
                    <a:lnTo>
                      <a:pt x="1368" y="814"/>
                    </a:lnTo>
                    <a:lnTo>
                      <a:pt x="1368" y="831"/>
                    </a:lnTo>
                    <a:lnTo>
                      <a:pt x="1368" y="819"/>
                    </a:lnTo>
                    <a:lnTo>
                      <a:pt x="1374" y="843"/>
                    </a:lnTo>
                    <a:lnTo>
                      <a:pt x="1380" y="837"/>
                    </a:lnTo>
                    <a:lnTo>
                      <a:pt x="1374" y="837"/>
                    </a:lnTo>
                    <a:lnTo>
                      <a:pt x="1374" y="866"/>
                    </a:lnTo>
                    <a:lnTo>
                      <a:pt x="1374" y="894"/>
                    </a:lnTo>
                    <a:lnTo>
                      <a:pt x="1374" y="918"/>
                    </a:lnTo>
                    <a:lnTo>
                      <a:pt x="1374" y="941"/>
                    </a:lnTo>
                    <a:lnTo>
                      <a:pt x="1374" y="952"/>
                    </a:lnTo>
                    <a:lnTo>
                      <a:pt x="1380" y="952"/>
                    </a:lnTo>
                    <a:lnTo>
                      <a:pt x="1374" y="946"/>
                    </a:lnTo>
                    <a:lnTo>
                      <a:pt x="1368" y="952"/>
                    </a:lnTo>
                    <a:lnTo>
                      <a:pt x="1368" y="958"/>
                    </a:lnTo>
                    <a:lnTo>
                      <a:pt x="1368" y="958"/>
                    </a:lnTo>
                    <a:lnTo>
                      <a:pt x="1368" y="969"/>
                    </a:lnTo>
                    <a:lnTo>
                      <a:pt x="1374" y="969"/>
                    </a:lnTo>
                    <a:lnTo>
                      <a:pt x="1368" y="969"/>
                    </a:lnTo>
                    <a:lnTo>
                      <a:pt x="1362" y="981"/>
                    </a:lnTo>
                    <a:lnTo>
                      <a:pt x="1368" y="981"/>
                    </a:lnTo>
                    <a:lnTo>
                      <a:pt x="1368" y="975"/>
                    </a:lnTo>
                    <a:lnTo>
                      <a:pt x="1345" y="987"/>
                    </a:lnTo>
                    <a:lnTo>
                      <a:pt x="1328" y="998"/>
                    </a:lnTo>
                    <a:lnTo>
                      <a:pt x="1328" y="1004"/>
                    </a:lnTo>
                    <a:lnTo>
                      <a:pt x="1328" y="998"/>
                    </a:lnTo>
                    <a:lnTo>
                      <a:pt x="1299" y="1004"/>
                    </a:lnTo>
                    <a:lnTo>
                      <a:pt x="1270" y="1010"/>
                    </a:lnTo>
                    <a:lnTo>
                      <a:pt x="1247" y="1010"/>
                    </a:lnTo>
                    <a:lnTo>
                      <a:pt x="1212" y="1016"/>
                    </a:lnTo>
                    <a:lnTo>
                      <a:pt x="1183" y="1016"/>
                    </a:lnTo>
                    <a:lnTo>
                      <a:pt x="1155" y="1016"/>
                    </a:lnTo>
                    <a:lnTo>
                      <a:pt x="1126" y="1016"/>
                    </a:lnTo>
                    <a:lnTo>
                      <a:pt x="1097" y="1010"/>
                    </a:lnTo>
                    <a:lnTo>
                      <a:pt x="1074" y="1010"/>
                    </a:lnTo>
                    <a:lnTo>
                      <a:pt x="1045" y="1004"/>
                    </a:lnTo>
                    <a:lnTo>
                      <a:pt x="1022" y="998"/>
                    </a:lnTo>
                    <a:lnTo>
                      <a:pt x="999" y="993"/>
                    </a:lnTo>
                    <a:lnTo>
                      <a:pt x="999" y="998"/>
                    </a:lnTo>
                    <a:lnTo>
                      <a:pt x="1005" y="993"/>
                    </a:lnTo>
                    <a:lnTo>
                      <a:pt x="993" y="981"/>
                    </a:lnTo>
                    <a:lnTo>
                      <a:pt x="993" y="981"/>
                    </a:lnTo>
                    <a:lnTo>
                      <a:pt x="993" y="981"/>
                    </a:lnTo>
                    <a:lnTo>
                      <a:pt x="976" y="975"/>
                    </a:lnTo>
                    <a:lnTo>
                      <a:pt x="970" y="981"/>
                    </a:lnTo>
                    <a:lnTo>
                      <a:pt x="976" y="975"/>
                    </a:lnTo>
                    <a:lnTo>
                      <a:pt x="964" y="964"/>
                    </a:lnTo>
                    <a:lnTo>
                      <a:pt x="958" y="958"/>
                    </a:lnTo>
                    <a:lnTo>
                      <a:pt x="953" y="964"/>
                    </a:lnTo>
                    <a:lnTo>
                      <a:pt x="964" y="964"/>
                    </a:lnTo>
                    <a:lnTo>
                      <a:pt x="958" y="952"/>
                    </a:lnTo>
                    <a:lnTo>
                      <a:pt x="958" y="952"/>
                    </a:lnTo>
                    <a:lnTo>
                      <a:pt x="953" y="946"/>
                    </a:lnTo>
                    <a:lnTo>
                      <a:pt x="947" y="941"/>
                    </a:lnTo>
                    <a:lnTo>
                      <a:pt x="941" y="946"/>
                    </a:lnTo>
                    <a:lnTo>
                      <a:pt x="953" y="946"/>
                    </a:lnTo>
                    <a:lnTo>
                      <a:pt x="953" y="941"/>
                    </a:lnTo>
                    <a:lnTo>
                      <a:pt x="953" y="929"/>
                    </a:lnTo>
                    <a:lnTo>
                      <a:pt x="953" y="923"/>
                    </a:lnTo>
                    <a:lnTo>
                      <a:pt x="953" y="912"/>
                    </a:lnTo>
                    <a:lnTo>
                      <a:pt x="941" y="912"/>
                    </a:lnTo>
                    <a:lnTo>
                      <a:pt x="953" y="918"/>
                    </a:lnTo>
                    <a:lnTo>
                      <a:pt x="958" y="906"/>
                    </a:lnTo>
                    <a:lnTo>
                      <a:pt x="947" y="900"/>
                    </a:lnTo>
                    <a:lnTo>
                      <a:pt x="953" y="906"/>
                    </a:lnTo>
                    <a:lnTo>
                      <a:pt x="958" y="900"/>
                    </a:lnTo>
                    <a:lnTo>
                      <a:pt x="964" y="900"/>
                    </a:lnTo>
                    <a:lnTo>
                      <a:pt x="964" y="900"/>
                    </a:lnTo>
                    <a:lnTo>
                      <a:pt x="970" y="889"/>
                    </a:lnTo>
                    <a:lnTo>
                      <a:pt x="976" y="877"/>
                    </a:lnTo>
                    <a:lnTo>
                      <a:pt x="964" y="871"/>
                    </a:lnTo>
                    <a:lnTo>
                      <a:pt x="970" y="877"/>
                    </a:lnTo>
                    <a:lnTo>
                      <a:pt x="993" y="854"/>
                    </a:lnTo>
                    <a:lnTo>
                      <a:pt x="1016" y="831"/>
                    </a:lnTo>
                    <a:lnTo>
                      <a:pt x="1028" y="819"/>
                    </a:lnTo>
                    <a:lnTo>
                      <a:pt x="1033" y="819"/>
                    </a:lnTo>
                    <a:lnTo>
                      <a:pt x="1033" y="819"/>
                    </a:lnTo>
                    <a:lnTo>
                      <a:pt x="1039" y="802"/>
                    </a:lnTo>
                    <a:lnTo>
                      <a:pt x="1045" y="785"/>
                    </a:lnTo>
                    <a:lnTo>
                      <a:pt x="1051" y="768"/>
                    </a:lnTo>
                    <a:lnTo>
                      <a:pt x="1051" y="768"/>
                    </a:lnTo>
                    <a:lnTo>
                      <a:pt x="1051" y="762"/>
                    </a:lnTo>
                    <a:lnTo>
                      <a:pt x="1051" y="744"/>
                    </a:lnTo>
                    <a:lnTo>
                      <a:pt x="1051" y="744"/>
                    </a:lnTo>
                    <a:lnTo>
                      <a:pt x="1051" y="744"/>
                    </a:lnTo>
                    <a:lnTo>
                      <a:pt x="1045" y="727"/>
                    </a:lnTo>
                    <a:lnTo>
                      <a:pt x="1039" y="710"/>
                    </a:lnTo>
                    <a:lnTo>
                      <a:pt x="1033" y="687"/>
                    </a:lnTo>
                    <a:lnTo>
                      <a:pt x="1022" y="669"/>
                    </a:lnTo>
                    <a:lnTo>
                      <a:pt x="1022" y="669"/>
                    </a:lnTo>
                    <a:lnTo>
                      <a:pt x="1016" y="664"/>
                    </a:lnTo>
                    <a:lnTo>
                      <a:pt x="1005" y="652"/>
                    </a:lnTo>
                    <a:lnTo>
                      <a:pt x="993" y="641"/>
                    </a:lnTo>
                    <a:lnTo>
                      <a:pt x="976" y="623"/>
                    </a:lnTo>
                    <a:lnTo>
                      <a:pt x="976" y="623"/>
                    </a:lnTo>
                    <a:lnTo>
                      <a:pt x="976" y="623"/>
                    </a:lnTo>
                    <a:lnTo>
                      <a:pt x="964" y="618"/>
                    </a:lnTo>
                    <a:lnTo>
                      <a:pt x="941" y="606"/>
                    </a:lnTo>
                    <a:lnTo>
                      <a:pt x="924" y="600"/>
                    </a:lnTo>
                    <a:lnTo>
                      <a:pt x="924" y="600"/>
                    </a:lnTo>
                    <a:lnTo>
                      <a:pt x="918" y="600"/>
                    </a:lnTo>
                    <a:lnTo>
                      <a:pt x="895" y="600"/>
                    </a:lnTo>
                    <a:lnTo>
                      <a:pt x="872" y="600"/>
                    </a:lnTo>
                    <a:lnTo>
                      <a:pt x="872" y="600"/>
                    </a:lnTo>
                    <a:lnTo>
                      <a:pt x="872" y="600"/>
                    </a:lnTo>
                    <a:lnTo>
                      <a:pt x="855" y="606"/>
                    </a:lnTo>
                    <a:lnTo>
                      <a:pt x="831" y="618"/>
                    </a:lnTo>
                    <a:lnTo>
                      <a:pt x="814" y="623"/>
                    </a:lnTo>
                    <a:lnTo>
                      <a:pt x="797" y="635"/>
                    </a:lnTo>
                    <a:lnTo>
                      <a:pt x="797" y="635"/>
                    </a:lnTo>
                    <a:lnTo>
                      <a:pt x="791" y="635"/>
                    </a:lnTo>
                    <a:lnTo>
                      <a:pt x="774" y="652"/>
                    </a:lnTo>
                    <a:lnTo>
                      <a:pt x="762" y="664"/>
                    </a:lnTo>
                    <a:lnTo>
                      <a:pt x="762" y="669"/>
                    </a:lnTo>
                    <a:lnTo>
                      <a:pt x="762" y="669"/>
                    </a:lnTo>
                    <a:lnTo>
                      <a:pt x="751" y="687"/>
                    </a:lnTo>
                    <a:lnTo>
                      <a:pt x="739" y="704"/>
                    </a:lnTo>
                    <a:lnTo>
                      <a:pt x="733" y="721"/>
                    </a:lnTo>
                    <a:lnTo>
                      <a:pt x="728" y="744"/>
                    </a:lnTo>
                    <a:lnTo>
                      <a:pt x="728" y="744"/>
                    </a:lnTo>
                    <a:lnTo>
                      <a:pt x="728" y="744"/>
                    </a:lnTo>
                    <a:lnTo>
                      <a:pt x="728" y="762"/>
                    </a:lnTo>
                    <a:lnTo>
                      <a:pt x="728" y="768"/>
                    </a:lnTo>
                    <a:lnTo>
                      <a:pt x="728" y="768"/>
                    </a:lnTo>
                    <a:lnTo>
                      <a:pt x="733" y="785"/>
                    </a:lnTo>
                    <a:lnTo>
                      <a:pt x="739" y="802"/>
                    </a:lnTo>
                    <a:lnTo>
                      <a:pt x="745" y="814"/>
                    </a:lnTo>
                    <a:lnTo>
                      <a:pt x="751" y="808"/>
                    </a:lnTo>
                    <a:lnTo>
                      <a:pt x="745" y="808"/>
                    </a:lnTo>
                    <a:lnTo>
                      <a:pt x="745" y="814"/>
                    </a:lnTo>
                    <a:lnTo>
                      <a:pt x="745" y="819"/>
                    </a:lnTo>
                    <a:lnTo>
                      <a:pt x="745" y="819"/>
                    </a:lnTo>
                    <a:lnTo>
                      <a:pt x="751" y="831"/>
                    </a:lnTo>
                    <a:lnTo>
                      <a:pt x="751" y="831"/>
                    </a:lnTo>
                    <a:lnTo>
                      <a:pt x="756" y="837"/>
                    </a:lnTo>
                    <a:lnTo>
                      <a:pt x="768" y="843"/>
                    </a:lnTo>
                    <a:lnTo>
                      <a:pt x="768" y="831"/>
                    </a:lnTo>
                    <a:lnTo>
                      <a:pt x="762" y="837"/>
                    </a:lnTo>
                    <a:lnTo>
                      <a:pt x="774" y="854"/>
                    </a:lnTo>
                    <a:lnTo>
                      <a:pt x="774" y="854"/>
                    </a:lnTo>
                    <a:lnTo>
                      <a:pt x="774" y="854"/>
                    </a:lnTo>
                    <a:lnTo>
                      <a:pt x="785" y="866"/>
                    </a:lnTo>
                    <a:lnTo>
                      <a:pt x="791" y="860"/>
                    </a:lnTo>
                    <a:lnTo>
                      <a:pt x="785" y="866"/>
                    </a:lnTo>
                    <a:lnTo>
                      <a:pt x="791" y="883"/>
                    </a:lnTo>
                    <a:lnTo>
                      <a:pt x="791" y="883"/>
                    </a:lnTo>
                    <a:lnTo>
                      <a:pt x="791" y="883"/>
                    </a:lnTo>
                    <a:lnTo>
                      <a:pt x="803" y="894"/>
                    </a:lnTo>
                    <a:lnTo>
                      <a:pt x="808" y="889"/>
                    </a:lnTo>
                    <a:lnTo>
                      <a:pt x="803" y="894"/>
                    </a:lnTo>
                    <a:lnTo>
                      <a:pt x="808" y="906"/>
                    </a:lnTo>
                    <a:lnTo>
                      <a:pt x="814" y="900"/>
                    </a:lnTo>
                    <a:lnTo>
                      <a:pt x="808" y="900"/>
                    </a:lnTo>
                    <a:lnTo>
                      <a:pt x="808" y="912"/>
                    </a:lnTo>
                    <a:lnTo>
                      <a:pt x="808" y="918"/>
                    </a:lnTo>
                    <a:lnTo>
                      <a:pt x="808" y="918"/>
                    </a:lnTo>
                    <a:lnTo>
                      <a:pt x="814" y="929"/>
                    </a:lnTo>
                    <a:lnTo>
                      <a:pt x="820" y="923"/>
                    </a:lnTo>
                    <a:lnTo>
                      <a:pt x="814" y="923"/>
                    </a:lnTo>
                    <a:lnTo>
                      <a:pt x="814" y="935"/>
                    </a:lnTo>
                    <a:lnTo>
                      <a:pt x="820" y="935"/>
                    </a:lnTo>
                    <a:lnTo>
                      <a:pt x="814" y="935"/>
                    </a:lnTo>
                    <a:lnTo>
                      <a:pt x="808" y="946"/>
                    </a:lnTo>
                    <a:lnTo>
                      <a:pt x="808" y="946"/>
                    </a:lnTo>
                    <a:lnTo>
                      <a:pt x="808" y="946"/>
                    </a:lnTo>
                    <a:lnTo>
                      <a:pt x="808" y="952"/>
                    </a:lnTo>
                    <a:lnTo>
                      <a:pt x="814" y="952"/>
                    </a:lnTo>
                    <a:lnTo>
                      <a:pt x="808" y="946"/>
                    </a:lnTo>
                    <a:lnTo>
                      <a:pt x="803" y="952"/>
                    </a:lnTo>
                    <a:lnTo>
                      <a:pt x="803" y="958"/>
                    </a:lnTo>
                    <a:lnTo>
                      <a:pt x="803" y="958"/>
                    </a:lnTo>
                    <a:lnTo>
                      <a:pt x="797" y="969"/>
                    </a:lnTo>
                    <a:lnTo>
                      <a:pt x="803" y="969"/>
                    </a:lnTo>
                    <a:lnTo>
                      <a:pt x="803" y="964"/>
                    </a:lnTo>
                    <a:lnTo>
                      <a:pt x="791" y="969"/>
                    </a:lnTo>
                    <a:lnTo>
                      <a:pt x="791" y="975"/>
                    </a:lnTo>
                    <a:lnTo>
                      <a:pt x="791" y="969"/>
                    </a:lnTo>
                    <a:lnTo>
                      <a:pt x="785" y="969"/>
                    </a:lnTo>
                    <a:lnTo>
                      <a:pt x="785" y="969"/>
                    </a:lnTo>
                    <a:lnTo>
                      <a:pt x="785" y="969"/>
                    </a:lnTo>
                    <a:lnTo>
                      <a:pt x="768" y="975"/>
                    </a:lnTo>
                    <a:lnTo>
                      <a:pt x="768" y="981"/>
                    </a:lnTo>
                    <a:lnTo>
                      <a:pt x="768" y="975"/>
                    </a:lnTo>
                    <a:lnTo>
                      <a:pt x="756" y="9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13" name=""/>
          <p:cNvGrpSpPr/>
          <p:nvPr/>
        </p:nvGrpSpPr>
        <p:grpSpPr>
          <a:xfrm>
            <a:off x="4800600" y="2008080"/>
            <a:ext cx="3886200" cy="4240440"/>
            <a:chOff x="4800600" y="2008080"/>
            <a:chExt cx="3886200" cy="4240440"/>
          </a:xfrm>
        </p:grpSpPr>
        <p:grpSp>
          <p:nvGrpSpPr>
            <p:cNvPr id="114" name=""/>
            <p:cNvGrpSpPr/>
            <p:nvPr/>
          </p:nvGrpSpPr>
          <p:grpSpPr>
            <a:xfrm>
              <a:off x="4800600" y="2681280"/>
              <a:ext cx="2471760" cy="1585800"/>
              <a:chOff x="4800600" y="2681280"/>
              <a:chExt cx="2471760" cy="1585800"/>
            </a:xfrm>
          </p:grpSpPr>
          <p:sp>
            <p:nvSpPr>
              <p:cNvPr id="115" name=""/>
              <p:cNvSpPr/>
              <p:nvPr/>
            </p:nvSpPr>
            <p:spPr>
              <a:xfrm>
                <a:off x="4808880" y="2690280"/>
                <a:ext cx="2446560" cy="1558080"/>
              </a:xfrm>
              <a:custGeom>
                <a:avLst/>
                <a:gdLst/>
                <a:ahLst/>
                <a:rect l="l" t="t" r="r" b="b"/>
                <a:pathLst>
                  <a:path w="1737" h="1015">
                    <a:moveTo>
                      <a:pt x="750" y="975"/>
                    </a:moveTo>
                    <a:lnTo>
                      <a:pt x="762" y="975"/>
                    </a:lnTo>
                    <a:lnTo>
                      <a:pt x="779" y="969"/>
                    </a:lnTo>
                    <a:lnTo>
                      <a:pt x="785" y="969"/>
                    </a:lnTo>
                    <a:lnTo>
                      <a:pt x="797" y="963"/>
                    </a:lnTo>
                    <a:lnTo>
                      <a:pt x="802" y="952"/>
                    </a:lnTo>
                    <a:lnTo>
                      <a:pt x="808" y="946"/>
                    </a:lnTo>
                    <a:lnTo>
                      <a:pt x="808" y="940"/>
                    </a:lnTo>
                    <a:lnTo>
                      <a:pt x="814" y="929"/>
                    </a:lnTo>
                    <a:lnTo>
                      <a:pt x="814" y="917"/>
                    </a:lnTo>
                    <a:lnTo>
                      <a:pt x="808" y="906"/>
                    </a:lnTo>
                    <a:lnTo>
                      <a:pt x="808" y="894"/>
                    </a:lnTo>
                    <a:lnTo>
                      <a:pt x="802" y="883"/>
                    </a:lnTo>
                    <a:lnTo>
                      <a:pt x="791" y="871"/>
                    </a:lnTo>
                    <a:lnTo>
                      <a:pt x="785" y="854"/>
                    </a:lnTo>
                    <a:lnTo>
                      <a:pt x="774" y="842"/>
                    </a:lnTo>
                    <a:lnTo>
                      <a:pt x="762" y="825"/>
                    </a:lnTo>
                    <a:lnTo>
                      <a:pt x="750" y="819"/>
                    </a:lnTo>
                    <a:lnTo>
                      <a:pt x="745" y="808"/>
                    </a:lnTo>
                    <a:lnTo>
                      <a:pt x="745" y="802"/>
                    </a:lnTo>
                    <a:lnTo>
                      <a:pt x="739" y="790"/>
                    </a:lnTo>
                    <a:lnTo>
                      <a:pt x="733" y="773"/>
                    </a:lnTo>
                    <a:lnTo>
                      <a:pt x="727" y="756"/>
                    </a:lnTo>
                    <a:lnTo>
                      <a:pt x="727" y="738"/>
                    </a:lnTo>
                    <a:lnTo>
                      <a:pt x="733" y="715"/>
                    </a:lnTo>
                    <a:lnTo>
                      <a:pt x="739" y="698"/>
                    </a:lnTo>
                    <a:lnTo>
                      <a:pt x="750" y="681"/>
                    </a:lnTo>
                    <a:lnTo>
                      <a:pt x="762" y="663"/>
                    </a:lnTo>
                    <a:lnTo>
                      <a:pt x="774" y="652"/>
                    </a:lnTo>
                    <a:lnTo>
                      <a:pt x="791" y="635"/>
                    </a:lnTo>
                    <a:lnTo>
                      <a:pt x="808" y="623"/>
                    </a:lnTo>
                    <a:lnTo>
                      <a:pt x="825" y="617"/>
                    </a:lnTo>
                    <a:lnTo>
                      <a:pt x="849" y="606"/>
                    </a:lnTo>
                    <a:lnTo>
                      <a:pt x="866" y="600"/>
                    </a:lnTo>
                    <a:lnTo>
                      <a:pt x="889" y="600"/>
                    </a:lnTo>
                    <a:lnTo>
                      <a:pt x="912" y="600"/>
                    </a:lnTo>
                    <a:lnTo>
                      <a:pt x="929" y="606"/>
                    </a:lnTo>
                    <a:lnTo>
                      <a:pt x="952" y="617"/>
                    </a:lnTo>
                    <a:lnTo>
                      <a:pt x="964" y="623"/>
                    </a:lnTo>
                    <a:lnTo>
                      <a:pt x="981" y="640"/>
                    </a:lnTo>
                    <a:lnTo>
                      <a:pt x="993" y="652"/>
                    </a:lnTo>
                    <a:lnTo>
                      <a:pt x="1004" y="663"/>
                    </a:lnTo>
                    <a:lnTo>
                      <a:pt x="1016" y="681"/>
                    </a:lnTo>
                    <a:lnTo>
                      <a:pt x="1022" y="704"/>
                    </a:lnTo>
                    <a:lnTo>
                      <a:pt x="1027" y="721"/>
                    </a:lnTo>
                    <a:lnTo>
                      <a:pt x="1033" y="738"/>
                    </a:lnTo>
                    <a:lnTo>
                      <a:pt x="1033" y="756"/>
                    </a:lnTo>
                    <a:lnTo>
                      <a:pt x="1027" y="773"/>
                    </a:lnTo>
                    <a:lnTo>
                      <a:pt x="1022" y="790"/>
                    </a:lnTo>
                    <a:lnTo>
                      <a:pt x="1016" y="808"/>
                    </a:lnTo>
                    <a:lnTo>
                      <a:pt x="1004" y="819"/>
                    </a:lnTo>
                    <a:lnTo>
                      <a:pt x="981" y="842"/>
                    </a:lnTo>
                    <a:lnTo>
                      <a:pt x="958" y="865"/>
                    </a:lnTo>
                    <a:lnTo>
                      <a:pt x="952" y="877"/>
                    </a:lnTo>
                    <a:lnTo>
                      <a:pt x="947" y="888"/>
                    </a:lnTo>
                    <a:lnTo>
                      <a:pt x="941" y="894"/>
                    </a:lnTo>
                    <a:lnTo>
                      <a:pt x="935" y="906"/>
                    </a:lnTo>
                    <a:lnTo>
                      <a:pt x="935" y="917"/>
                    </a:lnTo>
                    <a:lnTo>
                      <a:pt x="935" y="923"/>
                    </a:lnTo>
                    <a:lnTo>
                      <a:pt x="935" y="935"/>
                    </a:lnTo>
                    <a:lnTo>
                      <a:pt x="935" y="940"/>
                    </a:lnTo>
                    <a:lnTo>
                      <a:pt x="941" y="946"/>
                    </a:lnTo>
                    <a:lnTo>
                      <a:pt x="947" y="958"/>
                    </a:lnTo>
                    <a:lnTo>
                      <a:pt x="952" y="963"/>
                    </a:lnTo>
                    <a:lnTo>
                      <a:pt x="964" y="975"/>
                    </a:lnTo>
                    <a:lnTo>
                      <a:pt x="981" y="981"/>
                    </a:lnTo>
                    <a:lnTo>
                      <a:pt x="993" y="992"/>
                    </a:lnTo>
                    <a:lnTo>
                      <a:pt x="1016" y="998"/>
                    </a:lnTo>
                    <a:lnTo>
                      <a:pt x="1039" y="1004"/>
                    </a:lnTo>
                    <a:lnTo>
                      <a:pt x="1068" y="1010"/>
                    </a:lnTo>
                    <a:lnTo>
                      <a:pt x="1091" y="1010"/>
                    </a:lnTo>
                    <a:lnTo>
                      <a:pt x="1120" y="1015"/>
                    </a:lnTo>
                    <a:lnTo>
                      <a:pt x="1149" y="1015"/>
                    </a:lnTo>
                    <a:lnTo>
                      <a:pt x="1177" y="1015"/>
                    </a:lnTo>
                    <a:lnTo>
                      <a:pt x="1206" y="1015"/>
                    </a:lnTo>
                    <a:lnTo>
                      <a:pt x="1241" y="1010"/>
                    </a:lnTo>
                    <a:lnTo>
                      <a:pt x="1264" y="1010"/>
                    </a:lnTo>
                    <a:lnTo>
                      <a:pt x="1293" y="1004"/>
                    </a:lnTo>
                    <a:lnTo>
                      <a:pt x="1322" y="998"/>
                    </a:lnTo>
                    <a:lnTo>
                      <a:pt x="1339" y="987"/>
                    </a:lnTo>
                    <a:lnTo>
                      <a:pt x="1362" y="975"/>
                    </a:lnTo>
                    <a:lnTo>
                      <a:pt x="1368" y="963"/>
                    </a:lnTo>
                    <a:lnTo>
                      <a:pt x="1368" y="952"/>
                    </a:lnTo>
                    <a:lnTo>
                      <a:pt x="1374" y="946"/>
                    </a:lnTo>
                    <a:lnTo>
                      <a:pt x="1374" y="935"/>
                    </a:lnTo>
                    <a:lnTo>
                      <a:pt x="1374" y="912"/>
                    </a:lnTo>
                    <a:lnTo>
                      <a:pt x="1374" y="888"/>
                    </a:lnTo>
                    <a:lnTo>
                      <a:pt x="1374" y="860"/>
                    </a:lnTo>
                    <a:lnTo>
                      <a:pt x="1374" y="831"/>
                    </a:lnTo>
                    <a:lnTo>
                      <a:pt x="1368" y="808"/>
                    </a:lnTo>
                    <a:lnTo>
                      <a:pt x="1362" y="779"/>
                    </a:lnTo>
                    <a:lnTo>
                      <a:pt x="1351" y="727"/>
                    </a:lnTo>
                    <a:lnTo>
                      <a:pt x="1339" y="675"/>
                    </a:lnTo>
                    <a:lnTo>
                      <a:pt x="1339" y="652"/>
                    </a:lnTo>
                    <a:lnTo>
                      <a:pt x="1339" y="629"/>
                    </a:lnTo>
                    <a:lnTo>
                      <a:pt x="1339" y="612"/>
                    </a:lnTo>
                    <a:lnTo>
                      <a:pt x="1345" y="594"/>
                    </a:lnTo>
                    <a:lnTo>
                      <a:pt x="1351" y="583"/>
                    </a:lnTo>
                    <a:lnTo>
                      <a:pt x="1356" y="565"/>
                    </a:lnTo>
                    <a:lnTo>
                      <a:pt x="1368" y="554"/>
                    </a:lnTo>
                    <a:lnTo>
                      <a:pt x="1379" y="548"/>
                    </a:lnTo>
                    <a:lnTo>
                      <a:pt x="1391" y="537"/>
                    </a:lnTo>
                    <a:lnTo>
                      <a:pt x="1403" y="525"/>
                    </a:lnTo>
                    <a:lnTo>
                      <a:pt x="1420" y="519"/>
                    </a:lnTo>
                    <a:lnTo>
                      <a:pt x="1431" y="513"/>
                    </a:lnTo>
                    <a:lnTo>
                      <a:pt x="1443" y="513"/>
                    </a:lnTo>
                    <a:lnTo>
                      <a:pt x="1460" y="508"/>
                    </a:lnTo>
                    <a:lnTo>
                      <a:pt x="1472" y="508"/>
                    </a:lnTo>
                    <a:lnTo>
                      <a:pt x="1489" y="513"/>
                    </a:lnTo>
                    <a:lnTo>
                      <a:pt x="1501" y="513"/>
                    </a:lnTo>
                    <a:lnTo>
                      <a:pt x="1512" y="525"/>
                    </a:lnTo>
                    <a:lnTo>
                      <a:pt x="1524" y="531"/>
                    </a:lnTo>
                    <a:lnTo>
                      <a:pt x="1535" y="542"/>
                    </a:lnTo>
                    <a:lnTo>
                      <a:pt x="1547" y="554"/>
                    </a:lnTo>
                    <a:lnTo>
                      <a:pt x="1558" y="560"/>
                    </a:lnTo>
                    <a:lnTo>
                      <a:pt x="1570" y="571"/>
                    </a:lnTo>
                    <a:lnTo>
                      <a:pt x="1587" y="577"/>
                    </a:lnTo>
                    <a:lnTo>
                      <a:pt x="1604" y="577"/>
                    </a:lnTo>
                    <a:lnTo>
                      <a:pt x="1622" y="577"/>
                    </a:lnTo>
                    <a:lnTo>
                      <a:pt x="1639" y="571"/>
                    </a:lnTo>
                    <a:lnTo>
                      <a:pt x="1656" y="565"/>
                    </a:lnTo>
                    <a:lnTo>
                      <a:pt x="1674" y="560"/>
                    </a:lnTo>
                    <a:lnTo>
                      <a:pt x="1685" y="548"/>
                    </a:lnTo>
                    <a:lnTo>
                      <a:pt x="1703" y="542"/>
                    </a:lnTo>
                    <a:lnTo>
                      <a:pt x="1714" y="531"/>
                    </a:lnTo>
                    <a:lnTo>
                      <a:pt x="1720" y="519"/>
                    </a:lnTo>
                    <a:lnTo>
                      <a:pt x="1731" y="502"/>
                    </a:lnTo>
                    <a:lnTo>
                      <a:pt x="1731" y="485"/>
                    </a:lnTo>
                    <a:lnTo>
                      <a:pt x="1737" y="473"/>
                    </a:lnTo>
                    <a:lnTo>
                      <a:pt x="1731" y="450"/>
                    </a:lnTo>
                    <a:lnTo>
                      <a:pt x="1731" y="427"/>
                    </a:lnTo>
                    <a:lnTo>
                      <a:pt x="1720" y="410"/>
                    </a:lnTo>
                    <a:lnTo>
                      <a:pt x="1714" y="392"/>
                    </a:lnTo>
                    <a:lnTo>
                      <a:pt x="1703" y="375"/>
                    </a:lnTo>
                    <a:lnTo>
                      <a:pt x="1685" y="363"/>
                    </a:lnTo>
                    <a:lnTo>
                      <a:pt x="1674" y="358"/>
                    </a:lnTo>
                    <a:lnTo>
                      <a:pt x="1656" y="346"/>
                    </a:lnTo>
                    <a:lnTo>
                      <a:pt x="1639" y="340"/>
                    </a:lnTo>
                    <a:lnTo>
                      <a:pt x="1622" y="335"/>
                    </a:lnTo>
                    <a:lnTo>
                      <a:pt x="1604" y="335"/>
                    </a:lnTo>
                    <a:lnTo>
                      <a:pt x="1587" y="335"/>
                    </a:lnTo>
                    <a:lnTo>
                      <a:pt x="1570" y="340"/>
                    </a:lnTo>
                    <a:lnTo>
                      <a:pt x="1558" y="346"/>
                    </a:lnTo>
                    <a:lnTo>
                      <a:pt x="1547" y="352"/>
                    </a:lnTo>
                    <a:lnTo>
                      <a:pt x="1535" y="358"/>
                    </a:lnTo>
                    <a:lnTo>
                      <a:pt x="1524" y="369"/>
                    </a:lnTo>
                    <a:lnTo>
                      <a:pt x="1512" y="375"/>
                    </a:lnTo>
                    <a:lnTo>
                      <a:pt x="1495" y="381"/>
                    </a:lnTo>
                    <a:lnTo>
                      <a:pt x="1483" y="387"/>
                    </a:lnTo>
                    <a:lnTo>
                      <a:pt x="1466" y="387"/>
                    </a:lnTo>
                    <a:lnTo>
                      <a:pt x="1449" y="387"/>
                    </a:lnTo>
                    <a:lnTo>
                      <a:pt x="1431" y="387"/>
                    </a:lnTo>
                    <a:lnTo>
                      <a:pt x="1420" y="387"/>
                    </a:lnTo>
                    <a:lnTo>
                      <a:pt x="1403" y="381"/>
                    </a:lnTo>
                    <a:lnTo>
                      <a:pt x="1385" y="375"/>
                    </a:lnTo>
                    <a:lnTo>
                      <a:pt x="1374" y="375"/>
                    </a:lnTo>
                    <a:lnTo>
                      <a:pt x="1362" y="363"/>
                    </a:lnTo>
                    <a:lnTo>
                      <a:pt x="1351" y="358"/>
                    </a:lnTo>
                    <a:lnTo>
                      <a:pt x="1339" y="346"/>
                    </a:lnTo>
                    <a:lnTo>
                      <a:pt x="1339" y="335"/>
                    </a:lnTo>
                    <a:lnTo>
                      <a:pt x="1333" y="323"/>
                    </a:lnTo>
                    <a:lnTo>
                      <a:pt x="1333" y="306"/>
                    </a:lnTo>
                    <a:lnTo>
                      <a:pt x="1333" y="271"/>
                    </a:lnTo>
                    <a:lnTo>
                      <a:pt x="1333" y="231"/>
                    </a:lnTo>
                    <a:lnTo>
                      <a:pt x="1339" y="185"/>
                    </a:lnTo>
                    <a:lnTo>
                      <a:pt x="1345" y="138"/>
                    </a:lnTo>
                    <a:lnTo>
                      <a:pt x="1351" y="92"/>
                    </a:lnTo>
                    <a:lnTo>
                      <a:pt x="1356" y="58"/>
                    </a:lnTo>
                    <a:lnTo>
                      <a:pt x="1362" y="23"/>
                    </a:lnTo>
                    <a:lnTo>
                      <a:pt x="1356" y="23"/>
                    </a:lnTo>
                    <a:lnTo>
                      <a:pt x="1356" y="23"/>
                    </a:lnTo>
                    <a:lnTo>
                      <a:pt x="1304" y="23"/>
                    </a:lnTo>
                    <a:lnTo>
                      <a:pt x="1252" y="17"/>
                    </a:lnTo>
                    <a:lnTo>
                      <a:pt x="1206" y="17"/>
                    </a:lnTo>
                    <a:lnTo>
                      <a:pt x="1166" y="11"/>
                    </a:lnTo>
                    <a:lnTo>
                      <a:pt x="1126" y="6"/>
                    </a:lnTo>
                    <a:lnTo>
                      <a:pt x="1091" y="6"/>
                    </a:lnTo>
                    <a:lnTo>
                      <a:pt x="1068" y="0"/>
                    </a:lnTo>
                    <a:lnTo>
                      <a:pt x="1051" y="0"/>
                    </a:lnTo>
                    <a:lnTo>
                      <a:pt x="1039" y="0"/>
                    </a:lnTo>
                    <a:lnTo>
                      <a:pt x="1033" y="6"/>
                    </a:lnTo>
                    <a:lnTo>
                      <a:pt x="1022" y="11"/>
                    </a:lnTo>
                    <a:lnTo>
                      <a:pt x="1010" y="23"/>
                    </a:lnTo>
                    <a:lnTo>
                      <a:pt x="1004" y="29"/>
                    </a:lnTo>
                    <a:lnTo>
                      <a:pt x="993" y="40"/>
                    </a:lnTo>
                    <a:lnTo>
                      <a:pt x="993" y="58"/>
                    </a:lnTo>
                    <a:lnTo>
                      <a:pt x="987" y="69"/>
                    </a:lnTo>
                    <a:lnTo>
                      <a:pt x="981" y="86"/>
                    </a:lnTo>
                    <a:lnTo>
                      <a:pt x="981" y="104"/>
                    </a:lnTo>
                    <a:lnTo>
                      <a:pt x="981" y="121"/>
                    </a:lnTo>
                    <a:lnTo>
                      <a:pt x="987" y="133"/>
                    </a:lnTo>
                    <a:lnTo>
                      <a:pt x="993" y="150"/>
                    </a:lnTo>
                    <a:lnTo>
                      <a:pt x="999" y="167"/>
                    </a:lnTo>
                    <a:lnTo>
                      <a:pt x="1010" y="185"/>
                    </a:lnTo>
                    <a:lnTo>
                      <a:pt x="1022" y="196"/>
                    </a:lnTo>
                    <a:lnTo>
                      <a:pt x="1039" y="208"/>
                    </a:lnTo>
                    <a:lnTo>
                      <a:pt x="1045" y="225"/>
                    </a:lnTo>
                    <a:lnTo>
                      <a:pt x="1056" y="248"/>
                    </a:lnTo>
                    <a:lnTo>
                      <a:pt x="1062" y="260"/>
                    </a:lnTo>
                    <a:lnTo>
                      <a:pt x="1062" y="283"/>
                    </a:lnTo>
                    <a:lnTo>
                      <a:pt x="1062" y="300"/>
                    </a:lnTo>
                    <a:lnTo>
                      <a:pt x="1062" y="317"/>
                    </a:lnTo>
                    <a:lnTo>
                      <a:pt x="1051" y="329"/>
                    </a:lnTo>
                    <a:lnTo>
                      <a:pt x="1045" y="346"/>
                    </a:lnTo>
                    <a:lnTo>
                      <a:pt x="1033" y="363"/>
                    </a:lnTo>
                    <a:lnTo>
                      <a:pt x="1022" y="375"/>
                    </a:lnTo>
                    <a:lnTo>
                      <a:pt x="1004" y="387"/>
                    </a:lnTo>
                    <a:lnTo>
                      <a:pt x="987" y="398"/>
                    </a:lnTo>
                    <a:lnTo>
                      <a:pt x="964" y="404"/>
                    </a:lnTo>
                    <a:lnTo>
                      <a:pt x="941" y="410"/>
                    </a:lnTo>
                    <a:lnTo>
                      <a:pt x="918" y="415"/>
                    </a:lnTo>
                    <a:lnTo>
                      <a:pt x="906" y="415"/>
                    </a:lnTo>
                    <a:lnTo>
                      <a:pt x="895" y="415"/>
                    </a:lnTo>
                    <a:lnTo>
                      <a:pt x="883" y="410"/>
                    </a:lnTo>
                    <a:lnTo>
                      <a:pt x="872" y="410"/>
                    </a:lnTo>
                    <a:lnTo>
                      <a:pt x="860" y="404"/>
                    </a:lnTo>
                    <a:lnTo>
                      <a:pt x="849" y="398"/>
                    </a:lnTo>
                    <a:lnTo>
                      <a:pt x="843" y="392"/>
                    </a:lnTo>
                    <a:lnTo>
                      <a:pt x="831" y="387"/>
                    </a:lnTo>
                    <a:lnTo>
                      <a:pt x="814" y="375"/>
                    </a:lnTo>
                    <a:lnTo>
                      <a:pt x="802" y="363"/>
                    </a:lnTo>
                    <a:lnTo>
                      <a:pt x="791" y="346"/>
                    </a:lnTo>
                    <a:lnTo>
                      <a:pt x="785" y="329"/>
                    </a:lnTo>
                    <a:lnTo>
                      <a:pt x="779" y="312"/>
                    </a:lnTo>
                    <a:lnTo>
                      <a:pt x="779" y="288"/>
                    </a:lnTo>
                    <a:lnTo>
                      <a:pt x="774" y="271"/>
                    </a:lnTo>
                    <a:lnTo>
                      <a:pt x="779" y="254"/>
                    </a:lnTo>
                    <a:lnTo>
                      <a:pt x="779" y="231"/>
                    </a:lnTo>
                    <a:lnTo>
                      <a:pt x="791" y="219"/>
                    </a:lnTo>
                    <a:lnTo>
                      <a:pt x="797" y="202"/>
                    </a:lnTo>
                    <a:lnTo>
                      <a:pt x="808" y="190"/>
                    </a:lnTo>
                    <a:lnTo>
                      <a:pt x="820" y="179"/>
                    </a:lnTo>
                    <a:lnTo>
                      <a:pt x="825" y="167"/>
                    </a:lnTo>
                    <a:lnTo>
                      <a:pt x="831" y="156"/>
                    </a:lnTo>
                    <a:lnTo>
                      <a:pt x="837" y="144"/>
                    </a:lnTo>
                    <a:lnTo>
                      <a:pt x="843" y="133"/>
                    </a:lnTo>
                    <a:lnTo>
                      <a:pt x="843" y="121"/>
                    </a:lnTo>
                    <a:lnTo>
                      <a:pt x="843" y="110"/>
                    </a:lnTo>
                    <a:lnTo>
                      <a:pt x="837" y="98"/>
                    </a:lnTo>
                    <a:lnTo>
                      <a:pt x="831" y="86"/>
                    </a:lnTo>
                    <a:lnTo>
                      <a:pt x="825" y="75"/>
                    </a:lnTo>
                    <a:lnTo>
                      <a:pt x="814" y="63"/>
                    </a:lnTo>
                    <a:lnTo>
                      <a:pt x="797" y="58"/>
                    </a:lnTo>
                    <a:lnTo>
                      <a:pt x="779" y="46"/>
                    </a:lnTo>
                    <a:lnTo>
                      <a:pt x="762" y="40"/>
                    </a:lnTo>
                    <a:lnTo>
                      <a:pt x="739" y="29"/>
                    </a:lnTo>
                    <a:lnTo>
                      <a:pt x="710" y="23"/>
                    </a:lnTo>
                    <a:lnTo>
                      <a:pt x="681" y="23"/>
                    </a:lnTo>
                    <a:lnTo>
                      <a:pt x="641" y="17"/>
                    </a:lnTo>
                    <a:lnTo>
                      <a:pt x="595" y="17"/>
                    </a:lnTo>
                    <a:lnTo>
                      <a:pt x="548" y="23"/>
                    </a:lnTo>
                    <a:lnTo>
                      <a:pt x="497" y="23"/>
                    </a:lnTo>
                    <a:lnTo>
                      <a:pt x="450" y="29"/>
                    </a:lnTo>
                    <a:lnTo>
                      <a:pt x="410" y="35"/>
                    </a:lnTo>
                    <a:lnTo>
                      <a:pt x="381" y="40"/>
                    </a:lnTo>
                    <a:lnTo>
                      <a:pt x="387" y="75"/>
                    </a:lnTo>
                    <a:lnTo>
                      <a:pt x="404" y="115"/>
                    </a:lnTo>
                    <a:lnTo>
                      <a:pt x="416" y="167"/>
                    </a:lnTo>
                    <a:lnTo>
                      <a:pt x="427" y="219"/>
                    </a:lnTo>
                    <a:lnTo>
                      <a:pt x="427" y="242"/>
                    </a:lnTo>
                    <a:lnTo>
                      <a:pt x="433" y="271"/>
                    </a:lnTo>
                    <a:lnTo>
                      <a:pt x="433" y="294"/>
                    </a:lnTo>
                    <a:lnTo>
                      <a:pt x="433" y="317"/>
                    </a:lnTo>
                    <a:lnTo>
                      <a:pt x="433" y="335"/>
                    </a:lnTo>
                    <a:lnTo>
                      <a:pt x="427" y="352"/>
                    </a:lnTo>
                    <a:lnTo>
                      <a:pt x="422" y="358"/>
                    </a:lnTo>
                    <a:lnTo>
                      <a:pt x="422" y="369"/>
                    </a:lnTo>
                    <a:lnTo>
                      <a:pt x="416" y="375"/>
                    </a:lnTo>
                    <a:lnTo>
                      <a:pt x="410" y="375"/>
                    </a:lnTo>
                    <a:lnTo>
                      <a:pt x="404" y="387"/>
                    </a:lnTo>
                    <a:lnTo>
                      <a:pt x="387" y="392"/>
                    </a:lnTo>
                    <a:lnTo>
                      <a:pt x="381" y="398"/>
                    </a:lnTo>
                    <a:lnTo>
                      <a:pt x="364" y="404"/>
                    </a:lnTo>
                    <a:lnTo>
                      <a:pt x="352" y="410"/>
                    </a:lnTo>
                    <a:lnTo>
                      <a:pt x="341" y="410"/>
                    </a:lnTo>
                    <a:lnTo>
                      <a:pt x="329" y="410"/>
                    </a:lnTo>
                    <a:lnTo>
                      <a:pt x="318" y="410"/>
                    </a:lnTo>
                    <a:lnTo>
                      <a:pt x="306" y="410"/>
                    </a:lnTo>
                    <a:lnTo>
                      <a:pt x="295" y="410"/>
                    </a:lnTo>
                    <a:lnTo>
                      <a:pt x="283" y="404"/>
                    </a:lnTo>
                    <a:lnTo>
                      <a:pt x="271" y="404"/>
                    </a:lnTo>
                    <a:lnTo>
                      <a:pt x="260" y="398"/>
                    </a:lnTo>
                    <a:lnTo>
                      <a:pt x="248" y="392"/>
                    </a:lnTo>
                    <a:lnTo>
                      <a:pt x="243" y="387"/>
                    </a:lnTo>
                    <a:lnTo>
                      <a:pt x="237" y="375"/>
                    </a:lnTo>
                    <a:lnTo>
                      <a:pt x="225" y="369"/>
                    </a:lnTo>
                    <a:lnTo>
                      <a:pt x="208" y="358"/>
                    </a:lnTo>
                    <a:lnTo>
                      <a:pt x="191" y="352"/>
                    </a:lnTo>
                    <a:lnTo>
                      <a:pt x="173" y="346"/>
                    </a:lnTo>
                    <a:lnTo>
                      <a:pt x="156" y="346"/>
                    </a:lnTo>
                    <a:lnTo>
                      <a:pt x="139" y="346"/>
                    </a:lnTo>
                    <a:lnTo>
                      <a:pt x="116" y="346"/>
                    </a:lnTo>
                    <a:lnTo>
                      <a:pt x="98" y="352"/>
                    </a:lnTo>
                    <a:lnTo>
                      <a:pt x="81" y="358"/>
                    </a:lnTo>
                    <a:lnTo>
                      <a:pt x="64" y="369"/>
                    </a:lnTo>
                    <a:lnTo>
                      <a:pt x="46" y="387"/>
                    </a:lnTo>
                    <a:lnTo>
                      <a:pt x="29" y="398"/>
                    </a:lnTo>
                    <a:lnTo>
                      <a:pt x="23" y="410"/>
                    </a:lnTo>
                    <a:lnTo>
                      <a:pt x="18" y="415"/>
                    </a:lnTo>
                    <a:lnTo>
                      <a:pt x="18" y="427"/>
                    </a:lnTo>
                    <a:lnTo>
                      <a:pt x="12" y="438"/>
                    </a:lnTo>
                    <a:lnTo>
                      <a:pt x="6" y="450"/>
                    </a:lnTo>
                    <a:lnTo>
                      <a:pt x="6" y="462"/>
                    </a:lnTo>
                    <a:lnTo>
                      <a:pt x="0" y="479"/>
                    </a:lnTo>
                    <a:lnTo>
                      <a:pt x="0" y="490"/>
                    </a:lnTo>
                    <a:lnTo>
                      <a:pt x="0" y="502"/>
                    </a:lnTo>
                    <a:lnTo>
                      <a:pt x="6" y="513"/>
                    </a:lnTo>
                    <a:lnTo>
                      <a:pt x="6" y="525"/>
                    </a:lnTo>
                    <a:lnTo>
                      <a:pt x="12" y="531"/>
                    </a:lnTo>
                    <a:lnTo>
                      <a:pt x="12" y="542"/>
                    </a:lnTo>
                    <a:lnTo>
                      <a:pt x="18" y="548"/>
                    </a:lnTo>
                    <a:lnTo>
                      <a:pt x="23" y="560"/>
                    </a:lnTo>
                    <a:lnTo>
                      <a:pt x="29" y="565"/>
                    </a:lnTo>
                    <a:lnTo>
                      <a:pt x="41" y="583"/>
                    </a:lnTo>
                    <a:lnTo>
                      <a:pt x="58" y="594"/>
                    </a:lnTo>
                    <a:lnTo>
                      <a:pt x="75" y="600"/>
                    </a:lnTo>
                    <a:lnTo>
                      <a:pt x="93" y="606"/>
                    </a:lnTo>
                    <a:lnTo>
                      <a:pt x="110" y="612"/>
                    </a:lnTo>
                    <a:lnTo>
                      <a:pt x="127" y="617"/>
                    </a:lnTo>
                    <a:lnTo>
                      <a:pt x="150" y="617"/>
                    </a:lnTo>
                    <a:lnTo>
                      <a:pt x="168" y="617"/>
                    </a:lnTo>
                    <a:lnTo>
                      <a:pt x="179" y="612"/>
                    </a:lnTo>
                    <a:lnTo>
                      <a:pt x="196" y="606"/>
                    </a:lnTo>
                    <a:lnTo>
                      <a:pt x="208" y="600"/>
                    </a:lnTo>
                    <a:lnTo>
                      <a:pt x="214" y="588"/>
                    </a:lnTo>
                    <a:lnTo>
                      <a:pt x="225" y="583"/>
                    </a:lnTo>
                    <a:lnTo>
                      <a:pt x="237" y="577"/>
                    </a:lnTo>
                    <a:lnTo>
                      <a:pt x="248" y="571"/>
                    </a:lnTo>
                    <a:lnTo>
                      <a:pt x="260" y="565"/>
                    </a:lnTo>
                    <a:lnTo>
                      <a:pt x="271" y="565"/>
                    </a:lnTo>
                    <a:lnTo>
                      <a:pt x="289" y="565"/>
                    </a:lnTo>
                    <a:lnTo>
                      <a:pt x="300" y="571"/>
                    </a:lnTo>
                    <a:lnTo>
                      <a:pt x="312" y="571"/>
                    </a:lnTo>
                    <a:lnTo>
                      <a:pt x="329" y="577"/>
                    </a:lnTo>
                    <a:lnTo>
                      <a:pt x="341" y="583"/>
                    </a:lnTo>
                    <a:lnTo>
                      <a:pt x="346" y="588"/>
                    </a:lnTo>
                    <a:lnTo>
                      <a:pt x="358" y="600"/>
                    </a:lnTo>
                    <a:lnTo>
                      <a:pt x="364" y="612"/>
                    </a:lnTo>
                    <a:lnTo>
                      <a:pt x="375" y="617"/>
                    </a:lnTo>
                    <a:lnTo>
                      <a:pt x="375" y="629"/>
                    </a:lnTo>
                    <a:lnTo>
                      <a:pt x="381" y="640"/>
                    </a:lnTo>
                    <a:lnTo>
                      <a:pt x="375" y="669"/>
                    </a:lnTo>
                    <a:lnTo>
                      <a:pt x="375" y="704"/>
                    </a:lnTo>
                    <a:lnTo>
                      <a:pt x="370" y="744"/>
                    </a:lnTo>
                    <a:lnTo>
                      <a:pt x="370" y="790"/>
                    </a:lnTo>
                    <a:lnTo>
                      <a:pt x="364" y="842"/>
                    </a:lnTo>
                    <a:lnTo>
                      <a:pt x="364" y="888"/>
                    </a:lnTo>
                    <a:lnTo>
                      <a:pt x="370" y="912"/>
                    </a:lnTo>
                    <a:lnTo>
                      <a:pt x="370" y="935"/>
                    </a:lnTo>
                    <a:lnTo>
                      <a:pt x="375" y="952"/>
                    </a:lnTo>
                    <a:lnTo>
                      <a:pt x="381" y="975"/>
                    </a:lnTo>
                    <a:lnTo>
                      <a:pt x="387" y="981"/>
                    </a:lnTo>
                    <a:lnTo>
                      <a:pt x="404" y="981"/>
                    </a:lnTo>
                    <a:lnTo>
                      <a:pt x="422" y="987"/>
                    </a:lnTo>
                    <a:lnTo>
                      <a:pt x="439" y="987"/>
                    </a:lnTo>
                    <a:lnTo>
                      <a:pt x="485" y="987"/>
                    </a:lnTo>
                    <a:lnTo>
                      <a:pt x="531" y="987"/>
                    </a:lnTo>
                    <a:lnTo>
                      <a:pt x="589" y="981"/>
                    </a:lnTo>
                    <a:lnTo>
                      <a:pt x="641" y="981"/>
                    </a:lnTo>
                    <a:lnTo>
                      <a:pt x="698" y="975"/>
                    </a:lnTo>
                    <a:lnTo>
                      <a:pt x="750" y="975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800600" y="2681280"/>
                <a:ext cx="2471760" cy="1585800"/>
              </a:xfrm>
              <a:custGeom>
                <a:avLst/>
                <a:gdLst/>
                <a:ahLst/>
                <a:rect l="l" t="t" r="r" b="b"/>
                <a:pathLst>
                  <a:path w="1755" h="1033">
                    <a:moveTo>
                      <a:pt x="768" y="993"/>
                    </a:moveTo>
                    <a:lnTo>
                      <a:pt x="774" y="993"/>
                    </a:lnTo>
                    <a:lnTo>
                      <a:pt x="774" y="993"/>
                    </a:lnTo>
                    <a:lnTo>
                      <a:pt x="791" y="987"/>
                    </a:lnTo>
                    <a:lnTo>
                      <a:pt x="785" y="975"/>
                    </a:lnTo>
                    <a:lnTo>
                      <a:pt x="785" y="987"/>
                    </a:lnTo>
                    <a:lnTo>
                      <a:pt x="791" y="987"/>
                    </a:lnTo>
                    <a:lnTo>
                      <a:pt x="797" y="987"/>
                    </a:lnTo>
                    <a:lnTo>
                      <a:pt x="797" y="987"/>
                    </a:lnTo>
                    <a:lnTo>
                      <a:pt x="808" y="981"/>
                    </a:lnTo>
                    <a:lnTo>
                      <a:pt x="808" y="975"/>
                    </a:lnTo>
                    <a:lnTo>
                      <a:pt x="814" y="975"/>
                    </a:lnTo>
                    <a:lnTo>
                      <a:pt x="820" y="964"/>
                    </a:lnTo>
                    <a:lnTo>
                      <a:pt x="808" y="958"/>
                    </a:lnTo>
                    <a:lnTo>
                      <a:pt x="814" y="964"/>
                    </a:lnTo>
                    <a:lnTo>
                      <a:pt x="820" y="958"/>
                    </a:lnTo>
                    <a:lnTo>
                      <a:pt x="826" y="958"/>
                    </a:lnTo>
                    <a:lnTo>
                      <a:pt x="826" y="952"/>
                    </a:lnTo>
                    <a:lnTo>
                      <a:pt x="826" y="946"/>
                    </a:lnTo>
                    <a:lnTo>
                      <a:pt x="814" y="946"/>
                    </a:lnTo>
                    <a:lnTo>
                      <a:pt x="826" y="952"/>
                    </a:lnTo>
                    <a:lnTo>
                      <a:pt x="831" y="941"/>
                    </a:lnTo>
                    <a:lnTo>
                      <a:pt x="831" y="941"/>
                    </a:lnTo>
                    <a:lnTo>
                      <a:pt x="831" y="935"/>
                    </a:lnTo>
                    <a:lnTo>
                      <a:pt x="831" y="923"/>
                    </a:lnTo>
                    <a:lnTo>
                      <a:pt x="831" y="923"/>
                    </a:lnTo>
                    <a:lnTo>
                      <a:pt x="831" y="923"/>
                    </a:lnTo>
                    <a:lnTo>
                      <a:pt x="826" y="912"/>
                    </a:lnTo>
                    <a:lnTo>
                      <a:pt x="814" y="912"/>
                    </a:lnTo>
                    <a:lnTo>
                      <a:pt x="826" y="912"/>
                    </a:lnTo>
                    <a:lnTo>
                      <a:pt x="826" y="900"/>
                    </a:lnTo>
                    <a:lnTo>
                      <a:pt x="826" y="900"/>
                    </a:lnTo>
                    <a:lnTo>
                      <a:pt x="826" y="900"/>
                    </a:lnTo>
                    <a:lnTo>
                      <a:pt x="820" y="889"/>
                    </a:lnTo>
                    <a:lnTo>
                      <a:pt x="820" y="889"/>
                    </a:lnTo>
                    <a:lnTo>
                      <a:pt x="814" y="883"/>
                    </a:lnTo>
                    <a:lnTo>
                      <a:pt x="803" y="871"/>
                    </a:lnTo>
                    <a:lnTo>
                      <a:pt x="797" y="877"/>
                    </a:lnTo>
                    <a:lnTo>
                      <a:pt x="808" y="877"/>
                    </a:lnTo>
                    <a:lnTo>
                      <a:pt x="803" y="860"/>
                    </a:lnTo>
                    <a:lnTo>
                      <a:pt x="803" y="860"/>
                    </a:lnTo>
                    <a:lnTo>
                      <a:pt x="797" y="854"/>
                    </a:lnTo>
                    <a:lnTo>
                      <a:pt x="785" y="843"/>
                    </a:lnTo>
                    <a:lnTo>
                      <a:pt x="780" y="848"/>
                    </a:lnTo>
                    <a:lnTo>
                      <a:pt x="791" y="848"/>
                    </a:lnTo>
                    <a:lnTo>
                      <a:pt x="780" y="831"/>
                    </a:lnTo>
                    <a:lnTo>
                      <a:pt x="774" y="825"/>
                    </a:lnTo>
                    <a:lnTo>
                      <a:pt x="774" y="825"/>
                    </a:lnTo>
                    <a:lnTo>
                      <a:pt x="762" y="819"/>
                    </a:lnTo>
                    <a:lnTo>
                      <a:pt x="756" y="825"/>
                    </a:lnTo>
                    <a:lnTo>
                      <a:pt x="768" y="825"/>
                    </a:lnTo>
                    <a:lnTo>
                      <a:pt x="762" y="814"/>
                    </a:lnTo>
                    <a:lnTo>
                      <a:pt x="751" y="814"/>
                    </a:lnTo>
                    <a:lnTo>
                      <a:pt x="762" y="814"/>
                    </a:lnTo>
                    <a:lnTo>
                      <a:pt x="762" y="808"/>
                    </a:lnTo>
                    <a:lnTo>
                      <a:pt x="762" y="808"/>
                    </a:lnTo>
                    <a:lnTo>
                      <a:pt x="762" y="808"/>
                    </a:lnTo>
                    <a:lnTo>
                      <a:pt x="756" y="796"/>
                    </a:lnTo>
                    <a:lnTo>
                      <a:pt x="751" y="779"/>
                    </a:lnTo>
                    <a:lnTo>
                      <a:pt x="745" y="762"/>
                    </a:lnTo>
                    <a:lnTo>
                      <a:pt x="733" y="762"/>
                    </a:lnTo>
                    <a:lnTo>
                      <a:pt x="745" y="762"/>
                    </a:lnTo>
                    <a:lnTo>
                      <a:pt x="745" y="744"/>
                    </a:lnTo>
                    <a:lnTo>
                      <a:pt x="733" y="744"/>
                    </a:lnTo>
                    <a:lnTo>
                      <a:pt x="745" y="750"/>
                    </a:lnTo>
                    <a:lnTo>
                      <a:pt x="751" y="727"/>
                    </a:lnTo>
                    <a:lnTo>
                      <a:pt x="756" y="710"/>
                    </a:lnTo>
                    <a:lnTo>
                      <a:pt x="768" y="693"/>
                    </a:lnTo>
                    <a:lnTo>
                      <a:pt x="780" y="675"/>
                    </a:lnTo>
                    <a:lnTo>
                      <a:pt x="768" y="669"/>
                    </a:lnTo>
                    <a:lnTo>
                      <a:pt x="774" y="675"/>
                    </a:lnTo>
                    <a:lnTo>
                      <a:pt x="785" y="664"/>
                    </a:lnTo>
                    <a:lnTo>
                      <a:pt x="803" y="646"/>
                    </a:lnTo>
                    <a:lnTo>
                      <a:pt x="797" y="641"/>
                    </a:lnTo>
                    <a:lnTo>
                      <a:pt x="803" y="652"/>
                    </a:lnTo>
                    <a:lnTo>
                      <a:pt x="820" y="641"/>
                    </a:lnTo>
                    <a:lnTo>
                      <a:pt x="837" y="635"/>
                    </a:lnTo>
                    <a:lnTo>
                      <a:pt x="860" y="623"/>
                    </a:lnTo>
                    <a:lnTo>
                      <a:pt x="878" y="618"/>
                    </a:lnTo>
                    <a:lnTo>
                      <a:pt x="872" y="606"/>
                    </a:lnTo>
                    <a:lnTo>
                      <a:pt x="872" y="618"/>
                    </a:lnTo>
                    <a:lnTo>
                      <a:pt x="895" y="618"/>
                    </a:lnTo>
                    <a:lnTo>
                      <a:pt x="918" y="618"/>
                    </a:lnTo>
                    <a:lnTo>
                      <a:pt x="918" y="606"/>
                    </a:lnTo>
                    <a:lnTo>
                      <a:pt x="918" y="618"/>
                    </a:lnTo>
                    <a:lnTo>
                      <a:pt x="935" y="623"/>
                    </a:lnTo>
                    <a:lnTo>
                      <a:pt x="958" y="635"/>
                    </a:lnTo>
                    <a:lnTo>
                      <a:pt x="970" y="641"/>
                    </a:lnTo>
                    <a:lnTo>
                      <a:pt x="970" y="629"/>
                    </a:lnTo>
                    <a:lnTo>
                      <a:pt x="964" y="635"/>
                    </a:lnTo>
                    <a:lnTo>
                      <a:pt x="981" y="652"/>
                    </a:lnTo>
                    <a:lnTo>
                      <a:pt x="993" y="664"/>
                    </a:lnTo>
                    <a:lnTo>
                      <a:pt x="1005" y="675"/>
                    </a:lnTo>
                    <a:lnTo>
                      <a:pt x="1010" y="669"/>
                    </a:lnTo>
                    <a:lnTo>
                      <a:pt x="1005" y="675"/>
                    </a:lnTo>
                    <a:lnTo>
                      <a:pt x="1016" y="693"/>
                    </a:lnTo>
                    <a:lnTo>
                      <a:pt x="1022" y="716"/>
                    </a:lnTo>
                    <a:lnTo>
                      <a:pt x="1028" y="733"/>
                    </a:lnTo>
                    <a:lnTo>
                      <a:pt x="1033" y="750"/>
                    </a:lnTo>
                    <a:lnTo>
                      <a:pt x="1039" y="744"/>
                    </a:lnTo>
                    <a:lnTo>
                      <a:pt x="1033" y="744"/>
                    </a:lnTo>
                    <a:lnTo>
                      <a:pt x="1033" y="762"/>
                    </a:lnTo>
                    <a:lnTo>
                      <a:pt x="1039" y="762"/>
                    </a:lnTo>
                    <a:lnTo>
                      <a:pt x="1033" y="762"/>
                    </a:lnTo>
                    <a:lnTo>
                      <a:pt x="1028" y="779"/>
                    </a:lnTo>
                    <a:lnTo>
                      <a:pt x="1022" y="796"/>
                    </a:lnTo>
                    <a:lnTo>
                      <a:pt x="1016" y="814"/>
                    </a:lnTo>
                    <a:lnTo>
                      <a:pt x="1022" y="814"/>
                    </a:lnTo>
                    <a:lnTo>
                      <a:pt x="1016" y="808"/>
                    </a:lnTo>
                    <a:lnTo>
                      <a:pt x="1005" y="819"/>
                    </a:lnTo>
                    <a:lnTo>
                      <a:pt x="981" y="843"/>
                    </a:lnTo>
                    <a:lnTo>
                      <a:pt x="958" y="866"/>
                    </a:lnTo>
                    <a:lnTo>
                      <a:pt x="958" y="871"/>
                    </a:lnTo>
                    <a:lnTo>
                      <a:pt x="958" y="871"/>
                    </a:lnTo>
                    <a:lnTo>
                      <a:pt x="953" y="883"/>
                    </a:lnTo>
                    <a:lnTo>
                      <a:pt x="947" y="894"/>
                    </a:lnTo>
                    <a:lnTo>
                      <a:pt x="953" y="894"/>
                    </a:lnTo>
                    <a:lnTo>
                      <a:pt x="947" y="889"/>
                    </a:lnTo>
                    <a:lnTo>
                      <a:pt x="941" y="894"/>
                    </a:lnTo>
                    <a:lnTo>
                      <a:pt x="941" y="900"/>
                    </a:lnTo>
                    <a:lnTo>
                      <a:pt x="941" y="900"/>
                    </a:lnTo>
                    <a:lnTo>
                      <a:pt x="935" y="912"/>
                    </a:lnTo>
                    <a:lnTo>
                      <a:pt x="935" y="912"/>
                    </a:lnTo>
                    <a:lnTo>
                      <a:pt x="935" y="912"/>
                    </a:lnTo>
                    <a:lnTo>
                      <a:pt x="935" y="923"/>
                    </a:lnTo>
                    <a:lnTo>
                      <a:pt x="935" y="929"/>
                    </a:lnTo>
                    <a:lnTo>
                      <a:pt x="935" y="941"/>
                    </a:lnTo>
                    <a:lnTo>
                      <a:pt x="935" y="946"/>
                    </a:lnTo>
                    <a:lnTo>
                      <a:pt x="935" y="952"/>
                    </a:lnTo>
                    <a:lnTo>
                      <a:pt x="935" y="952"/>
                    </a:lnTo>
                    <a:lnTo>
                      <a:pt x="941" y="958"/>
                    </a:lnTo>
                    <a:lnTo>
                      <a:pt x="947" y="952"/>
                    </a:lnTo>
                    <a:lnTo>
                      <a:pt x="941" y="958"/>
                    </a:lnTo>
                    <a:lnTo>
                      <a:pt x="947" y="969"/>
                    </a:lnTo>
                    <a:lnTo>
                      <a:pt x="947" y="969"/>
                    </a:lnTo>
                    <a:lnTo>
                      <a:pt x="947" y="969"/>
                    </a:lnTo>
                    <a:lnTo>
                      <a:pt x="953" y="975"/>
                    </a:lnTo>
                    <a:lnTo>
                      <a:pt x="964" y="987"/>
                    </a:lnTo>
                    <a:lnTo>
                      <a:pt x="970" y="993"/>
                    </a:lnTo>
                    <a:lnTo>
                      <a:pt x="970" y="993"/>
                    </a:lnTo>
                    <a:lnTo>
                      <a:pt x="987" y="998"/>
                    </a:lnTo>
                    <a:lnTo>
                      <a:pt x="987" y="987"/>
                    </a:lnTo>
                    <a:lnTo>
                      <a:pt x="981" y="993"/>
                    </a:lnTo>
                    <a:lnTo>
                      <a:pt x="993" y="1004"/>
                    </a:lnTo>
                    <a:lnTo>
                      <a:pt x="993" y="1004"/>
                    </a:lnTo>
                    <a:lnTo>
                      <a:pt x="999" y="1010"/>
                    </a:lnTo>
                    <a:lnTo>
                      <a:pt x="1022" y="1016"/>
                    </a:lnTo>
                    <a:lnTo>
                      <a:pt x="1045" y="1021"/>
                    </a:lnTo>
                    <a:lnTo>
                      <a:pt x="1074" y="1027"/>
                    </a:lnTo>
                    <a:lnTo>
                      <a:pt x="1097" y="1027"/>
                    </a:lnTo>
                    <a:lnTo>
                      <a:pt x="1126" y="1033"/>
                    </a:lnTo>
                    <a:lnTo>
                      <a:pt x="1155" y="1033"/>
                    </a:lnTo>
                    <a:lnTo>
                      <a:pt x="1183" y="1033"/>
                    </a:lnTo>
                    <a:lnTo>
                      <a:pt x="1212" y="1033"/>
                    </a:lnTo>
                    <a:lnTo>
                      <a:pt x="1247" y="1027"/>
                    </a:lnTo>
                    <a:lnTo>
                      <a:pt x="1270" y="1027"/>
                    </a:lnTo>
                    <a:lnTo>
                      <a:pt x="1299" y="1021"/>
                    </a:lnTo>
                    <a:lnTo>
                      <a:pt x="1328" y="1016"/>
                    </a:lnTo>
                    <a:lnTo>
                      <a:pt x="1333" y="1010"/>
                    </a:lnTo>
                    <a:lnTo>
                      <a:pt x="1333" y="1016"/>
                    </a:lnTo>
                    <a:lnTo>
                      <a:pt x="1351" y="1004"/>
                    </a:lnTo>
                    <a:lnTo>
                      <a:pt x="1374" y="993"/>
                    </a:lnTo>
                    <a:lnTo>
                      <a:pt x="1374" y="987"/>
                    </a:lnTo>
                    <a:lnTo>
                      <a:pt x="1380" y="987"/>
                    </a:lnTo>
                    <a:lnTo>
                      <a:pt x="1385" y="975"/>
                    </a:lnTo>
                    <a:lnTo>
                      <a:pt x="1385" y="975"/>
                    </a:lnTo>
                    <a:lnTo>
                      <a:pt x="1385" y="969"/>
                    </a:lnTo>
                    <a:lnTo>
                      <a:pt x="1385" y="958"/>
                    </a:lnTo>
                    <a:lnTo>
                      <a:pt x="1374" y="958"/>
                    </a:lnTo>
                    <a:lnTo>
                      <a:pt x="1380" y="964"/>
                    </a:lnTo>
                    <a:lnTo>
                      <a:pt x="1385" y="958"/>
                    </a:lnTo>
                    <a:lnTo>
                      <a:pt x="1391" y="958"/>
                    </a:lnTo>
                    <a:lnTo>
                      <a:pt x="1391" y="952"/>
                    </a:lnTo>
                    <a:lnTo>
                      <a:pt x="1391" y="941"/>
                    </a:lnTo>
                    <a:lnTo>
                      <a:pt x="1391" y="918"/>
                    </a:lnTo>
                    <a:lnTo>
                      <a:pt x="1391" y="894"/>
                    </a:lnTo>
                    <a:lnTo>
                      <a:pt x="1391" y="866"/>
                    </a:lnTo>
                    <a:lnTo>
                      <a:pt x="1391" y="837"/>
                    </a:lnTo>
                    <a:lnTo>
                      <a:pt x="1391" y="837"/>
                    </a:lnTo>
                    <a:lnTo>
                      <a:pt x="1391" y="837"/>
                    </a:lnTo>
                    <a:lnTo>
                      <a:pt x="1385" y="814"/>
                    </a:lnTo>
                    <a:lnTo>
                      <a:pt x="1374" y="814"/>
                    </a:lnTo>
                    <a:lnTo>
                      <a:pt x="1385" y="814"/>
                    </a:lnTo>
                    <a:lnTo>
                      <a:pt x="1380" y="785"/>
                    </a:lnTo>
                    <a:lnTo>
                      <a:pt x="1374" y="756"/>
                    </a:lnTo>
                    <a:lnTo>
                      <a:pt x="1380" y="785"/>
                    </a:lnTo>
                    <a:lnTo>
                      <a:pt x="1368" y="733"/>
                    </a:lnTo>
                    <a:lnTo>
                      <a:pt x="1357" y="681"/>
                    </a:lnTo>
                    <a:lnTo>
                      <a:pt x="1345" y="681"/>
                    </a:lnTo>
                    <a:lnTo>
                      <a:pt x="1357" y="681"/>
                    </a:lnTo>
                    <a:lnTo>
                      <a:pt x="1357" y="658"/>
                    </a:lnTo>
                    <a:lnTo>
                      <a:pt x="1357" y="635"/>
                    </a:lnTo>
                    <a:lnTo>
                      <a:pt x="1357" y="618"/>
                    </a:lnTo>
                    <a:lnTo>
                      <a:pt x="1345" y="618"/>
                    </a:lnTo>
                    <a:lnTo>
                      <a:pt x="1357" y="623"/>
                    </a:lnTo>
                    <a:lnTo>
                      <a:pt x="1362" y="606"/>
                    </a:lnTo>
                    <a:lnTo>
                      <a:pt x="1368" y="594"/>
                    </a:lnTo>
                    <a:lnTo>
                      <a:pt x="1374" y="577"/>
                    </a:lnTo>
                    <a:lnTo>
                      <a:pt x="1362" y="571"/>
                    </a:lnTo>
                    <a:lnTo>
                      <a:pt x="1368" y="577"/>
                    </a:lnTo>
                    <a:lnTo>
                      <a:pt x="1380" y="566"/>
                    </a:lnTo>
                    <a:lnTo>
                      <a:pt x="1374" y="560"/>
                    </a:lnTo>
                    <a:lnTo>
                      <a:pt x="1380" y="571"/>
                    </a:lnTo>
                    <a:lnTo>
                      <a:pt x="1391" y="566"/>
                    </a:lnTo>
                    <a:lnTo>
                      <a:pt x="1391" y="566"/>
                    </a:lnTo>
                    <a:lnTo>
                      <a:pt x="1391" y="560"/>
                    </a:lnTo>
                    <a:lnTo>
                      <a:pt x="1403" y="548"/>
                    </a:lnTo>
                    <a:lnTo>
                      <a:pt x="1414" y="537"/>
                    </a:lnTo>
                    <a:lnTo>
                      <a:pt x="1409" y="531"/>
                    </a:lnTo>
                    <a:lnTo>
                      <a:pt x="1414" y="543"/>
                    </a:lnTo>
                    <a:lnTo>
                      <a:pt x="1432" y="537"/>
                    </a:lnTo>
                    <a:lnTo>
                      <a:pt x="1443" y="531"/>
                    </a:lnTo>
                    <a:lnTo>
                      <a:pt x="1437" y="519"/>
                    </a:lnTo>
                    <a:lnTo>
                      <a:pt x="1437" y="531"/>
                    </a:lnTo>
                    <a:lnTo>
                      <a:pt x="1449" y="531"/>
                    </a:lnTo>
                    <a:lnTo>
                      <a:pt x="1455" y="531"/>
                    </a:lnTo>
                    <a:lnTo>
                      <a:pt x="1455" y="531"/>
                    </a:lnTo>
                    <a:lnTo>
                      <a:pt x="1472" y="525"/>
                    </a:lnTo>
                    <a:lnTo>
                      <a:pt x="1466" y="514"/>
                    </a:lnTo>
                    <a:lnTo>
                      <a:pt x="1466" y="525"/>
                    </a:lnTo>
                    <a:lnTo>
                      <a:pt x="1478" y="525"/>
                    </a:lnTo>
                    <a:lnTo>
                      <a:pt x="1478" y="514"/>
                    </a:lnTo>
                    <a:lnTo>
                      <a:pt x="1478" y="525"/>
                    </a:lnTo>
                    <a:lnTo>
                      <a:pt x="1495" y="531"/>
                    </a:lnTo>
                    <a:lnTo>
                      <a:pt x="1495" y="531"/>
                    </a:lnTo>
                    <a:lnTo>
                      <a:pt x="1495" y="531"/>
                    </a:lnTo>
                    <a:lnTo>
                      <a:pt x="1507" y="531"/>
                    </a:lnTo>
                    <a:lnTo>
                      <a:pt x="1507" y="519"/>
                    </a:lnTo>
                    <a:lnTo>
                      <a:pt x="1501" y="525"/>
                    </a:lnTo>
                    <a:lnTo>
                      <a:pt x="1512" y="537"/>
                    </a:lnTo>
                    <a:lnTo>
                      <a:pt x="1518" y="543"/>
                    </a:lnTo>
                    <a:lnTo>
                      <a:pt x="1518" y="543"/>
                    </a:lnTo>
                    <a:lnTo>
                      <a:pt x="1530" y="548"/>
                    </a:lnTo>
                    <a:lnTo>
                      <a:pt x="1530" y="537"/>
                    </a:lnTo>
                    <a:lnTo>
                      <a:pt x="1524" y="543"/>
                    </a:lnTo>
                    <a:lnTo>
                      <a:pt x="1535" y="554"/>
                    </a:lnTo>
                    <a:lnTo>
                      <a:pt x="1547" y="566"/>
                    </a:lnTo>
                    <a:lnTo>
                      <a:pt x="1553" y="571"/>
                    </a:lnTo>
                    <a:lnTo>
                      <a:pt x="1553" y="571"/>
                    </a:lnTo>
                    <a:lnTo>
                      <a:pt x="1564" y="577"/>
                    </a:lnTo>
                    <a:lnTo>
                      <a:pt x="1564" y="566"/>
                    </a:lnTo>
                    <a:lnTo>
                      <a:pt x="1559" y="571"/>
                    </a:lnTo>
                    <a:lnTo>
                      <a:pt x="1570" y="583"/>
                    </a:lnTo>
                    <a:lnTo>
                      <a:pt x="1576" y="589"/>
                    </a:lnTo>
                    <a:lnTo>
                      <a:pt x="1576" y="589"/>
                    </a:lnTo>
                    <a:lnTo>
                      <a:pt x="1593" y="594"/>
                    </a:lnTo>
                    <a:lnTo>
                      <a:pt x="1593" y="594"/>
                    </a:lnTo>
                    <a:lnTo>
                      <a:pt x="1593" y="594"/>
                    </a:lnTo>
                    <a:lnTo>
                      <a:pt x="1610" y="594"/>
                    </a:lnTo>
                    <a:lnTo>
                      <a:pt x="1628" y="594"/>
                    </a:lnTo>
                    <a:lnTo>
                      <a:pt x="1628" y="594"/>
                    </a:lnTo>
                    <a:lnTo>
                      <a:pt x="1634" y="594"/>
                    </a:lnTo>
                    <a:lnTo>
                      <a:pt x="1651" y="589"/>
                    </a:lnTo>
                    <a:lnTo>
                      <a:pt x="1668" y="583"/>
                    </a:lnTo>
                    <a:lnTo>
                      <a:pt x="1685" y="577"/>
                    </a:lnTo>
                    <a:lnTo>
                      <a:pt x="1685" y="577"/>
                    </a:lnTo>
                    <a:lnTo>
                      <a:pt x="1685" y="571"/>
                    </a:lnTo>
                    <a:lnTo>
                      <a:pt x="1697" y="560"/>
                    </a:lnTo>
                    <a:lnTo>
                      <a:pt x="1691" y="554"/>
                    </a:lnTo>
                    <a:lnTo>
                      <a:pt x="1697" y="566"/>
                    </a:lnTo>
                    <a:lnTo>
                      <a:pt x="1714" y="560"/>
                    </a:lnTo>
                    <a:lnTo>
                      <a:pt x="1714" y="560"/>
                    </a:lnTo>
                    <a:lnTo>
                      <a:pt x="1714" y="554"/>
                    </a:lnTo>
                    <a:lnTo>
                      <a:pt x="1726" y="543"/>
                    </a:lnTo>
                    <a:lnTo>
                      <a:pt x="1732" y="543"/>
                    </a:lnTo>
                    <a:lnTo>
                      <a:pt x="1732" y="543"/>
                    </a:lnTo>
                    <a:lnTo>
                      <a:pt x="1737" y="531"/>
                    </a:lnTo>
                    <a:lnTo>
                      <a:pt x="1749" y="514"/>
                    </a:lnTo>
                    <a:lnTo>
                      <a:pt x="1749" y="514"/>
                    </a:lnTo>
                    <a:lnTo>
                      <a:pt x="1749" y="508"/>
                    </a:lnTo>
                    <a:lnTo>
                      <a:pt x="1749" y="491"/>
                    </a:lnTo>
                    <a:lnTo>
                      <a:pt x="1737" y="491"/>
                    </a:lnTo>
                    <a:lnTo>
                      <a:pt x="1749" y="496"/>
                    </a:lnTo>
                    <a:lnTo>
                      <a:pt x="1755" y="485"/>
                    </a:lnTo>
                    <a:lnTo>
                      <a:pt x="1755" y="479"/>
                    </a:lnTo>
                    <a:lnTo>
                      <a:pt x="1755" y="479"/>
                    </a:lnTo>
                    <a:lnTo>
                      <a:pt x="1749" y="456"/>
                    </a:lnTo>
                    <a:lnTo>
                      <a:pt x="1737" y="456"/>
                    </a:lnTo>
                    <a:lnTo>
                      <a:pt x="1749" y="456"/>
                    </a:lnTo>
                    <a:lnTo>
                      <a:pt x="1749" y="433"/>
                    </a:lnTo>
                    <a:lnTo>
                      <a:pt x="1749" y="433"/>
                    </a:lnTo>
                    <a:lnTo>
                      <a:pt x="1749" y="433"/>
                    </a:lnTo>
                    <a:lnTo>
                      <a:pt x="1737" y="416"/>
                    </a:lnTo>
                    <a:lnTo>
                      <a:pt x="1732" y="398"/>
                    </a:lnTo>
                    <a:lnTo>
                      <a:pt x="1720" y="381"/>
                    </a:lnTo>
                    <a:lnTo>
                      <a:pt x="1714" y="375"/>
                    </a:lnTo>
                    <a:lnTo>
                      <a:pt x="1714" y="375"/>
                    </a:lnTo>
                    <a:lnTo>
                      <a:pt x="1697" y="364"/>
                    </a:lnTo>
                    <a:lnTo>
                      <a:pt x="1685" y="358"/>
                    </a:lnTo>
                    <a:lnTo>
                      <a:pt x="1668" y="346"/>
                    </a:lnTo>
                    <a:lnTo>
                      <a:pt x="1651" y="341"/>
                    </a:lnTo>
                    <a:lnTo>
                      <a:pt x="1634" y="335"/>
                    </a:lnTo>
                    <a:lnTo>
                      <a:pt x="1634" y="335"/>
                    </a:lnTo>
                    <a:lnTo>
                      <a:pt x="1628" y="335"/>
                    </a:lnTo>
                    <a:lnTo>
                      <a:pt x="1610" y="335"/>
                    </a:lnTo>
                    <a:lnTo>
                      <a:pt x="1593" y="335"/>
                    </a:lnTo>
                    <a:lnTo>
                      <a:pt x="1593" y="335"/>
                    </a:lnTo>
                    <a:lnTo>
                      <a:pt x="1593" y="335"/>
                    </a:lnTo>
                    <a:lnTo>
                      <a:pt x="1576" y="341"/>
                    </a:lnTo>
                    <a:lnTo>
                      <a:pt x="1564" y="346"/>
                    </a:lnTo>
                    <a:lnTo>
                      <a:pt x="1553" y="352"/>
                    </a:lnTo>
                    <a:lnTo>
                      <a:pt x="1541" y="358"/>
                    </a:lnTo>
                    <a:lnTo>
                      <a:pt x="1541" y="358"/>
                    </a:lnTo>
                    <a:lnTo>
                      <a:pt x="1535" y="358"/>
                    </a:lnTo>
                    <a:lnTo>
                      <a:pt x="1524" y="369"/>
                    </a:lnTo>
                    <a:lnTo>
                      <a:pt x="1530" y="375"/>
                    </a:lnTo>
                    <a:lnTo>
                      <a:pt x="1530" y="369"/>
                    </a:lnTo>
                    <a:lnTo>
                      <a:pt x="1518" y="375"/>
                    </a:lnTo>
                    <a:lnTo>
                      <a:pt x="1501" y="381"/>
                    </a:lnTo>
                    <a:lnTo>
                      <a:pt x="1489" y="387"/>
                    </a:lnTo>
                    <a:lnTo>
                      <a:pt x="1489" y="393"/>
                    </a:lnTo>
                    <a:lnTo>
                      <a:pt x="1489" y="387"/>
                    </a:lnTo>
                    <a:lnTo>
                      <a:pt x="1472" y="387"/>
                    </a:lnTo>
                    <a:lnTo>
                      <a:pt x="1455" y="387"/>
                    </a:lnTo>
                    <a:lnTo>
                      <a:pt x="1437" y="387"/>
                    </a:lnTo>
                    <a:lnTo>
                      <a:pt x="1426" y="387"/>
                    </a:lnTo>
                    <a:lnTo>
                      <a:pt x="1426" y="393"/>
                    </a:lnTo>
                    <a:lnTo>
                      <a:pt x="1432" y="387"/>
                    </a:lnTo>
                    <a:lnTo>
                      <a:pt x="1414" y="381"/>
                    </a:lnTo>
                    <a:lnTo>
                      <a:pt x="1397" y="375"/>
                    </a:lnTo>
                    <a:lnTo>
                      <a:pt x="1397" y="375"/>
                    </a:lnTo>
                    <a:lnTo>
                      <a:pt x="1391" y="375"/>
                    </a:lnTo>
                    <a:lnTo>
                      <a:pt x="1380" y="375"/>
                    </a:lnTo>
                    <a:lnTo>
                      <a:pt x="1380" y="381"/>
                    </a:lnTo>
                    <a:lnTo>
                      <a:pt x="1385" y="375"/>
                    </a:lnTo>
                    <a:lnTo>
                      <a:pt x="1374" y="364"/>
                    </a:lnTo>
                    <a:lnTo>
                      <a:pt x="1374" y="364"/>
                    </a:lnTo>
                    <a:lnTo>
                      <a:pt x="1374" y="364"/>
                    </a:lnTo>
                    <a:lnTo>
                      <a:pt x="1362" y="358"/>
                    </a:lnTo>
                    <a:lnTo>
                      <a:pt x="1357" y="364"/>
                    </a:lnTo>
                    <a:lnTo>
                      <a:pt x="1362" y="358"/>
                    </a:lnTo>
                    <a:lnTo>
                      <a:pt x="1351" y="346"/>
                    </a:lnTo>
                    <a:lnTo>
                      <a:pt x="1345" y="352"/>
                    </a:lnTo>
                    <a:lnTo>
                      <a:pt x="1357" y="352"/>
                    </a:lnTo>
                    <a:lnTo>
                      <a:pt x="1357" y="341"/>
                    </a:lnTo>
                    <a:lnTo>
                      <a:pt x="1357" y="341"/>
                    </a:lnTo>
                    <a:lnTo>
                      <a:pt x="1357" y="341"/>
                    </a:lnTo>
                    <a:lnTo>
                      <a:pt x="1351" y="329"/>
                    </a:lnTo>
                    <a:lnTo>
                      <a:pt x="1339" y="329"/>
                    </a:lnTo>
                    <a:lnTo>
                      <a:pt x="1351" y="329"/>
                    </a:lnTo>
                    <a:lnTo>
                      <a:pt x="1351" y="312"/>
                    </a:lnTo>
                    <a:lnTo>
                      <a:pt x="1351" y="277"/>
                    </a:lnTo>
                    <a:lnTo>
                      <a:pt x="1351" y="237"/>
                    </a:lnTo>
                    <a:lnTo>
                      <a:pt x="1357" y="191"/>
                    </a:lnTo>
                    <a:lnTo>
                      <a:pt x="1362" y="144"/>
                    </a:lnTo>
                    <a:lnTo>
                      <a:pt x="1368" y="98"/>
                    </a:lnTo>
                    <a:lnTo>
                      <a:pt x="1374" y="64"/>
                    </a:lnTo>
                    <a:lnTo>
                      <a:pt x="1380" y="29"/>
                    </a:lnTo>
                    <a:lnTo>
                      <a:pt x="1380" y="23"/>
                    </a:lnTo>
                    <a:lnTo>
                      <a:pt x="1368" y="23"/>
                    </a:lnTo>
                    <a:lnTo>
                      <a:pt x="1362" y="23"/>
                    </a:lnTo>
                    <a:lnTo>
                      <a:pt x="1310" y="23"/>
                    </a:lnTo>
                    <a:lnTo>
                      <a:pt x="1258" y="17"/>
                    </a:lnTo>
                    <a:lnTo>
                      <a:pt x="1212" y="17"/>
                    </a:lnTo>
                    <a:lnTo>
                      <a:pt x="1172" y="12"/>
                    </a:lnTo>
                    <a:lnTo>
                      <a:pt x="1132" y="6"/>
                    </a:lnTo>
                    <a:lnTo>
                      <a:pt x="1097" y="6"/>
                    </a:lnTo>
                    <a:lnTo>
                      <a:pt x="1074" y="0"/>
                    </a:lnTo>
                    <a:lnTo>
                      <a:pt x="1057" y="0"/>
                    </a:lnTo>
                    <a:lnTo>
                      <a:pt x="1045" y="0"/>
                    </a:lnTo>
                    <a:lnTo>
                      <a:pt x="1045" y="0"/>
                    </a:lnTo>
                    <a:lnTo>
                      <a:pt x="1039" y="0"/>
                    </a:lnTo>
                    <a:lnTo>
                      <a:pt x="1033" y="6"/>
                    </a:lnTo>
                    <a:lnTo>
                      <a:pt x="1039" y="12"/>
                    </a:lnTo>
                    <a:lnTo>
                      <a:pt x="1039" y="6"/>
                    </a:lnTo>
                    <a:lnTo>
                      <a:pt x="1028" y="12"/>
                    </a:lnTo>
                    <a:lnTo>
                      <a:pt x="1028" y="12"/>
                    </a:lnTo>
                    <a:lnTo>
                      <a:pt x="1022" y="12"/>
                    </a:lnTo>
                    <a:lnTo>
                      <a:pt x="1010" y="23"/>
                    </a:lnTo>
                    <a:lnTo>
                      <a:pt x="1005" y="29"/>
                    </a:lnTo>
                    <a:lnTo>
                      <a:pt x="993" y="41"/>
                    </a:lnTo>
                    <a:lnTo>
                      <a:pt x="993" y="46"/>
                    </a:lnTo>
                    <a:lnTo>
                      <a:pt x="993" y="46"/>
                    </a:lnTo>
                    <a:lnTo>
                      <a:pt x="993" y="64"/>
                    </a:lnTo>
                    <a:lnTo>
                      <a:pt x="999" y="64"/>
                    </a:lnTo>
                    <a:lnTo>
                      <a:pt x="993" y="64"/>
                    </a:lnTo>
                    <a:lnTo>
                      <a:pt x="987" y="75"/>
                    </a:lnTo>
                    <a:lnTo>
                      <a:pt x="981" y="92"/>
                    </a:lnTo>
                    <a:lnTo>
                      <a:pt x="981" y="92"/>
                    </a:lnTo>
                    <a:lnTo>
                      <a:pt x="981" y="92"/>
                    </a:lnTo>
                    <a:lnTo>
                      <a:pt x="981" y="110"/>
                    </a:lnTo>
                    <a:lnTo>
                      <a:pt x="981" y="127"/>
                    </a:lnTo>
                    <a:lnTo>
                      <a:pt x="981" y="127"/>
                    </a:lnTo>
                    <a:lnTo>
                      <a:pt x="981" y="133"/>
                    </a:lnTo>
                    <a:lnTo>
                      <a:pt x="987" y="144"/>
                    </a:lnTo>
                    <a:lnTo>
                      <a:pt x="993" y="162"/>
                    </a:lnTo>
                    <a:lnTo>
                      <a:pt x="999" y="179"/>
                    </a:lnTo>
                    <a:lnTo>
                      <a:pt x="1010" y="196"/>
                    </a:lnTo>
                    <a:lnTo>
                      <a:pt x="1010" y="196"/>
                    </a:lnTo>
                    <a:lnTo>
                      <a:pt x="1010" y="196"/>
                    </a:lnTo>
                    <a:lnTo>
                      <a:pt x="1022" y="208"/>
                    </a:lnTo>
                    <a:lnTo>
                      <a:pt x="1028" y="214"/>
                    </a:lnTo>
                    <a:lnTo>
                      <a:pt x="1028" y="214"/>
                    </a:lnTo>
                    <a:lnTo>
                      <a:pt x="1045" y="225"/>
                    </a:lnTo>
                    <a:lnTo>
                      <a:pt x="1045" y="214"/>
                    </a:lnTo>
                    <a:lnTo>
                      <a:pt x="1039" y="219"/>
                    </a:lnTo>
                    <a:lnTo>
                      <a:pt x="1045" y="237"/>
                    </a:lnTo>
                    <a:lnTo>
                      <a:pt x="1057" y="260"/>
                    </a:lnTo>
                    <a:lnTo>
                      <a:pt x="1062" y="271"/>
                    </a:lnTo>
                    <a:lnTo>
                      <a:pt x="1068" y="266"/>
                    </a:lnTo>
                    <a:lnTo>
                      <a:pt x="1062" y="266"/>
                    </a:lnTo>
                    <a:lnTo>
                      <a:pt x="1062" y="289"/>
                    </a:lnTo>
                    <a:lnTo>
                      <a:pt x="1062" y="306"/>
                    </a:lnTo>
                    <a:lnTo>
                      <a:pt x="1062" y="323"/>
                    </a:lnTo>
                    <a:lnTo>
                      <a:pt x="1068" y="323"/>
                    </a:lnTo>
                    <a:lnTo>
                      <a:pt x="1062" y="318"/>
                    </a:lnTo>
                    <a:lnTo>
                      <a:pt x="1051" y="329"/>
                    </a:lnTo>
                    <a:lnTo>
                      <a:pt x="1051" y="335"/>
                    </a:lnTo>
                    <a:lnTo>
                      <a:pt x="1051" y="335"/>
                    </a:lnTo>
                    <a:lnTo>
                      <a:pt x="1045" y="352"/>
                    </a:lnTo>
                    <a:lnTo>
                      <a:pt x="1033" y="369"/>
                    </a:lnTo>
                    <a:lnTo>
                      <a:pt x="1039" y="369"/>
                    </a:lnTo>
                    <a:lnTo>
                      <a:pt x="1033" y="364"/>
                    </a:lnTo>
                    <a:lnTo>
                      <a:pt x="1022" y="375"/>
                    </a:lnTo>
                    <a:lnTo>
                      <a:pt x="1028" y="381"/>
                    </a:lnTo>
                    <a:lnTo>
                      <a:pt x="1028" y="375"/>
                    </a:lnTo>
                    <a:lnTo>
                      <a:pt x="1010" y="387"/>
                    </a:lnTo>
                    <a:lnTo>
                      <a:pt x="993" y="398"/>
                    </a:lnTo>
                    <a:lnTo>
                      <a:pt x="993" y="404"/>
                    </a:lnTo>
                    <a:lnTo>
                      <a:pt x="993" y="398"/>
                    </a:lnTo>
                    <a:lnTo>
                      <a:pt x="970" y="404"/>
                    </a:lnTo>
                    <a:lnTo>
                      <a:pt x="947" y="410"/>
                    </a:lnTo>
                    <a:lnTo>
                      <a:pt x="924" y="416"/>
                    </a:lnTo>
                    <a:lnTo>
                      <a:pt x="912" y="416"/>
                    </a:lnTo>
                    <a:lnTo>
                      <a:pt x="901" y="416"/>
                    </a:lnTo>
                    <a:lnTo>
                      <a:pt x="901" y="421"/>
                    </a:lnTo>
                    <a:lnTo>
                      <a:pt x="906" y="416"/>
                    </a:lnTo>
                    <a:lnTo>
                      <a:pt x="895" y="410"/>
                    </a:lnTo>
                    <a:lnTo>
                      <a:pt x="895" y="410"/>
                    </a:lnTo>
                    <a:lnTo>
                      <a:pt x="889" y="410"/>
                    </a:lnTo>
                    <a:lnTo>
                      <a:pt x="878" y="410"/>
                    </a:lnTo>
                    <a:lnTo>
                      <a:pt x="878" y="416"/>
                    </a:lnTo>
                    <a:lnTo>
                      <a:pt x="883" y="410"/>
                    </a:lnTo>
                    <a:lnTo>
                      <a:pt x="872" y="404"/>
                    </a:lnTo>
                    <a:lnTo>
                      <a:pt x="860" y="398"/>
                    </a:lnTo>
                    <a:lnTo>
                      <a:pt x="855" y="404"/>
                    </a:lnTo>
                    <a:lnTo>
                      <a:pt x="860" y="398"/>
                    </a:lnTo>
                    <a:lnTo>
                      <a:pt x="855" y="393"/>
                    </a:lnTo>
                    <a:lnTo>
                      <a:pt x="855" y="393"/>
                    </a:lnTo>
                    <a:lnTo>
                      <a:pt x="855" y="393"/>
                    </a:lnTo>
                    <a:lnTo>
                      <a:pt x="843" y="387"/>
                    </a:lnTo>
                    <a:lnTo>
                      <a:pt x="826" y="375"/>
                    </a:lnTo>
                    <a:lnTo>
                      <a:pt x="820" y="381"/>
                    </a:lnTo>
                    <a:lnTo>
                      <a:pt x="826" y="375"/>
                    </a:lnTo>
                    <a:lnTo>
                      <a:pt x="814" y="364"/>
                    </a:lnTo>
                    <a:lnTo>
                      <a:pt x="808" y="369"/>
                    </a:lnTo>
                    <a:lnTo>
                      <a:pt x="820" y="369"/>
                    </a:lnTo>
                    <a:lnTo>
                      <a:pt x="808" y="352"/>
                    </a:lnTo>
                    <a:lnTo>
                      <a:pt x="803" y="335"/>
                    </a:lnTo>
                    <a:lnTo>
                      <a:pt x="797" y="318"/>
                    </a:lnTo>
                    <a:lnTo>
                      <a:pt x="785" y="318"/>
                    </a:lnTo>
                    <a:lnTo>
                      <a:pt x="797" y="318"/>
                    </a:lnTo>
                    <a:lnTo>
                      <a:pt x="797" y="294"/>
                    </a:lnTo>
                    <a:lnTo>
                      <a:pt x="797" y="294"/>
                    </a:lnTo>
                    <a:lnTo>
                      <a:pt x="797" y="294"/>
                    </a:lnTo>
                    <a:lnTo>
                      <a:pt x="791" y="277"/>
                    </a:lnTo>
                    <a:lnTo>
                      <a:pt x="780" y="277"/>
                    </a:lnTo>
                    <a:lnTo>
                      <a:pt x="791" y="283"/>
                    </a:lnTo>
                    <a:lnTo>
                      <a:pt x="797" y="266"/>
                    </a:lnTo>
                    <a:lnTo>
                      <a:pt x="797" y="266"/>
                    </a:lnTo>
                    <a:lnTo>
                      <a:pt x="797" y="260"/>
                    </a:lnTo>
                    <a:lnTo>
                      <a:pt x="797" y="237"/>
                    </a:lnTo>
                    <a:lnTo>
                      <a:pt x="785" y="237"/>
                    </a:lnTo>
                    <a:lnTo>
                      <a:pt x="791" y="243"/>
                    </a:lnTo>
                    <a:lnTo>
                      <a:pt x="803" y="231"/>
                    </a:lnTo>
                    <a:lnTo>
                      <a:pt x="808" y="231"/>
                    </a:lnTo>
                    <a:lnTo>
                      <a:pt x="808" y="231"/>
                    </a:lnTo>
                    <a:lnTo>
                      <a:pt x="814" y="214"/>
                    </a:lnTo>
                    <a:lnTo>
                      <a:pt x="803" y="208"/>
                    </a:lnTo>
                    <a:lnTo>
                      <a:pt x="808" y="214"/>
                    </a:lnTo>
                    <a:lnTo>
                      <a:pt x="820" y="202"/>
                    </a:lnTo>
                    <a:lnTo>
                      <a:pt x="831" y="191"/>
                    </a:lnTo>
                    <a:lnTo>
                      <a:pt x="837" y="191"/>
                    </a:lnTo>
                    <a:lnTo>
                      <a:pt x="837" y="191"/>
                    </a:lnTo>
                    <a:lnTo>
                      <a:pt x="843" y="179"/>
                    </a:lnTo>
                    <a:lnTo>
                      <a:pt x="849" y="167"/>
                    </a:lnTo>
                    <a:lnTo>
                      <a:pt x="855" y="156"/>
                    </a:lnTo>
                    <a:lnTo>
                      <a:pt x="860" y="144"/>
                    </a:lnTo>
                    <a:lnTo>
                      <a:pt x="860" y="144"/>
                    </a:lnTo>
                    <a:lnTo>
                      <a:pt x="860" y="139"/>
                    </a:lnTo>
                    <a:lnTo>
                      <a:pt x="860" y="127"/>
                    </a:lnTo>
                    <a:lnTo>
                      <a:pt x="860" y="116"/>
                    </a:lnTo>
                    <a:lnTo>
                      <a:pt x="860" y="116"/>
                    </a:lnTo>
                    <a:lnTo>
                      <a:pt x="860" y="116"/>
                    </a:lnTo>
                    <a:lnTo>
                      <a:pt x="855" y="104"/>
                    </a:lnTo>
                    <a:lnTo>
                      <a:pt x="849" y="92"/>
                    </a:lnTo>
                    <a:lnTo>
                      <a:pt x="843" y="81"/>
                    </a:lnTo>
                    <a:lnTo>
                      <a:pt x="843" y="81"/>
                    </a:lnTo>
                    <a:lnTo>
                      <a:pt x="837" y="75"/>
                    </a:lnTo>
                    <a:lnTo>
                      <a:pt x="826" y="64"/>
                    </a:lnTo>
                    <a:lnTo>
                      <a:pt x="826" y="64"/>
                    </a:lnTo>
                    <a:lnTo>
                      <a:pt x="826" y="64"/>
                    </a:lnTo>
                    <a:lnTo>
                      <a:pt x="808" y="58"/>
                    </a:lnTo>
                    <a:lnTo>
                      <a:pt x="791" y="46"/>
                    </a:lnTo>
                    <a:lnTo>
                      <a:pt x="774" y="41"/>
                    </a:lnTo>
                    <a:lnTo>
                      <a:pt x="751" y="29"/>
                    </a:lnTo>
                    <a:lnTo>
                      <a:pt x="751" y="29"/>
                    </a:lnTo>
                    <a:lnTo>
                      <a:pt x="745" y="29"/>
                    </a:lnTo>
                    <a:lnTo>
                      <a:pt x="716" y="23"/>
                    </a:lnTo>
                    <a:lnTo>
                      <a:pt x="687" y="23"/>
                    </a:lnTo>
                    <a:lnTo>
                      <a:pt x="647" y="17"/>
                    </a:lnTo>
                    <a:lnTo>
                      <a:pt x="601" y="17"/>
                    </a:lnTo>
                    <a:lnTo>
                      <a:pt x="554" y="23"/>
                    </a:lnTo>
                    <a:lnTo>
                      <a:pt x="503" y="23"/>
                    </a:lnTo>
                    <a:lnTo>
                      <a:pt x="456" y="29"/>
                    </a:lnTo>
                    <a:lnTo>
                      <a:pt x="416" y="35"/>
                    </a:lnTo>
                    <a:lnTo>
                      <a:pt x="387" y="41"/>
                    </a:lnTo>
                    <a:lnTo>
                      <a:pt x="376" y="41"/>
                    </a:lnTo>
                    <a:lnTo>
                      <a:pt x="381" y="46"/>
                    </a:lnTo>
                    <a:lnTo>
                      <a:pt x="387" y="81"/>
                    </a:lnTo>
                    <a:lnTo>
                      <a:pt x="387" y="87"/>
                    </a:lnTo>
                    <a:lnTo>
                      <a:pt x="387" y="87"/>
                    </a:lnTo>
                    <a:lnTo>
                      <a:pt x="404" y="127"/>
                    </a:lnTo>
                    <a:lnTo>
                      <a:pt x="416" y="179"/>
                    </a:lnTo>
                    <a:lnTo>
                      <a:pt x="428" y="231"/>
                    </a:lnTo>
                    <a:lnTo>
                      <a:pt x="433" y="225"/>
                    </a:lnTo>
                    <a:lnTo>
                      <a:pt x="428" y="225"/>
                    </a:lnTo>
                    <a:lnTo>
                      <a:pt x="428" y="248"/>
                    </a:lnTo>
                    <a:lnTo>
                      <a:pt x="433" y="277"/>
                    </a:lnTo>
                    <a:lnTo>
                      <a:pt x="433" y="300"/>
                    </a:lnTo>
                    <a:lnTo>
                      <a:pt x="433" y="323"/>
                    </a:lnTo>
                    <a:lnTo>
                      <a:pt x="433" y="341"/>
                    </a:lnTo>
                    <a:lnTo>
                      <a:pt x="439" y="341"/>
                    </a:lnTo>
                    <a:lnTo>
                      <a:pt x="433" y="341"/>
                    </a:lnTo>
                    <a:lnTo>
                      <a:pt x="428" y="358"/>
                    </a:lnTo>
                    <a:lnTo>
                      <a:pt x="433" y="358"/>
                    </a:lnTo>
                    <a:lnTo>
                      <a:pt x="428" y="352"/>
                    </a:lnTo>
                    <a:lnTo>
                      <a:pt x="422" y="358"/>
                    </a:lnTo>
                    <a:lnTo>
                      <a:pt x="422" y="364"/>
                    </a:lnTo>
                    <a:lnTo>
                      <a:pt x="422" y="364"/>
                    </a:lnTo>
                    <a:lnTo>
                      <a:pt x="422" y="375"/>
                    </a:lnTo>
                    <a:lnTo>
                      <a:pt x="428" y="375"/>
                    </a:lnTo>
                    <a:lnTo>
                      <a:pt x="422" y="369"/>
                    </a:lnTo>
                    <a:lnTo>
                      <a:pt x="416" y="375"/>
                    </a:lnTo>
                    <a:lnTo>
                      <a:pt x="422" y="381"/>
                    </a:lnTo>
                    <a:lnTo>
                      <a:pt x="422" y="375"/>
                    </a:lnTo>
                    <a:lnTo>
                      <a:pt x="416" y="375"/>
                    </a:lnTo>
                    <a:lnTo>
                      <a:pt x="410" y="375"/>
                    </a:lnTo>
                    <a:lnTo>
                      <a:pt x="410" y="381"/>
                    </a:lnTo>
                    <a:lnTo>
                      <a:pt x="404" y="393"/>
                    </a:lnTo>
                    <a:lnTo>
                      <a:pt x="410" y="393"/>
                    </a:lnTo>
                    <a:lnTo>
                      <a:pt x="410" y="387"/>
                    </a:lnTo>
                    <a:lnTo>
                      <a:pt x="393" y="393"/>
                    </a:lnTo>
                    <a:lnTo>
                      <a:pt x="393" y="393"/>
                    </a:lnTo>
                    <a:lnTo>
                      <a:pt x="387" y="393"/>
                    </a:lnTo>
                    <a:lnTo>
                      <a:pt x="381" y="398"/>
                    </a:lnTo>
                    <a:lnTo>
                      <a:pt x="387" y="404"/>
                    </a:lnTo>
                    <a:lnTo>
                      <a:pt x="387" y="398"/>
                    </a:lnTo>
                    <a:lnTo>
                      <a:pt x="370" y="404"/>
                    </a:lnTo>
                    <a:lnTo>
                      <a:pt x="358" y="410"/>
                    </a:lnTo>
                    <a:lnTo>
                      <a:pt x="358" y="416"/>
                    </a:lnTo>
                    <a:lnTo>
                      <a:pt x="358" y="410"/>
                    </a:lnTo>
                    <a:lnTo>
                      <a:pt x="347" y="410"/>
                    </a:lnTo>
                    <a:lnTo>
                      <a:pt x="335" y="410"/>
                    </a:lnTo>
                    <a:lnTo>
                      <a:pt x="324" y="410"/>
                    </a:lnTo>
                    <a:lnTo>
                      <a:pt x="312" y="410"/>
                    </a:lnTo>
                    <a:lnTo>
                      <a:pt x="301" y="410"/>
                    </a:lnTo>
                    <a:lnTo>
                      <a:pt x="301" y="416"/>
                    </a:lnTo>
                    <a:lnTo>
                      <a:pt x="306" y="410"/>
                    </a:lnTo>
                    <a:lnTo>
                      <a:pt x="295" y="404"/>
                    </a:lnTo>
                    <a:lnTo>
                      <a:pt x="295" y="404"/>
                    </a:lnTo>
                    <a:lnTo>
                      <a:pt x="289" y="404"/>
                    </a:lnTo>
                    <a:lnTo>
                      <a:pt x="277" y="404"/>
                    </a:lnTo>
                    <a:lnTo>
                      <a:pt x="277" y="410"/>
                    </a:lnTo>
                    <a:lnTo>
                      <a:pt x="283" y="404"/>
                    </a:lnTo>
                    <a:lnTo>
                      <a:pt x="272" y="398"/>
                    </a:lnTo>
                    <a:lnTo>
                      <a:pt x="260" y="393"/>
                    </a:lnTo>
                    <a:lnTo>
                      <a:pt x="254" y="398"/>
                    </a:lnTo>
                    <a:lnTo>
                      <a:pt x="260" y="393"/>
                    </a:lnTo>
                    <a:lnTo>
                      <a:pt x="254" y="387"/>
                    </a:lnTo>
                    <a:lnTo>
                      <a:pt x="249" y="393"/>
                    </a:lnTo>
                    <a:lnTo>
                      <a:pt x="260" y="393"/>
                    </a:lnTo>
                    <a:lnTo>
                      <a:pt x="254" y="381"/>
                    </a:lnTo>
                    <a:lnTo>
                      <a:pt x="249" y="375"/>
                    </a:lnTo>
                    <a:lnTo>
                      <a:pt x="249" y="375"/>
                    </a:lnTo>
                    <a:lnTo>
                      <a:pt x="237" y="369"/>
                    </a:lnTo>
                    <a:lnTo>
                      <a:pt x="220" y="358"/>
                    </a:lnTo>
                    <a:lnTo>
                      <a:pt x="202" y="352"/>
                    </a:lnTo>
                    <a:lnTo>
                      <a:pt x="185" y="346"/>
                    </a:lnTo>
                    <a:lnTo>
                      <a:pt x="185" y="346"/>
                    </a:lnTo>
                    <a:lnTo>
                      <a:pt x="179" y="346"/>
                    </a:lnTo>
                    <a:lnTo>
                      <a:pt x="162" y="346"/>
                    </a:lnTo>
                    <a:lnTo>
                      <a:pt x="145" y="346"/>
                    </a:lnTo>
                    <a:lnTo>
                      <a:pt x="122" y="346"/>
                    </a:lnTo>
                    <a:lnTo>
                      <a:pt x="122" y="346"/>
                    </a:lnTo>
                    <a:lnTo>
                      <a:pt x="122" y="346"/>
                    </a:lnTo>
                    <a:lnTo>
                      <a:pt x="104" y="352"/>
                    </a:lnTo>
                    <a:lnTo>
                      <a:pt x="87" y="358"/>
                    </a:lnTo>
                    <a:lnTo>
                      <a:pt x="70" y="369"/>
                    </a:lnTo>
                    <a:lnTo>
                      <a:pt x="70" y="369"/>
                    </a:lnTo>
                    <a:lnTo>
                      <a:pt x="64" y="369"/>
                    </a:lnTo>
                    <a:lnTo>
                      <a:pt x="47" y="387"/>
                    </a:lnTo>
                    <a:lnTo>
                      <a:pt x="52" y="393"/>
                    </a:lnTo>
                    <a:lnTo>
                      <a:pt x="52" y="387"/>
                    </a:lnTo>
                    <a:lnTo>
                      <a:pt x="35" y="398"/>
                    </a:lnTo>
                    <a:lnTo>
                      <a:pt x="29" y="398"/>
                    </a:lnTo>
                    <a:lnTo>
                      <a:pt x="29" y="404"/>
                    </a:lnTo>
                    <a:lnTo>
                      <a:pt x="24" y="416"/>
                    </a:lnTo>
                    <a:lnTo>
                      <a:pt x="29" y="416"/>
                    </a:lnTo>
                    <a:lnTo>
                      <a:pt x="24" y="410"/>
                    </a:lnTo>
                    <a:lnTo>
                      <a:pt x="18" y="416"/>
                    </a:lnTo>
                    <a:lnTo>
                      <a:pt x="18" y="421"/>
                    </a:lnTo>
                    <a:lnTo>
                      <a:pt x="18" y="421"/>
                    </a:lnTo>
                    <a:lnTo>
                      <a:pt x="18" y="433"/>
                    </a:lnTo>
                    <a:lnTo>
                      <a:pt x="24" y="433"/>
                    </a:lnTo>
                    <a:lnTo>
                      <a:pt x="18" y="433"/>
                    </a:lnTo>
                    <a:lnTo>
                      <a:pt x="12" y="444"/>
                    </a:lnTo>
                    <a:lnTo>
                      <a:pt x="6" y="456"/>
                    </a:lnTo>
                    <a:lnTo>
                      <a:pt x="6" y="456"/>
                    </a:lnTo>
                    <a:lnTo>
                      <a:pt x="6" y="456"/>
                    </a:lnTo>
                    <a:lnTo>
                      <a:pt x="6" y="468"/>
                    </a:lnTo>
                    <a:lnTo>
                      <a:pt x="12" y="468"/>
                    </a:lnTo>
                    <a:lnTo>
                      <a:pt x="6" y="468"/>
                    </a:lnTo>
                    <a:lnTo>
                      <a:pt x="0" y="485"/>
                    </a:lnTo>
                    <a:lnTo>
                      <a:pt x="0" y="485"/>
                    </a:lnTo>
                    <a:lnTo>
                      <a:pt x="0" y="485"/>
                    </a:lnTo>
                    <a:lnTo>
                      <a:pt x="0" y="496"/>
                    </a:lnTo>
                    <a:lnTo>
                      <a:pt x="0" y="508"/>
                    </a:lnTo>
                    <a:lnTo>
                      <a:pt x="0" y="514"/>
                    </a:lnTo>
                    <a:lnTo>
                      <a:pt x="0" y="514"/>
                    </a:lnTo>
                    <a:lnTo>
                      <a:pt x="6" y="525"/>
                    </a:lnTo>
                    <a:lnTo>
                      <a:pt x="12" y="519"/>
                    </a:lnTo>
                    <a:lnTo>
                      <a:pt x="6" y="519"/>
                    </a:lnTo>
                    <a:lnTo>
                      <a:pt x="6" y="531"/>
                    </a:lnTo>
                    <a:lnTo>
                      <a:pt x="6" y="537"/>
                    </a:lnTo>
                    <a:lnTo>
                      <a:pt x="6" y="537"/>
                    </a:lnTo>
                    <a:lnTo>
                      <a:pt x="12" y="543"/>
                    </a:lnTo>
                    <a:lnTo>
                      <a:pt x="18" y="537"/>
                    </a:lnTo>
                    <a:lnTo>
                      <a:pt x="12" y="537"/>
                    </a:lnTo>
                    <a:lnTo>
                      <a:pt x="12" y="548"/>
                    </a:lnTo>
                    <a:lnTo>
                      <a:pt x="12" y="554"/>
                    </a:lnTo>
                    <a:lnTo>
                      <a:pt x="12" y="554"/>
                    </a:lnTo>
                    <a:lnTo>
                      <a:pt x="18" y="560"/>
                    </a:lnTo>
                    <a:lnTo>
                      <a:pt x="24" y="554"/>
                    </a:lnTo>
                    <a:lnTo>
                      <a:pt x="18" y="560"/>
                    </a:lnTo>
                    <a:lnTo>
                      <a:pt x="24" y="571"/>
                    </a:lnTo>
                    <a:lnTo>
                      <a:pt x="24" y="571"/>
                    </a:lnTo>
                    <a:lnTo>
                      <a:pt x="24" y="571"/>
                    </a:lnTo>
                    <a:lnTo>
                      <a:pt x="29" y="577"/>
                    </a:lnTo>
                    <a:lnTo>
                      <a:pt x="35" y="571"/>
                    </a:lnTo>
                    <a:lnTo>
                      <a:pt x="29" y="577"/>
                    </a:lnTo>
                    <a:lnTo>
                      <a:pt x="41" y="594"/>
                    </a:lnTo>
                    <a:lnTo>
                      <a:pt x="41" y="594"/>
                    </a:lnTo>
                    <a:lnTo>
                      <a:pt x="47" y="600"/>
                    </a:lnTo>
                    <a:lnTo>
                      <a:pt x="64" y="612"/>
                    </a:lnTo>
                    <a:lnTo>
                      <a:pt x="81" y="618"/>
                    </a:lnTo>
                    <a:lnTo>
                      <a:pt x="99" y="623"/>
                    </a:lnTo>
                    <a:lnTo>
                      <a:pt x="116" y="629"/>
                    </a:lnTo>
                    <a:lnTo>
                      <a:pt x="133" y="635"/>
                    </a:lnTo>
                    <a:lnTo>
                      <a:pt x="133" y="635"/>
                    </a:lnTo>
                    <a:lnTo>
                      <a:pt x="133" y="635"/>
                    </a:lnTo>
                    <a:lnTo>
                      <a:pt x="156" y="635"/>
                    </a:lnTo>
                    <a:lnTo>
                      <a:pt x="174" y="635"/>
                    </a:lnTo>
                    <a:lnTo>
                      <a:pt x="174" y="635"/>
                    </a:lnTo>
                    <a:lnTo>
                      <a:pt x="179" y="635"/>
                    </a:lnTo>
                    <a:lnTo>
                      <a:pt x="191" y="629"/>
                    </a:lnTo>
                    <a:lnTo>
                      <a:pt x="208" y="623"/>
                    </a:lnTo>
                    <a:lnTo>
                      <a:pt x="220" y="618"/>
                    </a:lnTo>
                    <a:lnTo>
                      <a:pt x="220" y="612"/>
                    </a:lnTo>
                    <a:lnTo>
                      <a:pt x="226" y="612"/>
                    </a:lnTo>
                    <a:lnTo>
                      <a:pt x="231" y="600"/>
                    </a:lnTo>
                    <a:lnTo>
                      <a:pt x="220" y="594"/>
                    </a:lnTo>
                    <a:lnTo>
                      <a:pt x="226" y="606"/>
                    </a:lnTo>
                    <a:lnTo>
                      <a:pt x="237" y="600"/>
                    </a:lnTo>
                    <a:lnTo>
                      <a:pt x="249" y="594"/>
                    </a:lnTo>
                    <a:lnTo>
                      <a:pt x="260" y="589"/>
                    </a:lnTo>
                    <a:lnTo>
                      <a:pt x="272" y="583"/>
                    </a:lnTo>
                    <a:lnTo>
                      <a:pt x="266" y="571"/>
                    </a:lnTo>
                    <a:lnTo>
                      <a:pt x="266" y="583"/>
                    </a:lnTo>
                    <a:lnTo>
                      <a:pt x="277" y="583"/>
                    </a:lnTo>
                    <a:lnTo>
                      <a:pt x="295" y="583"/>
                    </a:lnTo>
                    <a:lnTo>
                      <a:pt x="295" y="571"/>
                    </a:lnTo>
                    <a:lnTo>
                      <a:pt x="295" y="583"/>
                    </a:lnTo>
                    <a:lnTo>
                      <a:pt x="306" y="589"/>
                    </a:lnTo>
                    <a:lnTo>
                      <a:pt x="306" y="589"/>
                    </a:lnTo>
                    <a:lnTo>
                      <a:pt x="306" y="589"/>
                    </a:lnTo>
                    <a:lnTo>
                      <a:pt x="318" y="589"/>
                    </a:lnTo>
                    <a:lnTo>
                      <a:pt x="318" y="577"/>
                    </a:lnTo>
                    <a:lnTo>
                      <a:pt x="318" y="589"/>
                    </a:lnTo>
                    <a:lnTo>
                      <a:pt x="335" y="594"/>
                    </a:lnTo>
                    <a:lnTo>
                      <a:pt x="347" y="600"/>
                    </a:lnTo>
                    <a:lnTo>
                      <a:pt x="347" y="589"/>
                    </a:lnTo>
                    <a:lnTo>
                      <a:pt x="341" y="594"/>
                    </a:lnTo>
                    <a:lnTo>
                      <a:pt x="347" y="600"/>
                    </a:lnTo>
                    <a:lnTo>
                      <a:pt x="358" y="612"/>
                    </a:lnTo>
                    <a:lnTo>
                      <a:pt x="364" y="606"/>
                    </a:lnTo>
                    <a:lnTo>
                      <a:pt x="358" y="612"/>
                    </a:lnTo>
                    <a:lnTo>
                      <a:pt x="364" y="623"/>
                    </a:lnTo>
                    <a:lnTo>
                      <a:pt x="364" y="623"/>
                    </a:lnTo>
                    <a:lnTo>
                      <a:pt x="370" y="629"/>
                    </a:lnTo>
                    <a:lnTo>
                      <a:pt x="381" y="635"/>
                    </a:lnTo>
                    <a:lnTo>
                      <a:pt x="381" y="623"/>
                    </a:lnTo>
                    <a:lnTo>
                      <a:pt x="376" y="623"/>
                    </a:lnTo>
                    <a:lnTo>
                      <a:pt x="376" y="635"/>
                    </a:lnTo>
                    <a:lnTo>
                      <a:pt x="376" y="641"/>
                    </a:lnTo>
                    <a:lnTo>
                      <a:pt x="376" y="641"/>
                    </a:lnTo>
                    <a:lnTo>
                      <a:pt x="381" y="652"/>
                    </a:lnTo>
                    <a:lnTo>
                      <a:pt x="387" y="646"/>
                    </a:lnTo>
                    <a:lnTo>
                      <a:pt x="381" y="646"/>
                    </a:lnTo>
                    <a:lnTo>
                      <a:pt x="376" y="675"/>
                    </a:lnTo>
                    <a:lnTo>
                      <a:pt x="376" y="710"/>
                    </a:lnTo>
                    <a:lnTo>
                      <a:pt x="370" y="750"/>
                    </a:lnTo>
                    <a:lnTo>
                      <a:pt x="370" y="796"/>
                    </a:lnTo>
                    <a:lnTo>
                      <a:pt x="364" y="848"/>
                    </a:lnTo>
                    <a:lnTo>
                      <a:pt x="364" y="894"/>
                    </a:lnTo>
                    <a:lnTo>
                      <a:pt x="364" y="900"/>
                    </a:lnTo>
                    <a:lnTo>
                      <a:pt x="364" y="900"/>
                    </a:lnTo>
                    <a:lnTo>
                      <a:pt x="370" y="923"/>
                    </a:lnTo>
                    <a:lnTo>
                      <a:pt x="376" y="918"/>
                    </a:lnTo>
                    <a:lnTo>
                      <a:pt x="370" y="918"/>
                    </a:lnTo>
                    <a:lnTo>
                      <a:pt x="370" y="941"/>
                    </a:lnTo>
                    <a:lnTo>
                      <a:pt x="370" y="946"/>
                    </a:lnTo>
                    <a:lnTo>
                      <a:pt x="370" y="946"/>
                    </a:lnTo>
                    <a:lnTo>
                      <a:pt x="376" y="964"/>
                    </a:lnTo>
                    <a:lnTo>
                      <a:pt x="381" y="987"/>
                    </a:lnTo>
                    <a:lnTo>
                      <a:pt x="381" y="987"/>
                    </a:lnTo>
                    <a:lnTo>
                      <a:pt x="381" y="987"/>
                    </a:lnTo>
                    <a:lnTo>
                      <a:pt x="387" y="993"/>
                    </a:lnTo>
                    <a:lnTo>
                      <a:pt x="393" y="998"/>
                    </a:lnTo>
                    <a:lnTo>
                      <a:pt x="393" y="998"/>
                    </a:lnTo>
                    <a:lnTo>
                      <a:pt x="410" y="998"/>
                    </a:lnTo>
                    <a:lnTo>
                      <a:pt x="410" y="987"/>
                    </a:lnTo>
                    <a:lnTo>
                      <a:pt x="410" y="998"/>
                    </a:lnTo>
                    <a:lnTo>
                      <a:pt x="428" y="1004"/>
                    </a:lnTo>
                    <a:lnTo>
                      <a:pt x="428" y="1004"/>
                    </a:lnTo>
                    <a:lnTo>
                      <a:pt x="428" y="1004"/>
                    </a:lnTo>
                    <a:lnTo>
                      <a:pt x="445" y="1004"/>
                    </a:lnTo>
                    <a:lnTo>
                      <a:pt x="491" y="1004"/>
                    </a:lnTo>
                    <a:lnTo>
                      <a:pt x="537" y="1004"/>
                    </a:lnTo>
                    <a:lnTo>
                      <a:pt x="595" y="998"/>
                    </a:lnTo>
                    <a:lnTo>
                      <a:pt x="647" y="998"/>
                    </a:lnTo>
                    <a:lnTo>
                      <a:pt x="704" y="993"/>
                    </a:lnTo>
                    <a:lnTo>
                      <a:pt x="756" y="993"/>
                    </a:lnTo>
                    <a:lnTo>
                      <a:pt x="768" y="993"/>
                    </a:lnTo>
                    <a:close/>
                    <a:moveTo>
                      <a:pt x="756" y="975"/>
                    </a:moveTo>
                    <a:lnTo>
                      <a:pt x="704" y="975"/>
                    </a:lnTo>
                    <a:lnTo>
                      <a:pt x="647" y="981"/>
                    </a:lnTo>
                    <a:lnTo>
                      <a:pt x="595" y="981"/>
                    </a:lnTo>
                    <a:lnTo>
                      <a:pt x="537" y="987"/>
                    </a:lnTo>
                    <a:lnTo>
                      <a:pt x="491" y="987"/>
                    </a:lnTo>
                    <a:lnTo>
                      <a:pt x="445" y="987"/>
                    </a:lnTo>
                    <a:lnTo>
                      <a:pt x="428" y="987"/>
                    </a:lnTo>
                    <a:lnTo>
                      <a:pt x="428" y="993"/>
                    </a:lnTo>
                    <a:lnTo>
                      <a:pt x="433" y="987"/>
                    </a:lnTo>
                    <a:lnTo>
                      <a:pt x="416" y="981"/>
                    </a:lnTo>
                    <a:lnTo>
                      <a:pt x="416" y="981"/>
                    </a:lnTo>
                    <a:lnTo>
                      <a:pt x="410" y="981"/>
                    </a:lnTo>
                    <a:lnTo>
                      <a:pt x="393" y="981"/>
                    </a:lnTo>
                    <a:lnTo>
                      <a:pt x="393" y="987"/>
                    </a:lnTo>
                    <a:lnTo>
                      <a:pt x="399" y="981"/>
                    </a:lnTo>
                    <a:lnTo>
                      <a:pt x="393" y="975"/>
                    </a:lnTo>
                    <a:lnTo>
                      <a:pt x="387" y="981"/>
                    </a:lnTo>
                    <a:lnTo>
                      <a:pt x="399" y="981"/>
                    </a:lnTo>
                    <a:lnTo>
                      <a:pt x="393" y="958"/>
                    </a:lnTo>
                    <a:lnTo>
                      <a:pt x="387" y="941"/>
                    </a:lnTo>
                    <a:lnTo>
                      <a:pt x="376" y="941"/>
                    </a:lnTo>
                    <a:lnTo>
                      <a:pt x="387" y="941"/>
                    </a:lnTo>
                    <a:lnTo>
                      <a:pt x="387" y="918"/>
                    </a:lnTo>
                    <a:lnTo>
                      <a:pt x="387" y="918"/>
                    </a:lnTo>
                    <a:lnTo>
                      <a:pt x="387" y="918"/>
                    </a:lnTo>
                    <a:lnTo>
                      <a:pt x="381" y="894"/>
                    </a:lnTo>
                    <a:lnTo>
                      <a:pt x="370" y="894"/>
                    </a:lnTo>
                    <a:lnTo>
                      <a:pt x="381" y="894"/>
                    </a:lnTo>
                    <a:lnTo>
                      <a:pt x="381" y="848"/>
                    </a:lnTo>
                    <a:lnTo>
                      <a:pt x="387" y="796"/>
                    </a:lnTo>
                    <a:lnTo>
                      <a:pt x="387" y="750"/>
                    </a:lnTo>
                    <a:lnTo>
                      <a:pt x="393" y="710"/>
                    </a:lnTo>
                    <a:lnTo>
                      <a:pt x="393" y="675"/>
                    </a:lnTo>
                    <a:lnTo>
                      <a:pt x="399" y="646"/>
                    </a:lnTo>
                    <a:lnTo>
                      <a:pt x="399" y="646"/>
                    </a:lnTo>
                    <a:lnTo>
                      <a:pt x="399" y="646"/>
                    </a:lnTo>
                    <a:lnTo>
                      <a:pt x="393" y="635"/>
                    </a:lnTo>
                    <a:lnTo>
                      <a:pt x="381" y="635"/>
                    </a:lnTo>
                    <a:lnTo>
                      <a:pt x="393" y="635"/>
                    </a:lnTo>
                    <a:lnTo>
                      <a:pt x="393" y="623"/>
                    </a:lnTo>
                    <a:lnTo>
                      <a:pt x="393" y="618"/>
                    </a:lnTo>
                    <a:lnTo>
                      <a:pt x="387" y="618"/>
                    </a:lnTo>
                    <a:lnTo>
                      <a:pt x="376" y="612"/>
                    </a:lnTo>
                    <a:lnTo>
                      <a:pt x="370" y="618"/>
                    </a:lnTo>
                    <a:lnTo>
                      <a:pt x="381" y="618"/>
                    </a:lnTo>
                    <a:lnTo>
                      <a:pt x="376" y="606"/>
                    </a:lnTo>
                    <a:lnTo>
                      <a:pt x="376" y="606"/>
                    </a:lnTo>
                    <a:lnTo>
                      <a:pt x="370" y="600"/>
                    </a:lnTo>
                    <a:lnTo>
                      <a:pt x="358" y="589"/>
                    </a:lnTo>
                    <a:lnTo>
                      <a:pt x="352" y="583"/>
                    </a:lnTo>
                    <a:lnTo>
                      <a:pt x="352" y="583"/>
                    </a:lnTo>
                    <a:lnTo>
                      <a:pt x="352" y="583"/>
                    </a:lnTo>
                    <a:lnTo>
                      <a:pt x="341" y="577"/>
                    </a:lnTo>
                    <a:lnTo>
                      <a:pt x="324" y="571"/>
                    </a:lnTo>
                    <a:lnTo>
                      <a:pt x="324" y="571"/>
                    </a:lnTo>
                    <a:lnTo>
                      <a:pt x="318" y="571"/>
                    </a:lnTo>
                    <a:lnTo>
                      <a:pt x="306" y="571"/>
                    </a:lnTo>
                    <a:lnTo>
                      <a:pt x="306" y="577"/>
                    </a:lnTo>
                    <a:lnTo>
                      <a:pt x="312" y="571"/>
                    </a:lnTo>
                    <a:lnTo>
                      <a:pt x="301" y="566"/>
                    </a:lnTo>
                    <a:lnTo>
                      <a:pt x="301" y="566"/>
                    </a:lnTo>
                    <a:lnTo>
                      <a:pt x="295" y="566"/>
                    </a:lnTo>
                    <a:lnTo>
                      <a:pt x="277" y="566"/>
                    </a:lnTo>
                    <a:lnTo>
                      <a:pt x="266" y="566"/>
                    </a:lnTo>
                    <a:lnTo>
                      <a:pt x="266" y="566"/>
                    </a:lnTo>
                    <a:lnTo>
                      <a:pt x="266" y="566"/>
                    </a:lnTo>
                    <a:lnTo>
                      <a:pt x="254" y="571"/>
                    </a:lnTo>
                    <a:lnTo>
                      <a:pt x="243" y="577"/>
                    </a:lnTo>
                    <a:lnTo>
                      <a:pt x="231" y="583"/>
                    </a:lnTo>
                    <a:lnTo>
                      <a:pt x="220" y="589"/>
                    </a:lnTo>
                    <a:lnTo>
                      <a:pt x="214" y="589"/>
                    </a:lnTo>
                    <a:lnTo>
                      <a:pt x="214" y="594"/>
                    </a:lnTo>
                    <a:lnTo>
                      <a:pt x="208" y="606"/>
                    </a:lnTo>
                    <a:lnTo>
                      <a:pt x="214" y="606"/>
                    </a:lnTo>
                    <a:lnTo>
                      <a:pt x="214" y="600"/>
                    </a:lnTo>
                    <a:lnTo>
                      <a:pt x="202" y="606"/>
                    </a:lnTo>
                    <a:lnTo>
                      <a:pt x="185" y="612"/>
                    </a:lnTo>
                    <a:lnTo>
                      <a:pt x="174" y="618"/>
                    </a:lnTo>
                    <a:lnTo>
                      <a:pt x="174" y="623"/>
                    </a:lnTo>
                    <a:lnTo>
                      <a:pt x="174" y="618"/>
                    </a:lnTo>
                    <a:lnTo>
                      <a:pt x="156" y="618"/>
                    </a:lnTo>
                    <a:lnTo>
                      <a:pt x="133" y="618"/>
                    </a:lnTo>
                    <a:lnTo>
                      <a:pt x="133" y="623"/>
                    </a:lnTo>
                    <a:lnTo>
                      <a:pt x="139" y="618"/>
                    </a:lnTo>
                    <a:lnTo>
                      <a:pt x="122" y="612"/>
                    </a:lnTo>
                    <a:lnTo>
                      <a:pt x="104" y="606"/>
                    </a:lnTo>
                    <a:lnTo>
                      <a:pt x="87" y="600"/>
                    </a:lnTo>
                    <a:lnTo>
                      <a:pt x="70" y="594"/>
                    </a:lnTo>
                    <a:lnTo>
                      <a:pt x="52" y="583"/>
                    </a:lnTo>
                    <a:lnTo>
                      <a:pt x="47" y="589"/>
                    </a:lnTo>
                    <a:lnTo>
                      <a:pt x="58" y="589"/>
                    </a:lnTo>
                    <a:lnTo>
                      <a:pt x="47" y="571"/>
                    </a:lnTo>
                    <a:lnTo>
                      <a:pt x="47" y="571"/>
                    </a:lnTo>
                    <a:lnTo>
                      <a:pt x="41" y="566"/>
                    </a:lnTo>
                    <a:lnTo>
                      <a:pt x="35" y="560"/>
                    </a:lnTo>
                    <a:lnTo>
                      <a:pt x="29" y="566"/>
                    </a:lnTo>
                    <a:lnTo>
                      <a:pt x="41" y="566"/>
                    </a:lnTo>
                    <a:lnTo>
                      <a:pt x="35" y="554"/>
                    </a:lnTo>
                    <a:lnTo>
                      <a:pt x="35" y="554"/>
                    </a:lnTo>
                    <a:lnTo>
                      <a:pt x="29" y="548"/>
                    </a:lnTo>
                    <a:lnTo>
                      <a:pt x="24" y="543"/>
                    </a:lnTo>
                    <a:lnTo>
                      <a:pt x="18" y="548"/>
                    </a:lnTo>
                    <a:lnTo>
                      <a:pt x="29" y="548"/>
                    </a:lnTo>
                    <a:lnTo>
                      <a:pt x="29" y="537"/>
                    </a:lnTo>
                    <a:lnTo>
                      <a:pt x="29" y="537"/>
                    </a:lnTo>
                    <a:lnTo>
                      <a:pt x="24" y="531"/>
                    </a:lnTo>
                    <a:lnTo>
                      <a:pt x="18" y="525"/>
                    </a:lnTo>
                    <a:lnTo>
                      <a:pt x="12" y="531"/>
                    </a:lnTo>
                    <a:lnTo>
                      <a:pt x="24" y="531"/>
                    </a:lnTo>
                    <a:lnTo>
                      <a:pt x="24" y="519"/>
                    </a:lnTo>
                    <a:lnTo>
                      <a:pt x="24" y="519"/>
                    </a:lnTo>
                    <a:lnTo>
                      <a:pt x="24" y="519"/>
                    </a:lnTo>
                    <a:lnTo>
                      <a:pt x="18" y="508"/>
                    </a:lnTo>
                    <a:lnTo>
                      <a:pt x="6" y="508"/>
                    </a:lnTo>
                    <a:lnTo>
                      <a:pt x="18" y="508"/>
                    </a:lnTo>
                    <a:lnTo>
                      <a:pt x="18" y="496"/>
                    </a:lnTo>
                    <a:lnTo>
                      <a:pt x="18" y="485"/>
                    </a:lnTo>
                    <a:lnTo>
                      <a:pt x="6" y="485"/>
                    </a:lnTo>
                    <a:lnTo>
                      <a:pt x="18" y="491"/>
                    </a:lnTo>
                    <a:lnTo>
                      <a:pt x="24" y="473"/>
                    </a:lnTo>
                    <a:lnTo>
                      <a:pt x="24" y="473"/>
                    </a:lnTo>
                    <a:lnTo>
                      <a:pt x="24" y="468"/>
                    </a:lnTo>
                    <a:lnTo>
                      <a:pt x="24" y="456"/>
                    </a:lnTo>
                    <a:lnTo>
                      <a:pt x="12" y="456"/>
                    </a:lnTo>
                    <a:lnTo>
                      <a:pt x="24" y="462"/>
                    </a:lnTo>
                    <a:lnTo>
                      <a:pt x="29" y="450"/>
                    </a:lnTo>
                    <a:lnTo>
                      <a:pt x="35" y="439"/>
                    </a:lnTo>
                    <a:lnTo>
                      <a:pt x="35" y="439"/>
                    </a:lnTo>
                    <a:lnTo>
                      <a:pt x="35" y="433"/>
                    </a:lnTo>
                    <a:lnTo>
                      <a:pt x="35" y="421"/>
                    </a:lnTo>
                    <a:lnTo>
                      <a:pt x="24" y="421"/>
                    </a:lnTo>
                    <a:lnTo>
                      <a:pt x="29" y="427"/>
                    </a:lnTo>
                    <a:lnTo>
                      <a:pt x="35" y="421"/>
                    </a:lnTo>
                    <a:lnTo>
                      <a:pt x="41" y="421"/>
                    </a:lnTo>
                    <a:lnTo>
                      <a:pt x="41" y="421"/>
                    </a:lnTo>
                    <a:lnTo>
                      <a:pt x="47" y="410"/>
                    </a:lnTo>
                    <a:lnTo>
                      <a:pt x="35" y="404"/>
                    </a:lnTo>
                    <a:lnTo>
                      <a:pt x="41" y="416"/>
                    </a:lnTo>
                    <a:lnTo>
                      <a:pt x="58" y="404"/>
                    </a:lnTo>
                    <a:lnTo>
                      <a:pt x="58" y="404"/>
                    </a:lnTo>
                    <a:lnTo>
                      <a:pt x="58" y="398"/>
                    </a:lnTo>
                    <a:lnTo>
                      <a:pt x="75" y="381"/>
                    </a:lnTo>
                    <a:lnTo>
                      <a:pt x="70" y="375"/>
                    </a:lnTo>
                    <a:lnTo>
                      <a:pt x="75" y="387"/>
                    </a:lnTo>
                    <a:lnTo>
                      <a:pt x="93" y="375"/>
                    </a:lnTo>
                    <a:lnTo>
                      <a:pt x="110" y="369"/>
                    </a:lnTo>
                    <a:lnTo>
                      <a:pt x="127" y="364"/>
                    </a:lnTo>
                    <a:lnTo>
                      <a:pt x="122" y="352"/>
                    </a:lnTo>
                    <a:lnTo>
                      <a:pt x="122" y="364"/>
                    </a:lnTo>
                    <a:lnTo>
                      <a:pt x="145" y="364"/>
                    </a:lnTo>
                    <a:lnTo>
                      <a:pt x="162" y="364"/>
                    </a:lnTo>
                    <a:lnTo>
                      <a:pt x="179" y="364"/>
                    </a:lnTo>
                    <a:lnTo>
                      <a:pt x="179" y="352"/>
                    </a:lnTo>
                    <a:lnTo>
                      <a:pt x="179" y="364"/>
                    </a:lnTo>
                    <a:lnTo>
                      <a:pt x="197" y="369"/>
                    </a:lnTo>
                    <a:lnTo>
                      <a:pt x="214" y="375"/>
                    </a:lnTo>
                    <a:lnTo>
                      <a:pt x="231" y="387"/>
                    </a:lnTo>
                    <a:lnTo>
                      <a:pt x="243" y="393"/>
                    </a:lnTo>
                    <a:lnTo>
                      <a:pt x="243" y="381"/>
                    </a:lnTo>
                    <a:lnTo>
                      <a:pt x="237" y="387"/>
                    </a:lnTo>
                    <a:lnTo>
                      <a:pt x="243" y="398"/>
                    </a:lnTo>
                    <a:lnTo>
                      <a:pt x="243" y="398"/>
                    </a:lnTo>
                    <a:lnTo>
                      <a:pt x="243" y="398"/>
                    </a:lnTo>
                    <a:lnTo>
                      <a:pt x="249" y="404"/>
                    </a:lnTo>
                    <a:lnTo>
                      <a:pt x="254" y="410"/>
                    </a:lnTo>
                    <a:lnTo>
                      <a:pt x="254" y="410"/>
                    </a:lnTo>
                    <a:lnTo>
                      <a:pt x="266" y="416"/>
                    </a:lnTo>
                    <a:lnTo>
                      <a:pt x="277" y="421"/>
                    </a:lnTo>
                    <a:lnTo>
                      <a:pt x="277" y="421"/>
                    </a:lnTo>
                    <a:lnTo>
                      <a:pt x="277" y="421"/>
                    </a:lnTo>
                    <a:lnTo>
                      <a:pt x="289" y="421"/>
                    </a:lnTo>
                    <a:lnTo>
                      <a:pt x="289" y="410"/>
                    </a:lnTo>
                    <a:lnTo>
                      <a:pt x="289" y="421"/>
                    </a:lnTo>
                    <a:lnTo>
                      <a:pt x="301" y="427"/>
                    </a:lnTo>
                    <a:lnTo>
                      <a:pt x="301" y="427"/>
                    </a:lnTo>
                    <a:lnTo>
                      <a:pt x="301" y="427"/>
                    </a:lnTo>
                    <a:lnTo>
                      <a:pt x="312" y="427"/>
                    </a:lnTo>
                    <a:lnTo>
                      <a:pt x="324" y="427"/>
                    </a:lnTo>
                    <a:lnTo>
                      <a:pt x="335" y="427"/>
                    </a:lnTo>
                    <a:lnTo>
                      <a:pt x="347" y="427"/>
                    </a:lnTo>
                    <a:lnTo>
                      <a:pt x="358" y="427"/>
                    </a:lnTo>
                    <a:lnTo>
                      <a:pt x="364" y="427"/>
                    </a:lnTo>
                    <a:lnTo>
                      <a:pt x="364" y="427"/>
                    </a:lnTo>
                    <a:lnTo>
                      <a:pt x="376" y="421"/>
                    </a:lnTo>
                    <a:lnTo>
                      <a:pt x="393" y="416"/>
                    </a:lnTo>
                    <a:lnTo>
                      <a:pt x="393" y="416"/>
                    </a:lnTo>
                    <a:lnTo>
                      <a:pt x="393" y="410"/>
                    </a:lnTo>
                    <a:lnTo>
                      <a:pt x="399" y="404"/>
                    </a:lnTo>
                    <a:lnTo>
                      <a:pt x="393" y="398"/>
                    </a:lnTo>
                    <a:lnTo>
                      <a:pt x="399" y="410"/>
                    </a:lnTo>
                    <a:lnTo>
                      <a:pt x="416" y="404"/>
                    </a:lnTo>
                    <a:lnTo>
                      <a:pt x="416" y="398"/>
                    </a:lnTo>
                    <a:lnTo>
                      <a:pt x="422" y="398"/>
                    </a:lnTo>
                    <a:lnTo>
                      <a:pt x="428" y="387"/>
                    </a:lnTo>
                    <a:lnTo>
                      <a:pt x="416" y="381"/>
                    </a:lnTo>
                    <a:lnTo>
                      <a:pt x="416" y="393"/>
                    </a:lnTo>
                    <a:lnTo>
                      <a:pt x="422" y="393"/>
                    </a:lnTo>
                    <a:lnTo>
                      <a:pt x="428" y="393"/>
                    </a:lnTo>
                    <a:lnTo>
                      <a:pt x="428" y="387"/>
                    </a:lnTo>
                    <a:lnTo>
                      <a:pt x="433" y="381"/>
                    </a:lnTo>
                    <a:lnTo>
                      <a:pt x="439" y="381"/>
                    </a:lnTo>
                    <a:lnTo>
                      <a:pt x="439" y="375"/>
                    </a:lnTo>
                    <a:lnTo>
                      <a:pt x="439" y="364"/>
                    </a:lnTo>
                    <a:lnTo>
                      <a:pt x="428" y="364"/>
                    </a:lnTo>
                    <a:lnTo>
                      <a:pt x="433" y="369"/>
                    </a:lnTo>
                    <a:lnTo>
                      <a:pt x="439" y="364"/>
                    </a:lnTo>
                    <a:lnTo>
                      <a:pt x="445" y="364"/>
                    </a:lnTo>
                    <a:lnTo>
                      <a:pt x="445" y="364"/>
                    </a:lnTo>
                    <a:lnTo>
                      <a:pt x="451" y="346"/>
                    </a:lnTo>
                    <a:lnTo>
                      <a:pt x="451" y="346"/>
                    </a:lnTo>
                    <a:lnTo>
                      <a:pt x="451" y="341"/>
                    </a:lnTo>
                    <a:lnTo>
                      <a:pt x="451" y="323"/>
                    </a:lnTo>
                    <a:lnTo>
                      <a:pt x="451" y="300"/>
                    </a:lnTo>
                    <a:lnTo>
                      <a:pt x="451" y="277"/>
                    </a:lnTo>
                    <a:lnTo>
                      <a:pt x="445" y="248"/>
                    </a:lnTo>
                    <a:lnTo>
                      <a:pt x="445" y="225"/>
                    </a:lnTo>
                    <a:lnTo>
                      <a:pt x="445" y="225"/>
                    </a:lnTo>
                    <a:lnTo>
                      <a:pt x="445" y="225"/>
                    </a:lnTo>
                    <a:lnTo>
                      <a:pt x="433" y="173"/>
                    </a:lnTo>
                    <a:lnTo>
                      <a:pt x="422" y="121"/>
                    </a:lnTo>
                    <a:lnTo>
                      <a:pt x="404" y="81"/>
                    </a:lnTo>
                    <a:lnTo>
                      <a:pt x="393" y="81"/>
                    </a:lnTo>
                    <a:lnTo>
                      <a:pt x="404" y="81"/>
                    </a:lnTo>
                    <a:lnTo>
                      <a:pt x="399" y="46"/>
                    </a:lnTo>
                    <a:lnTo>
                      <a:pt x="387" y="46"/>
                    </a:lnTo>
                    <a:lnTo>
                      <a:pt x="387" y="58"/>
                    </a:lnTo>
                    <a:lnTo>
                      <a:pt x="416" y="52"/>
                    </a:lnTo>
                    <a:lnTo>
                      <a:pt x="456" y="46"/>
                    </a:lnTo>
                    <a:lnTo>
                      <a:pt x="503" y="41"/>
                    </a:lnTo>
                    <a:lnTo>
                      <a:pt x="554" y="41"/>
                    </a:lnTo>
                    <a:lnTo>
                      <a:pt x="601" y="35"/>
                    </a:lnTo>
                    <a:lnTo>
                      <a:pt x="647" y="35"/>
                    </a:lnTo>
                    <a:lnTo>
                      <a:pt x="687" y="41"/>
                    </a:lnTo>
                    <a:lnTo>
                      <a:pt x="716" y="41"/>
                    </a:lnTo>
                    <a:lnTo>
                      <a:pt x="745" y="46"/>
                    </a:lnTo>
                    <a:lnTo>
                      <a:pt x="745" y="35"/>
                    </a:lnTo>
                    <a:lnTo>
                      <a:pt x="745" y="46"/>
                    </a:lnTo>
                    <a:lnTo>
                      <a:pt x="768" y="58"/>
                    </a:lnTo>
                    <a:lnTo>
                      <a:pt x="785" y="64"/>
                    </a:lnTo>
                    <a:lnTo>
                      <a:pt x="803" y="75"/>
                    </a:lnTo>
                    <a:lnTo>
                      <a:pt x="820" y="81"/>
                    </a:lnTo>
                    <a:lnTo>
                      <a:pt x="820" y="69"/>
                    </a:lnTo>
                    <a:lnTo>
                      <a:pt x="814" y="75"/>
                    </a:lnTo>
                    <a:lnTo>
                      <a:pt x="826" y="87"/>
                    </a:lnTo>
                    <a:lnTo>
                      <a:pt x="831" y="81"/>
                    </a:lnTo>
                    <a:lnTo>
                      <a:pt x="826" y="87"/>
                    </a:lnTo>
                    <a:lnTo>
                      <a:pt x="831" y="98"/>
                    </a:lnTo>
                    <a:lnTo>
                      <a:pt x="837" y="110"/>
                    </a:lnTo>
                    <a:lnTo>
                      <a:pt x="843" y="121"/>
                    </a:lnTo>
                    <a:lnTo>
                      <a:pt x="849" y="116"/>
                    </a:lnTo>
                    <a:lnTo>
                      <a:pt x="843" y="116"/>
                    </a:lnTo>
                    <a:lnTo>
                      <a:pt x="843" y="127"/>
                    </a:lnTo>
                    <a:lnTo>
                      <a:pt x="843" y="139"/>
                    </a:lnTo>
                    <a:lnTo>
                      <a:pt x="849" y="139"/>
                    </a:lnTo>
                    <a:lnTo>
                      <a:pt x="843" y="139"/>
                    </a:lnTo>
                    <a:lnTo>
                      <a:pt x="837" y="150"/>
                    </a:lnTo>
                    <a:lnTo>
                      <a:pt x="831" y="162"/>
                    </a:lnTo>
                    <a:lnTo>
                      <a:pt x="826" y="173"/>
                    </a:lnTo>
                    <a:lnTo>
                      <a:pt x="820" y="185"/>
                    </a:lnTo>
                    <a:lnTo>
                      <a:pt x="826" y="185"/>
                    </a:lnTo>
                    <a:lnTo>
                      <a:pt x="820" y="179"/>
                    </a:lnTo>
                    <a:lnTo>
                      <a:pt x="808" y="191"/>
                    </a:lnTo>
                    <a:lnTo>
                      <a:pt x="797" y="202"/>
                    </a:lnTo>
                    <a:lnTo>
                      <a:pt x="797" y="208"/>
                    </a:lnTo>
                    <a:lnTo>
                      <a:pt x="797" y="208"/>
                    </a:lnTo>
                    <a:lnTo>
                      <a:pt x="791" y="225"/>
                    </a:lnTo>
                    <a:lnTo>
                      <a:pt x="797" y="225"/>
                    </a:lnTo>
                    <a:lnTo>
                      <a:pt x="791" y="219"/>
                    </a:lnTo>
                    <a:lnTo>
                      <a:pt x="780" y="231"/>
                    </a:lnTo>
                    <a:lnTo>
                      <a:pt x="780" y="237"/>
                    </a:lnTo>
                    <a:lnTo>
                      <a:pt x="780" y="237"/>
                    </a:lnTo>
                    <a:lnTo>
                      <a:pt x="780" y="260"/>
                    </a:lnTo>
                    <a:lnTo>
                      <a:pt x="785" y="260"/>
                    </a:lnTo>
                    <a:lnTo>
                      <a:pt x="780" y="260"/>
                    </a:lnTo>
                    <a:lnTo>
                      <a:pt x="774" y="277"/>
                    </a:lnTo>
                    <a:lnTo>
                      <a:pt x="768" y="277"/>
                    </a:lnTo>
                    <a:lnTo>
                      <a:pt x="774" y="283"/>
                    </a:lnTo>
                    <a:lnTo>
                      <a:pt x="780" y="300"/>
                    </a:lnTo>
                    <a:lnTo>
                      <a:pt x="785" y="294"/>
                    </a:lnTo>
                    <a:lnTo>
                      <a:pt x="780" y="294"/>
                    </a:lnTo>
                    <a:lnTo>
                      <a:pt x="780" y="318"/>
                    </a:lnTo>
                    <a:lnTo>
                      <a:pt x="780" y="323"/>
                    </a:lnTo>
                    <a:lnTo>
                      <a:pt x="780" y="323"/>
                    </a:lnTo>
                    <a:lnTo>
                      <a:pt x="785" y="341"/>
                    </a:lnTo>
                    <a:lnTo>
                      <a:pt x="791" y="358"/>
                    </a:lnTo>
                    <a:lnTo>
                      <a:pt x="803" y="375"/>
                    </a:lnTo>
                    <a:lnTo>
                      <a:pt x="803" y="375"/>
                    </a:lnTo>
                    <a:lnTo>
                      <a:pt x="803" y="375"/>
                    </a:lnTo>
                    <a:lnTo>
                      <a:pt x="814" y="387"/>
                    </a:lnTo>
                    <a:lnTo>
                      <a:pt x="820" y="393"/>
                    </a:lnTo>
                    <a:lnTo>
                      <a:pt x="820" y="393"/>
                    </a:lnTo>
                    <a:lnTo>
                      <a:pt x="837" y="404"/>
                    </a:lnTo>
                    <a:lnTo>
                      <a:pt x="849" y="410"/>
                    </a:lnTo>
                    <a:lnTo>
                      <a:pt x="849" y="398"/>
                    </a:lnTo>
                    <a:lnTo>
                      <a:pt x="843" y="404"/>
                    </a:lnTo>
                    <a:lnTo>
                      <a:pt x="849" y="410"/>
                    </a:lnTo>
                    <a:lnTo>
                      <a:pt x="855" y="416"/>
                    </a:lnTo>
                    <a:lnTo>
                      <a:pt x="855" y="416"/>
                    </a:lnTo>
                    <a:lnTo>
                      <a:pt x="866" y="421"/>
                    </a:lnTo>
                    <a:lnTo>
                      <a:pt x="878" y="427"/>
                    </a:lnTo>
                    <a:lnTo>
                      <a:pt x="878" y="427"/>
                    </a:lnTo>
                    <a:lnTo>
                      <a:pt x="878" y="427"/>
                    </a:lnTo>
                    <a:lnTo>
                      <a:pt x="889" y="427"/>
                    </a:lnTo>
                    <a:lnTo>
                      <a:pt x="889" y="416"/>
                    </a:lnTo>
                    <a:lnTo>
                      <a:pt x="889" y="427"/>
                    </a:lnTo>
                    <a:lnTo>
                      <a:pt x="901" y="433"/>
                    </a:lnTo>
                    <a:lnTo>
                      <a:pt x="901" y="433"/>
                    </a:lnTo>
                    <a:lnTo>
                      <a:pt x="901" y="433"/>
                    </a:lnTo>
                    <a:lnTo>
                      <a:pt x="912" y="433"/>
                    </a:lnTo>
                    <a:lnTo>
                      <a:pt x="924" y="433"/>
                    </a:lnTo>
                    <a:lnTo>
                      <a:pt x="947" y="427"/>
                    </a:lnTo>
                    <a:lnTo>
                      <a:pt x="970" y="421"/>
                    </a:lnTo>
                    <a:lnTo>
                      <a:pt x="993" y="416"/>
                    </a:lnTo>
                    <a:lnTo>
                      <a:pt x="999" y="410"/>
                    </a:lnTo>
                    <a:lnTo>
                      <a:pt x="999" y="416"/>
                    </a:lnTo>
                    <a:lnTo>
                      <a:pt x="1016" y="404"/>
                    </a:lnTo>
                    <a:lnTo>
                      <a:pt x="1033" y="393"/>
                    </a:lnTo>
                    <a:lnTo>
                      <a:pt x="1033" y="393"/>
                    </a:lnTo>
                    <a:lnTo>
                      <a:pt x="1033" y="387"/>
                    </a:lnTo>
                    <a:lnTo>
                      <a:pt x="1045" y="375"/>
                    </a:lnTo>
                    <a:lnTo>
                      <a:pt x="1051" y="375"/>
                    </a:lnTo>
                    <a:lnTo>
                      <a:pt x="1051" y="375"/>
                    </a:lnTo>
                    <a:lnTo>
                      <a:pt x="1062" y="358"/>
                    </a:lnTo>
                    <a:lnTo>
                      <a:pt x="1068" y="341"/>
                    </a:lnTo>
                    <a:lnTo>
                      <a:pt x="1057" y="335"/>
                    </a:lnTo>
                    <a:lnTo>
                      <a:pt x="1062" y="341"/>
                    </a:lnTo>
                    <a:lnTo>
                      <a:pt x="1074" y="329"/>
                    </a:lnTo>
                    <a:lnTo>
                      <a:pt x="1080" y="329"/>
                    </a:lnTo>
                    <a:lnTo>
                      <a:pt x="1080" y="323"/>
                    </a:lnTo>
                    <a:lnTo>
                      <a:pt x="1080" y="306"/>
                    </a:lnTo>
                    <a:lnTo>
                      <a:pt x="1080" y="289"/>
                    </a:lnTo>
                    <a:lnTo>
                      <a:pt x="1080" y="266"/>
                    </a:lnTo>
                    <a:lnTo>
                      <a:pt x="1080" y="266"/>
                    </a:lnTo>
                    <a:lnTo>
                      <a:pt x="1080" y="266"/>
                    </a:lnTo>
                    <a:lnTo>
                      <a:pt x="1074" y="254"/>
                    </a:lnTo>
                    <a:lnTo>
                      <a:pt x="1062" y="231"/>
                    </a:lnTo>
                    <a:lnTo>
                      <a:pt x="1057" y="214"/>
                    </a:lnTo>
                    <a:lnTo>
                      <a:pt x="1051" y="208"/>
                    </a:lnTo>
                    <a:lnTo>
                      <a:pt x="1051" y="208"/>
                    </a:lnTo>
                    <a:lnTo>
                      <a:pt x="1033" y="196"/>
                    </a:lnTo>
                    <a:lnTo>
                      <a:pt x="1028" y="202"/>
                    </a:lnTo>
                    <a:lnTo>
                      <a:pt x="1033" y="196"/>
                    </a:lnTo>
                    <a:lnTo>
                      <a:pt x="1022" y="185"/>
                    </a:lnTo>
                    <a:lnTo>
                      <a:pt x="1016" y="191"/>
                    </a:lnTo>
                    <a:lnTo>
                      <a:pt x="1028" y="191"/>
                    </a:lnTo>
                    <a:lnTo>
                      <a:pt x="1016" y="173"/>
                    </a:lnTo>
                    <a:lnTo>
                      <a:pt x="1010" y="156"/>
                    </a:lnTo>
                    <a:lnTo>
                      <a:pt x="1005" y="139"/>
                    </a:lnTo>
                    <a:lnTo>
                      <a:pt x="999" y="127"/>
                    </a:lnTo>
                    <a:lnTo>
                      <a:pt x="987" y="127"/>
                    </a:lnTo>
                    <a:lnTo>
                      <a:pt x="999" y="127"/>
                    </a:lnTo>
                    <a:lnTo>
                      <a:pt x="999" y="110"/>
                    </a:lnTo>
                    <a:lnTo>
                      <a:pt x="999" y="92"/>
                    </a:lnTo>
                    <a:lnTo>
                      <a:pt x="987" y="92"/>
                    </a:lnTo>
                    <a:lnTo>
                      <a:pt x="999" y="98"/>
                    </a:lnTo>
                    <a:lnTo>
                      <a:pt x="1005" y="81"/>
                    </a:lnTo>
                    <a:lnTo>
                      <a:pt x="1010" y="69"/>
                    </a:lnTo>
                    <a:lnTo>
                      <a:pt x="1010" y="69"/>
                    </a:lnTo>
                    <a:lnTo>
                      <a:pt x="1010" y="64"/>
                    </a:lnTo>
                    <a:lnTo>
                      <a:pt x="1010" y="46"/>
                    </a:lnTo>
                    <a:lnTo>
                      <a:pt x="999" y="46"/>
                    </a:lnTo>
                    <a:lnTo>
                      <a:pt x="1005" y="52"/>
                    </a:lnTo>
                    <a:lnTo>
                      <a:pt x="1016" y="41"/>
                    </a:lnTo>
                    <a:lnTo>
                      <a:pt x="1022" y="35"/>
                    </a:lnTo>
                    <a:lnTo>
                      <a:pt x="1033" y="23"/>
                    </a:lnTo>
                    <a:lnTo>
                      <a:pt x="1028" y="17"/>
                    </a:lnTo>
                    <a:lnTo>
                      <a:pt x="1033" y="29"/>
                    </a:lnTo>
                    <a:lnTo>
                      <a:pt x="1045" y="23"/>
                    </a:lnTo>
                    <a:lnTo>
                      <a:pt x="1045" y="23"/>
                    </a:lnTo>
                    <a:lnTo>
                      <a:pt x="1045" y="17"/>
                    </a:lnTo>
                    <a:lnTo>
                      <a:pt x="1051" y="12"/>
                    </a:lnTo>
                    <a:lnTo>
                      <a:pt x="1045" y="6"/>
                    </a:lnTo>
                    <a:lnTo>
                      <a:pt x="1045" y="17"/>
                    </a:lnTo>
                    <a:lnTo>
                      <a:pt x="1057" y="17"/>
                    </a:lnTo>
                    <a:lnTo>
                      <a:pt x="1074" y="17"/>
                    </a:lnTo>
                    <a:lnTo>
                      <a:pt x="1097" y="23"/>
                    </a:lnTo>
                    <a:lnTo>
                      <a:pt x="1132" y="23"/>
                    </a:lnTo>
                    <a:lnTo>
                      <a:pt x="1172" y="29"/>
                    </a:lnTo>
                    <a:lnTo>
                      <a:pt x="1212" y="35"/>
                    </a:lnTo>
                    <a:lnTo>
                      <a:pt x="1258" y="35"/>
                    </a:lnTo>
                    <a:lnTo>
                      <a:pt x="1310" y="41"/>
                    </a:lnTo>
                    <a:lnTo>
                      <a:pt x="1362" y="41"/>
                    </a:lnTo>
                    <a:lnTo>
                      <a:pt x="1368" y="41"/>
                    </a:lnTo>
                    <a:lnTo>
                      <a:pt x="1368" y="29"/>
                    </a:lnTo>
                    <a:lnTo>
                      <a:pt x="1362" y="29"/>
                    </a:lnTo>
                    <a:lnTo>
                      <a:pt x="1357" y="64"/>
                    </a:lnTo>
                    <a:lnTo>
                      <a:pt x="1351" y="98"/>
                    </a:lnTo>
                    <a:lnTo>
                      <a:pt x="1345" y="144"/>
                    </a:lnTo>
                    <a:lnTo>
                      <a:pt x="1339" y="191"/>
                    </a:lnTo>
                    <a:lnTo>
                      <a:pt x="1333" y="237"/>
                    </a:lnTo>
                    <a:lnTo>
                      <a:pt x="1333" y="277"/>
                    </a:lnTo>
                    <a:lnTo>
                      <a:pt x="1333" y="312"/>
                    </a:lnTo>
                    <a:lnTo>
                      <a:pt x="1333" y="329"/>
                    </a:lnTo>
                    <a:lnTo>
                      <a:pt x="1333" y="335"/>
                    </a:lnTo>
                    <a:lnTo>
                      <a:pt x="1333" y="335"/>
                    </a:lnTo>
                    <a:lnTo>
                      <a:pt x="1339" y="346"/>
                    </a:lnTo>
                    <a:lnTo>
                      <a:pt x="1345" y="341"/>
                    </a:lnTo>
                    <a:lnTo>
                      <a:pt x="1339" y="341"/>
                    </a:lnTo>
                    <a:lnTo>
                      <a:pt x="1339" y="352"/>
                    </a:lnTo>
                    <a:lnTo>
                      <a:pt x="1339" y="358"/>
                    </a:lnTo>
                    <a:lnTo>
                      <a:pt x="1339" y="358"/>
                    </a:lnTo>
                    <a:lnTo>
                      <a:pt x="1351" y="369"/>
                    </a:lnTo>
                    <a:lnTo>
                      <a:pt x="1357" y="375"/>
                    </a:lnTo>
                    <a:lnTo>
                      <a:pt x="1357" y="375"/>
                    </a:lnTo>
                    <a:lnTo>
                      <a:pt x="1368" y="381"/>
                    </a:lnTo>
                    <a:lnTo>
                      <a:pt x="1368" y="369"/>
                    </a:lnTo>
                    <a:lnTo>
                      <a:pt x="1362" y="375"/>
                    </a:lnTo>
                    <a:lnTo>
                      <a:pt x="1374" y="387"/>
                    </a:lnTo>
                    <a:lnTo>
                      <a:pt x="1380" y="393"/>
                    </a:lnTo>
                    <a:lnTo>
                      <a:pt x="1380" y="393"/>
                    </a:lnTo>
                    <a:lnTo>
                      <a:pt x="1391" y="393"/>
                    </a:lnTo>
                    <a:lnTo>
                      <a:pt x="1391" y="381"/>
                    </a:lnTo>
                    <a:lnTo>
                      <a:pt x="1391" y="393"/>
                    </a:lnTo>
                    <a:lnTo>
                      <a:pt x="1409" y="398"/>
                    </a:lnTo>
                    <a:lnTo>
                      <a:pt x="1426" y="404"/>
                    </a:lnTo>
                    <a:lnTo>
                      <a:pt x="1426" y="404"/>
                    </a:lnTo>
                    <a:lnTo>
                      <a:pt x="1426" y="404"/>
                    </a:lnTo>
                    <a:lnTo>
                      <a:pt x="1437" y="404"/>
                    </a:lnTo>
                    <a:lnTo>
                      <a:pt x="1455" y="404"/>
                    </a:lnTo>
                    <a:lnTo>
                      <a:pt x="1472" y="404"/>
                    </a:lnTo>
                    <a:lnTo>
                      <a:pt x="1489" y="404"/>
                    </a:lnTo>
                    <a:lnTo>
                      <a:pt x="1495" y="404"/>
                    </a:lnTo>
                    <a:lnTo>
                      <a:pt x="1495" y="404"/>
                    </a:lnTo>
                    <a:lnTo>
                      <a:pt x="1507" y="398"/>
                    </a:lnTo>
                    <a:lnTo>
                      <a:pt x="1524" y="393"/>
                    </a:lnTo>
                    <a:lnTo>
                      <a:pt x="1535" y="387"/>
                    </a:lnTo>
                    <a:lnTo>
                      <a:pt x="1535" y="387"/>
                    </a:lnTo>
                    <a:lnTo>
                      <a:pt x="1535" y="381"/>
                    </a:lnTo>
                    <a:lnTo>
                      <a:pt x="1547" y="369"/>
                    </a:lnTo>
                    <a:lnTo>
                      <a:pt x="1541" y="364"/>
                    </a:lnTo>
                    <a:lnTo>
                      <a:pt x="1547" y="375"/>
                    </a:lnTo>
                    <a:lnTo>
                      <a:pt x="1559" y="369"/>
                    </a:lnTo>
                    <a:lnTo>
                      <a:pt x="1570" y="364"/>
                    </a:lnTo>
                    <a:lnTo>
                      <a:pt x="1582" y="358"/>
                    </a:lnTo>
                    <a:lnTo>
                      <a:pt x="1599" y="352"/>
                    </a:lnTo>
                    <a:lnTo>
                      <a:pt x="1593" y="341"/>
                    </a:lnTo>
                    <a:lnTo>
                      <a:pt x="1593" y="352"/>
                    </a:lnTo>
                    <a:lnTo>
                      <a:pt x="1610" y="352"/>
                    </a:lnTo>
                    <a:lnTo>
                      <a:pt x="1628" y="352"/>
                    </a:lnTo>
                    <a:lnTo>
                      <a:pt x="1628" y="341"/>
                    </a:lnTo>
                    <a:lnTo>
                      <a:pt x="1628" y="352"/>
                    </a:lnTo>
                    <a:lnTo>
                      <a:pt x="1645" y="358"/>
                    </a:lnTo>
                    <a:lnTo>
                      <a:pt x="1662" y="364"/>
                    </a:lnTo>
                    <a:lnTo>
                      <a:pt x="1680" y="375"/>
                    </a:lnTo>
                    <a:lnTo>
                      <a:pt x="1691" y="381"/>
                    </a:lnTo>
                    <a:lnTo>
                      <a:pt x="1709" y="393"/>
                    </a:lnTo>
                    <a:lnTo>
                      <a:pt x="1709" y="381"/>
                    </a:lnTo>
                    <a:lnTo>
                      <a:pt x="1703" y="387"/>
                    </a:lnTo>
                    <a:lnTo>
                      <a:pt x="1714" y="404"/>
                    </a:lnTo>
                    <a:lnTo>
                      <a:pt x="1720" y="421"/>
                    </a:lnTo>
                    <a:lnTo>
                      <a:pt x="1732" y="439"/>
                    </a:lnTo>
                    <a:lnTo>
                      <a:pt x="1737" y="433"/>
                    </a:lnTo>
                    <a:lnTo>
                      <a:pt x="1732" y="433"/>
                    </a:lnTo>
                    <a:lnTo>
                      <a:pt x="1732" y="456"/>
                    </a:lnTo>
                    <a:lnTo>
                      <a:pt x="1732" y="462"/>
                    </a:lnTo>
                    <a:lnTo>
                      <a:pt x="1732" y="462"/>
                    </a:lnTo>
                    <a:lnTo>
                      <a:pt x="1737" y="485"/>
                    </a:lnTo>
                    <a:lnTo>
                      <a:pt x="1743" y="479"/>
                    </a:lnTo>
                    <a:lnTo>
                      <a:pt x="1737" y="479"/>
                    </a:lnTo>
                    <a:lnTo>
                      <a:pt x="1732" y="491"/>
                    </a:lnTo>
                    <a:lnTo>
                      <a:pt x="1732" y="491"/>
                    </a:lnTo>
                    <a:lnTo>
                      <a:pt x="1732" y="491"/>
                    </a:lnTo>
                    <a:lnTo>
                      <a:pt x="1732" y="508"/>
                    </a:lnTo>
                    <a:lnTo>
                      <a:pt x="1737" y="508"/>
                    </a:lnTo>
                    <a:lnTo>
                      <a:pt x="1732" y="508"/>
                    </a:lnTo>
                    <a:lnTo>
                      <a:pt x="1720" y="525"/>
                    </a:lnTo>
                    <a:lnTo>
                      <a:pt x="1714" y="537"/>
                    </a:lnTo>
                    <a:lnTo>
                      <a:pt x="1720" y="537"/>
                    </a:lnTo>
                    <a:lnTo>
                      <a:pt x="1714" y="531"/>
                    </a:lnTo>
                    <a:lnTo>
                      <a:pt x="1703" y="543"/>
                    </a:lnTo>
                    <a:lnTo>
                      <a:pt x="1709" y="548"/>
                    </a:lnTo>
                    <a:lnTo>
                      <a:pt x="1709" y="543"/>
                    </a:lnTo>
                    <a:lnTo>
                      <a:pt x="1691" y="548"/>
                    </a:lnTo>
                    <a:lnTo>
                      <a:pt x="1691" y="548"/>
                    </a:lnTo>
                    <a:lnTo>
                      <a:pt x="1685" y="548"/>
                    </a:lnTo>
                    <a:lnTo>
                      <a:pt x="1674" y="560"/>
                    </a:lnTo>
                    <a:lnTo>
                      <a:pt x="1680" y="566"/>
                    </a:lnTo>
                    <a:lnTo>
                      <a:pt x="1680" y="560"/>
                    </a:lnTo>
                    <a:lnTo>
                      <a:pt x="1662" y="566"/>
                    </a:lnTo>
                    <a:lnTo>
                      <a:pt x="1645" y="571"/>
                    </a:lnTo>
                    <a:lnTo>
                      <a:pt x="1628" y="577"/>
                    </a:lnTo>
                    <a:lnTo>
                      <a:pt x="1628" y="583"/>
                    </a:lnTo>
                    <a:lnTo>
                      <a:pt x="1628" y="577"/>
                    </a:lnTo>
                    <a:lnTo>
                      <a:pt x="1610" y="577"/>
                    </a:lnTo>
                    <a:lnTo>
                      <a:pt x="1593" y="577"/>
                    </a:lnTo>
                    <a:lnTo>
                      <a:pt x="1593" y="583"/>
                    </a:lnTo>
                    <a:lnTo>
                      <a:pt x="1599" y="577"/>
                    </a:lnTo>
                    <a:lnTo>
                      <a:pt x="1582" y="571"/>
                    </a:lnTo>
                    <a:lnTo>
                      <a:pt x="1576" y="577"/>
                    </a:lnTo>
                    <a:lnTo>
                      <a:pt x="1582" y="571"/>
                    </a:lnTo>
                    <a:lnTo>
                      <a:pt x="1570" y="560"/>
                    </a:lnTo>
                    <a:lnTo>
                      <a:pt x="1570" y="560"/>
                    </a:lnTo>
                    <a:lnTo>
                      <a:pt x="1570" y="560"/>
                    </a:lnTo>
                    <a:lnTo>
                      <a:pt x="1559" y="554"/>
                    </a:lnTo>
                    <a:lnTo>
                      <a:pt x="1553" y="560"/>
                    </a:lnTo>
                    <a:lnTo>
                      <a:pt x="1559" y="554"/>
                    </a:lnTo>
                    <a:lnTo>
                      <a:pt x="1547" y="543"/>
                    </a:lnTo>
                    <a:lnTo>
                      <a:pt x="1535" y="531"/>
                    </a:lnTo>
                    <a:lnTo>
                      <a:pt x="1535" y="531"/>
                    </a:lnTo>
                    <a:lnTo>
                      <a:pt x="1535" y="531"/>
                    </a:lnTo>
                    <a:lnTo>
                      <a:pt x="1524" y="525"/>
                    </a:lnTo>
                    <a:lnTo>
                      <a:pt x="1518" y="531"/>
                    </a:lnTo>
                    <a:lnTo>
                      <a:pt x="1524" y="525"/>
                    </a:lnTo>
                    <a:lnTo>
                      <a:pt x="1512" y="514"/>
                    </a:lnTo>
                    <a:lnTo>
                      <a:pt x="1512" y="514"/>
                    </a:lnTo>
                    <a:lnTo>
                      <a:pt x="1507" y="514"/>
                    </a:lnTo>
                    <a:lnTo>
                      <a:pt x="1495" y="514"/>
                    </a:lnTo>
                    <a:lnTo>
                      <a:pt x="1495" y="519"/>
                    </a:lnTo>
                    <a:lnTo>
                      <a:pt x="1501" y="514"/>
                    </a:lnTo>
                    <a:lnTo>
                      <a:pt x="1484" y="508"/>
                    </a:lnTo>
                    <a:lnTo>
                      <a:pt x="1484" y="508"/>
                    </a:lnTo>
                    <a:lnTo>
                      <a:pt x="1478" y="508"/>
                    </a:lnTo>
                    <a:lnTo>
                      <a:pt x="1466" y="508"/>
                    </a:lnTo>
                    <a:lnTo>
                      <a:pt x="1466" y="508"/>
                    </a:lnTo>
                    <a:lnTo>
                      <a:pt x="1466" y="508"/>
                    </a:lnTo>
                    <a:lnTo>
                      <a:pt x="1449" y="514"/>
                    </a:lnTo>
                    <a:lnTo>
                      <a:pt x="1449" y="519"/>
                    </a:lnTo>
                    <a:lnTo>
                      <a:pt x="1449" y="514"/>
                    </a:lnTo>
                    <a:lnTo>
                      <a:pt x="1437" y="514"/>
                    </a:lnTo>
                    <a:lnTo>
                      <a:pt x="1437" y="514"/>
                    </a:lnTo>
                    <a:lnTo>
                      <a:pt x="1437" y="514"/>
                    </a:lnTo>
                    <a:lnTo>
                      <a:pt x="1426" y="519"/>
                    </a:lnTo>
                    <a:lnTo>
                      <a:pt x="1409" y="525"/>
                    </a:lnTo>
                    <a:lnTo>
                      <a:pt x="1409" y="525"/>
                    </a:lnTo>
                    <a:lnTo>
                      <a:pt x="1403" y="525"/>
                    </a:lnTo>
                    <a:lnTo>
                      <a:pt x="1391" y="537"/>
                    </a:lnTo>
                    <a:lnTo>
                      <a:pt x="1380" y="548"/>
                    </a:lnTo>
                    <a:lnTo>
                      <a:pt x="1385" y="554"/>
                    </a:lnTo>
                    <a:lnTo>
                      <a:pt x="1385" y="548"/>
                    </a:lnTo>
                    <a:lnTo>
                      <a:pt x="1374" y="554"/>
                    </a:lnTo>
                    <a:lnTo>
                      <a:pt x="1374" y="554"/>
                    </a:lnTo>
                    <a:lnTo>
                      <a:pt x="1368" y="554"/>
                    </a:lnTo>
                    <a:lnTo>
                      <a:pt x="1357" y="566"/>
                    </a:lnTo>
                    <a:lnTo>
                      <a:pt x="1357" y="571"/>
                    </a:lnTo>
                    <a:lnTo>
                      <a:pt x="1357" y="571"/>
                    </a:lnTo>
                    <a:lnTo>
                      <a:pt x="1351" y="589"/>
                    </a:lnTo>
                    <a:lnTo>
                      <a:pt x="1345" y="600"/>
                    </a:lnTo>
                    <a:lnTo>
                      <a:pt x="1339" y="618"/>
                    </a:lnTo>
                    <a:lnTo>
                      <a:pt x="1339" y="618"/>
                    </a:lnTo>
                    <a:lnTo>
                      <a:pt x="1339" y="618"/>
                    </a:lnTo>
                    <a:lnTo>
                      <a:pt x="1339" y="635"/>
                    </a:lnTo>
                    <a:lnTo>
                      <a:pt x="1339" y="658"/>
                    </a:lnTo>
                    <a:lnTo>
                      <a:pt x="1339" y="681"/>
                    </a:lnTo>
                    <a:lnTo>
                      <a:pt x="1339" y="687"/>
                    </a:lnTo>
                    <a:lnTo>
                      <a:pt x="1339" y="687"/>
                    </a:lnTo>
                    <a:lnTo>
                      <a:pt x="1351" y="739"/>
                    </a:lnTo>
                    <a:lnTo>
                      <a:pt x="1362" y="791"/>
                    </a:lnTo>
                    <a:lnTo>
                      <a:pt x="1368" y="785"/>
                    </a:lnTo>
                    <a:lnTo>
                      <a:pt x="1362" y="785"/>
                    </a:lnTo>
                    <a:lnTo>
                      <a:pt x="1368" y="814"/>
                    </a:lnTo>
                    <a:lnTo>
                      <a:pt x="1368" y="831"/>
                    </a:lnTo>
                    <a:lnTo>
                      <a:pt x="1368" y="819"/>
                    </a:lnTo>
                    <a:lnTo>
                      <a:pt x="1374" y="843"/>
                    </a:lnTo>
                    <a:lnTo>
                      <a:pt x="1380" y="837"/>
                    </a:lnTo>
                    <a:lnTo>
                      <a:pt x="1374" y="837"/>
                    </a:lnTo>
                    <a:lnTo>
                      <a:pt x="1374" y="866"/>
                    </a:lnTo>
                    <a:lnTo>
                      <a:pt x="1374" y="894"/>
                    </a:lnTo>
                    <a:lnTo>
                      <a:pt x="1374" y="918"/>
                    </a:lnTo>
                    <a:lnTo>
                      <a:pt x="1374" y="941"/>
                    </a:lnTo>
                    <a:lnTo>
                      <a:pt x="1374" y="952"/>
                    </a:lnTo>
                    <a:lnTo>
                      <a:pt x="1380" y="952"/>
                    </a:lnTo>
                    <a:lnTo>
                      <a:pt x="1374" y="946"/>
                    </a:lnTo>
                    <a:lnTo>
                      <a:pt x="1368" y="952"/>
                    </a:lnTo>
                    <a:lnTo>
                      <a:pt x="1368" y="958"/>
                    </a:lnTo>
                    <a:lnTo>
                      <a:pt x="1368" y="958"/>
                    </a:lnTo>
                    <a:lnTo>
                      <a:pt x="1368" y="969"/>
                    </a:lnTo>
                    <a:lnTo>
                      <a:pt x="1374" y="969"/>
                    </a:lnTo>
                    <a:lnTo>
                      <a:pt x="1368" y="969"/>
                    </a:lnTo>
                    <a:lnTo>
                      <a:pt x="1362" y="981"/>
                    </a:lnTo>
                    <a:lnTo>
                      <a:pt x="1368" y="981"/>
                    </a:lnTo>
                    <a:lnTo>
                      <a:pt x="1368" y="975"/>
                    </a:lnTo>
                    <a:lnTo>
                      <a:pt x="1345" y="987"/>
                    </a:lnTo>
                    <a:lnTo>
                      <a:pt x="1328" y="998"/>
                    </a:lnTo>
                    <a:lnTo>
                      <a:pt x="1328" y="1004"/>
                    </a:lnTo>
                    <a:lnTo>
                      <a:pt x="1328" y="998"/>
                    </a:lnTo>
                    <a:lnTo>
                      <a:pt x="1299" y="1004"/>
                    </a:lnTo>
                    <a:lnTo>
                      <a:pt x="1270" y="1010"/>
                    </a:lnTo>
                    <a:lnTo>
                      <a:pt x="1247" y="1010"/>
                    </a:lnTo>
                    <a:lnTo>
                      <a:pt x="1212" y="1016"/>
                    </a:lnTo>
                    <a:lnTo>
                      <a:pt x="1183" y="1016"/>
                    </a:lnTo>
                    <a:lnTo>
                      <a:pt x="1155" y="1016"/>
                    </a:lnTo>
                    <a:lnTo>
                      <a:pt x="1126" y="1016"/>
                    </a:lnTo>
                    <a:lnTo>
                      <a:pt x="1097" y="1010"/>
                    </a:lnTo>
                    <a:lnTo>
                      <a:pt x="1074" y="1010"/>
                    </a:lnTo>
                    <a:lnTo>
                      <a:pt x="1045" y="1004"/>
                    </a:lnTo>
                    <a:lnTo>
                      <a:pt x="1022" y="998"/>
                    </a:lnTo>
                    <a:lnTo>
                      <a:pt x="999" y="993"/>
                    </a:lnTo>
                    <a:lnTo>
                      <a:pt x="999" y="998"/>
                    </a:lnTo>
                    <a:lnTo>
                      <a:pt x="1005" y="993"/>
                    </a:lnTo>
                    <a:lnTo>
                      <a:pt x="993" y="981"/>
                    </a:lnTo>
                    <a:lnTo>
                      <a:pt x="993" y="981"/>
                    </a:lnTo>
                    <a:lnTo>
                      <a:pt x="993" y="981"/>
                    </a:lnTo>
                    <a:lnTo>
                      <a:pt x="976" y="975"/>
                    </a:lnTo>
                    <a:lnTo>
                      <a:pt x="970" y="981"/>
                    </a:lnTo>
                    <a:lnTo>
                      <a:pt x="976" y="975"/>
                    </a:lnTo>
                    <a:lnTo>
                      <a:pt x="964" y="964"/>
                    </a:lnTo>
                    <a:lnTo>
                      <a:pt x="958" y="958"/>
                    </a:lnTo>
                    <a:lnTo>
                      <a:pt x="953" y="964"/>
                    </a:lnTo>
                    <a:lnTo>
                      <a:pt x="964" y="964"/>
                    </a:lnTo>
                    <a:lnTo>
                      <a:pt x="958" y="952"/>
                    </a:lnTo>
                    <a:lnTo>
                      <a:pt x="958" y="952"/>
                    </a:lnTo>
                    <a:lnTo>
                      <a:pt x="953" y="946"/>
                    </a:lnTo>
                    <a:lnTo>
                      <a:pt x="947" y="941"/>
                    </a:lnTo>
                    <a:lnTo>
                      <a:pt x="941" y="946"/>
                    </a:lnTo>
                    <a:lnTo>
                      <a:pt x="953" y="946"/>
                    </a:lnTo>
                    <a:lnTo>
                      <a:pt x="953" y="941"/>
                    </a:lnTo>
                    <a:lnTo>
                      <a:pt x="953" y="929"/>
                    </a:lnTo>
                    <a:lnTo>
                      <a:pt x="953" y="923"/>
                    </a:lnTo>
                    <a:lnTo>
                      <a:pt x="953" y="912"/>
                    </a:lnTo>
                    <a:lnTo>
                      <a:pt x="941" y="912"/>
                    </a:lnTo>
                    <a:lnTo>
                      <a:pt x="953" y="918"/>
                    </a:lnTo>
                    <a:lnTo>
                      <a:pt x="958" y="906"/>
                    </a:lnTo>
                    <a:lnTo>
                      <a:pt x="947" y="900"/>
                    </a:lnTo>
                    <a:lnTo>
                      <a:pt x="953" y="906"/>
                    </a:lnTo>
                    <a:lnTo>
                      <a:pt x="958" y="900"/>
                    </a:lnTo>
                    <a:lnTo>
                      <a:pt x="964" y="900"/>
                    </a:lnTo>
                    <a:lnTo>
                      <a:pt x="964" y="900"/>
                    </a:lnTo>
                    <a:lnTo>
                      <a:pt x="970" y="889"/>
                    </a:lnTo>
                    <a:lnTo>
                      <a:pt x="976" y="877"/>
                    </a:lnTo>
                    <a:lnTo>
                      <a:pt x="964" y="871"/>
                    </a:lnTo>
                    <a:lnTo>
                      <a:pt x="970" y="877"/>
                    </a:lnTo>
                    <a:lnTo>
                      <a:pt x="993" y="854"/>
                    </a:lnTo>
                    <a:lnTo>
                      <a:pt x="1016" y="831"/>
                    </a:lnTo>
                    <a:lnTo>
                      <a:pt x="1028" y="819"/>
                    </a:lnTo>
                    <a:lnTo>
                      <a:pt x="1033" y="819"/>
                    </a:lnTo>
                    <a:lnTo>
                      <a:pt x="1033" y="819"/>
                    </a:lnTo>
                    <a:lnTo>
                      <a:pt x="1039" y="802"/>
                    </a:lnTo>
                    <a:lnTo>
                      <a:pt x="1045" y="785"/>
                    </a:lnTo>
                    <a:lnTo>
                      <a:pt x="1051" y="768"/>
                    </a:lnTo>
                    <a:lnTo>
                      <a:pt x="1051" y="768"/>
                    </a:lnTo>
                    <a:lnTo>
                      <a:pt x="1051" y="762"/>
                    </a:lnTo>
                    <a:lnTo>
                      <a:pt x="1051" y="744"/>
                    </a:lnTo>
                    <a:lnTo>
                      <a:pt x="1051" y="744"/>
                    </a:lnTo>
                    <a:lnTo>
                      <a:pt x="1051" y="744"/>
                    </a:lnTo>
                    <a:lnTo>
                      <a:pt x="1045" y="727"/>
                    </a:lnTo>
                    <a:lnTo>
                      <a:pt x="1039" y="710"/>
                    </a:lnTo>
                    <a:lnTo>
                      <a:pt x="1033" y="687"/>
                    </a:lnTo>
                    <a:lnTo>
                      <a:pt x="1022" y="669"/>
                    </a:lnTo>
                    <a:lnTo>
                      <a:pt x="1022" y="669"/>
                    </a:lnTo>
                    <a:lnTo>
                      <a:pt x="1016" y="664"/>
                    </a:lnTo>
                    <a:lnTo>
                      <a:pt x="1005" y="652"/>
                    </a:lnTo>
                    <a:lnTo>
                      <a:pt x="993" y="641"/>
                    </a:lnTo>
                    <a:lnTo>
                      <a:pt x="976" y="623"/>
                    </a:lnTo>
                    <a:lnTo>
                      <a:pt x="976" y="623"/>
                    </a:lnTo>
                    <a:lnTo>
                      <a:pt x="976" y="623"/>
                    </a:lnTo>
                    <a:lnTo>
                      <a:pt x="964" y="618"/>
                    </a:lnTo>
                    <a:lnTo>
                      <a:pt x="941" y="606"/>
                    </a:lnTo>
                    <a:lnTo>
                      <a:pt x="924" y="600"/>
                    </a:lnTo>
                    <a:lnTo>
                      <a:pt x="924" y="600"/>
                    </a:lnTo>
                    <a:lnTo>
                      <a:pt x="918" y="600"/>
                    </a:lnTo>
                    <a:lnTo>
                      <a:pt x="895" y="600"/>
                    </a:lnTo>
                    <a:lnTo>
                      <a:pt x="872" y="600"/>
                    </a:lnTo>
                    <a:lnTo>
                      <a:pt x="872" y="600"/>
                    </a:lnTo>
                    <a:lnTo>
                      <a:pt x="872" y="600"/>
                    </a:lnTo>
                    <a:lnTo>
                      <a:pt x="855" y="606"/>
                    </a:lnTo>
                    <a:lnTo>
                      <a:pt x="831" y="618"/>
                    </a:lnTo>
                    <a:lnTo>
                      <a:pt x="814" y="623"/>
                    </a:lnTo>
                    <a:lnTo>
                      <a:pt x="797" y="635"/>
                    </a:lnTo>
                    <a:lnTo>
                      <a:pt x="797" y="635"/>
                    </a:lnTo>
                    <a:lnTo>
                      <a:pt x="791" y="635"/>
                    </a:lnTo>
                    <a:lnTo>
                      <a:pt x="774" y="652"/>
                    </a:lnTo>
                    <a:lnTo>
                      <a:pt x="762" y="664"/>
                    </a:lnTo>
                    <a:lnTo>
                      <a:pt x="762" y="669"/>
                    </a:lnTo>
                    <a:lnTo>
                      <a:pt x="762" y="669"/>
                    </a:lnTo>
                    <a:lnTo>
                      <a:pt x="751" y="687"/>
                    </a:lnTo>
                    <a:lnTo>
                      <a:pt x="739" y="704"/>
                    </a:lnTo>
                    <a:lnTo>
                      <a:pt x="733" y="721"/>
                    </a:lnTo>
                    <a:lnTo>
                      <a:pt x="728" y="744"/>
                    </a:lnTo>
                    <a:lnTo>
                      <a:pt x="728" y="744"/>
                    </a:lnTo>
                    <a:lnTo>
                      <a:pt x="728" y="744"/>
                    </a:lnTo>
                    <a:lnTo>
                      <a:pt x="728" y="762"/>
                    </a:lnTo>
                    <a:lnTo>
                      <a:pt x="728" y="768"/>
                    </a:lnTo>
                    <a:lnTo>
                      <a:pt x="728" y="768"/>
                    </a:lnTo>
                    <a:lnTo>
                      <a:pt x="733" y="785"/>
                    </a:lnTo>
                    <a:lnTo>
                      <a:pt x="739" y="802"/>
                    </a:lnTo>
                    <a:lnTo>
                      <a:pt x="745" y="814"/>
                    </a:lnTo>
                    <a:lnTo>
                      <a:pt x="751" y="808"/>
                    </a:lnTo>
                    <a:lnTo>
                      <a:pt x="745" y="808"/>
                    </a:lnTo>
                    <a:lnTo>
                      <a:pt x="745" y="814"/>
                    </a:lnTo>
                    <a:lnTo>
                      <a:pt x="745" y="819"/>
                    </a:lnTo>
                    <a:lnTo>
                      <a:pt x="745" y="819"/>
                    </a:lnTo>
                    <a:lnTo>
                      <a:pt x="751" y="831"/>
                    </a:lnTo>
                    <a:lnTo>
                      <a:pt x="751" y="831"/>
                    </a:lnTo>
                    <a:lnTo>
                      <a:pt x="756" y="837"/>
                    </a:lnTo>
                    <a:lnTo>
                      <a:pt x="768" y="843"/>
                    </a:lnTo>
                    <a:lnTo>
                      <a:pt x="768" y="831"/>
                    </a:lnTo>
                    <a:lnTo>
                      <a:pt x="762" y="837"/>
                    </a:lnTo>
                    <a:lnTo>
                      <a:pt x="774" y="854"/>
                    </a:lnTo>
                    <a:lnTo>
                      <a:pt x="774" y="854"/>
                    </a:lnTo>
                    <a:lnTo>
                      <a:pt x="774" y="854"/>
                    </a:lnTo>
                    <a:lnTo>
                      <a:pt x="785" y="866"/>
                    </a:lnTo>
                    <a:lnTo>
                      <a:pt x="791" y="860"/>
                    </a:lnTo>
                    <a:lnTo>
                      <a:pt x="785" y="866"/>
                    </a:lnTo>
                    <a:lnTo>
                      <a:pt x="791" y="883"/>
                    </a:lnTo>
                    <a:lnTo>
                      <a:pt x="791" y="883"/>
                    </a:lnTo>
                    <a:lnTo>
                      <a:pt x="791" y="883"/>
                    </a:lnTo>
                    <a:lnTo>
                      <a:pt x="803" y="894"/>
                    </a:lnTo>
                    <a:lnTo>
                      <a:pt x="808" y="889"/>
                    </a:lnTo>
                    <a:lnTo>
                      <a:pt x="803" y="894"/>
                    </a:lnTo>
                    <a:lnTo>
                      <a:pt x="808" y="906"/>
                    </a:lnTo>
                    <a:lnTo>
                      <a:pt x="814" y="900"/>
                    </a:lnTo>
                    <a:lnTo>
                      <a:pt x="808" y="900"/>
                    </a:lnTo>
                    <a:lnTo>
                      <a:pt x="808" y="912"/>
                    </a:lnTo>
                    <a:lnTo>
                      <a:pt x="808" y="918"/>
                    </a:lnTo>
                    <a:lnTo>
                      <a:pt x="808" y="918"/>
                    </a:lnTo>
                    <a:lnTo>
                      <a:pt x="814" y="929"/>
                    </a:lnTo>
                    <a:lnTo>
                      <a:pt x="820" y="923"/>
                    </a:lnTo>
                    <a:lnTo>
                      <a:pt x="814" y="923"/>
                    </a:lnTo>
                    <a:lnTo>
                      <a:pt x="814" y="935"/>
                    </a:lnTo>
                    <a:lnTo>
                      <a:pt x="820" y="935"/>
                    </a:lnTo>
                    <a:lnTo>
                      <a:pt x="814" y="935"/>
                    </a:lnTo>
                    <a:lnTo>
                      <a:pt x="808" y="946"/>
                    </a:lnTo>
                    <a:lnTo>
                      <a:pt x="808" y="946"/>
                    </a:lnTo>
                    <a:lnTo>
                      <a:pt x="808" y="946"/>
                    </a:lnTo>
                    <a:lnTo>
                      <a:pt x="808" y="952"/>
                    </a:lnTo>
                    <a:lnTo>
                      <a:pt x="814" y="952"/>
                    </a:lnTo>
                    <a:lnTo>
                      <a:pt x="808" y="946"/>
                    </a:lnTo>
                    <a:lnTo>
                      <a:pt x="803" y="952"/>
                    </a:lnTo>
                    <a:lnTo>
                      <a:pt x="803" y="958"/>
                    </a:lnTo>
                    <a:lnTo>
                      <a:pt x="803" y="958"/>
                    </a:lnTo>
                    <a:lnTo>
                      <a:pt x="797" y="969"/>
                    </a:lnTo>
                    <a:lnTo>
                      <a:pt x="803" y="969"/>
                    </a:lnTo>
                    <a:lnTo>
                      <a:pt x="803" y="964"/>
                    </a:lnTo>
                    <a:lnTo>
                      <a:pt x="791" y="969"/>
                    </a:lnTo>
                    <a:lnTo>
                      <a:pt x="791" y="975"/>
                    </a:lnTo>
                    <a:lnTo>
                      <a:pt x="791" y="969"/>
                    </a:lnTo>
                    <a:lnTo>
                      <a:pt x="785" y="969"/>
                    </a:lnTo>
                    <a:lnTo>
                      <a:pt x="785" y="969"/>
                    </a:lnTo>
                    <a:lnTo>
                      <a:pt x="785" y="969"/>
                    </a:lnTo>
                    <a:lnTo>
                      <a:pt x="768" y="975"/>
                    </a:lnTo>
                    <a:lnTo>
                      <a:pt x="768" y="981"/>
                    </a:lnTo>
                    <a:lnTo>
                      <a:pt x="768" y="975"/>
                    </a:lnTo>
                    <a:lnTo>
                      <a:pt x="756" y="9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310360" y="3618000"/>
              <a:ext cx="1471320" cy="2630520"/>
              <a:chOff x="5310360" y="3618000"/>
              <a:chExt cx="1471320" cy="2630520"/>
            </a:xfrm>
          </p:grpSpPr>
          <p:sp>
            <p:nvSpPr>
              <p:cNvPr id="118" name=""/>
              <p:cNvSpPr/>
              <p:nvPr/>
            </p:nvSpPr>
            <p:spPr>
              <a:xfrm>
                <a:off x="5318640" y="3627360"/>
                <a:ext cx="1445760" cy="2602440"/>
              </a:xfrm>
              <a:custGeom>
                <a:avLst/>
                <a:gdLst/>
                <a:ahLst/>
                <a:rect l="l" t="t" r="r" b="b"/>
                <a:pathLst>
                  <a:path w="1027" h="1696">
                    <a:moveTo>
                      <a:pt x="179" y="831"/>
                    </a:moveTo>
                    <a:lnTo>
                      <a:pt x="185" y="825"/>
                    </a:lnTo>
                    <a:lnTo>
                      <a:pt x="190" y="813"/>
                    </a:lnTo>
                    <a:lnTo>
                      <a:pt x="196" y="813"/>
                    </a:lnTo>
                    <a:lnTo>
                      <a:pt x="202" y="807"/>
                    </a:lnTo>
                    <a:lnTo>
                      <a:pt x="219" y="802"/>
                    </a:lnTo>
                    <a:lnTo>
                      <a:pt x="237" y="796"/>
                    </a:lnTo>
                    <a:lnTo>
                      <a:pt x="254" y="796"/>
                    </a:lnTo>
                    <a:lnTo>
                      <a:pt x="277" y="796"/>
                    </a:lnTo>
                    <a:lnTo>
                      <a:pt x="294" y="802"/>
                    </a:lnTo>
                    <a:lnTo>
                      <a:pt x="312" y="807"/>
                    </a:lnTo>
                    <a:lnTo>
                      <a:pt x="329" y="819"/>
                    </a:lnTo>
                    <a:lnTo>
                      <a:pt x="346" y="831"/>
                    </a:lnTo>
                    <a:lnTo>
                      <a:pt x="364" y="842"/>
                    </a:lnTo>
                    <a:lnTo>
                      <a:pt x="375" y="859"/>
                    </a:lnTo>
                    <a:lnTo>
                      <a:pt x="375" y="871"/>
                    </a:lnTo>
                    <a:lnTo>
                      <a:pt x="381" y="877"/>
                    </a:lnTo>
                    <a:lnTo>
                      <a:pt x="387" y="888"/>
                    </a:lnTo>
                    <a:lnTo>
                      <a:pt x="392" y="894"/>
                    </a:lnTo>
                    <a:lnTo>
                      <a:pt x="392" y="906"/>
                    </a:lnTo>
                    <a:lnTo>
                      <a:pt x="392" y="917"/>
                    </a:lnTo>
                    <a:lnTo>
                      <a:pt x="392" y="929"/>
                    </a:lnTo>
                    <a:lnTo>
                      <a:pt x="392" y="940"/>
                    </a:lnTo>
                    <a:lnTo>
                      <a:pt x="387" y="957"/>
                    </a:lnTo>
                    <a:lnTo>
                      <a:pt x="381" y="981"/>
                    </a:lnTo>
                    <a:lnTo>
                      <a:pt x="369" y="992"/>
                    </a:lnTo>
                    <a:lnTo>
                      <a:pt x="358" y="1009"/>
                    </a:lnTo>
                    <a:lnTo>
                      <a:pt x="346" y="1021"/>
                    </a:lnTo>
                    <a:lnTo>
                      <a:pt x="335" y="1032"/>
                    </a:lnTo>
                    <a:lnTo>
                      <a:pt x="317" y="1038"/>
                    </a:lnTo>
                    <a:lnTo>
                      <a:pt x="300" y="1044"/>
                    </a:lnTo>
                    <a:lnTo>
                      <a:pt x="289" y="1050"/>
                    </a:lnTo>
                    <a:lnTo>
                      <a:pt x="271" y="1050"/>
                    </a:lnTo>
                    <a:lnTo>
                      <a:pt x="254" y="1050"/>
                    </a:lnTo>
                    <a:lnTo>
                      <a:pt x="237" y="1044"/>
                    </a:lnTo>
                    <a:lnTo>
                      <a:pt x="219" y="1038"/>
                    </a:lnTo>
                    <a:lnTo>
                      <a:pt x="208" y="1032"/>
                    </a:lnTo>
                    <a:lnTo>
                      <a:pt x="196" y="1027"/>
                    </a:lnTo>
                    <a:lnTo>
                      <a:pt x="185" y="1015"/>
                    </a:lnTo>
                    <a:lnTo>
                      <a:pt x="173" y="1004"/>
                    </a:lnTo>
                    <a:lnTo>
                      <a:pt x="162" y="992"/>
                    </a:lnTo>
                    <a:lnTo>
                      <a:pt x="150" y="986"/>
                    </a:lnTo>
                    <a:lnTo>
                      <a:pt x="133" y="981"/>
                    </a:lnTo>
                    <a:lnTo>
                      <a:pt x="121" y="975"/>
                    </a:lnTo>
                    <a:lnTo>
                      <a:pt x="110" y="969"/>
                    </a:lnTo>
                    <a:lnTo>
                      <a:pt x="98" y="963"/>
                    </a:lnTo>
                    <a:lnTo>
                      <a:pt x="87" y="963"/>
                    </a:lnTo>
                    <a:lnTo>
                      <a:pt x="75" y="963"/>
                    </a:lnTo>
                    <a:lnTo>
                      <a:pt x="64" y="963"/>
                    </a:lnTo>
                    <a:lnTo>
                      <a:pt x="52" y="969"/>
                    </a:lnTo>
                    <a:lnTo>
                      <a:pt x="40" y="975"/>
                    </a:lnTo>
                    <a:lnTo>
                      <a:pt x="29" y="981"/>
                    </a:lnTo>
                    <a:lnTo>
                      <a:pt x="23" y="992"/>
                    </a:lnTo>
                    <a:lnTo>
                      <a:pt x="17" y="1004"/>
                    </a:lnTo>
                    <a:lnTo>
                      <a:pt x="17" y="1021"/>
                    </a:lnTo>
                    <a:lnTo>
                      <a:pt x="12" y="1056"/>
                    </a:lnTo>
                    <a:lnTo>
                      <a:pt x="6" y="1096"/>
                    </a:lnTo>
                    <a:lnTo>
                      <a:pt x="0" y="1136"/>
                    </a:lnTo>
                    <a:lnTo>
                      <a:pt x="0" y="1177"/>
                    </a:lnTo>
                    <a:lnTo>
                      <a:pt x="0" y="1223"/>
                    </a:lnTo>
                    <a:lnTo>
                      <a:pt x="0" y="1263"/>
                    </a:lnTo>
                    <a:lnTo>
                      <a:pt x="6" y="1281"/>
                    </a:lnTo>
                    <a:lnTo>
                      <a:pt x="6" y="1298"/>
                    </a:lnTo>
                    <a:lnTo>
                      <a:pt x="12" y="1315"/>
                    </a:lnTo>
                    <a:lnTo>
                      <a:pt x="17" y="1327"/>
                    </a:lnTo>
                    <a:lnTo>
                      <a:pt x="46" y="1321"/>
                    </a:lnTo>
                    <a:lnTo>
                      <a:pt x="87" y="1315"/>
                    </a:lnTo>
                    <a:lnTo>
                      <a:pt x="133" y="1309"/>
                    </a:lnTo>
                    <a:lnTo>
                      <a:pt x="185" y="1309"/>
                    </a:lnTo>
                    <a:lnTo>
                      <a:pt x="237" y="1304"/>
                    </a:lnTo>
                    <a:lnTo>
                      <a:pt x="277" y="1304"/>
                    </a:lnTo>
                    <a:lnTo>
                      <a:pt x="317" y="1309"/>
                    </a:lnTo>
                    <a:lnTo>
                      <a:pt x="346" y="1309"/>
                    </a:lnTo>
                    <a:lnTo>
                      <a:pt x="375" y="1315"/>
                    </a:lnTo>
                    <a:lnTo>
                      <a:pt x="398" y="1321"/>
                    </a:lnTo>
                    <a:lnTo>
                      <a:pt x="421" y="1333"/>
                    </a:lnTo>
                    <a:lnTo>
                      <a:pt x="439" y="1344"/>
                    </a:lnTo>
                    <a:lnTo>
                      <a:pt x="450" y="1350"/>
                    </a:lnTo>
                    <a:lnTo>
                      <a:pt x="462" y="1361"/>
                    </a:lnTo>
                    <a:lnTo>
                      <a:pt x="473" y="1373"/>
                    </a:lnTo>
                    <a:lnTo>
                      <a:pt x="479" y="1384"/>
                    </a:lnTo>
                    <a:lnTo>
                      <a:pt x="479" y="1396"/>
                    </a:lnTo>
                    <a:lnTo>
                      <a:pt x="479" y="1408"/>
                    </a:lnTo>
                    <a:lnTo>
                      <a:pt x="479" y="1419"/>
                    </a:lnTo>
                    <a:lnTo>
                      <a:pt x="479" y="1431"/>
                    </a:lnTo>
                    <a:lnTo>
                      <a:pt x="473" y="1442"/>
                    </a:lnTo>
                    <a:lnTo>
                      <a:pt x="467" y="1454"/>
                    </a:lnTo>
                    <a:lnTo>
                      <a:pt x="456" y="1465"/>
                    </a:lnTo>
                    <a:lnTo>
                      <a:pt x="444" y="1471"/>
                    </a:lnTo>
                    <a:lnTo>
                      <a:pt x="433" y="1488"/>
                    </a:lnTo>
                    <a:lnTo>
                      <a:pt x="427" y="1500"/>
                    </a:lnTo>
                    <a:lnTo>
                      <a:pt x="421" y="1517"/>
                    </a:lnTo>
                    <a:lnTo>
                      <a:pt x="416" y="1534"/>
                    </a:lnTo>
                    <a:lnTo>
                      <a:pt x="416" y="1552"/>
                    </a:lnTo>
                    <a:lnTo>
                      <a:pt x="416" y="1575"/>
                    </a:lnTo>
                    <a:lnTo>
                      <a:pt x="416" y="1592"/>
                    </a:lnTo>
                    <a:lnTo>
                      <a:pt x="421" y="1609"/>
                    </a:lnTo>
                    <a:lnTo>
                      <a:pt x="433" y="1627"/>
                    </a:lnTo>
                    <a:lnTo>
                      <a:pt x="444" y="1644"/>
                    </a:lnTo>
                    <a:lnTo>
                      <a:pt x="456" y="1656"/>
                    </a:lnTo>
                    <a:lnTo>
                      <a:pt x="467" y="1673"/>
                    </a:lnTo>
                    <a:lnTo>
                      <a:pt x="479" y="1679"/>
                    </a:lnTo>
                    <a:lnTo>
                      <a:pt x="491" y="1684"/>
                    </a:lnTo>
                    <a:lnTo>
                      <a:pt x="496" y="1684"/>
                    </a:lnTo>
                    <a:lnTo>
                      <a:pt x="508" y="1690"/>
                    </a:lnTo>
                    <a:lnTo>
                      <a:pt x="519" y="1696"/>
                    </a:lnTo>
                    <a:lnTo>
                      <a:pt x="531" y="1696"/>
                    </a:lnTo>
                    <a:lnTo>
                      <a:pt x="542" y="1696"/>
                    </a:lnTo>
                    <a:lnTo>
                      <a:pt x="554" y="1696"/>
                    </a:lnTo>
                    <a:lnTo>
                      <a:pt x="583" y="1696"/>
                    </a:lnTo>
                    <a:lnTo>
                      <a:pt x="606" y="1690"/>
                    </a:lnTo>
                    <a:lnTo>
                      <a:pt x="623" y="1679"/>
                    </a:lnTo>
                    <a:lnTo>
                      <a:pt x="641" y="1673"/>
                    </a:lnTo>
                    <a:lnTo>
                      <a:pt x="658" y="1656"/>
                    </a:lnTo>
                    <a:lnTo>
                      <a:pt x="675" y="1644"/>
                    </a:lnTo>
                    <a:lnTo>
                      <a:pt x="687" y="1633"/>
                    </a:lnTo>
                    <a:lnTo>
                      <a:pt x="693" y="1615"/>
                    </a:lnTo>
                    <a:lnTo>
                      <a:pt x="698" y="1598"/>
                    </a:lnTo>
                    <a:lnTo>
                      <a:pt x="698" y="1581"/>
                    </a:lnTo>
                    <a:lnTo>
                      <a:pt x="704" y="1563"/>
                    </a:lnTo>
                    <a:lnTo>
                      <a:pt x="698" y="1546"/>
                    </a:lnTo>
                    <a:lnTo>
                      <a:pt x="693" y="1529"/>
                    </a:lnTo>
                    <a:lnTo>
                      <a:pt x="687" y="1511"/>
                    </a:lnTo>
                    <a:lnTo>
                      <a:pt x="675" y="1494"/>
                    </a:lnTo>
                    <a:lnTo>
                      <a:pt x="658" y="1483"/>
                    </a:lnTo>
                    <a:lnTo>
                      <a:pt x="646" y="1465"/>
                    </a:lnTo>
                    <a:lnTo>
                      <a:pt x="641" y="1454"/>
                    </a:lnTo>
                    <a:lnTo>
                      <a:pt x="629" y="1436"/>
                    </a:lnTo>
                    <a:lnTo>
                      <a:pt x="623" y="1419"/>
                    </a:lnTo>
                    <a:lnTo>
                      <a:pt x="623" y="1402"/>
                    </a:lnTo>
                    <a:lnTo>
                      <a:pt x="623" y="1384"/>
                    </a:lnTo>
                    <a:lnTo>
                      <a:pt x="623" y="1373"/>
                    </a:lnTo>
                    <a:lnTo>
                      <a:pt x="623" y="1356"/>
                    </a:lnTo>
                    <a:lnTo>
                      <a:pt x="629" y="1344"/>
                    </a:lnTo>
                    <a:lnTo>
                      <a:pt x="635" y="1327"/>
                    </a:lnTo>
                    <a:lnTo>
                      <a:pt x="641" y="1315"/>
                    </a:lnTo>
                    <a:lnTo>
                      <a:pt x="652" y="1309"/>
                    </a:lnTo>
                    <a:lnTo>
                      <a:pt x="658" y="1298"/>
                    </a:lnTo>
                    <a:lnTo>
                      <a:pt x="669" y="1292"/>
                    </a:lnTo>
                    <a:lnTo>
                      <a:pt x="681" y="1286"/>
                    </a:lnTo>
                    <a:lnTo>
                      <a:pt x="687" y="1286"/>
                    </a:lnTo>
                    <a:lnTo>
                      <a:pt x="704" y="1286"/>
                    </a:lnTo>
                    <a:lnTo>
                      <a:pt x="733" y="1292"/>
                    </a:lnTo>
                    <a:lnTo>
                      <a:pt x="762" y="1292"/>
                    </a:lnTo>
                    <a:lnTo>
                      <a:pt x="802" y="1298"/>
                    </a:lnTo>
                    <a:lnTo>
                      <a:pt x="848" y="1304"/>
                    </a:lnTo>
                    <a:lnTo>
                      <a:pt x="894" y="1304"/>
                    </a:lnTo>
                    <a:lnTo>
                      <a:pt x="941" y="1309"/>
                    </a:lnTo>
                    <a:lnTo>
                      <a:pt x="993" y="1309"/>
                    </a:lnTo>
                    <a:lnTo>
                      <a:pt x="1004" y="1292"/>
                    </a:lnTo>
                    <a:lnTo>
                      <a:pt x="1010" y="1269"/>
                    </a:lnTo>
                    <a:lnTo>
                      <a:pt x="1016" y="1246"/>
                    </a:lnTo>
                    <a:lnTo>
                      <a:pt x="1021" y="1223"/>
                    </a:lnTo>
                    <a:lnTo>
                      <a:pt x="1027" y="1200"/>
                    </a:lnTo>
                    <a:lnTo>
                      <a:pt x="1027" y="1177"/>
                    </a:lnTo>
                    <a:lnTo>
                      <a:pt x="1027" y="1154"/>
                    </a:lnTo>
                    <a:lnTo>
                      <a:pt x="1027" y="1131"/>
                    </a:lnTo>
                    <a:lnTo>
                      <a:pt x="1027" y="1108"/>
                    </a:lnTo>
                    <a:lnTo>
                      <a:pt x="1027" y="1084"/>
                    </a:lnTo>
                    <a:lnTo>
                      <a:pt x="1021" y="1061"/>
                    </a:lnTo>
                    <a:lnTo>
                      <a:pt x="1021" y="1038"/>
                    </a:lnTo>
                    <a:lnTo>
                      <a:pt x="1016" y="1021"/>
                    </a:lnTo>
                    <a:lnTo>
                      <a:pt x="1010" y="1004"/>
                    </a:lnTo>
                    <a:lnTo>
                      <a:pt x="1004" y="986"/>
                    </a:lnTo>
                    <a:lnTo>
                      <a:pt x="998" y="975"/>
                    </a:lnTo>
                    <a:lnTo>
                      <a:pt x="993" y="957"/>
                    </a:lnTo>
                    <a:lnTo>
                      <a:pt x="987" y="952"/>
                    </a:lnTo>
                    <a:lnTo>
                      <a:pt x="981" y="940"/>
                    </a:lnTo>
                    <a:lnTo>
                      <a:pt x="975" y="934"/>
                    </a:lnTo>
                    <a:lnTo>
                      <a:pt x="964" y="929"/>
                    </a:lnTo>
                    <a:lnTo>
                      <a:pt x="958" y="929"/>
                    </a:lnTo>
                    <a:lnTo>
                      <a:pt x="952" y="923"/>
                    </a:lnTo>
                    <a:lnTo>
                      <a:pt x="941" y="923"/>
                    </a:lnTo>
                    <a:lnTo>
                      <a:pt x="923" y="923"/>
                    </a:lnTo>
                    <a:lnTo>
                      <a:pt x="900" y="929"/>
                    </a:lnTo>
                    <a:lnTo>
                      <a:pt x="877" y="934"/>
                    </a:lnTo>
                    <a:lnTo>
                      <a:pt x="854" y="946"/>
                    </a:lnTo>
                    <a:lnTo>
                      <a:pt x="837" y="952"/>
                    </a:lnTo>
                    <a:lnTo>
                      <a:pt x="825" y="952"/>
                    </a:lnTo>
                    <a:lnTo>
                      <a:pt x="808" y="957"/>
                    </a:lnTo>
                    <a:lnTo>
                      <a:pt x="796" y="957"/>
                    </a:lnTo>
                    <a:lnTo>
                      <a:pt x="779" y="957"/>
                    </a:lnTo>
                    <a:lnTo>
                      <a:pt x="768" y="957"/>
                    </a:lnTo>
                    <a:lnTo>
                      <a:pt x="762" y="957"/>
                    </a:lnTo>
                    <a:lnTo>
                      <a:pt x="744" y="952"/>
                    </a:lnTo>
                    <a:lnTo>
                      <a:pt x="739" y="952"/>
                    </a:lnTo>
                    <a:lnTo>
                      <a:pt x="727" y="946"/>
                    </a:lnTo>
                    <a:lnTo>
                      <a:pt x="721" y="946"/>
                    </a:lnTo>
                    <a:lnTo>
                      <a:pt x="710" y="940"/>
                    </a:lnTo>
                    <a:lnTo>
                      <a:pt x="698" y="929"/>
                    </a:lnTo>
                    <a:lnTo>
                      <a:pt x="687" y="911"/>
                    </a:lnTo>
                    <a:lnTo>
                      <a:pt x="675" y="900"/>
                    </a:lnTo>
                    <a:lnTo>
                      <a:pt x="669" y="882"/>
                    </a:lnTo>
                    <a:lnTo>
                      <a:pt x="664" y="865"/>
                    </a:lnTo>
                    <a:lnTo>
                      <a:pt x="664" y="854"/>
                    </a:lnTo>
                    <a:lnTo>
                      <a:pt x="664" y="836"/>
                    </a:lnTo>
                    <a:lnTo>
                      <a:pt x="664" y="825"/>
                    </a:lnTo>
                    <a:lnTo>
                      <a:pt x="669" y="813"/>
                    </a:lnTo>
                    <a:lnTo>
                      <a:pt x="675" y="802"/>
                    </a:lnTo>
                    <a:lnTo>
                      <a:pt x="681" y="784"/>
                    </a:lnTo>
                    <a:lnTo>
                      <a:pt x="693" y="767"/>
                    </a:lnTo>
                    <a:lnTo>
                      <a:pt x="704" y="756"/>
                    </a:lnTo>
                    <a:lnTo>
                      <a:pt x="716" y="750"/>
                    </a:lnTo>
                    <a:lnTo>
                      <a:pt x="727" y="744"/>
                    </a:lnTo>
                    <a:lnTo>
                      <a:pt x="739" y="738"/>
                    </a:lnTo>
                    <a:lnTo>
                      <a:pt x="750" y="732"/>
                    </a:lnTo>
                    <a:lnTo>
                      <a:pt x="762" y="727"/>
                    </a:lnTo>
                    <a:lnTo>
                      <a:pt x="773" y="727"/>
                    </a:lnTo>
                    <a:lnTo>
                      <a:pt x="779" y="727"/>
                    </a:lnTo>
                    <a:lnTo>
                      <a:pt x="791" y="732"/>
                    </a:lnTo>
                    <a:lnTo>
                      <a:pt x="802" y="732"/>
                    </a:lnTo>
                    <a:lnTo>
                      <a:pt x="825" y="744"/>
                    </a:lnTo>
                    <a:lnTo>
                      <a:pt x="843" y="750"/>
                    </a:lnTo>
                    <a:lnTo>
                      <a:pt x="866" y="761"/>
                    </a:lnTo>
                    <a:lnTo>
                      <a:pt x="883" y="773"/>
                    </a:lnTo>
                    <a:lnTo>
                      <a:pt x="900" y="784"/>
                    </a:lnTo>
                    <a:lnTo>
                      <a:pt x="923" y="790"/>
                    </a:lnTo>
                    <a:lnTo>
                      <a:pt x="935" y="790"/>
                    </a:lnTo>
                    <a:lnTo>
                      <a:pt x="941" y="796"/>
                    </a:lnTo>
                    <a:lnTo>
                      <a:pt x="952" y="796"/>
                    </a:lnTo>
                    <a:lnTo>
                      <a:pt x="964" y="790"/>
                    </a:lnTo>
                    <a:lnTo>
                      <a:pt x="969" y="790"/>
                    </a:lnTo>
                    <a:lnTo>
                      <a:pt x="981" y="784"/>
                    </a:lnTo>
                    <a:lnTo>
                      <a:pt x="993" y="779"/>
                    </a:lnTo>
                    <a:lnTo>
                      <a:pt x="998" y="773"/>
                    </a:lnTo>
                    <a:lnTo>
                      <a:pt x="1004" y="767"/>
                    </a:lnTo>
                    <a:lnTo>
                      <a:pt x="1010" y="761"/>
                    </a:lnTo>
                    <a:lnTo>
                      <a:pt x="1010" y="756"/>
                    </a:lnTo>
                    <a:lnTo>
                      <a:pt x="1016" y="744"/>
                    </a:lnTo>
                    <a:lnTo>
                      <a:pt x="1021" y="721"/>
                    </a:lnTo>
                    <a:lnTo>
                      <a:pt x="1021" y="698"/>
                    </a:lnTo>
                    <a:lnTo>
                      <a:pt x="1021" y="669"/>
                    </a:lnTo>
                    <a:lnTo>
                      <a:pt x="1016" y="634"/>
                    </a:lnTo>
                    <a:lnTo>
                      <a:pt x="1016" y="606"/>
                    </a:lnTo>
                    <a:lnTo>
                      <a:pt x="1010" y="571"/>
                    </a:lnTo>
                    <a:lnTo>
                      <a:pt x="1004" y="502"/>
                    </a:lnTo>
                    <a:lnTo>
                      <a:pt x="998" y="444"/>
                    </a:lnTo>
                    <a:lnTo>
                      <a:pt x="998" y="421"/>
                    </a:lnTo>
                    <a:lnTo>
                      <a:pt x="998" y="398"/>
                    </a:lnTo>
                    <a:lnTo>
                      <a:pt x="998" y="381"/>
                    </a:lnTo>
                    <a:lnTo>
                      <a:pt x="998" y="369"/>
                    </a:lnTo>
                    <a:lnTo>
                      <a:pt x="981" y="381"/>
                    </a:lnTo>
                    <a:lnTo>
                      <a:pt x="958" y="392"/>
                    </a:lnTo>
                    <a:lnTo>
                      <a:pt x="935" y="398"/>
                    </a:lnTo>
                    <a:lnTo>
                      <a:pt x="906" y="404"/>
                    </a:lnTo>
                    <a:lnTo>
                      <a:pt x="877" y="409"/>
                    </a:lnTo>
                    <a:lnTo>
                      <a:pt x="848" y="409"/>
                    </a:lnTo>
                    <a:lnTo>
                      <a:pt x="819" y="409"/>
                    </a:lnTo>
                    <a:lnTo>
                      <a:pt x="791" y="409"/>
                    </a:lnTo>
                    <a:lnTo>
                      <a:pt x="762" y="409"/>
                    </a:lnTo>
                    <a:lnTo>
                      <a:pt x="727" y="409"/>
                    </a:lnTo>
                    <a:lnTo>
                      <a:pt x="704" y="404"/>
                    </a:lnTo>
                    <a:lnTo>
                      <a:pt x="675" y="398"/>
                    </a:lnTo>
                    <a:lnTo>
                      <a:pt x="652" y="392"/>
                    </a:lnTo>
                    <a:lnTo>
                      <a:pt x="635" y="386"/>
                    </a:lnTo>
                    <a:lnTo>
                      <a:pt x="617" y="375"/>
                    </a:lnTo>
                    <a:lnTo>
                      <a:pt x="600" y="369"/>
                    </a:lnTo>
                    <a:lnTo>
                      <a:pt x="589" y="357"/>
                    </a:lnTo>
                    <a:lnTo>
                      <a:pt x="583" y="352"/>
                    </a:lnTo>
                    <a:lnTo>
                      <a:pt x="577" y="346"/>
                    </a:lnTo>
                    <a:lnTo>
                      <a:pt x="571" y="334"/>
                    </a:lnTo>
                    <a:lnTo>
                      <a:pt x="571" y="329"/>
                    </a:lnTo>
                    <a:lnTo>
                      <a:pt x="571" y="317"/>
                    </a:lnTo>
                    <a:lnTo>
                      <a:pt x="571" y="311"/>
                    </a:lnTo>
                    <a:lnTo>
                      <a:pt x="571" y="300"/>
                    </a:lnTo>
                    <a:lnTo>
                      <a:pt x="577" y="294"/>
                    </a:lnTo>
                    <a:lnTo>
                      <a:pt x="583" y="282"/>
                    </a:lnTo>
                    <a:lnTo>
                      <a:pt x="589" y="271"/>
                    </a:lnTo>
                    <a:lnTo>
                      <a:pt x="600" y="265"/>
                    </a:lnTo>
                    <a:lnTo>
                      <a:pt x="617" y="242"/>
                    </a:lnTo>
                    <a:lnTo>
                      <a:pt x="641" y="219"/>
                    </a:lnTo>
                    <a:lnTo>
                      <a:pt x="652" y="202"/>
                    </a:lnTo>
                    <a:lnTo>
                      <a:pt x="658" y="184"/>
                    </a:lnTo>
                    <a:lnTo>
                      <a:pt x="664" y="167"/>
                    </a:lnTo>
                    <a:lnTo>
                      <a:pt x="669" y="156"/>
                    </a:lnTo>
                    <a:lnTo>
                      <a:pt x="669" y="132"/>
                    </a:lnTo>
                    <a:lnTo>
                      <a:pt x="669" y="115"/>
                    </a:lnTo>
                    <a:lnTo>
                      <a:pt x="664" y="98"/>
                    </a:lnTo>
                    <a:lnTo>
                      <a:pt x="658" y="81"/>
                    </a:lnTo>
                    <a:lnTo>
                      <a:pt x="646" y="63"/>
                    </a:lnTo>
                    <a:lnTo>
                      <a:pt x="635" y="52"/>
                    </a:lnTo>
                    <a:lnTo>
                      <a:pt x="623" y="34"/>
                    </a:lnTo>
                    <a:lnTo>
                      <a:pt x="606" y="23"/>
                    </a:lnTo>
                    <a:lnTo>
                      <a:pt x="589" y="17"/>
                    </a:lnTo>
                    <a:lnTo>
                      <a:pt x="571" y="6"/>
                    </a:lnTo>
                    <a:lnTo>
                      <a:pt x="548" y="0"/>
                    </a:lnTo>
                    <a:lnTo>
                      <a:pt x="525" y="0"/>
                    </a:lnTo>
                    <a:lnTo>
                      <a:pt x="502" y="0"/>
                    </a:lnTo>
                    <a:lnTo>
                      <a:pt x="485" y="6"/>
                    </a:lnTo>
                    <a:lnTo>
                      <a:pt x="467" y="17"/>
                    </a:lnTo>
                    <a:lnTo>
                      <a:pt x="444" y="23"/>
                    </a:lnTo>
                    <a:lnTo>
                      <a:pt x="427" y="34"/>
                    </a:lnTo>
                    <a:lnTo>
                      <a:pt x="410" y="52"/>
                    </a:lnTo>
                    <a:lnTo>
                      <a:pt x="398" y="63"/>
                    </a:lnTo>
                    <a:lnTo>
                      <a:pt x="387" y="81"/>
                    </a:lnTo>
                    <a:lnTo>
                      <a:pt x="381" y="98"/>
                    </a:lnTo>
                    <a:lnTo>
                      <a:pt x="375" y="115"/>
                    </a:lnTo>
                    <a:lnTo>
                      <a:pt x="369" y="132"/>
                    </a:lnTo>
                    <a:lnTo>
                      <a:pt x="369" y="156"/>
                    </a:lnTo>
                    <a:lnTo>
                      <a:pt x="369" y="173"/>
                    </a:lnTo>
                    <a:lnTo>
                      <a:pt x="375" y="190"/>
                    </a:lnTo>
                    <a:lnTo>
                      <a:pt x="381" y="196"/>
                    </a:lnTo>
                    <a:lnTo>
                      <a:pt x="387" y="207"/>
                    </a:lnTo>
                    <a:lnTo>
                      <a:pt x="392" y="213"/>
                    </a:lnTo>
                    <a:lnTo>
                      <a:pt x="398" y="219"/>
                    </a:lnTo>
                    <a:lnTo>
                      <a:pt x="410" y="236"/>
                    </a:lnTo>
                    <a:lnTo>
                      <a:pt x="421" y="248"/>
                    </a:lnTo>
                    <a:lnTo>
                      <a:pt x="433" y="265"/>
                    </a:lnTo>
                    <a:lnTo>
                      <a:pt x="439" y="277"/>
                    </a:lnTo>
                    <a:lnTo>
                      <a:pt x="444" y="294"/>
                    </a:lnTo>
                    <a:lnTo>
                      <a:pt x="450" y="306"/>
                    </a:lnTo>
                    <a:lnTo>
                      <a:pt x="450" y="317"/>
                    </a:lnTo>
                    <a:lnTo>
                      <a:pt x="450" y="323"/>
                    </a:lnTo>
                    <a:lnTo>
                      <a:pt x="450" y="334"/>
                    </a:lnTo>
                    <a:lnTo>
                      <a:pt x="444" y="346"/>
                    </a:lnTo>
                    <a:lnTo>
                      <a:pt x="439" y="352"/>
                    </a:lnTo>
                    <a:lnTo>
                      <a:pt x="433" y="357"/>
                    </a:lnTo>
                    <a:lnTo>
                      <a:pt x="427" y="363"/>
                    </a:lnTo>
                    <a:lnTo>
                      <a:pt x="416" y="369"/>
                    </a:lnTo>
                    <a:lnTo>
                      <a:pt x="404" y="369"/>
                    </a:lnTo>
                    <a:lnTo>
                      <a:pt x="387" y="369"/>
                    </a:lnTo>
                    <a:lnTo>
                      <a:pt x="335" y="369"/>
                    </a:lnTo>
                    <a:lnTo>
                      <a:pt x="277" y="375"/>
                    </a:lnTo>
                    <a:lnTo>
                      <a:pt x="225" y="375"/>
                    </a:lnTo>
                    <a:lnTo>
                      <a:pt x="173" y="381"/>
                    </a:lnTo>
                    <a:lnTo>
                      <a:pt x="121" y="381"/>
                    </a:lnTo>
                    <a:lnTo>
                      <a:pt x="81" y="381"/>
                    </a:lnTo>
                    <a:lnTo>
                      <a:pt x="58" y="381"/>
                    </a:lnTo>
                    <a:lnTo>
                      <a:pt x="40" y="381"/>
                    </a:lnTo>
                    <a:lnTo>
                      <a:pt x="29" y="375"/>
                    </a:lnTo>
                    <a:lnTo>
                      <a:pt x="17" y="369"/>
                    </a:lnTo>
                    <a:lnTo>
                      <a:pt x="17" y="415"/>
                    </a:lnTo>
                    <a:lnTo>
                      <a:pt x="17" y="479"/>
                    </a:lnTo>
                    <a:lnTo>
                      <a:pt x="17" y="542"/>
                    </a:lnTo>
                    <a:lnTo>
                      <a:pt x="17" y="611"/>
                    </a:lnTo>
                    <a:lnTo>
                      <a:pt x="17" y="675"/>
                    </a:lnTo>
                    <a:lnTo>
                      <a:pt x="17" y="732"/>
                    </a:lnTo>
                    <a:lnTo>
                      <a:pt x="17" y="779"/>
                    </a:lnTo>
                    <a:lnTo>
                      <a:pt x="17" y="802"/>
                    </a:lnTo>
                    <a:lnTo>
                      <a:pt x="17" y="813"/>
                    </a:lnTo>
                    <a:lnTo>
                      <a:pt x="23" y="819"/>
                    </a:lnTo>
                    <a:lnTo>
                      <a:pt x="23" y="831"/>
                    </a:lnTo>
                    <a:lnTo>
                      <a:pt x="35" y="836"/>
                    </a:lnTo>
                    <a:lnTo>
                      <a:pt x="40" y="848"/>
                    </a:lnTo>
                    <a:lnTo>
                      <a:pt x="52" y="854"/>
                    </a:lnTo>
                    <a:lnTo>
                      <a:pt x="64" y="859"/>
                    </a:lnTo>
                    <a:lnTo>
                      <a:pt x="75" y="859"/>
                    </a:lnTo>
                    <a:lnTo>
                      <a:pt x="87" y="865"/>
                    </a:lnTo>
                    <a:lnTo>
                      <a:pt x="104" y="865"/>
                    </a:lnTo>
                    <a:lnTo>
                      <a:pt x="115" y="865"/>
                    </a:lnTo>
                    <a:lnTo>
                      <a:pt x="127" y="865"/>
                    </a:lnTo>
                    <a:lnTo>
                      <a:pt x="144" y="859"/>
                    </a:lnTo>
                    <a:lnTo>
                      <a:pt x="156" y="854"/>
                    </a:lnTo>
                    <a:lnTo>
                      <a:pt x="167" y="842"/>
                    </a:lnTo>
                    <a:lnTo>
                      <a:pt x="179" y="831"/>
                    </a:lnTo>
                    <a:close/>
                  </a:path>
                </a:pathLst>
              </a:cu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310360" y="3618000"/>
                <a:ext cx="1471320" cy="2630520"/>
              </a:xfrm>
              <a:custGeom>
                <a:avLst/>
                <a:gdLst/>
                <a:ahLst/>
                <a:rect l="l" t="t" r="r" b="b"/>
                <a:pathLst>
                  <a:path w="1045" h="1714">
                    <a:moveTo>
                      <a:pt x="196" y="837"/>
                    </a:moveTo>
                    <a:lnTo>
                      <a:pt x="202" y="837"/>
                    </a:lnTo>
                    <a:lnTo>
                      <a:pt x="202" y="837"/>
                    </a:lnTo>
                    <a:lnTo>
                      <a:pt x="208" y="825"/>
                    </a:lnTo>
                    <a:lnTo>
                      <a:pt x="196" y="819"/>
                    </a:lnTo>
                    <a:lnTo>
                      <a:pt x="196" y="831"/>
                    </a:lnTo>
                    <a:lnTo>
                      <a:pt x="202" y="831"/>
                    </a:lnTo>
                    <a:lnTo>
                      <a:pt x="208" y="831"/>
                    </a:lnTo>
                    <a:lnTo>
                      <a:pt x="208" y="825"/>
                    </a:lnTo>
                    <a:lnTo>
                      <a:pt x="214" y="819"/>
                    </a:lnTo>
                    <a:lnTo>
                      <a:pt x="208" y="813"/>
                    </a:lnTo>
                    <a:lnTo>
                      <a:pt x="214" y="825"/>
                    </a:lnTo>
                    <a:lnTo>
                      <a:pt x="231" y="819"/>
                    </a:lnTo>
                    <a:lnTo>
                      <a:pt x="248" y="813"/>
                    </a:lnTo>
                    <a:lnTo>
                      <a:pt x="243" y="802"/>
                    </a:lnTo>
                    <a:lnTo>
                      <a:pt x="243" y="813"/>
                    </a:lnTo>
                    <a:lnTo>
                      <a:pt x="260" y="813"/>
                    </a:lnTo>
                    <a:lnTo>
                      <a:pt x="283" y="813"/>
                    </a:lnTo>
                    <a:lnTo>
                      <a:pt x="283" y="802"/>
                    </a:lnTo>
                    <a:lnTo>
                      <a:pt x="283" y="813"/>
                    </a:lnTo>
                    <a:lnTo>
                      <a:pt x="300" y="819"/>
                    </a:lnTo>
                    <a:lnTo>
                      <a:pt x="318" y="825"/>
                    </a:lnTo>
                    <a:lnTo>
                      <a:pt x="335" y="837"/>
                    </a:lnTo>
                    <a:lnTo>
                      <a:pt x="352" y="848"/>
                    </a:lnTo>
                    <a:lnTo>
                      <a:pt x="370" y="860"/>
                    </a:lnTo>
                    <a:lnTo>
                      <a:pt x="370" y="848"/>
                    </a:lnTo>
                    <a:lnTo>
                      <a:pt x="364" y="854"/>
                    </a:lnTo>
                    <a:lnTo>
                      <a:pt x="375" y="871"/>
                    </a:lnTo>
                    <a:lnTo>
                      <a:pt x="381" y="865"/>
                    </a:lnTo>
                    <a:lnTo>
                      <a:pt x="375" y="865"/>
                    </a:lnTo>
                    <a:lnTo>
                      <a:pt x="375" y="877"/>
                    </a:lnTo>
                    <a:lnTo>
                      <a:pt x="375" y="883"/>
                    </a:lnTo>
                    <a:lnTo>
                      <a:pt x="375" y="883"/>
                    </a:lnTo>
                    <a:lnTo>
                      <a:pt x="381" y="888"/>
                    </a:lnTo>
                    <a:lnTo>
                      <a:pt x="387" y="883"/>
                    </a:lnTo>
                    <a:lnTo>
                      <a:pt x="381" y="888"/>
                    </a:lnTo>
                    <a:lnTo>
                      <a:pt x="387" y="900"/>
                    </a:lnTo>
                    <a:lnTo>
                      <a:pt x="387" y="900"/>
                    </a:lnTo>
                    <a:lnTo>
                      <a:pt x="387" y="900"/>
                    </a:lnTo>
                    <a:lnTo>
                      <a:pt x="393" y="906"/>
                    </a:lnTo>
                    <a:lnTo>
                      <a:pt x="398" y="900"/>
                    </a:lnTo>
                    <a:lnTo>
                      <a:pt x="393" y="900"/>
                    </a:lnTo>
                    <a:lnTo>
                      <a:pt x="393" y="912"/>
                    </a:lnTo>
                    <a:lnTo>
                      <a:pt x="393" y="923"/>
                    </a:lnTo>
                    <a:lnTo>
                      <a:pt x="393" y="935"/>
                    </a:lnTo>
                    <a:lnTo>
                      <a:pt x="393" y="946"/>
                    </a:lnTo>
                    <a:lnTo>
                      <a:pt x="398" y="946"/>
                    </a:lnTo>
                    <a:lnTo>
                      <a:pt x="393" y="946"/>
                    </a:lnTo>
                    <a:lnTo>
                      <a:pt x="387" y="963"/>
                    </a:lnTo>
                    <a:lnTo>
                      <a:pt x="381" y="987"/>
                    </a:lnTo>
                    <a:lnTo>
                      <a:pt x="387" y="987"/>
                    </a:lnTo>
                    <a:lnTo>
                      <a:pt x="381" y="981"/>
                    </a:lnTo>
                    <a:lnTo>
                      <a:pt x="370" y="992"/>
                    </a:lnTo>
                    <a:lnTo>
                      <a:pt x="370" y="998"/>
                    </a:lnTo>
                    <a:lnTo>
                      <a:pt x="370" y="998"/>
                    </a:lnTo>
                    <a:lnTo>
                      <a:pt x="358" y="1015"/>
                    </a:lnTo>
                    <a:lnTo>
                      <a:pt x="364" y="1015"/>
                    </a:lnTo>
                    <a:lnTo>
                      <a:pt x="358" y="1010"/>
                    </a:lnTo>
                    <a:lnTo>
                      <a:pt x="346" y="1021"/>
                    </a:lnTo>
                    <a:lnTo>
                      <a:pt x="335" y="1033"/>
                    </a:lnTo>
                    <a:lnTo>
                      <a:pt x="341" y="1038"/>
                    </a:lnTo>
                    <a:lnTo>
                      <a:pt x="341" y="1033"/>
                    </a:lnTo>
                    <a:lnTo>
                      <a:pt x="323" y="1038"/>
                    </a:lnTo>
                    <a:lnTo>
                      <a:pt x="306" y="1044"/>
                    </a:lnTo>
                    <a:lnTo>
                      <a:pt x="295" y="1050"/>
                    </a:lnTo>
                    <a:lnTo>
                      <a:pt x="295" y="1056"/>
                    </a:lnTo>
                    <a:lnTo>
                      <a:pt x="295" y="1050"/>
                    </a:lnTo>
                    <a:lnTo>
                      <a:pt x="277" y="1050"/>
                    </a:lnTo>
                    <a:lnTo>
                      <a:pt x="260" y="1050"/>
                    </a:lnTo>
                    <a:lnTo>
                      <a:pt x="260" y="1056"/>
                    </a:lnTo>
                    <a:lnTo>
                      <a:pt x="266" y="1050"/>
                    </a:lnTo>
                    <a:lnTo>
                      <a:pt x="248" y="1044"/>
                    </a:lnTo>
                    <a:lnTo>
                      <a:pt x="231" y="1038"/>
                    </a:lnTo>
                    <a:lnTo>
                      <a:pt x="220" y="1033"/>
                    </a:lnTo>
                    <a:lnTo>
                      <a:pt x="208" y="1027"/>
                    </a:lnTo>
                    <a:lnTo>
                      <a:pt x="202" y="1033"/>
                    </a:lnTo>
                    <a:lnTo>
                      <a:pt x="208" y="1027"/>
                    </a:lnTo>
                    <a:lnTo>
                      <a:pt x="196" y="1015"/>
                    </a:lnTo>
                    <a:lnTo>
                      <a:pt x="185" y="1004"/>
                    </a:lnTo>
                    <a:lnTo>
                      <a:pt x="173" y="992"/>
                    </a:lnTo>
                    <a:lnTo>
                      <a:pt x="173" y="992"/>
                    </a:lnTo>
                    <a:lnTo>
                      <a:pt x="173" y="992"/>
                    </a:lnTo>
                    <a:lnTo>
                      <a:pt x="162" y="987"/>
                    </a:lnTo>
                    <a:lnTo>
                      <a:pt x="145" y="981"/>
                    </a:lnTo>
                    <a:lnTo>
                      <a:pt x="133" y="975"/>
                    </a:lnTo>
                    <a:lnTo>
                      <a:pt x="121" y="969"/>
                    </a:lnTo>
                    <a:lnTo>
                      <a:pt x="110" y="963"/>
                    </a:lnTo>
                    <a:lnTo>
                      <a:pt x="110" y="963"/>
                    </a:lnTo>
                    <a:lnTo>
                      <a:pt x="104" y="963"/>
                    </a:lnTo>
                    <a:lnTo>
                      <a:pt x="93" y="963"/>
                    </a:lnTo>
                    <a:lnTo>
                      <a:pt x="81" y="963"/>
                    </a:lnTo>
                    <a:lnTo>
                      <a:pt x="70" y="963"/>
                    </a:lnTo>
                    <a:lnTo>
                      <a:pt x="70" y="963"/>
                    </a:lnTo>
                    <a:lnTo>
                      <a:pt x="70" y="963"/>
                    </a:lnTo>
                    <a:lnTo>
                      <a:pt x="58" y="969"/>
                    </a:lnTo>
                    <a:lnTo>
                      <a:pt x="46" y="975"/>
                    </a:lnTo>
                    <a:lnTo>
                      <a:pt x="35" y="981"/>
                    </a:lnTo>
                    <a:lnTo>
                      <a:pt x="29" y="981"/>
                    </a:lnTo>
                    <a:lnTo>
                      <a:pt x="29" y="987"/>
                    </a:lnTo>
                    <a:lnTo>
                      <a:pt x="23" y="998"/>
                    </a:lnTo>
                    <a:lnTo>
                      <a:pt x="18" y="1010"/>
                    </a:lnTo>
                    <a:lnTo>
                      <a:pt x="18" y="1010"/>
                    </a:lnTo>
                    <a:lnTo>
                      <a:pt x="18" y="1010"/>
                    </a:lnTo>
                    <a:lnTo>
                      <a:pt x="18" y="1027"/>
                    </a:lnTo>
                    <a:lnTo>
                      <a:pt x="12" y="1062"/>
                    </a:lnTo>
                    <a:lnTo>
                      <a:pt x="6" y="1102"/>
                    </a:lnTo>
                    <a:lnTo>
                      <a:pt x="0" y="1142"/>
                    </a:lnTo>
                    <a:lnTo>
                      <a:pt x="0" y="1183"/>
                    </a:lnTo>
                    <a:lnTo>
                      <a:pt x="0" y="1229"/>
                    </a:lnTo>
                    <a:lnTo>
                      <a:pt x="0" y="1269"/>
                    </a:lnTo>
                    <a:lnTo>
                      <a:pt x="0" y="1269"/>
                    </a:lnTo>
                    <a:lnTo>
                      <a:pt x="0" y="1275"/>
                    </a:lnTo>
                    <a:lnTo>
                      <a:pt x="6" y="1292"/>
                    </a:lnTo>
                    <a:lnTo>
                      <a:pt x="12" y="1287"/>
                    </a:lnTo>
                    <a:lnTo>
                      <a:pt x="6" y="1287"/>
                    </a:lnTo>
                    <a:lnTo>
                      <a:pt x="6" y="1304"/>
                    </a:lnTo>
                    <a:lnTo>
                      <a:pt x="6" y="1304"/>
                    </a:lnTo>
                    <a:lnTo>
                      <a:pt x="6" y="1310"/>
                    </a:lnTo>
                    <a:lnTo>
                      <a:pt x="12" y="1327"/>
                    </a:lnTo>
                    <a:lnTo>
                      <a:pt x="18" y="1339"/>
                    </a:lnTo>
                    <a:lnTo>
                      <a:pt x="18" y="1344"/>
                    </a:lnTo>
                    <a:lnTo>
                      <a:pt x="23" y="1344"/>
                    </a:lnTo>
                    <a:lnTo>
                      <a:pt x="52" y="1339"/>
                    </a:lnTo>
                    <a:lnTo>
                      <a:pt x="93" y="1333"/>
                    </a:lnTo>
                    <a:lnTo>
                      <a:pt x="139" y="1327"/>
                    </a:lnTo>
                    <a:lnTo>
                      <a:pt x="191" y="1327"/>
                    </a:lnTo>
                    <a:lnTo>
                      <a:pt x="243" y="1321"/>
                    </a:lnTo>
                    <a:lnTo>
                      <a:pt x="283" y="1321"/>
                    </a:lnTo>
                    <a:lnTo>
                      <a:pt x="323" y="1327"/>
                    </a:lnTo>
                    <a:lnTo>
                      <a:pt x="352" y="1327"/>
                    </a:lnTo>
                    <a:lnTo>
                      <a:pt x="381" y="1333"/>
                    </a:lnTo>
                    <a:lnTo>
                      <a:pt x="404" y="1339"/>
                    </a:lnTo>
                    <a:lnTo>
                      <a:pt x="404" y="1327"/>
                    </a:lnTo>
                    <a:lnTo>
                      <a:pt x="404" y="1339"/>
                    </a:lnTo>
                    <a:lnTo>
                      <a:pt x="427" y="1350"/>
                    </a:lnTo>
                    <a:lnTo>
                      <a:pt x="445" y="1362"/>
                    </a:lnTo>
                    <a:lnTo>
                      <a:pt x="456" y="1367"/>
                    </a:lnTo>
                    <a:lnTo>
                      <a:pt x="456" y="1356"/>
                    </a:lnTo>
                    <a:lnTo>
                      <a:pt x="450" y="1362"/>
                    </a:lnTo>
                    <a:lnTo>
                      <a:pt x="462" y="1373"/>
                    </a:lnTo>
                    <a:lnTo>
                      <a:pt x="473" y="1385"/>
                    </a:lnTo>
                    <a:lnTo>
                      <a:pt x="479" y="1379"/>
                    </a:lnTo>
                    <a:lnTo>
                      <a:pt x="473" y="1385"/>
                    </a:lnTo>
                    <a:lnTo>
                      <a:pt x="479" y="1396"/>
                    </a:lnTo>
                    <a:lnTo>
                      <a:pt x="485" y="1390"/>
                    </a:lnTo>
                    <a:lnTo>
                      <a:pt x="479" y="1390"/>
                    </a:lnTo>
                    <a:lnTo>
                      <a:pt x="479" y="1402"/>
                    </a:lnTo>
                    <a:lnTo>
                      <a:pt x="479" y="1414"/>
                    </a:lnTo>
                    <a:lnTo>
                      <a:pt x="479" y="1425"/>
                    </a:lnTo>
                    <a:lnTo>
                      <a:pt x="479" y="1437"/>
                    </a:lnTo>
                    <a:lnTo>
                      <a:pt x="485" y="1437"/>
                    </a:lnTo>
                    <a:lnTo>
                      <a:pt x="479" y="1437"/>
                    </a:lnTo>
                    <a:lnTo>
                      <a:pt x="473" y="1448"/>
                    </a:lnTo>
                    <a:lnTo>
                      <a:pt x="468" y="1460"/>
                    </a:lnTo>
                    <a:lnTo>
                      <a:pt x="473" y="1460"/>
                    </a:lnTo>
                    <a:lnTo>
                      <a:pt x="468" y="1454"/>
                    </a:lnTo>
                    <a:lnTo>
                      <a:pt x="456" y="1465"/>
                    </a:lnTo>
                    <a:lnTo>
                      <a:pt x="462" y="1471"/>
                    </a:lnTo>
                    <a:lnTo>
                      <a:pt x="462" y="1465"/>
                    </a:lnTo>
                    <a:lnTo>
                      <a:pt x="450" y="1471"/>
                    </a:lnTo>
                    <a:lnTo>
                      <a:pt x="445" y="1471"/>
                    </a:lnTo>
                    <a:lnTo>
                      <a:pt x="445" y="1477"/>
                    </a:lnTo>
                    <a:lnTo>
                      <a:pt x="433" y="1494"/>
                    </a:lnTo>
                    <a:lnTo>
                      <a:pt x="427" y="1506"/>
                    </a:lnTo>
                    <a:lnTo>
                      <a:pt x="422" y="1523"/>
                    </a:lnTo>
                    <a:lnTo>
                      <a:pt x="416" y="1540"/>
                    </a:lnTo>
                    <a:lnTo>
                      <a:pt x="416" y="1540"/>
                    </a:lnTo>
                    <a:lnTo>
                      <a:pt x="416" y="1540"/>
                    </a:lnTo>
                    <a:lnTo>
                      <a:pt x="416" y="1558"/>
                    </a:lnTo>
                    <a:lnTo>
                      <a:pt x="416" y="1581"/>
                    </a:lnTo>
                    <a:lnTo>
                      <a:pt x="416" y="1598"/>
                    </a:lnTo>
                    <a:lnTo>
                      <a:pt x="416" y="1598"/>
                    </a:lnTo>
                    <a:lnTo>
                      <a:pt x="416" y="1604"/>
                    </a:lnTo>
                    <a:lnTo>
                      <a:pt x="422" y="1621"/>
                    </a:lnTo>
                    <a:lnTo>
                      <a:pt x="433" y="1639"/>
                    </a:lnTo>
                    <a:lnTo>
                      <a:pt x="445" y="1656"/>
                    </a:lnTo>
                    <a:lnTo>
                      <a:pt x="445" y="1656"/>
                    </a:lnTo>
                    <a:lnTo>
                      <a:pt x="445" y="1656"/>
                    </a:lnTo>
                    <a:lnTo>
                      <a:pt x="456" y="1667"/>
                    </a:lnTo>
                    <a:lnTo>
                      <a:pt x="462" y="1662"/>
                    </a:lnTo>
                    <a:lnTo>
                      <a:pt x="456" y="1667"/>
                    </a:lnTo>
                    <a:lnTo>
                      <a:pt x="468" y="1685"/>
                    </a:lnTo>
                    <a:lnTo>
                      <a:pt x="468" y="1685"/>
                    </a:lnTo>
                    <a:lnTo>
                      <a:pt x="473" y="1690"/>
                    </a:lnTo>
                    <a:lnTo>
                      <a:pt x="485" y="1696"/>
                    </a:lnTo>
                    <a:lnTo>
                      <a:pt x="497" y="1702"/>
                    </a:lnTo>
                    <a:lnTo>
                      <a:pt x="497" y="1702"/>
                    </a:lnTo>
                    <a:lnTo>
                      <a:pt x="497" y="1702"/>
                    </a:lnTo>
                    <a:lnTo>
                      <a:pt x="502" y="1702"/>
                    </a:lnTo>
                    <a:lnTo>
                      <a:pt x="502" y="1690"/>
                    </a:lnTo>
                    <a:lnTo>
                      <a:pt x="502" y="1702"/>
                    </a:lnTo>
                    <a:lnTo>
                      <a:pt x="514" y="1708"/>
                    </a:lnTo>
                    <a:lnTo>
                      <a:pt x="525" y="1714"/>
                    </a:lnTo>
                    <a:lnTo>
                      <a:pt x="525" y="1714"/>
                    </a:lnTo>
                    <a:lnTo>
                      <a:pt x="525" y="1714"/>
                    </a:lnTo>
                    <a:lnTo>
                      <a:pt x="537" y="1714"/>
                    </a:lnTo>
                    <a:lnTo>
                      <a:pt x="548" y="1714"/>
                    </a:lnTo>
                    <a:lnTo>
                      <a:pt x="560" y="1714"/>
                    </a:lnTo>
                    <a:lnTo>
                      <a:pt x="589" y="1714"/>
                    </a:lnTo>
                    <a:lnTo>
                      <a:pt x="612" y="1708"/>
                    </a:lnTo>
                    <a:lnTo>
                      <a:pt x="618" y="1702"/>
                    </a:lnTo>
                    <a:lnTo>
                      <a:pt x="618" y="1708"/>
                    </a:lnTo>
                    <a:lnTo>
                      <a:pt x="635" y="1696"/>
                    </a:lnTo>
                    <a:lnTo>
                      <a:pt x="652" y="1690"/>
                    </a:lnTo>
                    <a:lnTo>
                      <a:pt x="652" y="1690"/>
                    </a:lnTo>
                    <a:lnTo>
                      <a:pt x="652" y="1685"/>
                    </a:lnTo>
                    <a:lnTo>
                      <a:pt x="670" y="1667"/>
                    </a:lnTo>
                    <a:lnTo>
                      <a:pt x="664" y="1662"/>
                    </a:lnTo>
                    <a:lnTo>
                      <a:pt x="670" y="1673"/>
                    </a:lnTo>
                    <a:lnTo>
                      <a:pt x="687" y="1662"/>
                    </a:lnTo>
                    <a:lnTo>
                      <a:pt x="687" y="1662"/>
                    </a:lnTo>
                    <a:lnTo>
                      <a:pt x="687" y="1656"/>
                    </a:lnTo>
                    <a:lnTo>
                      <a:pt x="699" y="1644"/>
                    </a:lnTo>
                    <a:lnTo>
                      <a:pt x="704" y="1644"/>
                    </a:lnTo>
                    <a:lnTo>
                      <a:pt x="704" y="1644"/>
                    </a:lnTo>
                    <a:lnTo>
                      <a:pt x="710" y="1627"/>
                    </a:lnTo>
                    <a:lnTo>
                      <a:pt x="716" y="1610"/>
                    </a:lnTo>
                    <a:lnTo>
                      <a:pt x="716" y="1610"/>
                    </a:lnTo>
                    <a:lnTo>
                      <a:pt x="716" y="1604"/>
                    </a:lnTo>
                    <a:lnTo>
                      <a:pt x="716" y="1587"/>
                    </a:lnTo>
                    <a:lnTo>
                      <a:pt x="704" y="1587"/>
                    </a:lnTo>
                    <a:lnTo>
                      <a:pt x="716" y="1592"/>
                    </a:lnTo>
                    <a:lnTo>
                      <a:pt x="722" y="1575"/>
                    </a:lnTo>
                    <a:lnTo>
                      <a:pt x="722" y="1569"/>
                    </a:lnTo>
                    <a:lnTo>
                      <a:pt x="722" y="1569"/>
                    </a:lnTo>
                    <a:lnTo>
                      <a:pt x="716" y="1552"/>
                    </a:lnTo>
                    <a:lnTo>
                      <a:pt x="710" y="1535"/>
                    </a:lnTo>
                    <a:lnTo>
                      <a:pt x="704" y="1517"/>
                    </a:lnTo>
                    <a:lnTo>
                      <a:pt x="693" y="1500"/>
                    </a:lnTo>
                    <a:lnTo>
                      <a:pt x="687" y="1494"/>
                    </a:lnTo>
                    <a:lnTo>
                      <a:pt x="687" y="1494"/>
                    </a:lnTo>
                    <a:lnTo>
                      <a:pt x="670" y="1483"/>
                    </a:lnTo>
                    <a:lnTo>
                      <a:pt x="664" y="1489"/>
                    </a:lnTo>
                    <a:lnTo>
                      <a:pt x="675" y="1489"/>
                    </a:lnTo>
                    <a:lnTo>
                      <a:pt x="664" y="1471"/>
                    </a:lnTo>
                    <a:lnTo>
                      <a:pt x="658" y="1460"/>
                    </a:lnTo>
                    <a:lnTo>
                      <a:pt x="647" y="1442"/>
                    </a:lnTo>
                    <a:lnTo>
                      <a:pt x="641" y="1425"/>
                    </a:lnTo>
                    <a:lnTo>
                      <a:pt x="629" y="1425"/>
                    </a:lnTo>
                    <a:lnTo>
                      <a:pt x="641" y="1425"/>
                    </a:lnTo>
                    <a:lnTo>
                      <a:pt x="641" y="1408"/>
                    </a:lnTo>
                    <a:lnTo>
                      <a:pt x="641" y="1390"/>
                    </a:lnTo>
                    <a:lnTo>
                      <a:pt x="641" y="1379"/>
                    </a:lnTo>
                    <a:lnTo>
                      <a:pt x="641" y="1362"/>
                    </a:lnTo>
                    <a:lnTo>
                      <a:pt x="629" y="1362"/>
                    </a:lnTo>
                    <a:lnTo>
                      <a:pt x="641" y="1367"/>
                    </a:lnTo>
                    <a:lnTo>
                      <a:pt x="647" y="1356"/>
                    </a:lnTo>
                    <a:lnTo>
                      <a:pt x="652" y="1339"/>
                    </a:lnTo>
                    <a:lnTo>
                      <a:pt x="658" y="1327"/>
                    </a:lnTo>
                    <a:lnTo>
                      <a:pt x="647" y="1321"/>
                    </a:lnTo>
                    <a:lnTo>
                      <a:pt x="652" y="1333"/>
                    </a:lnTo>
                    <a:lnTo>
                      <a:pt x="664" y="1327"/>
                    </a:lnTo>
                    <a:lnTo>
                      <a:pt x="664" y="1321"/>
                    </a:lnTo>
                    <a:lnTo>
                      <a:pt x="670" y="1321"/>
                    </a:lnTo>
                    <a:lnTo>
                      <a:pt x="675" y="1310"/>
                    </a:lnTo>
                    <a:lnTo>
                      <a:pt x="664" y="1304"/>
                    </a:lnTo>
                    <a:lnTo>
                      <a:pt x="670" y="1315"/>
                    </a:lnTo>
                    <a:lnTo>
                      <a:pt x="681" y="1310"/>
                    </a:lnTo>
                    <a:lnTo>
                      <a:pt x="693" y="1304"/>
                    </a:lnTo>
                    <a:lnTo>
                      <a:pt x="687" y="1292"/>
                    </a:lnTo>
                    <a:lnTo>
                      <a:pt x="687" y="1304"/>
                    </a:lnTo>
                    <a:lnTo>
                      <a:pt x="693" y="1304"/>
                    </a:lnTo>
                    <a:lnTo>
                      <a:pt x="710" y="1304"/>
                    </a:lnTo>
                    <a:lnTo>
                      <a:pt x="739" y="1310"/>
                    </a:lnTo>
                    <a:lnTo>
                      <a:pt x="768" y="1310"/>
                    </a:lnTo>
                    <a:lnTo>
                      <a:pt x="808" y="1315"/>
                    </a:lnTo>
                    <a:lnTo>
                      <a:pt x="854" y="1321"/>
                    </a:lnTo>
                    <a:lnTo>
                      <a:pt x="900" y="1321"/>
                    </a:lnTo>
                    <a:lnTo>
                      <a:pt x="947" y="1327"/>
                    </a:lnTo>
                    <a:lnTo>
                      <a:pt x="999" y="1327"/>
                    </a:lnTo>
                    <a:lnTo>
                      <a:pt x="1004" y="1327"/>
                    </a:lnTo>
                    <a:lnTo>
                      <a:pt x="1010" y="1321"/>
                    </a:lnTo>
                    <a:lnTo>
                      <a:pt x="1022" y="1304"/>
                    </a:lnTo>
                    <a:lnTo>
                      <a:pt x="1027" y="1281"/>
                    </a:lnTo>
                    <a:lnTo>
                      <a:pt x="1033" y="1258"/>
                    </a:lnTo>
                    <a:lnTo>
                      <a:pt x="1039" y="1235"/>
                    </a:lnTo>
                    <a:lnTo>
                      <a:pt x="1045" y="1212"/>
                    </a:lnTo>
                    <a:lnTo>
                      <a:pt x="1045" y="1212"/>
                    </a:lnTo>
                    <a:lnTo>
                      <a:pt x="1045" y="1206"/>
                    </a:lnTo>
                    <a:lnTo>
                      <a:pt x="1045" y="1183"/>
                    </a:lnTo>
                    <a:lnTo>
                      <a:pt x="1045" y="1160"/>
                    </a:lnTo>
                    <a:lnTo>
                      <a:pt x="1045" y="1137"/>
                    </a:lnTo>
                    <a:lnTo>
                      <a:pt x="1045" y="1114"/>
                    </a:lnTo>
                    <a:lnTo>
                      <a:pt x="1045" y="1090"/>
                    </a:lnTo>
                    <a:lnTo>
                      <a:pt x="1045" y="1090"/>
                    </a:lnTo>
                    <a:lnTo>
                      <a:pt x="1045" y="1090"/>
                    </a:lnTo>
                    <a:lnTo>
                      <a:pt x="1039" y="1067"/>
                    </a:lnTo>
                    <a:lnTo>
                      <a:pt x="1027" y="1067"/>
                    </a:lnTo>
                    <a:lnTo>
                      <a:pt x="1039" y="1067"/>
                    </a:lnTo>
                    <a:lnTo>
                      <a:pt x="1039" y="1044"/>
                    </a:lnTo>
                    <a:lnTo>
                      <a:pt x="1039" y="1044"/>
                    </a:lnTo>
                    <a:lnTo>
                      <a:pt x="1039" y="1044"/>
                    </a:lnTo>
                    <a:lnTo>
                      <a:pt x="1033" y="1027"/>
                    </a:lnTo>
                    <a:lnTo>
                      <a:pt x="1027" y="1010"/>
                    </a:lnTo>
                    <a:lnTo>
                      <a:pt x="1022" y="992"/>
                    </a:lnTo>
                    <a:lnTo>
                      <a:pt x="1016" y="981"/>
                    </a:lnTo>
                    <a:lnTo>
                      <a:pt x="1010" y="963"/>
                    </a:lnTo>
                    <a:lnTo>
                      <a:pt x="1010" y="963"/>
                    </a:lnTo>
                    <a:lnTo>
                      <a:pt x="1004" y="958"/>
                    </a:lnTo>
                    <a:lnTo>
                      <a:pt x="999" y="952"/>
                    </a:lnTo>
                    <a:lnTo>
                      <a:pt x="993" y="958"/>
                    </a:lnTo>
                    <a:lnTo>
                      <a:pt x="1004" y="958"/>
                    </a:lnTo>
                    <a:lnTo>
                      <a:pt x="999" y="946"/>
                    </a:lnTo>
                    <a:lnTo>
                      <a:pt x="999" y="946"/>
                    </a:lnTo>
                    <a:lnTo>
                      <a:pt x="993" y="940"/>
                    </a:lnTo>
                    <a:lnTo>
                      <a:pt x="987" y="935"/>
                    </a:lnTo>
                    <a:lnTo>
                      <a:pt x="987" y="935"/>
                    </a:lnTo>
                    <a:lnTo>
                      <a:pt x="987" y="935"/>
                    </a:lnTo>
                    <a:lnTo>
                      <a:pt x="975" y="929"/>
                    </a:lnTo>
                    <a:lnTo>
                      <a:pt x="975" y="929"/>
                    </a:lnTo>
                    <a:lnTo>
                      <a:pt x="970" y="929"/>
                    </a:lnTo>
                    <a:lnTo>
                      <a:pt x="964" y="929"/>
                    </a:lnTo>
                    <a:lnTo>
                      <a:pt x="964" y="935"/>
                    </a:lnTo>
                    <a:lnTo>
                      <a:pt x="970" y="929"/>
                    </a:lnTo>
                    <a:lnTo>
                      <a:pt x="964" y="923"/>
                    </a:lnTo>
                    <a:lnTo>
                      <a:pt x="964" y="923"/>
                    </a:lnTo>
                    <a:lnTo>
                      <a:pt x="958" y="923"/>
                    </a:lnTo>
                    <a:lnTo>
                      <a:pt x="947" y="923"/>
                    </a:lnTo>
                    <a:lnTo>
                      <a:pt x="929" y="923"/>
                    </a:lnTo>
                    <a:lnTo>
                      <a:pt x="906" y="929"/>
                    </a:lnTo>
                    <a:lnTo>
                      <a:pt x="883" y="935"/>
                    </a:lnTo>
                    <a:lnTo>
                      <a:pt x="877" y="935"/>
                    </a:lnTo>
                    <a:lnTo>
                      <a:pt x="883" y="935"/>
                    </a:lnTo>
                    <a:lnTo>
                      <a:pt x="860" y="946"/>
                    </a:lnTo>
                    <a:lnTo>
                      <a:pt x="843" y="952"/>
                    </a:lnTo>
                    <a:lnTo>
                      <a:pt x="843" y="958"/>
                    </a:lnTo>
                    <a:lnTo>
                      <a:pt x="843" y="952"/>
                    </a:lnTo>
                    <a:lnTo>
                      <a:pt x="831" y="952"/>
                    </a:lnTo>
                    <a:lnTo>
                      <a:pt x="831" y="952"/>
                    </a:lnTo>
                    <a:lnTo>
                      <a:pt x="831" y="952"/>
                    </a:lnTo>
                    <a:lnTo>
                      <a:pt x="814" y="958"/>
                    </a:lnTo>
                    <a:lnTo>
                      <a:pt x="814" y="963"/>
                    </a:lnTo>
                    <a:lnTo>
                      <a:pt x="814" y="958"/>
                    </a:lnTo>
                    <a:lnTo>
                      <a:pt x="802" y="958"/>
                    </a:lnTo>
                    <a:lnTo>
                      <a:pt x="785" y="958"/>
                    </a:lnTo>
                    <a:lnTo>
                      <a:pt x="774" y="958"/>
                    </a:lnTo>
                    <a:lnTo>
                      <a:pt x="768" y="958"/>
                    </a:lnTo>
                    <a:lnTo>
                      <a:pt x="768" y="963"/>
                    </a:lnTo>
                    <a:lnTo>
                      <a:pt x="774" y="958"/>
                    </a:lnTo>
                    <a:lnTo>
                      <a:pt x="756" y="952"/>
                    </a:lnTo>
                    <a:lnTo>
                      <a:pt x="756" y="952"/>
                    </a:lnTo>
                    <a:lnTo>
                      <a:pt x="750" y="952"/>
                    </a:lnTo>
                    <a:lnTo>
                      <a:pt x="745" y="952"/>
                    </a:lnTo>
                    <a:lnTo>
                      <a:pt x="745" y="958"/>
                    </a:lnTo>
                    <a:lnTo>
                      <a:pt x="750" y="952"/>
                    </a:lnTo>
                    <a:lnTo>
                      <a:pt x="739" y="946"/>
                    </a:lnTo>
                    <a:lnTo>
                      <a:pt x="739" y="946"/>
                    </a:lnTo>
                    <a:lnTo>
                      <a:pt x="733" y="946"/>
                    </a:lnTo>
                    <a:lnTo>
                      <a:pt x="727" y="946"/>
                    </a:lnTo>
                    <a:lnTo>
                      <a:pt x="727" y="952"/>
                    </a:lnTo>
                    <a:lnTo>
                      <a:pt x="733" y="946"/>
                    </a:lnTo>
                    <a:lnTo>
                      <a:pt x="722" y="940"/>
                    </a:lnTo>
                    <a:lnTo>
                      <a:pt x="716" y="946"/>
                    </a:lnTo>
                    <a:lnTo>
                      <a:pt x="722" y="940"/>
                    </a:lnTo>
                    <a:lnTo>
                      <a:pt x="710" y="929"/>
                    </a:lnTo>
                    <a:lnTo>
                      <a:pt x="704" y="935"/>
                    </a:lnTo>
                    <a:lnTo>
                      <a:pt x="716" y="935"/>
                    </a:lnTo>
                    <a:lnTo>
                      <a:pt x="704" y="917"/>
                    </a:lnTo>
                    <a:lnTo>
                      <a:pt x="704" y="917"/>
                    </a:lnTo>
                    <a:lnTo>
                      <a:pt x="699" y="912"/>
                    </a:lnTo>
                    <a:lnTo>
                      <a:pt x="687" y="900"/>
                    </a:lnTo>
                    <a:lnTo>
                      <a:pt x="681" y="906"/>
                    </a:lnTo>
                    <a:lnTo>
                      <a:pt x="693" y="906"/>
                    </a:lnTo>
                    <a:lnTo>
                      <a:pt x="687" y="888"/>
                    </a:lnTo>
                    <a:lnTo>
                      <a:pt x="681" y="871"/>
                    </a:lnTo>
                    <a:lnTo>
                      <a:pt x="670" y="871"/>
                    </a:lnTo>
                    <a:lnTo>
                      <a:pt x="681" y="871"/>
                    </a:lnTo>
                    <a:lnTo>
                      <a:pt x="681" y="860"/>
                    </a:lnTo>
                    <a:lnTo>
                      <a:pt x="681" y="842"/>
                    </a:lnTo>
                    <a:lnTo>
                      <a:pt x="681" y="831"/>
                    </a:lnTo>
                    <a:lnTo>
                      <a:pt x="670" y="831"/>
                    </a:lnTo>
                    <a:lnTo>
                      <a:pt x="681" y="837"/>
                    </a:lnTo>
                    <a:lnTo>
                      <a:pt x="687" y="825"/>
                    </a:lnTo>
                    <a:lnTo>
                      <a:pt x="693" y="813"/>
                    </a:lnTo>
                    <a:lnTo>
                      <a:pt x="699" y="796"/>
                    </a:lnTo>
                    <a:lnTo>
                      <a:pt x="710" y="779"/>
                    </a:lnTo>
                    <a:lnTo>
                      <a:pt x="699" y="773"/>
                    </a:lnTo>
                    <a:lnTo>
                      <a:pt x="704" y="779"/>
                    </a:lnTo>
                    <a:lnTo>
                      <a:pt x="716" y="767"/>
                    </a:lnTo>
                    <a:lnTo>
                      <a:pt x="710" y="762"/>
                    </a:lnTo>
                    <a:lnTo>
                      <a:pt x="716" y="773"/>
                    </a:lnTo>
                    <a:lnTo>
                      <a:pt x="727" y="767"/>
                    </a:lnTo>
                    <a:lnTo>
                      <a:pt x="739" y="762"/>
                    </a:lnTo>
                    <a:lnTo>
                      <a:pt x="750" y="756"/>
                    </a:lnTo>
                    <a:lnTo>
                      <a:pt x="762" y="750"/>
                    </a:lnTo>
                    <a:lnTo>
                      <a:pt x="774" y="744"/>
                    </a:lnTo>
                    <a:lnTo>
                      <a:pt x="768" y="733"/>
                    </a:lnTo>
                    <a:lnTo>
                      <a:pt x="768" y="744"/>
                    </a:lnTo>
                    <a:lnTo>
                      <a:pt x="779" y="744"/>
                    </a:lnTo>
                    <a:lnTo>
                      <a:pt x="785" y="744"/>
                    </a:lnTo>
                    <a:lnTo>
                      <a:pt x="785" y="733"/>
                    </a:lnTo>
                    <a:lnTo>
                      <a:pt x="785" y="744"/>
                    </a:lnTo>
                    <a:lnTo>
                      <a:pt x="797" y="750"/>
                    </a:lnTo>
                    <a:lnTo>
                      <a:pt x="797" y="750"/>
                    </a:lnTo>
                    <a:lnTo>
                      <a:pt x="797" y="750"/>
                    </a:lnTo>
                    <a:lnTo>
                      <a:pt x="808" y="750"/>
                    </a:lnTo>
                    <a:lnTo>
                      <a:pt x="808" y="738"/>
                    </a:lnTo>
                    <a:lnTo>
                      <a:pt x="808" y="750"/>
                    </a:lnTo>
                    <a:lnTo>
                      <a:pt x="831" y="762"/>
                    </a:lnTo>
                    <a:lnTo>
                      <a:pt x="849" y="767"/>
                    </a:lnTo>
                    <a:lnTo>
                      <a:pt x="872" y="779"/>
                    </a:lnTo>
                    <a:lnTo>
                      <a:pt x="889" y="790"/>
                    </a:lnTo>
                    <a:lnTo>
                      <a:pt x="906" y="802"/>
                    </a:lnTo>
                    <a:lnTo>
                      <a:pt x="900" y="796"/>
                    </a:lnTo>
                    <a:lnTo>
                      <a:pt x="906" y="802"/>
                    </a:lnTo>
                    <a:lnTo>
                      <a:pt x="929" y="808"/>
                    </a:lnTo>
                    <a:lnTo>
                      <a:pt x="941" y="808"/>
                    </a:lnTo>
                    <a:lnTo>
                      <a:pt x="941" y="796"/>
                    </a:lnTo>
                    <a:lnTo>
                      <a:pt x="935" y="802"/>
                    </a:lnTo>
                    <a:lnTo>
                      <a:pt x="941" y="808"/>
                    </a:lnTo>
                    <a:lnTo>
                      <a:pt x="947" y="813"/>
                    </a:lnTo>
                    <a:lnTo>
                      <a:pt x="947" y="813"/>
                    </a:lnTo>
                    <a:lnTo>
                      <a:pt x="958" y="813"/>
                    </a:lnTo>
                    <a:lnTo>
                      <a:pt x="964" y="813"/>
                    </a:lnTo>
                    <a:lnTo>
                      <a:pt x="964" y="813"/>
                    </a:lnTo>
                    <a:lnTo>
                      <a:pt x="975" y="808"/>
                    </a:lnTo>
                    <a:lnTo>
                      <a:pt x="970" y="796"/>
                    </a:lnTo>
                    <a:lnTo>
                      <a:pt x="970" y="808"/>
                    </a:lnTo>
                    <a:lnTo>
                      <a:pt x="975" y="808"/>
                    </a:lnTo>
                    <a:lnTo>
                      <a:pt x="981" y="808"/>
                    </a:lnTo>
                    <a:lnTo>
                      <a:pt x="981" y="808"/>
                    </a:lnTo>
                    <a:lnTo>
                      <a:pt x="993" y="802"/>
                    </a:lnTo>
                    <a:lnTo>
                      <a:pt x="1004" y="796"/>
                    </a:lnTo>
                    <a:lnTo>
                      <a:pt x="1004" y="796"/>
                    </a:lnTo>
                    <a:lnTo>
                      <a:pt x="1004" y="790"/>
                    </a:lnTo>
                    <a:lnTo>
                      <a:pt x="1010" y="785"/>
                    </a:lnTo>
                    <a:lnTo>
                      <a:pt x="1016" y="779"/>
                    </a:lnTo>
                    <a:lnTo>
                      <a:pt x="1022" y="773"/>
                    </a:lnTo>
                    <a:lnTo>
                      <a:pt x="1027" y="773"/>
                    </a:lnTo>
                    <a:lnTo>
                      <a:pt x="1027" y="767"/>
                    </a:lnTo>
                    <a:lnTo>
                      <a:pt x="1027" y="762"/>
                    </a:lnTo>
                    <a:lnTo>
                      <a:pt x="1016" y="762"/>
                    </a:lnTo>
                    <a:lnTo>
                      <a:pt x="1027" y="767"/>
                    </a:lnTo>
                    <a:lnTo>
                      <a:pt x="1033" y="756"/>
                    </a:lnTo>
                    <a:lnTo>
                      <a:pt x="1039" y="733"/>
                    </a:lnTo>
                    <a:lnTo>
                      <a:pt x="1039" y="733"/>
                    </a:lnTo>
                    <a:lnTo>
                      <a:pt x="1039" y="727"/>
                    </a:lnTo>
                    <a:lnTo>
                      <a:pt x="1039" y="704"/>
                    </a:lnTo>
                    <a:lnTo>
                      <a:pt x="1039" y="675"/>
                    </a:lnTo>
                    <a:lnTo>
                      <a:pt x="1033" y="640"/>
                    </a:lnTo>
                    <a:lnTo>
                      <a:pt x="1033" y="612"/>
                    </a:lnTo>
                    <a:lnTo>
                      <a:pt x="1027" y="577"/>
                    </a:lnTo>
                    <a:lnTo>
                      <a:pt x="1022" y="508"/>
                    </a:lnTo>
                    <a:lnTo>
                      <a:pt x="1016" y="450"/>
                    </a:lnTo>
                    <a:lnTo>
                      <a:pt x="1016" y="427"/>
                    </a:lnTo>
                    <a:lnTo>
                      <a:pt x="1016" y="404"/>
                    </a:lnTo>
                    <a:lnTo>
                      <a:pt x="1016" y="387"/>
                    </a:lnTo>
                    <a:lnTo>
                      <a:pt x="1016" y="375"/>
                    </a:lnTo>
                    <a:lnTo>
                      <a:pt x="1016" y="358"/>
                    </a:lnTo>
                    <a:lnTo>
                      <a:pt x="1004" y="369"/>
                    </a:lnTo>
                    <a:lnTo>
                      <a:pt x="987" y="381"/>
                    </a:lnTo>
                    <a:lnTo>
                      <a:pt x="964" y="392"/>
                    </a:lnTo>
                    <a:lnTo>
                      <a:pt x="964" y="398"/>
                    </a:lnTo>
                    <a:lnTo>
                      <a:pt x="964" y="392"/>
                    </a:lnTo>
                    <a:lnTo>
                      <a:pt x="941" y="398"/>
                    </a:lnTo>
                    <a:lnTo>
                      <a:pt x="912" y="404"/>
                    </a:lnTo>
                    <a:lnTo>
                      <a:pt x="883" y="410"/>
                    </a:lnTo>
                    <a:lnTo>
                      <a:pt x="854" y="410"/>
                    </a:lnTo>
                    <a:lnTo>
                      <a:pt x="825" y="410"/>
                    </a:lnTo>
                    <a:lnTo>
                      <a:pt x="797" y="410"/>
                    </a:lnTo>
                    <a:lnTo>
                      <a:pt x="768" y="410"/>
                    </a:lnTo>
                    <a:lnTo>
                      <a:pt x="733" y="410"/>
                    </a:lnTo>
                    <a:lnTo>
                      <a:pt x="710" y="404"/>
                    </a:lnTo>
                    <a:lnTo>
                      <a:pt x="681" y="398"/>
                    </a:lnTo>
                    <a:lnTo>
                      <a:pt x="658" y="392"/>
                    </a:lnTo>
                    <a:lnTo>
                      <a:pt x="658" y="398"/>
                    </a:lnTo>
                    <a:lnTo>
                      <a:pt x="664" y="392"/>
                    </a:lnTo>
                    <a:lnTo>
                      <a:pt x="647" y="387"/>
                    </a:lnTo>
                    <a:lnTo>
                      <a:pt x="629" y="375"/>
                    </a:lnTo>
                    <a:lnTo>
                      <a:pt x="612" y="369"/>
                    </a:lnTo>
                    <a:lnTo>
                      <a:pt x="606" y="375"/>
                    </a:lnTo>
                    <a:lnTo>
                      <a:pt x="612" y="369"/>
                    </a:lnTo>
                    <a:lnTo>
                      <a:pt x="600" y="358"/>
                    </a:lnTo>
                    <a:lnTo>
                      <a:pt x="595" y="352"/>
                    </a:lnTo>
                    <a:lnTo>
                      <a:pt x="589" y="346"/>
                    </a:lnTo>
                    <a:lnTo>
                      <a:pt x="583" y="352"/>
                    </a:lnTo>
                    <a:lnTo>
                      <a:pt x="595" y="352"/>
                    </a:lnTo>
                    <a:lnTo>
                      <a:pt x="589" y="340"/>
                    </a:lnTo>
                    <a:lnTo>
                      <a:pt x="577" y="340"/>
                    </a:lnTo>
                    <a:lnTo>
                      <a:pt x="589" y="340"/>
                    </a:lnTo>
                    <a:lnTo>
                      <a:pt x="589" y="335"/>
                    </a:lnTo>
                    <a:lnTo>
                      <a:pt x="589" y="323"/>
                    </a:lnTo>
                    <a:lnTo>
                      <a:pt x="589" y="317"/>
                    </a:lnTo>
                    <a:lnTo>
                      <a:pt x="589" y="306"/>
                    </a:lnTo>
                    <a:lnTo>
                      <a:pt x="577" y="306"/>
                    </a:lnTo>
                    <a:lnTo>
                      <a:pt x="583" y="312"/>
                    </a:lnTo>
                    <a:lnTo>
                      <a:pt x="589" y="306"/>
                    </a:lnTo>
                    <a:lnTo>
                      <a:pt x="595" y="306"/>
                    </a:lnTo>
                    <a:lnTo>
                      <a:pt x="595" y="306"/>
                    </a:lnTo>
                    <a:lnTo>
                      <a:pt x="600" y="294"/>
                    </a:lnTo>
                    <a:lnTo>
                      <a:pt x="606" y="283"/>
                    </a:lnTo>
                    <a:lnTo>
                      <a:pt x="595" y="277"/>
                    </a:lnTo>
                    <a:lnTo>
                      <a:pt x="600" y="288"/>
                    </a:lnTo>
                    <a:lnTo>
                      <a:pt x="612" y="283"/>
                    </a:lnTo>
                    <a:lnTo>
                      <a:pt x="612" y="277"/>
                    </a:lnTo>
                    <a:lnTo>
                      <a:pt x="612" y="277"/>
                    </a:lnTo>
                    <a:lnTo>
                      <a:pt x="629" y="254"/>
                    </a:lnTo>
                    <a:lnTo>
                      <a:pt x="652" y="231"/>
                    </a:lnTo>
                    <a:lnTo>
                      <a:pt x="658" y="231"/>
                    </a:lnTo>
                    <a:lnTo>
                      <a:pt x="658" y="231"/>
                    </a:lnTo>
                    <a:lnTo>
                      <a:pt x="670" y="213"/>
                    </a:lnTo>
                    <a:lnTo>
                      <a:pt x="675" y="196"/>
                    </a:lnTo>
                    <a:lnTo>
                      <a:pt x="681" y="179"/>
                    </a:lnTo>
                    <a:lnTo>
                      <a:pt x="687" y="167"/>
                    </a:lnTo>
                    <a:lnTo>
                      <a:pt x="687" y="167"/>
                    </a:lnTo>
                    <a:lnTo>
                      <a:pt x="687" y="162"/>
                    </a:lnTo>
                    <a:lnTo>
                      <a:pt x="687" y="138"/>
                    </a:lnTo>
                    <a:lnTo>
                      <a:pt x="687" y="121"/>
                    </a:lnTo>
                    <a:lnTo>
                      <a:pt x="687" y="121"/>
                    </a:lnTo>
                    <a:lnTo>
                      <a:pt x="687" y="121"/>
                    </a:lnTo>
                    <a:lnTo>
                      <a:pt x="681" y="104"/>
                    </a:lnTo>
                    <a:lnTo>
                      <a:pt x="675" y="87"/>
                    </a:lnTo>
                    <a:lnTo>
                      <a:pt x="664" y="69"/>
                    </a:lnTo>
                    <a:lnTo>
                      <a:pt x="664" y="69"/>
                    </a:lnTo>
                    <a:lnTo>
                      <a:pt x="658" y="63"/>
                    </a:lnTo>
                    <a:lnTo>
                      <a:pt x="647" y="52"/>
                    </a:lnTo>
                    <a:lnTo>
                      <a:pt x="641" y="58"/>
                    </a:lnTo>
                    <a:lnTo>
                      <a:pt x="652" y="58"/>
                    </a:lnTo>
                    <a:lnTo>
                      <a:pt x="641" y="40"/>
                    </a:lnTo>
                    <a:lnTo>
                      <a:pt x="635" y="35"/>
                    </a:lnTo>
                    <a:lnTo>
                      <a:pt x="635" y="35"/>
                    </a:lnTo>
                    <a:lnTo>
                      <a:pt x="618" y="23"/>
                    </a:lnTo>
                    <a:lnTo>
                      <a:pt x="600" y="17"/>
                    </a:lnTo>
                    <a:lnTo>
                      <a:pt x="583" y="6"/>
                    </a:lnTo>
                    <a:lnTo>
                      <a:pt x="583" y="6"/>
                    </a:lnTo>
                    <a:lnTo>
                      <a:pt x="577" y="6"/>
                    </a:lnTo>
                    <a:lnTo>
                      <a:pt x="554" y="0"/>
                    </a:lnTo>
                    <a:lnTo>
                      <a:pt x="531" y="0"/>
                    </a:lnTo>
                    <a:lnTo>
                      <a:pt x="508" y="0"/>
                    </a:lnTo>
                    <a:lnTo>
                      <a:pt x="508" y="0"/>
                    </a:lnTo>
                    <a:lnTo>
                      <a:pt x="508" y="0"/>
                    </a:lnTo>
                    <a:lnTo>
                      <a:pt x="491" y="6"/>
                    </a:lnTo>
                    <a:lnTo>
                      <a:pt x="473" y="17"/>
                    </a:lnTo>
                    <a:lnTo>
                      <a:pt x="473" y="23"/>
                    </a:lnTo>
                    <a:lnTo>
                      <a:pt x="473" y="17"/>
                    </a:lnTo>
                    <a:lnTo>
                      <a:pt x="450" y="23"/>
                    </a:lnTo>
                    <a:lnTo>
                      <a:pt x="445" y="23"/>
                    </a:lnTo>
                    <a:lnTo>
                      <a:pt x="450" y="23"/>
                    </a:lnTo>
                    <a:lnTo>
                      <a:pt x="433" y="35"/>
                    </a:lnTo>
                    <a:lnTo>
                      <a:pt x="433" y="35"/>
                    </a:lnTo>
                    <a:lnTo>
                      <a:pt x="427" y="35"/>
                    </a:lnTo>
                    <a:lnTo>
                      <a:pt x="410" y="52"/>
                    </a:lnTo>
                    <a:lnTo>
                      <a:pt x="398" y="63"/>
                    </a:lnTo>
                    <a:lnTo>
                      <a:pt x="398" y="69"/>
                    </a:lnTo>
                    <a:lnTo>
                      <a:pt x="398" y="69"/>
                    </a:lnTo>
                    <a:lnTo>
                      <a:pt x="387" y="87"/>
                    </a:lnTo>
                    <a:lnTo>
                      <a:pt x="381" y="104"/>
                    </a:lnTo>
                    <a:lnTo>
                      <a:pt x="375" y="121"/>
                    </a:lnTo>
                    <a:lnTo>
                      <a:pt x="370" y="138"/>
                    </a:lnTo>
                    <a:lnTo>
                      <a:pt x="370" y="138"/>
                    </a:lnTo>
                    <a:lnTo>
                      <a:pt x="370" y="138"/>
                    </a:lnTo>
                    <a:lnTo>
                      <a:pt x="370" y="162"/>
                    </a:lnTo>
                    <a:lnTo>
                      <a:pt x="370" y="179"/>
                    </a:lnTo>
                    <a:lnTo>
                      <a:pt x="370" y="179"/>
                    </a:lnTo>
                    <a:lnTo>
                      <a:pt x="370" y="185"/>
                    </a:lnTo>
                    <a:lnTo>
                      <a:pt x="375" y="202"/>
                    </a:lnTo>
                    <a:lnTo>
                      <a:pt x="375" y="202"/>
                    </a:lnTo>
                    <a:lnTo>
                      <a:pt x="375" y="202"/>
                    </a:lnTo>
                    <a:lnTo>
                      <a:pt x="381" y="208"/>
                    </a:lnTo>
                    <a:lnTo>
                      <a:pt x="387" y="202"/>
                    </a:lnTo>
                    <a:lnTo>
                      <a:pt x="381" y="208"/>
                    </a:lnTo>
                    <a:lnTo>
                      <a:pt x="387" y="219"/>
                    </a:lnTo>
                    <a:lnTo>
                      <a:pt x="387" y="219"/>
                    </a:lnTo>
                    <a:lnTo>
                      <a:pt x="387" y="219"/>
                    </a:lnTo>
                    <a:lnTo>
                      <a:pt x="393" y="225"/>
                    </a:lnTo>
                    <a:lnTo>
                      <a:pt x="398" y="231"/>
                    </a:lnTo>
                    <a:lnTo>
                      <a:pt x="404" y="225"/>
                    </a:lnTo>
                    <a:lnTo>
                      <a:pt x="398" y="231"/>
                    </a:lnTo>
                    <a:lnTo>
                      <a:pt x="410" y="248"/>
                    </a:lnTo>
                    <a:lnTo>
                      <a:pt x="410" y="248"/>
                    </a:lnTo>
                    <a:lnTo>
                      <a:pt x="410" y="248"/>
                    </a:lnTo>
                    <a:lnTo>
                      <a:pt x="422" y="260"/>
                    </a:lnTo>
                    <a:lnTo>
                      <a:pt x="427" y="254"/>
                    </a:lnTo>
                    <a:lnTo>
                      <a:pt x="422" y="260"/>
                    </a:lnTo>
                    <a:lnTo>
                      <a:pt x="433" y="277"/>
                    </a:lnTo>
                    <a:lnTo>
                      <a:pt x="439" y="288"/>
                    </a:lnTo>
                    <a:lnTo>
                      <a:pt x="445" y="306"/>
                    </a:lnTo>
                    <a:lnTo>
                      <a:pt x="450" y="317"/>
                    </a:lnTo>
                    <a:lnTo>
                      <a:pt x="456" y="312"/>
                    </a:lnTo>
                    <a:lnTo>
                      <a:pt x="450" y="312"/>
                    </a:lnTo>
                    <a:lnTo>
                      <a:pt x="450" y="323"/>
                    </a:lnTo>
                    <a:lnTo>
                      <a:pt x="450" y="329"/>
                    </a:lnTo>
                    <a:lnTo>
                      <a:pt x="450" y="340"/>
                    </a:lnTo>
                    <a:lnTo>
                      <a:pt x="456" y="340"/>
                    </a:lnTo>
                    <a:lnTo>
                      <a:pt x="450" y="340"/>
                    </a:lnTo>
                    <a:lnTo>
                      <a:pt x="445" y="352"/>
                    </a:lnTo>
                    <a:lnTo>
                      <a:pt x="450" y="352"/>
                    </a:lnTo>
                    <a:lnTo>
                      <a:pt x="445" y="346"/>
                    </a:lnTo>
                    <a:lnTo>
                      <a:pt x="439" y="352"/>
                    </a:lnTo>
                    <a:lnTo>
                      <a:pt x="433" y="358"/>
                    </a:lnTo>
                    <a:lnTo>
                      <a:pt x="427" y="363"/>
                    </a:lnTo>
                    <a:lnTo>
                      <a:pt x="433" y="369"/>
                    </a:lnTo>
                    <a:lnTo>
                      <a:pt x="433" y="363"/>
                    </a:lnTo>
                    <a:lnTo>
                      <a:pt x="422" y="369"/>
                    </a:lnTo>
                    <a:lnTo>
                      <a:pt x="422" y="375"/>
                    </a:lnTo>
                    <a:lnTo>
                      <a:pt x="422" y="369"/>
                    </a:lnTo>
                    <a:lnTo>
                      <a:pt x="410" y="369"/>
                    </a:lnTo>
                    <a:lnTo>
                      <a:pt x="393" y="369"/>
                    </a:lnTo>
                    <a:lnTo>
                      <a:pt x="341" y="369"/>
                    </a:lnTo>
                    <a:lnTo>
                      <a:pt x="283" y="375"/>
                    </a:lnTo>
                    <a:lnTo>
                      <a:pt x="231" y="375"/>
                    </a:lnTo>
                    <a:lnTo>
                      <a:pt x="179" y="381"/>
                    </a:lnTo>
                    <a:lnTo>
                      <a:pt x="127" y="381"/>
                    </a:lnTo>
                    <a:lnTo>
                      <a:pt x="87" y="381"/>
                    </a:lnTo>
                    <a:lnTo>
                      <a:pt x="64" y="381"/>
                    </a:lnTo>
                    <a:lnTo>
                      <a:pt x="46" y="381"/>
                    </a:lnTo>
                    <a:lnTo>
                      <a:pt x="46" y="387"/>
                    </a:lnTo>
                    <a:lnTo>
                      <a:pt x="52" y="381"/>
                    </a:lnTo>
                    <a:lnTo>
                      <a:pt x="41" y="375"/>
                    </a:lnTo>
                    <a:lnTo>
                      <a:pt x="29" y="369"/>
                    </a:lnTo>
                    <a:lnTo>
                      <a:pt x="18" y="363"/>
                    </a:lnTo>
                    <a:lnTo>
                      <a:pt x="18" y="375"/>
                    </a:lnTo>
                    <a:lnTo>
                      <a:pt x="18" y="421"/>
                    </a:lnTo>
                    <a:lnTo>
                      <a:pt x="18" y="485"/>
                    </a:lnTo>
                    <a:lnTo>
                      <a:pt x="18" y="548"/>
                    </a:lnTo>
                    <a:lnTo>
                      <a:pt x="18" y="617"/>
                    </a:lnTo>
                    <a:lnTo>
                      <a:pt x="18" y="681"/>
                    </a:lnTo>
                    <a:lnTo>
                      <a:pt x="18" y="738"/>
                    </a:lnTo>
                    <a:lnTo>
                      <a:pt x="18" y="785"/>
                    </a:lnTo>
                    <a:lnTo>
                      <a:pt x="18" y="808"/>
                    </a:lnTo>
                    <a:lnTo>
                      <a:pt x="18" y="819"/>
                    </a:lnTo>
                    <a:lnTo>
                      <a:pt x="18" y="825"/>
                    </a:lnTo>
                    <a:lnTo>
                      <a:pt x="18" y="825"/>
                    </a:lnTo>
                    <a:lnTo>
                      <a:pt x="23" y="831"/>
                    </a:lnTo>
                    <a:lnTo>
                      <a:pt x="29" y="825"/>
                    </a:lnTo>
                    <a:lnTo>
                      <a:pt x="23" y="825"/>
                    </a:lnTo>
                    <a:lnTo>
                      <a:pt x="23" y="837"/>
                    </a:lnTo>
                    <a:lnTo>
                      <a:pt x="23" y="842"/>
                    </a:lnTo>
                    <a:lnTo>
                      <a:pt x="29" y="848"/>
                    </a:lnTo>
                    <a:lnTo>
                      <a:pt x="41" y="854"/>
                    </a:lnTo>
                    <a:lnTo>
                      <a:pt x="41" y="842"/>
                    </a:lnTo>
                    <a:lnTo>
                      <a:pt x="35" y="848"/>
                    </a:lnTo>
                    <a:lnTo>
                      <a:pt x="41" y="860"/>
                    </a:lnTo>
                    <a:lnTo>
                      <a:pt x="41" y="860"/>
                    </a:lnTo>
                    <a:lnTo>
                      <a:pt x="46" y="865"/>
                    </a:lnTo>
                    <a:lnTo>
                      <a:pt x="58" y="871"/>
                    </a:lnTo>
                    <a:lnTo>
                      <a:pt x="70" y="877"/>
                    </a:lnTo>
                    <a:lnTo>
                      <a:pt x="70" y="877"/>
                    </a:lnTo>
                    <a:lnTo>
                      <a:pt x="70" y="877"/>
                    </a:lnTo>
                    <a:lnTo>
                      <a:pt x="81" y="877"/>
                    </a:lnTo>
                    <a:lnTo>
                      <a:pt x="81" y="865"/>
                    </a:lnTo>
                    <a:lnTo>
                      <a:pt x="81" y="877"/>
                    </a:lnTo>
                    <a:lnTo>
                      <a:pt x="93" y="883"/>
                    </a:lnTo>
                    <a:lnTo>
                      <a:pt x="93" y="883"/>
                    </a:lnTo>
                    <a:lnTo>
                      <a:pt x="93" y="883"/>
                    </a:lnTo>
                    <a:lnTo>
                      <a:pt x="110" y="883"/>
                    </a:lnTo>
                    <a:lnTo>
                      <a:pt x="121" y="883"/>
                    </a:lnTo>
                    <a:lnTo>
                      <a:pt x="133" y="883"/>
                    </a:lnTo>
                    <a:lnTo>
                      <a:pt x="139" y="883"/>
                    </a:lnTo>
                    <a:lnTo>
                      <a:pt x="139" y="883"/>
                    </a:lnTo>
                    <a:lnTo>
                      <a:pt x="156" y="877"/>
                    </a:lnTo>
                    <a:lnTo>
                      <a:pt x="168" y="871"/>
                    </a:lnTo>
                    <a:lnTo>
                      <a:pt x="168" y="871"/>
                    </a:lnTo>
                    <a:lnTo>
                      <a:pt x="168" y="865"/>
                    </a:lnTo>
                    <a:lnTo>
                      <a:pt x="179" y="854"/>
                    </a:lnTo>
                    <a:lnTo>
                      <a:pt x="191" y="842"/>
                    </a:lnTo>
                    <a:lnTo>
                      <a:pt x="196" y="837"/>
                    </a:lnTo>
                    <a:close/>
                    <a:moveTo>
                      <a:pt x="179" y="831"/>
                    </a:moveTo>
                    <a:lnTo>
                      <a:pt x="168" y="842"/>
                    </a:lnTo>
                    <a:lnTo>
                      <a:pt x="156" y="854"/>
                    </a:lnTo>
                    <a:lnTo>
                      <a:pt x="162" y="860"/>
                    </a:lnTo>
                    <a:lnTo>
                      <a:pt x="162" y="854"/>
                    </a:lnTo>
                    <a:lnTo>
                      <a:pt x="150" y="860"/>
                    </a:lnTo>
                    <a:lnTo>
                      <a:pt x="133" y="865"/>
                    </a:lnTo>
                    <a:lnTo>
                      <a:pt x="133" y="871"/>
                    </a:lnTo>
                    <a:lnTo>
                      <a:pt x="133" y="865"/>
                    </a:lnTo>
                    <a:lnTo>
                      <a:pt x="121" y="865"/>
                    </a:lnTo>
                    <a:lnTo>
                      <a:pt x="110" y="865"/>
                    </a:lnTo>
                    <a:lnTo>
                      <a:pt x="93" y="865"/>
                    </a:lnTo>
                    <a:lnTo>
                      <a:pt x="93" y="871"/>
                    </a:lnTo>
                    <a:lnTo>
                      <a:pt x="98" y="865"/>
                    </a:lnTo>
                    <a:lnTo>
                      <a:pt x="87" y="860"/>
                    </a:lnTo>
                    <a:lnTo>
                      <a:pt x="87" y="860"/>
                    </a:lnTo>
                    <a:lnTo>
                      <a:pt x="81" y="860"/>
                    </a:lnTo>
                    <a:lnTo>
                      <a:pt x="70" y="860"/>
                    </a:lnTo>
                    <a:lnTo>
                      <a:pt x="70" y="865"/>
                    </a:lnTo>
                    <a:lnTo>
                      <a:pt x="75" y="860"/>
                    </a:lnTo>
                    <a:lnTo>
                      <a:pt x="64" y="854"/>
                    </a:lnTo>
                    <a:lnTo>
                      <a:pt x="52" y="848"/>
                    </a:lnTo>
                    <a:lnTo>
                      <a:pt x="46" y="854"/>
                    </a:lnTo>
                    <a:lnTo>
                      <a:pt x="58" y="854"/>
                    </a:lnTo>
                    <a:lnTo>
                      <a:pt x="52" y="842"/>
                    </a:lnTo>
                    <a:lnTo>
                      <a:pt x="46" y="837"/>
                    </a:lnTo>
                    <a:lnTo>
                      <a:pt x="46" y="837"/>
                    </a:lnTo>
                    <a:lnTo>
                      <a:pt x="35" y="831"/>
                    </a:lnTo>
                    <a:lnTo>
                      <a:pt x="29" y="837"/>
                    </a:lnTo>
                    <a:lnTo>
                      <a:pt x="41" y="837"/>
                    </a:lnTo>
                    <a:lnTo>
                      <a:pt x="41" y="825"/>
                    </a:lnTo>
                    <a:lnTo>
                      <a:pt x="41" y="825"/>
                    </a:lnTo>
                    <a:lnTo>
                      <a:pt x="35" y="819"/>
                    </a:lnTo>
                    <a:lnTo>
                      <a:pt x="29" y="813"/>
                    </a:lnTo>
                    <a:lnTo>
                      <a:pt x="23" y="819"/>
                    </a:lnTo>
                    <a:lnTo>
                      <a:pt x="35" y="819"/>
                    </a:lnTo>
                    <a:lnTo>
                      <a:pt x="35" y="808"/>
                    </a:lnTo>
                    <a:lnTo>
                      <a:pt x="35" y="785"/>
                    </a:lnTo>
                    <a:lnTo>
                      <a:pt x="35" y="738"/>
                    </a:lnTo>
                    <a:lnTo>
                      <a:pt x="35" y="681"/>
                    </a:lnTo>
                    <a:lnTo>
                      <a:pt x="35" y="617"/>
                    </a:lnTo>
                    <a:lnTo>
                      <a:pt x="35" y="548"/>
                    </a:lnTo>
                    <a:lnTo>
                      <a:pt x="35" y="485"/>
                    </a:lnTo>
                    <a:lnTo>
                      <a:pt x="35" y="421"/>
                    </a:lnTo>
                    <a:lnTo>
                      <a:pt x="35" y="375"/>
                    </a:lnTo>
                    <a:lnTo>
                      <a:pt x="23" y="375"/>
                    </a:lnTo>
                    <a:lnTo>
                      <a:pt x="23" y="387"/>
                    </a:lnTo>
                    <a:lnTo>
                      <a:pt x="35" y="392"/>
                    </a:lnTo>
                    <a:lnTo>
                      <a:pt x="46" y="398"/>
                    </a:lnTo>
                    <a:lnTo>
                      <a:pt x="46" y="398"/>
                    </a:lnTo>
                    <a:lnTo>
                      <a:pt x="46" y="398"/>
                    </a:lnTo>
                    <a:lnTo>
                      <a:pt x="64" y="398"/>
                    </a:lnTo>
                    <a:lnTo>
                      <a:pt x="87" y="398"/>
                    </a:lnTo>
                    <a:lnTo>
                      <a:pt x="127" y="398"/>
                    </a:lnTo>
                    <a:lnTo>
                      <a:pt x="179" y="398"/>
                    </a:lnTo>
                    <a:lnTo>
                      <a:pt x="231" y="392"/>
                    </a:lnTo>
                    <a:lnTo>
                      <a:pt x="283" y="392"/>
                    </a:lnTo>
                    <a:lnTo>
                      <a:pt x="341" y="387"/>
                    </a:lnTo>
                    <a:lnTo>
                      <a:pt x="393" y="387"/>
                    </a:lnTo>
                    <a:lnTo>
                      <a:pt x="410" y="387"/>
                    </a:lnTo>
                    <a:lnTo>
                      <a:pt x="422" y="387"/>
                    </a:lnTo>
                    <a:lnTo>
                      <a:pt x="427" y="387"/>
                    </a:lnTo>
                    <a:lnTo>
                      <a:pt x="427" y="387"/>
                    </a:lnTo>
                    <a:lnTo>
                      <a:pt x="439" y="381"/>
                    </a:lnTo>
                    <a:lnTo>
                      <a:pt x="439" y="381"/>
                    </a:lnTo>
                    <a:lnTo>
                      <a:pt x="439" y="375"/>
                    </a:lnTo>
                    <a:lnTo>
                      <a:pt x="445" y="369"/>
                    </a:lnTo>
                    <a:lnTo>
                      <a:pt x="450" y="363"/>
                    </a:lnTo>
                    <a:lnTo>
                      <a:pt x="456" y="358"/>
                    </a:lnTo>
                    <a:lnTo>
                      <a:pt x="462" y="358"/>
                    </a:lnTo>
                    <a:lnTo>
                      <a:pt x="462" y="358"/>
                    </a:lnTo>
                    <a:lnTo>
                      <a:pt x="468" y="346"/>
                    </a:lnTo>
                    <a:lnTo>
                      <a:pt x="468" y="346"/>
                    </a:lnTo>
                    <a:lnTo>
                      <a:pt x="468" y="340"/>
                    </a:lnTo>
                    <a:lnTo>
                      <a:pt x="468" y="329"/>
                    </a:lnTo>
                    <a:lnTo>
                      <a:pt x="468" y="323"/>
                    </a:lnTo>
                    <a:lnTo>
                      <a:pt x="468" y="312"/>
                    </a:lnTo>
                    <a:lnTo>
                      <a:pt x="468" y="312"/>
                    </a:lnTo>
                    <a:lnTo>
                      <a:pt x="468" y="312"/>
                    </a:lnTo>
                    <a:lnTo>
                      <a:pt x="462" y="300"/>
                    </a:lnTo>
                    <a:lnTo>
                      <a:pt x="456" y="283"/>
                    </a:lnTo>
                    <a:lnTo>
                      <a:pt x="450" y="271"/>
                    </a:lnTo>
                    <a:lnTo>
                      <a:pt x="439" y="254"/>
                    </a:lnTo>
                    <a:lnTo>
                      <a:pt x="439" y="254"/>
                    </a:lnTo>
                    <a:lnTo>
                      <a:pt x="433" y="248"/>
                    </a:lnTo>
                    <a:lnTo>
                      <a:pt x="422" y="237"/>
                    </a:lnTo>
                    <a:lnTo>
                      <a:pt x="416" y="242"/>
                    </a:lnTo>
                    <a:lnTo>
                      <a:pt x="427" y="242"/>
                    </a:lnTo>
                    <a:lnTo>
                      <a:pt x="416" y="225"/>
                    </a:lnTo>
                    <a:lnTo>
                      <a:pt x="416" y="225"/>
                    </a:lnTo>
                    <a:lnTo>
                      <a:pt x="410" y="219"/>
                    </a:lnTo>
                    <a:lnTo>
                      <a:pt x="404" y="213"/>
                    </a:lnTo>
                    <a:lnTo>
                      <a:pt x="398" y="208"/>
                    </a:lnTo>
                    <a:lnTo>
                      <a:pt x="393" y="213"/>
                    </a:lnTo>
                    <a:lnTo>
                      <a:pt x="404" y="213"/>
                    </a:lnTo>
                    <a:lnTo>
                      <a:pt x="398" y="202"/>
                    </a:lnTo>
                    <a:lnTo>
                      <a:pt x="398" y="202"/>
                    </a:lnTo>
                    <a:lnTo>
                      <a:pt x="393" y="196"/>
                    </a:lnTo>
                    <a:lnTo>
                      <a:pt x="387" y="190"/>
                    </a:lnTo>
                    <a:lnTo>
                      <a:pt x="381" y="196"/>
                    </a:lnTo>
                    <a:lnTo>
                      <a:pt x="393" y="196"/>
                    </a:lnTo>
                    <a:lnTo>
                      <a:pt x="387" y="179"/>
                    </a:lnTo>
                    <a:lnTo>
                      <a:pt x="375" y="179"/>
                    </a:lnTo>
                    <a:lnTo>
                      <a:pt x="387" y="179"/>
                    </a:lnTo>
                    <a:lnTo>
                      <a:pt x="387" y="162"/>
                    </a:lnTo>
                    <a:lnTo>
                      <a:pt x="387" y="138"/>
                    </a:lnTo>
                    <a:lnTo>
                      <a:pt x="375" y="138"/>
                    </a:lnTo>
                    <a:lnTo>
                      <a:pt x="387" y="144"/>
                    </a:lnTo>
                    <a:lnTo>
                      <a:pt x="393" y="127"/>
                    </a:lnTo>
                    <a:lnTo>
                      <a:pt x="398" y="110"/>
                    </a:lnTo>
                    <a:lnTo>
                      <a:pt x="404" y="92"/>
                    </a:lnTo>
                    <a:lnTo>
                      <a:pt x="416" y="75"/>
                    </a:lnTo>
                    <a:lnTo>
                      <a:pt x="404" y="69"/>
                    </a:lnTo>
                    <a:lnTo>
                      <a:pt x="410" y="75"/>
                    </a:lnTo>
                    <a:lnTo>
                      <a:pt x="422" y="63"/>
                    </a:lnTo>
                    <a:lnTo>
                      <a:pt x="439" y="46"/>
                    </a:lnTo>
                    <a:lnTo>
                      <a:pt x="433" y="40"/>
                    </a:lnTo>
                    <a:lnTo>
                      <a:pt x="439" y="52"/>
                    </a:lnTo>
                    <a:lnTo>
                      <a:pt x="456" y="40"/>
                    </a:lnTo>
                    <a:lnTo>
                      <a:pt x="450" y="29"/>
                    </a:lnTo>
                    <a:lnTo>
                      <a:pt x="450" y="40"/>
                    </a:lnTo>
                    <a:lnTo>
                      <a:pt x="473" y="35"/>
                    </a:lnTo>
                    <a:lnTo>
                      <a:pt x="479" y="29"/>
                    </a:lnTo>
                    <a:lnTo>
                      <a:pt x="479" y="35"/>
                    </a:lnTo>
                    <a:lnTo>
                      <a:pt x="497" y="23"/>
                    </a:lnTo>
                    <a:lnTo>
                      <a:pt x="514" y="17"/>
                    </a:lnTo>
                    <a:lnTo>
                      <a:pt x="508" y="6"/>
                    </a:lnTo>
                    <a:lnTo>
                      <a:pt x="508" y="17"/>
                    </a:lnTo>
                    <a:lnTo>
                      <a:pt x="531" y="17"/>
                    </a:lnTo>
                    <a:lnTo>
                      <a:pt x="554" y="17"/>
                    </a:lnTo>
                    <a:lnTo>
                      <a:pt x="577" y="23"/>
                    </a:lnTo>
                    <a:lnTo>
                      <a:pt x="577" y="12"/>
                    </a:lnTo>
                    <a:lnTo>
                      <a:pt x="577" y="23"/>
                    </a:lnTo>
                    <a:lnTo>
                      <a:pt x="595" y="35"/>
                    </a:lnTo>
                    <a:lnTo>
                      <a:pt x="612" y="40"/>
                    </a:lnTo>
                    <a:lnTo>
                      <a:pt x="629" y="52"/>
                    </a:lnTo>
                    <a:lnTo>
                      <a:pt x="629" y="40"/>
                    </a:lnTo>
                    <a:lnTo>
                      <a:pt x="623" y="46"/>
                    </a:lnTo>
                    <a:lnTo>
                      <a:pt x="635" y="63"/>
                    </a:lnTo>
                    <a:lnTo>
                      <a:pt x="635" y="63"/>
                    </a:lnTo>
                    <a:lnTo>
                      <a:pt x="635" y="63"/>
                    </a:lnTo>
                    <a:lnTo>
                      <a:pt x="647" y="75"/>
                    </a:lnTo>
                    <a:lnTo>
                      <a:pt x="652" y="69"/>
                    </a:lnTo>
                    <a:lnTo>
                      <a:pt x="647" y="75"/>
                    </a:lnTo>
                    <a:lnTo>
                      <a:pt x="658" y="92"/>
                    </a:lnTo>
                    <a:lnTo>
                      <a:pt x="664" y="110"/>
                    </a:lnTo>
                    <a:lnTo>
                      <a:pt x="670" y="127"/>
                    </a:lnTo>
                    <a:lnTo>
                      <a:pt x="675" y="121"/>
                    </a:lnTo>
                    <a:lnTo>
                      <a:pt x="670" y="121"/>
                    </a:lnTo>
                    <a:lnTo>
                      <a:pt x="670" y="138"/>
                    </a:lnTo>
                    <a:lnTo>
                      <a:pt x="670" y="162"/>
                    </a:lnTo>
                    <a:lnTo>
                      <a:pt x="675" y="162"/>
                    </a:lnTo>
                    <a:lnTo>
                      <a:pt x="670" y="162"/>
                    </a:lnTo>
                    <a:lnTo>
                      <a:pt x="664" y="173"/>
                    </a:lnTo>
                    <a:lnTo>
                      <a:pt x="658" y="190"/>
                    </a:lnTo>
                    <a:lnTo>
                      <a:pt x="652" y="208"/>
                    </a:lnTo>
                    <a:lnTo>
                      <a:pt x="641" y="225"/>
                    </a:lnTo>
                    <a:lnTo>
                      <a:pt x="647" y="225"/>
                    </a:lnTo>
                    <a:lnTo>
                      <a:pt x="641" y="219"/>
                    </a:lnTo>
                    <a:lnTo>
                      <a:pt x="618" y="242"/>
                    </a:lnTo>
                    <a:lnTo>
                      <a:pt x="600" y="265"/>
                    </a:lnTo>
                    <a:lnTo>
                      <a:pt x="606" y="271"/>
                    </a:lnTo>
                    <a:lnTo>
                      <a:pt x="606" y="265"/>
                    </a:lnTo>
                    <a:lnTo>
                      <a:pt x="595" y="271"/>
                    </a:lnTo>
                    <a:lnTo>
                      <a:pt x="589" y="271"/>
                    </a:lnTo>
                    <a:lnTo>
                      <a:pt x="589" y="277"/>
                    </a:lnTo>
                    <a:lnTo>
                      <a:pt x="583" y="288"/>
                    </a:lnTo>
                    <a:lnTo>
                      <a:pt x="577" y="300"/>
                    </a:lnTo>
                    <a:lnTo>
                      <a:pt x="583" y="300"/>
                    </a:lnTo>
                    <a:lnTo>
                      <a:pt x="577" y="294"/>
                    </a:lnTo>
                    <a:lnTo>
                      <a:pt x="572" y="300"/>
                    </a:lnTo>
                    <a:lnTo>
                      <a:pt x="572" y="306"/>
                    </a:lnTo>
                    <a:lnTo>
                      <a:pt x="572" y="306"/>
                    </a:lnTo>
                    <a:lnTo>
                      <a:pt x="572" y="317"/>
                    </a:lnTo>
                    <a:lnTo>
                      <a:pt x="572" y="323"/>
                    </a:lnTo>
                    <a:lnTo>
                      <a:pt x="572" y="335"/>
                    </a:lnTo>
                    <a:lnTo>
                      <a:pt x="572" y="340"/>
                    </a:lnTo>
                    <a:lnTo>
                      <a:pt x="572" y="346"/>
                    </a:lnTo>
                    <a:lnTo>
                      <a:pt x="572" y="346"/>
                    </a:lnTo>
                    <a:lnTo>
                      <a:pt x="577" y="358"/>
                    </a:lnTo>
                    <a:lnTo>
                      <a:pt x="577" y="358"/>
                    </a:lnTo>
                    <a:lnTo>
                      <a:pt x="577" y="358"/>
                    </a:lnTo>
                    <a:lnTo>
                      <a:pt x="583" y="363"/>
                    </a:lnTo>
                    <a:lnTo>
                      <a:pt x="589" y="369"/>
                    </a:lnTo>
                    <a:lnTo>
                      <a:pt x="600" y="381"/>
                    </a:lnTo>
                    <a:lnTo>
                      <a:pt x="606" y="387"/>
                    </a:lnTo>
                    <a:lnTo>
                      <a:pt x="606" y="387"/>
                    </a:lnTo>
                    <a:lnTo>
                      <a:pt x="623" y="392"/>
                    </a:lnTo>
                    <a:lnTo>
                      <a:pt x="641" y="404"/>
                    </a:lnTo>
                    <a:lnTo>
                      <a:pt x="658" y="410"/>
                    </a:lnTo>
                    <a:lnTo>
                      <a:pt x="647" y="404"/>
                    </a:lnTo>
                    <a:lnTo>
                      <a:pt x="658" y="410"/>
                    </a:lnTo>
                    <a:lnTo>
                      <a:pt x="681" y="415"/>
                    </a:lnTo>
                    <a:lnTo>
                      <a:pt x="710" y="421"/>
                    </a:lnTo>
                    <a:lnTo>
                      <a:pt x="733" y="427"/>
                    </a:lnTo>
                    <a:lnTo>
                      <a:pt x="768" y="427"/>
                    </a:lnTo>
                    <a:lnTo>
                      <a:pt x="797" y="427"/>
                    </a:lnTo>
                    <a:lnTo>
                      <a:pt x="825" y="427"/>
                    </a:lnTo>
                    <a:lnTo>
                      <a:pt x="854" y="427"/>
                    </a:lnTo>
                    <a:lnTo>
                      <a:pt x="883" y="427"/>
                    </a:lnTo>
                    <a:lnTo>
                      <a:pt x="912" y="421"/>
                    </a:lnTo>
                    <a:lnTo>
                      <a:pt x="941" y="415"/>
                    </a:lnTo>
                    <a:lnTo>
                      <a:pt x="964" y="410"/>
                    </a:lnTo>
                    <a:lnTo>
                      <a:pt x="970" y="404"/>
                    </a:lnTo>
                    <a:lnTo>
                      <a:pt x="970" y="410"/>
                    </a:lnTo>
                    <a:lnTo>
                      <a:pt x="993" y="398"/>
                    </a:lnTo>
                    <a:lnTo>
                      <a:pt x="1010" y="387"/>
                    </a:lnTo>
                    <a:lnTo>
                      <a:pt x="1004" y="375"/>
                    </a:lnTo>
                    <a:lnTo>
                      <a:pt x="999" y="375"/>
                    </a:lnTo>
                    <a:lnTo>
                      <a:pt x="999" y="387"/>
                    </a:lnTo>
                    <a:lnTo>
                      <a:pt x="999" y="404"/>
                    </a:lnTo>
                    <a:lnTo>
                      <a:pt x="999" y="427"/>
                    </a:lnTo>
                    <a:lnTo>
                      <a:pt x="999" y="450"/>
                    </a:lnTo>
                    <a:lnTo>
                      <a:pt x="1004" y="508"/>
                    </a:lnTo>
                    <a:lnTo>
                      <a:pt x="1010" y="577"/>
                    </a:lnTo>
                    <a:lnTo>
                      <a:pt x="1016" y="612"/>
                    </a:lnTo>
                    <a:lnTo>
                      <a:pt x="1016" y="640"/>
                    </a:lnTo>
                    <a:lnTo>
                      <a:pt x="1022" y="675"/>
                    </a:lnTo>
                    <a:lnTo>
                      <a:pt x="1022" y="704"/>
                    </a:lnTo>
                    <a:lnTo>
                      <a:pt x="1022" y="727"/>
                    </a:lnTo>
                    <a:lnTo>
                      <a:pt x="1027" y="727"/>
                    </a:lnTo>
                    <a:lnTo>
                      <a:pt x="1022" y="727"/>
                    </a:lnTo>
                    <a:lnTo>
                      <a:pt x="1016" y="750"/>
                    </a:lnTo>
                    <a:lnTo>
                      <a:pt x="1010" y="762"/>
                    </a:lnTo>
                    <a:lnTo>
                      <a:pt x="1010" y="762"/>
                    </a:lnTo>
                    <a:lnTo>
                      <a:pt x="1010" y="762"/>
                    </a:lnTo>
                    <a:lnTo>
                      <a:pt x="1010" y="767"/>
                    </a:lnTo>
                    <a:lnTo>
                      <a:pt x="1016" y="767"/>
                    </a:lnTo>
                    <a:lnTo>
                      <a:pt x="1010" y="762"/>
                    </a:lnTo>
                    <a:lnTo>
                      <a:pt x="1004" y="767"/>
                    </a:lnTo>
                    <a:lnTo>
                      <a:pt x="999" y="773"/>
                    </a:lnTo>
                    <a:lnTo>
                      <a:pt x="993" y="779"/>
                    </a:lnTo>
                    <a:lnTo>
                      <a:pt x="999" y="785"/>
                    </a:lnTo>
                    <a:lnTo>
                      <a:pt x="999" y="779"/>
                    </a:lnTo>
                    <a:lnTo>
                      <a:pt x="987" y="785"/>
                    </a:lnTo>
                    <a:lnTo>
                      <a:pt x="975" y="790"/>
                    </a:lnTo>
                    <a:lnTo>
                      <a:pt x="975" y="796"/>
                    </a:lnTo>
                    <a:lnTo>
                      <a:pt x="975" y="790"/>
                    </a:lnTo>
                    <a:lnTo>
                      <a:pt x="970" y="790"/>
                    </a:lnTo>
                    <a:lnTo>
                      <a:pt x="970" y="790"/>
                    </a:lnTo>
                    <a:lnTo>
                      <a:pt x="970" y="790"/>
                    </a:lnTo>
                    <a:lnTo>
                      <a:pt x="958" y="796"/>
                    </a:lnTo>
                    <a:lnTo>
                      <a:pt x="958" y="802"/>
                    </a:lnTo>
                    <a:lnTo>
                      <a:pt x="958" y="796"/>
                    </a:lnTo>
                    <a:lnTo>
                      <a:pt x="947" y="796"/>
                    </a:lnTo>
                    <a:lnTo>
                      <a:pt x="947" y="802"/>
                    </a:lnTo>
                    <a:lnTo>
                      <a:pt x="952" y="796"/>
                    </a:lnTo>
                    <a:lnTo>
                      <a:pt x="947" y="790"/>
                    </a:lnTo>
                    <a:lnTo>
                      <a:pt x="947" y="790"/>
                    </a:lnTo>
                    <a:lnTo>
                      <a:pt x="941" y="790"/>
                    </a:lnTo>
                    <a:lnTo>
                      <a:pt x="929" y="790"/>
                    </a:lnTo>
                    <a:lnTo>
                      <a:pt x="906" y="785"/>
                    </a:lnTo>
                    <a:lnTo>
                      <a:pt x="906" y="790"/>
                    </a:lnTo>
                    <a:lnTo>
                      <a:pt x="912" y="785"/>
                    </a:lnTo>
                    <a:lnTo>
                      <a:pt x="895" y="773"/>
                    </a:lnTo>
                    <a:lnTo>
                      <a:pt x="877" y="762"/>
                    </a:lnTo>
                    <a:lnTo>
                      <a:pt x="854" y="750"/>
                    </a:lnTo>
                    <a:lnTo>
                      <a:pt x="837" y="744"/>
                    </a:lnTo>
                    <a:lnTo>
                      <a:pt x="814" y="733"/>
                    </a:lnTo>
                    <a:lnTo>
                      <a:pt x="814" y="733"/>
                    </a:lnTo>
                    <a:lnTo>
                      <a:pt x="808" y="733"/>
                    </a:lnTo>
                    <a:lnTo>
                      <a:pt x="797" y="733"/>
                    </a:lnTo>
                    <a:lnTo>
                      <a:pt x="797" y="738"/>
                    </a:lnTo>
                    <a:lnTo>
                      <a:pt x="802" y="733"/>
                    </a:lnTo>
                    <a:lnTo>
                      <a:pt x="791" y="727"/>
                    </a:lnTo>
                    <a:lnTo>
                      <a:pt x="791" y="727"/>
                    </a:lnTo>
                    <a:lnTo>
                      <a:pt x="785" y="727"/>
                    </a:lnTo>
                    <a:lnTo>
                      <a:pt x="779" y="727"/>
                    </a:lnTo>
                    <a:lnTo>
                      <a:pt x="768" y="727"/>
                    </a:lnTo>
                    <a:lnTo>
                      <a:pt x="768" y="727"/>
                    </a:lnTo>
                    <a:lnTo>
                      <a:pt x="768" y="727"/>
                    </a:lnTo>
                    <a:lnTo>
                      <a:pt x="756" y="733"/>
                    </a:lnTo>
                    <a:lnTo>
                      <a:pt x="745" y="738"/>
                    </a:lnTo>
                    <a:lnTo>
                      <a:pt x="733" y="744"/>
                    </a:lnTo>
                    <a:lnTo>
                      <a:pt x="722" y="750"/>
                    </a:lnTo>
                    <a:lnTo>
                      <a:pt x="710" y="756"/>
                    </a:lnTo>
                    <a:lnTo>
                      <a:pt x="710" y="756"/>
                    </a:lnTo>
                    <a:lnTo>
                      <a:pt x="704" y="756"/>
                    </a:lnTo>
                    <a:lnTo>
                      <a:pt x="693" y="767"/>
                    </a:lnTo>
                    <a:lnTo>
                      <a:pt x="693" y="773"/>
                    </a:lnTo>
                    <a:lnTo>
                      <a:pt x="693" y="773"/>
                    </a:lnTo>
                    <a:lnTo>
                      <a:pt x="681" y="790"/>
                    </a:lnTo>
                    <a:lnTo>
                      <a:pt x="675" y="808"/>
                    </a:lnTo>
                    <a:lnTo>
                      <a:pt x="670" y="819"/>
                    </a:lnTo>
                    <a:lnTo>
                      <a:pt x="664" y="831"/>
                    </a:lnTo>
                    <a:lnTo>
                      <a:pt x="664" y="831"/>
                    </a:lnTo>
                    <a:lnTo>
                      <a:pt x="664" y="831"/>
                    </a:lnTo>
                    <a:lnTo>
                      <a:pt x="664" y="842"/>
                    </a:lnTo>
                    <a:lnTo>
                      <a:pt x="664" y="860"/>
                    </a:lnTo>
                    <a:lnTo>
                      <a:pt x="664" y="871"/>
                    </a:lnTo>
                    <a:lnTo>
                      <a:pt x="664" y="877"/>
                    </a:lnTo>
                    <a:lnTo>
                      <a:pt x="664" y="877"/>
                    </a:lnTo>
                    <a:lnTo>
                      <a:pt x="670" y="894"/>
                    </a:lnTo>
                    <a:lnTo>
                      <a:pt x="675" y="912"/>
                    </a:lnTo>
                    <a:lnTo>
                      <a:pt x="675" y="912"/>
                    </a:lnTo>
                    <a:lnTo>
                      <a:pt x="675" y="912"/>
                    </a:lnTo>
                    <a:lnTo>
                      <a:pt x="687" y="923"/>
                    </a:lnTo>
                    <a:lnTo>
                      <a:pt x="693" y="917"/>
                    </a:lnTo>
                    <a:lnTo>
                      <a:pt x="687" y="923"/>
                    </a:lnTo>
                    <a:lnTo>
                      <a:pt x="699" y="940"/>
                    </a:lnTo>
                    <a:lnTo>
                      <a:pt x="699" y="940"/>
                    </a:lnTo>
                    <a:lnTo>
                      <a:pt x="699" y="940"/>
                    </a:lnTo>
                    <a:lnTo>
                      <a:pt x="710" y="952"/>
                    </a:lnTo>
                    <a:lnTo>
                      <a:pt x="716" y="958"/>
                    </a:lnTo>
                    <a:lnTo>
                      <a:pt x="716" y="958"/>
                    </a:lnTo>
                    <a:lnTo>
                      <a:pt x="727" y="963"/>
                    </a:lnTo>
                    <a:lnTo>
                      <a:pt x="727" y="963"/>
                    </a:lnTo>
                    <a:lnTo>
                      <a:pt x="727" y="963"/>
                    </a:lnTo>
                    <a:lnTo>
                      <a:pt x="733" y="963"/>
                    </a:lnTo>
                    <a:lnTo>
                      <a:pt x="733" y="952"/>
                    </a:lnTo>
                    <a:lnTo>
                      <a:pt x="733" y="963"/>
                    </a:lnTo>
                    <a:lnTo>
                      <a:pt x="745" y="969"/>
                    </a:lnTo>
                    <a:lnTo>
                      <a:pt x="745" y="969"/>
                    </a:lnTo>
                    <a:lnTo>
                      <a:pt x="745" y="969"/>
                    </a:lnTo>
                    <a:lnTo>
                      <a:pt x="750" y="969"/>
                    </a:lnTo>
                    <a:lnTo>
                      <a:pt x="750" y="958"/>
                    </a:lnTo>
                    <a:lnTo>
                      <a:pt x="750" y="969"/>
                    </a:lnTo>
                    <a:lnTo>
                      <a:pt x="768" y="975"/>
                    </a:lnTo>
                    <a:lnTo>
                      <a:pt x="768" y="975"/>
                    </a:lnTo>
                    <a:lnTo>
                      <a:pt x="768" y="975"/>
                    </a:lnTo>
                    <a:lnTo>
                      <a:pt x="774" y="975"/>
                    </a:lnTo>
                    <a:lnTo>
                      <a:pt x="785" y="975"/>
                    </a:lnTo>
                    <a:lnTo>
                      <a:pt x="802" y="975"/>
                    </a:lnTo>
                    <a:lnTo>
                      <a:pt x="814" y="975"/>
                    </a:lnTo>
                    <a:lnTo>
                      <a:pt x="820" y="975"/>
                    </a:lnTo>
                    <a:lnTo>
                      <a:pt x="820" y="975"/>
                    </a:lnTo>
                    <a:lnTo>
                      <a:pt x="837" y="969"/>
                    </a:lnTo>
                    <a:lnTo>
                      <a:pt x="831" y="958"/>
                    </a:lnTo>
                    <a:lnTo>
                      <a:pt x="831" y="969"/>
                    </a:lnTo>
                    <a:lnTo>
                      <a:pt x="843" y="969"/>
                    </a:lnTo>
                    <a:lnTo>
                      <a:pt x="849" y="969"/>
                    </a:lnTo>
                    <a:lnTo>
                      <a:pt x="849" y="969"/>
                    </a:lnTo>
                    <a:lnTo>
                      <a:pt x="866" y="963"/>
                    </a:lnTo>
                    <a:lnTo>
                      <a:pt x="889" y="952"/>
                    </a:lnTo>
                    <a:lnTo>
                      <a:pt x="883" y="940"/>
                    </a:lnTo>
                    <a:lnTo>
                      <a:pt x="883" y="952"/>
                    </a:lnTo>
                    <a:lnTo>
                      <a:pt x="906" y="946"/>
                    </a:lnTo>
                    <a:lnTo>
                      <a:pt x="929" y="940"/>
                    </a:lnTo>
                    <a:lnTo>
                      <a:pt x="947" y="940"/>
                    </a:lnTo>
                    <a:lnTo>
                      <a:pt x="958" y="940"/>
                    </a:lnTo>
                    <a:lnTo>
                      <a:pt x="958" y="929"/>
                    </a:lnTo>
                    <a:lnTo>
                      <a:pt x="952" y="935"/>
                    </a:lnTo>
                    <a:lnTo>
                      <a:pt x="958" y="940"/>
                    </a:lnTo>
                    <a:lnTo>
                      <a:pt x="964" y="946"/>
                    </a:lnTo>
                    <a:lnTo>
                      <a:pt x="964" y="946"/>
                    </a:lnTo>
                    <a:lnTo>
                      <a:pt x="970" y="946"/>
                    </a:lnTo>
                    <a:lnTo>
                      <a:pt x="970" y="935"/>
                    </a:lnTo>
                    <a:lnTo>
                      <a:pt x="970" y="946"/>
                    </a:lnTo>
                    <a:lnTo>
                      <a:pt x="981" y="952"/>
                    </a:lnTo>
                    <a:lnTo>
                      <a:pt x="981" y="940"/>
                    </a:lnTo>
                    <a:lnTo>
                      <a:pt x="975" y="946"/>
                    </a:lnTo>
                    <a:lnTo>
                      <a:pt x="981" y="952"/>
                    </a:lnTo>
                    <a:lnTo>
                      <a:pt x="987" y="946"/>
                    </a:lnTo>
                    <a:lnTo>
                      <a:pt x="981" y="952"/>
                    </a:lnTo>
                    <a:lnTo>
                      <a:pt x="987" y="963"/>
                    </a:lnTo>
                    <a:lnTo>
                      <a:pt x="987" y="963"/>
                    </a:lnTo>
                    <a:lnTo>
                      <a:pt x="987" y="963"/>
                    </a:lnTo>
                    <a:lnTo>
                      <a:pt x="993" y="969"/>
                    </a:lnTo>
                    <a:lnTo>
                      <a:pt x="999" y="963"/>
                    </a:lnTo>
                    <a:lnTo>
                      <a:pt x="993" y="969"/>
                    </a:lnTo>
                    <a:lnTo>
                      <a:pt x="999" y="987"/>
                    </a:lnTo>
                    <a:lnTo>
                      <a:pt x="1004" y="998"/>
                    </a:lnTo>
                    <a:lnTo>
                      <a:pt x="1010" y="1015"/>
                    </a:lnTo>
                    <a:lnTo>
                      <a:pt x="1016" y="1033"/>
                    </a:lnTo>
                    <a:lnTo>
                      <a:pt x="1022" y="1050"/>
                    </a:lnTo>
                    <a:lnTo>
                      <a:pt x="1027" y="1044"/>
                    </a:lnTo>
                    <a:lnTo>
                      <a:pt x="1022" y="1044"/>
                    </a:lnTo>
                    <a:lnTo>
                      <a:pt x="1022" y="1067"/>
                    </a:lnTo>
                    <a:lnTo>
                      <a:pt x="1022" y="1073"/>
                    </a:lnTo>
                    <a:lnTo>
                      <a:pt x="1022" y="1073"/>
                    </a:lnTo>
                    <a:lnTo>
                      <a:pt x="1027" y="1096"/>
                    </a:lnTo>
                    <a:lnTo>
                      <a:pt x="1033" y="1090"/>
                    </a:lnTo>
                    <a:lnTo>
                      <a:pt x="1027" y="1090"/>
                    </a:lnTo>
                    <a:lnTo>
                      <a:pt x="1027" y="1114"/>
                    </a:lnTo>
                    <a:lnTo>
                      <a:pt x="1027" y="1137"/>
                    </a:lnTo>
                    <a:lnTo>
                      <a:pt x="1027" y="1160"/>
                    </a:lnTo>
                    <a:lnTo>
                      <a:pt x="1027" y="1183"/>
                    </a:lnTo>
                    <a:lnTo>
                      <a:pt x="1027" y="1206"/>
                    </a:lnTo>
                    <a:lnTo>
                      <a:pt x="1033" y="1206"/>
                    </a:lnTo>
                    <a:lnTo>
                      <a:pt x="1027" y="1206"/>
                    </a:lnTo>
                    <a:lnTo>
                      <a:pt x="1022" y="1229"/>
                    </a:lnTo>
                    <a:lnTo>
                      <a:pt x="1016" y="1252"/>
                    </a:lnTo>
                    <a:lnTo>
                      <a:pt x="1010" y="1275"/>
                    </a:lnTo>
                    <a:lnTo>
                      <a:pt x="1004" y="1298"/>
                    </a:lnTo>
                    <a:lnTo>
                      <a:pt x="993" y="1315"/>
                    </a:lnTo>
                    <a:lnTo>
                      <a:pt x="999" y="1315"/>
                    </a:lnTo>
                    <a:lnTo>
                      <a:pt x="999" y="1310"/>
                    </a:lnTo>
                    <a:lnTo>
                      <a:pt x="947" y="1310"/>
                    </a:lnTo>
                    <a:lnTo>
                      <a:pt x="900" y="1304"/>
                    </a:lnTo>
                    <a:lnTo>
                      <a:pt x="854" y="1304"/>
                    </a:lnTo>
                    <a:lnTo>
                      <a:pt x="808" y="1298"/>
                    </a:lnTo>
                    <a:lnTo>
                      <a:pt x="768" y="1292"/>
                    </a:lnTo>
                    <a:lnTo>
                      <a:pt x="739" y="1292"/>
                    </a:lnTo>
                    <a:lnTo>
                      <a:pt x="710" y="1287"/>
                    </a:lnTo>
                    <a:lnTo>
                      <a:pt x="693" y="1287"/>
                    </a:lnTo>
                    <a:lnTo>
                      <a:pt x="687" y="1287"/>
                    </a:lnTo>
                    <a:lnTo>
                      <a:pt x="687" y="1287"/>
                    </a:lnTo>
                    <a:lnTo>
                      <a:pt x="687" y="1287"/>
                    </a:lnTo>
                    <a:lnTo>
                      <a:pt x="675" y="1292"/>
                    </a:lnTo>
                    <a:lnTo>
                      <a:pt x="664" y="1298"/>
                    </a:lnTo>
                    <a:lnTo>
                      <a:pt x="658" y="1298"/>
                    </a:lnTo>
                    <a:lnTo>
                      <a:pt x="658" y="1304"/>
                    </a:lnTo>
                    <a:lnTo>
                      <a:pt x="652" y="1315"/>
                    </a:lnTo>
                    <a:lnTo>
                      <a:pt x="658" y="1315"/>
                    </a:lnTo>
                    <a:lnTo>
                      <a:pt x="658" y="1310"/>
                    </a:lnTo>
                    <a:lnTo>
                      <a:pt x="647" y="1315"/>
                    </a:lnTo>
                    <a:lnTo>
                      <a:pt x="641" y="1315"/>
                    </a:lnTo>
                    <a:lnTo>
                      <a:pt x="641" y="1321"/>
                    </a:lnTo>
                    <a:lnTo>
                      <a:pt x="635" y="1333"/>
                    </a:lnTo>
                    <a:lnTo>
                      <a:pt x="629" y="1350"/>
                    </a:lnTo>
                    <a:lnTo>
                      <a:pt x="623" y="1362"/>
                    </a:lnTo>
                    <a:lnTo>
                      <a:pt x="623" y="1362"/>
                    </a:lnTo>
                    <a:lnTo>
                      <a:pt x="623" y="1362"/>
                    </a:lnTo>
                    <a:lnTo>
                      <a:pt x="623" y="1379"/>
                    </a:lnTo>
                    <a:lnTo>
                      <a:pt x="623" y="1390"/>
                    </a:lnTo>
                    <a:lnTo>
                      <a:pt x="623" y="1408"/>
                    </a:lnTo>
                    <a:lnTo>
                      <a:pt x="623" y="1425"/>
                    </a:lnTo>
                    <a:lnTo>
                      <a:pt x="623" y="1431"/>
                    </a:lnTo>
                    <a:lnTo>
                      <a:pt x="623" y="1431"/>
                    </a:lnTo>
                    <a:lnTo>
                      <a:pt x="629" y="1448"/>
                    </a:lnTo>
                    <a:lnTo>
                      <a:pt x="641" y="1465"/>
                    </a:lnTo>
                    <a:lnTo>
                      <a:pt x="647" y="1477"/>
                    </a:lnTo>
                    <a:lnTo>
                      <a:pt x="658" y="1494"/>
                    </a:lnTo>
                    <a:lnTo>
                      <a:pt x="658" y="1494"/>
                    </a:lnTo>
                    <a:lnTo>
                      <a:pt x="664" y="1500"/>
                    </a:lnTo>
                    <a:lnTo>
                      <a:pt x="681" y="1512"/>
                    </a:lnTo>
                    <a:lnTo>
                      <a:pt x="681" y="1500"/>
                    </a:lnTo>
                    <a:lnTo>
                      <a:pt x="675" y="1506"/>
                    </a:lnTo>
                    <a:lnTo>
                      <a:pt x="687" y="1523"/>
                    </a:lnTo>
                    <a:lnTo>
                      <a:pt x="693" y="1540"/>
                    </a:lnTo>
                    <a:lnTo>
                      <a:pt x="699" y="1558"/>
                    </a:lnTo>
                    <a:lnTo>
                      <a:pt x="704" y="1575"/>
                    </a:lnTo>
                    <a:lnTo>
                      <a:pt x="710" y="1569"/>
                    </a:lnTo>
                    <a:lnTo>
                      <a:pt x="704" y="1569"/>
                    </a:lnTo>
                    <a:lnTo>
                      <a:pt x="699" y="1587"/>
                    </a:lnTo>
                    <a:lnTo>
                      <a:pt x="699" y="1587"/>
                    </a:lnTo>
                    <a:lnTo>
                      <a:pt x="699" y="1587"/>
                    </a:lnTo>
                    <a:lnTo>
                      <a:pt x="699" y="1604"/>
                    </a:lnTo>
                    <a:lnTo>
                      <a:pt x="704" y="1604"/>
                    </a:lnTo>
                    <a:lnTo>
                      <a:pt x="699" y="1604"/>
                    </a:lnTo>
                    <a:lnTo>
                      <a:pt x="693" y="1621"/>
                    </a:lnTo>
                    <a:lnTo>
                      <a:pt x="687" y="1639"/>
                    </a:lnTo>
                    <a:lnTo>
                      <a:pt x="693" y="1639"/>
                    </a:lnTo>
                    <a:lnTo>
                      <a:pt x="687" y="1633"/>
                    </a:lnTo>
                    <a:lnTo>
                      <a:pt x="675" y="1644"/>
                    </a:lnTo>
                    <a:lnTo>
                      <a:pt x="681" y="1650"/>
                    </a:lnTo>
                    <a:lnTo>
                      <a:pt x="681" y="1644"/>
                    </a:lnTo>
                    <a:lnTo>
                      <a:pt x="664" y="1656"/>
                    </a:lnTo>
                    <a:lnTo>
                      <a:pt x="664" y="1656"/>
                    </a:lnTo>
                    <a:lnTo>
                      <a:pt x="658" y="1656"/>
                    </a:lnTo>
                    <a:lnTo>
                      <a:pt x="641" y="1673"/>
                    </a:lnTo>
                    <a:lnTo>
                      <a:pt x="647" y="1679"/>
                    </a:lnTo>
                    <a:lnTo>
                      <a:pt x="647" y="1673"/>
                    </a:lnTo>
                    <a:lnTo>
                      <a:pt x="629" y="1679"/>
                    </a:lnTo>
                    <a:lnTo>
                      <a:pt x="612" y="1690"/>
                    </a:lnTo>
                    <a:lnTo>
                      <a:pt x="612" y="1696"/>
                    </a:lnTo>
                    <a:lnTo>
                      <a:pt x="612" y="1690"/>
                    </a:lnTo>
                    <a:lnTo>
                      <a:pt x="589" y="1696"/>
                    </a:lnTo>
                    <a:lnTo>
                      <a:pt x="560" y="1696"/>
                    </a:lnTo>
                    <a:lnTo>
                      <a:pt x="548" y="1696"/>
                    </a:lnTo>
                    <a:lnTo>
                      <a:pt x="537" y="1696"/>
                    </a:lnTo>
                    <a:lnTo>
                      <a:pt x="525" y="1696"/>
                    </a:lnTo>
                    <a:lnTo>
                      <a:pt x="525" y="1702"/>
                    </a:lnTo>
                    <a:lnTo>
                      <a:pt x="531" y="1696"/>
                    </a:lnTo>
                    <a:lnTo>
                      <a:pt x="520" y="1690"/>
                    </a:lnTo>
                    <a:lnTo>
                      <a:pt x="508" y="1685"/>
                    </a:lnTo>
                    <a:lnTo>
                      <a:pt x="508" y="1685"/>
                    </a:lnTo>
                    <a:lnTo>
                      <a:pt x="502" y="1685"/>
                    </a:lnTo>
                    <a:lnTo>
                      <a:pt x="497" y="1685"/>
                    </a:lnTo>
                    <a:lnTo>
                      <a:pt x="497" y="1690"/>
                    </a:lnTo>
                    <a:lnTo>
                      <a:pt x="502" y="1685"/>
                    </a:lnTo>
                    <a:lnTo>
                      <a:pt x="491" y="1679"/>
                    </a:lnTo>
                    <a:lnTo>
                      <a:pt x="479" y="1673"/>
                    </a:lnTo>
                    <a:lnTo>
                      <a:pt x="473" y="1679"/>
                    </a:lnTo>
                    <a:lnTo>
                      <a:pt x="485" y="1679"/>
                    </a:lnTo>
                    <a:lnTo>
                      <a:pt x="473" y="1662"/>
                    </a:lnTo>
                    <a:lnTo>
                      <a:pt x="473" y="1662"/>
                    </a:lnTo>
                    <a:lnTo>
                      <a:pt x="468" y="1656"/>
                    </a:lnTo>
                    <a:lnTo>
                      <a:pt x="456" y="1644"/>
                    </a:lnTo>
                    <a:lnTo>
                      <a:pt x="450" y="1650"/>
                    </a:lnTo>
                    <a:lnTo>
                      <a:pt x="462" y="1650"/>
                    </a:lnTo>
                    <a:lnTo>
                      <a:pt x="450" y="1633"/>
                    </a:lnTo>
                    <a:lnTo>
                      <a:pt x="439" y="1615"/>
                    </a:lnTo>
                    <a:lnTo>
                      <a:pt x="433" y="1598"/>
                    </a:lnTo>
                    <a:lnTo>
                      <a:pt x="422" y="1598"/>
                    </a:lnTo>
                    <a:lnTo>
                      <a:pt x="433" y="1598"/>
                    </a:lnTo>
                    <a:lnTo>
                      <a:pt x="433" y="1581"/>
                    </a:lnTo>
                    <a:lnTo>
                      <a:pt x="433" y="1558"/>
                    </a:lnTo>
                    <a:lnTo>
                      <a:pt x="433" y="1540"/>
                    </a:lnTo>
                    <a:lnTo>
                      <a:pt x="422" y="1540"/>
                    </a:lnTo>
                    <a:lnTo>
                      <a:pt x="433" y="1546"/>
                    </a:lnTo>
                    <a:lnTo>
                      <a:pt x="439" y="1529"/>
                    </a:lnTo>
                    <a:lnTo>
                      <a:pt x="445" y="1512"/>
                    </a:lnTo>
                    <a:lnTo>
                      <a:pt x="450" y="1500"/>
                    </a:lnTo>
                    <a:lnTo>
                      <a:pt x="462" y="1483"/>
                    </a:lnTo>
                    <a:lnTo>
                      <a:pt x="450" y="1477"/>
                    </a:lnTo>
                    <a:lnTo>
                      <a:pt x="456" y="1489"/>
                    </a:lnTo>
                    <a:lnTo>
                      <a:pt x="468" y="1483"/>
                    </a:lnTo>
                    <a:lnTo>
                      <a:pt x="468" y="1483"/>
                    </a:lnTo>
                    <a:lnTo>
                      <a:pt x="468" y="1477"/>
                    </a:lnTo>
                    <a:lnTo>
                      <a:pt x="479" y="1465"/>
                    </a:lnTo>
                    <a:lnTo>
                      <a:pt x="485" y="1465"/>
                    </a:lnTo>
                    <a:lnTo>
                      <a:pt x="485" y="1465"/>
                    </a:lnTo>
                    <a:lnTo>
                      <a:pt x="491" y="1454"/>
                    </a:lnTo>
                    <a:lnTo>
                      <a:pt x="497" y="1442"/>
                    </a:lnTo>
                    <a:lnTo>
                      <a:pt x="497" y="1442"/>
                    </a:lnTo>
                    <a:lnTo>
                      <a:pt x="497" y="1437"/>
                    </a:lnTo>
                    <a:lnTo>
                      <a:pt x="497" y="1425"/>
                    </a:lnTo>
                    <a:lnTo>
                      <a:pt x="497" y="1414"/>
                    </a:lnTo>
                    <a:lnTo>
                      <a:pt x="497" y="1402"/>
                    </a:lnTo>
                    <a:lnTo>
                      <a:pt x="497" y="1390"/>
                    </a:lnTo>
                    <a:lnTo>
                      <a:pt x="497" y="1390"/>
                    </a:lnTo>
                    <a:lnTo>
                      <a:pt x="497" y="1390"/>
                    </a:lnTo>
                    <a:lnTo>
                      <a:pt x="491" y="1379"/>
                    </a:lnTo>
                    <a:lnTo>
                      <a:pt x="491" y="1379"/>
                    </a:lnTo>
                    <a:lnTo>
                      <a:pt x="485" y="1373"/>
                    </a:lnTo>
                    <a:lnTo>
                      <a:pt x="473" y="1362"/>
                    </a:lnTo>
                    <a:lnTo>
                      <a:pt x="462" y="1350"/>
                    </a:lnTo>
                    <a:lnTo>
                      <a:pt x="462" y="1350"/>
                    </a:lnTo>
                    <a:lnTo>
                      <a:pt x="462" y="1350"/>
                    </a:lnTo>
                    <a:lnTo>
                      <a:pt x="450" y="1344"/>
                    </a:lnTo>
                    <a:lnTo>
                      <a:pt x="433" y="1333"/>
                    </a:lnTo>
                    <a:lnTo>
                      <a:pt x="410" y="1321"/>
                    </a:lnTo>
                    <a:lnTo>
                      <a:pt x="410" y="1321"/>
                    </a:lnTo>
                    <a:lnTo>
                      <a:pt x="404" y="1321"/>
                    </a:lnTo>
                    <a:lnTo>
                      <a:pt x="381" y="1315"/>
                    </a:lnTo>
                    <a:lnTo>
                      <a:pt x="352" y="1310"/>
                    </a:lnTo>
                    <a:lnTo>
                      <a:pt x="323" y="1310"/>
                    </a:lnTo>
                    <a:lnTo>
                      <a:pt x="283" y="1304"/>
                    </a:lnTo>
                    <a:lnTo>
                      <a:pt x="243" y="1304"/>
                    </a:lnTo>
                    <a:lnTo>
                      <a:pt x="191" y="1310"/>
                    </a:lnTo>
                    <a:lnTo>
                      <a:pt x="139" y="1310"/>
                    </a:lnTo>
                    <a:lnTo>
                      <a:pt x="93" y="1315"/>
                    </a:lnTo>
                    <a:lnTo>
                      <a:pt x="52" y="1321"/>
                    </a:lnTo>
                    <a:lnTo>
                      <a:pt x="23" y="1327"/>
                    </a:lnTo>
                    <a:lnTo>
                      <a:pt x="23" y="1333"/>
                    </a:lnTo>
                    <a:lnTo>
                      <a:pt x="35" y="1333"/>
                    </a:lnTo>
                    <a:lnTo>
                      <a:pt x="29" y="1321"/>
                    </a:lnTo>
                    <a:lnTo>
                      <a:pt x="23" y="1304"/>
                    </a:lnTo>
                    <a:lnTo>
                      <a:pt x="12" y="1304"/>
                    </a:lnTo>
                    <a:lnTo>
                      <a:pt x="23" y="1304"/>
                    </a:lnTo>
                    <a:lnTo>
                      <a:pt x="23" y="1287"/>
                    </a:lnTo>
                    <a:lnTo>
                      <a:pt x="23" y="1287"/>
                    </a:lnTo>
                    <a:lnTo>
                      <a:pt x="23" y="1287"/>
                    </a:lnTo>
                    <a:lnTo>
                      <a:pt x="18" y="1269"/>
                    </a:lnTo>
                    <a:lnTo>
                      <a:pt x="6" y="1269"/>
                    </a:lnTo>
                    <a:lnTo>
                      <a:pt x="18" y="1269"/>
                    </a:lnTo>
                    <a:lnTo>
                      <a:pt x="18" y="1229"/>
                    </a:lnTo>
                    <a:lnTo>
                      <a:pt x="18" y="1183"/>
                    </a:lnTo>
                    <a:lnTo>
                      <a:pt x="18" y="1142"/>
                    </a:lnTo>
                    <a:lnTo>
                      <a:pt x="23" y="1102"/>
                    </a:lnTo>
                    <a:lnTo>
                      <a:pt x="29" y="1062"/>
                    </a:lnTo>
                    <a:lnTo>
                      <a:pt x="35" y="1027"/>
                    </a:lnTo>
                    <a:lnTo>
                      <a:pt x="35" y="1010"/>
                    </a:lnTo>
                    <a:lnTo>
                      <a:pt x="23" y="1010"/>
                    </a:lnTo>
                    <a:lnTo>
                      <a:pt x="35" y="1015"/>
                    </a:lnTo>
                    <a:lnTo>
                      <a:pt x="41" y="1004"/>
                    </a:lnTo>
                    <a:lnTo>
                      <a:pt x="46" y="992"/>
                    </a:lnTo>
                    <a:lnTo>
                      <a:pt x="35" y="987"/>
                    </a:lnTo>
                    <a:lnTo>
                      <a:pt x="41" y="998"/>
                    </a:lnTo>
                    <a:lnTo>
                      <a:pt x="52" y="992"/>
                    </a:lnTo>
                    <a:lnTo>
                      <a:pt x="64" y="987"/>
                    </a:lnTo>
                    <a:lnTo>
                      <a:pt x="75" y="981"/>
                    </a:lnTo>
                    <a:lnTo>
                      <a:pt x="70" y="969"/>
                    </a:lnTo>
                    <a:lnTo>
                      <a:pt x="70" y="981"/>
                    </a:lnTo>
                    <a:lnTo>
                      <a:pt x="81" y="981"/>
                    </a:lnTo>
                    <a:lnTo>
                      <a:pt x="93" y="981"/>
                    </a:lnTo>
                    <a:lnTo>
                      <a:pt x="104" y="981"/>
                    </a:lnTo>
                    <a:lnTo>
                      <a:pt x="104" y="969"/>
                    </a:lnTo>
                    <a:lnTo>
                      <a:pt x="104" y="981"/>
                    </a:lnTo>
                    <a:lnTo>
                      <a:pt x="116" y="987"/>
                    </a:lnTo>
                    <a:lnTo>
                      <a:pt x="127" y="992"/>
                    </a:lnTo>
                    <a:lnTo>
                      <a:pt x="139" y="998"/>
                    </a:lnTo>
                    <a:lnTo>
                      <a:pt x="156" y="1004"/>
                    </a:lnTo>
                    <a:lnTo>
                      <a:pt x="168" y="1010"/>
                    </a:lnTo>
                    <a:lnTo>
                      <a:pt x="168" y="998"/>
                    </a:lnTo>
                    <a:lnTo>
                      <a:pt x="162" y="1004"/>
                    </a:lnTo>
                    <a:lnTo>
                      <a:pt x="173" y="1015"/>
                    </a:lnTo>
                    <a:lnTo>
                      <a:pt x="185" y="1027"/>
                    </a:lnTo>
                    <a:lnTo>
                      <a:pt x="196" y="1038"/>
                    </a:lnTo>
                    <a:lnTo>
                      <a:pt x="202" y="1044"/>
                    </a:lnTo>
                    <a:lnTo>
                      <a:pt x="202" y="1044"/>
                    </a:lnTo>
                    <a:lnTo>
                      <a:pt x="214" y="1050"/>
                    </a:lnTo>
                    <a:lnTo>
                      <a:pt x="225" y="1056"/>
                    </a:lnTo>
                    <a:lnTo>
                      <a:pt x="243" y="1062"/>
                    </a:lnTo>
                    <a:lnTo>
                      <a:pt x="260" y="1067"/>
                    </a:lnTo>
                    <a:lnTo>
                      <a:pt x="260" y="1067"/>
                    </a:lnTo>
                    <a:lnTo>
                      <a:pt x="260" y="1067"/>
                    </a:lnTo>
                    <a:lnTo>
                      <a:pt x="277" y="1067"/>
                    </a:lnTo>
                    <a:lnTo>
                      <a:pt x="295" y="1067"/>
                    </a:lnTo>
                    <a:lnTo>
                      <a:pt x="300" y="1067"/>
                    </a:lnTo>
                    <a:lnTo>
                      <a:pt x="300" y="1067"/>
                    </a:lnTo>
                    <a:lnTo>
                      <a:pt x="312" y="1062"/>
                    </a:lnTo>
                    <a:lnTo>
                      <a:pt x="329" y="1056"/>
                    </a:lnTo>
                    <a:lnTo>
                      <a:pt x="346" y="1050"/>
                    </a:lnTo>
                    <a:lnTo>
                      <a:pt x="346" y="1050"/>
                    </a:lnTo>
                    <a:lnTo>
                      <a:pt x="346" y="1044"/>
                    </a:lnTo>
                    <a:lnTo>
                      <a:pt x="358" y="1033"/>
                    </a:lnTo>
                    <a:lnTo>
                      <a:pt x="370" y="1021"/>
                    </a:lnTo>
                    <a:lnTo>
                      <a:pt x="375" y="1021"/>
                    </a:lnTo>
                    <a:lnTo>
                      <a:pt x="375" y="1021"/>
                    </a:lnTo>
                    <a:lnTo>
                      <a:pt x="387" y="1004"/>
                    </a:lnTo>
                    <a:lnTo>
                      <a:pt x="375" y="998"/>
                    </a:lnTo>
                    <a:lnTo>
                      <a:pt x="381" y="1004"/>
                    </a:lnTo>
                    <a:lnTo>
                      <a:pt x="393" y="992"/>
                    </a:lnTo>
                    <a:lnTo>
                      <a:pt x="398" y="992"/>
                    </a:lnTo>
                    <a:lnTo>
                      <a:pt x="398" y="992"/>
                    </a:lnTo>
                    <a:lnTo>
                      <a:pt x="404" y="969"/>
                    </a:lnTo>
                    <a:lnTo>
                      <a:pt x="410" y="952"/>
                    </a:lnTo>
                    <a:lnTo>
                      <a:pt x="410" y="952"/>
                    </a:lnTo>
                    <a:lnTo>
                      <a:pt x="410" y="946"/>
                    </a:lnTo>
                    <a:lnTo>
                      <a:pt x="410" y="935"/>
                    </a:lnTo>
                    <a:lnTo>
                      <a:pt x="410" y="923"/>
                    </a:lnTo>
                    <a:lnTo>
                      <a:pt x="410" y="912"/>
                    </a:lnTo>
                    <a:lnTo>
                      <a:pt x="410" y="900"/>
                    </a:lnTo>
                    <a:lnTo>
                      <a:pt x="410" y="900"/>
                    </a:lnTo>
                    <a:lnTo>
                      <a:pt x="404" y="894"/>
                    </a:lnTo>
                    <a:lnTo>
                      <a:pt x="398" y="888"/>
                    </a:lnTo>
                    <a:lnTo>
                      <a:pt x="393" y="894"/>
                    </a:lnTo>
                    <a:lnTo>
                      <a:pt x="404" y="894"/>
                    </a:lnTo>
                    <a:lnTo>
                      <a:pt x="398" y="883"/>
                    </a:lnTo>
                    <a:lnTo>
                      <a:pt x="398" y="883"/>
                    </a:lnTo>
                    <a:lnTo>
                      <a:pt x="393" y="877"/>
                    </a:lnTo>
                    <a:lnTo>
                      <a:pt x="387" y="871"/>
                    </a:lnTo>
                    <a:lnTo>
                      <a:pt x="381" y="877"/>
                    </a:lnTo>
                    <a:lnTo>
                      <a:pt x="393" y="877"/>
                    </a:lnTo>
                    <a:lnTo>
                      <a:pt x="393" y="865"/>
                    </a:lnTo>
                    <a:lnTo>
                      <a:pt x="393" y="865"/>
                    </a:lnTo>
                    <a:lnTo>
                      <a:pt x="393" y="865"/>
                    </a:lnTo>
                    <a:lnTo>
                      <a:pt x="381" y="848"/>
                    </a:lnTo>
                    <a:lnTo>
                      <a:pt x="375" y="842"/>
                    </a:lnTo>
                    <a:lnTo>
                      <a:pt x="375" y="842"/>
                    </a:lnTo>
                    <a:lnTo>
                      <a:pt x="358" y="831"/>
                    </a:lnTo>
                    <a:lnTo>
                      <a:pt x="341" y="819"/>
                    </a:lnTo>
                    <a:lnTo>
                      <a:pt x="323" y="808"/>
                    </a:lnTo>
                    <a:lnTo>
                      <a:pt x="306" y="802"/>
                    </a:lnTo>
                    <a:lnTo>
                      <a:pt x="289" y="796"/>
                    </a:lnTo>
                    <a:lnTo>
                      <a:pt x="289" y="796"/>
                    </a:lnTo>
                    <a:lnTo>
                      <a:pt x="283" y="796"/>
                    </a:lnTo>
                    <a:lnTo>
                      <a:pt x="260" y="796"/>
                    </a:lnTo>
                    <a:lnTo>
                      <a:pt x="243" y="796"/>
                    </a:lnTo>
                    <a:lnTo>
                      <a:pt x="243" y="796"/>
                    </a:lnTo>
                    <a:lnTo>
                      <a:pt x="243" y="796"/>
                    </a:lnTo>
                    <a:lnTo>
                      <a:pt x="225" y="802"/>
                    </a:lnTo>
                    <a:lnTo>
                      <a:pt x="208" y="808"/>
                    </a:lnTo>
                    <a:lnTo>
                      <a:pt x="208" y="808"/>
                    </a:lnTo>
                    <a:lnTo>
                      <a:pt x="202" y="808"/>
                    </a:lnTo>
                    <a:lnTo>
                      <a:pt x="196" y="813"/>
                    </a:lnTo>
                    <a:lnTo>
                      <a:pt x="202" y="819"/>
                    </a:lnTo>
                    <a:lnTo>
                      <a:pt x="202" y="813"/>
                    </a:lnTo>
                    <a:lnTo>
                      <a:pt x="196" y="813"/>
                    </a:lnTo>
                    <a:lnTo>
                      <a:pt x="191" y="813"/>
                    </a:lnTo>
                    <a:lnTo>
                      <a:pt x="191" y="819"/>
                    </a:lnTo>
                    <a:lnTo>
                      <a:pt x="185" y="831"/>
                    </a:lnTo>
                    <a:lnTo>
                      <a:pt x="191" y="831"/>
                    </a:lnTo>
                    <a:lnTo>
                      <a:pt x="185" y="825"/>
                    </a:lnTo>
                    <a:lnTo>
                      <a:pt x="179" y="8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6256440" y="3657600"/>
              <a:ext cx="2430360" cy="2055960"/>
              <a:chOff x="6256440" y="3657600"/>
              <a:chExt cx="2430360" cy="2055960"/>
            </a:xfrm>
          </p:grpSpPr>
          <p:sp>
            <p:nvSpPr>
              <p:cNvPr id="121" name=""/>
              <p:cNvSpPr/>
              <p:nvPr/>
            </p:nvSpPr>
            <p:spPr>
              <a:xfrm>
                <a:off x="6264720" y="3666960"/>
                <a:ext cx="2404800" cy="2027880"/>
              </a:xfrm>
              <a:custGeom>
                <a:avLst/>
                <a:gdLst/>
                <a:ahLst/>
                <a:rect l="l" t="t" r="r" b="b"/>
                <a:pathLst>
                  <a:path w="1708" h="1321">
                    <a:moveTo>
                      <a:pt x="335" y="756"/>
                    </a:moveTo>
                    <a:lnTo>
                      <a:pt x="329" y="762"/>
                    </a:lnTo>
                    <a:lnTo>
                      <a:pt x="317" y="767"/>
                    </a:lnTo>
                    <a:lnTo>
                      <a:pt x="306" y="773"/>
                    </a:lnTo>
                    <a:lnTo>
                      <a:pt x="300" y="779"/>
                    </a:lnTo>
                    <a:lnTo>
                      <a:pt x="288" y="779"/>
                    </a:lnTo>
                    <a:lnTo>
                      <a:pt x="277" y="779"/>
                    </a:lnTo>
                    <a:lnTo>
                      <a:pt x="271" y="773"/>
                    </a:lnTo>
                    <a:lnTo>
                      <a:pt x="260" y="773"/>
                    </a:lnTo>
                    <a:lnTo>
                      <a:pt x="236" y="762"/>
                    </a:lnTo>
                    <a:lnTo>
                      <a:pt x="219" y="756"/>
                    </a:lnTo>
                    <a:lnTo>
                      <a:pt x="202" y="744"/>
                    </a:lnTo>
                    <a:lnTo>
                      <a:pt x="179" y="733"/>
                    </a:lnTo>
                    <a:lnTo>
                      <a:pt x="161" y="721"/>
                    </a:lnTo>
                    <a:lnTo>
                      <a:pt x="138" y="715"/>
                    </a:lnTo>
                    <a:lnTo>
                      <a:pt x="127" y="715"/>
                    </a:lnTo>
                    <a:lnTo>
                      <a:pt x="121" y="710"/>
                    </a:lnTo>
                    <a:lnTo>
                      <a:pt x="110" y="710"/>
                    </a:lnTo>
                    <a:lnTo>
                      <a:pt x="98" y="710"/>
                    </a:lnTo>
                    <a:lnTo>
                      <a:pt x="86" y="715"/>
                    </a:lnTo>
                    <a:lnTo>
                      <a:pt x="75" y="715"/>
                    </a:lnTo>
                    <a:lnTo>
                      <a:pt x="63" y="721"/>
                    </a:lnTo>
                    <a:lnTo>
                      <a:pt x="58" y="733"/>
                    </a:lnTo>
                    <a:lnTo>
                      <a:pt x="46" y="739"/>
                    </a:lnTo>
                    <a:lnTo>
                      <a:pt x="35" y="750"/>
                    </a:lnTo>
                    <a:lnTo>
                      <a:pt x="23" y="767"/>
                    </a:lnTo>
                    <a:lnTo>
                      <a:pt x="11" y="785"/>
                    </a:lnTo>
                    <a:lnTo>
                      <a:pt x="6" y="790"/>
                    </a:lnTo>
                    <a:lnTo>
                      <a:pt x="0" y="802"/>
                    </a:lnTo>
                    <a:lnTo>
                      <a:pt x="0" y="819"/>
                    </a:lnTo>
                    <a:lnTo>
                      <a:pt x="0" y="837"/>
                    </a:lnTo>
                    <a:lnTo>
                      <a:pt x="0" y="848"/>
                    </a:lnTo>
                    <a:lnTo>
                      <a:pt x="6" y="865"/>
                    </a:lnTo>
                    <a:lnTo>
                      <a:pt x="17" y="883"/>
                    </a:lnTo>
                    <a:lnTo>
                      <a:pt x="23" y="894"/>
                    </a:lnTo>
                    <a:lnTo>
                      <a:pt x="35" y="912"/>
                    </a:lnTo>
                    <a:lnTo>
                      <a:pt x="52" y="923"/>
                    </a:lnTo>
                    <a:lnTo>
                      <a:pt x="58" y="923"/>
                    </a:lnTo>
                    <a:lnTo>
                      <a:pt x="63" y="929"/>
                    </a:lnTo>
                    <a:lnTo>
                      <a:pt x="75" y="935"/>
                    </a:lnTo>
                    <a:lnTo>
                      <a:pt x="86" y="935"/>
                    </a:lnTo>
                    <a:lnTo>
                      <a:pt x="98" y="940"/>
                    </a:lnTo>
                    <a:lnTo>
                      <a:pt x="110" y="940"/>
                    </a:lnTo>
                    <a:lnTo>
                      <a:pt x="121" y="940"/>
                    </a:lnTo>
                    <a:lnTo>
                      <a:pt x="133" y="940"/>
                    </a:lnTo>
                    <a:lnTo>
                      <a:pt x="150" y="940"/>
                    </a:lnTo>
                    <a:lnTo>
                      <a:pt x="161" y="935"/>
                    </a:lnTo>
                    <a:lnTo>
                      <a:pt x="173" y="935"/>
                    </a:lnTo>
                    <a:lnTo>
                      <a:pt x="190" y="929"/>
                    </a:lnTo>
                    <a:lnTo>
                      <a:pt x="219" y="917"/>
                    </a:lnTo>
                    <a:lnTo>
                      <a:pt x="236" y="912"/>
                    </a:lnTo>
                    <a:lnTo>
                      <a:pt x="260" y="906"/>
                    </a:lnTo>
                    <a:lnTo>
                      <a:pt x="277" y="906"/>
                    </a:lnTo>
                    <a:lnTo>
                      <a:pt x="288" y="906"/>
                    </a:lnTo>
                    <a:lnTo>
                      <a:pt x="294" y="912"/>
                    </a:lnTo>
                    <a:lnTo>
                      <a:pt x="300" y="912"/>
                    </a:lnTo>
                    <a:lnTo>
                      <a:pt x="311" y="917"/>
                    </a:lnTo>
                    <a:lnTo>
                      <a:pt x="317" y="923"/>
                    </a:lnTo>
                    <a:lnTo>
                      <a:pt x="323" y="935"/>
                    </a:lnTo>
                    <a:lnTo>
                      <a:pt x="329" y="940"/>
                    </a:lnTo>
                    <a:lnTo>
                      <a:pt x="335" y="958"/>
                    </a:lnTo>
                    <a:lnTo>
                      <a:pt x="340" y="969"/>
                    </a:lnTo>
                    <a:lnTo>
                      <a:pt x="346" y="987"/>
                    </a:lnTo>
                    <a:lnTo>
                      <a:pt x="352" y="1004"/>
                    </a:lnTo>
                    <a:lnTo>
                      <a:pt x="358" y="1021"/>
                    </a:lnTo>
                    <a:lnTo>
                      <a:pt x="358" y="1044"/>
                    </a:lnTo>
                    <a:lnTo>
                      <a:pt x="363" y="1067"/>
                    </a:lnTo>
                    <a:lnTo>
                      <a:pt x="363" y="1091"/>
                    </a:lnTo>
                    <a:lnTo>
                      <a:pt x="363" y="1114"/>
                    </a:lnTo>
                    <a:lnTo>
                      <a:pt x="363" y="1137"/>
                    </a:lnTo>
                    <a:lnTo>
                      <a:pt x="363" y="1160"/>
                    </a:lnTo>
                    <a:lnTo>
                      <a:pt x="358" y="1183"/>
                    </a:lnTo>
                    <a:lnTo>
                      <a:pt x="358" y="1206"/>
                    </a:lnTo>
                    <a:lnTo>
                      <a:pt x="352" y="1229"/>
                    </a:lnTo>
                    <a:lnTo>
                      <a:pt x="346" y="1252"/>
                    </a:lnTo>
                    <a:lnTo>
                      <a:pt x="340" y="1275"/>
                    </a:lnTo>
                    <a:lnTo>
                      <a:pt x="335" y="1292"/>
                    </a:lnTo>
                    <a:lnTo>
                      <a:pt x="375" y="1292"/>
                    </a:lnTo>
                    <a:lnTo>
                      <a:pt x="415" y="1292"/>
                    </a:lnTo>
                    <a:lnTo>
                      <a:pt x="456" y="1292"/>
                    </a:lnTo>
                    <a:lnTo>
                      <a:pt x="490" y="1292"/>
                    </a:lnTo>
                    <a:lnTo>
                      <a:pt x="525" y="1292"/>
                    </a:lnTo>
                    <a:lnTo>
                      <a:pt x="560" y="1292"/>
                    </a:lnTo>
                    <a:lnTo>
                      <a:pt x="588" y="1292"/>
                    </a:lnTo>
                    <a:lnTo>
                      <a:pt x="606" y="1292"/>
                    </a:lnTo>
                    <a:lnTo>
                      <a:pt x="635" y="1287"/>
                    </a:lnTo>
                    <a:lnTo>
                      <a:pt x="658" y="1281"/>
                    </a:lnTo>
                    <a:lnTo>
                      <a:pt x="675" y="1264"/>
                    </a:lnTo>
                    <a:lnTo>
                      <a:pt x="698" y="1252"/>
                    </a:lnTo>
                    <a:lnTo>
                      <a:pt x="710" y="1241"/>
                    </a:lnTo>
                    <a:lnTo>
                      <a:pt x="721" y="1229"/>
                    </a:lnTo>
                    <a:lnTo>
                      <a:pt x="733" y="1212"/>
                    </a:lnTo>
                    <a:lnTo>
                      <a:pt x="739" y="1194"/>
                    </a:lnTo>
                    <a:lnTo>
                      <a:pt x="744" y="1177"/>
                    </a:lnTo>
                    <a:lnTo>
                      <a:pt x="744" y="1166"/>
                    </a:lnTo>
                    <a:lnTo>
                      <a:pt x="744" y="1148"/>
                    </a:lnTo>
                    <a:lnTo>
                      <a:pt x="744" y="1131"/>
                    </a:lnTo>
                    <a:lnTo>
                      <a:pt x="739" y="1114"/>
                    </a:lnTo>
                    <a:lnTo>
                      <a:pt x="727" y="1102"/>
                    </a:lnTo>
                    <a:lnTo>
                      <a:pt x="721" y="1085"/>
                    </a:lnTo>
                    <a:lnTo>
                      <a:pt x="704" y="1073"/>
                    </a:lnTo>
                    <a:lnTo>
                      <a:pt x="692" y="1056"/>
                    </a:lnTo>
                    <a:lnTo>
                      <a:pt x="681" y="1044"/>
                    </a:lnTo>
                    <a:lnTo>
                      <a:pt x="675" y="1027"/>
                    </a:lnTo>
                    <a:lnTo>
                      <a:pt x="669" y="1010"/>
                    </a:lnTo>
                    <a:lnTo>
                      <a:pt x="669" y="987"/>
                    </a:lnTo>
                    <a:lnTo>
                      <a:pt x="669" y="969"/>
                    </a:lnTo>
                    <a:lnTo>
                      <a:pt x="669" y="952"/>
                    </a:lnTo>
                    <a:lnTo>
                      <a:pt x="675" y="935"/>
                    </a:lnTo>
                    <a:lnTo>
                      <a:pt x="681" y="917"/>
                    </a:lnTo>
                    <a:lnTo>
                      <a:pt x="692" y="900"/>
                    </a:lnTo>
                    <a:lnTo>
                      <a:pt x="704" y="894"/>
                    </a:lnTo>
                    <a:lnTo>
                      <a:pt x="710" y="883"/>
                    </a:lnTo>
                    <a:lnTo>
                      <a:pt x="715" y="877"/>
                    </a:lnTo>
                    <a:lnTo>
                      <a:pt x="727" y="877"/>
                    </a:lnTo>
                    <a:lnTo>
                      <a:pt x="733" y="871"/>
                    </a:lnTo>
                    <a:lnTo>
                      <a:pt x="744" y="865"/>
                    </a:lnTo>
                    <a:lnTo>
                      <a:pt x="756" y="860"/>
                    </a:lnTo>
                    <a:lnTo>
                      <a:pt x="767" y="854"/>
                    </a:lnTo>
                    <a:lnTo>
                      <a:pt x="779" y="854"/>
                    </a:lnTo>
                    <a:lnTo>
                      <a:pt x="796" y="848"/>
                    </a:lnTo>
                    <a:lnTo>
                      <a:pt x="814" y="848"/>
                    </a:lnTo>
                    <a:lnTo>
                      <a:pt x="825" y="848"/>
                    </a:lnTo>
                    <a:lnTo>
                      <a:pt x="842" y="848"/>
                    </a:lnTo>
                    <a:lnTo>
                      <a:pt x="860" y="848"/>
                    </a:lnTo>
                    <a:lnTo>
                      <a:pt x="871" y="854"/>
                    </a:lnTo>
                    <a:lnTo>
                      <a:pt x="889" y="860"/>
                    </a:lnTo>
                    <a:lnTo>
                      <a:pt x="900" y="860"/>
                    </a:lnTo>
                    <a:lnTo>
                      <a:pt x="912" y="865"/>
                    </a:lnTo>
                    <a:lnTo>
                      <a:pt x="917" y="871"/>
                    </a:lnTo>
                    <a:lnTo>
                      <a:pt x="929" y="877"/>
                    </a:lnTo>
                    <a:lnTo>
                      <a:pt x="940" y="883"/>
                    </a:lnTo>
                    <a:lnTo>
                      <a:pt x="946" y="894"/>
                    </a:lnTo>
                    <a:lnTo>
                      <a:pt x="952" y="900"/>
                    </a:lnTo>
                    <a:lnTo>
                      <a:pt x="958" y="912"/>
                    </a:lnTo>
                    <a:lnTo>
                      <a:pt x="964" y="929"/>
                    </a:lnTo>
                    <a:lnTo>
                      <a:pt x="969" y="946"/>
                    </a:lnTo>
                    <a:lnTo>
                      <a:pt x="969" y="969"/>
                    </a:lnTo>
                    <a:lnTo>
                      <a:pt x="969" y="987"/>
                    </a:lnTo>
                    <a:lnTo>
                      <a:pt x="969" y="1010"/>
                    </a:lnTo>
                    <a:lnTo>
                      <a:pt x="964" y="1027"/>
                    </a:lnTo>
                    <a:lnTo>
                      <a:pt x="958" y="1044"/>
                    </a:lnTo>
                    <a:lnTo>
                      <a:pt x="952" y="1062"/>
                    </a:lnTo>
                    <a:lnTo>
                      <a:pt x="940" y="1073"/>
                    </a:lnTo>
                    <a:lnTo>
                      <a:pt x="929" y="1085"/>
                    </a:lnTo>
                    <a:lnTo>
                      <a:pt x="917" y="1091"/>
                    </a:lnTo>
                    <a:lnTo>
                      <a:pt x="906" y="1102"/>
                    </a:lnTo>
                    <a:lnTo>
                      <a:pt x="900" y="1114"/>
                    </a:lnTo>
                    <a:lnTo>
                      <a:pt x="894" y="1131"/>
                    </a:lnTo>
                    <a:lnTo>
                      <a:pt x="889" y="1142"/>
                    </a:lnTo>
                    <a:lnTo>
                      <a:pt x="889" y="1154"/>
                    </a:lnTo>
                    <a:lnTo>
                      <a:pt x="883" y="1171"/>
                    </a:lnTo>
                    <a:lnTo>
                      <a:pt x="883" y="1189"/>
                    </a:lnTo>
                    <a:lnTo>
                      <a:pt x="889" y="1200"/>
                    </a:lnTo>
                    <a:lnTo>
                      <a:pt x="894" y="1217"/>
                    </a:lnTo>
                    <a:lnTo>
                      <a:pt x="900" y="1235"/>
                    </a:lnTo>
                    <a:lnTo>
                      <a:pt x="912" y="1246"/>
                    </a:lnTo>
                    <a:lnTo>
                      <a:pt x="923" y="1264"/>
                    </a:lnTo>
                    <a:lnTo>
                      <a:pt x="940" y="1275"/>
                    </a:lnTo>
                    <a:lnTo>
                      <a:pt x="958" y="1287"/>
                    </a:lnTo>
                    <a:lnTo>
                      <a:pt x="981" y="1292"/>
                    </a:lnTo>
                    <a:lnTo>
                      <a:pt x="992" y="1298"/>
                    </a:lnTo>
                    <a:lnTo>
                      <a:pt x="1016" y="1304"/>
                    </a:lnTo>
                    <a:lnTo>
                      <a:pt x="1056" y="1310"/>
                    </a:lnTo>
                    <a:lnTo>
                      <a:pt x="1102" y="1316"/>
                    </a:lnTo>
                    <a:lnTo>
                      <a:pt x="1131" y="1316"/>
                    </a:lnTo>
                    <a:lnTo>
                      <a:pt x="1160" y="1321"/>
                    </a:lnTo>
                    <a:lnTo>
                      <a:pt x="1189" y="1321"/>
                    </a:lnTo>
                    <a:lnTo>
                      <a:pt x="1217" y="1321"/>
                    </a:lnTo>
                    <a:lnTo>
                      <a:pt x="1246" y="1321"/>
                    </a:lnTo>
                    <a:lnTo>
                      <a:pt x="1281" y="1321"/>
                    </a:lnTo>
                    <a:lnTo>
                      <a:pt x="1304" y="1316"/>
                    </a:lnTo>
                    <a:lnTo>
                      <a:pt x="1333" y="1310"/>
                    </a:lnTo>
                    <a:lnTo>
                      <a:pt x="1333" y="1298"/>
                    </a:lnTo>
                    <a:lnTo>
                      <a:pt x="1327" y="1281"/>
                    </a:lnTo>
                    <a:lnTo>
                      <a:pt x="1321" y="1264"/>
                    </a:lnTo>
                    <a:lnTo>
                      <a:pt x="1321" y="1246"/>
                    </a:lnTo>
                    <a:lnTo>
                      <a:pt x="1321" y="1206"/>
                    </a:lnTo>
                    <a:lnTo>
                      <a:pt x="1321" y="1166"/>
                    </a:lnTo>
                    <a:lnTo>
                      <a:pt x="1321" y="1119"/>
                    </a:lnTo>
                    <a:lnTo>
                      <a:pt x="1327" y="1079"/>
                    </a:lnTo>
                    <a:lnTo>
                      <a:pt x="1333" y="1039"/>
                    </a:lnTo>
                    <a:lnTo>
                      <a:pt x="1333" y="1004"/>
                    </a:lnTo>
                    <a:lnTo>
                      <a:pt x="1339" y="987"/>
                    </a:lnTo>
                    <a:lnTo>
                      <a:pt x="1344" y="975"/>
                    </a:lnTo>
                    <a:lnTo>
                      <a:pt x="1350" y="964"/>
                    </a:lnTo>
                    <a:lnTo>
                      <a:pt x="1362" y="958"/>
                    </a:lnTo>
                    <a:lnTo>
                      <a:pt x="1368" y="952"/>
                    </a:lnTo>
                    <a:lnTo>
                      <a:pt x="1379" y="946"/>
                    </a:lnTo>
                    <a:lnTo>
                      <a:pt x="1391" y="946"/>
                    </a:lnTo>
                    <a:lnTo>
                      <a:pt x="1402" y="946"/>
                    </a:lnTo>
                    <a:lnTo>
                      <a:pt x="1414" y="946"/>
                    </a:lnTo>
                    <a:lnTo>
                      <a:pt x="1431" y="952"/>
                    </a:lnTo>
                    <a:lnTo>
                      <a:pt x="1443" y="958"/>
                    </a:lnTo>
                    <a:lnTo>
                      <a:pt x="1454" y="964"/>
                    </a:lnTo>
                    <a:lnTo>
                      <a:pt x="1466" y="969"/>
                    </a:lnTo>
                    <a:lnTo>
                      <a:pt x="1477" y="975"/>
                    </a:lnTo>
                    <a:lnTo>
                      <a:pt x="1494" y="987"/>
                    </a:lnTo>
                    <a:lnTo>
                      <a:pt x="1500" y="998"/>
                    </a:lnTo>
                    <a:lnTo>
                      <a:pt x="1512" y="1010"/>
                    </a:lnTo>
                    <a:lnTo>
                      <a:pt x="1523" y="1015"/>
                    </a:lnTo>
                    <a:lnTo>
                      <a:pt x="1541" y="1021"/>
                    </a:lnTo>
                    <a:lnTo>
                      <a:pt x="1558" y="1027"/>
                    </a:lnTo>
                    <a:lnTo>
                      <a:pt x="1569" y="1027"/>
                    </a:lnTo>
                    <a:lnTo>
                      <a:pt x="1587" y="1033"/>
                    </a:lnTo>
                    <a:lnTo>
                      <a:pt x="1604" y="1027"/>
                    </a:lnTo>
                    <a:lnTo>
                      <a:pt x="1621" y="1027"/>
                    </a:lnTo>
                    <a:lnTo>
                      <a:pt x="1633" y="1021"/>
                    </a:lnTo>
                    <a:lnTo>
                      <a:pt x="1650" y="1015"/>
                    </a:lnTo>
                    <a:lnTo>
                      <a:pt x="1662" y="1004"/>
                    </a:lnTo>
                    <a:lnTo>
                      <a:pt x="1673" y="992"/>
                    </a:lnTo>
                    <a:lnTo>
                      <a:pt x="1685" y="981"/>
                    </a:lnTo>
                    <a:lnTo>
                      <a:pt x="1696" y="964"/>
                    </a:lnTo>
                    <a:lnTo>
                      <a:pt x="1702" y="946"/>
                    </a:lnTo>
                    <a:lnTo>
                      <a:pt x="1708" y="923"/>
                    </a:lnTo>
                    <a:lnTo>
                      <a:pt x="1708" y="912"/>
                    </a:lnTo>
                    <a:lnTo>
                      <a:pt x="1708" y="900"/>
                    </a:lnTo>
                    <a:lnTo>
                      <a:pt x="1708" y="889"/>
                    </a:lnTo>
                    <a:lnTo>
                      <a:pt x="1708" y="877"/>
                    </a:lnTo>
                    <a:lnTo>
                      <a:pt x="1702" y="871"/>
                    </a:lnTo>
                    <a:lnTo>
                      <a:pt x="1696" y="860"/>
                    </a:lnTo>
                    <a:lnTo>
                      <a:pt x="1696" y="848"/>
                    </a:lnTo>
                    <a:lnTo>
                      <a:pt x="1691" y="842"/>
                    </a:lnTo>
                    <a:lnTo>
                      <a:pt x="1679" y="825"/>
                    </a:lnTo>
                    <a:lnTo>
                      <a:pt x="1662" y="814"/>
                    </a:lnTo>
                    <a:lnTo>
                      <a:pt x="1645" y="802"/>
                    </a:lnTo>
                    <a:lnTo>
                      <a:pt x="1627" y="790"/>
                    </a:lnTo>
                    <a:lnTo>
                      <a:pt x="1610" y="785"/>
                    </a:lnTo>
                    <a:lnTo>
                      <a:pt x="1593" y="779"/>
                    </a:lnTo>
                    <a:lnTo>
                      <a:pt x="1569" y="779"/>
                    </a:lnTo>
                    <a:lnTo>
                      <a:pt x="1552" y="779"/>
                    </a:lnTo>
                    <a:lnTo>
                      <a:pt x="1535" y="785"/>
                    </a:lnTo>
                    <a:lnTo>
                      <a:pt x="1518" y="790"/>
                    </a:lnTo>
                    <a:lnTo>
                      <a:pt x="1512" y="790"/>
                    </a:lnTo>
                    <a:lnTo>
                      <a:pt x="1506" y="796"/>
                    </a:lnTo>
                    <a:lnTo>
                      <a:pt x="1500" y="802"/>
                    </a:lnTo>
                    <a:lnTo>
                      <a:pt x="1494" y="814"/>
                    </a:lnTo>
                    <a:lnTo>
                      <a:pt x="1483" y="825"/>
                    </a:lnTo>
                    <a:lnTo>
                      <a:pt x="1471" y="837"/>
                    </a:lnTo>
                    <a:lnTo>
                      <a:pt x="1460" y="842"/>
                    </a:lnTo>
                    <a:lnTo>
                      <a:pt x="1448" y="848"/>
                    </a:lnTo>
                    <a:lnTo>
                      <a:pt x="1437" y="848"/>
                    </a:lnTo>
                    <a:lnTo>
                      <a:pt x="1419" y="848"/>
                    </a:lnTo>
                    <a:lnTo>
                      <a:pt x="1408" y="848"/>
                    </a:lnTo>
                    <a:lnTo>
                      <a:pt x="1396" y="842"/>
                    </a:lnTo>
                    <a:lnTo>
                      <a:pt x="1385" y="842"/>
                    </a:lnTo>
                    <a:lnTo>
                      <a:pt x="1373" y="837"/>
                    </a:lnTo>
                    <a:lnTo>
                      <a:pt x="1362" y="825"/>
                    </a:lnTo>
                    <a:lnTo>
                      <a:pt x="1350" y="819"/>
                    </a:lnTo>
                    <a:lnTo>
                      <a:pt x="1344" y="814"/>
                    </a:lnTo>
                    <a:lnTo>
                      <a:pt x="1339" y="802"/>
                    </a:lnTo>
                    <a:lnTo>
                      <a:pt x="1333" y="796"/>
                    </a:lnTo>
                    <a:lnTo>
                      <a:pt x="1333" y="785"/>
                    </a:lnTo>
                    <a:lnTo>
                      <a:pt x="1333" y="756"/>
                    </a:lnTo>
                    <a:lnTo>
                      <a:pt x="1333" y="715"/>
                    </a:lnTo>
                    <a:lnTo>
                      <a:pt x="1333" y="652"/>
                    </a:lnTo>
                    <a:lnTo>
                      <a:pt x="1333" y="589"/>
                    </a:lnTo>
                    <a:lnTo>
                      <a:pt x="1333" y="525"/>
                    </a:lnTo>
                    <a:lnTo>
                      <a:pt x="1333" y="456"/>
                    </a:lnTo>
                    <a:lnTo>
                      <a:pt x="1333" y="398"/>
                    </a:lnTo>
                    <a:lnTo>
                      <a:pt x="1333" y="352"/>
                    </a:lnTo>
                    <a:lnTo>
                      <a:pt x="1316" y="358"/>
                    </a:lnTo>
                    <a:lnTo>
                      <a:pt x="1298" y="369"/>
                    </a:lnTo>
                    <a:lnTo>
                      <a:pt x="1275" y="375"/>
                    </a:lnTo>
                    <a:lnTo>
                      <a:pt x="1252" y="381"/>
                    </a:lnTo>
                    <a:lnTo>
                      <a:pt x="1229" y="387"/>
                    </a:lnTo>
                    <a:lnTo>
                      <a:pt x="1206" y="387"/>
                    </a:lnTo>
                    <a:lnTo>
                      <a:pt x="1177" y="387"/>
                    </a:lnTo>
                    <a:lnTo>
                      <a:pt x="1148" y="387"/>
                    </a:lnTo>
                    <a:lnTo>
                      <a:pt x="1125" y="387"/>
                    </a:lnTo>
                    <a:lnTo>
                      <a:pt x="1096" y="387"/>
                    </a:lnTo>
                    <a:lnTo>
                      <a:pt x="1067" y="381"/>
                    </a:lnTo>
                    <a:lnTo>
                      <a:pt x="1044" y="375"/>
                    </a:lnTo>
                    <a:lnTo>
                      <a:pt x="1021" y="369"/>
                    </a:lnTo>
                    <a:lnTo>
                      <a:pt x="998" y="364"/>
                    </a:lnTo>
                    <a:lnTo>
                      <a:pt x="975" y="358"/>
                    </a:lnTo>
                    <a:lnTo>
                      <a:pt x="958" y="352"/>
                    </a:lnTo>
                    <a:lnTo>
                      <a:pt x="946" y="346"/>
                    </a:lnTo>
                    <a:lnTo>
                      <a:pt x="935" y="335"/>
                    </a:lnTo>
                    <a:lnTo>
                      <a:pt x="923" y="329"/>
                    </a:lnTo>
                    <a:lnTo>
                      <a:pt x="912" y="323"/>
                    </a:lnTo>
                    <a:lnTo>
                      <a:pt x="906" y="317"/>
                    </a:lnTo>
                    <a:lnTo>
                      <a:pt x="900" y="312"/>
                    </a:lnTo>
                    <a:lnTo>
                      <a:pt x="900" y="300"/>
                    </a:lnTo>
                    <a:lnTo>
                      <a:pt x="900" y="294"/>
                    </a:lnTo>
                    <a:lnTo>
                      <a:pt x="900" y="289"/>
                    </a:lnTo>
                    <a:lnTo>
                      <a:pt x="900" y="277"/>
                    </a:lnTo>
                    <a:lnTo>
                      <a:pt x="906" y="271"/>
                    </a:lnTo>
                    <a:lnTo>
                      <a:pt x="912" y="260"/>
                    </a:lnTo>
                    <a:lnTo>
                      <a:pt x="923" y="237"/>
                    </a:lnTo>
                    <a:lnTo>
                      <a:pt x="946" y="214"/>
                    </a:lnTo>
                    <a:lnTo>
                      <a:pt x="958" y="202"/>
                    </a:lnTo>
                    <a:lnTo>
                      <a:pt x="969" y="185"/>
                    </a:lnTo>
                    <a:lnTo>
                      <a:pt x="975" y="167"/>
                    </a:lnTo>
                    <a:lnTo>
                      <a:pt x="981" y="150"/>
                    </a:lnTo>
                    <a:lnTo>
                      <a:pt x="981" y="133"/>
                    </a:lnTo>
                    <a:lnTo>
                      <a:pt x="981" y="115"/>
                    </a:lnTo>
                    <a:lnTo>
                      <a:pt x="981" y="98"/>
                    </a:lnTo>
                    <a:lnTo>
                      <a:pt x="975" y="81"/>
                    </a:lnTo>
                    <a:lnTo>
                      <a:pt x="969" y="64"/>
                    </a:lnTo>
                    <a:lnTo>
                      <a:pt x="958" y="46"/>
                    </a:lnTo>
                    <a:lnTo>
                      <a:pt x="952" y="40"/>
                    </a:lnTo>
                    <a:lnTo>
                      <a:pt x="940" y="35"/>
                    </a:lnTo>
                    <a:lnTo>
                      <a:pt x="935" y="29"/>
                    </a:lnTo>
                    <a:lnTo>
                      <a:pt x="923" y="23"/>
                    </a:lnTo>
                    <a:lnTo>
                      <a:pt x="917" y="17"/>
                    </a:lnTo>
                    <a:lnTo>
                      <a:pt x="906" y="12"/>
                    </a:lnTo>
                    <a:lnTo>
                      <a:pt x="894" y="12"/>
                    </a:lnTo>
                    <a:lnTo>
                      <a:pt x="883" y="6"/>
                    </a:lnTo>
                    <a:lnTo>
                      <a:pt x="865" y="6"/>
                    </a:lnTo>
                    <a:lnTo>
                      <a:pt x="854" y="0"/>
                    </a:lnTo>
                    <a:lnTo>
                      <a:pt x="842" y="0"/>
                    </a:lnTo>
                    <a:lnTo>
                      <a:pt x="825" y="0"/>
                    </a:lnTo>
                    <a:lnTo>
                      <a:pt x="814" y="0"/>
                    </a:lnTo>
                    <a:lnTo>
                      <a:pt x="796" y="6"/>
                    </a:lnTo>
                    <a:lnTo>
                      <a:pt x="785" y="6"/>
                    </a:lnTo>
                    <a:lnTo>
                      <a:pt x="773" y="6"/>
                    </a:lnTo>
                    <a:lnTo>
                      <a:pt x="767" y="12"/>
                    </a:lnTo>
                    <a:lnTo>
                      <a:pt x="756" y="17"/>
                    </a:lnTo>
                    <a:lnTo>
                      <a:pt x="750" y="23"/>
                    </a:lnTo>
                    <a:lnTo>
                      <a:pt x="739" y="29"/>
                    </a:lnTo>
                    <a:lnTo>
                      <a:pt x="733" y="35"/>
                    </a:lnTo>
                    <a:lnTo>
                      <a:pt x="727" y="40"/>
                    </a:lnTo>
                    <a:lnTo>
                      <a:pt x="721" y="46"/>
                    </a:lnTo>
                    <a:lnTo>
                      <a:pt x="715" y="58"/>
                    </a:lnTo>
                    <a:lnTo>
                      <a:pt x="710" y="75"/>
                    </a:lnTo>
                    <a:lnTo>
                      <a:pt x="704" y="92"/>
                    </a:lnTo>
                    <a:lnTo>
                      <a:pt x="704" y="110"/>
                    </a:lnTo>
                    <a:lnTo>
                      <a:pt x="704" y="127"/>
                    </a:lnTo>
                    <a:lnTo>
                      <a:pt x="704" y="150"/>
                    </a:lnTo>
                    <a:lnTo>
                      <a:pt x="710" y="167"/>
                    </a:lnTo>
                    <a:lnTo>
                      <a:pt x="715" y="190"/>
                    </a:lnTo>
                    <a:lnTo>
                      <a:pt x="727" y="208"/>
                    </a:lnTo>
                    <a:lnTo>
                      <a:pt x="733" y="225"/>
                    </a:lnTo>
                    <a:lnTo>
                      <a:pt x="750" y="237"/>
                    </a:lnTo>
                    <a:lnTo>
                      <a:pt x="756" y="248"/>
                    </a:lnTo>
                    <a:lnTo>
                      <a:pt x="767" y="260"/>
                    </a:lnTo>
                    <a:lnTo>
                      <a:pt x="767" y="271"/>
                    </a:lnTo>
                    <a:lnTo>
                      <a:pt x="773" y="283"/>
                    </a:lnTo>
                    <a:lnTo>
                      <a:pt x="773" y="294"/>
                    </a:lnTo>
                    <a:lnTo>
                      <a:pt x="773" y="306"/>
                    </a:lnTo>
                    <a:lnTo>
                      <a:pt x="767" y="317"/>
                    </a:lnTo>
                    <a:lnTo>
                      <a:pt x="762" y="329"/>
                    </a:lnTo>
                    <a:lnTo>
                      <a:pt x="756" y="335"/>
                    </a:lnTo>
                    <a:lnTo>
                      <a:pt x="744" y="346"/>
                    </a:lnTo>
                    <a:lnTo>
                      <a:pt x="727" y="352"/>
                    </a:lnTo>
                    <a:lnTo>
                      <a:pt x="715" y="352"/>
                    </a:lnTo>
                    <a:lnTo>
                      <a:pt x="698" y="352"/>
                    </a:lnTo>
                    <a:lnTo>
                      <a:pt x="681" y="352"/>
                    </a:lnTo>
                    <a:lnTo>
                      <a:pt x="658" y="346"/>
                    </a:lnTo>
                    <a:lnTo>
                      <a:pt x="635" y="335"/>
                    </a:lnTo>
                    <a:lnTo>
                      <a:pt x="617" y="335"/>
                    </a:lnTo>
                    <a:lnTo>
                      <a:pt x="606" y="329"/>
                    </a:lnTo>
                    <a:lnTo>
                      <a:pt x="588" y="323"/>
                    </a:lnTo>
                    <a:lnTo>
                      <a:pt x="571" y="323"/>
                    </a:lnTo>
                    <a:lnTo>
                      <a:pt x="537" y="323"/>
                    </a:lnTo>
                    <a:lnTo>
                      <a:pt x="496" y="323"/>
                    </a:lnTo>
                    <a:lnTo>
                      <a:pt x="456" y="329"/>
                    </a:lnTo>
                    <a:lnTo>
                      <a:pt x="415" y="335"/>
                    </a:lnTo>
                    <a:lnTo>
                      <a:pt x="375" y="340"/>
                    </a:lnTo>
                    <a:lnTo>
                      <a:pt x="335" y="352"/>
                    </a:lnTo>
                    <a:lnTo>
                      <a:pt x="335" y="358"/>
                    </a:lnTo>
                    <a:lnTo>
                      <a:pt x="335" y="381"/>
                    </a:lnTo>
                    <a:lnTo>
                      <a:pt x="335" y="398"/>
                    </a:lnTo>
                    <a:lnTo>
                      <a:pt x="335" y="427"/>
                    </a:lnTo>
                    <a:lnTo>
                      <a:pt x="340" y="485"/>
                    </a:lnTo>
                    <a:lnTo>
                      <a:pt x="346" y="554"/>
                    </a:lnTo>
                    <a:lnTo>
                      <a:pt x="352" y="583"/>
                    </a:lnTo>
                    <a:lnTo>
                      <a:pt x="352" y="617"/>
                    </a:lnTo>
                    <a:lnTo>
                      <a:pt x="352" y="652"/>
                    </a:lnTo>
                    <a:lnTo>
                      <a:pt x="358" y="675"/>
                    </a:lnTo>
                    <a:lnTo>
                      <a:pt x="352" y="704"/>
                    </a:lnTo>
                    <a:lnTo>
                      <a:pt x="352" y="727"/>
                    </a:lnTo>
                    <a:lnTo>
                      <a:pt x="346" y="739"/>
                    </a:lnTo>
                    <a:lnTo>
                      <a:pt x="346" y="744"/>
                    </a:lnTo>
                    <a:lnTo>
                      <a:pt x="340" y="750"/>
                    </a:lnTo>
                    <a:lnTo>
                      <a:pt x="335" y="756"/>
                    </a:lnTo>
                    <a:close/>
                  </a:path>
                </a:pathLst>
              </a:custGeom>
              <a:solidFill>
                <a:srgbClr val="99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256440" y="3657600"/>
                <a:ext cx="2430360" cy="2055960"/>
              </a:xfrm>
              <a:custGeom>
                <a:avLst/>
                <a:gdLst/>
                <a:ahLst/>
                <a:rect l="l" t="t" r="r" b="b"/>
                <a:pathLst>
                  <a:path w="1726" h="1339">
                    <a:moveTo>
                      <a:pt x="329" y="762"/>
                    </a:moveTo>
                    <a:lnTo>
                      <a:pt x="335" y="768"/>
                    </a:lnTo>
                    <a:lnTo>
                      <a:pt x="335" y="762"/>
                    </a:lnTo>
                    <a:lnTo>
                      <a:pt x="323" y="768"/>
                    </a:lnTo>
                    <a:lnTo>
                      <a:pt x="312" y="773"/>
                    </a:lnTo>
                    <a:lnTo>
                      <a:pt x="312" y="773"/>
                    </a:lnTo>
                    <a:lnTo>
                      <a:pt x="306" y="773"/>
                    </a:lnTo>
                    <a:lnTo>
                      <a:pt x="300" y="779"/>
                    </a:lnTo>
                    <a:lnTo>
                      <a:pt x="306" y="785"/>
                    </a:lnTo>
                    <a:lnTo>
                      <a:pt x="306" y="779"/>
                    </a:lnTo>
                    <a:lnTo>
                      <a:pt x="294" y="779"/>
                    </a:lnTo>
                    <a:lnTo>
                      <a:pt x="283" y="779"/>
                    </a:lnTo>
                    <a:lnTo>
                      <a:pt x="283" y="785"/>
                    </a:lnTo>
                    <a:lnTo>
                      <a:pt x="289" y="779"/>
                    </a:lnTo>
                    <a:lnTo>
                      <a:pt x="283" y="773"/>
                    </a:lnTo>
                    <a:lnTo>
                      <a:pt x="283" y="773"/>
                    </a:lnTo>
                    <a:lnTo>
                      <a:pt x="277" y="773"/>
                    </a:lnTo>
                    <a:lnTo>
                      <a:pt x="266" y="773"/>
                    </a:lnTo>
                    <a:lnTo>
                      <a:pt x="266" y="779"/>
                    </a:lnTo>
                    <a:lnTo>
                      <a:pt x="271" y="773"/>
                    </a:lnTo>
                    <a:lnTo>
                      <a:pt x="248" y="762"/>
                    </a:lnTo>
                    <a:lnTo>
                      <a:pt x="231" y="756"/>
                    </a:lnTo>
                    <a:lnTo>
                      <a:pt x="214" y="745"/>
                    </a:lnTo>
                    <a:lnTo>
                      <a:pt x="191" y="733"/>
                    </a:lnTo>
                    <a:lnTo>
                      <a:pt x="173" y="721"/>
                    </a:lnTo>
                    <a:lnTo>
                      <a:pt x="173" y="721"/>
                    </a:lnTo>
                    <a:lnTo>
                      <a:pt x="167" y="721"/>
                    </a:lnTo>
                    <a:lnTo>
                      <a:pt x="144" y="716"/>
                    </a:lnTo>
                    <a:lnTo>
                      <a:pt x="133" y="716"/>
                    </a:lnTo>
                    <a:lnTo>
                      <a:pt x="133" y="721"/>
                    </a:lnTo>
                    <a:lnTo>
                      <a:pt x="139" y="716"/>
                    </a:lnTo>
                    <a:lnTo>
                      <a:pt x="133" y="710"/>
                    </a:lnTo>
                    <a:lnTo>
                      <a:pt x="133" y="710"/>
                    </a:lnTo>
                    <a:lnTo>
                      <a:pt x="127" y="710"/>
                    </a:lnTo>
                    <a:lnTo>
                      <a:pt x="116" y="710"/>
                    </a:lnTo>
                    <a:lnTo>
                      <a:pt x="104" y="710"/>
                    </a:lnTo>
                    <a:lnTo>
                      <a:pt x="104" y="710"/>
                    </a:lnTo>
                    <a:lnTo>
                      <a:pt x="104" y="710"/>
                    </a:lnTo>
                    <a:lnTo>
                      <a:pt x="92" y="716"/>
                    </a:lnTo>
                    <a:lnTo>
                      <a:pt x="92" y="721"/>
                    </a:lnTo>
                    <a:lnTo>
                      <a:pt x="92" y="716"/>
                    </a:lnTo>
                    <a:lnTo>
                      <a:pt x="81" y="716"/>
                    </a:lnTo>
                    <a:lnTo>
                      <a:pt x="81" y="716"/>
                    </a:lnTo>
                    <a:lnTo>
                      <a:pt x="81" y="716"/>
                    </a:lnTo>
                    <a:lnTo>
                      <a:pt x="69" y="721"/>
                    </a:lnTo>
                    <a:lnTo>
                      <a:pt x="64" y="721"/>
                    </a:lnTo>
                    <a:lnTo>
                      <a:pt x="64" y="727"/>
                    </a:lnTo>
                    <a:lnTo>
                      <a:pt x="58" y="739"/>
                    </a:lnTo>
                    <a:lnTo>
                      <a:pt x="64" y="739"/>
                    </a:lnTo>
                    <a:lnTo>
                      <a:pt x="64" y="733"/>
                    </a:lnTo>
                    <a:lnTo>
                      <a:pt x="52" y="739"/>
                    </a:lnTo>
                    <a:lnTo>
                      <a:pt x="52" y="739"/>
                    </a:lnTo>
                    <a:lnTo>
                      <a:pt x="46" y="739"/>
                    </a:lnTo>
                    <a:lnTo>
                      <a:pt x="35" y="750"/>
                    </a:lnTo>
                    <a:lnTo>
                      <a:pt x="35" y="756"/>
                    </a:lnTo>
                    <a:lnTo>
                      <a:pt x="35" y="756"/>
                    </a:lnTo>
                    <a:lnTo>
                      <a:pt x="23" y="773"/>
                    </a:lnTo>
                    <a:lnTo>
                      <a:pt x="12" y="791"/>
                    </a:lnTo>
                    <a:lnTo>
                      <a:pt x="17" y="791"/>
                    </a:lnTo>
                    <a:lnTo>
                      <a:pt x="12" y="785"/>
                    </a:lnTo>
                    <a:lnTo>
                      <a:pt x="6" y="791"/>
                    </a:lnTo>
                    <a:lnTo>
                      <a:pt x="6" y="796"/>
                    </a:lnTo>
                    <a:lnTo>
                      <a:pt x="6" y="796"/>
                    </a:lnTo>
                    <a:lnTo>
                      <a:pt x="0" y="808"/>
                    </a:lnTo>
                    <a:lnTo>
                      <a:pt x="0" y="808"/>
                    </a:lnTo>
                    <a:lnTo>
                      <a:pt x="0" y="808"/>
                    </a:lnTo>
                    <a:lnTo>
                      <a:pt x="0" y="825"/>
                    </a:lnTo>
                    <a:lnTo>
                      <a:pt x="0" y="843"/>
                    </a:lnTo>
                    <a:lnTo>
                      <a:pt x="0" y="854"/>
                    </a:lnTo>
                    <a:lnTo>
                      <a:pt x="0" y="860"/>
                    </a:lnTo>
                    <a:lnTo>
                      <a:pt x="0" y="860"/>
                    </a:lnTo>
                    <a:lnTo>
                      <a:pt x="6" y="877"/>
                    </a:lnTo>
                    <a:lnTo>
                      <a:pt x="17" y="895"/>
                    </a:lnTo>
                    <a:lnTo>
                      <a:pt x="23" y="906"/>
                    </a:lnTo>
                    <a:lnTo>
                      <a:pt x="35" y="923"/>
                    </a:lnTo>
                    <a:lnTo>
                      <a:pt x="35" y="923"/>
                    </a:lnTo>
                    <a:lnTo>
                      <a:pt x="41" y="929"/>
                    </a:lnTo>
                    <a:lnTo>
                      <a:pt x="58" y="941"/>
                    </a:lnTo>
                    <a:lnTo>
                      <a:pt x="58" y="941"/>
                    </a:lnTo>
                    <a:lnTo>
                      <a:pt x="58" y="941"/>
                    </a:lnTo>
                    <a:lnTo>
                      <a:pt x="64" y="941"/>
                    </a:lnTo>
                    <a:lnTo>
                      <a:pt x="64" y="929"/>
                    </a:lnTo>
                    <a:lnTo>
                      <a:pt x="58" y="935"/>
                    </a:lnTo>
                    <a:lnTo>
                      <a:pt x="64" y="941"/>
                    </a:lnTo>
                    <a:lnTo>
                      <a:pt x="69" y="946"/>
                    </a:lnTo>
                    <a:lnTo>
                      <a:pt x="69" y="946"/>
                    </a:lnTo>
                    <a:lnTo>
                      <a:pt x="81" y="952"/>
                    </a:lnTo>
                    <a:lnTo>
                      <a:pt x="81" y="952"/>
                    </a:lnTo>
                    <a:lnTo>
                      <a:pt x="81" y="952"/>
                    </a:lnTo>
                    <a:lnTo>
                      <a:pt x="92" y="952"/>
                    </a:lnTo>
                    <a:lnTo>
                      <a:pt x="92" y="941"/>
                    </a:lnTo>
                    <a:lnTo>
                      <a:pt x="92" y="952"/>
                    </a:lnTo>
                    <a:lnTo>
                      <a:pt x="104" y="958"/>
                    </a:lnTo>
                    <a:lnTo>
                      <a:pt x="104" y="958"/>
                    </a:lnTo>
                    <a:lnTo>
                      <a:pt x="104" y="958"/>
                    </a:lnTo>
                    <a:lnTo>
                      <a:pt x="116" y="958"/>
                    </a:lnTo>
                    <a:lnTo>
                      <a:pt x="127" y="958"/>
                    </a:lnTo>
                    <a:lnTo>
                      <a:pt x="139" y="958"/>
                    </a:lnTo>
                    <a:lnTo>
                      <a:pt x="156" y="958"/>
                    </a:lnTo>
                    <a:lnTo>
                      <a:pt x="156" y="958"/>
                    </a:lnTo>
                    <a:lnTo>
                      <a:pt x="162" y="958"/>
                    </a:lnTo>
                    <a:lnTo>
                      <a:pt x="173" y="952"/>
                    </a:lnTo>
                    <a:lnTo>
                      <a:pt x="167" y="941"/>
                    </a:lnTo>
                    <a:lnTo>
                      <a:pt x="167" y="952"/>
                    </a:lnTo>
                    <a:lnTo>
                      <a:pt x="179" y="952"/>
                    </a:lnTo>
                    <a:lnTo>
                      <a:pt x="185" y="952"/>
                    </a:lnTo>
                    <a:lnTo>
                      <a:pt x="185" y="952"/>
                    </a:lnTo>
                    <a:lnTo>
                      <a:pt x="202" y="946"/>
                    </a:lnTo>
                    <a:lnTo>
                      <a:pt x="231" y="935"/>
                    </a:lnTo>
                    <a:lnTo>
                      <a:pt x="248" y="929"/>
                    </a:lnTo>
                    <a:lnTo>
                      <a:pt x="242" y="918"/>
                    </a:lnTo>
                    <a:lnTo>
                      <a:pt x="242" y="929"/>
                    </a:lnTo>
                    <a:lnTo>
                      <a:pt x="266" y="923"/>
                    </a:lnTo>
                    <a:lnTo>
                      <a:pt x="283" y="923"/>
                    </a:lnTo>
                    <a:lnTo>
                      <a:pt x="294" y="923"/>
                    </a:lnTo>
                    <a:lnTo>
                      <a:pt x="294" y="912"/>
                    </a:lnTo>
                    <a:lnTo>
                      <a:pt x="289" y="918"/>
                    </a:lnTo>
                    <a:lnTo>
                      <a:pt x="294" y="923"/>
                    </a:lnTo>
                    <a:lnTo>
                      <a:pt x="300" y="929"/>
                    </a:lnTo>
                    <a:lnTo>
                      <a:pt x="300" y="929"/>
                    </a:lnTo>
                    <a:lnTo>
                      <a:pt x="306" y="929"/>
                    </a:lnTo>
                    <a:lnTo>
                      <a:pt x="306" y="918"/>
                    </a:lnTo>
                    <a:lnTo>
                      <a:pt x="306" y="929"/>
                    </a:lnTo>
                    <a:lnTo>
                      <a:pt x="317" y="935"/>
                    </a:lnTo>
                    <a:lnTo>
                      <a:pt x="317" y="923"/>
                    </a:lnTo>
                    <a:lnTo>
                      <a:pt x="312" y="929"/>
                    </a:lnTo>
                    <a:lnTo>
                      <a:pt x="317" y="935"/>
                    </a:lnTo>
                    <a:lnTo>
                      <a:pt x="323" y="929"/>
                    </a:lnTo>
                    <a:lnTo>
                      <a:pt x="317" y="935"/>
                    </a:lnTo>
                    <a:lnTo>
                      <a:pt x="323" y="946"/>
                    </a:lnTo>
                    <a:lnTo>
                      <a:pt x="323" y="946"/>
                    </a:lnTo>
                    <a:lnTo>
                      <a:pt x="323" y="946"/>
                    </a:lnTo>
                    <a:lnTo>
                      <a:pt x="329" y="952"/>
                    </a:lnTo>
                    <a:lnTo>
                      <a:pt x="335" y="946"/>
                    </a:lnTo>
                    <a:lnTo>
                      <a:pt x="329" y="952"/>
                    </a:lnTo>
                    <a:lnTo>
                      <a:pt x="335" y="970"/>
                    </a:lnTo>
                    <a:lnTo>
                      <a:pt x="341" y="981"/>
                    </a:lnTo>
                    <a:lnTo>
                      <a:pt x="346" y="998"/>
                    </a:lnTo>
                    <a:lnTo>
                      <a:pt x="352" y="1016"/>
                    </a:lnTo>
                    <a:lnTo>
                      <a:pt x="358" y="1033"/>
                    </a:lnTo>
                    <a:lnTo>
                      <a:pt x="364" y="1027"/>
                    </a:lnTo>
                    <a:lnTo>
                      <a:pt x="358" y="1027"/>
                    </a:lnTo>
                    <a:lnTo>
                      <a:pt x="358" y="1050"/>
                    </a:lnTo>
                    <a:lnTo>
                      <a:pt x="358" y="1056"/>
                    </a:lnTo>
                    <a:lnTo>
                      <a:pt x="358" y="1056"/>
                    </a:lnTo>
                    <a:lnTo>
                      <a:pt x="364" y="1079"/>
                    </a:lnTo>
                    <a:lnTo>
                      <a:pt x="369" y="1073"/>
                    </a:lnTo>
                    <a:lnTo>
                      <a:pt x="364" y="1073"/>
                    </a:lnTo>
                    <a:lnTo>
                      <a:pt x="364" y="1097"/>
                    </a:lnTo>
                    <a:lnTo>
                      <a:pt x="364" y="1120"/>
                    </a:lnTo>
                    <a:lnTo>
                      <a:pt x="364" y="1143"/>
                    </a:lnTo>
                    <a:lnTo>
                      <a:pt x="364" y="1166"/>
                    </a:lnTo>
                    <a:lnTo>
                      <a:pt x="369" y="1166"/>
                    </a:lnTo>
                    <a:lnTo>
                      <a:pt x="364" y="1166"/>
                    </a:lnTo>
                    <a:lnTo>
                      <a:pt x="358" y="1189"/>
                    </a:lnTo>
                    <a:lnTo>
                      <a:pt x="358" y="1189"/>
                    </a:lnTo>
                    <a:lnTo>
                      <a:pt x="358" y="1189"/>
                    </a:lnTo>
                    <a:lnTo>
                      <a:pt x="358" y="1212"/>
                    </a:lnTo>
                    <a:lnTo>
                      <a:pt x="364" y="1212"/>
                    </a:lnTo>
                    <a:lnTo>
                      <a:pt x="358" y="1212"/>
                    </a:lnTo>
                    <a:lnTo>
                      <a:pt x="352" y="1235"/>
                    </a:lnTo>
                    <a:lnTo>
                      <a:pt x="346" y="1258"/>
                    </a:lnTo>
                    <a:lnTo>
                      <a:pt x="341" y="1281"/>
                    </a:lnTo>
                    <a:lnTo>
                      <a:pt x="335" y="1298"/>
                    </a:lnTo>
                    <a:lnTo>
                      <a:pt x="329" y="1304"/>
                    </a:lnTo>
                    <a:lnTo>
                      <a:pt x="341" y="1310"/>
                    </a:lnTo>
                    <a:lnTo>
                      <a:pt x="381" y="1310"/>
                    </a:lnTo>
                    <a:lnTo>
                      <a:pt x="421" y="1310"/>
                    </a:lnTo>
                    <a:lnTo>
                      <a:pt x="462" y="1310"/>
                    </a:lnTo>
                    <a:lnTo>
                      <a:pt x="496" y="1310"/>
                    </a:lnTo>
                    <a:lnTo>
                      <a:pt x="531" y="1310"/>
                    </a:lnTo>
                    <a:lnTo>
                      <a:pt x="566" y="1310"/>
                    </a:lnTo>
                    <a:lnTo>
                      <a:pt x="594" y="1310"/>
                    </a:lnTo>
                    <a:lnTo>
                      <a:pt x="612" y="1310"/>
                    </a:lnTo>
                    <a:lnTo>
                      <a:pt x="641" y="1304"/>
                    </a:lnTo>
                    <a:lnTo>
                      <a:pt x="664" y="1298"/>
                    </a:lnTo>
                    <a:lnTo>
                      <a:pt x="669" y="1293"/>
                    </a:lnTo>
                    <a:lnTo>
                      <a:pt x="669" y="1293"/>
                    </a:lnTo>
                    <a:lnTo>
                      <a:pt x="687" y="1275"/>
                    </a:lnTo>
                    <a:lnTo>
                      <a:pt x="681" y="1270"/>
                    </a:lnTo>
                    <a:lnTo>
                      <a:pt x="687" y="1281"/>
                    </a:lnTo>
                    <a:lnTo>
                      <a:pt x="710" y="1270"/>
                    </a:lnTo>
                    <a:lnTo>
                      <a:pt x="710" y="1270"/>
                    </a:lnTo>
                    <a:lnTo>
                      <a:pt x="710" y="1264"/>
                    </a:lnTo>
                    <a:lnTo>
                      <a:pt x="721" y="1252"/>
                    </a:lnTo>
                    <a:lnTo>
                      <a:pt x="733" y="1241"/>
                    </a:lnTo>
                    <a:lnTo>
                      <a:pt x="739" y="1241"/>
                    </a:lnTo>
                    <a:lnTo>
                      <a:pt x="739" y="1241"/>
                    </a:lnTo>
                    <a:lnTo>
                      <a:pt x="750" y="1223"/>
                    </a:lnTo>
                    <a:lnTo>
                      <a:pt x="756" y="1206"/>
                    </a:lnTo>
                    <a:lnTo>
                      <a:pt x="762" y="1189"/>
                    </a:lnTo>
                    <a:lnTo>
                      <a:pt x="762" y="1189"/>
                    </a:lnTo>
                    <a:lnTo>
                      <a:pt x="762" y="1183"/>
                    </a:lnTo>
                    <a:lnTo>
                      <a:pt x="762" y="1172"/>
                    </a:lnTo>
                    <a:lnTo>
                      <a:pt x="762" y="1154"/>
                    </a:lnTo>
                    <a:lnTo>
                      <a:pt x="762" y="1137"/>
                    </a:lnTo>
                    <a:lnTo>
                      <a:pt x="762" y="1137"/>
                    </a:lnTo>
                    <a:lnTo>
                      <a:pt x="762" y="1137"/>
                    </a:lnTo>
                    <a:lnTo>
                      <a:pt x="756" y="1120"/>
                    </a:lnTo>
                    <a:lnTo>
                      <a:pt x="756" y="1120"/>
                    </a:lnTo>
                    <a:lnTo>
                      <a:pt x="750" y="1114"/>
                    </a:lnTo>
                    <a:lnTo>
                      <a:pt x="739" y="1102"/>
                    </a:lnTo>
                    <a:lnTo>
                      <a:pt x="733" y="1108"/>
                    </a:lnTo>
                    <a:lnTo>
                      <a:pt x="745" y="1108"/>
                    </a:lnTo>
                    <a:lnTo>
                      <a:pt x="739" y="1091"/>
                    </a:lnTo>
                    <a:lnTo>
                      <a:pt x="733" y="1085"/>
                    </a:lnTo>
                    <a:lnTo>
                      <a:pt x="733" y="1085"/>
                    </a:lnTo>
                    <a:lnTo>
                      <a:pt x="716" y="1073"/>
                    </a:lnTo>
                    <a:lnTo>
                      <a:pt x="710" y="1079"/>
                    </a:lnTo>
                    <a:lnTo>
                      <a:pt x="721" y="1079"/>
                    </a:lnTo>
                    <a:lnTo>
                      <a:pt x="710" y="1062"/>
                    </a:lnTo>
                    <a:lnTo>
                      <a:pt x="710" y="1062"/>
                    </a:lnTo>
                    <a:lnTo>
                      <a:pt x="704" y="1056"/>
                    </a:lnTo>
                    <a:lnTo>
                      <a:pt x="693" y="1045"/>
                    </a:lnTo>
                    <a:lnTo>
                      <a:pt x="687" y="1050"/>
                    </a:lnTo>
                    <a:lnTo>
                      <a:pt x="698" y="1050"/>
                    </a:lnTo>
                    <a:lnTo>
                      <a:pt x="693" y="1033"/>
                    </a:lnTo>
                    <a:lnTo>
                      <a:pt x="687" y="1016"/>
                    </a:lnTo>
                    <a:lnTo>
                      <a:pt x="675" y="1016"/>
                    </a:lnTo>
                    <a:lnTo>
                      <a:pt x="687" y="1016"/>
                    </a:lnTo>
                    <a:lnTo>
                      <a:pt x="687" y="993"/>
                    </a:lnTo>
                    <a:lnTo>
                      <a:pt x="687" y="975"/>
                    </a:lnTo>
                    <a:lnTo>
                      <a:pt x="687" y="958"/>
                    </a:lnTo>
                    <a:lnTo>
                      <a:pt x="675" y="958"/>
                    </a:lnTo>
                    <a:lnTo>
                      <a:pt x="687" y="964"/>
                    </a:lnTo>
                    <a:lnTo>
                      <a:pt x="693" y="946"/>
                    </a:lnTo>
                    <a:lnTo>
                      <a:pt x="698" y="929"/>
                    </a:lnTo>
                    <a:lnTo>
                      <a:pt x="710" y="912"/>
                    </a:lnTo>
                    <a:lnTo>
                      <a:pt x="698" y="906"/>
                    </a:lnTo>
                    <a:lnTo>
                      <a:pt x="704" y="918"/>
                    </a:lnTo>
                    <a:lnTo>
                      <a:pt x="716" y="912"/>
                    </a:lnTo>
                    <a:lnTo>
                      <a:pt x="716" y="906"/>
                    </a:lnTo>
                    <a:lnTo>
                      <a:pt x="721" y="906"/>
                    </a:lnTo>
                    <a:lnTo>
                      <a:pt x="727" y="895"/>
                    </a:lnTo>
                    <a:lnTo>
                      <a:pt x="716" y="889"/>
                    </a:lnTo>
                    <a:lnTo>
                      <a:pt x="721" y="895"/>
                    </a:lnTo>
                    <a:lnTo>
                      <a:pt x="727" y="889"/>
                    </a:lnTo>
                    <a:lnTo>
                      <a:pt x="721" y="883"/>
                    </a:lnTo>
                    <a:lnTo>
                      <a:pt x="721" y="895"/>
                    </a:lnTo>
                    <a:lnTo>
                      <a:pt x="733" y="895"/>
                    </a:lnTo>
                    <a:lnTo>
                      <a:pt x="739" y="895"/>
                    </a:lnTo>
                    <a:lnTo>
                      <a:pt x="739" y="889"/>
                    </a:lnTo>
                    <a:lnTo>
                      <a:pt x="745" y="883"/>
                    </a:lnTo>
                    <a:lnTo>
                      <a:pt x="739" y="877"/>
                    </a:lnTo>
                    <a:lnTo>
                      <a:pt x="745" y="889"/>
                    </a:lnTo>
                    <a:lnTo>
                      <a:pt x="756" y="883"/>
                    </a:lnTo>
                    <a:lnTo>
                      <a:pt x="768" y="877"/>
                    </a:lnTo>
                    <a:lnTo>
                      <a:pt x="779" y="871"/>
                    </a:lnTo>
                    <a:lnTo>
                      <a:pt x="773" y="860"/>
                    </a:lnTo>
                    <a:lnTo>
                      <a:pt x="773" y="871"/>
                    </a:lnTo>
                    <a:lnTo>
                      <a:pt x="785" y="871"/>
                    </a:lnTo>
                    <a:lnTo>
                      <a:pt x="791" y="871"/>
                    </a:lnTo>
                    <a:lnTo>
                      <a:pt x="791" y="871"/>
                    </a:lnTo>
                    <a:lnTo>
                      <a:pt x="808" y="866"/>
                    </a:lnTo>
                    <a:lnTo>
                      <a:pt x="802" y="854"/>
                    </a:lnTo>
                    <a:lnTo>
                      <a:pt x="802" y="866"/>
                    </a:lnTo>
                    <a:lnTo>
                      <a:pt x="820" y="866"/>
                    </a:lnTo>
                    <a:lnTo>
                      <a:pt x="831" y="866"/>
                    </a:lnTo>
                    <a:lnTo>
                      <a:pt x="848" y="866"/>
                    </a:lnTo>
                    <a:lnTo>
                      <a:pt x="866" y="866"/>
                    </a:lnTo>
                    <a:lnTo>
                      <a:pt x="866" y="854"/>
                    </a:lnTo>
                    <a:lnTo>
                      <a:pt x="866" y="866"/>
                    </a:lnTo>
                    <a:lnTo>
                      <a:pt x="877" y="871"/>
                    </a:lnTo>
                    <a:lnTo>
                      <a:pt x="895" y="877"/>
                    </a:lnTo>
                    <a:lnTo>
                      <a:pt x="895" y="877"/>
                    </a:lnTo>
                    <a:lnTo>
                      <a:pt x="895" y="877"/>
                    </a:lnTo>
                    <a:lnTo>
                      <a:pt x="906" y="877"/>
                    </a:lnTo>
                    <a:lnTo>
                      <a:pt x="906" y="866"/>
                    </a:lnTo>
                    <a:lnTo>
                      <a:pt x="906" y="877"/>
                    </a:lnTo>
                    <a:lnTo>
                      <a:pt x="918" y="883"/>
                    </a:lnTo>
                    <a:lnTo>
                      <a:pt x="918" y="871"/>
                    </a:lnTo>
                    <a:lnTo>
                      <a:pt x="912" y="877"/>
                    </a:lnTo>
                    <a:lnTo>
                      <a:pt x="918" y="883"/>
                    </a:lnTo>
                    <a:lnTo>
                      <a:pt x="923" y="889"/>
                    </a:lnTo>
                    <a:lnTo>
                      <a:pt x="923" y="889"/>
                    </a:lnTo>
                    <a:lnTo>
                      <a:pt x="935" y="895"/>
                    </a:lnTo>
                    <a:lnTo>
                      <a:pt x="946" y="900"/>
                    </a:lnTo>
                    <a:lnTo>
                      <a:pt x="946" y="889"/>
                    </a:lnTo>
                    <a:lnTo>
                      <a:pt x="941" y="895"/>
                    </a:lnTo>
                    <a:lnTo>
                      <a:pt x="946" y="906"/>
                    </a:lnTo>
                    <a:lnTo>
                      <a:pt x="946" y="906"/>
                    </a:lnTo>
                    <a:lnTo>
                      <a:pt x="946" y="906"/>
                    </a:lnTo>
                    <a:lnTo>
                      <a:pt x="952" y="912"/>
                    </a:lnTo>
                    <a:lnTo>
                      <a:pt x="958" y="906"/>
                    </a:lnTo>
                    <a:lnTo>
                      <a:pt x="952" y="912"/>
                    </a:lnTo>
                    <a:lnTo>
                      <a:pt x="958" y="923"/>
                    </a:lnTo>
                    <a:lnTo>
                      <a:pt x="964" y="941"/>
                    </a:lnTo>
                    <a:lnTo>
                      <a:pt x="970" y="958"/>
                    </a:lnTo>
                    <a:lnTo>
                      <a:pt x="975" y="952"/>
                    </a:lnTo>
                    <a:lnTo>
                      <a:pt x="970" y="952"/>
                    </a:lnTo>
                    <a:lnTo>
                      <a:pt x="970" y="975"/>
                    </a:lnTo>
                    <a:lnTo>
                      <a:pt x="970" y="993"/>
                    </a:lnTo>
                    <a:lnTo>
                      <a:pt x="970" y="1016"/>
                    </a:lnTo>
                    <a:lnTo>
                      <a:pt x="975" y="1016"/>
                    </a:lnTo>
                    <a:lnTo>
                      <a:pt x="970" y="1016"/>
                    </a:lnTo>
                    <a:lnTo>
                      <a:pt x="964" y="1033"/>
                    </a:lnTo>
                    <a:lnTo>
                      <a:pt x="958" y="1050"/>
                    </a:lnTo>
                    <a:lnTo>
                      <a:pt x="952" y="1068"/>
                    </a:lnTo>
                    <a:lnTo>
                      <a:pt x="958" y="1068"/>
                    </a:lnTo>
                    <a:lnTo>
                      <a:pt x="952" y="1062"/>
                    </a:lnTo>
                    <a:lnTo>
                      <a:pt x="941" y="1073"/>
                    </a:lnTo>
                    <a:lnTo>
                      <a:pt x="929" y="1085"/>
                    </a:lnTo>
                    <a:lnTo>
                      <a:pt x="935" y="1091"/>
                    </a:lnTo>
                    <a:lnTo>
                      <a:pt x="935" y="1085"/>
                    </a:lnTo>
                    <a:lnTo>
                      <a:pt x="923" y="1091"/>
                    </a:lnTo>
                    <a:lnTo>
                      <a:pt x="923" y="1091"/>
                    </a:lnTo>
                    <a:lnTo>
                      <a:pt x="918" y="1091"/>
                    </a:lnTo>
                    <a:lnTo>
                      <a:pt x="906" y="1102"/>
                    </a:lnTo>
                    <a:lnTo>
                      <a:pt x="906" y="1108"/>
                    </a:lnTo>
                    <a:lnTo>
                      <a:pt x="906" y="1108"/>
                    </a:lnTo>
                    <a:lnTo>
                      <a:pt x="900" y="1120"/>
                    </a:lnTo>
                    <a:lnTo>
                      <a:pt x="895" y="1137"/>
                    </a:lnTo>
                    <a:lnTo>
                      <a:pt x="889" y="1148"/>
                    </a:lnTo>
                    <a:lnTo>
                      <a:pt x="889" y="1148"/>
                    </a:lnTo>
                    <a:lnTo>
                      <a:pt x="889" y="1148"/>
                    </a:lnTo>
                    <a:lnTo>
                      <a:pt x="889" y="1160"/>
                    </a:lnTo>
                    <a:lnTo>
                      <a:pt x="895" y="1160"/>
                    </a:lnTo>
                    <a:lnTo>
                      <a:pt x="889" y="1160"/>
                    </a:lnTo>
                    <a:lnTo>
                      <a:pt x="883" y="1177"/>
                    </a:lnTo>
                    <a:lnTo>
                      <a:pt x="883" y="1177"/>
                    </a:lnTo>
                    <a:lnTo>
                      <a:pt x="883" y="1177"/>
                    </a:lnTo>
                    <a:lnTo>
                      <a:pt x="883" y="1195"/>
                    </a:lnTo>
                    <a:lnTo>
                      <a:pt x="883" y="1195"/>
                    </a:lnTo>
                    <a:lnTo>
                      <a:pt x="883" y="1200"/>
                    </a:lnTo>
                    <a:lnTo>
                      <a:pt x="889" y="1212"/>
                    </a:lnTo>
                    <a:lnTo>
                      <a:pt x="895" y="1229"/>
                    </a:lnTo>
                    <a:lnTo>
                      <a:pt x="900" y="1247"/>
                    </a:lnTo>
                    <a:lnTo>
                      <a:pt x="900" y="1247"/>
                    </a:lnTo>
                    <a:lnTo>
                      <a:pt x="900" y="1247"/>
                    </a:lnTo>
                    <a:lnTo>
                      <a:pt x="912" y="1258"/>
                    </a:lnTo>
                    <a:lnTo>
                      <a:pt x="918" y="1252"/>
                    </a:lnTo>
                    <a:lnTo>
                      <a:pt x="912" y="1258"/>
                    </a:lnTo>
                    <a:lnTo>
                      <a:pt x="923" y="1275"/>
                    </a:lnTo>
                    <a:lnTo>
                      <a:pt x="923" y="1275"/>
                    </a:lnTo>
                    <a:lnTo>
                      <a:pt x="929" y="1281"/>
                    </a:lnTo>
                    <a:lnTo>
                      <a:pt x="946" y="1293"/>
                    </a:lnTo>
                    <a:lnTo>
                      <a:pt x="964" y="1304"/>
                    </a:lnTo>
                    <a:lnTo>
                      <a:pt x="958" y="1298"/>
                    </a:lnTo>
                    <a:lnTo>
                      <a:pt x="964" y="1304"/>
                    </a:lnTo>
                    <a:lnTo>
                      <a:pt x="987" y="1310"/>
                    </a:lnTo>
                    <a:lnTo>
                      <a:pt x="987" y="1298"/>
                    </a:lnTo>
                    <a:lnTo>
                      <a:pt x="987" y="1310"/>
                    </a:lnTo>
                    <a:lnTo>
                      <a:pt x="998" y="1316"/>
                    </a:lnTo>
                    <a:lnTo>
                      <a:pt x="993" y="1310"/>
                    </a:lnTo>
                    <a:lnTo>
                      <a:pt x="998" y="1316"/>
                    </a:lnTo>
                    <a:lnTo>
                      <a:pt x="1022" y="1322"/>
                    </a:lnTo>
                    <a:lnTo>
                      <a:pt x="1062" y="1327"/>
                    </a:lnTo>
                    <a:lnTo>
                      <a:pt x="1108" y="1333"/>
                    </a:lnTo>
                    <a:lnTo>
                      <a:pt x="1137" y="1333"/>
                    </a:lnTo>
                    <a:lnTo>
                      <a:pt x="1166" y="1339"/>
                    </a:lnTo>
                    <a:lnTo>
                      <a:pt x="1195" y="1339"/>
                    </a:lnTo>
                    <a:lnTo>
                      <a:pt x="1223" y="1339"/>
                    </a:lnTo>
                    <a:lnTo>
                      <a:pt x="1252" y="1339"/>
                    </a:lnTo>
                    <a:lnTo>
                      <a:pt x="1287" y="1339"/>
                    </a:lnTo>
                    <a:lnTo>
                      <a:pt x="1310" y="1333"/>
                    </a:lnTo>
                    <a:lnTo>
                      <a:pt x="1339" y="1327"/>
                    </a:lnTo>
                    <a:lnTo>
                      <a:pt x="1345" y="1322"/>
                    </a:lnTo>
                    <a:lnTo>
                      <a:pt x="1350" y="1316"/>
                    </a:lnTo>
                    <a:lnTo>
                      <a:pt x="1350" y="1304"/>
                    </a:lnTo>
                    <a:lnTo>
                      <a:pt x="1350" y="1304"/>
                    </a:lnTo>
                    <a:lnTo>
                      <a:pt x="1350" y="1304"/>
                    </a:lnTo>
                    <a:lnTo>
                      <a:pt x="1345" y="1287"/>
                    </a:lnTo>
                    <a:lnTo>
                      <a:pt x="1339" y="1270"/>
                    </a:lnTo>
                    <a:lnTo>
                      <a:pt x="1327" y="1270"/>
                    </a:lnTo>
                    <a:lnTo>
                      <a:pt x="1339" y="1270"/>
                    </a:lnTo>
                    <a:lnTo>
                      <a:pt x="1339" y="1252"/>
                    </a:lnTo>
                    <a:lnTo>
                      <a:pt x="1339" y="1212"/>
                    </a:lnTo>
                    <a:lnTo>
                      <a:pt x="1339" y="1172"/>
                    </a:lnTo>
                    <a:lnTo>
                      <a:pt x="1339" y="1125"/>
                    </a:lnTo>
                    <a:lnTo>
                      <a:pt x="1345" y="1085"/>
                    </a:lnTo>
                    <a:lnTo>
                      <a:pt x="1350" y="1045"/>
                    </a:lnTo>
                    <a:lnTo>
                      <a:pt x="1350" y="1010"/>
                    </a:lnTo>
                    <a:lnTo>
                      <a:pt x="1339" y="1010"/>
                    </a:lnTo>
                    <a:lnTo>
                      <a:pt x="1350" y="1016"/>
                    </a:lnTo>
                    <a:lnTo>
                      <a:pt x="1356" y="998"/>
                    </a:lnTo>
                    <a:lnTo>
                      <a:pt x="1362" y="987"/>
                    </a:lnTo>
                    <a:lnTo>
                      <a:pt x="1368" y="975"/>
                    </a:lnTo>
                    <a:lnTo>
                      <a:pt x="1356" y="970"/>
                    </a:lnTo>
                    <a:lnTo>
                      <a:pt x="1362" y="981"/>
                    </a:lnTo>
                    <a:lnTo>
                      <a:pt x="1374" y="975"/>
                    </a:lnTo>
                    <a:lnTo>
                      <a:pt x="1374" y="975"/>
                    </a:lnTo>
                    <a:lnTo>
                      <a:pt x="1374" y="970"/>
                    </a:lnTo>
                    <a:lnTo>
                      <a:pt x="1379" y="964"/>
                    </a:lnTo>
                    <a:lnTo>
                      <a:pt x="1374" y="958"/>
                    </a:lnTo>
                    <a:lnTo>
                      <a:pt x="1379" y="970"/>
                    </a:lnTo>
                    <a:lnTo>
                      <a:pt x="1391" y="964"/>
                    </a:lnTo>
                    <a:lnTo>
                      <a:pt x="1385" y="952"/>
                    </a:lnTo>
                    <a:lnTo>
                      <a:pt x="1385" y="964"/>
                    </a:lnTo>
                    <a:lnTo>
                      <a:pt x="1397" y="964"/>
                    </a:lnTo>
                    <a:lnTo>
                      <a:pt x="1408" y="964"/>
                    </a:lnTo>
                    <a:lnTo>
                      <a:pt x="1420" y="964"/>
                    </a:lnTo>
                    <a:lnTo>
                      <a:pt x="1420" y="952"/>
                    </a:lnTo>
                    <a:lnTo>
                      <a:pt x="1420" y="964"/>
                    </a:lnTo>
                    <a:lnTo>
                      <a:pt x="1437" y="970"/>
                    </a:lnTo>
                    <a:lnTo>
                      <a:pt x="1449" y="975"/>
                    </a:lnTo>
                    <a:lnTo>
                      <a:pt x="1460" y="981"/>
                    </a:lnTo>
                    <a:lnTo>
                      <a:pt x="1472" y="987"/>
                    </a:lnTo>
                    <a:lnTo>
                      <a:pt x="1483" y="993"/>
                    </a:lnTo>
                    <a:lnTo>
                      <a:pt x="1500" y="1004"/>
                    </a:lnTo>
                    <a:lnTo>
                      <a:pt x="1500" y="993"/>
                    </a:lnTo>
                    <a:lnTo>
                      <a:pt x="1495" y="998"/>
                    </a:lnTo>
                    <a:lnTo>
                      <a:pt x="1500" y="1010"/>
                    </a:lnTo>
                    <a:lnTo>
                      <a:pt x="1500" y="1010"/>
                    </a:lnTo>
                    <a:lnTo>
                      <a:pt x="1500" y="1010"/>
                    </a:lnTo>
                    <a:lnTo>
                      <a:pt x="1512" y="1021"/>
                    </a:lnTo>
                    <a:lnTo>
                      <a:pt x="1518" y="1027"/>
                    </a:lnTo>
                    <a:lnTo>
                      <a:pt x="1518" y="1027"/>
                    </a:lnTo>
                    <a:lnTo>
                      <a:pt x="1529" y="1033"/>
                    </a:lnTo>
                    <a:lnTo>
                      <a:pt x="1547" y="1039"/>
                    </a:lnTo>
                    <a:lnTo>
                      <a:pt x="1564" y="1045"/>
                    </a:lnTo>
                    <a:lnTo>
                      <a:pt x="1564" y="1045"/>
                    </a:lnTo>
                    <a:lnTo>
                      <a:pt x="1564" y="1045"/>
                    </a:lnTo>
                    <a:lnTo>
                      <a:pt x="1575" y="1045"/>
                    </a:lnTo>
                    <a:lnTo>
                      <a:pt x="1575" y="1033"/>
                    </a:lnTo>
                    <a:lnTo>
                      <a:pt x="1575" y="1045"/>
                    </a:lnTo>
                    <a:lnTo>
                      <a:pt x="1593" y="1050"/>
                    </a:lnTo>
                    <a:lnTo>
                      <a:pt x="1593" y="1050"/>
                    </a:lnTo>
                    <a:lnTo>
                      <a:pt x="1599" y="1050"/>
                    </a:lnTo>
                    <a:lnTo>
                      <a:pt x="1616" y="1045"/>
                    </a:lnTo>
                    <a:lnTo>
                      <a:pt x="1610" y="1033"/>
                    </a:lnTo>
                    <a:lnTo>
                      <a:pt x="1610" y="1045"/>
                    </a:lnTo>
                    <a:lnTo>
                      <a:pt x="1627" y="1045"/>
                    </a:lnTo>
                    <a:lnTo>
                      <a:pt x="1627" y="1045"/>
                    </a:lnTo>
                    <a:lnTo>
                      <a:pt x="1633" y="1045"/>
                    </a:lnTo>
                    <a:lnTo>
                      <a:pt x="1645" y="1039"/>
                    </a:lnTo>
                    <a:lnTo>
                      <a:pt x="1662" y="1033"/>
                    </a:lnTo>
                    <a:lnTo>
                      <a:pt x="1662" y="1033"/>
                    </a:lnTo>
                    <a:lnTo>
                      <a:pt x="1662" y="1027"/>
                    </a:lnTo>
                    <a:lnTo>
                      <a:pt x="1674" y="1016"/>
                    </a:lnTo>
                    <a:lnTo>
                      <a:pt x="1685" y="1004"/>
                    </a:lnTo>
                    <a:lnTo>
                      <a:pt x="1697" y="993"/>
                    </a:lnTo>
                    <a:lnTo>
                      <a:pt x="1702" y="993"/>
                    </a:lnTo>
                    <a:lnTo>
                      <a:pt x="1702" y="993"/>
                    </a:lnTo>
                    <a:lnTo>
                      <a:pt x="1714" y="975"/>
                    </a:lnTo>
                    <a:lnTo>
                      <a:pt x="1720" y="958"/>
                    </a:lnTo>
                    <a:lnTo>
                      <a:pt x="1726" y="935"/>
                    </a:lnTo>
                    <a:lnTo>
                      <a:pt x="1726" y="935"/>
                    </a:lnTo>
                    <a:lnTo>
                      <a:pt x="1726" y="929"/>
                    </a:lnTo>
                    <a:lnTo>
                      <a:pt x="1726" y="918"/>
                    </a:lnTo>
                    <a:lnTo>
                      <a:pt x="1726" y="906"/>
                    </a:lnTo>
                    <a:lnTo>
                      <a:pt x="1726" y="895"/>
                    </a:lnTo>
                    <a:lnTo>
                      <a:pt x="1726" y="883"/>
                    </a:lnTo>
                    <a:lnTo>
                      <a:pt x="1726" y="883"/>
                    </a:lnTo>
                    <a:lnTo>
                      <a:pt x="1720" y="877"/>
                    </a:lnTo>
                    <a:lnTo>
                      <a:pt x="1714" y="871"/>
                    </a:lnTo>
                    <a:lnTo>
                      <a:pt x="1708" y="877"/>
                    </a:lnTo>
                    <a:lnTo>
                      <a:pt x="1720" y="877"/>
                    </a:lnTo>
                    <a:lnTo>
                      <a:pt x="1714" y="866"/>
                    </a:lnTo>
                    <a:lnTo>
                      <a:pt x="1702" y="866"/>
                    </a:lnTo>
                    <a:lnTo>
                      <a:pt x="1714" y="866"/>
                    </a:lnTo>
                    <a:lnTo>
                      <a:pt x="1714" y="854"/>
                    </a:lnTo>
                    <a:lnTo>
                      <a:pt x="1714" y="854"/>
                    </a:lnTo>
                    <a:lnTo>
                      <a:pt x="1708" y="848"/>
                    </a:lnTo>
                    <a:lnTo>
                      <a:pt x="1702" y="843"/>
                    </a:lnTo>
                    <a:lnTo>
                      <a:pt x="1697" y="848"/>
                    </a:lnTo>
                    <a:lnTo>
                      <a:pt x="1708" y="848"/>
                    </a:lnTo>
                    <a:lnTo>
                      <a:pt x="1697" y="831"/>
                    </a:lnTo>
                    <a:lnTo>
                      <a:pt x="1691" y="825"/>
                    </a:lnTo>
                    <a:lnTo>
                      <a:pt x="1691" y="825"/>
                    </a:lnTo>
                    <a:lnTo>
                      <a:pt x="1674" y="814"/>
                    </a:lnTo>
                    <a:lnTo>
                      <a:pt x="1656" y="802"/>
                    </a:lnTo>
                    <a:lnTo>
                      <a:pt x="1639" y="791"/>
                    </a:lnTo>
                    <a:lnTo>
                      <a:pt x="1622" y="785"/>
                    </a:lnTo>
                    <a:lnTo>
                      <a:pt x="1604" y="779"/>
                    </a:lnTo>
                    <a:lnTo>
                      <a:pt x="1604" y="779"/>
                    </a:lnTo>
                    <a:lnTo>
                      <a:pt x="1599" y="779"/>
                    </a:lnTo>
                    <a:lnTo>
                      <a:pt x="1575" y="779"/>
                    </a:lnTo>
                    <a:lnTo>
                      <a:pt x="1558" y="779"/>
                    </a:lnTo>
                    <a:lnTo>
                      <a:pt x="1558" y="779"/>
                    </a:lnTo>
                    <a:lnTo>
                      <a:pt x="1558" y="779"/>
                    </a:lnTo>
                    <a:lnTo>
                      <a:pt x="1541" y="785"/>
                    </a:lnTo>
                    <a:lnTo>
                      <a:pt x="1524" y="791"/>
                    </a:lnTo>
                    <a:lnTo>
                      <a:pt x="1524" y="796"/>
                    </a:lnTo>
                    <a:lnTo>
                      <a:pt x="1524" y="791"/>
                    </a:lnTo>
                    <a:lnTo>
                      <a:pt x="1518" y="791"/>
                    </a:lnTo>
                    <a:lnTo>
                      <a:pt x="1518" y="791"/>
                    </a:lnTo>
                    <a:lnTo>
                      <a:pt x="1512" y="791"/>
                    </a:lnTo>
                    <a:lnTo>
                      <a:pt x="1506" y="796"/>
                    </a:lnTo>
                    <a:lnTo>
                      <a:pt x="1500" y="802"/>
                    </a:lnTo>
                    <a:lnTo>
                      <a:pt x="1500" y="808"/>
                    </a:lnTo>
                    <a:lnTo>
                      <a:pt x="1500" y="808"/>
                    </a:lnTo>
                    <a:lnTo>
                      <a:pt x="1495" y="820"/>
                    </a:lnTo>
                    <a:lnTo>
                      <a:pt x="1500" y="820"/>
                    </a:lnTo>
                    <a:lnTo>
                      <a:pt x="1495" y="814"/>
                    </a:lnTo>
                    <a:lnTo>
                      <a:pt x="1483" y="825"/>
                    </a:lnTo>
                    <a:lnTo>
                      <a:pt x="1472" y="837"/>
                    </a:lnTo>
                    <a:lnTo>
                      <a:pt x="1477" y="843"/>
                    </a:lnTo>
                    <a:lnTo>
                      <a:pt x="1477" y="837"/>
                    </a:lnTo>
                    <a:lnTo>
                      <a:pt x="1466" y="843"/>
                    </a:lnTo>
                    <a:lnTo>
                      <a:pt x="1454" y="848"/>
                    </a:lnTo>
                    <a:lnTo>
                      <a:pt x="1454" y="854"/>
                    </a:lnTo>
                    <a:lnTo>
                      <a:pt x="1454" y="848"/>
                    </a:lnTo>
                    <a:lnTo>
                      <a:pt x="1443" y="848"/>
                    </a:lnTo>
                    <a:lnTo>
                      <a:pt x="1425" y="848"/>
                    </a:lnTo>
                    <a:lnTo>
                      <a:pt x="1414" y="848"/>
                    </a:lnTo>
                    <a:lnTo>
                      <a:pt x="1414" y="854"/>
                    </a:lnTo>
                    <a:lnTo>
                      <a:pt x="1420" y="848"/>
                    </a:lnTo>
                    <a:lnTo>
                      <a:pt x="1408" y="843"/>
                    </a:lnTo>
                    <a:lnTo>
                      <a:pt x="1408" y="843"/>
                    </a:lnTo>
                    <a:lnTo>
                      <a:pt x="1402" y="843"/>
                    </a:lnTo>
                    <a:lnTo>
                      <a:pt x="1391" y="843"/>
                    </a:lnTo>
                    <a:lnTo>
                      <a:pt x="1391" y="848"/>
                    </a:lnTo>
                    <a:lnTo>
                      <a:pt x="1397" y="843"/>
                    </a:lnTo>
                    <a:lnTo>
                      <a:pt x="1385" y="837"/>
                    </a:lnTo>
                    <a:lnTo>
                      <a:pt x="1379" y="843"/>
                    </a:lnTo>
                    <a:lnTo>
                      <a:pt x="1385" y="837"/>
                    </a:lnTo>
                    <a:lnTo>
                      <a:pt x="1374" y="825"/>
                    </a:lnTo>
                    <a:lnTo>
                      <a:pt x="1374" y="825"/>
                    </a:lnTo>
                    <a:lnTo>
                      <a:pt x="1374" y="825"/>
                    </a:lnTo>
                    <a:lnTo>
                      <a:pt x="1362" y="820"/>
                    </a:lnTo>
                    <a:lnTo>
                      <a:pt x="1356" y="825"/>
                    </a:lnTo>
                    <a:lnTo>
                      <a:pt x="1362" y="820"/>
                    </a:lnTo>
                    <a:lnTo>
                      <a:pt x="1356" y="814"/>
                    </a:lnTo>
                    <a:lnTo>
                      <a:pt x="1350" y="820"/>
                    </a:lnTo>
                    <a:lnTo>
                      <a:pt x="1362" y="820"/>
                    </a:lnTo>
                    <a:lnTo>
                      <a:pt x="1356" y="808"/>
                    </a:lnTo>
                    <a:lnTo>
                      <a:pt x="1356" y="808"/>
                    </a:lnTo>
                    <a:lnTo>
                      <a:pt x="1350" y="802"/>
                    </a:lnTo>
                    <a:lnTo>
                      <a:pt x="1345" y="796"/>
                    </a:lnTo>
                    <a:lnTo>
                      <a:pt x="1339" y="802"/>
                    </a:lnTo>
                    <a:lnTo>
                      <a:pt x="1350" y="802"/>
                    </a:lnTo>
                    <a:lnTo>
                      <a:pt x="1350" y="791"/>
                    </a:lnTo>
                    <a:lnTo>
                      <a:pt x="1350" y="762"/>
                    </a:lnTo>
                    <a:lnTo>
                      <a:pt x="1350" y="721"/>
                    </a:lnTo>
                    <a:lnTo>
                      <a:pt x="1350" y="658"/>
                    </a:lnTo>
                    <a:lnTo>
                      <a:pt x="1350" y="595"/>
                    </a:lnTo>
                    <a:lnTo>
                      <a:pt x="1350" y="531"/>
                    </a:lnTo>
                    <a:lnTo>
                      <a:pt x="1350" y="462"/>
                    </a:lnTo>
                    <a:lnTo>
                      <a:pt x="1350" y="404"/>
                    </a:lnTo>
                    <a:lnTo>
                      <a:pt x="1350" y="358"/>
                    </a:lnTo>
                    <a:lnTo>
                      <a:pt x="1350" y="346"/>
                    </a:lnTo>
                    <a:lnTo>
                      <a:pt x="1339" y="352"/>
                    </a:lnTo>
                    <a:lnTo>
                      <a:pt x="1322" y="358"/>
                    </a:lnTo>
                    <a:lnTo>
                      <a:pt x="1304" y="370"/>
                    </a:lnTo>
                    <a:lnTo>
                      <a:pt x="1304" y="375"/>
                    </a:lnTo>
                    <a:lnTo>
                      <a:pt x="1304" y="370"/>
                    </a:lnTo>
                    <a:lnTo>
                      <a:pt x="1281" y="375"/>
                    </a:lnTo>
                    <a:lnTo>
                      <a:pt x="1258" y="381"/>
                    </a:lnTo>
                    <a:lnTo>
                      <a:pt x="1235" y="387"/>
                    </a:lnTo>
                    <a:lnTo>
                      <a:pt x="1212" y="387"/>
                    </a:lnTo>
                    <a:lnTo>
                      <a:pt x="1183" y="387"/>
                    </a:lnTo>
                    <a:lnTo>
                      <a:pt x="1154" y="387"/>
                    </a:lnTo>
                    <a:lnTo>
                      <a:pt x="1131" y="387"/>
                    </a:lnTo>
                    <a:lnTo>
                      <a:pt x="1102" y="387"/>
                    </a:lnTo>
                    <a:lnTo>
                      <a:pt x="1073" y="381"/>
                    </a:lnTo>
                    <a:lnTo>
                      <a:pt x="1050" y="375"/>
                    </a:lnTo>
                    <a:lnTo>
                      <a:pt x="1027" y="370"/>
                    </a:lnTo>
                    <a:lnTo>
                      <a:pt x="1004" y="364"/>
                    </a:lnTo>
                    <a:lnTo>
                      <a:pt x="981" y="358"/>
                    </a:lnTo>
                    <a:lnTo>
                      <a:pt x="981" y="364"/>
                    </a:lnTo>
                    <a:lnTo>
                      <a:pt x="987" y="358"/>
                    </a:lnTo>
                    <a:lnTo>
                      <a:pt x="970" y="352"/>
                    </a:lnTo>
                    <a:lnTo>
                      <a:pt x="958" y="346"/>
                    </a:lnTo>
                    <a:lnTo>
                      <a:pt x="952" y="352"/>
                    </a:lnTo>
                    <a:lnTo>
                      <a:pt x="958" y="346"/>
                    </a:lnTo>
                    <a:lnTo>
                      <a:pt x="946" y="335"/>
                    </a:lnTo>
                    <a:lnTo>
                      <a:pt x="946" y="335"/>
                    </a:lnTo>
                    <a:lnTo>
                      <a:pt x="946" y="335"/>
                    </a:lnTo>
                    <a:lnTo>
                      <a:pt x="935" y="329"/>
                    </a:lnTo>
                    <a:lnTo>
                      <a:pt x="923" y="323"/>
                    </a:lnTo>
                    <a:lnTo>
                      <a:pt x="918" y="329"/>
                    </a:lnTo>
                    <a:lnTo>
                      <a:pt x="923" y="323"/>
                    </a:lnTo>
                    <a:lnTo>
                      <a:pt x="918" y="318"/>
                    </a:lnTo>
                    <a:lnTo>
                      <a:pt x="912" y="312"/>
                    </a:lnTo>
                    <a:lnTo>
                      <a:pt x="906" y="318"/>
                    </a:lnTo>
                    <a:lnTo>
                      <a:pt x="918" y="318"/>
                    </a:lnTo>
                    <a:lnTo>
                      <a:pt x="918" y="306"/>
                    </a:lnTo>
                    <a:lnTo>
                      <a:pt x="918" y="300"/>
                    </a:lnTo>
                    <a:lnTo>
                      <a:pt x="918" y="295"/>
                    </a:lnTo>
                    <a:lnTo>
                      <a:pt x="918" y="283"/>
                    </a:lnTo>
                    <a:lnTo>
                      <a:pt x="906" y="283"/>
                    </a:lnTo>
                    <a:lnTo>
                      <a:pt x="912" y="289"/>
                    </a:lnTo>
                    <a:lnTo>
                      <a:pt x="918" y="283"/>
                    </a:lnTo>
                    <a:lnTo>
                      <a:pt x="923" y="283"/>
                    </a:lnTo>
                    <a:lnTo>
                      <a:pt x="923" y="283"/>
                    </a:lnTo>
                    <a:lnTo>
                      <a:pt x="929" y="271"/>
                    </a:lnTo>
                    <a:lnTo>
                      <a:pt x="941" y="248"/>
                    </a:lnTo>
                    <a:lnTo>
                      <a:pt x="929" y="243"/>
                    </a:lnTo>
                    <a:lnTo>
                      <a:pt x="935" y="248"/>
                    </a:lnTo>
                    <a:lnTo>
                      <a:pt x="958" y="225"/>
                    </a:lnTo>
                    <a:lnTo>
                      <a:pt x="970" y="214"/>
                    </a:lnTo>
                    <a:lnTo>
                      <a:pt x="975" y="214"/>
                    </a:lnTo>
                    <a:lnTo>
                      <a:pt x="975" y="214"/>
                    </a:lnTo>
                    <a:lnTo>
                      <a:pt x="987" y="196"/>
                    </a:lnTo>
                    <a:lnTo>
                      <a:pt x="993" y="179"/>
                    </a:lnTo>
                    <a:lnTo>
                      <a:pt x="998" y="162"/>
                    </a:lnTo>
                    <a:lnTo>
                      <a:pt x="998" y="162"/>
                    </a:lnTo>
                    <a:lnTo>
                      <a:pt x="998" y="156"/>
                    </a:lnTo>
                    <a:lnTo>
                      <a:pt x="998" y="139"/>
                    </a:lnTo>
                    <a:lnTo>
                      <a:pt x="998" y="121"/>
                    </a:lnTo>
                    <a:lnTo>
                      <a:pt x="998" y="104"/>
                    </a:lnTo>
                    <a:lnTo>
                      <a:pt x="998" y="104"/>
                    </a:lnTo>
                    <a:lnTo>
                      <a:pt x="998" y="104"/>
                    </a:lnTo>
                    <a:lnTo>
                      <a:pt x="993" y="87"/>
                    </a:lnTo>
                    <a:lnTo>
                      <a:pt x="987" y="70"/>
                    </a:lnTo>
                    <a:lnTo>
                      <a:pt x="975" y="52"/>
                    </a:lnTo>
                    <a:lnTo>
                      <a:pt x="975" y="52"/>
                    </a:lnTo>
                    <a:lnTo>
                      <a:pt x="970" y="46"/>
                    </a:lnTo>
                    <a:lnTo>
                      <a:pt x="964" y="41"/>
                    </a:lnTo>
                    <a:lnTo>
                      <a:pt x="964" y="41"/>
                    </a:lnTo>
                    <a:lnTo>
                      <a:pt x="964" y="41"/>
                    </a:lnTo>
                    <a:lnTo>
                      <a:pt x="952" y="35"/>
                    </a:lnTo>
                    <a:lnTo>
                      <a:pt x="946" y="41"/>
                    </a:lnTo>
                    <a:lnTo>
                      <a:pt x="952" y="35"/>
                    </a:lnTo>
                    <a:lnTo>
                      <a:pt x="946" y="29"/>
                    </a:lnTo>
                    <a:lnTo>
                      <a:pt x="946" y="29"/>
                    </a:lnTo>
                    <a:lnTo>
                      <a:pt x="946" y="29"/>
                    </a:lnTo>
                    <a:lnTo>
                      <a:pt x="935" y="23"/>
                    </a:lnTo>
                    <a:lnTo>
                      <a:pt x="929" y="29"/>
                    </a:lnTo>
                    <a:lnTo>
                      <a:pt x="935" y="23"/>
                    </a:lnTo>
                    <a:lnTo>
                      <a:pt x="929" y="18"/>
                    </a:lnTo>
                    <a:lnTo>
                      <a:pt x="929" y="18"/>
                    </a:lnTo>
                    <a:lnTo>
                      <a:pt x="929" y="18"/>
                    </a:lnTo>
                    <a:lnTo>
                      <a:pt x="918" y="12"/>
                    </a:lnTo>
                    <a:lnTo>
                      <a:pt x="918" y="12"/>
                    </a:lnTo>
                    <a:lnTo>
                      <a:pt x="912" y="12"/>
                    </a:lnTo>
                    <a:lnTo>
                      <a:pt x="900" y="12"/>
                    </a:lnTo>
                    <a:lnTo>
                      <a:pt x="900" y="18"/>
                    </a:lnTo>
                    <a:lnTo>
                      <a:pt x="906" y="12"/>
                    </a:lnTo>
                    <a:lnTo>
                      <a:pt x="895" y="6"/>
                    </a:lnTo>
                    <a:lnTo>
                      <a:pt x="895" y="6"/>
                    </a:lnTo>
                    <a:lnTo>
                      <a:pt x="889" y="6"/>
                    </a:lnTo>
                    <a:lnTo>
                      <a:pt x="871" y="6"/>
                    </a:lnTo>
                    <a:lnTo>
                      <a:pt x="871" y="12"/>
                    </a:lnTo>
                    <a:lnTo>
                      <a:pt x="877" y="6"/>
                    </a:lnTo>
                    <a:lnTo>
                      <a:pt x="866" y="0"/>
                    </a:lnTo>
                    <a:lnTo>
                      <a:pt x="866" y="0"/>
                    </a:lnTo>
                    <a:lnTo>
                      <a:pt x="860" y="0"/>
                    </a:lnTo>
                    <a:lnTo>
                      <a:pt x="848" y="0"/>
                    </a:lnTo>
                    <a:lnTo>
                      <a:pt x="831" y="0"/>
                    </a:lnTo>
                    <a:lnTo>
                      <a:pt x="820" y="0"/>
                    </a:lnTo>
                    <a:lnTo>
                      <a:pt x="820" y="0"/>
                    </a:lnTo>
                    <a:lnTo>
                      <a:pt x="820" y="0"/>
                    </a:lnTo>
                    <a:lnTo>
                      <a:pt x="802" y="6"/>
                    </a:lnTo>
                    <a:lnTo>
                      <a:pt x="802" y="12"/>
                    </a:lnTo>
                    <a:lnTo>
                      <a:pt x="802" y="6"/>
                    </a:lnTo>
                    <a:lnTo>
                      <a:pt x="791" y="6"/>
                    </a:lnTo>
                    <a:lnTo>
                      <a:pt x="779" y="6"/>
                    </a:lnTo>
                    <a:lnTo>
                      <a:pt x="779" y="6"/>
                    </a:lnTo>
                    <a:lnTo>
                      <a:pt x="773" y="6"/>
                    </a:lnTo>
                    <a:lnTo>
                      <a:pt x="768" y="12"/>
                    </a:lnTo>
                    <a:lnTo>
                      <a:pt x="773" y="18"/>
                    </a:lnTo>
                    <a:lnTo>
                      <a:pt x="773" y="12"/>
                    </a:lnTo>
                    <a:lnTo>
                      <a:pt x="762" y="18"/>
                    </a:lnTo>
                    <a:lnTo>
                      <a:pt x="762" y="18"/>
                    </a:lnTo>
                    <a:lnTo>
                      <a:pt x="756" y="18"/>
                    </a:lnTo>
                    <a:lnTo>
                      <a:pt x="750" y="23"/>
                    </a:lnTo>
                    <a:lnTo>
                      <a:pt x="756" y="29"/>
                    </a:lnTo>
                    <a:lnTo>
                      <a:pt x="756" y="23"/>
                    </a:lnTo>
                    <a:lnTo>
                      <a:pt x="745" y="29"/>
                    </a:lnTo>
                    <a:lnTo>
                      <a:pt x="745" y="29"/>
                    </a:lnTo>
                    <a:lnTo>
                      <a:pt x="739" y="29"/>
                    </a:lnTo>
                    <a:lnTo>
                      <a:pt x="733" y="35"/>
                    </a:lnTo>
                    <a:lnTo>
                      <a:pt x="727" y="41"/>
                    </a:lnTo>
                    <a:lnTo>
                      <a:pt x="721" y="46"/>
                    </a:lnTo>
                    <a:lnTo>
                      <a:pt x="721" y="52"/>
                    </a:lnTo>
                    <a:lnTo>
                      <a:pt x="721" y="52"/>
                    </a:lnTo>
                    <a:lnTo>
                      <a:pt x="716" y="64"/>
                    </a:lnTo>
                    <a:lnTo>
                      <a:pt x="710" y="81"/>
                    </a:lnTo>
                    <a:lnTo>
                      <a:pt x="704" y="98"/>
                    </a:lnTo>
                    <a:lnTo>
                      <a:pt x="704" y="98"/>
                    </a:lnTo>
                    <a:lnTo>
                      <a:pt x="704" y="98"/>
                    </a:lnTo>
                    <a:lnTo>
                      <a:pt x="704" y="116"/>
                    </a:lnTo>
                    <a:lnTo>
                      <a:pt x="704" y="133"/>
                    </a:lnTo>
                    <a:lnTo>
                      <a:pt x="704" y="156"/>
                    </a:lnTo>
                    <a:lnTo>
                      <a:pt x="704" y="162"/>
                    </a:lnTo>
                    <a:lnTo>
                      <a:pt x="704" y="162"/>
                    </a:lnTo>
                    <a:lnTo>
                      <a:pt x="710" y="179"/>
                    </a:lnTo>
                    <a:lnTo>
                      <a:pt x="716" y="202"/>
                    </a:lnTo>
                    <a:lnTo>
                      <a:pt x="727" y="220"/>
                    </a:lnTo>
                    <a:lnTo>
                      <a:pt x="733" y="237"/>
                    </a:lnTo>
                    <a:lnTo>
                      <a:pt x="733" y="237"/>
                    </a:lnTo>
                    <a:lnTo>
                      <a:pt x="739" y="243"/>
                    </a:lnTo>
                    <a:lnTo>
                      <a:pt x="756" y="254"/>
                    </a:lnTo>
                    <a:lnTo>
                      <a:pt x="756" y="243"/>
                    </a:lnTo>
                    <a:lnTo>
                      <a:pt x="750" y="248"/>
                    </a:lnTo>
                    <a:lnTo>
                      <a:pt x="756" y="260"/>
                    </a:lnTo>
                    <a:lnTo>
                      <a:pt x="756" y="260"/>
                    </a:lnTo>
                    <a:lnTo>
                      <a:pt x="756" y="260"/>
                    </a:lnTo>
                    <a:lnTo>
                      <a:pt x="768" y="271"/>
                    </a:lnTo>
                    <a:lnTo>
                      <a:pt x="773" y="266"/>
                    </a:lnTo>
                    <a:lnTo>
                      <a:pt x="768" y="266"/>
                    </a:lnTo>
                    <a:lnTo>
                      <a:pt x="768" y="277"/>
                    </a:lnTo>
                    <a:lnTo>
                      <a:pt x="768" y="283"/>
                    </a:lnTo>
                    <a:lnTo>
                      <a:pt x="768" y="283"/>
                    </a:lnTo>
                    <a:lnTo>
                      <a:pt x="773" y="295"/>
                    </a:lnTo>
                    <a:lnTo>
                      <a:pt x="779" y="289"/>
                    </a:lnTo>
                    <a:lnTo>
                      <a:pt x="773" y="289"/>
                    </a:lnTo>
                    <a:lnTo>
                      <a:pt x="773" y="300"/>
                    </a:lnTo>
                    <a:lnTo>
                      <a:pt x="773" y="312"/>
                    </a:lnTo>
                    <a:lnTo>
                      <a:pt x="779" y="312"/>
                    </a:lnTo>
                    <a:lnTo>
                      <a:pt x="773" y="312"/>
                    </a:lnTo>
                    <a:lnTo>
                      <a:pt x="768" y="323"/>
                    </a:lnTo>
                    <a:lnTo>
                      <a:pt x="762" y="335"/>
                    </a:lnTo>
                    <a:lnTo>
                      <a:pt x="768" y="335"/>
                    </a:lnTo>
                    <a:lnTo>
                      <a:pt x="762" y="329"/>
                    </a:lnTo>
                    <a:lnTo>
                      <a:pt x="756" y="335"/>
                    </a:lnTo>
                    <a:lnTo>
                      <a:pt x="745" y="346"/>
                    </a:lnTo>
                    <a:lnTo>
                      <a:pt x="750" y="352"/>
                    </a:lnTo>
                    <a:lnTo>
                      <a:pt x="750" y="346"/>
                    </a:lnTo>
                    <a:lnTo>
                      <a:pt x="733" y="352"/>
                    </a:lnTo>
                    <a:lnTo>
                      <a:pt x="733" y="358"/>
                    </a:lnTo>
                    <a:lnTo>
                      <a:pt x="733" y="352"/>
                    </a:lnTo>
                    <a:lnTo>
                      <a:pt x="721" y="352"/>
                    </a:lnTo>
                    <a:lnTo>
                      <a:pt x="704" y="352"/>
                    </a:lnTo>
                    <a:lnTo>
                      <a:pt x="687" y="352"/>
                    </a:lnTo>
                    <a:lnTo>
                      <a:pt x="664" y="346"/>
                    </a:lnTo>
                    <a:lnTo>
                      <a:pt x="664" y="352"/>
                    </a:lnTo>
                    <a:lnTo>
                      <a:pt x="669" y="346"/>
                    </a:lnTo>
                    <a:lnTo>
                      <a:pt x="646" y="335"/>
                    </a:lnTo>
                    <a:lnTo>
                      <a:pt x="646" y="335"/>
                    </a:lnTo>
                    <a:lnTo>
                      <a:pt x="641" y="335"/>
                    </a:lnTo>
                    <a:lnTo>
                      <a:pt x="623" y="335"/>
                    </a:lnTo>
                    <a:lnTo>
                      <a:pt x="623" y="341"/>
                    </a:lnTo>
                    <a:lnTo>
                      <a:pt x="629" y="335"/>
                    </a:lnTo>
                    <a:lnTo>
                      <a:pt x="618" y="329"/>
                    </a:lnTo>
                    <a:lnTo>
                      <a:pt x="600" y="323"/>
                    </a:lnTo>
                    <a:lnTo>
                      <a:pt x="600" y="323"/>
                    </a:lnTo>
                    <a:lnTo>
                      <a:pt x="594" y="323"/>
                    </a:lnTo>
                    <a:lnTo>
                      <a:pt x="577" y="323"/>
                    </a:lnTo>
                    <a:lnTo>
                      <a:pt x="543" y="323"/>
                    </a:lnTo>
                    <a:lnTo>
                      <a:pt x="502" y="323"/>
                    </a:lnTo>
                    <a:lnTo>
                      <a:pt x="462" y="329"/>
                    </a:lnTo>
                    <a:lnTo>
                      <a:pt x="421" y="335"/>
                    </a:lnTo>
                    <a:lnTo>
                      <a:pt x="381" y="341"/>
                    </a:lnTo>
                    <a:lnTo>
                      <a:pt x="375" y="341"/>
                    </a:lnTo>
                    <a:lnTo>
                      <a:pt x="381" y="341"/>
                    </a:lnTo>
                    <a:lnTo>
                      <a:pt x="341" y="352"/>
                    </a:lnTo>
                    <a:lnTo>
                      <a:pt x="335" y="352"/>
                    </a:lnTo>
                    <a:lnTo>
                      <a:pt x="335" y="358"/>
                    </a:lnTo>
                    <a:lnTo>
                      <a:pt x="335" y="364"/>
                    </a:lnTo>
                    <a:lnTo>
                      <a:pt x="335" y="387"/>
                    </a:lnTo>
                    <a:lnTo>
                      <a:pt x="335" y="404"/>
                    </a:lnTo>
                    <a:lnTo>
                      <a:pt x="335" y="433"/>
                    </a:lnTo>
                    <a:lnTo>
                      <a:pt x="341" y="491"/>
                    </a:lnTo>
                    <a:lnTo>
                      <a:pt x="346" y="560"/>
                    </a:lnTo>
                    <a:lnTo>
                      <a:pt x="352" y="589"/>
                    </a:lnTo>
                    <a:lnTo>
                      <a:pt x="352" y="623"/>
                    </a:lnTo>
                    <a:lnTo>
                      <a:pt x="352" y="658"/>
                    </a:lnTo>
                    <a:lnTo>
                      <a:pt x="352" y="658"/>
                    </a:lnTo>
                    <a:lnTo>
                      <a:pt x="352" y="664"/>
                    </a:lnTo>
                    <a:lnTo>
                      <a:pt x="358" y="687"/>
                    </a:lnTo>
                    <a:lnTo>
                      <a:pt x="364" y="681"/>
                    </a:lnTo>
                    <a:lnTo>
                      <a:pt x="358" y="681"/>
                    </a:lnTo>
                    <a:lnTo>
                      <a:pt x="352" y="710"/>
                    </a:lnTo>
                    <a:lnTo>
                      <a:pt x="352" y="733"/>
                    </a:lnTo>
                    <a:lnTo>
                      <a:pt x="358" y="733"/>
                    </a:lnTo>
                    <a:lnTo>
                      <a:pt x="352" y="733"/>
                    </a:lnTo>
                    <a:lnTo>
                      <a:pt x="346" y="745"/>
                    </a:lnTo>
                    <a:lnTo>
                      <a:pt x="346" y="745"/>
                    </a:lnTo>
                    <a:lnTo>
                      <a:pt x="346" y="745"/>
                    </a:lnTo>
                    <a:lnTo>
                      <a:pt x="346" y="750"/>
                    </a:lnTo>
                    <a:lnTo>
                      <a:pt x="352" y="750"/>
                    </a:lnTo>
                    <a:lnTo>
                      <a:pt x="346" y="745"/>
                    </a:lnTo>
                    <a:lnTo>
                      <a:pt x="341" y="750"/>
                    </a:lnTo>
                    <a:lnTo>
                      <a:pt x="335" y="756"/>
                    </a:lnTo>
                    <a:lnTo>
                      <a:pt x="329" y="762"/>
                    </a:lnTo>
                    <a:close/>
                    <a:moveTo>
                      <a:pt x="346" y="768"/>
                    </a:moveTo>
                    <a:lnTo>
                      <a:pt x="352" y="762"/>
                    </a:lnTo>
                    <a:lnTo>
                      <a:pt x="358" y="756"/>
                    </a:lnTo>
                    <a:lnTo>
                      <a:pt x="364" y="756"/>
                    </a:lnTo>
                    <a:lnTo>
                      <a:pt x="364" y="750"/>
                    </a:lnTo>
                    <a:lnTo>
                      <a:pt x="364" y="745"/>
                    </a:lnTo>
                    <a:lnTo>
                      <a:pt x="352" y="745"/>
                    </a:lnTo>
                    <a:lnTo>
                      <a:pt x="364" y="750"/>
                    </a:lnTo>
                    <a:lnTo>
                      <a:pt x="369" y="739"/>
                    </a:lnTo>
                    <a:lnTo>
                      <a:pt x="369" y="739"/>
                    </a:lnTo>
                    <a:lnTo>
                      <a:pt x="369" y="733"/>
                    </a:lnTo>
                    <a:lnTo>
                      <a:pt x="369" y="710"/>
                    </a:lnTo>
                    <a:lnTo>
                      <a:pt x="375" y="681"/>
                    </a:lnTo>
                    <a:lnTo>
                      <a:pt x="375" y="681"/>
                    </a:lnTo>
                    <a:lnTo>
                      <a:pt x="375" y="681"/>
                    </a:lnTo>
                    <a:lnTo>
                      <a:pt x="369" y="658"/>
                    </a:lnTo>
                    <a:lnTo>
                      <a:pt x="358" y="658"/>
                    </a:lnTo>
                    <a:lnTo>
                      <a:pt x="369" y="658"/>
                    </a:lnTo>
                    <a:lnTo>
                      <a:pt x="369" y="623"/>
                    </a:lnTo>
                    <a:lnTo>
                      <a:pt x="369" y="589"/>
                    </a:lnTo>
                    <a:lnTo>
                      <a:pt x="364" y="560"/>
                    </a:lnTo>
                    <a:lnTo>
                      <a:pt x="358" y="491"/>
                    </a:lnTo>
                    <a:lnTo>
                      <a:pt x="352" y="433"/>
                    </a:lnTo>
                    <a:lnTo>
                      <a:pt x="352" y="404"/>
                    </a:lnTo>
                    <a:lnTo>
                      <a:pt x="352" y="387"/>
                    </a:lnTo>
                    <a:lnTo>
                      <a:pt x="352" y="364"/>
                    </a:lnTo>
                    <a:lnTo>
                      <a:pt x="352" y="358"/>
                    </a:lnTo>
                    <a:lnTo>
                      <a:pt x="341" y="358"/>
                    </a:lnTo>
                    <a:lnTo>
                      <a:pt x="346" y="370"/>
                    </a:lnTo>
                    <a:lnTo>
                      <a:pt x="387" y="358"/>
                    </a:lnTo>
                    <a:lnTo>
                      <a:pt x="381" y="346"/>
                    </a:lnTo>
                    <a:lnTo>
                      <a:pt x="381" y="358"/>
                    </a:lnTo>
                    <a:lnTo>
                      <a:pt x="421" y="352"/>
                    </a:lnTo>
                    <a:lnTo>
                      <a:pt x="462" y="346"/>
                    </a:lnTo>
                    <a:lnTo>
                      <a:pt x="502" y="341"/>
                    </a:lnTo>
                    <a:lnTo>
                      <a:pt x="543" y="341"/>
                    </a:lnTo>
                    <a:lnTo>
                      <a:pt x="577" y="341"/>
                    </a:lnTo>
                    <a:lnTo>
                      <a:pt x="594" y="341"/>
                    </a:lnTo>
                    <a:lnTo>
                      <a:pt x="594" y="329"/>
                    </a:lnTo>
                    <a:lnTo>
                      <a:pt x="594" y="341"/>
                    </a:lnTo>
                    <a:lnTo>
                      <a:pt x="612" y="346"/>
                    </a:lnTo>
                    <a:lnTo>
                      <a:pt x="623" y="352"/>
                    </a:lnTo>
                    <a:lnTo>
                      <a:pt x="623" y="352"/>
                    </a:lnTo>
                    <a:lnTo>
                      <a:pt x="623" y="352"/>
                    </a:lnTo>
                    <a:lnTo>
                      <a:pt x="641" y="352"/>
                    </a:lnTo>
                    <a:lnTo>
                      <a:pt x="641" y="341"/>
                    </a:lnTo>
                    <a:lnTo>
                      <a:pt x="641" y="352"/>
                    </a:lnTo>
                    <a:lnTo>
                      <a:pt x="664" y="364"/>
                    </a:lnTo>
                    <a:lnTo>
                      <a:pt x="658" y="358"/>
                    </a:lnTo>
                    <a:lnTo>
                      <a:pt x="664" y="364"/>
                    </a:lnTo>
                    <a:lnTo>
                      <a:pt x="687" y="370"/>
                    </a:lnTo>
                    <a:lnTo>
                      <a:pt x="704" y="370"/>
                    </a:lnTo>
                    <a:lnTo>
                      <a:pt x="721" y="370"/>
                    </a:lnTo>
                    <a:lnTo>
                      <a:pt x="733" y="370"/>
                    </a:lnTo>
                    <a:lnTo>
                      <a:pt x="739" y="370"/>
                    </a:lnTo>
                    <a:lnTo>
                      <a:pt x="739" y="370"/>
                    </a:lnTo>
                    <a:lnTo>
                      <a:pt x="756" y="364"/>
                    </a:lnTo>
                    <a:lnTo>
                      <a:pt x="756" y="364"/>
                    </a:lnTo>
                    <a:lnTo>
                      <a:pt x="756" y="358"/>
                    </a:lnTo>
                    <a:lnTo>
                      <a:pt x="768" y="346"/>
                    </a:lnTo>
                    <a:lnTo>
                      <a:pt x="773" y="341"/>
                    </a:lnTo>
                    <a:lnTo>
                      <a:pt x="779" y="341"/>
                    </a:lnTo>
                    <a:lnTo>
                      <a:pt x="779" y="341"/>
                    </a:lnTo>
                    <a:lnTo>
                      <a:pt x="785" y="329"/>
                    </a:lnTo>
                    <a:lnTo>
                      <a:pt x="791" y="318"/>
                    </a:lnTo>
                    <a:lnTo>
                      <a:pt x="791" y="318"/>
                    </a:lnTo>
                    <a:lnTo>
                      <a:pt x="791" y="312"/>
                    </a:lnTo>
                    <a:lnTo>
                      <a:pt x="791" y="300"/>
                    </a:lnTo>
                    <a:lnTo>
                      <a:pt x="791" y="289"/>
                    </a:lnTo>
                    <a:lnTo>
                      <a:pt x="791" y="289"/>
                    </a:lnTo>
                    <a:lnTo>
                      <a:pt x="791" y="289"/>
                    </a:lnTo>
                    <a:lnTo>
                      <a:pt x="785" y="277"/>
                    </a:lnTo>
                    <a:lnTo>
                      <a:pt x="773" y="277"/>
                    </a:lnTo>
                    <a:lnTo>
                      <a:pt x="785" y="277"/>
                    </a:lnTo>
                    <a:lnTo>
                      <a:pt x="785" y="266"/>
                    </a:lnTo>
                    <a:lnTo>
                      <a:pt x="785" y="266"/>
                    </a:lnTo>
                    <a:lnTo>
                      <a:pt x="779" y="260"/>
                    </a:lnTo>
                    <a:lnTo>
                      <a:pt x="768" y="248"/>
                    </a:lnTo>
                    <a:lnTo>
                      <a:pt x="762" y="254"/>
                    </a:lnTo>
                    <a:lnTo>
                      <a:pt x="773" y="254"/>
                    </a:lnTo>
                    <a:lnTo>
                      <a:pt x="768" y="243"/>
                    </a:lnTo>
                    <a:lnTo>
                      <a:pt x="762" y="237"/>
                    </a:lnTo>
                    <a:lnTo>
                      <a:pt x="762" y="237"/>
                    </a:lnTo>
                    <a:lnTo>
                      <a:pt x="745" y="225"/>
                    </a:lnTo>
                    <a:lnTo>
                      <a:pt x="739" y="231"/>
                    </a:lnTo>
                    <a:lnTo>
                      <a:pt x="750" y="231"/>
                    </a:lnTo>
                    <a:lnTo>
                      <a:pt x="745" y="214"/>
                    </a:lnTo>
                    <a:lnTo>
                      <a:pt x="733" y="196"/>
                    </a:lnTo>
                    <a:lnTo>
                      <a:pt x="727" y="173"/>
                    </a:lnTo>
                    <a:lnTo>
                      <a:pt x="721" y="156"/>
                    </a:lnTo>
                    <a:lnTo>
                      <a:pt x="710" y="156"/>
                    </a:lnTo>
                    <a:lnTo>
                      <a:pt x="721" y="156"/>
                    </a:lnTo>
                    <a:lnTo>
                      <a:pt x="721" y="133"/>
                    </a:lnTo>
                    <a:lnTo>
                      <a:pt x="721" y="116"/>
                    </a:lnTo>
                    <a:lnTo>
                      <a:pt x="721" y="98"/>
                    </a:lnTo>
                    <a:lnTo>
                      <a:pt x="710" y="98"/>
                    </a:lnTo>
                    <a:lnTo>
                      <a:pt x="721" y="104"/>
                    </a:lnTo>
                    <a:lnTo>
                      <a:pt x="727" y="87"/>
                    </a:lnTo>
                    <a:lnTo>
                      <a:pt x="733" y="70"/>
                    </a:lnTo>
                    <a:lnTo>
                      <a:pt x="739" y="58"/>
                    </a:lnTo>
                    <a:lnTo>
                      <a:pt x="727" y="52"/>
                    </a:lnTo>
                    <a:lnTo>
                      <a:pt x="733" y="58"/>
                    </a:lnTo>
                    <a:lnTo>
                      <a:pt x="739" y="52"/>
                    </a:lnTo>
                    <a:lnTo>
                      <a:pt x="745" y="46"/>
                    </a:lnTo>
                    <a:lnTo>
                      <a:pt x="750" y="41"/>
                    </a:lnTo>
                    <a:lnTo>
                      <a:pt x="745" y="35"/>
                    </a:lnTo>
                    <a:lnTo>
                      <a:pt x="750" y="46"/>
                    </a:lnTo>
                    <a:lnTo>
                      <a:pt x="762" y="41"/>
                    </a:lnTo>
                    <a:lnTo>
                      <a:pt x="762" y="41"/>
                    </a:lnTo>
                    <a:lnTo>
                      <a:pt x="762" y="35"/>
                    </a:lnTo>
                    <a:lnTo>
                      <a:pt x="768" y="29"/>
                    </a:lnTo>
                    <a:lnTo>
                      <a:pt x="762" y="23"/>
                    </a:lnTo>
                    <a:lnTo>
                      <a:pt x="768" y="35"/>
                    </a:lnTo>
                    <a:lnTo>
                      <a:pt x="779" y="29"/>
                    </a:lnTo>
                    <a:lnTo>
                      <a:pt x="779" y="29"/>
                    </a:lnTo>
                    <a:lnTo>
                      <a:pt x="779" y="23"/>
                    </a:lnTo>
                    <a:lnTo>
                      <a:pt x="785" y="18"/>
                    </a:lnTo>
                    <a:lnTo>
                      <a:pt x="779" y="12"/>
                    </a:lnTo>
                    <a:lnTo>
                      <a:pt x="779" y="23"/>
                    </a:lnTo>
                    <a:lnTo>
                      <a:pt x="791" y="23"/>
                    </a:lnTo>
                    <a:lnTo>
                      <a:pt x="802" y="23"/>
                    </a:lnTo>
                    <a:lnTo>
                      <a:pt x="808" y="23"/>
                    </a:lnTo>
                    <a:lnTo>
                      <a:pt x="808" y="23"/>
                    </a:lnTo>
                    <a:lnTo>
                      <a:pt x="825" y="18"/>
                    </a:lnTo>
                    <a:lnTo>
                      <a:pt x="820" y="6"/>
                    </a:lnTo>
                    <a:lnTo>
                      <a:pt x="820" y="18"/>
                    </a:lnTo>
                    <a:lnTo>
                      <a:pt x="831" y="18"/>
                    </a:lnTo>
                    <a:lnTo>
                      <a:pt x="848" y="18"/>
                    </a:lnTo>
                    <a:lnTo>
                      <a:pt x="860" y="18"/>
                    </a:lnTo>
                    <a:lnTo>
                      <a:pt x="860" y="6"/>
                    </a:lnTo>
                    <a:lnTo>
                      <a:pt x="860" y="18"/>
                    </a:lnTo>
                    <a:lnTo>
                      <a:pt x="871" y="23"/>
                    </a:lnTo>
                    <a:lnTo>
                      <a:pt x="871" y="23"/>
                    </a:lnTo>
                    <a:lnTo>
                      <a:pt x="871" y="23"/>
                    </a:lnTo>
                    <a:lnTo>
                      <a:pt x="889" y="23"/>
                    </a:lnTo>
                    <a:lnTo>
                      <a:pt x="889" y="12"/>
                    </a:lnTo>
                    <a:lnTo>
                      <a:pt x="889" y="23"/>
                    </a:lnTo>
                    <a:lnTo>
                      <a:pt x="900" y="29"/>
                    </a:lnTo>
                    <a:lnTo>
                      <a:pt x="900" y="29"/>
                    </a:lnTo>
                    <a:lnTo>
                      <a:pt x="900" y="29"/>
                    </a:lnTo>
                    <a:lnTo>
                      <a:pt x="912" y="29"/>
                    </a:lnTo>
                    <a:lnTo>
                      <a:pt x="912" y="18"/>
                    </a:lnTo>
                    <a:lnTo>
                      <a:pt x="912" y="29"/>
                    </a:lnTo>
                    <a:lnTo>
                      <a:pt x="923" y="35"/>
                    </a:lnTo>
                    <a:lnTo>
                      <a:pt x="923" y="23"/>
                    </a:lnTo>
                    <a:lnTo>
                      <a:pt x="918" y="29"/>
                    </a:lnTo>
                    <a:lnTo>
                      <a:pt x="923" y="35"/>
                    </a:lnTo>
                    <a:lnTo>
                      <a:pt x="929" y="41"/>
                    </a:lnTo>
                    <a:lnTo>
                      <a:pt x="929" y="41"/>
                    </a:lnTo>
                    <a:lnTo>
                      <a:pt x="941" y="46"/>
                    </a:lnTo>
                    <a:lnTo>
                      <a:pt x="941" y="35"/>
                    </a:lnTo>
                    <a:lnTo>
                      <a:pt x="935" y="41"/>
                    </a:lnTo>
                    <a:lnTo>
                      <a:pt x="941" y="46"/>
                    </a:lnTo>
                    <a:lnTo>
                      <a:pt x="946" y="52"/>
                    </a:lnTo>
                    <a:lnTo>
                      <a:pt x="946" y="52"/>
                    </a:lnTo>
                    <a:lnTo>
                      <a:pt x="958" y="58"/>
                    </a:lnTo>
                    <a:lnTo>
                      <a:pt x="958" y="46"/>
                    </a:lnTo>
                    <a:lnTo>
                      <a:pt x="952" y="52"/>
                    </a:lnTo>
                    <a:lnTo>
                      <a:pt x="958" y="58"/>
                    </a:lnTo>
                    <a:lnTo>
                      <a:pt x="964" y="52"/>
                    </a:lnTo>
                    <a:lnTo>
                      <a:pt x="958" y="58"/>
                    </a:lnTo>
                    <a:lnTo>
                      <a:pt x="970" y="75"/>
                    </a:lnTo>
                    <a:lnTo>
                      <a:pt x="975" y="93"/>
                    </a:lnTo>
                    <a:lnTo>
                      <a:pt x="981" y="110"/>
                    </a:lnTo>
                    <a:lnTo>
                      <a:pt x="987" y="104"/>
                    </a:lnTo>
                    <a:lnTo>
                      <a:pt x="981" y="104"/>
                    </a:lnTo>
                    <a:lnTo>
                      <a:pt x="981" y="121"/>
                    </a:lnTo>
                    <a:lnTo>
                      <a:pt x="981" y="139"/>
                    </a:lnTo>
                    <a:lnTo>
                      <a:pt x="981" y="156"/>
                    </a:lnTo>
                    <a:lnTo>
                      <a:pt x="987" y="156"/>
                    </a:lnTo>
                    <a:lnTo>
                      <a:pt x="981" y="156"/>
                    </a:lnTo>
                    <a:lnTo>
                      <a:pt x="975" y="173"/>
                    </a:lnTo>
                    <a:lnTo>
                      <a:pt x="970" y="191"/>
                    </a:lnTo>
                    <a:lnTo>
                      <a:pt x="958" y="208"/>
                    </a:lnTo>
                    <a:lnTo>
                      <a:pt x="964" y="208"/>
                    </a:lnTo>
                    <a:lnTo>
                      <a:pt x="958" y="202"/>
                    </a:lnTo>
                    <a:lnTo>
                      <a:pt x="946" y="214"/>
                    </a:lnTo>
                    <a:lnTo>
                      <a:pt x="923" y="237"/>
                    </a:lnTo>
                    <a:lnTo>
                      <a:pt x="923" y="243"/>
                    </a:lnTo>
                    <a:lnTo>
                      <a:pt x="923" y="243"/>
                    </a:lnTo>
                    <a:lnTo>
                      <a:pt x="912" y="266"/>
                    </a:lnTo>
                    <a:lnTo>
                      <a:pt x="906" y="277"/>
                    </a:lnTo>
                    <a:lnTo>
                      <a:pt x="912" y="277"/>
                    </a:lnTo>
                    <a:lnTo>
                      <a:pt x="906" y="271"/>
                    </a:lnTo>
                    <a:lnTo>
                      <a:pt x="900" y="277"/>
                    </a:lnTo>
                    <a:lnTo>
                      <a:pt x="900" y="283"/>
                    </a:lnTo>
                    <a:lnTo>
                      <a:pt x="900" y="283"/>
                    </a:lnTo>
                    <a:lnTo>
                      <a:pt x="900" y="295"/>
                    </a:lnTo>
                    <a:lnTo>
                      <a:pt x="900" y="300"/>
                    </a:lnTo>
                    <a:lnTo>
                      <a:pt x="900" y="306"/>
                    </a:lnTo>
                    <a:lnTo>
                      <a:pt x="900" y="318"/>
                    </a:lnTo>
                    <a:lnTo>
                      <a:pt x="900" y="323"/>
                    </a:lnTo>
                    <a:lnTo>
                      <a:pt x="900" y="323"/>
                    </a:lnTo>
                    <a:lnTo>
                      <a:pt x="906" y="329"/>
                    </a:lnTo>
                    <a:lnTo>
                      <a:pt x="912" y="335"/>
                    </a:lnTo>
                    <a:lnTo>
                      <a:pt x="918" y="341"/>
                    </a:lnTo>
                    <a:lnTo>
                      <a:pt x="918" y="341"/>
                    </a:lnTo>
                    <a:lnTo>
                      <a:pt x="929" y="346"/>
                    </a:lnTo>
                    <a:lnTo>
                      <a:pt x="941" y="352"/>
                    </a:lnTo>
                    <a:lnTo>
                      <a:pt x="941" y="341"/>
                    </a:lnTo>
                    <a:lnTo>
                      <a:pt x="935" y="346"/>
                    </a:lnTo>
                    <a:lnTo>
                      <a:pt x="946" y="358"/>
                    </a:lnTo>
                    <a:lnTo>
                      <a:pt x="952" y="364"/>
                    </a:lnTo>
                    <a:lnTo>
                      <a:pt x="952" y="364"/>
                    </a:lnTo>
                    <a:lnTo>
                      <a:pt x="964" y="370"/>
                    </a:lnTo>
                    <a:lnTo>
                      <a:pt x="981" y="375"/>
                    </a:lnTo>
                    <a:lnTo>
                      <a:pt x="970" y="370"/>
                    </a:lnTo>
                    <a:lnTo>
                      <a:pt x="981" y="375"/>
                    </a:lnTo>
                    <a:lnTo>
                      <a:pt x="1004" y="381"/>
                    </a:lnTo>
                    <a:lnTo>
                      <a:pt x="1027" y="387"/>
                    </a:lnTo>
                    <a:lnTo>
                      <a:pt x="1050" y="393"/>
                    </a:lnTo>
                    <a:lnTo>
                      <a:pt x="1073" y="398"/>
                    </a:lnTo>
                    <a:lnTo>
                      <a:pt x="1102" y="404"/>
                    </a:lnTo>
                    <a:lnTo>
                      <a:pt x="1131" y="404"/>
                    </a:lnTo>
                    <a:lnTo>
                      <a:pt x="1154" y="404"/>
                    </a:lnTo>
                    <a:lnTo>
                      <a:pt x="1183" y="404"/>
                    </a:lnTo>
                    <a:lnTo>
                      <a:pt x="1212" y="404"/>
                    </a:lnTo>
                    <a:lnTo>
                      <a:pt x="1235" y="404"/>
                    </a:lnTo>
                    <a:lnTo>
                      <a:pt x="1258" y="398"/>
                    </a:lnTo>
                    <a:lnTo>
                      <a:pt x="1281" y="393"/>
                    </a:lnTo>
                    <a:lnTo>
                      <a:pt x="1304" y="387"/>
                    </a:lnTo>
                    <a:lnTo>
                      <a:pt x="1310" y="381"/>
                    </a:lnTo>
                    <a:lnTo>
                      <a:pt x="1310" y="387"/>
                    </a:lnTo>
                    <a:lnTo>
                      <a:pt x="1327" y="375"/>
                    </a:lnTo>
                    <a:lnTo>
                      <a:pt x="1345" y="370"/>
                    </a:lnTo>
                    <a:lnTo>
                      <a:pt x="1339" y="358"/>
                    </a:lnTo>
                    <a:lnTo>
                      <a:pt x="1333" y="358"/>
                    </a:lnTo>
                    <a:lnTo>
                      <a:pt x="1333" y="404"/>
                    </a:lnTo>
                    <a:lnTo>
                      <a:pt x="1333" y="462"/>
                    </a:lnTo>
                    <a:lnTo>
                      <a:pt x="1333" y="531"/>
                    </a:lnTo>
                    <a:lnTo>
                      <a:pt x="1333" y="595"/>
                    </a:lnTo>
                    <a:lnTo>
                      <a:pt x="1333" y="658"/>
                    </a:lnTo>
                    <a:lnTo>
                      <a:pt x="1333" y="721"/>
                    </a:lnTo>
                    <a:lnTo>
                      <a:pt x="1333" y="762"/>
                    </a:lnTo>
                    <a:lnTo>
                      <a:pt x="1333" y="791"/>
                    </a:lnTo>
                    <a:lnTo>
                      <a:pt x="1333" y="802"/>
                    </a:lnTo>
                    <a:lnTo>
                      <a:pt x="1333" y="808"/>
                    </a:lnTo>
                    <a:lnTo>
                      <a:pt x="1333" y="808"/>
                    </a:lnTo>
                    <a:lnTo>
                      <a:pt x="1339" y="814"/>
                    </a:lnTo>
                    <a:lnTo>
                      <a:pt x="1345" y="808"/>
                    </a:lnTo>
                    <a:lnTo>
                      <a:pt x="1339" y="814"/>
                    </a:lnTo>
                    <a:lnTo>
                      <a:pt x="1345" y="825"/>
                    </a:lnTo>
                    <a:lnTo>
                      <a:pt x="1345" y="825"/>
                    </a:lnTo>
                    <a:lnTo>
                      <a:pt x="1345" y="825"/>
                    </a:lnTo>
                    <a:lnTo>
                      <a:pt x="1350" y="831"/>
                    </a:lnTo>
                    <a:lnTo>
                      <a:pt x="1356" y="837"/>
                    </a:lnTo>
                    <a:lnTo>
                      <a:pt x="1356" y="837"/>
                    </a:lnTo>
                    <a:lnTo>
                      <a:pt x="1368" y="843"/>
                    </a:lnTo>
                    <a:lnTo>
                      <a:pt x="1368" y="831"/>
                    </a:lnTo>
                    <a:lnTo>
                      <a:pt x="1362" y="837"/>
                    </a:lnTo>
                    <a:lnTo>
                      <a:pt x="1374" y="848"/>
                    </a:lnTo>
                    <a:lnTo>
                      <a:pt x="1379" y="854"/>
                    </a:lnTo>
                    <a:lnTo>
                      <a:pt x="1379" y="854"/>
                    </a:lnTo>
                    <a:lnTo>
                      <a:pt x="1391" y="860"/>
                    </a:lnTo>
                    <a:lnTo>
                      <a:pt x="1391" y="860"/>
                    </a:lnTo>
                    <a:lnTo>
                      <a:pt x="1391" y="860"/>
                    </a:lnTo>
                    <a:lnTo>
                      <a:pt x="1402" y="860"/>
                    </a:lnTo>
                    <a:lnTo>
                      <a:pt x="1402" y="848"/>
                    </a:lnTo>
                    <a:lnTo>
                      <a:pt x="1402" y="860"/>
                    </a:lnTo>
                    <a:lnTo>
                      <a:pt x="1414" y="866"/>
                    </a:lnTo>
                    <a:lnTo>
                      <a:pt x="1414" y="866"/>
                    </a:lnTo>
                    <a:lnTo>
                      <a:pt x="1414" y="866"/>
                    </a:lnTo>
                    <a:lnTo>
                      <a:pt x="1425" y="866"/>
                    </a:lnTo>
                    <a:lnTo>
                      <a:pt x="1443" y="866"/>
                    </a:lnTo>
                    <a:lnTo>
                      <a:pt x="1454" y="866"/>
                    </a:lnTo>
                    <a:lnTo>
                      <a:pt x="1460" y="866"/>
                    </a:lnTo>
                    <a:lnTo>
                      <a:pt x="1460" y="866"/>
                    </a:lnTo>
                    <a:lnTo>
                      <a:pt x="1472" y="860"/>
                    </a:lnTo>
                    <a:lnTo>
                      <a:pt x="1483" y="854"/>
                    </a:lnTo>
                    <a:lnTo>
                      <a:pt x="1483" y="854"/>
                    </a:lnTo>
                    <a:lnTo>
                      <a:pt x="1483" y="848"/>
                    </a:lnTo>
                    <a:lnTo>
                      <a:pt x="1495" y="837"/>
                    </a:lnTo>
                    <a:lnTo>
                      <a:pt x="1506" y="825"/>
                    </a:lnTo>
                    <a:lnTo>
                      <a:pt x="1512" y="825"/>
                    </a:lnTo>
                    <a:lnTo>
                      <a:pt x="1512" y="825"/>
                    </a:lnTo>
                    <a:lnTo>
                      <a:pt x="1518" y="814"/>
                    </a:lnTo>
                    <a:lnTo>
                      <a:pt x="1506" y="808"/>
                    </a:lnTo>
                    <a:lnTo>
                      <a:pt x="1512" y="814"/>
                    </a:lnTo>
                    <a:lnTo>
                      <a:pt x="1518" y="808"/>
                    </a:lnTo>
                    <a:lnTo>
                      <a:pt x="1524" y="802"/>
                    </a:lnTo>
                    <a:lnTo>
                      <a:pt x="1518" y="796"/>
                    </a:lnTo>
                    <a:lnTo>
                      <a:pt x="1518" y="808"/>
                    </a:lnTo>
                    <a:lnTo>
                      <a:pt x="1524" y="808"/>
                    </a:lnTo>
                    <a:lnTo>
                      <a:pt x="1529" y="808"/>
                    </a:lnTo>
                    <a:lnTo>
                      <a:pt x="1529" y="808"/>
                    </a:lnTo>
                    <a:lnTo>
                      <a:pt x="1547" y="802"/>
                    </a:lnTo>
                    <a:lnTo>
                      <a:pt x="1564" y="796"/>
                    </a:lnTo>
                    <a:lnTo>
                      <a:pt x="1558" y="785"/>
                    </a:lnTo>
                    <a:lnTo>
                      <a:pt x="1558" y="796"/>
                    </a:lnTo>
                    <a:lnTo>
                      <a:pt x="1575" y="796"/>
                    </a:lnTo>
                    <a:lnTo>
                      <a:pt x="1599" y="796"/>
                    </a:lnTo>
                    <a:lnTo>
                      <a:pt x="1599" y="785"/>
                    </a:lnTo>
                    <a:lnTo>
                      <a:pt x="1599" y="796"/>
                    </a:lnTo>
                    <a:lnTo>
                      <a:pt x="1616" y="802"/>
                    </a:lnTo>
                    <a:lnTo>
                      <a:pt x="1633" y="808"/>
                    </a:lnTo>
                    <a:lnTo>
                      <a:pt x="1651" y="820"/>
                    </a:lnTo>
                    <a:lnTo>
                      <a:pt x="1668" y="831"/>
                    </a:lnTo>
                    <a:lnTo>
                      <a:pt x="1685" y="843"/>
                    </a:lnTo>
                    <a:lnTo>
                      <a:pt x="1685" y="831"/>
                    </a:lnTo>
                    <a:lnTo>
                      <a:pt x="1679" y="837"/>
                    </a:lnTo>
                    <a:lnTo>
                      <a:pt x="1691" y="854"/>
                    </a:lnTo>
                    <a:lnTo>
                      <a:pt x="1691" y="854"/>
                    </a:lnTo>
                    <a:lnTo>
                      <a:pt x="1691" y="854"/>
                    </a:lnTo>
                    <a:lnTo>
                      <a:pt x="1697" y="860"/>
                    </a:lnTo>
                    <a:lnTo>
                      <a:pt x="1702" y="854"/>
                    </a:lnTo>
                    <a:lnTo>
                      <a:pt x="1697" y="854"/>
                    </a:lnTo>
                    <a:lnTo>
                      <a:pt x="1697" y="866"/>
                    </a:lnTo>
                    <a:lnTo>
                      <a:pt x="1697" y="871"/>
                    </a:lnTo>
                    <a:lnTo>
                      <a:pt x="1697" y="871"/>
                    </a:lnTo>
                    <a:lnTo>
                      <a:pt x="1702" y="883"/>
                    </a:lnTo>
                    <a:lnTo>
                      <a:pt x="1702" y="883"/>
                    </a:lnTo>
                    <a:lnTo>
                      <a:pt x="1702" y="883"/>
                    </a:lnTo>
                    <a:lnTo>
                      <a:pt x="1708" y="889"/>
                    </a:lnTo>
                    <a:lnTo>
                      <a:pt x="1714" y="883"/>
                    </a:lnTo>
                    <a:lnTo>
                      <a:pt x="1708" y="883"/>
                    </a:lnTo>
                    <a:lnTo>
                      <a:pt x="1708" y="895"/>
                    </a:lnTo>
                    <a:lnTo>
                      <a:pt x="1708" y="906"/>
                    </a:lnTo>
                    <a:lnTo>
                      <a:pt x="1708" y="918"/>
                    </a:lnTo>
                    <a:lnTo>
                      <a:pt x="1708" y="929"/>
                    </a:lnTo>
                    <a:lnTo>
                      <a:pt x="1714" y="929"/>
                    </a:lnTo>
                    <a:lnTo>
                      <a:pt x="1708" y="929"/>
                    </a:lnTo>
                    <a:lnTo>
                      <a:pt x="1702" y="952"/>
                    </a:lnTo>
                    <a:lnTo>
                      <a:pt x="1697" y="970"/>
                    </a:lnTo>
                    <a:lnTo>
                      <a:pt x="1685" y="987"/>
                    </a:lnTo>
                    <a:lnTo>
                      <a:pt x="1691" y="987"/>
                    </a:lnTo>
                    <a:lnTo>
                      <a:pt x="1685" y="981"/>
                    </a:lnTo>
                    <a:lnTo>
                      <a:pt x="1674" y="993"/>
                    </a:lnTo>
                    <a:lnTo>
                      <a:pt x="1662" y="1004"/>
                    </a:lnTo>
                    <a:lnTo>
                      <a:pt x="1651" y="1016"/>
                    </a:lnTo>
                    <a:lnTo>
                      <a:pt x="1656" y="1021"/>
                    </a:lnTo>
                    <a:lnTo>
                      <a:pt x="1656" y="1016"/>
                    </a:lnTo>
                    <a:lnTo>
                      <a:pt x="1639" y="1021"/>
                    </a:lnTo>
                    <a:lnTo>
                      <a:pt x="1627" y="1027"/>
                    </a:lnTo>
                    <a:lnTo>
                      <a:pt x="1627" y="1033"/>
                    </a:lnTo>
                    <a:lnTo>
                      <a:pt x="1627" y="1027"/>
                    </a:lnTo>
                    <a:lnTo>
                      <a:pt x="1610" y="1027"/>
                    </a:lnTo>
                    <a:lnTo>
                      <a:pt x="1610" y="1027"/>
                    </a:lnTo>
                    <a:lnTo>
                      <a:pt x="1610" y="1027"/>
                    </a:lnTo>
                    <a:lnTo>
                      <a:pt x="1593" y="1033"/>
                    </a:lnTo>
                    <a:lnTo>
                      <a:pt x="1593" y="1039"/>
                    </a:lnTo>
                    <a:lnTo>
                      <a:pt x="1599" y="1033"/>
                    </a:lnTo>
                    <a:lnTo>
                      <a:pt x="1581" y="1027"/>
                    </a:lnTo>
                    <a:lnTo>
                      <a:pt x="1581" y="1027"/>
                    </a:lnTo>
                    <a:lnTo>
                      <a:pt x="1575" y="1027"/>
                    </a:lnTo>
                    <a:lnTo>
                      <a:pt x="1564" y="1027"/>
                    </a:lnTo>
                    <a:lnTo>
                      <a:pt x="1564" y="1033"/>
                    </a:lnTo>
                    <a:lnTo>
                      <a:pt x="1570" y="1027"/>
                    </a:lnTo>
                    <a:lnTo>
                      <a:pt x="1552" y="1021"/>
                    </a:lnTo>
                    <a:lnTo>
                      <a:pt x="1535" y="1016"/>
                    </a:lnTo>
                    <a:lnTo>
                      <a:pt x="1524" y="1010"/>
                    </a:lnTo>
                    <a:lnTo>
                      <a:pt x="1518" y="1016"/>
                    </a:lnTo>
                    <a:lnTo>
                      <a:pt x="1524" y="1010"/>
                    </a:lnTo>
                    <a:lnTo>
                      <a:pt x="1512" y="998"/>
                    </a:lnTo>
                    <a:lnTo>
                      <a:pt x="1506" y="1004"/>
                    </a:lnTo>
                    <a:lnTo>
                      <a:pt x="1518" y="1004"/>
                    </a:lnTo>
                    <a:lnTo>
                      <a:pt x="1512" y="993"/>
                    </a:lnTo>
                    <a:lnTo>
                      <a:pt x="1506" y="987"/>
                    </a:lnTo>
                    <a:lnTo>
                      <a:pt x="1506" y="987"/>
                    </a:lnTo>
                    <a:lnTo>
                      <a:pt x="1489" y="975"/>
                    </a:lnTo>
                    <a:lnTo>
                      <a:pt x="1477" y="970"/>
                    </a:lnTo>
                    <a:lnTo>
                      <a:pt x="1466" y="964"/>
                    </a:lnTo>
                    <a:lnTo>
                      <a:pt x="1454" y="958"/>
                    </a:lnTo>
                    <a:lnTo>
                      <a:pt x="1443" y="952"/>
                    </a:lnTo>
                    <a:lnTo>
                      <a:pt x="1425" y="946"/>
                    </a:lnTo>
                    <a:lnTo>
                      <a:pt x="1425" y="946"/>
                    </a:lnTo>
                    <a:lnTo>
                      <a:pt x="1420" y="946"/>
                    </a:lnTo>
                    <a:lnTo>
                      <a:pt x="1408" y="946"/>
                    </a:lnTo>
                    <a:lnTo>
                      <a:pt x="1397" y="946"/>
                    </a:lnTo>
                    <a:lnTo>
                      <a:pt x="1385" y="946"/>
                    </a:lnTo>
                    <a:lnTo>
                      <a:pt x="1385" y="946"/>
                    </a:lnTo>
                    <a:lnTo>
                      <a:pt x="1385" y="946"/>
                    </a:lnTo>
                    <a:lnTo>
                      <a:pt x="1374" y="952"/>
                    </a:lnTo>
                    <a:lnTo>
                      <a:pt x="1374" y="952"/>
                    </a:lnTo>
                    <a:lnTo>
                      <a:pt x="1368" y="952"/>
                    </a:lnTo>
                    <a:lnTo>
                      <a:pt x="1362" y="958"/>
                    </a:lnTo>
                    <a:lnTo>
                      <a:pt x="1368" y="964"/>
                    </a:lnTo>
                    <a:lnTo>
                      <a:pt x="1368" y="958"/>
                    </a:lnTo>
                    <a:lnTo>
                      <a:pt x="1356" y="964"/>
                    </a:lnTo>
                    <a:lnTo>
                      <a:pt x="1350" y="964"/>
                    </a:lnTo>
                    <a:lnTo>
                      <a:pt x="1350" y="970"/>
                    </a:lnTo>
                    <a:lnTo>
                      <a:pt x="1345" y="981"/>
                    </a:lnTo>
                    <a:lnTo>
                      <a:pt x="1339" y="993"/>
                    </a:lnTo>
                    <a:lnTo>
                      <a:pt x="1333" y="1010"/>
                    </a:lnTo>
                    <a:lnTo>
                      <a:pt x="1333" y="1010"/>
                    </a:lnTo>
                    <a:lnTo>
                      <a:pt x="1333" y="1010"/>
                    </a:lnTo>
                    <a:lnTo>
                      <a:pt x="1333" y="1045"/>
                    </a:lnTo>
                    <a:lnTo>
                      <a:pt x="1327" y="1085"/>
                    </a:lnTo>
                    <a:lnTo>
                      <a:pt x="1322" y="1125"/>
                    </a:lnTo>
                    <a:lnTo>
                      <a:pt x="1322" y="1172"/>
                    </a:lnTo>
                    <a:lnTo>
                      <a:pt x="1322" y="1212"/>
                    </a:lnTo>
                    <a:lnTo>
                      <a:pt x="1322" y="1252"/>
                    </a:lnTo>
                    <a:lnTo>
                      <a:pt x="1322" y="1270"/>
                    </a:lnTo>
                    <a:lnTo>
                      <a:pt x="1322" y="1275"/>
                    </a:lnTo>
                    <a:lnTo>
                      <a:pt x="1322" y="1275"/>
                    </a:lnTo>
                    <a:lnTo>
                      <a:pt x="1327" y="1293"/>
                    </a:lnTo>
                    <a:lnTo>
                      <a:pt x="1333" y="1310"/>
                    </a:lnTo>
                    <a:lnTo>
                      <a:pt x="1339" y="1304"/>
                    </a:lnTo>
                    <a:lnTo>
                      <a:pt x="1333" y="1304"/>
                    </a:lnTo>
                    <a:lnTo>
                      <a:pt x="1333" y="1316"/>
                    </a:lnTo>
                    <a:lnTo>
                      <a:pt x="1339" y="1316"/>
                    </a:lnTo>
                    <a:lnTo>
                      <a:pt x="1339" y="1310"/>
                    </a:lnTo>
                    <a:lnTo>
                      <a:pt x="1310" y="1316"/>
                    </a:lnTo>
                    <a:lnTo>
                      <a:pt x="1287" y="1322"/>
                    </a:lnTo>
                    <a:lnTo>
                      <a:pt x="1252" y="1322"/>
                    </a:lnTo>
                    <a:lnTo>
                      <a:pt x="1223" y="1322"/>
                    </a:lnTo>
                    <a:lnTo>
                      <a:pt x="1195" y="1322"/>
                    </a:lnTo>
                    <a:lnTo>
                      <a:pt x="1166" y="1322"/>
                    </a:lnTo>
                    <a:lnTo>
                      <a:pt x="1137" y="1316"/>
                    </a:lnTo>
                    <a:lnTo>
                      <a:pt x="1108" y="1316"/>
                    </a:lnTo>
                    <a:lnTo>
                      <a:pt x="1062" y="1310"/>
                    </a:lnTo>
                    <a:lnTo>
                      <a:pt x="1022" y="1304"/>
                    </a:lnTo>
                    <a:lnTo>
                      <a:pt x="998" y="1298"/>
                    </a:lnTo>
                    <a:lnTo>
                      <a:pt x="998" y="1304"/>
                    </a:lnTo>
                    <a:lnTo>
                      <a:pt x="1004" y="1298"/>
                    </a:lnTo>
                    <a:lnTo>
                      <a:pt x="993" y="1293"/>
                    </a:lnTo>
                    <a:lnTo>
                      <a:pt x="993" y="1293"/>
                    </a:lnTo>
                    <a:lnTo>
                      <a:pt x="987" y="1293"/>
                    </a:lnTo>
                    <a:lnTo>
                      <a:pt x="964" y="1287"/>
                    </a:lnTo>
                    <a:lnTo>
                      <a:pt x="964" y="1293"/>
                    </a:lnTo>
                    <a:lnTo>
                      <a:pt x="970" y="1287"/>
                    </a:lnTo>
                    <a:lnTo>
                      <a:pt x="952" y="1275"/>
                    </a:lnTo>
                    <a:lnTo>
                      <a:pt x="935" y="1264"/>
                    </a:lnTo>
                    <a:lnTo>
                      <a:pt x="929" y="1270"/>
                    </a:lnTo>
                    <a:lnTo>
                      <a:pt x="941" y="1270"/>
                    </a:lnTo>
                    <a:lnTo>
                      <a:pt x="929" y="1252"/>
                    </a:lnTo>
                    <a:lnTo>
                      <a:pt x="929" y="1252"/>
                    </a:lnTo>
                    <a:lnTo>
                      <a:pt x="923" y="1247"/>
                    </a:lnTo>
                    <a:lnTo>
                      <a:pt x="912" y="1235"/>
                    </a:lnTo>
                    <a:lnTo>
                      <a:pt x="906" y="1241"/>
                    </a:lnTo>
                    <a:lnTo>
                      <a:pt x="918" y="1241"/>
                    </a:lnTo>
                    <a:lnTo>
                      <a:pt x="912" y="1223"/>
                    </a:lnTo>
                    <a:lnTo>
                      <a:pt x="906" y="1206"/>
                    </a:lnTo>
                    <a:lnTo>
                      <a:pt x="900" y="1195"/>
                    </a:lnTo>
                    <a:lnTo>
                      <a:pt x="889" y="1195"/>
                    </a:lnTo>
                    <a:lnTo>
                      <a:pt x="900" y="1195"/>
                    </a:lnTo>
                    <a:lnTo>
                      <a:pt x="900" y="1177"/>
                    </a:lnTo>
                    <a:lnTo>
                      <a:pt x="889" y="1177"/>
                    </a:lnTo>
                    <a:lnTo>
                      <a:pt x="900" y="1183"/>
                    </a:lnTo>
                    <a:lnTo>
                      <a:pt x="906" y="1166"/>
                    </a:lnTo>
                    <a:lnTo>
                      <a:pt x="906" y="1166"/>
                    </a:lnTo>
                    <a:lnTo>
                      <a:pt x="906" y="1160"/>
                    </a:lnTo>
                    <a:lnTo>
                      <a:pt x="906" y="1148"/>
                    </a:lnTo>
                    <a:lnTo>
                      <a:pt x="895" y="1148"/>
                    </a:lnTo>
                    <a:lnTo>
                      <a:pt x="906" y="1154"/>
                    </a:lnTo>
                    <a:lnTo>
                      <a:pt x="912" y="1143"/>
                    </a:lnTo>
                    <a:lnTo>
                      <a:pt x="918" y="1125"/>
                    </a:lnTo>
                    <a:lnTo>
                      <a:pt x="923" y="1114"/>
                    </a:lnTo>
                    <a:lnTo>
                      <a:pt x="912" y="1108"/>
                    </a:lnTo>
                    <a:lnTo>
                      <a:pt x="918" y="1114"/>
                    </a:lnTo>
                    <a:lnTo>
                      <a:pt x="929" y="1102"/>
                    </a:lnTo>
                    <a:lnTo>
                      <a:pt x="923" y="1097"/>
                    </a:lnTo>
                    <a:lnTo>
                      <a:pt x="929" y="1108"/>
                    </a:lnTo>
                    <a:lnTo>
                      <a:pt x="941" y="1102"/>
                    </a:lnTo>
                    <a:lnTo>
                      <a:pt x="941" y="1102"/>
                    </a:lnTo>
                    <a:lnTo>
                      <a:pt x="941" y="1097"/>
                    </a:lnTo>
                    <a:lnTo>
                      <a:pt x="952" y="1085"/>
                    </a:lnTo>
                    <a:lnTo>
                      <a:pt x="964" y="1073"/>
                    </a:lnTo>
                    <a:lnTo>
                      <a:pt x="970" y="1073"/>
                    </a:lnTo>
                    <a:lnTo>
                      <a:pt x="970" y="1073"/>
                    </a:lnTo>
                    <a:lnTo>
                      <a:pt x="975" y="1056"/>
                    </a:lnTo>
                    <a:lnTo>
                      <a:pt x="981" y="1039"/>
                    </a:lnTo>
                    <a:lnTo>
                      <a:pt x="987" y="1021"/>
                    </a:lnTo>
                    <a:lnTo>
                      <a:pt x="987" y="1021"/>
                    </a:lnTo>
                    <a:lnTo>
                      <a:pt x="987" y="1016"/>
                    </a:lnTo>
                    <a:lnTo>
                      <a:pt x="987" y="993"/>
                    </a:lnTo>
                    <a:lnTo>
                      <a:pt x="987" y="975"/>
                    </a:lnTo>
                    <a:lnTo>
                      <a:pt x="987" y="952"/>
                    </a:lnTo>
                    <a:lnTo>
                      <a:pt x="987" y="952"/>
                    </a:lnTo>
                    <a:lnTo>
                      <a:pt x="987" y="952"/>
                    </a:lnTo>
                    <a:lnTo>
                      <a:pt x="981" y="935"/>
                    </a:lnTo>
                    <a:lnTo>
                      <a:pt x="975" y="918"/>
                    </a:lnTo>
                    <a:lnTo>
                      <a:pt x="970" y="906"/>
                    </a:lnTo>
                    <a:lnTo>
                      <a:pt x="970" y="906"/>
                    </a:lnTo>
                    <a:lnTo>
                      <a:pt x="964" y="900"/>
                    </a:lnTo>
                    <a:lnTo>
                      <a:pt x="958" y="895"/>
                    </a:lnTo>
                    <a:lnTo>
                      <a:pt x="952" y="900"/>
                    </a:lnTo>
                    <a:lnTo>
                      <a:pt x="964" y="900"/>
                    </a:lnTo>
                    <a:lnTo>
                      <a:pt x="958" y="889"/>
                    </a:lnTo>
                    <a:lnTo>
                      <a:pt x="952" y="883"/>
                    </a:lnTo>
                    <a:lnTo>
                      <a:pt x="952" y="883"/>
                    </a:lnTo>
                    <a:lnTo>
                      <a:pt x="941" y="877"/>
                    </a:lnTo>
                    <a:lnTo>
                      <a:pt x="929" y="871"/>
                    </a:lnTo>
                    <a:lnTo>
                      <a:pt x="923" y="877"/>
                    </a:lnTo>
                    <a:lnTo>
                      <a:pt x="929" y="871"/>
                    </a:lnTo>
                    <a:lnTo>
                      <a:pt x="923" y="866"/>
                    </a:lnTo>
                    <a:lnTo>
                      <a:pt x="923" y="866"/>
                    </a:lnTo>
                    <a:lnTo>
                      <a:pt x="923" y="866"/>
                    </a:lnTo>
                    <a:lnTo>
                      <a:pt x="912" y="860"/>
                    </a:lnTo>
                    <a:lnTo>
                      <a:pt x="912" y="860"/>
                    </a:lnTo>
                    <a:lnTo>
                      <a:pt x="906" y="860"/>
                    </a:lnTo>
                    <a:lnTo>
                      <a:pt x="895" y="860"/>
                    </a:lnTo>
                    <a:lnTo>
                      <a:pt x="895" y="866"/>
                    </a:lnTo>
                    <a:lnTo>
                      <a:pt x="900" y="860"/>
                    </a:lnTo>
                    <a:lnTo>
                      <a:pt x="883" y="854"/>
                    </a:lnTo>
                    <a:lnTo>
                      <a:pt x="871" y="848"/>
                    </a:lnTo>
                    <a:lnTo>
                      <a:pt x="871" y="848"/>
                    </a:lnTo>
                    <a:lnTo>
                      <a:pt x="866" y="848"/>
                    </a:lnTo>
                    <a:lnTo>
                      <a:pt x="848" y="848"/>
                    </a:lnTo>
                    <a:lnTo>
                      <a:pt x="831" y="848"/>
                    </a:lnTo>
                    <a:lnTo>
                      <a:pt x="820" y="848"/>
                    </a:lnTo>
                    <a:lnTo>
                      <a:pt x="802" y="848"/>
                    </a:lnTo>
                    <a:lnTo>
                      <a:pt x="802" y="848"/>
                    </a:lnTo>
                    <a:lnTo>
                      <a:pt x="802" y="848"/>
                    </a:lnTo>
                    <a:lnTo>
                      <a:pt x="785" y="854"/>
                    </a:lnTo>
                    <a:lnTo>
                      <a:pt x="785" y="860"/>
                    </a:lnTo>
                    <a:lnTo>
                      <a:pt x="785" y="854"/>
                    </a:lnTo>
                    <a:lnTo>
                      <a:pt x="773" y="854"/>
                    </a:lnTo>
                    <a:lnTo>
                      <a:pt x="773" y="854"/>
                    </a:lnTo>
                    <a:lnTo>
                      <a:pt x="773" y="854"/>
                    </a:lnTo>
                    <a:lnTo>
                      <a:pt x="762" y="860"/>
                    </a:lnTo>
                    <a:lnTo>
                      <a:pt x="750" y="866"/>
                    </a:lnTo>
                    <a:lnTo>
                      <a:pt x="739" y="871"/>
                    </a:lnTo>
                    <a:lnTo>
                      <a:pt x="739" y="871"/>
                    </a:lnTo>
                    <a:lnTo>
                      <a:pt x="733" y="871"/>
                    </a:lnTo>
                    <a:lnTo>
                      <a:pt x="727" y="877"/>
                    </a:lnTo>
                    <a:lnTo>
                      <a:pt x="733" y="883"/>
                    </a:lnTo>
                    <a:lnTo>
                      <a:pt x="733" y="877"/>
                    </a:lnTo>
                    <a:lnTo>
                      <a:pt x="721" y="877"/>
                    </a:lnTo>
                    <a:lnTo>
                      <a:pt x="721" y="877"/>
                    </a:lnTo>
                    <a:lnTo>
                      <a:pt x="716" y="877"/>
                    </a:lnTo>
                    <a:lnTo>
                      <a:pt x="710" y="883"/>
                    </a:lnTo>
                    <a:lnTo>
                      <a:pt x="710" y="889"/>
                    </a:lnTo>
                    <a:lnTo>
                      <a:pt x="710" y="889"/>
                    </a:lnTo>
                    <a:lnTo>
                      <a:pt x="704" y="900"/>
                    </a:lnTo>
                    <a:lnTo>
                      <a:pt x="710" y="900"/>
                    </a:lnTo>
                    <a:lnTo>
                      <a:pt x="710" y="895"/>
                    </a:lnTo>
                    <a:lnTo>
                      <a:pt x="698" y="900"/>
                    </a:lnTo>
                    <a:lnTo>
                      <a:pt x="693" y="900"/>
                    </a:lnTo>
                    <a:lnTo>
                      <a:pt x="693" y="906"/>
                    </a:lnTo>
                    <a:lnTo>
                      <a:pt x="681" y="923"/>
                    </a:lnTo>
                    <a:lnTo>
                      <a:pt x="675" y="941"/>
                    </a:lnTo>
                    <a:lnTo>
                      <a:pt x="669" y="958"/>
                    </a:lnTo>
                    <a:lnTo>
                      <a:pt x="669" y="958"/>
                    </a:lnTo>
                    <a:lnTo>
                      <a:pt x="669" y="958"/>
                    </a:lnTo>
                    <a:lnTo>
                      <a:pt x="669" y="975"/>
                    </a:lnTo>
                    <a:lnTo>
                      <a:pt x="669" y="993"/>
                    </a:lnTo>
                    <a:lnTo>
                      <a:pt x="669" y="1016"/>
                    </a:lnTo>
                    <a:lnTo>
                      <a:pt x="669" y="1021"/>
                    </a:lnTo>
                    <a:lnTo>
                      <a:pt x="669" y="1021"/>
                    </a:lnTo>
                    <a:lnTo>
                      <a:pt x="675" y="1039"/>
                    </a:lnTo>
                    <a:lnTo>
                      <a:pt x="681" y="1056"/>
                    </a:lnTo>
                    <a:lnTo>
                      <a:pt x="681" y="1056"/>
                    </a:lnTo>
                    <a:lnTo>
                      <a:pt x="681" y="1056"/>
                    </a:lnTo>
                    <a:lnTo>
                      <a:pt x="693" y="1068"/>
                    </a:lnTo>
                    <a:lnTo>
                      <a:pt x="698" y="1062"/>
                    </a:lnTo>
                    <a:lnTo>
                      <a:pt x="693" y="1068"/>
                    </a:lnTo>
                    <a:lnTo>
                      <a:pt x="704" y="1085"/>
                    </a:lnTo>
                    <a:lnTo>
                      <a:pt x="704" y="1085"/>
                    </a:lnTo>
                    <a:lnTo>
                      <a:pt x="710" y="1091"/>
                    </a:lnTo>
                    <a:lnTo>
                      <a:pt x="727" y="1102"/>
                    </a:lnTo>
                    <a:lnTo>
                      <a:pt x="727" y="1091"/>
                    </a:lnTo>
                    <a:lnTo>
                      <a:pt x="721" y="1097"/>
                    </a:lnTo>
                    <a:lnTo>
                      <a:pt x="727" y="1114"/>
                    </a:lnTo>
                    <a:lnTo>
                      <a:pt x="727" y="1114"/>
                    </a:lnTo>
                    <a:lnTo>
                      <a:pt x="727" y="1114"/>
                    </a:lnTo>
                    <a:lnTo>
                      <a:pt x="739" y="1125"/>
                    </a:lnTo>
                    <a:lnTo>
                      <a:pt x="745" y="1120"/>
                    </a:lnTo>
                    <a:lnTo>
                      <a:pt x="739" y="1125"/>
                    </a:lnTo>
                    <a:lnTo>
                      <a:pt x="745" y="1143"/>
                    </a:lnTo>
                    <a:lnTo>
                      <a:pt x="750" y="1137"/>
                    </a:lnTo>
                    <a:lnTo>
                      <a:pt x="745" y="1137"/>
                    </a:lnTo>
                    <a:lnTo>
                      <a:pt x="745" y="1154"/>
                    </a:lnTo>
                    <a:lnTo>
                      <a:pt x="745" y="1172"/>
                    </a:lnTo>
                    <a:lnTo>
                      <a:pt x="745" y="1183"/>
                    </a:lnTo>
                    <a:lnTo>
                      <a:pt x="750" y="1183"/>
                    </a:lnTo>
                    <a:lnTo>
                      <a:pt x="745" y="1183"/>
                    </a:lnTo>
                    <a:lnTo>
                      <a:pt x="739" y="1200"/>
                    </a:lnTo>
                    <a:lnTo>
                      <a:pt x="733" y="1218"/>
                    </a:lnTo>
                    <a:lnTo>
                      <a:pt x="721" y="1235"/>
                    </a:lnTo>
                    <a:lnTo>
                      <a:pt x="727" y="1235"/>
                    </a:lnTo>
                    <a:lnTo>
                      <a:pt x="721" y="1229"/>
                    </a:lnTo>
                    <a:lnTo>
                      <a:pt x="710" y="1241"/>
                    </a:lnTo>
                    <a:lnTo>
                      <a:pt x="698" y="1252"/>
                    </a:lnTo>
                    <a:lnTo>
                      <a:pt x="704" y="1258"/>
                    </a:lnTo>
                    <a:lnTo>
                      <a:pt x="704" y="1252"/>
                    </a:lnTo>
                    <a:lnTo>
                      <a:pt x="681" y="1264"/>
                    </a:lnTo>
                    <a:lnTo>
                      <a:pt x="681" y="1264"/>
                    </a:lnTo>
                    <a:lnTo>
                      <a:pt x="675" y="1264"/>
                    </a:lnTo>
                    <a:lnTo>
                      <a:pt x="658" y="1281"/>
                    </a:lnTo>
                    <a:lnTo>
                      <a:pt x="664" y="1287"/>
                    </a:lnTo>
                    <a:lnTo>
                      <a:pt x="664" y="1281"/>
                    </a:lnTo>
                    <a:lnTo>
                      <a:pt x="641" y="1287"/>
                    </a:lnTo>
                    <a:lnTo>
                      <a:pt x="612" y="1293"/>
                    </a:lnTo>
                    <a:lnTo>
                      <a:pt x="594" y="1293"/>
                    </a:lnTo>
                    <a:lnTo>
                      <a:pt x="566" y="1293"/>
                    </a:lnTo>
                    <a:lnTo>
                      <a:pt x="531" y="1293"/>
                    </a:lnTo>
                    <a:lnTo>
                      <a:pt x="496" y="1293"/>
                    </a:lnTo>
                    <a:lnTo>
                      <a:pt x="462" y="1293"/>
                    </a:lnTo>
                    <a:lnTo>
                      <a:pt x="421" y="1293"/>
                    </a:lnTo>
                    <a:lnTo>
                      <a:pt x="381" y="1293"/>
                    </a:lnTo>
                    <a:lnTo>
                      <a:pt x="341" y="1293"/>
                    </a:lnTo>
                    <a:lnTo>
                      <a:pt x="341" y="1298"/>
                    </a:lnTo>
                    <a:lnTo>
                      <a:pt x="352" y="1304"/>
                    </a:lnTo>
                    <a:lnTo>
                      <a:pt x="358" y="1287"/>
                    </a:lnTo>
                    <a:lnTo>
                      <a:pt x="364" y="1264"/>
                    </a:lnTo>
                    <a:lnTo>
                      <a:pt x="369" y="1241"/>
                    </a:lnTo>
                    <a:lnTo>
                      <a:pt x="375" y="1218"/>
                    </a:lnTo>
                    <a:lnTo>
                      <a:pt x="375" y="1218"/>
                    </a:lnTo>
                    <a:lnTo>
                      <a:pt x="375" y="1212"/>
                    </a:lnTo>
                    <a:lnTo>
                      <a:pt x="375" y="1189"/>
                    </a:lnTo>
                    <a:lnTo>
                      <a:pt x="364" y="1189"/>
                    </a:lnTo>
                    <a:lnTo>
                      <a:pt x="375" y="1195"/>
                    </a:lnTo>
                    <a:lnTo>
                      <a:pt x="381" y="1172"/>
                    </a:lnTo>
                    <a:lnTo>
                      <a:pt x="381" y="1172"/>
                    </a:lnTo>
                    <a:lnTo>
                      <a:pt x="381" y="1166"/>
                    </a:lnTo>
                    <a:lnTo>
                      <a:pt x="381" y="1143"/>
                    </a:lnTo>
                    <a:lnTo>
                      <a:pt x="381" y="1120"/>
                    </a:lnTo>
                    <a:lnTo>
                      <a:pt x="381" y="1097"/>
                    </a:lnTo>
                    <a:lnTo>
                      <a:pt x="381" y="1073"/>
                    </a:lnTo>
                    <a:lnTo>
                      <a:pt x="381" y="1073"/>
                    </a:lnTo>
                    <a:lnTo>
                      <a:pt x="381" y="1073"/>
                    </a:lnTo>
                    <a:lnTo>
                      <a:pt x="375" y="1050"/>
                    </a:lnTo>
                    <a:lnTo>
                      <a:pt x="364" y="1050"/>
                    </a:lnTo>
                    <a:lnTo>
                      <a:pt x="375" y="1050"/>
                    </a:lnTo>
                    <a:lnTo>
                      <a:pt x="375" y="1027"/>
                    </a:lnTo>
                    <a:lnTo>
                      <a:pt x="375" y="1027"/>
                    </a:lnTo>
                    <a:lnTo>
                      <a:pt x="375" y="1027"/>
                    </a:lnTo>
                    <a:lnTo>
                      <a:pt x="369" y="1010"/>
                    </a:lnTo>
                    <a:lnTo>
                      <a:pt x="364" y="993"/>
                    </a:lnTo>
                    <a:lnTo>
                      <a:pt x="358" y="975"/>
                    </a:lnTo>
                    <a:lnTo>
                      <a:pt x="352" y="964"/>
                    </a:lnTo>
                    <a:lnTo>
                      <a:pt x="346" y="946"/>
                    </a:lnTo>
                    <a:lnTo>
                      <a:pt x="346" y="946"/>
                    </a:lnTo>
                    <a:lnTo>
                      <a:pt x="341" y="941"/>
                    </a:lnTo>
                    <a:lnTo>
                      <a:pt x="335" y="935"/>
                    </a:lnTo>
                    <a:lnTo>
                      <a:pt x="329" y="941"/>
                    </a:lnTo>
                    <a:lnTo>
                      <a:pt x="341" y="941"/>
                    </a:lnTo>
                    <a:lnTo>
                      <a:pt x="335" y="929"/>
                    </a:lnTo>
                    <a:lnTo>
                      <a:pt x="335" y="929"/>
                    </a:lnTo>
                    <a:lnTo>
                      <a:pt x="329" y="923"/>
                    </a:lnTo>
                    <a:lnTo>
                      <a:pt x="323" y="918"/>
                    </a:lnTo>
                    <a:lnTo>
                      <a:pt x="323" y="918"/>
                    </a:lnTo>
                    <a:lnTo>
                      <a:pt x="323" y="918"/>
                    </a:lnTo>
                    <a:lnTo>
                      <a:pt x="312" y="912"/>
                    </a:lnTo>
                    <a:lnTo>
                      <a:pt x="312" y="912"/>
                    </a:lnTo>
                    <a:lnTo>
                      <a:pt x="306" y="912"/>
                    </a:lnTo>
                    <a:lnTo>
                      <a:pt x="300" y="912"/>
                    </a:lnTo>
                    <a:lnTo>
                      <a:pt x="300" y="918"/>
                    </a:lnTo>
                    <a:lnTo>
                      <a:pt x="306" y="912"/>
                    </a:lnTo>
                    <a:lnTo>
                      <a:pt x="300" y="906"/>
                    </a:lnTo>
                    <a:lnTo>
                      <a:pt x="300" y="906"/>
                    </a:lnTo>
                    <a:lnTo>
                      <a:pt x="294" y="906"/>
                    </a:lnTo>
                    <a:lnTo>
                      <a:pt x="283" y="906"/>
                    </a:lnTo>
                    <a:lnTo>
                      <a:pt x="266" y="906"/>
                    </a:lnTo>
                    <a:lnTo>
                      <a:pt x="242" y="912"/>
                    </a:lnTo>
                    <a:lnTo>
                      <a:pt x="231" y="912"/>
                    </a:lnTo>
                    <a:lnTo>
                      <a:pt x="242" y="912"/>
                    </a:lnTo>
                    <a:lnTo>
                      <a:pt x="225" y="918"/>
                    </a:lnTo>
                    <a:lnTo>
                      <a:pt x="196" y="929"/>
                    </a:lnTo>
                    <a:lnTo>
                      <a:pt x="179" y="935"/>
                    </a:lnTo>
                    <a:lnTo>
                      <a:pt x="179" y="941"/>
                    </a:lnTo>
                    <a:lnTo>
                      <a:pt x="179" y="935"/>
                    </a:lnTo>
                    <a:lnTo>
                      <a:pt x="167" y="935"/>
                    </a:lnTo>
                    <a:lnTo>
                      <a:pt x="167" y="935"/>
                    </a:lnTo>
                    <a:lnTo>
                      <a:pt x="167" y="935"/>
                    </a:lnTo>
                    <a:lnTo>
                      <a:pt x="156" y="941"/>
                    </a:lnTo>
                    <a:lnTo>
                      <a:pt x="156" y="946"/>
                    </a:lnTo>
                    <a:lnTo>
                      <a:pt x="156" y="941"/>
                    </a:lnTo>
                    <a:lnTo>
                      <a:pt x="139" y="941"/>
                    </a:lnTo>
                    <a:lnTo>
                      <a:pt x="127" y="941"/>
                    </a:lnTo>
                    <a:lnTo>
                      <a:pt x="116" y="941"/>
                    </a:lnTo>
                    <a:lnTo>
                      <a:pt x="104" y="941"/>
                    </a:lnTo>
                    <a:lnTo>
                      <a:pt x="104" y="946"/>
                    </a:lnTo>
                    <a:lnTo>
                      <a:pt x="110" y="941"/>
                    </a:lnTo>
                    <a:lnTo>
                      <a:pt x="98" y="935"/>
                    </a:lnTo>
                    <a:lnTo>
                      <a:pt x="98" y="935"/>
                    </a:lnTo>
                    <a:lnTo>
                      <a:pt x="92" y="935"/>
                    </a:lnTo>
                    <a:lnTo>
                      <a:pt x="81" y="935"/>
                    </a:lnTo>
                    <a:lnTo>
                      <a:pt x="81" y="941"/>
                    </a:lnTo>
                    <a:lnTo>
                      <a:pt x="87" y="935"/>
                    </a:lnTo>
                    <a:lnTo>
                      <a:pt x="75" y="929"/>
                    </a:lnTo>
                    <a:lnTo>
                      <a:pt x="69" y="935"/>
                    </a:lnTo>
                    <a:lnTo>
                      <a:pt x="75" y="929"/>
                    </a:lnTo>
                    <a:lnTo>
                      <a:pt x="69" y="923"/>
                    </a:lnTo>
                    <a:lnTo>
                      <a:pt x="69" y="923"/>
                    </a:lnTo>
                    <a:lnTo>
                      <a:pt x="64" y="923"/>
                    </a:lnTo>
                    <a:lnTo>
                      <a:pt x="58" y="923"/>
                    </a:lnTo>
                    <a:lnTo>
                      <a:pt x="58" y="929"/>
                    </a:lnTo>
                    <a:lnTo>
                      <a:pt x="64" y="923"/>
                    </a:lnTo>
                    <a:lnTo>
                      <a:pt x="46" y="912"/>
                    </a:lnTo>
                    <a:lnTo>
                      <a:pt x="41" y="918"/>
                    </a:lnTo>
                    <a:lnTo>
                      <a:pt x="52" y="918"/>
                    </a:lnTo>
                    <a:lnTo>
                      <a:pt x="41" y="900"/>
                    </a:lnTo>
                    <a:lnTo>
                      <a:pt x="35" y="889"/>
                    </a:lnTo>
                    <a:lnTo>
                      <a:pt x="23" y="871"/>
                    </a:lnTo>
                    <a:lnTo>
                      <a:pt x="17" y="854"/>
                    </a:lnTo>
                    <a:lnTo>
                      <a:pt x="6" y="854"/>
                    </a:lnTo>
                    <a:lnTo>
                      <a:pt x="17" y="854"/>
                    </a:lnTo>
                    <a:lnTo>
                      <a:pt x="17" y="843"/>
                    </a:lnTo>
                    <a:lnTo>
                      <a:pt x="17" y="825"/>
                    </a:lnTo>
                    <a:lnTo>
                      <a:pt x="17" y="808"/>
                    </a:lnTo>
                    <a:lnTo>
                      <a:pt x="6" y="808"/>
                    </a:lnTo>
                    <a:lnTo>
                      <a:pt x="17" y="814"/>
                    </a:lnTo>
                    <a:lnTo>
                      <a:pt x="23" y="802"/>
                    </a:lnTo>
                    <a:lnTo>
                      <a:pt x="12" y="796"/>
                    </a:lnTo>
                    <a:lnTo>
                      <a:pt x="17" y="802"/>
                    </a:lnTo>
                    <a:lnTo>
                      <a:pt x="23" y="796"/>
                    </a:lnTo>
                    <a:lnTo>
                      <a:pt x="29" y="796"/>
                    </a:lnTo>
                    <a:lnTo>
                      <a:pt x="29" y="796"/>
                    </a:lnTo>
                    <a:lnTo>
                      <a:pt x="41" y="779"/>
                    </a:lnTo>
                    <a:lnTo>
                      <a:pt x="52" y="762"/>
                    </a:lnTo>
                    <a:lnTo>
                      <a:pt x="41" y="756"/>
                    </a:lnTo>
                    <a:lnTo>
                      <a:pt x="46" y="762"/>
                    </a:lnTo>
                    <a:lnTo>
                      <a:pt x="58" y="750"/>
                    </a:lnTo>
                    <a:lnTo>
                      <a:pt x="52" y="745"/>
                    </a:lnTo>
                    <a:lnTo>
                      <a:pt x="58" y="756"/>
                    </a:lnTo>
                    <a:lnTo>
                      <a:pt x="69" y="750"/>
                    </a:lnTo>
                    <a:lnTo>
                      <a:pt x="69" y="745"/>
                    </a:lnTo>
                    <a:lnTo>
                      <a:pt x="75" y="745"/>
                    </a:lnTo>
                    <a:lnTo>
                      <a:pt x="81" y="733"/>
                    </a:lnTo>
                    <a:lnTo>
                      <a:pt x="69" y="727"/>
                    </a:lnTo>
                    <a:lnTo>
                      <a:pt x="75" y="739"/>
                    </a:lnTo>
                    <a:lnTo>
                      <a:pt x="87" y="733"/>
                    </a:lnTo>
                    <a:lnTo>
                      <a:pt x="81" y="721"/>
                    </a:lnTo>
                    <a:lnTo>
                      <a:pt x="81" y="733"/>
                    </a:lnTo>
                    <a:lnTo>
                      <a:pt x="92" y="733"/>
                    </a:lnTo>
                    <a:lnTo>
                      <a:pt x="98" y="733"/>
                    </a:lnTo>
                    <a:lnTo>
                      <a:pt x="98" y="733"/>
                    </a:lnTo>
                    <a:lnTo>
                      <a:pt x="110" y="727"/>
                    </a:lnTo>
                    <a:lnTo>
                      <a:pt x="104" y="716"/>
                    </a:lnTo>
                    <a:lnTo>
                      <a:pt x="104" y="727"/>
                    </a:lnTo>
                    <a:lnTo>
                      <a:pt x="116" y="727"/>
                    </a:lnTo>
                    <a:lnTo>
                      <a:pt x="127" y="727"/>
                    </a:lnTo>
                    <a:lnTo>
                      <a:pt x="127" y="716"/>
                    </a:lnTo>
                    <a:lnTo>
                      <a:pt x="121" y="721"/>
                    </a:lnTo>
                    <a:lnTo>
                      <a:pt x="127" y="727"/>
                    </a:lnTo>
                    <a:lnTo>
                      <a:pt x="133" y="733"/>
                    </a:lnTo>
                    <a:lnTo>
                      <a:pt x="133" y="733"/>
                    </a:lnTo>
                    <a:lnTo>
                      <a:pt x="144" y="733"/>
                    </a:lnTo>
                    <a:lnTo>
                      <a:pt x="167" y="739"/>
                    </a:lnTo>
                    <a:lnTo>
                      <a:pt x="167" y="727"/>
                    </a:lnTo>
                    <a:lnTo>
                      <a:pt x="167" y="739"/>
                    </a:lnTo>
                    <a:lnTo>
                      <a:pt x="185" y="750"/>
                    </a:lnTo>
                    <a:lnTo>
                      <a:pt x="208" y="762"/>
                    </a:lnTo>
                    <a:lnTo>
                      <a:pt x="225" y="773"/>
                    </a:lnTo>
                    <a:lnTo>
                      <a:pt x="242" y="779"/>
                    </a:lnTo>
                    <a:lnTo>
                      <a:pt x="266" y="791"/>
                    </a:lnTo>
                    <a:lnTo>
                      <a:pt x="266" y="791"/>
                    </a:lnTo>
                    <a:lnTo>
                      <a:pt x="266" y="791"/>
                    </a:lnTo>
                    <a:lnTo>
                      <a:pt x="277" y="791"/>
                    </a:lnTo>
                    <a:lnTo>
                      <a:pt x="277" y="779"/>
                    </a:lnTo>
                    <a:lnTo>
                      <a:pt x="271" y="785"/>
                    </a:lnTo>
                    <a:lnTo>
                      <a:pt x="277" y="791"/>
                    </a:lnTo>
                    <a:lnTo>
                      <a:pt x="283" y="796"/>
                    </a:lnTo>
                    <a:lnTo>
                      <a:pt x="283" y="796"/>
                    </a:lnTo>
                    <a:lnTo>
                      <a:pt x="294" y="796"/>
                    </a:lnTo>
                    <a:lnTo>
                      <a:pt x="306" y="796"/>
                    </a:lnTo>
                    <a:lnTo>
                      <a:pt x="312" y="796"/>
                    </a:lnTo>
                    <a:lnTo>
                      <a:pt x="312" y="791"/>
                    </a:lnTo>
                    <a:lnTo>
                      <a:pt x="317" y="785"/>
                    </a:lnTo>
                    <a:lnTo>
                      <a:pt x="312" y="779"/>
                    </a:lnTo>
                    <a:lnTo>
                      <a:pt x="317" y="791"/>
                    </a:lnTo>
                    <a:lnTo>
                      <a:pt x="329" y="785"/>
                    </a:lnTo>
                    <a:lnTo>
                      <a:pt x="341" y="779"/>
                    </a:lnTo>
                    <a:lnTo>
                      <a:pt x="341" y="779"/>
                    </a:lnTo>
                    <a:lnTo>
                      <a:pt x="341" y="773"/>
                    </a:lnTo>
                    <a:lnTo>
                      <a:pt x="346" y="7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6705720" y="2008080"/>
              <a:ext cx="1520640" cy="2259000"/>
              <a:chOff x="6705720" y="2008080"/>
              <a:chExt cx="1520640" cy="2259000"/>
            </a:xfrm>
          </p:grpSpPr>
          <p:sp>
            <p:nvSpPr>
              <p:cNvPr id="124" name=""/>
              <p:cNvSpPr/>
              <p:nvPr/>
            </p:nvSpPr>
            <p:spPr>
              <a:xfrm>
                <a:off x="6714000" y="2017080"/>
                <a:ext cx="1495440" cy="2231280"/>
              </a:xfrm>
              <a:custGeom>
                <a:avLst/>
                <a:gdLst/>
                <a:ahLst/>
                <a:rect l="l" t="t" r="r" b="b"/>
                <a:pathLst>
                  <a:path w="1062" h="1454">
                    <a:moveTo>
                      <a:pt x="323" y="1402"/>
                    </a:moveTo>
                    <a:lnTo>
                      <a:pt x="346" y="1408"/>
                    </a:lnTo>
                    <a:lnTo>
                      <a:pt x="364" y="1414"/>
                    </a:lnTo>
                    <a:lnTo>
                      <a:pt x="387" y="1414"/>
                    </a:lnTo>
                    <a:lnTo>
                      <a:pt x="404" y="1414"/>
                    </a:lnTo>
                    <a:lnTo>
                      <a:pt x="416" y="1414"/>
                    </a:lnTo>
                    <a:lnTo>
                      <a:pt x="427" y="1408"/>
                    </a:lnTo>
                    <a:lnTo>
                      <a:pt x="439" y="1402"/>
                    </a:lnTo>
                    <a:lnTo>
                      <a:pt x="445" y="1391"/>
                    </a:lnTo>
                    <a:lnTo>
                      <a:pt x="456" y="1385"/>
                    </a:lnTo>
                    <a:lnTo>
                      <a:pt x="456" y="1373"/>
                    </a:lnTo>
                    <a:lnTo>
                      <a:pt x="456" y="1362"/>
                    </a:lnTo>
                    <a:lnTo>
                      <a:pt x="456" y="1345"/>
                    </a:lnTo>
                    <a:lnTo>
                      <a:pt x="456" y="1333"/>
                    </a:lnTo>
                    <a:lnTo>
                      <a:pt x="450" y="1321"/>
                    </a:lnTo>
                    <a:lnTo>
                      <a:pt x="445" y="1310"/>
                    </a:lnTo>
                    <a:lnTo>
                      <a:pt x="433" y="1298"/>
                    </a:lnTo>
                    <a:lnTo>
                      <a:pt x="422" y="1287"/>
                    </a:lnTo>
                    <a:lnTo>
                      <a:pt x="410" y="1264"/>
                    </a:lnTo>
                    <a:lnTo>
                      <a:pt x="404" y="1246"/>
                    </a:lnTo>
                    <a:lnTo>
                      <a:pt x="398" y="1229"/>
                    </a:lnTo>
                    <a:lnTo>
                      <a:pt x="393" y="1212"/>
                    </a:lnTo>
                    <a:lnTo>
                      <a:pt x="387" y="1189"/>
                    </a:lnTo>
                    <a:lnTo>
                      <a:pt x="387" y="1171"/>
                    </a:lnTo>
                    <a:lnTo>
                      <a:pt x="393" y="1148"/>
                    </a:lnTo>
                    <a:lnTo>
                      <a:pt x="398" y="1131"/>
                    </a:lnTo>
                    <a:lnTo>
                      <a:pt x="404" y="1114"/>
                    </a:lnTo>
                    <a:lnTo>
                      <a:pt x="410" y="1108"/>
                    </a:lnTo>
                    <a:lnTo>
                      <a:pt x="416" y="1096"/>
                    </a:lnTo>
                    <a:lnTo>
                      <a:pt x="422" y="1091"/>
                    </a:lnTo>
                    <a:lnTo>
                      <a:pt x="427" y="1085"/>
                    </a:lnTo>
                    <a:lnTo>
                      <a:pt x="433" y="1079"/>
                    </a:lnTo>
                    <a:lnTo>
                      <a:pt x="445" y="1073"/>
                    </a:lnTo>
                    <a:lnTo>
                      <a:pt x="450" y="1073"/>
                    </a:lnTo>
                    <a:lnTo>
                      <a:pt x="462" y="1068"/>
                    </a:lnTo>
                    <a:lnTo>
                      <a:pt x="473" y="1062"/>
                    </a:lnTo>
                    <a:lnTo>
                      <a:pt x="485" y="1062"/>
                    </a:lnTo>
                    <a:lnTo>
                      <a:pt x="497" y="1056"/>
                    </a:lnTo>
                    <a:lnTo>
                      <a:pt x="508" y="1056"/>
                    </a:lnTo>
                    <a:lnTo>
                      <a:pt x="525" y="1056"/>
                    </a:lnTo>
                    <a:lnTo>
                      <a:pt x="537" y="1056"/>
                    </a:lnTo>
                    <a:lnTo>
                      <a:pt x="554" y="1062"/>
                    </a:lnTo>
                    <a:lnTo>
                      <a:pt x="566" y="1062"/>
                    </a:lnTo>
                    <a:lnTo>
                      <a:pt x="577" y="1068"/>
                    </a:lnTo>
                    <a:lnTo>
                      <a:pt x="589" y="1073"/>
                    </a:lnTo>
                    <a:lnTo>
                      <a:pt x="600" y="1073"/>
                    </a:lnTo>
                    <a:lnTo>
                      <a:pt x="606" y="1079"/>
                    </a:lnTo>
                    <a:lnTo>
                      <a:pt x="618" y="1085"/>
                    </a:lnTo>
                    <a:lnTo>
                      <a:pt x="623" y="1091"/>
                    </a:lnTo>
                    <a:lnTo>
                      <a:pt x="635" y="1096"/>
                    </a:lnTo>
                    <a:lnTo>
                      <a:pt x="641" y="1108"/>
                    </a:lnTo>
                    <a:lnTo>
                      <a:pt x="647" y="1120"/>
                    </a:lnTo>
                    <a:lnTo>
                      <a:pt x="658" y="1137"/>
                    </a:lnTo>
                    <a:lnTo>
                      <a:pt x="664" y="1154"/>
                    </a:lnTo>
                    <a:lnTo>
                      <a:pt x="664" y="1171"/>
                    </a:lnTo>
                    <a:lnTo>
                      <a:pt x="664" y="1195"/>
                    </a:lnTo>
                    <a:lnTo>
                      <a:pt x="664" y="1212"/>
                    </a:lnTo>
                    <a:lnTo>
                      <a:pt x="658" y="1229"/>
                    </a:lnTo>
                    <a:lnTo>
                      <a:pt x="652" y="1246"/>
                    </a:lnTo>
                    <a:lnTo>
                      <a:pt x="641" y="1258"/>
                    </a:lnTo>
                    <a:lnTo>
                      <a:pt x="629" y="1275"/>
                    </a:lnTo>
                    <a:lnTo>
                      <a:pt x="606" y="1298"/>
                    </a:lnTo>
                    <a:lnTo>
                      <a:pt x="595" y="1321"/>
                    </a:lnTo>
                    <a:lnTo>
                      <a:pt x="589" y="1333"/>
                    </a:lnTo>
                    <a:lnTo>
                      <a:pt x="583" y="1339"/>
                    </a:lnTo>
                    <a:lnTo>
                      <a:pt x="583" y="1350"/>
                    </a:lnTo>
                    <a:lnTo>
                      <a:pt x="583" y="1356"/>
                    </a:lnTo>
                    <a:lnTo>
                      <a:pt x="583" y="1368"/>
                    </a:lnTo>
                    <a:lnTo>
                      <a:pt x="583" y="1373"/>
                    </a:lnTo>
                    <a:lnTo>
                      <a:pt x="589" y="1379"/>
                    </a:lnTo>
                    <a:lnTo>
                      <a:pt x="595" y="1385"/>
                    </a:lnTo>
                    <a:lnTo>
                      <a:pt x="606" y="1396"/>
                    </a:lnTo>
                    <a:lnTo>
                      <a:pt x="612" y="1402"/>
                    </a:lnTo>
                    <a:lnTo>
                      <a:pt x="623" y="1408"/>
                    </a:lnTo>
                    <a:lnTo>
                      <a:pt x="641" y="1414"/>
                    </a:lnTo>
                    <a:lnTo>
                      <a:pt x="658" y="1420"/>
                    </a:lnTo>
                    <a:lnTo>
                      <a:pt x="681" y="1425"/>
                    </a:lnTo>
                    <a:lnTo>
                      <a:pt x="704" y="1437"/>
                    </a:lnTo>
                    <a:lnTo>
                      <a:pt x="727" y="1437"/>
                    </a:lnTo>
                    <a:lnTo>
                      <a:pt x="750" y="1443"/>
                    </a:lnTo>
                    <a:lnTo>
                      <a:pt x="774" y="1448"/>
                    </a:lnTo>
                    <a:lnTo>
                      <a:pt x="802" y="1454"/>
                    </a:lnTo>
                    <a:lnTo>
                      <a:pt x="831" y="1454"/>
                    </a:lnTo>
                    <a:lnTo>
                      <a:pt x="854" y="1454"/>
                    </a:lnTo>
                    <a:lnTo>
                      <a:pt x="883" y="1454"/>
                    </a:lnTo>
                    <a:lnTo>
                      <a:pt x="906" y="1454"/>
                    </a:lnTo>
                    <a:lnTo>
                      <a:pt x="929" y="1448"/>
                    </a:lnTo>
                    <a:lnTo>
                      <a:pt x="952" y="1443"/>
                    </a:lnTo>
                    <a:lnTo>
                      <a:pt x="975" y="1437"/>
                    </a:lnTo>
                    <a:lnTo>
                      <a:pt x="993" y="1425"/>
                    </a:lnTo>
                    <a:lnTo>
                      <a:pt x="1010" y="1414"/>
                    </a:lnTo>
                    <a:lnTo>
                      <a:pt x="1004" y="1396"/>
                    </a:lnTo>
                    <a:lnTo>
                      <a:pt x="1004" y="1373"/>
                    </a:lnTo>
                    <a:lnTo>
                      <a:pt x="999" y="1350"/>
                    </a:lnTo>
                    <a:lnTo>
                      <a:pt x="999" y="1327"/>
                    </a:lnTo>
                    <a:lnTo>
                      <a:pt x="999" y="1281"/>
                    </a:lnTo>
                    <a:lnTo>
                      <a:pt x="999" y="1229"/>
                    </a:lnTo>
                    <a:lnTo>
                      <a:pt x="1004" y="1183"/>
                    </a:lnTo>
                    <a:lnTo>
                      <a:pt x="1004" y="1137"/>
                    </a:lnTo>
                    <a:lnTo>
                      <a:pt x="1010" y="1102"/>
                    </a:lnTo>
                    <a:lnTo>
                      <a:pt x="1010" y="1073"/>
                    </a:lnTo>
                    <a:lnTo>
                      <a:pt x="1010" y="1068"/>
                    </a:lnTo>
                    <a:lnTo>
                      <a:pt x="1004" y="1056"/>
                    </a:lnTo>
                    <a:lnTo>
                      <a:pt x="999" y="1045"/>
                    </a:lnTo>
                    <a:lnTo>
                      <a:pt x="993" y="1033"/>
                    </a:lnTo>
                    <a:lnTo>
                      <a:pt x="981" y="1027"/>
                    </a:lnTo>
                    <a:lnTo>
                      <a:pt x="970" y="1021"/>
                    </a:lnTo>
                    <a:lnTo>
                      <a:pt x="958" y="1010"/>
                    </a:lnTo>
                    <a:lnTo>
                      <a:pt x="947" y="1010"/>
                    </a:lnTo>
                    <a:lnTo>
                      <a:pt x="935" y="1004"/>
                    </a:lnTo>
                    <a:lnTo>
                      <a:pt x="924" y="998"/>
                    </a:lnTo>
                    <a:lnTo>
                      <a:pt x="912" y="998"/>
                    </a:lnTo>
                    <a:lnTo>
                      <a:pt x="895" y="998"/>
                    </a:lnTo>
                    <a:lnTo>
                      <a:pt x="883" y="1004"/>
                    </a:lnTo>
                    <a:lnTo>
                      <a:pt x="872" y="1010"/>
                    </a:lnTo>
                    <a:lnTo>
                      <a:pt x="860" y="1016"/>
                    </a:lnTo>
                    <a:lnTo>
                      <a:pt x="854" y="1027"/>
                    </a:lnTo>
                    <a:lnTo>
                      <a:pt x="843" y="1033"/>
                    </a:lnTo>
                    <a:lnTo>
                      <a:pt x="831" y="1039"/>
                    </a:lnTo>
                    <a:lnTo>
                      <a:pt x="820" y="1045"/>
                    </a:lnTo>
                    <a:lnTo>
                      <a:pt x="802" y="1050"/>
                    </a:lnTo>
                    <a:lnTo>
                      <a:pt x="785" y="1050"/>
                    </a:lnTo>
                    <a:lnTo>
                      <a:pt x="768" y="1050"/>
                    </a:lnTo>
                    <a:lnTo>
                      <a:pt x="750" y="1050"/>
                    </a:lnTo>
                    <a:lnTo>
                      <a:pt x="733" y="1045"/>
                    </a:lnTo>
                    <a:lnTo>
                      <a:pt x="716" y="1039"/>
                    </a:lnTo>
                    <a:lnTo>
                      <a:pt x="699" y="1027"/>
                    </a:lnTo>
                    <a:lnTo>
                      <a:pt x="687" y="1016"/>
                    </a:lnTo>
                    <a:lnTo>
                      <a:pt x="670" y="1004"/>
                    </a:lnTo>
                    <a:lnTo>
                      <a:pt x="664" y="993"/>
                    </a:lnTo>
                    <a:lnTo>
                      <a:pt x="658" y="987"/>
                    </a:lnTo>
                    <a:lnTo>
                      <a:pt x="658" y="975"/>
                    </a:lnTo>
                    <a:lnTo>
                      <a:pt x="652" y="970"/>
                    </a:lnTo>
                    <a:lnTo>
                      <a:pt x="647" y="958"/>
                    </a:lnTo>
                    <a:lnTo>
                      <a:pt x="647" y="946"/>
                    </a:lnTo>
                    <a:lnTo>
                      <a:pt x="647" y="935"/>
                    </a:lnTo>
                    <a:lnTo>
                      <a:pt x="647" y="923"/>
                    </a:lnTo>
                    <a:lnTo>
                      <a:pt x="647" y="912"/>
                    </a:lnTo>
                    <a:lnTo>
                      <a:pt x="647" y="895"/>
                    </a:lnTo>
                    <a:lnTo>
                      <a:pt x="647" y="883"/>
                    </a:lnTo>
                    <a:lnTo>
                      <a:pt x="652" y="871"/>
                    </a:lnTo>
                    <a:lnTo>
                      <a:pt x="658" y="860"/>
                    </a:lnTo>
                    <a:lnTo>
                      <a:pt x="658" y="848"/>
                    </a:lnTo>
                    <a:lnTo>
                      <a:pt x="664" y="843"/>
                    </a:lnTo>
                    <a:lnTo>
                      <a:pt x="675" y="831"/>
                    </a:lnTo>
                    <a:lnTo>
                      <a:pt x="687" y="820"/>
                    </a:lnTo>
                    <a:lnTo>
                      <a:pt x="704" y="802"/>
                    </a:lnTo>
                    <a:lnTo>
                      <a:pt x="722" y="791"/>
                    </a:lnTo>
                    <a:lnTo>
                      <a:pt x="739" y="785"/>
                    </a:lnTo>
                    <a:lnTo>
                      <a:pt x="756" y="779"/>
                    </a:lnTo>
                    <a:lnTo>
                      <a:pt x="774" y="779"/>
                    </a:lnTo>
                    <a:lnTo>
                      <a:pt x="797" y="779"/>
                    </a:lnTo>
                    <a:lnTo>
                      <a:pt x="814" y="779"/>
                    </a:lnTo>
                    <a:lnTo>
                      <a:pt x="831" y="785"/>
                    </a:lnTo>
                    <a:lnTo>
                      <a:pt x="849" y="791"/>
                    </a:lnTo>
                    <a:lnTo>
                      <a:pt x="860" y="802"/>
                    </a:lnTo>
                    <a:lnTo>
                      <a:pt x="872" y="808"/>
                    </a:lnTo>
                    <a:lnTo>
                      <a:pt x="877" y="820"/>
                    </a:lnTo>
                    <a:lnTo>
                      <a:pt x="889" y="825"/>
                    </a:lnTo>
                    <a:lnTo>
                      <a:pt x="895" y="831"/>
                    </a:lnTo>
                    <a:lnTo>
                      <a:pt x="906" y="831"/>
                    </a:lnTo>
                    <a:lnTo>
                      <a:pt x="918" y="837"/>
                    </a:lnTo>
                    <a:lnTo>
                      <a:pt x="929" y="843"/>
                    </a:lnTo>
                    <a:lnTo>
                      <a:pt x="941" y="843"/>
                    </a:lnTo>
                    <a:lnTo>
                      <a:pt x="952" y="843"/>
                    </a:lnTo>
                    <a:lnTo>
                      <a:pt x="964" y="843"/>
                    </a:lnTo>
                    <a:lnTo>
                      <a:pt x="975" y="843"/>
                    </a:lnTo>
                    <a:lnTo>
                      <a:pt x="987" y="837"/>
                    </a:lnTo>
                    <a:lnTo>
                      <a:pt x="999" y="837"/>
                    </a:lnTo>
                    <a:lnTo>
                      <a:pt x="1010" y="831"/>
                    </a:lnTo>
                    <a:lnTo>
                      <a:pt x="1022" y="825"/>
                    </a:lnTo>
                    <a:lnTo>
                      <a:pt x="1033" y="820"/>
                    </a:lnTo>
                    <a:lnTo>
                      <a:pt x="1045" y="808"/>
                    </a:lnTo>
                    <a:lnTo>
                      <a:pt x="1045" y="802"/>
                    </a:lnTo>
                    <a:lnTo>
                      <a:pt x="1051" y="802"/>
                    </a:lnTo>
                    <a:lnTo>
                      <a:pt x="1056" y="791"/>
                    </a:lnTo>
                    <a:lnTo>
                      <a:pt x="1056" y="785"/>
                    </a:lnTo>
                    <a:lnTo>
                      <a:pt x="1062" y="768"/>
                    </a:lnTo>
                    <a:lnTo>
                      <a:pt x="1062" y="745"/>
                    </a:lnTo>
                    <a:lnTo>
                      <a:pt x="1062" y="721"/>
                    </a:lnTo>
                    <a:lnTo>
                      <a:pt x="1062" y="698"/>
                    </a:lnTo>
                    <a:lnTo>
                      <a:pt x="1062" y="675"/>
                    </a:lnTo>
                    <a:lnTo>
                      <a:pt x="1056" y="646"/>
                    </a:lnTo>
                    <a:lnTo>
                      <a:pt x="1045" y="594"/>
                    </a:lnTo>
                    <a:lnTo>
                      <a:pt x="1033" y="548"/>
                    </a:lnTo>
                    <a:lnTo>
                      <a:pt x="1022" y="502"/>
                    </a:lnTo>
                    <a:lnTo>
                      <a:pt x="1010" y="468"/>
                    </a:lnTo>
                    <a:lnTo>
                      <a:pt x="981" y="473"/>
                    </a:lnTo>
                    <a:lnTo>
                      <a:pt x="952" y="473"/>
                    </a:lnTo>
                    <a:lnTo>
                      <a:pt x="924" y="479"/>
                    </a:lnTo>
                    <a:lnTo>
                      <a:pt x="895" y="479"/>
                    </a:lnTo>
                    <a:lnTo>
                      <a:pt x="866" y="479"/>
                    </a:lnTo>
                    <a:lnTo>
                      <a:pt x="837" y="479"/>
                    </a:lnTo>
                    <a:lnTo>
                      <a:pt x="808" y="473"/>
                    </a:lnTo>
                    <a:lnTo>
                      <a:pt x="785" y="473"/>
                    </a:lnTo>
                    <a:lnTo>
                      <a:pt x="733" y="468"/>
                    </a:lnTo>
                    <a:lnTo>
                      <a:pt x="699" y="462"/>
                    </a:lnTo>
                    <a:lnTo>
                      <a:pt x="670" y="456"/>
                    </a:lnTo>
                    <a:lnTo>
                      <a:pt x="664" y="450"/>
                    </a:lnTo>
                    <a:lnTo>
                      <a:pt x="641" y="444"/>
                    </a:lnTo>
                    <a:lnTo>
                      <a:pt x="623" y="433"/>
                    </a:lnTo>
                    <a:lnTo>
                      <a:pt x="606" y="421"/>
                    </a:lnTo>
                    <a:lnTo>
                      <a:pt x="595" y="404"/>
                    </a:lnTo>
                    <a:lnTo>
                      <a:pt x="583" y="387"/>
                    </a:lnTo>
                    <a:lnTo>
                      <a:pt x="577" y="375"/>
                    </a:lnTo>
                    <a:lnTo>
                      <a:pt x="572" y="358"/>
                    </a:lnTo>
                    <a:lnTo>
                      <a:pt x="566" y="346"/>
                    </a:lnTo>
                    <a:lnTo>
                      <a:pt x="566" y="329"/>
                    </a:lnTo>
                    <a:lnTo>
                      <a:pt x="572" y="312"/>
                    </a:lnTo>
                    <a:lnTo>
                      <a:pt x="572" y="294"/>
                    </a:lnTo>
                    <a:lnTo>
                      <a:pt x="577" y="283"/>
                    </a:lnTo>
                    <a:lnTo>
                      <a:pt x="583" y="271"/>
                    </a:lnTo>
                    <a:lnTo>
                      <a:pt x="595" y="260"/>
                    </a:lnTo>
                    <a:lnTo>
                      <a:pt x="600" y="248"/>
                    </a:lnTo>
                    <a:lnTo>
                      <a:pt x="612" y="237"/>
                    </a:lnTo>
                    <a:lnTo>
                      <a:pt x="623" y="225"/>
                    </a:lnTo>
                    <a:lnTo>
                      <a:pt x="629" y="214"/>
                    </a:lnTo>
                    <a:lnTo>
                      <a:pt x="641" y="196"/>
                    </a:lnTo>
                    <a:lnTo>
                      <a:pt x="647" y="179"/>
                    </a:lnTo>
                    <a:lnTo>
                      <a:pt x="652" y="162"/>
                    </a:lnTo>
                    <a:lnTo>
                      <a:pt x="652" y="139"/>
                    </a:lnTo>
                    <a:lnTo>
                      <a:pt x="652" y="121"/>
                    </a:lnTo>
                    <a:lnTo>
                      <a:pt x="652" y="98"/>
                    </a:lnTo>
                    <a:lnTo>
                      <a:pt x="647" y="81"/>
                    </a:lnTo>
                    <a:lnTo>
                      <a:pt x="641" y="58"/>
                    </a:lnTo>
                    <a:lnTo>
                      <a:pt x="635" y="52"/>
                    </a:lnTo>
                    <a:lnTo>
                      <a:pt x="629" y="46"/>
                    </a:lnTo>
                    <a:lnTo>
                      <a:pt x="618" y="35"/>
                    </a:lnTo>
                    <a:lnTo>
                      <a:pt x="612" y="29"/>
                    </a:lnTo>
                    <a:lnTo>
                      <a:pt x="606" y="23"/>
                    </a:lnTo>
                    <a:lnTo>
                      <a:pt x="595" y="18"/>
                    </a:lnTo>
                    <a:lnTo>
                      <a:pt x="583" y="12"/>
                    </a:lnTo>
                    <a:lnTo>
                      <a:pt x="572" y="6"/>
                    </a:lnTo>
                    <a:lnTo>
                      <a:pt x="554" y="0"/>
                    </a:lnTo>
                    <a:lnTo>
                      <a:pt x="543" y="0"/>
                    </a:lnTo>
                    <a:lnTo>
                      <a:pt x="525" y="0"/>
                    </a:lnTo>
                    <a:lnTo>
                      <a:pt x="508" y="0"/>
                    </a:lnTo>
                    <a:lnTo>
                      <a:pt x="497" y="0"/>
                    </a:lnTo>
                    <a:lnTo>
                      <a:pt x="479" y="0"/>
                    </a:lnTo>
                    <a:lnTo>
                      <a:pt x="468" y="0"/>
                    </a:lnTo>
                    <a:lnTo>
                      <a:pt x="456" y="6"/>
                    </a:lnTo>
                    <a:lnTo>
                      <a:pt x="445" y="6"/>
                    </a:lnTo>
                    <a:lnTo>
                      <a:pt x="433" y="12"/>
                    </a:lnTo>
                    <a:lnTo>
                      <a:pt x="422" y="18"/>
                    </a:lnTo>
                    <a:lnTo>
                      <a:pt x="410" y="23"/>
                    </a:lnTo>
                    <a:lnTo>
                      <a:pt x="404" y="29"/>
                    </a:lnTo>
                    <a:lnTo>
                      <a:pt x="393" y="35"/>
                    </a:lnTo>
                    <a:lnTo>
                      <a:pt x="387" y="41"/>
                    </a:lnTo>
                    <a:lnTo>
                      <a:pt x="381" y="52"/>
                    </a:lnTo>
                    <a:lnTo>
                      <a:pt x="370" y="64"/>
                    </a:lnTo>
                    <a:lnTo>
                      <a:pt x="364" y="87"/>
                    </a:lnTo>
                    <a:lnTo>
                      <a:pt x="358" y="104"/>
                    </a:lnTo>
                    <a:lnTo>
                      <a:pt x="358" y="121"/>
                    </a:lnTo>
                    <a:lnTo>
                      <a:pt x="358" y="139"/>
                    </a:lnTo>
                    <a:lnTo>
                      <a:pt x="358" y="162"/>
                    </a:lnTo>
                    <a:lnTo>
                      <a:pt x="364" y="179"/>
                    </a:lnTo>
                    <a:lnTo>
                      <a:pt x="370" y="196"/>
                    </a:lnTo>
                    <a:lnTo>
                      <a:pt x="381" y="208"/>
                    </a:lnTo>
                    <a:lnTo>
                      <a:pt x="393" y="225"/>
                    </a:lnTo>
                    <a:lnTo>
                      <a:pt x="404" y="237"/>
                    </a:lnTo>
                    <a:lnTo>
                      <a:pt x="416" y="254"/>
                    </a:lnTo>
                    <a:lnTo>
                      <a:pt x="422" y="271"/>
                    </a:lnTo>
                    <a:lnTo>
                      <a:pt x="427" y="283"/>
                    </a:lnTo>
                    <a:lnTo>
                      <a:pt x="433" y="300"/>
                    </a:lnTo>
                    <a:lnTo>
                      <a:pt x="433" y="318"/>
                    </a:lnTo>
                    <a:lnTo>
                      <a:pt x="427" y="335"/>
                    </a:lnTo>
                    <a:lnTo>
                      <a:pt x="427" y="352"/>
                    </a:lnTo>
                    <a:lnTo>
                      <a:pt x="416" y="369"/>
                    </a:lnTo>
                    <a:lnTo>
                      <a:pt x="410" y="381"/>
                    </a:lnTo>
                    <a:lnTo>
                      <a:pt x="398" y="398"/>
                    </a:lnTo>
                    <a:lnTo>
                      <a:pt x="381" y="410"/>
                    </a:lnTo>
                    <a:lnTo>
                      <a:pt x="364" y="421"/>
                    </a:lnTo>
                    <a:lnTo>
                      <a:pt x="346" y="433"/>
                    </a:lnTo>
                    <a:lnTo>
                      <a:pt x="318" y="444"/>
                    </a:lnTo>
                    <a:lnTo>
                      <a:pt x="295" y="450"/>
                    </a:lnTo>
                    <a:lnTo>
                      <a:pt x="277" y="450"/>
                    </a:lnTo>
                    <a:lnTo>
                      <a:pt x="248" y="450"/>
                    </a:lnTo>
                    <a:lnTo>
                      <a:pt x="220" y="450"/>
                    </a:lnTo>
                    <a:lnTo>
                      <a:pt x="185" y="450"/>
                    </a:lnTo>
                    <a:lnTo>
                      <a:pt x="150" y="450"/>
                    </a:lnTo>
                    <a:lnTo>
                      <a:pt x="110" y="450"/>
                    </a:lnTo>
                    <a:lnTo>
                      <a:pt x="70" y="450"/>
                    </a:lnTo>
                    <a:lnTo>
                      <a:pt x="29" y="450"/>
                    </a:lnTo>
                    <a:lnTo>
                      <a:pt x="23" y="479"/>
                    </a:lnTo>
                    <a:lnTo>
                      <a:pt x="18" y="519"/>
                    </a:lnTo>
                    <a:lnTo>
                      <a:pt x="12" y="566"/>
                    </a:lnTo>
                    <a:lnTo>
                      <a:pt x="6" y="612"/>
                    </a:lnTo>
                    <a:lnTo>
                      <a:pt x="0" y="658"/>
                    </a:lnTo>
                    <a:lnTo>
                      <a:pt x="0" y="698"/>
                    </a:lnTo>
                    <a:lnTo>
                      <a:pt x="0" y="733"/>
                    </a:lnTo>
                    <a:lnTo>
                      <a:pt x="0" y="756"/>
                    </a:lnTo>
                    <a:lnTo>
                      <a:pt x="6" y="768"/>
                    </a:lnTo>
                    <a:lnTo>
                      <a:pt x="12" y="779"/>
                    </a:lnTo>
                    <a:lnTo>
                      <a:pt x="18" y="785"/>
                    </a:lnTo>
                    <a:lnTo>
                      <a:pt x="29" y="796"/>
                    </a:lnTo>
                    <a:lnTo>
                      <a:pt x="41" y="802"/>
                    </a:lnTo>
                    <a:lnTo>
                      <a:pt x="52" y="808"/>
                    </a:lnTo>
                    <a:lnTo>
                      <a:pt x="70" y="814"/>
                    </a:lnTo>
                    <a:lnTo>
                      <a:pt x="81" y="820"/>
                    </a:lnTo>
                    <a:lnTo>
                      <a:pt x="98" y="820"/>
                    </a:lnTo>
                    <a:lnTo>
                      <a:pt x="116" y="820"/>
                    </a:lnTo>
                    <a:lnTo>
                      <a:pt x="127" y="820"/>
                    </a:lnTo>
                    <a:lnTo>
                      <a:pt x="145" y="820"/>
                    </a:lnTo>
                    <a:lnTo>
                      <a:pt x="162" y="814"/>
                    </a:lnTo>
                    <a:lnTo>
                      <a:pt x="173" y="808"/>
                    </a:lnTo>
                    <a:lnTo>
                      <a:pt x="185" y="802"/>
                    </a:lnTo>
                    <a:lnTo>
                      <a:pt x="196" y="791"/>
                    </a:lnTo>
                    <a:lnTo>
                      <a:pt x="208" y="785"/>
                    </a:lnTo>
                    <a:lnTo>
                      <a:pt x="220" y="773"/>
                    </a:lnTo>
                    <a:lnTo>
                      <a:pt x="237" y="773"/>
                    </a:lnTo>
                    <a:lnTo>
                      <a:pt x="248" y="768"/>
                    </a:lnTo>
                    <a:lnTo>
                      <a:pt x="266" y="768"/>
                    </a:lnTo>
                    <a:lnTo>
                      <a:pt x="283" y="768"/>
                    </a:lnTo>
                    <a:lnTo>
                      <a:pt x="300" y="773"/>
                    </a:lnTo>
                    <a:lnTo>
                      <a:pt x="318" y="779"/>
                    </a:lnTo>
                    <a:lnTo>
                      <a:pt x="329" y="785"/>
                    </a:lnTo>
                    <a:lnTo>
                      <a:pt x="346" y="796"/>
                    </a:lnTo>
                    <a:lnTo>
                      <a:pt x="358" y="808"/>
                    </a:lnTo>
                    <a:lnTo>
                      <a:pt x="370" y="825"/>
                    </a:lnTo>
                    <a:lnTo>
                      <a:pt x="381" y="843"/>
                    </a:lnTo>
                    <a:lnTo>
                      <a:pt x="387" y="860"/>
                    </a:lnTo>
                    <a:lnTo>
                      <a:pt x="393" y="883"/>
                    </a:lnTo>
                    <a:lnTo>
                      <a:pt x="393" y="906"/>
                    </a:lnTo>
                    <a:lnTo>
                      <a:pt x="393" y="923"/>
                    </a:lnTo>
                    <a:lnTo>
                      <a:pt x="387" y="935"/>
                    </a:lnTo>
                    <a:lnTo>
                      <a:pt x="381" y="952"/>
                    </a:lnTo>
                    <a:lnTo>
                      <a:pt x="370" y="964"/>
                    </a:lnTo>
                    <a:lnTo>
                      <a:pt x="358" y="975"/>
                    </a:lnTo>
                    <a:lnTo>
                      <a:pt x="346" y="987"/>
                    </a:lnTo>
                    <a:lnTo>
                      <a:pt x="329" y="993"/>
                    </a:lnTo>
                    <a:lnTo>
                      <a:pt x="318" y="998"/>
                    </a:lnTo>
                    <a:lnTo>
                      <a:pt x="300" y="1004"/>
                    </a:lnTo>
                    <a:lnTo>
                      <a:pt x="283" y="1010"/>
                    </a:lnTo>
                    <a:lnTo>
                      <a:pt x="266" y="1010"/>
                    </a:lnTo>
                    <a:lnTo>
                      <a:pt x="248" y="1010"/>
                    </a:lnTo>
                    <a:lnTo>
                      <a:pt x="237" y="1004"/>
                    </a:lnTo>
                    <a:lnTo>
                      <a:pt x="220" y="998"/>
                    </a:lnTo>
                    <a:lnTo>
                      <a:pt x="208" y="987"/>
                    </a:lnTo>
                    <a:lnTo>
                      <a:pt x="196" y="975"/>
                    </a:lnTo>
                    <a:lnTo>
                      <a:pt x="185" y="964"/>
                    </a:lnTo>
                    <a:lnTo>
                      <a:pt x="173" y="958"/>
                    </a:lnTo>
                    <a:lnTo>
                      <a:pt x="162" y="952"/>
                    </a:lnTo>
                    <a:lnTo>
                      <a:pt x="150" y="946"/>
                    </a:lnTo>
                    <a:lnTo>
                      <a:pt x="139" y="946"/>
                    </a:lnTo>
                    <a:lnTo>
                      <a:pt x="127" y="946"/>
                    </a:lnTo>
                    <a:lnTo>
                      <a:pt x="110" y="946"/>
                    </a:lnTo>
                    <a:lnTo>
                      <a:pt x="98" y="946"/>
                    </a:lnTo>
                    <a:lnTo>
                      <a:pt x="87" y="958"/>
                    </a:lnTo>
                    <a:lnTo>
                      <a:pt x="70" y="964"/>
                    </a:lnTo>
                    <a:lnTo>
                      <a:pt x="58" y="970"/>
                    </a:lnTo>
                    <a:lnTo>
                      <a:pt x="46" y="981"/>
                    </a:lnTo>
                    <a:lnTo>
                      <a:pt x="35" y="993"/>
                    </a:lnTo>
                    <a:lnTo>
                      <a:pt x="29" y="1004"/>
                    </a:lnTo>
                    <a:lnTo>
                      <a:pt x="18" y="1016"/>
                    </a:lnTo>
                    <a:lnTo>
                      <a:pt x="12" y="1033"/>
                    </a:lnTo>
                    <a:lnTo>
                      <a:pt x="6" y="1045"/>
                    </a:lnTo>
                    <a:lnTo>
                      <a:pt x="6" y="1068"/>
                    </a:lnTo>
                    <a:lnTo>
                      <a:pt x="6" y="1085"/>
                    </a:lnTo>
                    <a:lnTo>
                      <a:pt x="12" y="1108"/>
                    </a:lnTo>
                    <a:lnTo>
                      <a:pt x="18" y="1160"/>
                    </a:lnTo>
                    <a:lnTo>
                      <a:pt x="29" y="1218"/>
                    </a:lnTo>
                    <a:lnTo>
                      <a:pt x="35" y="1246"/>
                    </a:lnTo>
                    <a:lnTo>
                      <a:pt x="41" y="1270"/>
                    </a:lnTo>
                    <a:lnTo>
                      <a:pt x="41" y="1298"/>
                    </a:lnTo>
                    <a:lnTo>
                      <a:pt x="46" y="1327"/>
                    </a:lnTo>
                    <a:lnTo>
                      <a:pt x="46" y="1350"/>
                    </a:lnTo>
                    <a:lnTo>
                      <a:pt x="41" y="1373"/>
                    </a:lnTo>
                    <a:lnTo>
                      <a:pt x="41" y="1385"/>
                    </a:lnTo>
                    <a:lnTo>
                      <a:pt x="35" y="1396"/>
                    </a:lnTo>
                    <a:lnTo>
                      <a:pt x="35" y="1408"/>
                    </a:lnTo>
                    <a:lnTo>
                      <a:pt x="29" y="1414"/>
                    </a:lnTo>
                    <a:lnTo>
                      <a:pt x="70" y="1408"/>
                    </a:lnTo>
                    <a:lnTo>
                      <a:pt x="110" y="1396"/>
                    </a:lnTo>
                    <a:lnTo>
                      <a:pt x="150" y="1396"/>
                    </a:lnTo>
                    <a:lnTo>
                      <a:pt x="185" y="1391"/>
                    </a:lnTo>
                    <a:lnTo>
                      <a:pt x="225" y="1385"/>
                    </a:lnTo>
                    <a:lnTo>
                      <a:pt x="260" y="1385"/>
                    </a:lnTo>
                    <a:lnTo>
                      <a:pt x="277" y="1391"/>
                    </a:lnTo>
                    <a:lnTo>
                      <a:pt x="295" y="1391"/>
                    </a:lnTo>
                    <a:lnTo>
                      <a:pt x="306" y="1396"/>
                    </a:lnTo>
                    <a:lnTo>
                      <a:pt x="323" y="140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705720" y="2008080"/>
                <a:ext cx="1520640" cy="2259000"/>
              </a:xfrm>
              <a:custGeom>
                <a:avLst/>
                <a:gdLst/>
                <a:ahLst/>
                <a:rect l="l" t="t" r="r" b="b"/>
                <a:pathLst>
                  <a:path w="1080" h="1472">
                    <a:moveTo>
                      <a:pt x="352" y="1426"/>
                    </a:moveTo>
                    <a:lnTo>
                      <a:pt x="352" y="1414"/>
                    </a:lnTo>
                    <a:lnTo>
                      <a:pt x="352" y="1426"/>
                    </a:lnTo>
                    <a:lnTo>
                      <a:pt x="370" y="1431"/>
                    </a:lnTo>
                    <a:lnTo>
                      <a:pt x="370" y="1431"/>
                    </a:lnTo>
                    <a:lnTo>
                      <a:pt x="370" y="1431"/>
                    </a:lnTo>
                    <a:lnTo>
                      <a:pt x="393" y="1431"/>
                    </a:lnTo>
                    <a:lnTo>
                      <a:pt x="410" y="1431"/>
                    </a:lnTo>
                    <a:lnTo>
                      <a:pt x="422" y="1431"/>
                    </a:lnTo>
                    <a:lnTo>
                      <a:pt x="428" y="1431"/>
                    </a:lnTo>
                    <a:lnTo>
                      <a:pt x="428" y="1431"/>
                    </a:lnTo>
                    <a:lnTo>
                      <a:pt x="439" y="1426"/>
                    </a:lnTo>
                    <a:lnTo>
                      <a:pt x="451" y="1420"/>
                    </a:lnTo>
                    <a:lnTo>
                      <a:pt x="451" y="1414"/>
                    </a:lnTo>
                    <a:lnTo>
                      <a:pt x="456" y="1414"/>
                    </a:lnTo>
                    <a:lnTo>
                      <a:pt x="462" y="1402"/>
                    </a:lnTo>
                    <a:lnTo>
                      <a:pt x="451" y="1397"/>
                    </a:lnTo>
                    <a:lnTo>
                      <a:pt x="456" y="1408"/>
                    </a:lnTo>
                    <a:lnTo>
                      <a:pt x="468" y="1402"/>
                    </a:lnTo>
                    <a:lnTo>
                      <a:pt x="474" y="1397"/>
                    </a:lnTo>
                    <a:lnTo>
                      <a:pt x="474" y="1391"/>
                    </a:lnTo>
                    <a:lnTo>
                      <a:pt x="474" y="1379"/>
                    </a:lnTo>
                    <a:lnTo>
                      <a:pt x="474" y="1368"/>
                    </a:lnTo>
                    <a:lnTo>
                      <a:pt x="474" y="1351"/>
                    </a:lnTo>
                    <a:lnTo>
                      <a:pt x="474" y="1339"/>
                    </a:lnTo>
                    <a:lnTo>
                      <a:pt x="474" y="1339"/>
                    </a:lnTo>
                    <a:lnTo>
                      <a:pt x="474" y="1339"/>
                    </a:lnTo>
                    <a:lnTo>
                      <a:pt x="468" y="1327"/>
                    </a:lnTo>
                    <a:lnTo>
                      <a:pt x="462" y="1316"/>
                    </a:lnTo>
                    <a:lnTo>
                      <a:pt x="462" y="1316"/>
                    </a:lnTo>
                    <a:lnTo>
                      <a:pt x="456" y="1310"/>
                    </a:lnTo>
                    <a:lnTo>
                      <a:pt x="445" y="1299"/>
                    </a:lnTo>
                    <a:lnTo>
                      <a:pt x="433" y="1287"/>
                    </a:lnTo>
                    <a:lnTo>
                      <a:pt x="428" y="1293"/>
                    </a:lnTo>
                    <a:lnTo>
                      <a:pt x="439" y="1293"/>
                    </a:lnTo>
                    <a:lnTo>
                      <a:pt x="428" y="1270"/>
                    </a:lnTo>
                    <a:lnTo>
                      <a:pt x="422" y="1252"/>
                    </a:lnTo>
                    <a:lnTo>
                      <a:pt x="416" y="1235"/>
                    </a:lnTo>
                    <a:lnTo>
                      <a:pt x="410" y="1218"/>
                    </a:lnTo>
                    <a:lnTo>
                      <a:pt x="404" y="1195"/>
                    </a:lnTo>
                    <a:lnTo>
                      <a:pt x="393" y="1195"/>
                    </a:lnTo>
                    <a:lnTo>
                      <a:pt x="404" y="1195"/>
                    </a:lnTo>
                    <a:lnTo>
                      <a:pt x="404" y="1177"/>
                    </a:lnTo>
                    <a:lnTo>
                      <a:pt x="393" y="1177"/>
                    </a:lnTo>
                    <a:lnTo>
                      <a:pt x="404" y="1183"/>
                    </a:lnTo>
                    <a:lnTo>
                      <a:pt x="410" y="1160"/>
                    </a:lnTo>
                    <a:lnTo>
                      <a:pt x="416" y="1143"/>
                    </a:lnTo>
                    <a:lnTo>
                      <a:pt x="422" y="1126"/>
                    </a:lnTo>
                    <a:lnTo>
                      <a:pt x="410" y="1120"/>
                    </a:lnTo>
                    <a:lnTo>
                      <a:pt x="416" y="1126"/>
                    </a:lnTo>
                    <a:lnTo>
                      <a:pt x="422" y="1120"/>
                    </a:lnTo>
                    <a:lnTo>
                      <a:pt x="428" y="1120"/>
                    </a:lnTo>
                    <a:lnTo>
                      <a:pt x="428" y="1120"/>
                    </a:lnTo>
                    <a:lnTo>
                      <a:pt x="433" y="1108"/>
                    </a:lnTo>
                    <a:lnTo>
                      <a:pt x="422" y="1102"/>
                    </a:lnTo>
                    <a:lnTo>
                      <a:pt x="428" y="1108"/>
                    </a:lnTo>
                    <a:lnTo>
                      <a:pt x="433" y="1102"/>
                    </a:lnTo>
                    <a:lnTo>
                      <a:pt x="439" y="1097"/>
                    </a:lnTo>
                    <a:lnTo>
                      <a:pt x="445" y="1091"/>
                    </a:lnTo>
                    <a:lnTo>
                      <a:pt x="439" y="1085"/>
                    </a:lnTo>
                    <a:lnTo>
                      <a:pt x="445" y="1097"/>
                    </a:lnTo>
                    <a:lnTo>
                      <a:pt x="456" y="1091"/>
                    </a:lnTo>
                    <a:lnTo>
                      <a:pt x="451" y="1079"/>
                    </a:lnTo>
                    <a:lnTo>
                      <a:pt x="451" y="1091"/>
                    </a:lnTo>
                    <a:lnTo>
                      <a:pt x="456" y="1091"/>
                    </a:lnTo>
                    <a:lnTo>
                      <a:pt x="462" y="1091"/>
                    </a:lnTo>
                    <a:lnTo>
                      <a:pt x="462" y="1091"/>
                    </a:lnTo>
                    <a:lnTo>
                      <a:pt x="474" y="1085"/>
                    </a:lnTo>
                    <a:lnTo>
                      <a:pt x="485" y="1079"/>
                    </a:lnTo>
                    <a:lnTo>
                      <a:pt x="479" y="1068"/>
                    </a:lnTo>
                    <a:lnTo>
                      <a:pt x="479" y="1079"/>
                    </a:lnTo>
                    <a:lnTo>
                      <a:pt x="491" y="1079"/>
                    </a:lnTo>
                    <a:lnTo>
                      <a:pt x="497" y="1079"/>
                    </a:lnTo>
                    <a:lnTo>
                      <a:pt x="497" y="1079"/>
                    </a:lnTo>
                    <a:lnTo>
                      <a:pt x="508" y="1074"/>
                    </a:lnTo>
                    <a:lnTo>
                      <a:pt x="503" y="1062"/>
                    </a:lnTo>
                    <a:lnTo>
                      <a:pt x="503" y="1074"/>
                    </a:lnTo>
                    <a:lnTo>
                      <a:pt x="514" y="1074"/>
                    </a:lnTo>
                    <a:lnTo>
                      <a:pt x="531" y="1074"/>
                    </a:lnTo>
                    <a:lnTo>
                      <a:pt x="543" y="1074"/>
                    </a:lnTo>
                    <a:lnTo>
                      <a:pt x="543" y="1062"/>
                    </a:lnTo>
                    <a:lnTo>
                      <a:pt x="543" y="1074"/>
                    </a:lnTo>
                    <a:lnTo>
                      <a:pt x="560" y="1079"/>
                    </a:lnTo>
                    <a:lnTo>
                      <a:pt x="560" y="1079"/>
                    </a:lnTo>
                    <a:lnTo>
                      <a:pt x="560" y="1079"/>
                    </a:lnTo>
                    <a:lnTo>
                      <a:pt x="572" y="1079"/>
                    </a:lnTo>
                    <a:lnTo>
                      <a:pt x="572" y="1068"/>
                    </a:lnTo>
                    <a:lnTo>
                      <a:pt x="572" y="1079"/>
                    </a:lnTo>
                    <a:lnTo>
                      <a:pt x="583" y="1085"/>
                    </a:lnTo>
                    <a:lnTo>
                      <a:pt x="595" y="1091"/>
                    </a:lnTo>
                    <a:lnTo>
                      <a:pt x="595" y="1091"/>
                    </a:lnTo>
                    <a:lnTo>
                      <a:pt x="595" y="1091"/>
                    </a:lnTo>
                    <a:lnTo>
                      <a:pt x="606" y="1091"/>
                    </a:lnTo>
                    <a:lnTo>
                      <a:pt x="606" y="1079"/>
                    </a:lnTo>
                    <a:lnTo>
                      <a:pt x="601" y="1085"/>
                    </a:lnTo>
                    <a:lnTo>
                      <a:pt x="606" y="1091"/>
                    </a:lnTo>
                    <a:lnTo>
                      <a:pt x="612" y="1097"/>
                    </a:lnTo>
                    <a:lnTo>
                      <a:pt x="612" y="1097"/>
                    </a:lnTo>
                    <a:lnTo>
                      <a:pt x="624" y="1102"/>
                    </a:lnTo>
                    <a:lnTo>
                      <a:pt x="624" y="1091"/>
                    </a:lnTo>
                    <a:lnTo>
                      <a:pt x="618" y="1097"/>
                    </a:lnTo>
                    <a:lnTo>
                      <a:pt x="624" y="1102"/>
                    </a:lnTo>
                    <a:lnTo>
                      <a:pt x="629" y="1108"/>
                    </a:lnTo>
                    <a:lnTo>
                      <a:pt x="629" y="1108"/>
                    </a:lnTo>
                    <a:lnTo>
                      <a:pt x="641" y="1114"/>
                    </a:lnTo>
                    <a:lnTo>
                      <a:pt x="641" y="1102"/>
                    </a:lnTo>
                    <a:lnTo>
                      <a:pt x="635" y="1108"/>
                    </a:lnTo>
                    <a:lnTo>
                      <a:pt x="641" y="1120"/>
                    </a:lnTo>
                    <a:lnTo>
                      <a:pt x="647" y="1131"/>
                    </a:lnTo>
                    <a:lnTo>
                      <a:pt x="658" y="1149"/>
                    </a:lnTo>
                    <a:lnTo>
                      <a:pt x="664" y="1166"/>
                    </a:lnTo>
                    <a:lnTo>
                      <a:pt x="670" y="1160"/>
                    </a:lnTo>
                    <a:lnTo>
                      <a:pt x="664" y="1160"/>
                    </a:lnTo>
                    <a:lnTo>
                      <a:pt x="664" y="1177"/>
                    </a:lnTo>
                    <a:lnTo>
                      <a:pt x="664" y="1201"/>
                    </a:lnTo>
                    <a:lnTo>
                      <a:pt x="664" y="1218"/>
                    </a:lnTo>
                    <a:lnTo>
                      <a:pt x="670" y="1218"/>
                    </a:lnTo>
                    <a:lnTo>
                      <a:pt x="664" y="1218"/>
                    </a:lnTo>
                    <a:lnTo>
                      <a:pt x="658" y="1235"/>
                    </a:lnTo>
                    <a:lnTo>
                      <a:pt x="653" y="1252"/>
                    </a:lnTo>
                    <a:lnTo>
                      <a:pt x="658" y="1252"/>
                    </a:lnTo>
                    <a:lnTo>
                      <a:pt x="653" y="1247"/>
                    </a:lnTo>
                    <a:lnTo>
                      <a:pt x="641" y="1258"/>
                    </a:lnTo>
                    <a:lnTo>
                      <a:pt x="641" y="1264"/>
                    </a:lnTo>
                    <a:lnTo>
                      <a:pt x="641" y="1264"/>
                    </a:lnTo>
                    <a:lnTo>
                      <a:pt x="629" y="1281"/>
                    </a:lnTo>
                    <a:lnTo>
                      <a:pt x="635" y="1281"/>
                    </a:lnTo>
                    <a:lnTo>
                      <a:pt x="629" y="1276"/>
                    </a:lnTo>
                    <a:lnTo>
                      <a:pt x="606" y="1299"/>
                    </a:lnTo>
                    <a:lnTo>
                      <a:pt x="606" y="1304"/>
                    </a:lnTo>
                    <a:lnTo>
                      <a:pt x="606" y="1304"/>
                    </a:lnTo>
                    <a:lnTo>
                      <a:pt x="595" y="1327"/>
                    </a:lnTo>
                    <a:lnTo>
                      <a:pt x="589" y="1339"/>
                    </a:lnTo>
                    <a:lnTo>
                      <a:pt x="595" y="1339"/>
                    </a:lnTo>
                    <a:lnTo>
                      <a:pt x="589" y="1333"/>
                    </a:lnTo>
                    <a:lnTo>
                      <a:pt x="583" y="1339"/>
                    </a:lnTo>
                    <a:lnTo>
                      <a:pt x="583" y="1345"/>
                    </a:lnTo>
                    <a:lnTo>
                      <a:pt x="583" y="1345"/>
                    </a:lnTo>
                    <a:lnTo>
                      <a:pt x="583" y="1356"/>
                    </a:lnTo>
                    <a:lnTo>
                      <a:pt x="583" y="1362"/>
                    </a:lnTo>
                    <a:lnTo>
                      <a:pt x="583" y="1374"/>
                    </a:lnTo>
                    <a:lnTo>
                      <a:pt x="583" y="1379"/>
                    </a:lnTo>
                    <a:lnTo>
                      <a:pt x="583" y="1385"/>
                    </a:lnTo>
                    <a:lnTo>
                      <a:pt x="583" y="1385"/>
                    </a:lnTo>
                    <a:lnTo>
                      <a:pt x="589" y="1391"/>
                    </a:lnTo>
                    <a:lnTo>
                      <a:pt x="595" y="1397"/>
                    </a:lnTo>
                    <a:lnTo>
                      <a:pt x="606" y="1408"/>
                    </a:lnTo>
                    <a:lnTo>
                      <a:pt x="612" y="1414"/>
                    </a:lnTo>
                    <a:lnTo>
                      <a:pt x="618" y="1420"/>
                    </a:lnTo>
                    <a:lnTo>
                      <a:pt x="618" y="1420"/>
                    </a:lnTo>
                    <a:lnTo>
                      <a:pt x="629" y="1426"/>
                    </a:lnTo>
                    <a:lnTo>
                      <a:pt x="647" y="1431"/>
                    </a:lnTo>
                    <a:lnTo>
                      <a:pt x="664" y="1437"/>
                    </a:lnTo>
                    <a:lnTo>
                      <a:pt x="653" y="1431"/>
                    </a:lnTo>
                    <a:lnTo>
                      <a:pt x="664" y="1437"/>
                    </a:lnTo>
                    <a:lnTo>
                      <a:pt x="687" y="1443"/>
                    </a:lnTo>
                    <a:lnTo>
                      <a:pt x="687" y="1431"/>
                    </a:lnTo>
                    <a:lnTo>
                      <a:pt x="687" y="1443"/>
                    </a:lnTo>
                    <a:lnTo>
                      <a:pt x="710" y="1454"/>
                    </a:lnTo>
                    <a:lnTo>
                      <a:pt x="710" y="1454"/>
                    </a:lnTo>
                    <a:lnTo>
                      <a:pt x="710" y="1454"/>
                    </a:lnTo>
                    <a:lnTo>
                      <a:pt x="733" y="1454"/>
                    </a:lnTo>
                    <a:lnTo>
                      <a:pt x="756" y="1460"/>
                    </a:lnTo>
                    <a:lnTo>
                      <a:pt x="780" y="1466"/>
                    </a:lnTo>
                    <a:lnTo>
                      <a:pt x="808" y="1472"/>
                    </a:lnTo>
                    <a:lnTo>
                      <a:pt x="837" y="1472"/>
                    </a:lnTo>
                    <a:lnTo>
                      <a:pt x="860" y="1472"/>
                    </a:lnTo>
                    <a:lnTo>
                      <a:pt x="889" y="1472"/>
                    </a:lnTo>
                    <a:lnTo>
                      <a:pt x="912" y="1472"/>
                    </a:lnTo>
                    <a:lnTo>
                      <a:pt x="935" y="1466"/>
                    </a:lnTo>
                    <a:lnTo>
                      <a:pt x="958" y="1460"/>
                    </a:lnTo>
                    <a:lnTo>
                      <a:pt x="981" y="1454"/>
                    </a:lnTo>
                    <a:lnTo>
                      <a:pt x="987" y="1449"/>
                    </a:lnTo>
                    <a:lnTo>
                      <a:pt x="987" y="1454"/>
                    </a:lnTo>
                    <a:lnTo>
                      <a:pt x="1005" y="1443"/>
                    </a:lnTo>
                    <a:lnTo>
                      <a:pt x="1022" y="1431"/>
                    </a:lnTo>
                    <a:lnTo>
                      <a:pt x="1028" y="1426"/>
                    </a:lnTo>
                    <a:lnTo>
                      <a:pt x="1028" y="1420"/>
                    </a:lnTo>
                    <a:lnTo>
                      <a:pt x="1022" y="1402"/>
                    </a:lnTo>
                    <a:lnTo>
                      <a:pt x="1010" y="1402"/>
                    </a:lnTo>
                    <a:lnTo>
                      <a:pt x="1022" y="1402"/>
                    </a:lnTo>
                    <a:lnTo>
                      <a:pt x="1022" y="1379"/>
                    </a:lnTo>
                    <a:lnTo>
                      <a:pt x="1022" y="1379"/>
                    </a:lnTo>
                    <a:lnTo>
                      <a:pt x="1022" y="1379"/>
                    </a:lnTo>
                    <a:lnTo>
                      <a:pt x="1016" y="1356"/>
                    </a:lnTo>
                    <a:lnTo>
                      <a:pt x="1005" y="1356"/>
                    </a:lnTo>
                    <a:lnTo>
                      <a:pt x="1016" y="1356"/>
                    </a:lnTo>
                    <a:lnTo>
                      <a:pt x="1016" y="1333"/>
                    </a:lnTo>
                    <a:lnTo>
                      <a:pt x="1016" y="1287"/>
                    </a:lnTo>
                    <a:lnTo>
                      <a:pt x="1016" y="1235"/>
                    </a:lnTo>
                    <a:lnTo>
                      <a:pt x="1022" y="1189"/>
                    </a:lnTo>
                    <a:lnTo>
                      <a:pt x="1022" y="1143"/>
                    </a:lnTo>
                    <a:lnTo>
                      <a:pt x="1028" y="1108"/>
                    </a:lnTo>
                    <a:lnTo>
                      <a:pt x="1028" y="1079"/>
                    </a:lnTo>
                    <a:lnTo>
                      <a:pt x="1028" y="1074"/>
                    </a:lnTo>
                    <a:lnTo>
                      <a:pt x="1028" y="1074"/>
                    </a:lnTo>
                    <a:lnTo>
                      <a:pt x="1028" y="1074"/>
                    </a:lnTo>
                    <a:lnTo>
                      <a:pt x="1022" y="1062"/>
                    </a:lnTo>
                    <a:lnTo>
                      <a:pt x="1016" y="1051"/>
                    </a:lnTo>
                    <a:lnTo>
                      <a:pt x="1010" y="1039"/>
                    </a:lnTo>
                    <a:lnTo>
                      <a:pt x="1005" y="1033"/>
                    </a:lnTo>
                    <a:lnTo>
                      <a:pt x="1005" y="1033"/>
                    </a:lnTo>
                    <a:lnTo>
                      <a:pt x="993" y="1027"/>
                    </a:lnTo>
                    <a:lnTo>
                      <a:pt x="981" y="1022"/>
                    </a:lnTo>
                    <a:lnTo>
                      <a:pt x="976" y="1027"/>
                    </a:lnTo>
                    <a:lnTo>
                      <a:pt x="981" y="1022"/>
                    </a:lnTo>
                    <a:lnTo>
                      <a:pt x="970" y="1010"/>
                    </a:lnTo>
                    <a:lnTo>
                      <a:pt x="970" y="1010"/>
                    </a:lnTo>
                    <a:lnTo>
                      <a:pt x="964" y="1010"/>
                    </a:lnTo>
                    <a:lnTo>
                      <a:pt x="953" y="1010"/>
                    </a:lnTo>
                    <a:lnTo>
                      <a:pt x="953" y="1016"/>
                    </a:lnTo>
                    <a:lnTo>
                      <a:pt x="958" y="1010"/>
                    </a:lnTo>
                    <a:lnTo>
                      <a:pt x="947" y="1004"/>
                    </a:lnTo>
                    <a:lnTo>
                      <a:pt x="935" y="999"/>
                    </a:lnTo>
                    <a:lnTo>
                      <a:pt x="935" y="999"/>
                    </a:lnTo>
                    <a:lnTo>
                      <a:pt x="930" y="999"/>
                    </a:lnTo>
                    <a:lnTo>
                      <a:pt x="918" y="999"/>
                    </a:lnTo>
                    <a:lnTo>
                      <a:pt x="901" y="999"/>
                    </a:lnTo>
                    <a:lnTo>
                      <a:pt x="901" y="999"/>
                    </a:lnTo>
                    <a:lnTo>
                      <a:pt x="901" y="999"/>
                    </a:lnTo>
                    <a:lnTo>
                      <a:pt x="889" y="1004"/>
                    </a:lnTo>
                    <a:lnTo>
                      <a:pt x="878" y="1010"/>
                    </a:lnTo>
                    <a:lnTo>
                      <a:pt x="866" y="1016"/>
                    </a:lnTo>
                    <a:lnTo>
                      <a:pt x="860" y="1016"/>
                    </a:lnTo>
                    <a:lnTo>
                      <a:pt x="860" y="1022"/>
                    </a:lnTo>
                    <a:lnTo>
                      <a:pt x="855" y="1033"/>
                    </a:lnTo>
                    <a:lnTo>
                      <a:pt x="860" y="1033"/>
                    </a:lnTo>
                    <a:lnTo>
                      <a:pt x="860" y="1027"/>
                    </a:lnTo>
                    <a:lnTo>
                      <a:pt x="849" y="1033"/>
                    </a:lnTo>
                    <a:lnTo>
                      <a:pt x="837" y="1039"/>
                    </a:lnTo>
                    <a:lnTo>
                      <a:pt x="826" y="1045"/>
                    </a:lnTo>
                    <a:lnTo>
                      <a:pt x="808" y="1051"/>
                    </a:lnTo>
                    <a:lnTo>
                      <a:pt x="808" y="1056"/>
                    </a:lnTo>
                    <a:lnTo>
                      <a:pt x="808" y="1051"/>
                    </a:lnTo>
                    <a:lnTo>
                      <a:pt x="791" y="1051"/>
                    </a:lnTo>
                    <a:lnTo>
                      <a:pt x="774" y="1051"/>
                    </a:lnTo>
                    <a:lnTo>
                      <a:pt x="756" y="1051"/>
                    </a:lnTo>
                    <a:lnTo>
                      <a:pt x="756" y="1056"/>
                    </a:lnTo>
                    <a:lnTo>
                      <a:pt x="762" y="1051"/>
                    </a:lnTo>
                    <a:lnTo>
                      <a:pt x="745" y="1045"/>
                    </a:lnTo>
                    <a:lnTo>
                      <a:pt x="728" y="1039"/>
                    </a:lnTo>
                    <a:lnTo>
                      <a:pt x="710" y="1027"/>
                    </a:lnTo>
                    <a:lnTo>
                      <a:pt x="705" y="1033"/>
                    </a:lnTo>
                    <a:lnTo>
                      <a:pt x="710" y="1027"/>
                    </a:lnTo>
                    <a:lnTo>
                      <a:pt x="699" y="1016"/>
                    </a:lnTo>
                    <a:lnTo>
                      <a:pt x="699" y="1016"/>
                    </a:lnTo>
                    <a:lnTo>
                      <a:pt x="699" y="1016"/>
                    </a:lnTo>
                    <a:lnTo>
                      <a:pt x="681" y="1004"/>
                    </a:lnTo>
                    <a:lnTo>
                      <a:pt x="676" y="1010"/>
                    </a:lnTo>
                    <a:lnTo>
                      <a:pt x="687" y="1010"/>
                    </a:lnTo>
                    <a:lnTo>
                      <a:pt x="681" y="999"/>
                    </a:lnTo>
                    <a:lnTo>
                      <a:pt x="681" y="999"/>
                    </a:lnTo>
                    <a:lnTo>
                      <a:pt x="676" y="993"/>
                    </a:lnTo>
                    <a:lnTo>
                      <a:pt x="670" y="987"/>
                    </a:lnTo>
                    <a:lnTo>
                      <a:pt x="664" y="993"/>
                    </a:lnTo>
                    <a:lnTo>
                      <a:pt x="676" y="993"/>
                    </a:lnTo>
                    <a:lnTo>
                      <a:pt x="676" y="981"/>
                    </a:lnTo>
                    <a:lnTo>
                      <a:pt x="676" y="981"/>
                    </a:lnTo>
                    <a:lnTo>
                      <a:pt x="670" y="976"/>
                    </a:lnTo>
                    <a:lnTo>
                      <a:pt x="664" y="970"/>
                    </a:lnTo>
                    <a:lnTo>
                      <a:pt x="658" y="976"/>
                    </a:lnTo>
                    <a:lnTo>
                      <a:pt x="670" y="976"/>
                    </a:lnTo>
                    <a:lnTo>
                      <a:pt x="664" y="964"/>
                    </a:lnTo>
                    <a:lnTo>
                      <a:pt x="653" y="964"/>
                    </a:lnTo>
                    <a:lnTo>
                      <a:pt x="664" y="964"/>
                    </a:lnTo>
                    <a:lnTo>
                      <a:pt x="664" y="952"/>
                    </a:lnTo>
                    <a:lnTo>
                      <a:pt x="664" y="941"/>
                    </a:lnTo>
                    <a:lnTo>
                      <a:pt x="664" y="929"/>
                    </a:lnTo>
                    <a:lnTo>
                      <a:pt x="664" y="918"/>
                    </a:lnTo>
                    <a:lnTo>
                      <a:pt x="664" y="901"/>
                    </a:lnTo>
                    <a:lnTo>
                      <a:pt x="664" y="889"/>
                    </a:lnTo>
                    <a:lnTo>
                      <a:pt x="653" y="889"/>
                    </a:lnTo>
                    <a:lnTo>
                      <a:pt x="664" y="895"/>
                    </a:lnTo>
                    <a:lnTo>
                      <a:pt x="670" y="883"/>
                    </a:lnTo>
                    <a:lnTo>
                      <a:pt x="676" y="872"/>
                    </a:lnTo>
                    <a:lnTo>
                      <a:pt x="676" y="872"/>
                    </a:lnTo>
                    <a:lnTo>
                      <a:pt x="676" y="866"/>
                    </a:lnTo>
                    <a:lnTo>
                      <a:pt x="676" y="854"/>
                    </a:lnTo>
                    <a:lnTo>
                      <a:pt x="664" y="854"/>
                    </a:lnTo>
                    <a:lnTo>
                      <a:pt x="670" y="860"/>
                    </a:lnTo>
                    <a:lnTo>
                      <a:pt x="676" y="854"/>
                    </a:lnTo>
                    <a:lnTo>
                      <a:pt x="687" y="843"/>
                    </a:lnTo>
                    <a:lnTo>
                      <a:pt x="699" y="831"/>
                    </a:lnTo>
                    <a:lnTo>
                      <a:pt x="716" y="814"/>
                    </a:lnTo>
                    <a:lnTo>
                      <a:pt x="710" y="808"/>
                    </a:lnTo>
                    <a:lnTo>
                      <a:pt x="716" y="820"/>
                    </a:lnTo>
                    <a:lnTo>
                      <a:pt x="733" y="808"/>
                    </a:lnTo>
                    <a:lnTo>
                      <a:pt x="751" y="802"/>
                    </a:lnTo>
                    <a:lnTo>
                      <a:pt x="768" y="797"/>
                    </a:lnTo>
                    <a:lnTo>
                      <a:pt x="762" y="785"/>
                    </a:lnTo>
                    <a:lnTo>
                      <a:pt x="762" y="797"/>
                    </a:lnTo>
                    <a:lnTo>
                      <a:pt x="780" y="797"/>
                    </a:lnTo>
                    <a:lnTo>
                      <a:pt x="803" y="797"/>
                    </a:lnTo>
                    <a:lnTo>
                      <a:pt x="820" y="797"/>
                    </a:lnTo>
                    <a:lnTo>
                      <a:pt x="820" y="785"/>
                    </a:lnTo>
                    <a:lnTo>
                      <a:pt x="820" y="797"/>
                    </a:lnTo>
                    <a:lnTo>
                      <a:pt x="837" y="802"/>
                    </a:lnTo>
                    <a:lnTo>
                      <a:pt x="855" y="808"/>
                    </a:lnTo>
                    <a:lnTo>
                      <a:pt x="855" y="797"/>
                    </a:lnTo>
                    <a:lnTo>
                      <a:pt x="849" y="802"/>
                    </a:lnTo>
                    <a:lnTo>
                      <a:pt x="860" y="814"/>
                    </a:lnTo>
                    <a:lnTo>
                      <a:pt x="866" y="820"/>
                    </a:lnTo>
                    <a:lnTo>
                      <a:pt x="866" y="820"/>
                    </a:lnTo>
                    <a:lnTo>
                      <a:pt x="878" y="826"/>
                    </a:lnTo>
                    <a:lnTo>
                      <a:pt x="878" y="814"/>
                    </a:lnTo>
                    <a:lnTo>
                      <a:pt x="872" y="820"/>
                    </a:lnTo>
                    <a:lnTo>
                      <a:pt x="878" y="831"/>
                    </a:lnTo>
                    <a:lnTo>
                      <a:pt x="878" y="831"/>
                    </a:lnTo>
                    <a:lnTo>
                      <a:pt x="883" y="837"/>
                    </a:lnTo>
                    <a:lnTo>
                      <a:pt x="895" y="843"/>
                    </a:lnTo>
                    <a:lnTo>
                      <a:pt x="895" y="831"/>
                    </a:lnTo>
                    <a:lnTo>
                      <a:pt x="889" y="837"/>
                    </a:lnTo>
                    <a:lnTo>
                      <a:pt x="895" y="843"/>
                    </a:lnTo>
                    <a:lnTo>
                      <a:pt x="901" y="849"/>
                    </a:lnTo>
                    <a:lnTo>
                      <a:pt x="901" y="849"/>
                    </a:lnTo>
                    <a:lnTo>
                      <a:pt x="912" y="849"/>
                    </a:lnTo>
                    <a:lnTo>
                      <a:pt x="912" y="837"/>
                    </a:lnTo>
                    <a:lnTo>
                      <a:pt x="912" y="849"/>
                    </a:lnTo>
                    <a:lnTo>
                      <a:pt x="924" y="854"/>
                    </a:lnTo>
                    <a:lnTo>
                      <a:pt x="935" y="860"/>
                    </a:lnTo>
                    <a:lnTo>
                      <a:pt x="935" y="860"/>
                    </a:lnTo>
                    <a:lnTo>
                      <a:pt x="935" y="860"/>
                    </a:lnTo>
                    <a:lnTo>
                      <a:pt x="947" y="860"/>
                    </a:lnTo>
                    <a:lnTo>
                      <a:pt x="958" y="860"/>
                    </a:lnTo>
                    <a:lnTo>
                      <a:pt x="970" y="860"/>
                    </a:lnTo>
                    <a:lnTo>
                      <a:pt x="981" y="860"/>
                    </a:lnTo>
                    <a:lnTo>
                      <a:pt x="987" y="860"/>
                    </a:lnTo>
                    <a:lnTo>
                      <a:pt x="987" y="860"/>
                    </a:lnTo>
                    <a:lnTo>
                      <a:pt x="999" y="854"/>
                    </a:lnTo>
                    <a:lnTo>
                      <a:pt x="993" y="843"/>
                    </a:lnTo>
                    <a:lnTo>
                      <a:pt x="993" y="854"/>
                    </a:lnTo>
                    <a:lnTo>
                      <a:pt x="1005" y="854"/>
                    </a:lnTo>
                    <a:lnTo>
                      <a:pt x="1010" y="854"/>
                    </a:lnTo>
                    <a:lnTo>
                      <a:pt x="1010" y="854"/>
                    </a:lnTo>
                    <a:lnTo>
                      <a:pt x="1022" y="849"/>
                    </a:lnTo>
                    <a:lnTo>
                      <a:pt x="1033" y="843"/>
                    </a:lnTo>
                    <a:lnTo>
                      <a:pt x="1045" y="837"/>
                    </a:lnTo>
                    <a:lnTo>
                      <a:pt x="1045" y="837"/>
                    </a:lnTo>
                    <a:lnTo>
                      <a:pt x="1045" y="831"/>
                    </a:lnTo>
                    <a:lnTo>
                      <a:pt x="1057" y="820"/>
                    </a:lnTo>
                    <a:lnTo>
                      <a:pt x="1062" y="820"/>
                    </a:lnTo>
                    <a:lnTo>
                      <a:pt x="1062" y="814"/>
                    </a:lnTo>
                    <a:lnTo>
                      <a:pt x="1062" y="808"/>
                    </a:lnTo>
                    <a:lnTo>
                      <a:pt x="1051" y="808"/>
                    </a:lnTo>
                    <a:lnTo>
                      <a:pt x="1051" y="820"/>
                    </a:lnTo>
                    <a:lnTo>
                      <a:pt x="1057" y="820"/>
                    </a:lnTo>
                    <a:lnTo>
                      <a:pt x="1062" y="820"/>
                    </a:lnTo>
                    <a:lnTo>
                      <a:pt x="1068" y="814"/>
                    </a:lnTo>
                    <a:lnTo>
                      <a:pt x="1074" y="802"/>
                    </a:lnTo>
                    <a:lnTo>
                      <a:pt x="1074" y="802"/>
                    </a:lnTo>
                    <a:lnTo>
                      <a:pt x="1074" y="797"/>
                    </a:lnTo>
                    <a:lnTo>
                      <a:pt x="1074" y="791"/>
                    </a:lnTo>
                    <a:lnTo>
                      <a:pt x="1062" y="791"/>
                    </a:lnTo>
                    <a:lnTo>
                      <a:pt x="1074" y="797"/>
                    </a:lnTo>
                    <a:lnTo>
                      <a:pt x="1080" y="779"/>
                    </a:lnTo>
                    <a:lnTo>
                      <a:pt x="1080" y="779"/>
                    </a:lnTo>
                    <a:lnTo>
                      <a:pt x="1080" y="774"/>
                    </a:lnTo>
                    <a:lnTo>
                      <a:pt x="1080" y="751"/>
                    </a:lnTo>
                    <a:lnTo>
                      <a:pt x="1080" y="727"/>
                    </a:lnTo>
                    <a:lnTo>
                      <a:pt x="1080" y="704"/>
                    </a:lnTo>
                    <a:lnTo>
                      <a:pt x="1080" y="681"/>
                    </a:lnTo>
                    <a:lnTo>
                      <a:pt x="1074" y="652"/>
                    </a:lnTo>
                    <a:lnTo>
                      <a:pt x="1068" y="624"/>
                    </a:lnTo>
                    <a:lnTo>
                      <a:pt x="1074" y="652"/>
                    </a:lnTo>
                    <a:lnTo>
                      <a:pt x="1062" y="600"/>
                    </a:lnTo>
                    <a:lnTo>
                      <a:pt x="1051" y="554"/>
                    </a:lnTo>
                    <a:lnTo>
                      <a:pt x="1039" y="508"/>
                    </a:lnTo>
                    <a:lnTo>
                      <a:pt x="1028" y="474"/>
                    </a:lnTo>
                    <a:lnTo>
                      <a:pt x="1022" y="462"/>
                    </a:lnTo>
                    <a:lnTo>
                      <a:pt x="1016" y="468"/>
                    </a:lnTo>
                    <a:lnTo>
                      <a:pt x="987" y="474"/>
                    </a:lnTo>
                    <a:lnTo>
                      <a:pt x="958" y="474"/>
                    </a:lnTo>
                    <a:lnTo>
                      <a:pt x="930" y="479"/>
                    </a:lnTo>
                    <a:lnTo>
                      <a:pt x="901" y="479"/>
                    </a:lnTo>
                    <a:lnTo>
                      <a:pt x="872" y="479"/>
                    </a:lnTo>
                    <a:lnTo>
                      <a:pt x="843" y="479"/>
                    </a:lnTo>
                    <a:lnTo>
                      <a:pt x="814" y="474"/>
                    </a:lnTo>
                    <a:lnTo>
                      <a:pt x="791" y="474"/>
                    </a:lnTo>
                    <a:lnTo>
                      <a:pt x="739" y="468"/>
                    </a:lnTo>
                    <a:lnTo>
                      <a:pt x="705" y="462"/>
                    </a:lnTo>
                    <a:lnTo>
                      <a:pt x="676" y="456"/>
                    </a:lnTo>
                    <a:lnTo>
                      <a:pt x="676" y="462"/>
                    </a:lnTo>
                    <a:lnTo>
                      <a:pt x="681" y="456"/>
                    </a:lnTo>
                    <a:lnTo>
                      <a:pt x="676" y="450"/>
                    </a:lnTo>
                    <a:lnTo>
                      <a:pt x="676" y="450"/>
                    </a:lnTo>
                    <a:lnTo>
                      <a:pt x="670" y="450"/>
                    </a:lnTo>
                    <a:lnTo>
                      <a:pt x="647" y="445"/>
                    </a:lnTo>
                    <a:lnTo>
                      <a:pt x="647" y="450"/>
                    </a:lnTo>
                    <a:lnTo>
                      <a:pt x="653" y="445"/>
                    </a:lnTo>
                    <a:lnTo>
                      <a:pt x="635" y="433"/>
                    </a:lnTo>
                    <a:lnTo>
                      <a:pt x="618" y="422"/>
                    </a:lnTo>
                    <a:lnTo>
                      <a:pt x="612" y="427"/>
                    </a:lnTo>
                    <a:lnTo>
                      <a:pt x="624" y="427"/>
                    </a:lnTo>
                    <a:lnTo>
                      <a:pt x="612" y="410"/>
                    </a:lnTo>
                    <a:lnTo>
                      <a:pt x="601" y="393"/>
                    </a:lnTo>
                    <a:lnTo>
                      <a:pt x="595" y="381"/>
                    </a:lnTo>
                    <a:lnTo>
                      <a:pt x="589" y="364"/>
                    </a:lnTo>
                    <a:lnTo>
                      <a:pt x="583" y="352"/>
                    </a:lnTo>
                    <a:lnTo>
                      <a:pt x="572" y="352"/>
                    </a:lnTo>
                    <a:lnTo>
                      <a:pt x="583" y="352"/>
                    </a:lnTo>
                    <a:lnTo>
                      <a:pt x="583" y="335"/>
                    </a:lnTo>
                    <a:lnTo>
                      <a:pt x="572" y="335"/>
                    </a:lnTo>
                    <a:lnTo>
                      <a:pt x="583" y="341"/>
                    </a:lnTo>
                    <a:lnTo>
                      <a:pt x="589" y="324"/>
                    </a:lnTo>
                    <a:lnTo>
                      <a:pt x="589" y="324"/>
                    </a:lnTo>
                    <a:lnTo>
                      <a:pt x="589" y="318"/>
                    </a:lnTo>
                    <a:lnTo>
                      <a:pt x="589" y="300"/>
                    </a:lnTo>
                    <a:lnTo>
                      <a:pt x="578" y="300"/>
                    </a:lnTo>
                    <a:lnTo>
                      <a:pt x="589" y="306"/>
                    </a:lnTo>
                    <a:lnTo>
                      <a:pt x="595" y="295"/>
                    </a:lnTo>
                    <a:lnTo>
                      <a:pt x="601" y="283"/>
                    </a:lnTo>
                    <a:lnTo>
                      <a:pt x="589" y="277"/>
                    </a:lnTo>
                    <a:lnTo>
                      <a:pt x="595" y="283"/>
                    </a:lnTo>
                    <a:lnTo>
                      <a:pt x="606" y="272"/>
                    </a:lnTo>
                    <a:lnTo>
                      <a:pt x="612" y="272"/>
                    </a:lnTo>
                    <a:lnTo>
                      <a:pt x="612" y="272"/>
                    </a:lnTo>
                    <a:lnTo>
                      <a:pt x="618" y="260"/>
                    </a:lnTo>
                    <a:lnTo>
                      <a:pt x="606" y="254"/>
                    </a:lnTo>
                    <a:lnTo>
                      <a:pt x="612" y="260"/>
                    </a:lnTo>
                    <a:lnTo>
                      <a:pt x="624" y="249"/>
                    </a:lnTo>
                    <a:lnTo>
                      <a:pt x="635" y="237"/>
                    </a:lnTo>
                    <a:lnTo>
                      <a:pt x="641" y="237"/>
                    </a:lnTo>
                    <a:lnTo>
                      <a:pt x="641" y="237"/>
                    </a:lnTo>
                    <a:lnTo>
                      <a:pt x="647" y="225"/>
                    </a:lnTo>
                    <a:lnTo>
                      <a:pt x="658" y="208"/>
                    </a:lnTo>
                    <a:lnTo>
                      <a:pt x="664" y="191"/>
                    </a:lnTo>
                    <a:lnTo>
                      <a:pt x="670" y="174"/>
                    </a:lnTo>
                    <a:lnTo>
                      <a:pt x="670" y="174"/>
                    </a:lnTo>
                    <a:lnTo>
                      <a:pt x="670" y="168"/>
                    </a:lnTo>
                    <a:lnTo>
                      <a:pt x="670" y="145"/>
                    </a:lnTo>
                    <a:lnTo>
                      <a:pt x="670" y="127"/>
                    </a:lnTo>
                    <a:lnTo>
                      <a:pt x="670" y="104"/>
                    </a:lnTo>
                    <a:lnTo>
                      <a:pt x="670" y="104"/>
                    </a:lnTo>
                    <a:lnTo>
                      <a:pt x="670" y="104"/>
                    </a:lnTo>
                    <a:lnTo>
                      <a:pt x="664" y="87"/>
                    </a:lnTo>
                    <a:lnTo>
                      <a:pt x="658" y="64"/>
                    </a:lnTo>
                    <a:lnTo>
                      <a:pt x="658" y="64"/>
                    </a:lnTo>
                    <a:lnTo>
                      <a:pt x="653" y="58"/>
                    </a:lnTo>
                    <a:lnTo>
                      <a:pt x="647" y="52"/>
                    </a:lnTo>
                    <a:lnTo>
                      <a:pt x="641" y="47"/>
                    </a:lnTo>
                    <a:lnTo>
                      <a:pt x="629" y="35"/>
                    </a:lnTo>
                    <a:lnTo>
                      <a:pt x="624" y="29"/>
                    </a:lnTo>
                    <a:lnTo>
                      <a:pt x="618" y="24"/>
                    </a:lnTo>
                    <a:lnTo>
                      <a:pt x="618" y="24"/>
                    </a:lnTo>
                    <a:lnTo>
                      <a:pt x="618" y="24"/>
                    </a:lnTo>
                    <a:lnTo>
                      <a:pt x="606" y="18"/>
                    </a:lnTo>
                    <a:lnTo>
                      <a:pt x="595" y="12"/>
                    </a:lnTo>
                    <a:lnTo>
                      <a:pt x="583" y="6"/>
                    </a:lnTo>
                    <a:lnTo>
                      <a:pt x="566" y="0"/>
                    </a:lnTo>
                    <a:lnTo>
                      <a:pt x="566" y="0"/>
                    </a:lnTo>
                    <a:lnTo>
                      <a:pt x="560" y="0"/>
                    </a:lnTo>
                    <a:lnTo>
                      <a:pt x="549" y="0"/>
                    </a:lnTo>
                    <a:lnTo>
                      <a:pt x="531" y="0"/>
                    </a:lnTo>
                    <a:lnTo>
                      <a:pt x="514" y="0"/>
                    </a:lnTo>
                    <a:lnTo>
                      <a:pt x="503" y="0"/>
                    </a:lnTo>
                    <a:lnTo>
                      <a:pt x="485" y="0"/>
                    </a:lnTo>
                    <a:lnTo>
                      <a:pt x="474" y="0"/>
                    </a:lnTo>
                    <a:lnTo>
                      <a:pt x="474" y="0"/>
                    </a:lnTo>
                    <a:lnTo>
                      <a:pt x="474" y="0"/>
                    </a:lnTo>
                    <a:lnTo>
                      <a:pt x="462" y="6"/>
                    </a:lnTo>
                    <a:lnTo>
                      <a:pt x="462" y="12"/>
                    </a:lnTo>
                    <a:lnTo>
                      <a:pt x="462" y="6"/>
                    </a:lnTo>
                    <a:lnTo>
                      <a:pt x="451" y="6"/>
                    </a:lnTo>
                    <a:lnTo>
                      <a:pt x="451" y="6"/>
                    </a:lnTo>
                    <a:lnTo>
                      <a:pt x="451" y="6"/>
                    </a:lnTo>
                    <a:lnTo>
                      <a:pt x="439" y="12"/>
                    </a:lnTo>
                    <a:lnTo>
                      <a:pt x="428" y="18"/>
                    </a:lnTo>
                    <a:lnTo>
                      <a:pt x="416" y="24"/>
                    </a:lnTo>
                    <a:lnTo>
                      <a:pt x="416" y="24"/>
                    </a:lnTo>
                    <a:lnTo>
                      <a:pt x="410" y="24"/>
                    </a:lnTo>
                    <a:lnTo>
                      <a:pt x="404" y="29"/>
                    </a:lnTo>
                    <a:lnTo>
                      <a:pt x="410" y="35"/>
                    </a:lnTo>
                    <a:lnTo>
                      <a:pt x="410" y="29"/>
                    </a:lnTo>
                    <a:lnTo>
                      <a:pt x="399" y="35"/>
                    </a:lnTo>
                    <a:lnTo>
                      <a:pt x="399" y="35"/>
                    </a:lnTo>
                    <a:lnTo>
                      <a:pt x="393" y="35"/>
                    </a:lnTo>
                    <a:lnTo>
                      <a:pt x="387" y="41"/>
                    </a:lnTo>
                    <a:lnTo>
                      <a:pt x="387" y="47"/>
                    </a:lnTo>
                    <a:lnTo>
                      <a:pt x="387" y="47"/>
                    </a:lnTo>
                    <a:lnTo>
                      <a:pt x="381" y="58"/>
                    </a:lnTo>
                    <a:lnTo>
                      <a:pt x="387" y="58"/>
                    </a:lnTo>
                    <a:lnTo>
                      <a:pt x="381" y="52"/>
                    </a:lnTo>
                    <a:lnTo>
                      <a:pt x="370" y="64"/>
                    </a:lnTo>
                    <a:lnTo>
                      <a:pt x="370" y="70"/>
                    </a:lnTo>
                    <a:lnTo>
                      <a:pt x="370" y="70"/>
                    </a:lnTo>
                    <a:lnTo>
                      <a:pt x="364" y="93"/>
                    </a:lnTo>
                    <a:lnTo>
                      <a:pt x="358" y="110"/>
                    </a:lnTo>
                    <a:lnTo>
                      <a:pt x="358" y="110"/>
                    </a:lnTo>
                    <a:lnTo>
                      <a:pt x="358" y="110"/>
                    </a:lnTo>
                    <a:lnTo>
                      <a:pt x="358" y="127"/>
                    </a:lnTo>
                    <a:lnTo>
                      <a:pt x="358" y="145"/>
                    </a:lnTo>
                    <a:lnTo>
                      <a:pt x="358" y="168"/>
                    </a:lnTo>
                    <a:lnTo>
                      <a:pt x="358" y="174"/>
                    </a:lnTo>
                    <a:lnTo>
                      <a:pt x="358" y="174"/>
                    </a:lnTo>
                    <a:lnTo>
                      <a:pt x="364" y="191"/>
                    </a:lnTo>
                    <a:lnTo>
                      <a:pt x="370" y="208"/>
                    </a:lnTo>
                    <a:lnTo>
                      <a:pt x="370" y="208"/>
                    </a:lnTo>
                    <a:lnTo>
                      <a:pt x="370" y="208"/>
                    </a:lnTo>
                    <a:lnTo>
                      <a:pt x="381" y="220"/>
                    </a:lnTo>
                    <a:lnTo>
                      <a:pt x="387" y="214"/>
                    </a:lnTo>
                    <a:lnTo>
                      <a:pt x="381" y="220"/>
                    </a:lnTo>
                    <a:lnTo>
                      <a:pt x="393" y="237"/>
                    </a:lnTo>
                    <a:lnTo>
                      <a:pt x="393" y="237"/>
                    </a:lnTo>
                    <a:lnTo>
                      <a:pt x="393" y="237"/>
                    </a:lnTo>
                    <a:lnTo>
                      <a:pt x="404" y="249"/>
                    </a:lnTo>
                    <a:lnTo>
                      <a:pt x="410" y="243"/>
                    </a:lnTo>
                    <a:lnTo>
                      <a:pt x="404" y="249"/>
                    </a:lnTo>
                    <a:lnTo>
                      <a:pt x="416" y="266"/>
                    </a:lnTo>
                    <a:lnTo>
                      <a:pt x="422" y="283"/>
                    </a:lnTo>
                    <a:lnTo>
                      <a:pt x="428" y="295"/>
                    </a:lnTo>
                    <a:lnTo>
                      <a:pt x="433" y="312"/>
                    </a:lnTo>
                    <a:lnTo>
                      <a:pt x="439" y="306"/>
                    </a:lnTo>
                    <a:lnTo>
                      <a:pt x="433" y="306"/>
                    </a:lnTo>
                    <a:lnTo>
                      <a:pt x="433" y="324"/>
                    </a:lnTo>
                    <a:lnTo>
                      <a:pt x="439" y="324"/>
                    </a:lnTo>
                    <a:lnTo>
                      <a:pt x="433" y="324"/>
                    </a:lnTo>
                    <a:lnTo>
                      <a:pt x="428" y="341"/>
                    </a:lnTo>
                    <a:lnTo>
                      <a:pt x="428" y="341"/>
                    </a:lnTo>
                    <a:lnTo>
                      <a:pt x="428" y="341"/>
                    </a:lnTo>
                    <a:lnTo>
                      <a:pt x="428" y="358"/>
                    </a:lnTo>
                    <a:lnTo>
                      <a:pt x="433" y="358"/>
                    </a:lnTo>
                    <a:lnTo>
                      <a:pt x="428" y="358"/>
                    </a:lnTo>
                    <a:lnTo>
                      <a:pt x="416" y="375"/>
                    </a:lnTo>
                    <a:lnTo>
                      <a:pt x="410" y="387"/>
                    </a:lnTo>
                    <a:lnTo>
                      <a:pt x="399" y="404"/>
                    </a:lnTo>
                    <a:lnTo>
                      <a:pt x="404" y="404"/>
                    </a:lnTo>
                    <a:lnTo>
                      <a:pt x="404" y="399"/>
                    </a:lnTo>
                    <a:lnTo>
                      <a:pt x="387" y="410"/>
                    </a:lnTo>
                    <a:lnTo>
                      <a:pt x="370" y="422"/>
                    </a:lnTo>
                    <a:lnTo>
                      <a:pt x="352" y="433"/>
                    </a:lnTo>
                    <a:lnTo>
                      <a:pt x="324" y="445"/>
                    </a:lnTo>
                    <a:lnTo>
                      <a:pt x="324" y="450"/>
                    </a:lnTo>
                    <a:lnTo>
                      <a:pt x="324" y="445"/>
                    </a:lnTo>
                    <a:lnTo>
                      <a:pt x="301" y="450"/>
                    </a:lnTo>
                    <a:lnTo>
                      <a:pt x="283" y="450"/>
                    </a:lnTo>
                    <a:lnTo>
                      <a:pt x="254" y="450"/>
                    </a:lnTo>
                    <a:lnTo>
                      <a:pt x="226" y="450"/>
                    </a:lnTo>
                    <a:lnTo>
                      <a:pt x="191" y="450"/>
                    </a:lnTo>
                    <a:lnTo>
                      <a:pt x="156" y="450"/>
                    </a:lnTo>
                    <a:lnTo>
                      <a:pt x="116" y="450"/>
                    </a:lnTo>
                    <a:lnTo>
                      <a:pt x="76" y="450"/>
                    </a:lnTo>
                    <a:lnTo>
                      <a:pt x="35" y="450"/>
                    </a:lnTo>
                    <a:lnTo>
                      <a:pt x="29" y="450"/>
                    </a:lnTo>
                    <a:lnTo>
                      <a:pt x="29" y="456"/>
                    </a:lnTo>
                    <a:lnTo>
                      <a:pt x="24" y="485"/>
                    </a:lnTo>
                    <a:lnTo>
                      <a:pt x="18" y="525"/>
                    </a:lnTo>
                    <a:lnTo>
                      <a:pt x="12" y="572"/>
                    </a:lnTo>
                    <a:lnTo>
                      <a:pt x="6" y="618"/>
                    </a:lnTo>
                    <a:lnTo>
                      <a:pt x="0" y="664"/>
                    </a:lnTo>
                    <a:lnTo>
                      <a:pt x="0" y="704"/>
                    </a:lnTo>
                    <a:lnTo>
                      <a:pt x="0" y="739"/>
                    </a:lnTo>
                    <a:lnTo>
                      <a:pt x="0" y="762"/>
                    </a:lnTo>
                    <a:lnTo>
                      <a:pt x="0" y="768"/>
                    </a:lnTo>
                    <a:lnTo>
                      <a:pt x="0" y="768"/>
                    </a:lnTo>
                    <a:lnTo>
                      <a:pt x="6" y="779"/>
                    </a:lnTo>
                    <a:lnTo>
                      <a:pt x="12" y="791"/>
                    </a:lnTo>
                    <a:lnTo>
                      <a:pt x="12" y="791"/>
                    </a:lnTo>
                    <a:lnTo>
                      <a:pt x="12" y="791"/>
                    </a:lnTo>
                    <a:lnTo>
                      <a:pt x="18" y="797"/>
                    </a:lnTo>
                    <a:lnTo>
                      <a:pt x="29" y="808"/>
                    </a:lnTo>
                    <a:lnTo>
                      <a:pt x="35" y="814"/>
                    </a:lnTo>
                    <a:lnTo>
                      <a:pt x="35" y="814"/>
                    </a:lnTo>
                    <a:lnTo>
                      <a:pt x="47" y="820"/>
                    </a:lnTo>
                    <a:lnTo>
                      <a:pt x="58" y="826"/>
                    </a:lnTo>
                    <a:lnTo>
                      <a:pt x="76" y="831"/>
                    </a:lnTo>
                    <a:lnTo>
                      <a:pt x="87" y="837"/>
                    </a:lnTo>
                    <a:lnTo>
                      <a:pt x="87" y="837"/>
                    </a:lnTo>
                    <a:lnTo>
                      <a:pt x="87" y="837"/>
                    </a:lnTo>
                    <a:lnTo>
                      <a:pt x="104" y="837"/>
                    </a:lnTo>
                    <a:lnTo>
                      <a:pt x="122" y="837"/>
                    </a:lnTo>
                    <a:lnTo>
                      <a:pt x="133" y="837"/>
                    </a:lnTo>
                    <a:lnTo>
                      <a:pt x="151" y="837"/>
                    </a:lnTo>
                    <a:lnTo>
                      <a:pt x="151" y="837"/>
                    </a:lnTo>
                    <a:lnTo>
                      <a:pt x="156" y="837"/>
                    </a:lnTo>
                    <a:lnTo>
                      <a:pt x="174" y="831"/>
                    </a:lnTo>
                    <a:lnTo>
                      <a:pt x="185" y="826"/>
                    </a:lnTo>
                    <a:lnTo>
                      <a:pt x="197" y="820"/>
                    </a:lnTo>
                    <a:lnTo>
                      <a:pt x="197" y="820"/>
                    </a:lnTo>
                    <a:lnTo>
                      <a:pt x="197" y="814"/>
                    </a:lnTo>
                    <a:lnTo>
                      <a:pt x="208" y="802"/>
                    </a:lnTo>
                    <a:lnTo>
                      <a:pt x="202" y="797"/>
                    </a:lnTo>
                    <a:lnTo>
                      <a:pt x="208" y="808"/>
                    </a:lnTo>
                    <a:lnTo>
                      <a:pt x="220" y="802"/>
                    </a:lnTo>
                    <a:lnTo>
                      <a:pt x="220" y="802"/>
                    </a:lnTo>
                    <a:lnTo>
                      <a:pt x="220" y="797"/>
                    </a:lnTo>
                    <a:lnTo>
                      <a:pt x="231" y="785"/>
                    </a:lnTo>
                    <a:lnTo>
                      <a:pt x="226" y="779"/>
                    </a:lnTo>
                    <a:lnTo>
                      <a:pt x="226" y="791"/>
                    </a:lnTo>
                    <a:lnTo>
                      <a:pt x="243" y="791"/>
                    </a:lnTo>
                    <a:lnTo>
                      <a:pt x="243" y="791"/>
                    </a:lnTo>
                    <a:lnTo>
                      <a:pt x="249" y="791"/>
                    </a:lnTo>
                    <a:lnTo>
                      <a:pt x="260" y="785"/>
                    </a:lnTo>
                    <a:lnTo>
                      <a:pt x="254" y="774"/>
                    </a:lnTo>
                    <a:lnTo>
                      <a:pt x="254" y="785"/>
                    </a:lnTo>
                    <a:lnTo>
                      <a:pt x="272" y="785"/>
                    </a:lnTo>
                    <a:lnTo>
                      <a:pt x="289" y="785"/>
                    </a:lnTo>
                    <a:lnTo>
                      <a:pt x="289" y="774"/>
                    </a:lnTo>
                    <a:lnTo>
                      <a:pt x="289" y="785"/>
                    </a:lnTo>
                    <a:lnTo>
                      <a:pt x="306" y="791"/>
                    </a:lnTo>
                    <a:lnTo>
                      <a:pt x="324" y="797"/>
                    </a:lnTo>
                    <a:lnTo>
                      <a:pt x="335" y="802"/>
                    </a:lnTo>
                    <a:lnTo>
                      <a:pt x="352" y="814"/>
                    </a:lnTo>
                    <a:lnTo>
                      <a:pt x="352" y="802"/>
                    </a:lnTo>
                    <a:lnTo>
                      <a:pt x="347" y="808"/>
                    </a:lnTo>
                    <a:lnTo>
                      <a:pt x="358" y="820"/>
                    </a:lnTo>
                    <a:lnTo>
                      <a:pt x="364" y="814"/>
                    </a:lnTo>
                    <a:lnTo>
                      <a:pt x="358" y="820"/>
                    </a:lnTo>
                    <a:lnTo>
                      <a:pt x="370" y="837"/>
                    </a:lnTo>
                    <a:lnTo>
                      <a:pt x="381" y="854"/>
                    </a:lnTo>
                    <a:lnTo>
                      <a:pt x="387" y="872"/>
                    </a:lnTo>
                    <a:lnTo>
                      <a:pt x="393" y="895"/>
                    </a:lnTo>
                    <a:lnTo>
                      <a:pt x="399" y="889"/>
                    </a:lnTo>
                    <a:lnTo>
                      <a:pt x="393" y="889"/>
                    </a:lnTo>
                    <a:lnTo>
                      <a:pt x="393" y="912"/>
                    </a:lnTo>
                    <a:lnTo>
                      <a:pt x="393" y="929"/>
                    </a:lnTo>
                    <a:lnTo>
                      <a:pt x="399" y="929"/>
                    </a:lnTo>
                    <a:lnTo>
                      <a:pt x="393" y="929"/>
                    </a:lnTo>
                    <a:lnTo>
                      <a:pt x="387" y="941"/>
                    </a:lnTo>
                    <a:lnTo>
                      <a:pt x="381" y="958"/>
                    </a:lnTo>
                    <a:lnTo>
                      <a:pt x="387" y="958"/>
                    </a:lnTo>
                    <a:lnTo>
                      <a:pt x="381" y="952"/>
                    </a:lnTo>
                    <a:lnTo>
                      <a:pt x="370" y="964"/>
                    </a:lnTo>
                    <a:lnTo>
                      <a:pt x="358" y="976"/>
                    </a:lnTo>
                    <a:lnTo>
                      <a:pt x="347" y="987"/>
                    </a:lnTo>
                    <a:lnTo>
                      <a:pt x="352" y="993"/>
                    </a:lnTo>
                    <a:lnTo>
                      <a:pt x="352" y="987"/>
                    </a:lnTo>
                    <a:lnTo>
                      <a:pt x="335" y="993"/>
                    </a:lnTo>
                    <a:lnTo>
                      <a:pt x="324" y="999"/>
                    </a:lnTo>
                    <a:lnTo>
                      <a:pt x="306" y="1004"/>
                    </a:lnTo>
                    <a:lnTo>
                      <a:pt x="289" y="1010"/>
                    </a:lnTo>
                    <a:lnTo>
                      <a:pt x="289" y="1016"/>
                    </a:lnTo>
                    <a:lnTo>
                      <a:pt x="289" y="1010"/>
                    </a:lnTo>
                    <a:lnTo>
                      <a:pt x="272" y="1010"/>
                    </a:lnTo>
                    <a:lnTo>
                      <a:pt x="254" y="1010"/>
                    </a:lnTo>
                    <a:lnTo>
                      <a:pt x="254" y="1016"/>
                    </a:lnTo>
                    <a:lnTo>
                      <a:pt x="260" y="1010"/>
                    </a:lnTo>
                    <a:lnTo>
                      <a:pt x="249" y="1004"/>
                    </a:lnTo>
                    <a:lnTo>
                      <a:pt x="231" y="999"/>
                    </a:lnTo>
                    <a:lnTo>
                      <a:pt x="226" y="1004"/>
                    </a:lnTo>
                    <a:lnTo>
                      <a:pt x="231" y="999"/>
                    </a:lnTo>
                    <a:lnTo>
                      <a:pt x="220" y="987"/>
                    </a:lnTo>
                    <a:lnTo>
                      <a:pt x="208" y="976"/>
                    </a:lnTo>
                    <a:lnTo>
                      <a:pt x="197" y="964"/>
                    </a:lnTo>
                    <a:lnTo>
                      <a:pt x="197" y="964"/>
                    </a:lnTo>
                    <a:lnTo>
                      <a:pt x="197" y="964"/>
                    </a:lnTo>
                    <a:lnTo>
                      <a:pt x="185" y="958"/>
                    </a:lnTo>
                    <a:lnTo>
                      <a:pt x="174" y="952"/>
                    </a:lnTo>
                    <a:lnTo>
                      <a:pt x="162" y="947"/>
                    </a:lnTo>
                    <a:lnTo>
                      <a:pt x="162" y="947"/>
                    </a:lnTo>
                    <a:lnTo>
                      <a:pt x="156" y="947"/>
                    </a:lnTo>
                    <a:lnTo>
                      <a:pt x="145" y="947"/>
                    </a:lnTo>
                    <a:lnTo>
                      <a:pt x="133" y="947"/>
                    </a:lnTo>
                    <a:lnTo>
                      <a:pt x="116" y="947"/>
                    </a:lnTo>
                    <a:lnTo>
                      <a:pt x="104" y="947"/>
                    </a:lnTo>
                    <a:lnTo>
                      <a:pt x="104" y="947"/>
                    </a:lnTo>
                    <a:lnTo>
                      <a:pt x="99" y="947"/>
                    </a:lnTo>
                    <a:lnTo>
                      <a:pt x="87" y="958"/>
                    </a:lnTo>
                    <a:lnTo>
                      <a:pt x="93" y="964"/>
                    </a:lnTo>
                    <a:lnTo>
                      <a:pt x="93" y="958"/>
                    </a:lnTo>
                    <a:lnTo>
                      <a:pt x="76" y="964"/>
                    </a:lnTo>
                    <a:lnTo>
                      <a:pt x="64" y="970"/>
                    </a:lnTo>
                    <a:lnTo>
                      <a:pt x="64" y="970"/>
                    </a:lnTo>
                    <a:lnTo>
                      <a:pt x="58" y="970"/>
                    </a:lnTo>
                    <a:lnTo>
                      <a:pt x="47" y="981"/>
                    </a:lnTo>
                    <a:lnTo>
                      <a:pt x="35" y="993"/>
                    </a:lnTo>
                    <a:lnTo>
                      <a:pt x="35" y="999"/>
                    </a:lnTo>
                    <a:lnTo>
                      <a:pt x="35" y="999"/>
                    </a:lnTo>
                    <a:lnTo>
                      <a:pt x="29" y="1010"/>
                    </a:lnTo>
                    <a:lnTo>
                      <a:pt x="35" y="1010"/>
                    </a:lnTo>
                    <a:lnTo>
                      <a:pt x="29" y="1004"/>
                    </a:lnTo>
                    <a:lnTo>
                      <a:pt x="18" y="1016"/>
                    </a:lnTo>
                    <a:lnTo>
                      <a:pt x="18" y="1022"/>
                    </a:lnTo>
                    <a:lnTo>
                      <a:pt x="18" y="1022"/>
                    </a:lnTo>
                    <a:lnTo>
                      <a:pt x="12" y="1039"/>
                    </a:lnTo>
                    <a:lnTo>
                      <a:pt x="6" y="1051"/>
                    </a:lnTo>
                    <a:lnTo>
                      <a:pt x="6" y="1051"/>
                    </a:lnTo>
                    <a:lnTo>
                      <a:pt x="6" y="1051"/>
                    </a:lnTo>
                    <a:lnTo>
                      <a:pt x="6" y="1074"/>
                    </a:lnTo>
                    <a:lnTo>
                      <a:pt x="6" y="1091"/>
                    </a:lnTo>
                    <a:lnTo>
                      <a:pt x="6" y="1091"/>
                    </a:lnTo>
                    <a:lnTo>
                      <a:pt x="6" y="1097"/>
                    </a:lnTo>
                    <a:lnTo>
                      <a:pt x="12" y="1120"/>
                    </a:lnTo>
                    <a:lnTo>
                      <a:pt x="18" y="1114"/>
                    </a:lnTo>
                    <a:lnTo>
                      <a:pt x="12" y="1114"/>
                    </a:lnTo>
                    <a:lnTo>
                      <a:pt x="18" y="1166"/>
                    </a:lnTo>
                    <a:lnTo>
                      <a:pt x="29" y="1224"/>
                    </a:lnTo>
                    <a:lnTo>
                      <a:pt x="35" y="1252"/>
                    </a:lnTo>
                    <a:lnTo>
                      <a:pt x="35" y="1270"/>
                    </a:lnTo>
                    <a:lnTo>
                      <a:pt x="35" y="1258"/>
                    </a:lnTo>
                    <a:lnTo>
                      <a:pt x="41" y="1281"/>
                    </a:lnTo>
                    <a:lnTo>
                      <a:pt x="47" y="1276"/>
                    </a:lnTo>
                    <a:lnTo>
                      <a:pt x="41" y="1276"/>
                    </a:lnTo>
                    <a:lnTo>
                      <a:pt x="41" y="1304"/>
                    </a:lnTo>
                    <a:lnTo>
                      <a:pt x="47" y="1333"/>
                    </a:lnTo>
                    <a:lnTo>
                      <a:pt x="47" y="1356"/>
                    </a:lnTo>
                    <a:lnTo>
                      <a:pt x="52" y="1356"/>
                    </a:lnTo>
                    <a:lnTo>
                      <a:pt x="47" y="1356"/>
                    </a:lnTo>
                    <a:lnTo>
                      <a:pt x="41" y="1379"/>
                    </a:lnTo>
                    <a:lnTo>
                      <a:pt x="41" y="1379"/>
                    </a:lnTo>
                    <a:lnTo>
                      <a:pt x="41" y="1379"/>
                    </a:lnTo>
                    <a:lnTo>
                      <a:pt x="41" y="1391"/>
                    </a:lnTo>
                    <a:lnTo>
                      <a:pt x="47" y="1391"/>
                    </a:lnTo>
                    <a:lnTo>
                      <a:pt x="41" y="1391"/>
                    </a:lnTo>
                    <a:lnTo>
                      <a:pt x="35" y="1402"/>
                    </a:lnTo>
                    <a:lnTo>
                      <a:pt x="35" y="1402"/>
                    </a:lnTo>
                    <a:lnTo>
                      <a:pt x="35" y="1402"/>
                    </a:lnTo>
                    <a:lnTo>
                      <a:pt x="35" y="1414"/>
                    </a:lnTo>
                    <a:lnTo>
                      <a:pt x="41" y="1414"/>
                    </a:lnTo>
                    <a:lnTo>
                      <a:pt x="35" y="1408"/>
                    </a:lnTo>
                    <a:lnTo>
                      <a:pt x="29" y="1414"/>
                    </a:lnTo>
                    <a:lnTo>
                      <a:pt x="12" y="1431"/>
                    </a:lnTo>
                    <a:lnTo>
                      <a:pt x="35" y="1431"/>
                    </a:lnTo>
                    <a:lnTo>
                      <a:pt x="76" y="1426"/>
                    </a:lnTo>
                    <a:lnTo>
                      <a:pt x="81" y="1420"/>
                    </a:lnTo>
                    <a:lnTo>
                      <a:pt x="81" y="1426"/>
                    </a:lnTo>
                    <a:lnTo>
                      <a:pt x="122" y="1414"/>
                    </a:lnTo>
                    <a:lnTo>
                      <a:pt x="116" y="1402"/>
                    </a:lnTo>
                    <a:lnTo>
                      <a:pt x="116" y="1414"/>
                    </a:lnTo>
                    <a:lnTo>
                      <a:pt x="156" y="1414"/>
                    </a:lnTo>
                    <a:lnTo>
                      <a:pt x="191" y="1408"/>
                    </a:lnTo>
                    <a:lnTo>
                      <a:pt x="231" y="1402"/>
                    </a:lnTo>
                    <a:lnTo>
                      <a:pt x="266" y="1402"/>
                    </a:lnTo>
                    <a:lnTo>
                      <a:pt x="266" y="1391"/>
                    </a:lnTo>
                    <a:lnTo>
                      <a:pt x="266" y="1402"/>
                    </a:lnTo>
                    <a:lnTo>
                      <a:pt x="283" y="1408"/>
                    </a:lnTo>
                    <a:lnTo>
                      <a:pt x="283" y="1408"/>
                    </a:lnTo>
                    <a:lnTo>
                      <a:pt x="283" y="1408"/>
                    </a:lnTo>
                    <a:lnTo>
                      <a:pt x="301" y="1408"/>
                    </a:lnTo>
                    <a:lnTo>
                      <a:pt x="301" y="1397"/>
                    </a:lnTo>
                    <a:lnTo>
                      <a:pt x="301" y="1408"/>
                    </a:lnTo>
                    <a:lnTo>
                      <a:pt x="312" y="1414"/>
                    </a:lnTo>
                    <a:lnTo>
                      <a:pt x="329" y="1420"/>
                    </a:lnTo>
                    <a:lnTo>
                      <a:pt x="318" y="1414"/>
                    </a:lnTo>
                    <a:lnTo>
                      <a:pt x="329" y="1420"/>
                    </a:lnTo>
                    <a:lnTo>
                      <a:pt x="352" y="1426"/>
                    </a:lnTo>
                    <a:close/>
                    <a:moveTo>
                      <a:pt x="329" y="1402"/>
                    </a:moveTo>
                    <a:lnTo>
                      <a:pt x="329" y="1408"/>
                    </a:lnTo>
                    <a:lnTo>
                      <a:pt x="335" y="1402"/>
                    </a:lnTo>
                    <a:lnTo>
                      <a:pt x="318" y="1397"/>
                    </a:lnTo>
                    <a:lnTo>
                      <a:pt x="306" y="1391"/>
                    </a:lnTo>
                    <a:lnTo>
                      <a:pt x="306" y="1391"/>
                    </a:lnTo>
                    <a:lnTo>
                      <a:pt x="301" y="1391"/>
                    </a:lnTo>
                    <a:lnTo>
                      <a:pt x="283" y="1391"/>
                    </a:lnTo>
                    <a:lnTo>
                      <a:pt x="283" y="1397"/>
                    </a:lnTo>
                    <a:lnTo>
                      <a:pt x="289" y="1391"/>
                    </a:lnTo>
                    <a:lnTo>
                      <a:pt x="272" y="1385"/>
                    </a:lnTo>
                    <a:lnTo>
                      <a:pt x="272" y="1385"/>
                    </a:lnTo>
                    <a:lnTo>
                      <a:pt x="266" y="1385"/>
                    </a:lnTo>
                    <a:lnTo>
                      <a:pt x="231" y="1385"/>
                    </a:lnTo>
                    <a:lnTo>
                      <a:pt x="191" y="1391"/>
                    </a:lnTo>
                    <a:lnTo>
                      <a:pt x="156" y="1397"/>
                    </a:lnTo>
                    <a:lnTo>
                      <a:pt x="116" y="1397"/>
                    </a:lnTo>
                    <a:lnTo>
                      <a:pt x="116" y="1397"/>
                    </a:lnTo>
                    <a:lnTo>
                      <a:pt x="116" y="1397"/>
                    </a:lnTo>
                    <a:lnTo>
                      <a:pt x="76" y="1408"/>
                    </a:lnTo>
                    <a:lnTo>
                      <a:pt x="76" y="1414"/>
                    </a:lnTo>
                    <a:lnTo>
                      <a:pt x="76" y="1408"/>
                    </a:lnTo>
                    <a:lnTo>
                      <a:pt x="35" y="1414"/>
                    </a:lnTo>
                    <a:lnTo>
                      <a:pt x="35" y="1420"/>
                    </a:lnTo>
                    <a:lnTo>
                      <a:pt x="41" y="1426"/>
                    </a:lnTo>
                    <a:lnTo>
                      <a:pt x="47" y="1420"/>
                    </a:lnTo>
                    <a:lnTo>
                      <a:pt x="52" y="1420"/>
                    </a:lnTo>
                    <a:lnTo>
                      <a:pt x="52" y="1414"/>
                    </a:lnTo>
                    <a:lnTo>
                      <a:pt x="52" y="1402"/>
                    </a:lnTo>
                    <a:lnTo>
                      <a:pt x="41" y="1402"/>
                    </a:lnTo>
                    <a:lnTo>
                      <a:pt x="52" y="1408"/>
                    </a:lnTo>
                    <a:lnTo>
                      <a:pt x="58" y="1397"/>
                    </a:lnTo>
                    <a:lnTo>
                      <a:pt x="58" y="1397"/>
                    </a:lnTo>
                    <a:lnTo>
                      <a:pt x="58" y="1391"/>
                    </a:lnTo>
                    <a:lnTo>
                      <a:pt x="58" y="1379"/>
                    </a:lnTo>
                    <a:lnTo>
                      <a:pt x="47" y="1379"/>
                    </a:lnTo>
                    <a:lnTo>
                      <a:pt x="58" y="1385"/>
                    </a:lnTo>
                    <a:lnTo>
                      <a:pt x="64" y="1362"/>
                    </a:lnTo>
                    <a:lnTo>
                      <a:pt x="64" y="1362"/>
                    </a:lnTo>
                    <a:lnTo>
                      <a:pt x="64" y="1356"/>
                    </a:lnTo>
                    <a:lnTo>
                      <a:pt x="64" y="1333"/>
                    </a:lnTo>
                    <a:lnTo>
                      <a:pt x="58" y="1304"/>
                    </a:lnTo>
                    <a:lnTo>
                      <a:pt x="58" y="1276"/>
                    </a:lnTo>
                    <a:lnTo>
                      <a:pt x="58" y="1276"/>
                    </a:lnTo>
                    <a:lnTo>
                      <a:pt x="58" y="1276"/>
                    </a:lnTo>
                    <a:lnTo>
                      <a:pt x="52" y="1252"/>
                    </a:lnTo>
                    <a:lnTo>
                      <a:pt x="41" y="1252"/>
                    </a:lnTo>
                    <a:lnTo>
                      <a:pt x="52" y="1252"/>
                    </a:lnTo>
                    <a:lnTo>
                      <a:pt x="47" y="1224"/>
                    </a:lnTo>
                    <a:lnTo>
                      <a:pt x="35" y="1166"/>
                    </a:lnTo>
                    <a:lnTo>
                      <a:pt x="29" y="1114"/>
                    </a:lnTo>
                    <a:lnTo>
                      <a:pt x="24" y="1108"/>
                    </a:lnTo>
                    <a:lnTo>
                      <a:pt x="29" y="1114"/>
                    </a:lnTo>
                    <a:lnTo>
                      <a:pt x="24" y="1091"/>
                    </a:lnTo>
                    <a:lnTo>
                      <a:pt x="12" y="1091"/>
                    </a:lnTo>
                    <a:lnTo>
                      <a:pt x="24" y="1091"/>
                    </a:lnTo>
                    <a:lnTo>
                      <a:pt x="24" y="1074"/>
                    </a:lnTo>
                    <a:lnTo>
                      <a:pt x="24" y="1051"/>
                    </a:lnTo>
                    <a:lnTo>
                      <a:pt x="12" y="1051"/>
                    </a:lnTo>
                    <a:lnTo>
                      <a:pt x="24" y="1056"/>
                    </a:lnTo>
                    <a:lnTo>
                      <a:pt x="29" y="1045"/>
                    </a:lnTo>
                    <a:lnTo>
                      <a:pt x="35" y="1027"/>
                    </a:lnTo>
                    <a:lnTo>
                      <a:pt x="24" y="1022"/>
                    </a:lnTo>
                    <a:lnTo>
                      <a:pt x="29" y="1027"/>
                    </a:lnTo>
                    <a:lnTo>
                      <a:pt x="41" y="1016"/>
                    </a:lnTo>
                    <a:lnTo>
                      <a:pt x="47" y="1016"/>
                    </a:lnTo>
                    <a:lnTo>
                      <a:pt x="47" y="1016"/>
                    </a:lnTo>
                    <a:lnTo>
                      <a:pt x="52" y="1004"/>
                    </a:lnTo>
                    <a:lnTo>
                      <a:pt x="41" y="999"/>
                    </a:lnTo>
                    <a:lnTo>
                      <a:pt x="47" y="1004"/>
                    </a:lnTo>
                    <a:lnTo>
                      <a:pt x="58" y="993"/>
                    </a:lnTo>
                    <a:lnTo>
                      <a:pt x="70" y="981"/>
                    </a:lnTo>
                    <a:lnTo>
                      <a:pt x="64" y="976"/>
                    </a:lnTo>
                    <a:lnTo>
                      <a:pt x="70" y="987"/>
                    </a:lnTo>
                    <a:lnTo>
                      <a:pt x="81" y="981"/>
                    </a:lnTo>
                    <a:lnTo>
                      <a:pt x="99" y="976"/>
                    </a:lnTo>
                    <a:lnTo>
                      <a:pt x="99" y="976"/>
                    </a:lnTo>
                    <a:lnTo>
                      <a:pt x="99" y="970"/>
                    </a:lnTo>
                    <a:lnTo>
                      <a:pt x="110" y="958"/>
                    </a:lnTo>
                    <a:lnTo>
                      <a:pt x="104" y="952"/>
                    </a:lnTo>
                    <a:lnTo>
                      <a:pt x="104" y="964"/>
                    </a:lnTo>
                    <a:lnTo>
                      <a:pt x="116" y="964"/>
                    </a:lnTo>
                    <a:lnTo>
                      <a:pt x="133" y="964"/>
                    </a:lnTo>
                    <a:lnTo>
                      <a:pt x="145" y="964"/>
                    </a:lnTo>
                    <a:lnTo>
                      <a:pt x="156" y="964"/>
                    </a:lnTo>
                    <a:lnTo>
                      <a:pt x="156" y="952"/>
                    </a:lnTo>
                    <a:lnTo>
                      <a:pt x="156" y="964"/>
                    </a:lnTo>
                    <a:lnTo>
                      <a:pt x="168" y="970"/>
                    </a:lnTo>
                    <a:lnTo>
                      <a:pt x="179" y="976"/>
                    </a:lnTo>
                    <a:lnTo>
                      <a:pt x="191" y="981"/>
                    </a:lnTo>
                    <a:lnTo>
                      <a:pt x="191" y="970"/>
                    </a:lnTo>
                    <a:lnTo>
                      <a:pt x="185" y="976"/>
                    </a:lnTo>
                    <a:lnTo>
                      <a:pt x="197" y="987"/>
                    </a:lnTo>
                    <a:lnTo>
                      <a:pt x="208" y="999"/>
                    </a:lnTo>
                    <a:lnTo>
                      <a:pt x="220" y="1010"/>
                    </a:lnTo>
                    <a:lnTo>
                      <a:pt x="226" y="1016"/>
                    </a:lnTo>
                    <a:lnTo>
                      <a:pt x="226" y="1016"/>
                    </a:lnTo>
                    <a:lnTo>
                      <a:pt x="243" y="1022"/>
                    </a:lnTo>
                    <a:lnTo>
                      <a:pt x="254" y="1027"/>
                    </a:lnTo>
                    <a:lnTo>
                      <a:pt x="254" y="1027"/>
                    </a:lnTo>
                    <a:lnTo>
                      <a:pt x="254" y="1027"/>
                    </a:lnTo>
                    <a:lnTo>
                      <a:pt x="272" y="1027"/>
                    </a:lnTo>
                    <a:lnTo>
                      <a:pt x="289" y="1027"/>
                    </a:lnTo>
                    <a:lnTo>
                      <a:pt x="295" y="1027"/>
                    </a:lnTo>
                    <a:lnTo>
                      <a:pt x="295" y="1027"/>
                    </a:lnTo>
                    <a:lnTo>
                      <a:pt x="312" y="1022"/>
                    </a:lnTo>
                    <a:lnTo>
                      <a:pt x="329" y="1016"/>
                    </a:lnTo>
                    <a:lnTo>
                      <a:pt x="341" y="1010"/>
                    </a:lnTo>
                    <a:lnTo>
                      <a:pt x="358" y="1004"/>
                    </a:lnTo>
                    <a:lnTo>
                      <a:pt x="358" y="1004"/>
                    </a:lnTo>
                    <a:lnTo>
                      <a:pt x="358" y="999"/>
                    </a:lnTo>
                    <a:lnTo>
                      <a:pt x="370" y="987"/>
                    </a:lnTo>
                    <a:lnTo>
                      <a:pt x="381" y="976"/>
                    </a:lnTo>
                    <a:lnTo>
                      <a:pt x="393" y="964"/>
                    </a:lnTo>
                    <a:lnTo>
                      <a:pt x="399" y="964"/>
                    </a:lnTo>
                    <a:lnTo>
                      <a:pt x="399" y="964"/>
                    </a:lnTo>
                    <a:lnTo>
                      <a:pt x="404" y="947"/>
                    </a:lnTo>
                    <a:lnTo>
                      <a:pt x="410" y="935"/>
                    </a:lnTo>
                    <a:lnTo>
                      <a:pt x="410" y="935"/>
                    </a:lnTo>
                    <a:lnTo>
                      <a:pt x="410" y="929"/>
                    </a:lnTo>
                    <a:lnTo>
                      <a:pt x="410" y="912"/>
                    </a:lnTo>
                    <a:lnTo>
                      <a:pt x="410" y="889"/>
                    </a:lnTo>
                    <a:lnTo>
                      <a:pt x="410" y="889"/>
                    </a:lnTo>
                    <a:lnTo>
                      <a:pt x="410" y="889"/>
                    </a:lnTo>
                    <a:lnTo>
                      <a:pt x="404" y="866"/>
                    </a:lnTo>
                    <a:lnTo>
                      <a:pt x="399" y="849"/>
                    </a:lnTo>
                    <a:lnTo>
                      <a:pt x="387" y="831"/>
                    </a:lnTo>
                    <a:lnTo>
                      <a:pt x="376" y="814"/>
                    </a:lnTo>
                    <a:lnTo>
                      <a:pt x="376" y="814"/>
                    </a:lnTo>
                    <a:lnTo>
                      <a:pt x="370" y="808"/>
                    </a:lnTo>
                    <a:lnTo>
                      <a:pt x="358" y="797"/>
                    </a:lnTo>
                    <a:lnTo>
                      <a:pt x="358" y="797"/>
                    </a:lnTo>
                    <a:lnTo>
                      <a:pt x="358" y="797"/>
                    </a:lnTo>
                    <a:lnTo>
                      <a:pt x="341" y="785"/>
                    </a:lnTo>
                    <a:lnTo>
                      <a:pt x="329" y="779"/>
                    </a:lnTo>
                    <a:lnTo>
                      <a:pt x="312" y="774"/>
                    </a:lnTo>
                    <a:lnTo>
                      <a:pt x="295" y="768"/>
                    </a:lnTo>
                    <a:lnTo>
                      <a:pt x="295" y="768"/>
                    </a:lnTo>
                    <a:lnTo>
                      <a:pt x="289" y="768"/>
                    </a:lnTo>
                    <a:lnTo>
                      <a:pt x="272" y="768"/>
                    </a:lnTo>
                    <a:lnTo>
                      <a:pt x="254" y="768"/>
                    </a:lnTo>
                    <a:lnTo>
                      <a:pt x="254" y="768"/>
                    </a:lnTo>
                    <a:lnTo>
                      <a:pt x="254" y="768"/>
                    </a:lnTo>
                    <a:lnTo>
                      <a:pt x="243" y="774"/>
                    </a:lnTo>
                    <a:lnTo>
                      <a:pt x="243" y="779"/>
                    </a:lnTo>
                    <a:lnTo>
                      <a:pt x="243" y="774"/>
                    </a:lnTo>
                    <a:lnTo>
                      <a:pt x="226" y="774"/>
                    </a:lnTo>
                    <a:lnTo>
                      <a:pt x="226" y="774"/>
                    </a:lnTo>
                    <a:lnTo>
                      <a:pt x="220" y="774"/>
                    </a:lnTo>
                    <a:lnTo>
                      <a:pt x="208" y="785"/>
                    </a:lnTo>
                    <a:lnTo>
                      <a:pt x="214" y="791"/>
                    </a:lnTo>
                    <a:lnTo>
                      <a:pt x="214" y="785"/>
                    </a:lnTo>
                    <a:lnTo>
                      <a:pt x="202" y="791"/>
                    </a:lnTo>
                    <a:lnTo>
                      <a:pt x="202" y="791"/>
                    </a:lnTo>
                    <a:lnTo>
                      <a:pt x="197" y="791"/>
                    </a:lnTo>
                    <a:lnTo>
                      <a:pt x="185" y="802"/>
                    </a:lnTo>
                    <a:lnTo>
                      <a:pt x="191" y="808"/>
                    </a:lnTo>
                    <a:lnTo>
                      <a:pt x="191" y="802"/>
                    </a:lnTo>
                    <a:lnTo>
                      <a:pt x="179" y="808"/>
                    </a:lnTo>
                    <a:lnTo>
                      <a:pt x="168" y="814"/>
                    </a:lnTo>
                    <a:lnTo>
                      <a:pt x="151" y="820"/>
                    </a:lnTo>
                    <a:lnTo>
                      <a:pt x="151" y="826"/>
                    </a:lnTo>
                    <a:lnTo>
                      <a:pt x="151" y="820"/>
                    </a:lnTo>
                    <a:lnTo>
                      <a:pt x="133" y="820"/>
                    </a:lnTo>
                    <a:lnTo>
                      <a:pt x="122" y="820"/>
                    </a:lnTo>
                    <a:lnTo>
                      <a:pt x="104" y="820"/>
                    </a:lnTo>
                    <a:lnTo>
                      <a:pt x="87" y="820"/>
                    </a:lnTo>
                    <a:lnTo>
                      <a:pt x="87" y="826"/>
                    </a:lnTo>
                    <a:lnTo>
                      <a:pt x="93" y="820"/>
                    </a:lnTo>
                    <a:lnTo>
                      <a:pt x="81" y="814"/>
                    </a:lnTo>
                    <a:lnTo>
                      <a:pt x="64" y="808"/>
                    </a:lnTo>
                    <a:lnTo>
                      <a:pt x="52" y="802"/>
                    </a:lnTo>
                    <a:lnTo>
                      <a:pt x="41" y="797"/>
                    </a:lnTo>
                    <a:lnTo>
                      <a:pt x="35" y="802"/>
                    </a:lnTo>
                    <a:lnTo>
                      <a:pt x="41" y="797"/>
                    </a:lnTo>
                    <a:lnTo>
                      <a:pt x="29" y="785"/>
                    </a:lnTo>
                    <a:lnTo>
                      <a:pt x="24" y="779"/>
                    </a:lnTo>
                    <a:lnTo>
                      <a:pt x="18" y="785"/>
                    </a:lnTo>
                    <a:lnTo>
                      <a:pt x="29" y="785"/>
                    </a:lnTo>
                    <a:lnTo>
                      <a:pt x="24" y="774"/>
                    </a:lnTo>
                    <a:lnTo>
                      <a:pt x="18" y="762"/>
                    </a:lnTo>
                    <a:lnTo>
                      <a:pt x="6" y="762"/>
                    </a:lnTo>
                    <a:lnTo>
                      <a:pt x="18" y="762"/>
                    </a:lnTo>
                    <a:lnTo>
                      <a:pt x="18" y="739"/>
                    </a:lnTo>
                    <a:lnTo>
                      <a:pt x="18" y="704"/>
                    </a:lnTo>
                    <a:lnTo>
                      <a:pt x="18" y="664"/>
                    </a:lnTo>
                    <a:lnTo>
                      <a:pt x="24" y="618"/>
                    </a:lnTo>
                    <a:lnTo>
                      <a:pt x="29" y="572"/>
                    </a:lnTo>
                    <a:lnTo>
                      <a:pt x="35" y="525"/>
                    </a:lnTo>
                    <a:lnTo>
                      <a:pt x="41" y="485"/>
                    </a:lnTo>
                    <a:lnTo>
                      <a:pt x="47" y="456"/>
                    </a:lnTo>
                    <a:lnTo>
                      <a:pt x="35" y="456"/>
                    </a:lnTo>
                    <a:lnTo>
                      <a:pt x="35" y="468"/>
                    </a:lnTo>
                    <a:lnTo>
                      <a:pt x="76" y="468"/>
                    </a:lnTo>
                    <a:lnTo>
                      <a:pt x="116" y="468"/>
                    </a:lnTo>
                    <a:lnTo>
                      <a:pt x="156" y="468"/>
                    </a:lnTo>
                    <a:lnTo>
                      <a:pt x="191" y="468"/>
                    </a:lnTo>
                    <a:lnTo>
                      <a:pt x="226" y="468"/>
                    </a:lnTo>
                    <a:lnTo>
                      <a:pt x="254" y="468"/>
                    </a:lnTo>
                    <a:lnTo>
                      <a:pt x="283" y="468"/>
                    </a:lnTo>
                    <a:lnTo>
                      <a:pt x="301" y="468"/>
                    </a:lnTo>
                    <a:lnTo>
                      <a:pt x="324" y="462"/>
                    </a:lnTo>
                    <a:lnTo>
                      <a:pt x="329" y="456"/>
                    </a:lnTo>
                    <a:lnTo>
                      <a:pt x="329" y="462"/>
                    </a:lnTo>
                    <a:lnTo>
                      <a:pt x="358" y="450"/>
                    </a:lnTo>
                    <a:lnTo>
                      <a:pt x="376" y="439"/>
                    </a:lnTo>
                    <a:lnTo>
                      <a:pt x="393" y="427"/>
                    </a:lnTo>
                    <a:lnTo>
                      <a:pt x="410" y="416"/>
                    </a:lnTo>
                    <a:lnTo>
                      <a:pt x="410" y="410"/>
                    </a:lnTo>
                    <a:lnTo>
                      <a:pt x="416" y="410"/>
                    </a:lnTo>
                    <a:lnTo>
                      <a:pt x="428" y="393"/>
                    </a:lnTo>
                    <a:lnTo>
                      <a:pt x="433" y="381"/>
                    </a:lnTo>
                    <a:lnTo>
                      <a:pt x="445" y="364"/>
                    </a:lnTo>
                    <a:lnTo>
                      <a:pt x="445" y="364"/>
                    </a:lnTo>
                    <a:lnTo>
                      <a:pt x="445" y="358"/>
                    </a:lnTo>
                    <a:lnTo>
                      <a:pt x="445" y="341"/>
                    </a:lnTo>
                    <a:lnTo>
                      <a:pt x="433" y="341"/>
                    </a:lnTo>
                    <a:lnTo>
                      <a:pt x="445" y="347"/>
                    </a:lnTo>
                    <a:lnTo>
                      <a:pt x="451" y="329"/>
                    </a:lnTo>
                    <a:lnTo>
                      <a:pt x="451" y="329"/>
                    </a:lnTo>
                    <a:lnTo>
                      <a:pt x="451" y="324"/>
                    </a:lnTo>
                    <a:lnTo>
                      <a:pt x="451" y="306"/>
                    </a:lnTo>
                    <a:lnTo>
                      <a:pt x="451" y="306"/>
                    </a:lnTo>
                    <a:lnTo>
                      <a:pt x="451" y="306"/>
                    </a:lnTo>
                    <a:lnTo>
                      <a:pt x="445" y="289"/>
                    </a:lnTo>
                    <a:lnTo>
                      <a:pt x="439" y="277"/>
                    </a:lnTo>
                    <a:lnTo>
                      <a:pt x="433" y="260"/>
                    </a:lnTo>
                    <a:lnTo>
                      <a:pt x="422" y="243"/>
                    </a:lnTo>
                    <a:lnTo>
                      <a:pt x="422" y="243"/>
                    </a:lnTo>
                    <a:lnTo>
                      <a:pt x="416" y="237"/>
                    </a:lnTo>
                    <a:lnTo>
                      <a:pt x="404" y="225"/>
                    </a:lnTo>
                    <a:lnTo>
                      <a:pt x="399" y="231"/>
                    </a:lnTo>
                    <a:lnTo>
                      <a:pt x="410" y="231"/>
                    </a:lnTo>
                    <a:lnTo>
                      <a:pt x="399" y="214"/>
                    </a:lnTo>
                    <a:lnTo>
                      <a:pt x="399" y="214"/>
                    </a:lnTo>
                    <a:lnTo>
                      <a:pt x="393" y="208"/>
                    </a:lnTo>
                    <a:lnTo>
                      <a:pt x="381" y="197"/>
                    </a:lnTo>
                    <a:lnTo>
                      <a:pt x="376" y="202"/>
                    </a:lnTo>
                    <a:lnTo>
                      <a:pt x="387" y="202"/>
                    </a:lnTo>
                    <a:lnTo>
                      <a:pt x="381" y="185"/>
                    </a:lnTo>
                    <a:lnTo>
                      <a:pt x="376" y="168"/>
                    </a:lnTo>
                    <a:lnTo>
                      <a:pt x="364" y="168"/>
                    </a:lnTo>
                    <a:lnTo>
                      <a:pt x="376" y="168"/>
                    </a:lnTo>
                    <a:lnTo>
                      <a:pt x="376" y="145"/>
                    </a:lnTo>
                    <a:lnTo>
                      <a:pt x="376" y="127"/>
                    </a:lnTo>
                    <a:lnTo>
                      <a:pt x="376" y="110"/>
                    </a:lnTo>
                    <a:lnTo>
                      <a:pt x="364" y="110"/>
                    </a:lnTo>
                    <a:lnTo>
                      <a:pt x="376" y="116"/>
                    </a:lnTo>
                    <a:lnTo>
                      <a:pt x="381" y="99"/>
                    </a:lnTo>
                    <a:lnTo>
                      <a:pt x="387" y="75"/>
                    </a:lnTo>
                    <a:lnTo>
                      <a:pt x="376" y="70"/>
                    </a:lnTo>
                    <a:lnTo>
                      <a:pt x="381" y="75"/>
                    </a:lnTo>
                    <a:lnTo>
                      <a:pt x="393" y="64"/>
                    </a:lnTo>
                    <a:lnTo>
                      <a:pt x="399" y="64"/>
                    </a:lnTo>
                    <a:lnTo>
                      <a:pt x="399" y="64"/>
                    </a:lnTo>
                    <a:lnTo>
                      <a:pt x="404" y="52"/>
                    </a:lnTo>
                    <a:lnTo>
                      <a:pt x="393" y="47"/>
                    </a:lnTo>
                    <a:lnTo>
                      <a:pt x="399" y="52"/>
                    </a:lnTo>
                    <a:lnTo>
                      <a:pt x="404" y="47"/>
                    </a:lnTo>
                    <a:lnTo>
                      <a:pt x="399" y="41"/>
                    </a:lnTo>
                    <a:lnTo>
                      <a:pt x="404" y="52"/>
                    </a:lnTo>
                    <a:lnTo>
                      <a:pt x="416" y="47"/>
                    </a:lnTo>
                    <a:lnTo>
                      <a:pt x="416" y="47"/>
                    </a:lnTo>
                    <a:lnTo>
                      <a:pt x="416" y="41"/>
                    </a:lnTo>
                    <a:lnTo>
                      <a:pt x="422" y="35"/>
                    </a:lnTo>
                    <a:lnTo>
                      <a:pt x="416" y="29"/>
                    </a:lnTo>
                    <a:lnTo>
                      <a:pt x="422" y="41"/>
                    </a:lnTo>
                    <a:lnTo>
                      <a:pt x="433" y="35"/>
                    </a:lnTo>
                    <a:lnTo>
                      <a:pt x="445" y="29"/>
                    </a:lnTo>
                    <a:lnTo>
                      <a:pt x="456" y="24"/>
                    </a:lnTo>
                    <a:lnTo>
                      <a:pt x="451" y="12"/>
                    </a:lnTo>
                    <a:lnTo>
                      <a:pt x="451" y="24"/>
                    </a:lnTo>
                    <a:lnTo>
                      <a:pt x="462" y="24"/>
                    </a:lnTo>
                    <a:lnTo>
                      <a:pt x="468" y="24"/>
                    </a:lnTo>
                    <a:lnTo>
                      <a:pt x="468" y="24"/>
                    </a:lnTo>
                    <a:lnTo>
                      <a:pt x="479" y="18"/>
                    </a:lnTo>
                    <a:lnTo>
                      <a:pt x="474" y="6"/>
                    </a:lnTo>
                    <a:lnTo>
                      <a:pt x="474" y="18"/>
                    </a:lnTo>
                    <a:lnTo>
                      <a:pt x="485" y="18"/>
                    </a:lnTo>
                    <a:lnTo>
                      <a:pt x="503" y="18"/>
                    </a:lnTo>
                    <a:lnTo>
                      <a:pt x="514" y="18"/>
                    </a:lnTo>
                    <a:lnTo>
                      <a:pt x="531" y="18"/>
                    </a:lnTo>
                    <a:lnTo>
                      <a:pt x="549" y="18"/>
                    </a:lnTo>
                    <a:lnTo>
                      <a:pt x="560" y="18"/>
                    </a:lnTo>
                    <a:lnTo>
                      <a:pt x="560" y="6"/>
                    </a:lnTo>
                    <a:lnTo>
                      <a:pt x="560" y="18"/>
                    </a:lnTo>
                    <a:lnTo>
                      <a:pt x="578" y="24"/>
                    </a:lnTo>
                    <a:lnTo>
                      <a:pt x="589" y="29"/>
                    </a:lnTo>
                    <a:lnTo>
                      <a:pt x="601" y="35"/>
                    </a:lnTo>
                    <a:lnTo>
                      <a:pt x="612" y="41"/>
                    </a:lnTo>
                    <a:lnTo>
                      <a:pt x="612" y="29"/>
                    </a:lnTo>
                    <a:lnTo>
                      <a:pt x="606" y="35"/>
                    </a:lnTo>
                    <a:lnTo>
                      <a:pt x="612" y="41"/>
                    </a:lnTo>
                    <a:lnTo>
                      <a:pt x="618" y="47"/>
                    </a:lnTo>
                    <a:lnTo>
                      <a:pt x="629" y="58"/>
                    </a:lnTo>
                    <a:lnTo>
                      <a:pt x="635" y="64"/>
                    </a:lnTo>
                    <a:lnTo>
                      <a:pt x="641" y="70"/>
                    </a:lnTo>
                    <a:lnTo>
                      <a:pt x="647" y="64"/>
                    </a:lnTo>
                    <a:lnTo>
                      <a:pt x="641" y="70"/>
                    </a:lnTo>
                    <a:lnTo>
                      <a:pt x="647" y="93"/>
                    </a:lnTo>
                    <a:lnTo>
                      <a:pt x="653" y="110"/>
                    </a:lnTo>
                    <a:lnTo>
                      <a:pt x="658" y="104"/>
                    </a:lnTo>
                    <a:lnTo>
                      <a:pt x="653" y="104"/>
                    </a:lnTo>
                    <a:lnTo>
                      <a:pt x="653" y="127"/>
                    </a:lnTo>
                    <a:lnTo>
                      <a:pt x="653" y="145"/>
                    </a:lnTo>
                    <a:lnTo>
                      <a:pt x="653" y="168"/>
                    </a:lnTo>
                    <a:lnTo>
                      <a:pt x="658" y="168"/>
                    </a:lnTo>
                    <a:lnTo>
                      <a:pt x="653" y="168"/>
                    </a:lnTo>
                    <a:lnTo>
                      <a:pt x="647" y="185"/>
                    </a:lnTo>
                    <a:lnTo>
                      <a:pt x="641" y="202"/>
                    </a:lnTo>
                    <a:lnTo>
                      <a:pt x="629" y="220"/>
                    </a:lnTo>
                    <a:lnTo>
                      <a:pt x="624" y="231"/>
                    </a:lnTo>
                    <a:lnTo>
                      <a:pt x="629" y="231"/>
                    </a:lnTo>
                    <a:lnTo>
                      <a:pt x="624" y="225"/>
                    </a:lnTo>
                    <a:lnTo>
                      <a:pt x="612" y="237"/>
                    </a:lnTo>
                    <a:lnTo>
                      <a:pt x="601" y="249"/>
                    </a:lnTo>
                    <a:lnTo>
                      <a:pt x="601" y="254"/>
                    </a:lnTo>
                    <a:lnTo>
                      <a:pt x="601" y="254"/>
                    </a:lnTo>
                    <a:lnTo>
                      <a:pt x="595" y="266"/>
                    </a:lnTo>
                    <a:lnTo>
                      <a:pt x="601" y="266"/>
                    </a:lnTo>
                    <a:lnTo>
                      <a:pt x="595" y="260"/>
                    </a:lnTo>
                    <a:lnTo>
                      <a:pt x="583" y="272"/>
                    </a:lnTo>
                    <a:lnTo>
                      <a:pt x="583" y="277"/>
                    </a:lnTo>
                    <a:lnTo>
                      <a:pt x="583" y="277"/>
                    </a:lnTo>
                    <a:lnTo>
                      <a:pt x="578" y="289"/>
                    </a:lnTo>
                    <a:lnTo>
                      <a:pt x="572" y="300"/>
                    </a:lnTo>
                    <a:lnTo>
                      <a:pt x="572" y="300"/>
                    </a:lnTo>
                    <a:lnTo>
                      <a:pt x="572" y="300"/>
                    </a:lnTo>
                    <a:lnTo>
                      <a:pt x="572" y="318"/>
                    </a:lnTo>
                    <a:lnTo>
                      <a:pt x="578" y="318"/>
                    </a:lnTo>
                    <a:lnTo>
                      <a:pt x="572" y="318"/>
                    </a:lnTo>
                    <a:lnTo>
                      <a:pt x="566" y="335"/>
                    </a:lnTo>
                    <a:lnTo>
                      <a:pt x="566" y="335"/>
                    </a:lnTo>
                    <a:lnTo>
                      <a:pt x="566" y="335"/>
                    </a:lnTo>
                    <a:lnTo>
                      <a:pt x="566" y="352"/>
                    </a:lnTo>
                    <a:lnTo>
                      <a:pt x="566" y="358"/>
                    </a:lnTo>
                    <a:lnTo>
                      <a:pt x="566" y="358"/>
                    </a:lnTo>
                    <a:lnTo>
                      <a:pt x="572" y="370"/>
                    </a:lnTo>
                    <a:lnTo>
                      <a:pt x="578" y="387"/>
                    </a:lnTo>
                    <a:lnTo>
                      <a:pt x="583" y="399"/>
                    </a:lnTo>
                    <a:lnTo>
                      <a:pt x="595" y="416"/>
                    </a:lnTo>
                    <a:lnTo>
                      <a:pt x="606" y="433"/>
                    </a:lnTo>
                    <a:lnTo>
                      <a:pt x="606" y="433"/>
                    </a:lnTo>
                    <a:lnTo>
                      <a:pt x="612" y="439"/>
                    </a:lnTo>
                    <a:lnTo>
                      <a:pt x="629" y="450"/>
                    </a:lnTo>
                    <a:lnTo>
                      <a:pt x="647" y="462"/>
                    </a:lnTo>
                    <a:lnTo>
                      <a:pt x="641" y="456"/>
                    </a:lnTo>
                    <a:lnTo>
                      <a:pt x="647" y="462"/>
                    </a:lnTo>
                    <a:lnTo>
                      <a:pt x="670" y="468"/>
                    </a:lnTo>
                    <a:lnTo>
                      <a:pt x="670" y="456"/>
                    </a:lnTo>
                    <a:lnTo>
                      <a:pt x="664" y="462"/>
                    </a:lnTo>
                    <a:lnTo>
                      <a:pt x="670" y="468"/>
                    </a:lnTo>
                    <a:lnTo>
                      <a:pt x="670" y="468"/>
                    </a:lnTo>
                    <a:lnTo>
                      <a:pt x="676" y="474"/>
                    </a:lnTo>
                    <a:lnTo>
                      <a:pt x="705" y="479"/>
                    </a:lnTo>
                    <a:lnTo>
                      <a:pt x="739" y="485"/>
                    </a:lnTo>
                    <a:lnTo>
                      <a:pt x="791" y="491"/>
                    </a:lnTo>
                    <a:lnTo>
                      <a:pt x="814" y="491"/>
                    </a:lnTo>
                    <a:lnTo>
                      <a:pt x="843" y="497"/>
                    </a:lnTo>
                    <a:lnTo>
                      <a:pt x="872" y="497"/>
                    </a:lnTo>
                    <a:lnTo>
                      <a:pt x="901" y="497"/>
                    </a:lnTo>
                    <a:lnTo>
                      <a:pt x="930" y="497"/>
                    </a:lnTo>
                    <a:lnTo>
                      <a:pt x="958" y="491"/>
                    </a:lnTo>
                    <a:lnTo>
                      <a:pt x="987" y="491"/>
                    </a:lnTo>
                    <a:lnTo>
                      <a:pt x="1016" y="485"/>
                    </a:lnTo>
                    <a:lnTo>
                      <a:pt x="1016" y="474"/>
                    </a:lnTo>
                    <a:lnTo>
                      <a:pt x="1010" y="479"/>
                    </a:lnTo>
                    <a:lnTo>
                      <a:pt x="1022" y="514"/>
                    </a:lnTo>
                    <a:lnTo>
                      <a:pt x="1033" y="560"/>
                    </a:lnTo>
                    <a:lnTo>
                      <a:pt x="1045" y="606"/>
                    </a:lnTo>
                    <a:lnTo>
                      <a:pt x="1057" y="658"/>
                    </a:lnTo>
                    <a:lnTo>
                      <a:pt x="1062" y="652"/>
                    </a:lnTo>
                    <a:lnTo>
                      <a:pt x="1057" y="652"/>
                    </a:lnTo>
                    <a:lnTo>
                      <a:pt x="1062" y="681"/>
                    </a:lnTo>
                    <a:lnTo>
                      <a:pt x="1062" y="704"/>
                    </a:lnTo>
                    <a:lnTo>
                      <a:pt x="1062" y="727"/>
                    </a:lnTo>
                    <a:lnTo>
                      <a:pt x="1062" y="751"/>
                    </a:lnTo>
                    <a:lnTo>
                      <a:pt x="1062" y="774"/>
                    </a:lnTo>
                    <a:lnTo>
                      <a:pt x="1068" y="774"/>
                    </a:lnTo>
                    <a:lnTo>
                      <a:pt x="1062" y="774"/>
                    </a:lnTo>
                    <a:lnTo>
                      <a:pt x="1057" y="791"/>
                    </a:lnTo>
                    <a:lnTo>
                      <a:pt x="1057" y="791"/>
                    </a:lnTo>
                    <a:lnTo>
                      <a:pt x="1057" y="791"/>
                    </a:lnTo>
                    <a:lnTo>
                      <a:pt x="1057" y="797"/>
                    </a:lnTo>
                    <a:lnTo>
                      <a:pt x="1062" y="797"/>
                    </a:lnTo>
                    <a:lnTo>
                      <a:pt x="1057" y="797"/>
                    </a:lnTo>
                    <a:lnTo>
                      <a:pt x="1051" y="808"/>
                    </a:lnTo>
                    <a:lnTo>
                      <a:pt x="1057" y="808"/>
                    </a:lnTo>
                    <a:lnTo>
                      <a:pt x="1057" y="802"/>
                    </a:lnTo>
                    <a:lnTo>
                      <a:pt x="1051" y="802"/>
                    </a:lnTo>
                    <a:lnTo>
                      <a:pt x="1045" y="802"/>
                    </a:lnTo>
                    <a:lnTo>
                      <a:pt x="1045" y="808"/>
                    </a:lnTo>
                    <a:lnTo>
                      <a:pt x="1045" y="814"/>
                    </a:lnTo>
                    <a:lnTo>
                      <a:pt x="1051" y="814"/>
                    </a:lnTo>
                    <a:lnTo>
                      <a:pt x="1045" y="808"/>
                    </a:lnTo>
                    <a:lnTo>
                      <a:pt x="1033" y="820"/>
                    </a:lnTo>
                    <a:lnTo>
                      <a:pt x="1039" y="826"/>
                    </a:lnTo>
                    <a:lnTo>
                      <a:pt x="1039" y="820"/>
                    </a:lnTo>
                    <a:lnTo>
                      <a:pt x="1028" y="826"/>
                    </a:lnTo>
                    <a:lnTo>
                      <a:pt x="1016" y="831"/>
                    </a:lnTo>
                    <a:lnTo>
                      <a:pt x="1005" y="837"/>
                    </a:lnTo>
                    <a:lnTo>
                      <a:pt x="1005" y="843"/>
                    </a:lnTo>
                    <a:lnTo>
                      <a:pt x="1005" y="837"/>
                    </a:lnTo>
                    <a:lnTo>
                      <a:pt x="993" y="837"/>
                    </a:lnTo>
                    <a:lnTo>
                      <a:pt x="993" y="837"/>
                    </a:lnTo>
                    <a:lnTo>
                      <a:pt x="993" y="837"/>
                    </a:lnTo>
                    <a:lnTo>
                      <a:pt x="981" y="843"/>
                    </a:lnTo>
                    <a:lnTo>
                      <a:pt x="981" y="849"/>
                    </a:lnTo>
                    <a:lnTo>
                      <a:pt x="981" y="843"/>
                    </a:lnTo>
                    <a:lnTo>
                      <a:pt x="970" y="843"/>
                    </a:lnTo>
                    <a:lnTo>
                      <a:pt x="958" y="843"/>
                    </a:lnTo>
                    <a:lnTo>
                      <a:pt x="947" y="843"/>
                    </a:lnTo>
                    <a:lnTo>
                      <a:pt x="935" y="843"/>
                    </a:lnTo>
                    <a:lnTo>
                      <a:pt x="935" y="849"/>
                    </a:lnTo>
                    <a:lnTo>
                      <a:pt x="941" y="843"/>
                    </a:lnTo>
                    <a:lnTo>
                      <a:pt x="930" y="837"/>
                    </a:lnTo>
                    <a:lnTo>
                      <a:pt x="918" y="831"/>
                    </a:lnTo>
                    <a:lnTo>
                      <a:pt x="918" y="831"/>
                    </a:lnTo>
                    <a:lnTo>
                      <a:pt x="912" y="831"/>
                    </a:lnTo>
                    <a:lnTo>
                      <a:pt x="901" y="831"/>
                    </a:lnTo>
                    <a:lnTo>
                      <a:pt x="901" y="837"/>
                    </a:lnTo>
                    <a:lnTo>
                      <a:pt x="906" y="831"/>
                    </a:lnTo>
                    <a:lnTo>
                      <a:pt x="901" y="826"/>
                    </a:lnTo>
                    <a:lnTo>
                      <a:pt x="901" y="826"/>
                    </a:lnTo>
                    <a:lnTo>
                      <a:pt x="901" y="826"/>
                    </a:lnTo>
                    <a:lnTo>
                      <a:pt x="889" y="820"/>
                    </a:lnTo>
                    <a:lnTo>
                      <a:pt x="883" y="826"/>
                    </a:lnTo>
                    <a:lnTo>
                      <a:pt x="895" y="826"/>
                    </a:lnTo>
                    <a:lnTo>
                      <a:pt x="889" y="814"/>
                    </a:lnTo>
                    <a:lnTo>
                      <a:pt x="883" y="808"/>
                    </a:lnTo>
                    <a:lnTo>
                      <a:pt x="883" y="808"/>
                    </a:lnTo>
                    <a:lnTo>
                      <a:pt x="872" y="802"/>
                    </a:lnTo>
                    <a:lnTo>
                      <a:pt x="866" y="808"/>
                    </a:lnTo>
                    <a:lnTo>
                      <a:pt x="872" y="802"/>
                    </a:lnTo>
                    <a:lnTo>
                      <a:pt x="860" y="791"/>
                    </a:lnTo>
                    <a:lnTo>
                      <a:pt x="860" y="791"/>
                    </a:lnTo>
                    <a:lnTo>
                      <a:pt x="860" y="791"/>
                    </a:lnTo>
                    <a:lnTo>
                      <a:pt x="843" y="785"/>
                    </a:lnTo>
                    <a:lnTo>
                      <a:pt x="826" y="779"/>
                    </a:lnTo>
                    <a:lnTo>
                      <a:pt x="826" y="779"/>
                    </a:lnTo>
                    <a:lnTo>
                      <a:pt x="820" y="779"/>
                    </a:lnTo>
                    <a:lnTo>
                      <a:pt x="803" y="779"/>
                    </a:lnTo>
                    <a:lnTo>
                      <a:pt x="780" y="779"/>
                    </a:lnTo>
                    <a:lnTo>
                      <a:pt x="762" y="779"/>
                    </a:lnTo>
                    <a:lnTo>
                      <a:pt x="762" y="779"/>
                    </a:lnTo>
                    <a:lnTo>
                      <a:pt x="762" y="779"/>
                    </a:lnTo>
                    <a:lnTo>
                      <a:pt x="745" y="785"/>
                    </a:lnTo>
                    <a:lnTo>
                      <a:pt x="728" y="791"/>
                    </a:lnTo>
                    <a:lnTo>
                      <a:pt x="710" y="802"/>
                    </a:lnTo>
                    <a:lnTo>
                      <a:pt x="710" y="802"/>
                    </a:lnTo>
                    <a:lnTo>
                      <a:pt x="705" y="802"/>
                    </a:lnTo>
                    <a:lnTo>
                      <a:pt x="687" y="820"/>
                    </a:lnTo>
                    <a:lnTo>
                      <a:pt x="676" y="831"/>
                    </a:lnTo>
                    <a:lnTo>
                      <a:pt x="664" y="843"/>
                    </a:lnTo>
                    <a:lnTo>
                      <a:pt x="658" y="849"/>
                    </a:lnTo>
                    <a:lnTo>
                      <a:pt x="658" y="854"/>
                    </a:lnTo>
                    <a:lnTo>
                      <a:pt x="658" y="854"/>
                    </a:lnTo>
                    <a:lnTo>
                      <a:pt x="658" y="866"/>
                    </a:lnTo>
                    <a:lnTo>
                      <a:pt x="664" y="866"/>
                    </a:lnTo>
                    <a:lnTo>
                      <a:pt x="658" y="866"/>
                    </a:lnTo>
                    <a:lnTo>
                      <a:pt x="653" y="877"/>
                    </a:lnTo>
                    <a:lnTo>
                      <a:pt x="647" y="889"/>
                    </a:lnTo>
                    <a:lnTo>
                      <a:pt x="647" y="889"/>
                    </a:lnTo>
                    <a:lnTo>
                      <a:pt x="647" y="889"/>
                    </a:lnTo>
                    <a:lnTo>
                      <a:pt x="647" y="901"/>
                    </a:lnTo>
                    <a:lnTo>
                      <a:pt x="647" y="918"/>
                    </a:lnTo>
                    <a:lnTo>
                      <a:pt x="647" y="929"/>
                    </a:lnTo>
                    <a:lnTo>
                      <a:pt x="647" y="941"/>
                    </a:lnTo>
                    <a:lnTo>
                      <a:pt x="647" y="952"/>
                    </a:lnTo>
                    <a:lnTo>
                      <a:pt x="647" y="964"/>
                    </a:lnTo>
                    <a:lnTo>
                      <a:pt x="647" y="970"/>
                    </a:lnTo>
                    <a:lnTo>
                      <a:pt x="647" y="970"/>
                    </a:lnTo>
                    <a:lnTo>
                      <a:pt x="653" y="981"/>
                    </a:lnTo>
                    <a:lnTo>
                      <a:pt x="653" y="981"/>
                    </a:lnTo>
                    <a:lnTo>
                      <a:pt x="653" y="981"/>
                    </a:lnTo>
                    <a:lnTo>
                      <a:pt x="658" y="987"/>
                    </a:lnTo>
                    <a:lnTo>
                      <a:pt x="664" y="981"/>
                    </a:lnTo>
                    <a:lnTo>
                      <a:pt x="658" y="981"/>
                    </a:lnTo>
                    <a:lnTo>
                      <a:pt x="658" y="993"/>
                    </a:lnTo>
                    <a:lnTo>
                      <a:pt x="658" y="999"/>
                    </a:lnTo>
                    <a:lnTo>
                      <a:pt x="658" y="999"/>
                    </a:lnTo>
                    <a:lnTo>
                      <a:pt x="664" y="1004"/>
                    </a:lnTo>
                    <a:lnTo>
                      <a:pt x="670" y="999"/>
                    </a:lnTo>
                    <a:lnTo>
                      <a:pt x="664" y="1004"/>
                    </a:lnTo>
                    <a:lnTo>
                      <a:pt x="670" y="1016"/>
                    </a:lnTo>
                    <a:lnTo>
                      <a:pt x="670" y="1016"/>
                    </a:lnTo>
                    <a:lnTo>
                      <a:pt x="676" y="1022"/>
                    </a:lnTo>
                    <a:lnTo>
                      <a:pt x="693" y="1033"/>
                    </a:lnTo>
                    <a:lnTo>
                      <a:pt x="693" y="1022"/>
                    </a:lnTo>
                    <a:lnTo>
                      <a:pt x="687" y="1027"/>
                    </a:lnTo>
                    <a:lnTo>
                      <a:pt x="699" y="1039"/>
                    </a:lnTo>
                    <a:lnTo>
                      <a:pt x="705" y="1045"/>
                    </a:lnTo>
                    <a:lnTo>
                      <a:pt x="705" y="1045"/>
                    </a:lnTo>
                    <a:lnTo>
                      <a:pt x="722" y="1056"/>
                    </a:lnTo>
                    <a:lnTo>
                      <a:pt x="739" y="1062"/>
                    </a:lnTo>
                    <a:lnTo>
                      <a:pt x="756" y="1068"/>
                    </a:lnTo>
                    <a:lnTo>
                      <a:pt x="756" y="1068"/>
                    </a:lnTo>
                    <a:lnTo>
                      <a:pt x="756" y="1068"/>
                    </a:lnTo>
                    <a:lnTo>
                      <a:pt x="774" y="1068"/>
                    </a:lnTo>
                    <a:lnTo>
                      <a:pt x="791" y="1068"/>
                    </a:lnTo>
                    <a:lnTo>
                      <a:pt x="808" y="1068"/>
                    </a:lnTo>
                    <a:lnTo>
                      <a:pt x="814" y="1068"/>
                    </a:lnTo>
                    <a:lnTo>
                      <a:pt x="814" y="1068"/>
                    </a:lnTo>
                    <a:lnTo>
                      <a:pt x="831" y="1062"/>
                    </a:lnTo>
                    <a:lnTo>
                      <a:pt x="843" y="1056"/>
                    </a:lnTo>
                    <a:lnTo>
                      <a:pt x="855" y="1051"/>
                    </a:lnTo>
                    <a:lnTo>
                      <a:pt x="866" y="1045"/>
                    </a:lnTo>
                    <a:lnTo>
                      <a:pt x="866" y="1039"/>
                    </a:lnTo>
                    <a:lnTo>
                      <a:pt x="872" y="1039"/>
                    </a:lnTo>
                    <a:lnTo>
                      <a:pt x="878" y="1027"/>
                    </a:lnTo>
                    <a:lnTo>
                      <a:pt x="866" y="1022"/>
                    </a:lnTo>
                    <a:lnTo>
                      <a:pt x="872" y="1033"/>
                    </a:lnTo>
                    <a:lnTo>
                      <a:pt x="883" y="1027"/>
                    </a:lnTo>
                    <a:lnTo>
                      <a:pt x="895" y="1022"/>
                    </a:lnTo>
                    <a:lnTo>
                      <a:pt x="906" y="1016"/>
                    </a:lnTo>
                    <a:lnTo>
                      <a:pt x="901" y="1004"/>
                    </a:lnTo>
                    <a:lnTo>
                      <a:pt x="901" y="1016"/>
                    </a:lnTo>
                    <a:lnTo>
                      <a:pt x="918" y="1016"/>
                    </a:lnTo>
                    <a:lnTo>
                      <a:pt x="930" y="1016"/>
                    </a:lnTo>
                    <a:lnTo>
                      <a:pt x="930" y="1004"/>
                    </a:lnTo>
                    <a:lnTo>
                      <a:pt x="930" y="1016"/>
                    </a:lnTo>
                    <a:lnTo>
                      <a:pt x="941" y="1022"/>
                    </a:lnTo>
                    <a:lnTo>
                      <a:pt x="953" y="1027"/>
                    </a:lnTo>
                    <a:lnTo>
                      <a:pt x="953" y="1027"/>
                    </a:lnTo>
                    <a:lnTo>
                      <a:pt x="953" y="1027"/>
                    </a:lnTo>
                    <a:lnTo>
                      <a:pt x="964" y="1027"/>
                    </a:lnTo>
                    <a:lnTo>
                      <a:pt x="964" y="1016"/>
                    </a:lnTo>
                    <a:lnTo>
                      <a:pt x="958" y="1022"/>
                    </a:lnTo>
                    <a:lnTo>
                      <a:pt x="970" y="1033"/>
                    </a:lnTo>
                    <a:lnTo>
                      <a:pt x="976" y="1039"/>
                    </a:lnTo>
                    <a:lnTo>
                      <a:pt x="976" y="1039"/>
                    </a:lnTo>
                    <a:lnTo>
                      <a:pt x="987" y="1045"/>
                    </a:lnTo>
                    <a:lnTo>
                      <a:pt x="999" y="1051"/>
                    </a:lnTo>
                    <a:lnTo>
                      <a:pt x="999" y="1039"/>
                    </a:lnTo>
                    <a:lnTo>
                      <a:pt x="993" y="1045"/>
                    </a:lnTo>
                    <a:lnTo>
                      <a:pt x="999" y="1056"/>
                    </a:lnTo>
                    <a:lnTo>
                      <a:pt x="1005" y="1068"/>
                    </a:lnTo>
                    <a:lnTo>
                      <a:pt x="1010" y="1079"/>
                    </a:lnTo>
                    <a:lnTo>
                      <a:pt x="1016" y="1074"/>
                    </a:lnTo>
                    <a:lnTo>
                      <a:pt x="1010" y="1074"/>
                    </a:lnTo>
                    <a:lnTo>
                      <a:pt x="1010" y="1079"/>
                    </a:lnTo>
                    <a:lnTo>
                      <a:pt x="1010" y="1108"/>
                    </a:lnTo>
                    <a:lnTo>
                      <a:pt x="1005" y="1143"/>
                    </a:lnTo>
                    <a:lnTo>
                      <a:pt x="1005" y="1189"/>
                    </a:lnTo>
                    <a:lnTo>
                      <a:pt x="999" y="1235"/>
                    </a:lnTo>
                    <a:lnTo>
                      <a:pt x="999" y="1287"/>
                    </a:lnTo>
                    <a:lnTo>
                      <a:pt x="999" y="1333"/>
                    </a:lnTo>
                    <a:lnTo>
                      <a:pt x="999" y="1356"/>
                    </a:lnTo>
                    <a:lnTo>
                      <a:pt x="999" y="1362"/>
                    </a:lnTo>
                    <a:lnTo>
                      <a:pt x="999" y="1362"/>
                    </a:lnTo>
                    <a:lnTo>
                      <a:pt x="1005" y="1385"/>
                    </a:lnTo>
                    <a:lnTo>
                      <a:pt x="1010" y="1379"/>
                    </a:lnTo>
                    <a:lnTo>
                      <a:pt x="1005" y="1379"/>
                    </a:lnTo>
                    <a:lnTo>
                      <a:pt x="1005" y="1402"/>
                    </a:lnTo>
                    <a:lnTo>
                      <a:pt x="1005" y="1408"/>
                    </a:lnTo>
                    <a:lnTo>
                      <a:pt x="1005" y="1408"/>
                    </a:lnTo>
                    <a:lnTo>
                      <a:pt x="1010" y="1426"/>
                    </a:lnTo>
                    <a:lnTo>
                      <a:pt x="1016" y="1420"/>
                    </a:lnTo>
                    <a:lnTo>
                      <a:pt x="1016" y="1414"/>
                    </a:lnTo>
                    <a:lnTo>
                      <a:pt x="999" y="1426"/>
                    </a:lnTo>
                    <a:lnTo>
                      <a:pt x="981" y="1437"/>
                    </a:lnTo>
                    <a:lnTo>
                      <a:pt x="981" y="1443"/>
                    </a:lnTo>
                    <a:lnTo>
                      <a:pt x="981" y="1437"/>
                    </a:lnTo>
                    <a:lnTo>
                      <a:pt x="958" y="1443"/>
                    </a:lnTo>
                    <a:lnTo>
                      <a:pt x="935" y="1449"/>
                    </a:lnTo>
                    <a:lnTo>
                      <a:pt x="912" y="1454"/>
                    </a:lnTo>
                    <a:lnTo>
                      <a:pt x="889" y="1454"/>
                    </a:lnTo>
                    <a:lnTo>
                      <a:pt x="860" y="1454"/>
                    </a:lnTo>
                    <a:lnTo>
                      <a:pt x="837" y="1454"/>
                    </a:lnTo>
                    <a:lnTo>
                      <a:pt x="808" y="1454"/>
                    </a:lnTo>
                    <a:lnTo>
                      <a:pt x="780" y="1449"/>
                    </a:lnTo>
                    <a:lnTo>
                      <a:pt x="756" y="1443"/>
                    </a:lnTo>
                    <a:lnTo>
                      <a:pt x="733" y="1437"/>
                    </a:lnTo>
                    <a:lnTo>
                      <a:pt x="710" y="1437"/>
                    </a:lnTo>
                    <a:lnTo>
                      <a:pt x="710" y="1443"/>
                    </a:lnTo>
                    <a:lnTo>
                      <a:pt x="716" y="1437"/>
                    </a:lnTo>
                    <a:lnTo>
                      <a:pt x="693" y="1426"/>
                    </a:lnTo>
                    <a:lnTo>
                      <a:pt x="693" y="1426"/>
                    </a:lnTo>
                    <a:lnTo>
                      <a:pt x="687" y="1426"/>
                    </a:lnTo>
                    <a:lnTo>
                      <a:pt x="664" y="1420"/>
                    </a:lnTo>
                    <a:lnTo>
                      <a:pt x="664" y="1426"/>
                    </a:lnTo>
                    <a:lnTo>
                      <a:pt x="670" y="1420"/>
                    </a:lnTo>
                    <a:lnTo>
                      <a:pt x="653" y="1414"/>
                    </a:lnTo>
                    <a:lnTo>
                      <a:pt x="635" y="1408"/>
                    </a:lnTo>
                    <a:lnTo>
                      <a:pt x="624" y="1402"/>
                    </a:lnTo>
                    <a:lnTo>
                      <a:pt x="618" y="1408"/>
                    </a:lnTo>
                    <a:lnTo>
                      <a:pt x="624" y="1402"/>
                    </a:lnTo>
                    <a:lnTo>
                      <a:pt x="618" y="1397"/>
                    </a:lnTo>
                    <a:lnTo>
                      <a:pt x="606" y="1385"/>
                    </a:lnTo>
                    <a:lnTo>
                      <a:pt x="601" y="1379"/>
                    </a:lnTo>
                    <a:lnTo>
                      <a:pt x="595" y="1374"/>
                    </a:lnTo>
                    <a:lnTo>
                      <a:pt x="589" y="1379"/>
                    </a:lnTo>
                    <a:lnTo>
                      <a:pt x="601" y="1379"/>
                    </a:lnTo>
                    <a:lnTo>
                      <a:pt x="601" y="1374"/>
                    </a:lnTo>
                    <a:lnTo>
                      <a:pt x="601" y="1362"/>
                    </a:lnTo>
                    <a:lnTo>
                      <a:pt x="601" y="1356"/>
                    </a:lnTo>
                    <a:lnTo>
                      <a:pt x="601" y="1345"/>
                    </a:lnTo>
                    <a:lnTo>
                      <a:pt x="589" y="1345"/>
                    </a:lnTo>
                    <a:lnTo>
                      <a:pt x="595" y="1351"/>
                    </a:lnTo>
                    <a:lnTo>
                      <a:pt x="601" y="1345"/>
                    </a:lnTo>
                    <a:lnTo>
                      <a:pt x="606" y="1345"/>
                    </a:lnTo>
                    <a:lnTo>
                      <a:pt x="606" y="1345"/>
                    </a:lnTo>
                    <a:lnTo>
                      <a:pt x="612" y="1333"/>
                    </a:lnTo>
                    <a:lnTo>
                      <a:pt x="624" y="1310"/>
                    </a:lnTo>
                    <a:lnTo>
                      <a:pt x="612" y="1304"/>
                    </a:lnTo>
                    <a:lnTo>
                      <a:pt x="618" y="1310"/>
                    </a:lnTo>
                    <a:lnTo>
                      <a:pt x="641" y="1287"/>
                    </a:lnTo>
                    <a:lnTo>
                      <a:pt x="647" y="1287"/>
                    </a:lnTo>
                    <a:lnTo>
                      <a:pt x="647" y="1287"/>
                    </a:lnTo>
                    <a:lnTo>
                      <a:pt x="658" y="1270"/>
                    </a:lnTo>
                    <a:lnTo>
                      <a:pt x="647" y="1264"/>
                    </a:lnTo>
                    <a:lnTo>
                      <a:pt x="653" y="1270"/>
                    </a:lnTo>
                    <a:lnTo>
                      <a:pt x="664" y="1258"/>
                    </a:lnTo>
                    <a:lnTo>
                      <a:pt x="670" y="1258"/>
                    </a:lnTo>
                    <a:lnTo>
                      <a:pt x="670" y="1258"/>
                    </a:lnTo>
                    <a:lnTo>
                      <a:pt x="676" y="1241"/>
                    </a:lnTo>
                    <a:lnTo>
                      <a:pt x="681" y="1224"/>
                    </a:lnTo>
                    <a:lnTo>
                      <a:pt x="681" y="1224"/>
                    </a:lnTo>
                    <a:lnTo>
                      <a:pt x="681" y="1218"/>
                    </a:lnTo>
                    <a:lnTo>
                      <a:pt x="681" y="1201"/>
                    </a:lnTo>
                    <a:lnTo>
                      <a:pt x="681" y="1177"/>
                    </a:lnTo>
                    <a:lnTo>
                      <a:pt x="681" y="1160"/>
                    </a:lnTo>
                    <a:lnTo>
                      <a:pt x="681" y="1160"/>
                    </a:lnTo>
                    <a:lnTo>
                      <a:pt x="681" y="1160"/>
                    </a:lnTo>
                    <a:lnTo>
                      <a:pt x="676" y="1143"/>
                    </a:lnTo>
                    <a:lnTo>
                      <a:pt x="664" y="1126"/>
                    </a:lnTo>
                    <a:lnTo>
                      <a:pt x="658" y="1114"/>
                    </a:lnTo>
                    <a:lnTo>
                      <a:pt x="653" y="1102"/>
                    </a:lnTo>
                    <a:lnTo>
                      <a:pt x="647" y="1097"/>
                    </a:lnTo>
                    <a:lnTo>
                      <a:pt x="647" y="1097"/>
                    </a:lnTo>
                    <a:lnTo>
                      <a:pt x="635" y="1091"/>
                    </a:lnTo>
                    <a:lnTo>
                      <a:pt x="629" y="1097"/>
                    </a:lnTo>
                    <a:lnTo>
                      <a:pt x="635" y="1091"/>
                    </a:lnTo>
                    <a:lnTo>
                      <a:pt x="629" y="1085"/>
                    </a:lnTo>
                    <a:lnTo>
                      <a:pt x="629" y="1085"/>
                    </a:lnTo>
                    <a:lnTo>
                      <a:pt x="629" y="1085"/>
                    </a:lnTo>
                    <a:lnTo>
                      <a:pt x="618" y="1079"/>
                    </a:lnTo>
                    <a:lnTo>
                      <a:pt x="612" y="1085"/>
                    </a:lnTo>
                    <a:lnTo>
                      <a:pt x="618" y="1079"/>
                    </a:lnTo>
                    <a:lnTo>
                      <a:pt x="612" y="1074"/>
                    </a:lnTo>
                    <a:lnTo>
                      <a:pt x="612" y="1074"/>
                    </a:lnTo>
                    <a:lnTo>
                      <a:pt x="606" y="1074"/>
                    </a:lnTo>
                    <a:lnTo>
                      <a:pt x="595" y="1074"/>
                    </a:lnTo>
                    <a:lnTo>
                      <a:pt x="595" y="1079"/>
                    </a:lnTo>
                    <a:lnTo>
                      <a:pt x="601" y="1074"/>
                    </a:lnTo>
                    <a:lnTo>
                      <a:pt x="589" y="1068"/>
                    </a:lnTo>
                    <a:lnTo>
                      <a:pt x="578" y="1062"/>
                    </a:lnTo>
                    <a:lnTo>
                      <a:pt x="578" y="1062"/>
                    </a:lnTo>
                    <a:lnTo>
                      <a:pt x="572" y="1062"/>
                    </a:lnTo>
                    <a:lnTo>
                      <a:pt x="560" y="1062"/>
                    </a:lnTo>
                    <a:lnTo>
                      <a:pt x="560" y="1068"/>
                    </a:lnTo>
                    <a:lnTo>
                      <a:pt x="566" y="1062"/>
                    </a:lnTo>
                    <a:lnTo>
                      <a:pt x="549" y="1056"/>
                    </a:lnTo>
                    <a:lnTo>
                      <a:pt x="549" y="1056"/>
                    </a:lnTo>
                    <a:lnTo>
                      <a:pt x="543" y="1056"/>
                    </a:lnTo>
                    <a:lnTo>
                      <a:pt x="531" y="1056"/>
                    </a:lnTo>
                    <a:lnTo>
                      <a:pt x="514" y="1056"/>
                    </a:lnTo>
                    <a:lnTo>
                      <a:pt x="503" y="1056"/>
                    </a:lnTo>
                    <a:lnTo>
                      <a:pt x="503" y="1056"/>
                    </a:lnTo>
                    <a:lnTo>
                      <a:pt x="503" y="1056"/>
                    </a:lnTo>
                    <a:lnTo>
                      <a:pt x="491" y="1062"/>
                    </a:lnTo>
                    <a:lnTo>
                      <a:pt x="491" y="1068"/>
                    </a:lnTo>
                    <a:lnTo>
                      <a:pt x="491" y="1062"/>
                    </a:lnTo>
                    <a:lnTo>
                      <a:pt x="479" y="1062"/>
                    </a:lnTo>
                    <a:lnTo>
                      <a:pt x="479" y="1062"/>
                    </a:lnTo>
                    <a:lnTo>
                      <a:pt x="479" y="1062"/>
                    </a:lnTo>
                    <a:lnTo>
                      <a:pt x="468" y="1068"/>
                    </a:lnTo>
                    <a:lnTo>
                      <a:pt x="456" y="1074"/>
                    </a:lnTo>
                    <a:lnTo>
                      <a:pt x="456" y="1079"/>
                    </a:lnTo>
                    <a:lnTo>
                      <a:pt x="456" y="1074"/>
                    </a:lnTo>
                    <a:lnTo>
                      <a:pt x="451" y="1074"/>
                    </a:lnTo>
                    <a:lnTo>
                      <a:pt x="451" y="1074"/>
                    </a:lnTo>
                    <a:lnTo>
                      <a:pt x="451" y="1074"/>
                    </a:lnTo>
                    <a:lnTo>
                      <a:pt x="439" y="1079"/>
                    </a:lnTo>
                    <a:lnTo>
                      <a:pt x="439" y="1079"/>
                    </a:lnTo>
                    <a:lnTo>
                      <a:pt x="433" y="1079"/>
                    </a:lnTo>
                    <a:lnTo>
                      <a:pt x="428" y="1085"/>
                    </a:lnTo>
                    <a:lnTo>
                      <a:pt x="422" y="1091"/>
                    </a:lnTo>
                    <a:lnTo>
                      <a:pt x="416" y="1097"/>
                    </a:lnTo>
                    <a:lnTo>
                      <a:pt x="416" y="1102"/>
                    </a:lnTo>
                    <a:lnTo>
                      <a:pt x="416" y="1102"/>
                    </a:lnTo>
                    <a:lnTo>
                      <a:pt x="410" y="1114"/>
                    </a:lnTo>
                    <a:lnTo>
                      <a:pt x="416" y="1114"/>
                    </a:lnTo>
                    <a:lnTo>
                      <a:pt x="410" y="1108"/>
                    </a:lnTo>
                    <a:lnTo>
                      <a:pt x="404" y="1114"/>
                    </a:lnTo>
                    <a:lnTo>
                      <a:pt x="404" y="1120"/>
                    </a:lnTo>
                    <a:lnTo>
                      <a:pt x="404" y="1120"/>
                    </a:lnTo>
                    <a:lnTo>
                      <a:pt x="399" y="1137"/>
                    </a:lnTo>
                    <a:lnTo>
                      <a:pt x="393" y="1154"/>
                    </a:lnTo>
                    <a:lnTo>
                      <a:pt x="387" y="1177"/>
                    </a:lnTo>
                    <a:lnTo>
                      <a:pt x="387" y="1177"/>
                    </a:lnTo>
                    <a:lnTo>
                      <a:pt x="387" y="1177"/>
                    </a:lnTo>
                    <a:lnTo>
                      <a:pt x="387" y="1195"/>
                    </a:lnTo>
                    <a:lnTo>
                      <a:pt x="387" y="1201"/>
                    </a:lnTo>
                    <a:lnTo>
                      <a:pt x="387" y="1201"/>
                    </a:lnTo>
                    <a:lnTo>
                      <a:pt x="393" y="1224"/>
                    </a:lnTo>
                    <a:lnTo>
                      <a:pt x="399" y="1241"/>
                    </a:lnTo>
                    <a:lnTo>
                      <a:pt x="404" y="1258"/>
                    </a:lnTo>
                    <a:lnTo>
                      <a:pt x="410" y="1276"/>
                    </a:lnTo>
                    <a:lnTo>
                      <a:pt x="422" y="1299"/>
                    </a:lnTo>
                    <a:lnTo>
                      <a:pt x="422" y="1299"/>
                    </a:lnTo>
                    <a:lnTo>
                      <a:pt x="422" y="1299"/>
                    </a:lnTo>
                    <a:lnTo>
                      <a:pt x="433" y="1310"/>
                    </a:lnTo>
                    <a:lnTo>
                      <a:pt x="445" y="1322"/>
                    </a:lnTo>
                    <a:lnTo>
                      <a:pt x="451" y="1316"/>
                    </a:lnTo>
                    <a:lnTo>
                      <a:pt x="445" y="1322"/>
                    </a:lnTo>
                    <a:lnTo>
                      <a:pt x="451" y="1333"/>
                    </a:lnTo>
                    <a:lnTo>
                      <a:pt x="456" y="1345"/>
                    </a:lnTo>
                    <a:lnTo>
                      <a:pt x="462" y="1339"/>
                    </a:lnTo>
                    <a:lnTo>
                      <a:pt x="456" y="1339"/>
                    </a:lnTo>
                    <a:lnTo>
                      <a:pt x="456" y="1351"/>
                    </a:lnTo>
                    <a:lnTo>
                      <a:pt x="456" y="1368"/>
                    </a:lnTo>
                    <a:lnTo>
                      <a:pt x="456" y="1379"/>
                    </a:lnTo>
                    <a:lnTo>
                      <a:pt x="456" y="1391"/>
                    </a:lnTo>
                    <a:lnTo>
                      <a:pt x="462" y="1391"/>
                    </a:lnTo>
                    <a:lnTo>
                      <a:pt x="462" y="1385"/>
                    </a:lnTo>
                    <a:lnTo>
                      <a:pt x="451" y="1391"/>
                    </a:lnTo>
                    <a:lnTo>
                      <a:pt x="445" y="1391"/>
                    </a:lnTo>
                    <a:lnTo>
                      <a:pt x="445" y="1397"/>
                    </a:lnTo>
                    <a:lnTo>
                      <a:pt x="439" y="1408"/>
                    </a:lnTo>
                    <a:lnTo>
                      <a:pt x="445" y="1408"/>
                    </a:lnTo>
                    <a:lnTo>
                      <a:pt x="445" y="1402"/>
                    </a:lnTo>
                    <a:lnTo>
                      <a:pt x="433" y="1408"/>
                    </a:lnTo>
                    <a:lnTo>
                      <a:pt x="422" y="1414"/>
                    </a:lnTo>
                    <a:lnTo>
                      <a:pt x="422" y="1420"/>
                    </a:lnTo>
                    <a:lnTo>
                      <a:pt x="422" y="1414"/>
                    </a:lnTo>
                    <a:lnTo>
                      <a:pt x="410" y="1414"/>
                    </a:lnTo>
                    <a:lnTo>
                      <a:pt x="393" y="1414"/>
                    </a:lnTo>
                    <a:lnTo>
                      <a:pt x="370" y="1414"/>
                    </a:lnTo>
                    <a:lnTo>
                      <a:pt x="370" y="1420"/>
                    </a:lnTo>
                    <a:lnTo>
                      <a:pt x="376" y="1414"/>
                    </a:lnTo>
                    <a:lnTo>
                      <a:pt x="358" y="1408"/>
                    </a:lnTo>
                    <a:lnTo>
                      <a:pt x="364" y="1408"/>
                    </a:lnTo>
                    <a:lnTo>
                      <a:pt x="352" y="1408"/>
                    </a:lnTo>
                    <a:lnTo>
                      <a:pt x="329" y="14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Substituibility</a:t>
            </a:r>
            <a:endParaRPr b="0" i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wo possibilities of reu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using readymade components (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component reus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)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using a complete system that is customized by using new components instead of old components (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framework reus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istorically, only the first was understo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bject-oriented inheritance as a means to reuse the code of base classes in derived class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day, the second in largely preferr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rameworks have been replacing libraries for a decad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oth are enabled by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ubstituibil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e substitute a component with another equivalent (from our point of view), yet different, componen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Reusing Software Components</a:t>
            </a:r>
            <a:endParaRPr b="0" i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infrastructure plays a central role in (this sort) of reusabil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t enables interactions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t supports substituibilit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 is not strange, reusability is a feature of the technology we use to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uil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ssembl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component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day infrastructures put severe constraints on reusability because they have limited models o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teractions (e.g., object-oriented interactions are implemented through method calls only)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bstituibility (e.g., object-oriented implements substituibility with inheritance, that relies mainly on method signatures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An Ideal Model of Reusability (1/3)</a:t>
            </a:r>
            <a:endParaRPr b="0" i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order to define an ideal model of (this sort) of reusability, we need a “perfect” infrastructu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fect” interaction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fect” substituibilit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the ideal world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teraction is solely driven by the solution we are designing for the problem and no other constraints are imposed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bstituibility depends only on what a component is used for and not on how it is use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formal concepts describing this ideal model are availab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 can formalize them using th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scription hypothesi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An Ideal Model of Reusability (2/3)</a:t>
            </a:r>
            <a:endParaRPr b="0" i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require less than what is normally requir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onents can be irrational, still we can ascribe knowledge and goals to them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 do not need to be able to ascribe a mental state to a component from the outside, components that declare their mental state are sufficien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onents described in terms of their mental qualities ar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gent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1600200"/>
            <a:ext cx="8229600" cy="1295280"/>
          </a:xfrm>
          <a:prstGeom prst="rect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1600200"/>
            <a:ext cx="822960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cription Hypote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iven a component, we can ascribe mental qualities, i.e.,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knowledg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goal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to 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An Ideal Model of Reusability (3/3)</a:t>
            </a:r>
            <a:endParaRPr b="0" i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ed to define what a “perfect” interaction 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 concentrate only on problem-independent issues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 move all such issues to the infrastructure because agents should care of the problem onl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ormally, an infrastructure enables a “perfect” interaction if it puts no constraints in terms o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different languages that agents use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need of knowing the peer before interacting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need of knowing the peer after interacting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" y="3657600"/>
            <a:ext cx="8229600" cy="2895480"/>
          </a:xfrm>
          <a:prstGeom prst="rect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Semantic Interoperability (1/2)</a:t>
            </a:r>
            <a:endParaRPr b="0" i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rmally, it is considered a first step towards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emantic composabilit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bstracts away communication details from the interac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3718080"/>
            <a:ext cx="8229600" cy="29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finition of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Semantic Interoperability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Client Standpoint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iven two agents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acquaintance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they are said to be semantically interoperable if and only i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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g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G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ahoma"/>
              </a:rPr>
              <a:t>C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g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G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ahoma"/>
              </a:rPr>
              <a:t>C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done(delegate(C, S, g))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ahoma"/>
              </a:rPr>
              <a:t>S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G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ahoma"/>
              </a:rPr>
              <a:t>C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done(delegate(C, S, g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here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delegate(C, S, g)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is a sort of abstract action of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whose outcome is 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ahoma"/>
              </a:rPr>
              <a:t>C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G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Tahoma"/>
              </a:rPr>
              <a:t>S</a:t>
            </a: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g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7T13:02:32Z</dcterms:created>
  <dc:creator/>
  <dc:description/>
  <dc:language>en-US</dc:language>
  <cp:lastModifiedBy>Federico Bergenti</cp:lastModifiedBy>
  <dcterms:modified xsi:type="dcterms:W3CDTF">2003-10-28T22:41:14Z</dcterms:modified>
  <cp:revision>326</cp:revision>
  <dc:subject/>
  <dc:title>This is the Title</dc:title>
</cp:coreProperties>
</file>