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pct" ContentType="image/x-pict"/>
  <Override PartName="/ppt/media/image11.png" ContentType="image/png"/>
  <Override PartName="/ppt/media/image13.png" ContentType="image/png"/>
  <Override PartName="/ppt/media/image10.pct" ContentType="image/x-pict"/>
  <Override PartName="/ppt/media/image22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.pct" ContentType="image/x-pict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b">
            <a:noAutofit/>
          </a:bodyPr>
          <a:p>
            <a:pPr marL="104027400" algn="ctr">
              <a:spcAft>
                <a:spcPts val="201"/>
              </a:spcAft>
              <a:tabLst>
                <a:tab algn="l" pos="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move the slid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ts val="15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ngineering CSCW and WfMS upon MAS Coordination Infrastructure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ts val="15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use/Integration of Legacy Services (email, FTP, etc..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ts val="15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ts val="15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ts val="15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ts val="15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ts val="15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Basic Questions: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ts val="15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ts val="15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Come usare un servizio se sono un agente TuCSoN?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ts val="15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ts val="15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Generally: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ts val="15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 inquadrare, modellare e utilizzare un servizio su una MAS Coordination/Organisation Infrastructure?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ts val="15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 sfruttare il supporto infrastrutturale di organizzazione / coordinazione a tal riguardo?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ts val="15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ts val="15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Come posso sfruttare l'infrastruttura di coordinazione per affrontare aspetti di composizione e coordinazione dei servizi?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ts val="15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ts val="15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li sono le main issues a cui ci si trova di fronte quando si parla di integrazione di servizi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ts val="15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rchitettura in generale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ts val="15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nteroperabilità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ts val="15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mposizione e coordinazione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ts val="15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ts val="15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I ci siamo focalizzati sul 3 punto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ts val="15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 modello e le astrazioni fornite/supportate dall’infrastruttura condizionano pesantemente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ts val="15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’ingegneria dei servizi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ts val="15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ts val="15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particolare il modello organizzazionale supportato dall’infrastruttura, quello di interazione, di coordinazione, etc..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269720" y="545004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631920" y="213336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85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631920" y="213336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269720" y="545004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631920" y="2133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631920" y="545004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2133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45004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269720" y="545004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631920" y="2133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269720" y="545004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6631920" y="545004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8160" y="2133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346600" y="2133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269720" y="545004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808160" y="545004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8346600" y="545004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1920" y="2133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69720" y="545004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1920" y="545004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1269720" y="213336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631920" y="213336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85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31920" y="213336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269720" y="545004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631920" y="2133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631920" y="545004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631920" y="2133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269720" y="545004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1269720" y="545004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631920" y="2133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1269720" y="545004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631920" y="545004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08160" y="2133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46600" y="2133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269720" y="545004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808160" y="545004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346600" y="545004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808160" y="2133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346600" y="2133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1269720" y="545004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808160" y="545004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8346600" y="545004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1269720" y="213336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631920" y="213336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85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631920" y="213336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269720" y="545004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2133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631920" y="545004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631920" y="2133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269720" y="545004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1269720" y="545004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631920" y="2133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269720" y="545004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6631920" y="545004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808160" y="2133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8346600" y="2133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1269720" y="545004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4808160" y="545004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8346600" y="545004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1269720" y="213336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631920" y="213336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85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631920" y="213336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1269720" y="545004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69720" y="213336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2133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631920" y="545004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631920" y="2133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269720" y="545004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1269720" y="545004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631920" y="2133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1269720" y="545004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6631920" y="545004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808160" y="2133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8346600" y="2133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1269720" y="545004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4808160" y="545004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8346600" y="545004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1269720" y="213336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631920" y="213336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85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631920" y="213336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1269720" y="545004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2133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631920" y="545004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631920" y="2133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1269720" y="545004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1269720" y="545004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6631920" y="2133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1269720" y="545004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6631920" y="545004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808160" y="2133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346600" y="2133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1269720" y="545004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4808160" y="545004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8346600" y="545004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631920" y="213336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85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631920" y="213336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69720" y="545004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269720" y="213336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631920" y="2133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631920" y="545004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631920" y="2133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69720" y="545004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269720" y="545004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631920" y="2133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69720" y="545004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631920" y="545004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08160" y="2133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46600" y="2133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269720" y="545004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808160" y="545004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8346600" y="545004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69720" y="213336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31920" y="213336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85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631920" y="213336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69720" y="545004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631920" y="2133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631920" y="545004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631920" y="2133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269720" y="545004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269720" y="545004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631920" y="2133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269720" y="545004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631920" y="545004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08160" y="2133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46600" y="2133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1269720" y="545004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4808160" y="545004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8346600" y="545004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269720" y="213336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1920" y="213336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213336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85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31920" y="213336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269720" y="545004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31920" y="2133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631920" y="545004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31920" y="2133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269720" y="545004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1269720" y="545004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631920" y="2133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269720" y="545004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631920" y="545004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8160" y="2133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46600" y="2133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1269720" y="545004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808160" y="545004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8346600" y="545004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269720" y="213336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213336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85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31920" y="213336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269720" y="545004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631920" y="2133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631920" y="545004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631920" y="2133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269720" y="545004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1269720" y="545004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631920" y="2133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269720" y="545004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631920" y="545004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85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08160" y="2133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46600" y="2133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1269720" y="545004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4808160" y="545004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8346600" y="545004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269720" y="213336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631920" y="213336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85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213336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545004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631920" y="2133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631920" y="545004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631920" y="2133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269720" y="545004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1920" y="213336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269720" y="545004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1269720" y="545004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631920" y="2133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269720" y="545004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6631920" y="545004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808160" y="2133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346600" y="2133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1269720" y="545004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4808160" y="545004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8346600" y="545004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269720" y="213336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631920" y="213336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85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31920" y="213336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269720" y="545004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1920" y="2133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1920" y="545004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631920" y="2133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631920" y="545004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2133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45004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269720" y="545004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631920" y="2133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269720" y="545004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631920" y="545004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08160" y="2133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346600" y="2133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269720" y="545004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808160" y="545004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8346600" y="545004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1269720" y="213336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631920" y="213336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1920" y="2133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69720" y="545004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85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31920" y="213336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1269720" y="545004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631920" y="2133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631920" y="545004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631920" y="2133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269720" y="545004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1269720" y="545004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6631920" y="2133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269720" y="545004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6631920" y="545004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808160" y="2133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8346600" y="2133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1269720" y="545004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4808160" y="545004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8346600" y="545004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269720" y="213336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1929960"/>
            <a:ext cx="1046484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4027400" indent="0" algn="ctr">
              <a:spcAft>
                <a:spcPts val="201"/>
              </a:spcAft>
              <a:buNone/>
              <a:tabLst>
                <a:tab algn="l" pos="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"/>
          </a:bodyPr>
          <a:p>
            <a:pPr marL="3120480" indent="0" algn="ctr">
              <a:spcAft>
                <a:spcPts val="201"/>
              </a:spcAft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3120480" algn="ctr">
              <a:spcAft>
                <a:spcPts val="201"/>
              </a:spcAft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marL="3120480" algn="ctr">
              <a:spcAft>
                <a:spcPts val="201"/>
              </a:spcAft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marL="3120480" algn="ctr">
              <a:spcAft>
                <a:spcPts val="201"/>
              </a:spcAft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marL="3120480" algn="ctr">
              <a:spcAft>
                <a:spcPts val="201"/>
              </a:spcAft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marL="3120480" algn="ctr">
              <a:spcAft>
                <a:spcPts val="201"/>
              </a:spcAft>
              <a:buClr>
                <a:srgbClr val="ffffff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marL="3120480" algn="ctr">
              <a:spcAft>
                <a:spcPts val="201"/>
              </a:spcAft>
              <a:buClr>
                <a:srgbClr val="ffffff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5235480" y="425520"/>
            <a:ext cx="2535480" cy="2538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0160" indent="0" algn="ctr"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20160" algn="ctr">
              <a:spcAft>
                <a:spcPts val="201"/>
              </a:spcAft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20160" algn="ctr">
              <a:spcAft>
                <a:spcPts val="201"/>
              </a:spcAft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20160" algn="ctr">
              <a:spcAft>
                <a:spcPts val="201"/>
              </a:spcAft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20160" algn="ctr">
              <a:spcAft>
                <a:spcPts val="201"/>
              </a:spcAft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20160" algn="ctr">
              <a:spcAft>
                <a:spcPts val="201"/>
              </a:spcAft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20160" algn="ctr">
              <a:spcAft>
                <a:spcPts val="201"/>
              </a:spcAft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75000"/>
          </a:bodyPr>
          <a:p>
            <a:pPr marL="561600" indent="-323640">
              <a:spcAft>
                <a:spcPts val="4000"/>
              </a:spcAft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04680" indent="-323640">
              <a:spcAft>
                <a:spcPts val="4000"/>
              </a:spcAft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47400" indent="-323640">
              <a:spcAft>
                <a:spcPts val="4000"/>
              </a:spcAft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590480" indent="-323640">
              <a:spcAft>
                <a:spcPts val="4000"/>
              </a:spcAft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33200" indent="-323640">
              <a:spcAft>
                <a:spcPts val="4000"/>
              </a:spcAft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33200" indent="-323640">
              <a:spcAft>
                <a:spcPts val="4000"/>
              </a:spcAft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33200" indent="-323640">
              <a:spcAft>
                <a:spcPts val="4000"/>
              </a:spcAft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75000"/>
          </a:bodyPr>
          <a:p>
            <a:pPr marL="561600" indent="-323640">
              <a:spcAft>
                <a:spcPts val="4000"/>
              </a:spcAft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04680" indent="-323640">
              <a:spcAft>
                <a:spcPts val="4000"/>
              </a:spcAft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47400" indent="-323640">
              <a:spcAft>
                <a:spcPts val="4000"/>
              </a:spcAft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590480" indent="-323640">
              <a:spcAft>
                <a:spcPts val="4000"/>
              </a:spcAft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33200" indent="-323640">
              <a:spcAft>
                <a:spcPts val="4000"/>
              </a:spcAft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33200" indent="-323640">
              <a:spcAft>
                <a:spcPts val="4000"/>
              </a:spcAft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33200" indent="-323640">
              <a:spcAft>
                <a:spcPts val="4000"/>
              </a:spcAft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63000"/>
          </a:bodyPr>
          <a:p>
            <a:pPr marL="471960" indent="-271800">
              <a:spcAft>
                <a:spcPts val="4000"/>
              </a:spcAft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9960" indent="-271800">
              <a:spcAft>
                <a:spcPts val="4000"/>
              </a:spcAft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47960" indent="-271800">
              <a:spcAft>
                <a:spcPts val="4000"/>
              </a:spcAft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5960" indent="-271800">
              <a:spcAft>
                <a:spcPts val="4000"/>
              </a:spcAft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3960" indent="-271800">
              <a:spcAft>
                <a:spcPts val="4000"/>
              </a:spcAft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3960" indent="-271800">
              <a:spcAft>
                <a:spcPts val="4000"/>
              </a:spcAft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3960" indent="-271800">
              <a:spcAft>
                <a:spcPts val="4000"/>
              </a:spcAft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269720" y="213336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749160" indent="-431640">
              <a:spcAft>
                <a:spcPts val="1199"/>
              </a:spcAft>
              <a:buClr>
                <a:srgbClr val="000000"/>
              </a:buClr>
              <a:buSzPct val="12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206360" indent="-431640">
              <a:spcAft>
                <a:spcPts val="1199"/>
              </a:spcAft>
              <a:buClr>
                <a:srgbClr val="000000"/>
              </a:buClr>
              <a:buSzPct val="120000"/>
              <a:buFont typeface="Gill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663560" indent="-431640">
              <a:spcAft>
                <a:spcPts val="1199"/>
              </a:spcAft>
              <a:buClr>
                <a:srgbClr val="000000"/>
              </a:buClr>
              <a:buSzPct val="12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2120760" indent="-431640">
              <a:spcAft>
                <a:spcPts val="1199"/>
              </a:spcAft>
              <a:buClr>
                <a:srgbClr val="000000"/>
              </a:buClr>
              <a:buSzPct val="120000"/>
              <a:buFont typeface="Gill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577960" indent="-431640">
              <a:spcAft>
                <a:spcPts val="1199"/>
              </a:spcAft>
              <a:buClr>
                <a:srgbClr val="000000"/>
              </a:buClr>
              <a:buSzPct val="12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577960" indent="-431640">
              <a:spcAft>
                <a:spcPts val="1199"/>
              </a:spcAft>
              <a:buClr>
                <a:srgbClr val="ffffff"/>
              </a:buClr>
              <a:buSzPct val="12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577960" indent="-431640">
              <a:spcAft>
                <a:spcPts val="1199"/>
              </a:spcAft>
              <a:buClr>
                <a:srgbClr val="ffffff"/>
              </a:buClr>
              <a:buSzPct val="12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"/>
          <p:cNvSpPr/>
          <p:nvPr/>
        </p:nvSpPr>
        <p:spPr>
          <a:xfrm>
            <a:off x="205200" y="9188280"/>
            <a:ext cx="3755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SAW’03, London 200310. 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" name=""/>
          <p:cNvSpPr/>
          <p:nvPr/>
        </p:nvSpPr>
        <p:spPr>
          <a:xfrm>
            <a:off x="5397480" y="9239400"/>
            <a:ext cx="759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Denti, Ricci, Rubino  - “Services on a MAS coordination Infrastructure”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1269720" y="213336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749160" indent="-431640">
              <a:spcAft>
                <a:spcPts val="1199"/>
              </a:spcAft>
              <a:buClr>
                <a:srgbClr val="000000"/>
              </a:buClr>
              <a:buSzPct val="12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206360" indent="-431640">
              <a:spcAft>
                <a:spcPts val="1199"/>
              </a:spcAft>
              <a:buClr>
                <a:srgbClr val="000000"/>
              </a:buClr>
              <a:buSzPct val="150000"/>
              <a:buFont typeface="Gill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663560" indent="-431640">
              <a:spcAft>
                <a:spcPts val="1199"/>
              </a:spcAft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2120760" indent="-431640">
              <a:spcAft>
                <a:spcPts val="1199"/>
              </a:spcAft>
              <a:buClr>
                <a:srgbClr val="000000"/>
              </a:buClr>
              <a:buSzPct val="120000"/>
              <a:buFont typeface="Gill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577960" indent="-431640">
              <a:spcAft>
                <a:spcPts val="1199"/>
              </a:spcAft>
              <a:buClr>
                <a:srgbClr val="000000"/>
              </a:buClr>
              <a:buSzPct val="12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577960" indent="-431640">
              <a:spcAft>
                <a:spcPts val="1199"/>
              </a:spcAft>
              <a:buClr>
                <a:srgbClr val="ffffff"/>
              </a:buClr>
              <a:buSzPct val="12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577960" indent="-431640">
              <a:spcAft>
                <a:spcPts val="1199"/>
              </a:spcAft>
              <a:buClr>
                <a:srgbClr val="ffffff"/>
              </a:buClr>
              <a:buSzPct val="12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"/>
          <p:cNvSpPr/>
          <p:nvPr/>
        </p:nvSpPr>
        <p:spPr>
          <a:xfrm>
            <a:off x="205200" y="9188280"/>
            <a:ext cx="3755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SAW’03, London 200310. 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" name=""/>
          <p:cNvSpPr/>
          <p:nvPr/>
        </p:nvSpPr>
        <p:spPr>
          <a:xfrm>
            <a:off x="5397480" y="9239400"/>
            <a:ext cx="759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Denti, Ricci, Rubino  - “Services on a MAS coordination Infrastructure”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-254520" y="1460160"/>
            <a:ext cx="348012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6000"/>
          </a:bodyPr>
          <a:p>
            <a:pPr marL="644040" indent="-371160">
              <a:spcAft>
                <a:spcPts val="700"/>
              </a:spcAft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1037160" indent="-371160">
              <a:spcAft>
                <a:spcPts val="700"/>
              </a:spcAft>
              <a:buClr>
                <a:srgbClr val="000000"/>
              </a:buClr>
              <a:buSzPct val="150000"/>
              <a:buFont typeface="Gill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430640" indent="-371160">
              <a:spcAft>
                <a:spcPts val="700"/>
              </a:spcAft>
              <a:buClr>
                <a:srgbClr val="000000"/>
              </a:buClr>
              <a:buFont typeface="Gill San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823760" indent="-371160">
              <a:spcAft>
                <a:spcPts val="700"/>
              </a:spcAft>
              <a:buClr>
                <a:srgbClr val="000000"/>
              </a:buClr>
              <a:buSzPct val="12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2216880" indent="-371160">
              <a:spcAft>
                <a:spcPts val="700"/>
              </a:spcAft>
              <a:buClr>
                <a:srgbClr val="000000"/>
              </a:buClr>
              <a:buSzPct val="12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2216880" indent="-371160">
              <a:spcAft>
                <a:spcPts val="700"/>
              </a:spcAft>
              <a:buClr>
                <a:srgbClr val="ffffff"/>
              </a:buClr>
              <a:buSzPct val="12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2216880" indent="-371160">
              <a:spcAft>
                <a:spcPts val="700"/>
              </a:spcAft>
              <a:buClr>
                <a:srgbClr val="ffffff"/>
              </a:buClr>
              <a:buSzPct val="12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"/>
          <p:cNvSpPr/>
          <p:nvPr/>
        </p:nvSpPr>
        <p:spPr>
          <a:xfrm>
            <a:off x="205200" y="9188280"/>
            <a:ext cx="3755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SAW’03, London 200310. 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2" name=""/>
          <p:cNvSpPr/>
          <p:nvPr/>
        </p:nvSpPr>
        <p:spPr>
          <a:xfrm>
            <a:off x="5397480" y="9239400"/>
            <a:ext cx="759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Denti, Ricci, Rubino  - “Services on a MAS coordination Infrastructure”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5000"/>
          </a:bodyPr>
          <a:p>
            <a:pPr marL="636480" indent="-366840">
              <a:spcAft>
                <a:spcPts val="5000"/>
              </a:spcAft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025280" indent="-366840">
              <a:spcAft>
                <a:spcPts val="5000"/>
              </a:spcAft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413720" indent="-366840">
              <a:spcAft>
                <a:spcPts val="5000"/>
              </a:spcAft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02520" indent="-366840">
              <a:spcAft>
                <a:spcPts val="5000"/>
              </a:spcAft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190960" indent="-366840">
              <a:spcAft>
                <a:spcPts val="5000"/>
              </a:spcAft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190960" indent="-366840">
              <a:spcAft>
                <a:spcPts val="5000"/>
              </a:spcAft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190960" indent="-366840">
              <a:spcAft>
                <a:spcPts val="5000"/>
              </a:spcAft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269720" y="7238520"/>
            <a:ext cx="1046484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"/>
          </a:bodyPr>
          <a:p>
            <a:pPr marL="8322120" indent="0" algn="ctr">
              <a:spcAft>
                <a:spcPts val="201"/>
              </a:spcAft>
              <a:buNone/>
              <a:tabLst>
                <a:tab algn="l" pos="0"/>
                <a:tab algn="l" pos="15620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Enrico Denti,  </a:t>
            </a:r>
            <a:r>
              <a:rPr b="0" i="1" lang="en-US" sz="3600" spc="-1" strike="noStrike">
                <a:solidFill>
                  <a:srgbClr val="000000"/>
                </a:solidFill>
                <a:latin typeface="Gill Sans"/>
              </a:rPr>
              <a:t>Alessandro Ricci</a:t>
            </a: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,  Rossella Rubino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8322120" indent="0" algn="ctr">
              <a:spcAft>
                <a:spcPts val="201"/>
              </a:spcAft>
              <a:buNone/>
              <a:tabLst>
                <a:tab algn="l" pos="0"/>
                <a:tab algn="l" pos="15620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DEIS, Università degli Studi di Bologna (Italy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8322120" indent="0" algn="ctr">
              <a:spcAft>
                <a:spcPts val="201"/>
              </a:spcAft>
              <a:buNone/>
              <a:tabLst>
                <a:tab algn="l" pos="0"/>
                <a:tab algn="l" pos="15620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de di Cesena / Bologna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title"/>
          </p:nvPr>
        </p:nvSpPr>
        <p:spPr>
          <a:xfrm>
            <a:off x="748800" y="3352320"/>
            <a:ext cx="11709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4027400" indent="0" algn="ctr">
              <a:spcAft>
                <a:spcPts val="201"/>
              </a:spcAft>
              <a:buNone/>
              <a:tabLst>
                <a:tab algn="l" pos="0"/>
                <a:tab algn="l" pos="156204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Gill Sans"/>
              </a:rPr>
              <a:t>Integrating and Orchestrating Services upon a MAS Coordination Infrastructure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269720" y="126720"/>
            <a:ext cx="1046484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536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Systems on TuCSoN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1066680" y="1343160"/>
            <a:ext cx="11328480" cy="81468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5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536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ACC Negotiation &amp; Entrance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108000" y="2463840"/>
            <a:ext cx="12789000" cy="51814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/>
          </p:nvPr>
        </p:nvSpPr>
        <p:spPr>
          <a:xfrm>
            <a:off x="1269720" y="195552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749160" indent="0">
              <a:spcAft>
                <a:spcPts val="1199"/>
              </a:spcAft>
              <a:buNone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749160" indent="-431640">
              <a:spcAft>
                <a:spcPts val="1199"/>
              </a:spcAft>
              <a:buClr>
                <a:srgbClr val="000000"/>
              </a:buClr>
              <a:buSzPct val="120000"/>
              <a:buFont typeface="Gill Sans"/>
              <a:buChar char="•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Mapping Service Ontology as Logic Tup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206360" indent="-431640">
              <a:spcAft>
                <a:spcPts val="601"/>
              </a:spcAft>
              <a:buClr>
                <a:srgbClr val="000000"/>
              </a:buClr>
              <a:buSzPct val="150000"/>
              <a:buFont typeface="Gill Sans"/>
              <a:buChar char="-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User Profi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1206360" indent="-431640">
              <a:spcAft>
                <a:spcPts val="601"/>
              </a:spcAft>
              <a:buClr>
                <a:srgbClr val="000000"/>
              </a:buClr>
              <a:buSzPct val="150000"/>
              <a:buFont typeface="Gill Sans"/>
              <a:buChar char="-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rvice Reques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1206360" indent="-431640">
              <a:spcAft>
                <a:spcPts val="601"/>
              </a:spcAft>
              <a:buClr>
                <a:srgbClr val="000000"/>
              </a:buClr>
              <a:buSzPct val="150000"/>
              <a:buFont typeface="Gill Sans"/>
              <a:buChar char="-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rvice Resul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749160" indent="-431640">
              <a:spcAft>
                <a:spcPts val="1199"/>
              </a:spcAft>
              <a:buClr>
                <a:srgbClr val="000000"/>
              </a:buClr>
              <a:buSzPct val="120000"/>
              <a:buFont typeface="Gill Sans"/>
              <a:buChar char="•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ordination Artifact </a:t>
            </a:r>
            <a:r>
              <a:rPr b="0" i="1" lang="en-US" sz="3200" spc="-1" strike="noStrike">
                <a:solidFill>
                  <a:srgbClr val="000000"/>
                </a:solidFill>
                <a:latin typeface="Gill Sans"/>
              </a:rPr>
              <a:t>Usag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Protocol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206360" indent="-431640">
              <a:spcAft>
                <a:spcPts val="601"/>
              </a:spcAft>
              <a:buClr>
                <a:srgbClr val="000000"/>
              </a:buClr>
              <a:buSzPct val="150000"/>
              <a:buFont typeface="Gill Sans"/>
              <a:buChar char="-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tting Request ID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1206360" indent="-431640">
              <a:spcAft>
                <a:spcPts val="601"/>
              </a:spcAft>
              <a:buClr>
                <a:srgbClr val="000000"/>
              </a:buClr>
              <a:buSzPct val="150000"/>
              <a:buFont typeface="Gill Sans"/>
              <a:buChar char="-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serting Request Inf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1206360" indent="-431640">
              <a:spcAft>
                <a:spcPts val="601"/>
              </a:spcAft>
              <a:buClr>
                <a:srgbClr val="000000"/>
              </a:buClr>
              <a:buSzPct val="150000"/>
              <a:buFont typeface="Gill Sans"/>
              <a:buChar char="-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ading Request Resul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536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A Simple Service Model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673200" y="2133360"/>
            <a:ext cx="1195056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749160" indent="-431640">
              <a:spcAft>
                <a:spcPts val="1199"/>
              </a:spcAft>
              <a:buClr>
                <a:srgbClr val="000000"/>
              </a:buClr>
              <a:buSzPct val="120000"/>
              <a:buFont typeface="Gill Sans"/>
              <a:buChar char="•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ser Profil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206360" indent="-4316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150000"/>
              <a:buFont typeface="Gill Sans"/>
              <a:buChar char="-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user_profile(’mail/pop’,</a:t>
            </a:r>
            <a:r>
              <a:rPr b="0" i="1" lang="en-US" sz="2200" spc="-1" strike="noStrike">
                <a:solidFill>
                  <a:srgbClr val="000000"/>
                </a:solidFill>
                <a:latin typeface="Courier New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info(host(</a:t>
            </a:r>
            <a:r>
              <a:rPr b="0" i="1" lang="en-US" sz="22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,user(</a:t>
            </a:r>
            <a:r>
              <a:rPr b="0" i="1" lang="en-US" sz="2200" spc="-1" strike="noStrike">
                <a:solidFill>
                  <a:srgbClr val="000000"/>
                </a:solidFill>
                <a:latin typeface="Courier New"/>
              </a:rPr>
              <a:t>U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,pwd(</a:t>
            </a:r>
            <a:r>
              <a:rPr b="0" i="1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),...)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1" marL="1206360" indent="-4316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150000"/>
              <a:buFont typeface="Gill Sans"/>
              <a:buChar char="-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user_profile(’mail/smtp’,</a:t>
            </a:r>
            <a:r>
              <a:rPr b="0" i="1" lang="en-US" sz="2200" spc="-1" strike="noStrike">
                <a:solidFill>
                  <a:srgbClr val="000000"/>
                </a:solidFill>
                <a:latin typeface="Courier New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info(host(</a:t>
            </a:r>
            <a:r>
              <a:rPr b="0" i="1" lang="en-US" sz="22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,user(</a:t>
            </a:r>
            <a:r>
              <a:rPr b="0" i="1" lang="en-US" sz="2200" spc="-1" strike="noStrike">
                <a:solidFill>
                  <a:srgbClr val="000000"/>
                </a:solidFill>
                <a:latin typeface="Courier New"/>
              </a:rPr>
              <a:t>U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,pwd(</a:t>
            </a:r>
            <a:r>
              <a:rPr b="0" i="1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),...)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749160" indent="-431640">
              <a:spcAft>
                <a:spcPts val="1199"/>
              </a:spcAft>
              <a:buClr>
                <a:srgbClr val="000000"/>
              </a:buClr>
              <a:buSzPct val="120000"/>
              <a:buFont typeface="Gill Sans"/>
              <a:buChar char="•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Mail Descrip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206360" indent="-4316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150000"/>
              <a:buFont typeface="Gill Sans"/>
              <a:buChar char="-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il_header(</a:t>
            </a:r>
            <a:r>
              <a:rPr b="0" i="1" lang="en-US" sz="2200" spc="-1" strike="noStrike">
                <a:solidFill>
                  <a:srgbClr val="000000"/>
                </a:solidFill>
                <a:latin typeface="Courier New"/>
              </a:rPr>
              <a:t>I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Courier New"/>
              </a:rPr>
              <a:t>MsgI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sender(</a:t>
            </a:r>
            <a:r>
              <a:rPr b="0" i="1" lang="en-US" sz="22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, recipient(</a:t>
            </a:r>
            <a:r>
              <a:rPr b="0" i="1" lang="en-US" sz="22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, subject(</a:t>
            </a:r>
            <a:r>
              <a:rPr b="0" i="1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,...)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1" marL="1206360" indent="-4316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150000"/>
              <a:buFont typeface="Gill Sans"/>
              <a:buChar char="-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il_body(</a:t>
            </a:r>
            <a:r>
              <a:rPr b="0" i="1" lang="en-US" sz="2200" spc="-1" strike="noStrike">
                <a:solidFill>
                  <a:srgbClr val="000000"/>
                </a:solidFill>
                <a:latin typeface="Courier New"/>
              </a:rPr>
              <a:t>I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Courier New"/>
              </a:rPr>
              <a:t>MsgI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‘content-type’(</a:t>
            </a:r>
            <a:r>
              <a:rPr b="0" i="1" lang="en-US" sz="2200" spc="-1" strike="noStrike">
                <a:solidFill>
                  <a:srgbClr val="000000"/>
                </a:solidFill>
                <a:latin typeface="Courier New"/>
              </a:rPr>
              <a:t>MIME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,content(</a:t>
            </a:r>
            <a:r>
              <a:rPr b="0" i="1" lang="en-US" sz="22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)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749160" indent="-431640">
              <a:spcAft>
                <a:spcPts val="1199"/>
              </a:spcAft>
              <a:buClr>
                <a:srgbClr val="000000"/>
              </a:buClr>
              <a:buSzPct val="120000"/>
              <a:buFont typeface="Gill Sans"/>
              <a:buChar char="•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rvice Operat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206360" indent="-4316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150000"/>
              <a:buFont typeface="Gill Sans"/>
              <a:buChar char="-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rvice_request(mail,</a:t>
            </a:r>
            <a:r>
              <a:rPr b="0" i="1" lang="en-US" sz="2200" spc="-1" strike="noStrike">
                <a:solidFill>
                  <a:srgbClr val="000000"/>
                </a:solidFill>
                <a:latin typeface="Courier New"/>
              </a:rPr>
              <a:t>Profile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Courier New"/>
              </a:rPr>
              <a:t>I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check_mail(</a:t>
            </a:r>
            <a:r>
              <a:rPr b="0" i="1" lang="en-US" sz="2200" spc="-1" strike="noStrike">
                <a:solidFill>
                  <a:srgbClr val="000000"/>
                </a:solidFill>
                <a:latin typeface="Courier New"/>
              </a:rPr>
              <a:t>TargetT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)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1" marL="1206360" indent="-4316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150000"/>
              <a:buFont typeface="Gill Sans"/>
              <a:buChar char="-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rvice_request(mail,</a:t>
            </a:r>
            <a:r>
              <a:rPr b="0" i="1" lang="en-US" sz="2200" spc="-1" strike="noStrike">
                <a:solidFill>
                  <a:srgbClr val="000000"/>
                </a:solidFill>
                <a:latin typeface="Courier New"/>
              </a:rPr>
              <a:t>Profile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Courier New"/>
              </a:rPr>
              <a:t>I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send_mail(</a:t>
            </a:r>
            <a:r>
              <a:rPr b="0" i="1" lang="en-US" sz="2200" spc="-1" strike="noStrike">
                <a:solidFill>
                  <a:srgbClr val="000000"/>
                </a:solidFill>
                <a:latin typeface="Courier New"/>
              </a:rPr>
              <a:t>TargetT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)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536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An example:  Email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536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Sending an email...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2212920" y="1231920"/>
            <a:ext cx="10880640" cy="840744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8204040" y="6356520"/>
            <a:ext cx="52707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action(in(sevice_request_id(ID)),(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).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3" name=""/>
          <p:cNvSpPr/>
          <p:nvPr/>
        </p:nvSpPr>
        <p:spPr>
          <a:xfrm>
            <a:off x="8140680" y="6286680"/>
            <a:ext cx="4641840" cy="88236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10000" y="10000"/>
                </a:moveTo>
                <a:lnTo>
                  <a:pt x="20000" y="10000"/>
                </a:lnTo>
                <a:lnTo>
                  <a:pt x="20000" y="20000"/>
                </a:lnTo>
                <a:lnTo>
                  <a:pt x="10000" y="20000"/>
                </a:lnTo>
                <a:close/>
                <a:moveTo>
                  <a:pt x="10000" y="10000"/>
                </a:move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4" name=""/>
          <p:cNvSpPr/>
          <p:nvPr/>
        </p:nvSpPr>
        <p:spPr>
          <a:xfrm>
            <a:off x="6489720" y="5537160"/>
            <a:ext cx="1625760" cy="7365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536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Sending an email...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1509840" y="838080"/>
            <a:ext cx="11571120" cy="894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536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Sending an email...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1231920" y="838080"/>
            <a:ext cx="11455560" cy="885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536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Sending an email...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1333440" y="808200"/>
            <a:ext cx="11544480" cy="892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536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Sending an email...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1092240" y="838080"/>
            <a:ext cx="11391840" cy="880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536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Sending an email...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1204920" y="863640"/>
            <a:ext cx="11175840" cy="863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1625760" y="2082600"/>
            <a:ext cx="10058400" cy="63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749160" indent="-431640">
              <a:spcAft>
                <a:spcPts val="1199"/>
              </a:spcAft>
              <a:buClr>
                <a:srgbClr val="000000"/>
              </a:buClr>
              <a:buSzPct val="120000"/>
              <a:buFont typeface="Gill Sans"/>
              <a:buChar char="•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ext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206360" indent="-431640">
              <a:spcAft>
                <a:spcPts val="601"/>
              </a:spcAft>
              <a:buClr>
                <a:srgbClr val="000000"/>
              </a:buClr>
              <a:buSzPct val="120000"/>
              <a:buFont typeface="Gill Sans"/>
              <a:buChar char="-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ngineering Systems a MAS Coordination Infrastructure (TuCSo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663560" indent="-431640">
              <a:spcAft>
                <a:spcPts val="201"/>
              </a:spcAft>
              <a:buClr>
                <a:srgbClr val="000000"/>
              </a:buClr>
              <a:buSzPct val="120000"/>
              <a:buFont typeface="Gill Sans"/>
              <a:buChar char="•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mart Environments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663560" indent="-431640">
              <a:spcAft>
                <a:spcPts val="201"/>
              </a:spcAft>
              <a:buClr>
                <a:srgbClr val="000000"/>
              </a:buClr>
              <a:buSzPct val="120000"/>
              <a:buFont typeface="Gill Sans"/>
              <a:buChar char="•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fMS &amp; CSCW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749160" indent="-431640">
              <a:spcAft>
                <a:spcPts val="1199"/>
              </a:spcAft>
              <a:buClr>
                <a:srgbClr val="000000"/>
              </a:buClr>
              <a:buSzPct val="120000"/>
              <a:buFont typeface="Gill Sans"/>
              <a:buChar char="•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206360" indent="-431640">
              <a:spcAft>
                <a:spcPts val="601"/>
              </a:spcAft>
              <a:buClr>
                <a:srgbClr val="000000"/>
              </a:buClr>
              <a:buSzPct val="120000"/>
              <a:buFont typeface="Gill Sans"/>
              <a:buChar char="-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use/Integration of (Legacy) Services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663560" indent="-431640">
              <a:spcAft>
                <a:spcPts val="201"/>
              </a:spcAft>
              <a:buClr>
                <a:srgbClr val="000000"/>
              </a:buClr>
              <a:buSzPct val="120000"/>
              <a:buFont typeface="Gill Sans"/>
              <a:buChar char="•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mail,  FTP, HTTP, Web Servic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1206360" indent="-431640">
              <a:spcAft>
                <a:spcPts val="601"/>
              </a:spcAft>
              <a:buClr>
                <a:srgbClr val="000000"/>
              </a:buClr>
              <a:buSzPct val="120000"/>
              <a:buFont typeface="Gill Sans"/>
              <a:buChar char="-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frastructure support for Service Coordin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663560" indent="-431640">
              <a:spcAft>
                <a:spcPts val="201"/>
              </a:spcAft>
              <a:buClr>
                <a:srgbClr val="000000"/>
              </a:buClr>
              <a:buSzPct val="120000"/>
              <a:buFont typeface="Gill Sans"/>
              <a:buChar char="•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ordination Servic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663560" indent="-431640">
              <a:spcAft>
                <a:spcPts val="201"/>
              </a:spcAft>
              <a:buClr>
                <a:srgbClr val="000000"/>
              </a:buClr>
              <a:buSzPct val="120000"/>
              <a:buFont typeface="Gill Sans"/>
              <a:buChar char="•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rganisation Servic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536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Gill Sans"/>
              </a:rPr>
              <a:t>Context &amp; Goals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536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Sending an email...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811080" y="812880"/>
            <a:ext cx="11406240" cy="881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1269720" y="213336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749160" indent="-431640">
              <a:spcAft>
                <a:spcPts val="1199"/>
              </a:spcAft>
              <a:buClr>
                <a:srgbClr val="000000"/>
              </a:buClr>
              <a:buSzPct val="120000"/>
              <a:buFont typeface="Gill Sans"/>
              <a:buChar char="•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ordination Artifacts as natural services </a:t>
            </a:r>
            <a:r>
              <a:rPr b="0" i="1" lang="en-US" sz="3200" spc="-1" strike="noStrike">
                <a:solidFill>
                  <a:srgbClr val="000000"/>
                </a:solidFill>
                <a:latin typeface="Gill Sans"/>
              </a:rPr>
              <a:t>gl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206360" indent="-431640">
              <a:spcAft>
                <a:spcPts val="601"/>
              </a:spcAft>
              <a:buClr>
                <a:srgbClr val="000000"/>
              </a:buClr>
              <a:buSzPct val="150000"/>
              <a:buFont typeface="Gill Sans"/>
              <a:buChar char="-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ncapsulating the logic of Service Composition &amp; Coordina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663560" indent="0">
              <a:spcAft>
                <a:spcPts val="201"/>
              </a:spcAft>
              <a:buNone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749160" indent="-431640">
              <a:spcAft>
                <a:spcPts val="1199"/>
              </a:spcAft>
              <a:buClr>
                <a:srgbClr val="000000"/>
              </a:buClr>
              <a:buSzPct val="120000"/>
              <a:buFont typeface="Gill Sans"/>
              <a:buChar char="•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wo Basic Architectur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206360" indent="-431640">
              <a:spcAft>
                <a:spcPts val="601"/>
              </a:spcAft>
              <a:buClr>
                <a:srgbClr val="000000"/>
              </a:buClr>
              <a:buSzPct val="150000"/>
              <a:buFont typeface="Gill Sans"/>
              <a:buChar char="-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ngle Tuple Centr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1206360" indent="-431640">
              <a:spcAft>
                <a:spcPts val="601"/>
              </a:spcAft>
              <a:buClr>
                <a:srgbClr val="000000"/>
              </a:buClr>
              <a:buSzPct val="150000"/>
              <a:buFont typeface="Gill Sans"/>
              <a:buChar char="-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ultiple Tuple Centr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635040" y="253800"/>
            <a:ext cx="1149336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536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omposing and </a:t>
            </a:r>
            <a:br>
              <a:rPr sz="6400"/>
            </a:b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oordinating Services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44240" y="75960"/>
            <a:ext cx="1172196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536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 simple scenario: SMS/email coordination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-38160" y="262080"/>
            <a:ext cx="13066920" cy="10098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1739520" y="1561680"/>
            <a:ext cx="98298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749160" indent="-431640">
              <a:spcAft>
                <a:spcPts val="700"/>
              </a:spcAft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omposing  Basic    Email and SMS Service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  <a:p>
            <a:pPr marL="749160" indent="-431640">
              <a:spcAft>
                <a:spcPts val="700"/>
              </a:spcAft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asic Gluing Activity: “Automatic SMS Sending”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  <a:p>
            <a:pPr marL="749160" indent="-431640">
              <a:spcAft>
                <a:spcPts val="700"/>
              </a:spcAft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ill Sans"/>
              </a:rPr>
              <a:t>Single Tuple Centre Architecture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536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 Taste of Service Coordination (1)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269720" y="-12960"/>
            <a:ext cx="1046484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536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Single Tuple Centre Approach (1)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1"/>
          <a:stretch/>
        </p:blipFill>
        <p:spPr>
          <a:xfrm>
            <a:off x="482760" y="217440"/>
            <a:ext cx="13307760" cy="102855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269720" y="-12960"/>
            <a:ext cx="1046484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536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Single Tuple Centre Approach (2)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139680" y="217440"/>
            <a:ext cx="13066560" cy="10098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2235240" y="1397160"/>
            <a:ext cx="9943920" cy="63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749160" indent="0">
              <a:spcAft>
                <a:spcPts val="700"/>
              </a:spcAft>
              <a:buNone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749160" indent="-431640">
              <a:spcAft>
                <a:spcPts val="700"/>
              </a:spcAft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ill Sans"/>
              </a:rPr>
              <a:t>Multiple Tuple Centres Architecture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  <a:p>
            <a:pPr marL="749160" indent="-431640">
              <a:spcAft>
                <a:spcPts val="700"/>
              </a:spcAft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Introducing a new coordination artifact for service orchestration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536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 Taste of Service Coordination (2)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269720" y="-12960"/>
            <a:ext cx="104648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536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Multiple Tuple Centres Approach (1)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622440" y="158760"/>
            <a:ext cx="12941280" cy="100011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269720" y="-12960"/>
            <a:ext cx="104648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536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Multiple Tuple Centres Approach (2)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533520" y="176040"/>
            <a:ext cx="13296960" cy="102762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1269720" y="213336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749160" indent="-431640">
              <a:spcAft>
                <a:spcPts val="1199"/>
              </a:spcAft>
              <a:buClr>
                <a:srgbClr val="000000"/>
              </a:buClr>
              <a:buSzPct val="120000"/>
              <a:buFont typeface="Gill Sans"/>
              <a:buChar char="•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ordination Artifacts used as general purpose Workflow/Orchestration Engin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206360" indent="-431640">
              <a:spcAft>
                <a:spcPts val="601"/>
              </a:spcAft>
              <a:buClr>
                <a:srgbClr val="000000"/>
              </a:buClr>
              <a:buSzPct val="150000"/>
              <a:buFont typeface="Gill Sans"/>
              <a:buChar char="-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gents responsible of individual job/task execu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1206360" indent="-431640">
              <a:spcAft>
                <a:spcPts val="601"/>
              </a:spcAft>
              <a:buClr>
                <a:srgbClr val="000000"/>
              </a:buClr>
              <a:buSzPct val="150000"/>
              <a:buFont typeface="Gill Sans"/>
              <a:buChar char="-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uple centres encapsulate/enact task coordin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663560" indent="-431640">
              <a:spcAft>
                <a:spcPts val="201"/>
              </a:spcAft>
              <a:buClr>
                <a:srgbClr val="000000"/>
              </a:buClr>
              <a:buFont typeface="Gill Sans"/>
              <a:buChar char="•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social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task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536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Towards Full-fledged </a:t>
            </a:r>
            <a:br>
              <a:rPr sz="6400"/>
            </a:b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Service Orchestration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1269720" y="1879200"/>
            <a:ext cx="10464840" cy="78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749160" indent="-431640">
              <a:spcAft>
                <a:spcPts val="1199"/>
              </a:spcAft>
              <a:buClr>
                <a:srgbClr val="000000"/>
              </a:buClr>
              <a:buSzPct val="120000"/>
              <a:buFont typeface="Gill Sans"/>
              <a:buChar char="•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rvice Oriented Issu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206360" indent="-431640">
              <a:spcAft>
                <a:spcPts val="601"/>
              </a:spcAft>
              <a:buClr>
                <a:srgbClr val="000000"/>
              </a:buClr>
              <a:buSzPct val="120000"/>
              <a:buFont typeface="Gill Sans"/>
              <a:buChar char="-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rchitectur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663560" indent="-431640">
              <a:spcAft>
                <a:spcPts val="201"/>
              </a:spcAft>
              <a:buClr>
                <a:srgbClr val="000000"/>
              </a:buClr>
              <a:buSzPct val="120000"/>
              <a:buFont typeface="Gill Sans"/>
              <a:buChar char="•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gistration, Discovery,  Access (ex: Web Services, OSGi, Jini...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1206360" indent="-431640">
              <a:spcAft>
                <a:spcPts val="601"/>
              </a:spcAft>
              <a:buClr>
                <a:srgbClr val="000000"/>
              </a:buClr>
              <a:buSzPct val="120000"/>
              <a:buFont typeface="Gill Sans"/>
              <a:buChar char="-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eroperabilit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663560" indent="-431640">
              <a:spcAft>
                <a:spcPts val="201"/>
              </a:spcAft>
              <a:buClr>
                <a:srgbClr val="000000"/>
              </a:buClr>
              <a:buSzPct val="120000"/>
              <a:buFont typeface="Gill Sans"/>
              <a:buChar char="•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ntologies, Protocols (ex: Semantic Web Effort...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1206360" indent="-431640">
              <a:spcAft>
                <a:spcPts val="601"/>
              </a:spcAft>
              <a:buClr>
                <a:srgbClr val="000000"/>
              </a:buClr>
              <a:buSzPct val="120000"/>
              <a:buFont typeface="Gill Sans"/>
              <a:buChar char="-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position and Coordin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663560" indent="-431640">
              <a:spcAft>
                <a:spcPts val="201"/>
              </a:spcAft>
              <a:buClr>
                <a:srgbClr val="000000"/>
              </a:buClr>
              <a:buSzPct val="120000"/>
              <a:buFont typeface="Gill Sans"/>
              <a:buChar char="•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horeography &amp; Orchestration (ex: BPEL4WS, WSCI, BPML...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749160" indent="-431640">
              <a:spcAft>
                <a:spcPts val="1199"/>
              </a:spcAft>
              <a:buClr>
                <a:srgbClr val="000000"/>
              </a:buClr>
              <a:buSzPct val="120000"/>
              <a:buFont typeface="Gill Sans"/>
              <a:buChar char="•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Focu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206360" indent="-431640">
              <a:spcAft>
                <a:spcPts val="601"/>
              </a:spcAft>
              <a:buClr>
                <a:srgbClr val="000000"/>
              </a:buClr>
              <a:buSzPct val="120000"/>
              <a:buFont typeface="Gill Sans"/>
              <a:buChar char="-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nabling Access to Standard/Legacy Services for TuCSoN heterogeneous Agen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663560" indent="-431640">
              <a:spcAft>
                <a:spcPts val="201"/>
              </a:spcAft>
              <a:buClr>
                <a:srgbClr val="000000"/>
              </a:buClr>
              <a:buSzPct val="120000"/>
              <a:buFont typeface="Gill Sans"/>
              <a:buChar char="•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eterogeneous computational models &amp; languag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1206360" indent="-431640">
              <a:spcAft>
                <a:spcPts val="601"/>
              </a:spcAft>
              <a:buClr>
                <a:srgbClr val="000000"/>
              </a:buClr>
              <a:buSzPct val="120000"/>
              <a:buFont typeface="Gill Sans"/>
              <a:buChar char="-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ploiting coordination and organisation infrastructure facilities to aggregate and orchestrate servic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536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Gill Sans"/>
              </a:rPr>
              <a:t>Service Oriented Architecture Issues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1269720" y="2133360"/>
            <a:ext cx="84582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749160" indent="-431640">
              <a:spcAft>
                <a:spcPts val="1199"/>
              </a:spcAft>
              <a:buClr>
                <a:srgbClr val="000000"/>
              </a:buClr>
              <a:buSzPct val="120000"/>
              <a:buFont typeface="Gill Sans"/>
              <a:buChar char="•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paration of Conc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206360" indent="-431640">
              <a:spcAft>
                <a:spcPts val="601"/>
              </a:spcAft>
              <a:buClr>
                <a:srgbClr val="000000"/>
              </a:buClr>
              <a:buSzPct val="150000"/>
              <a:buFont typeface="Gill Sans"/>
              <a:buChar char="-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gents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1206360" indent="-431640">
              <a:spcAft>
                <a:spcPts val="601"/>
              </a:spcAft>
              <a:buClr>
                <a:srgbClr val="000000"/>
              </a:buClr>
              <a:buSzPct val="150000"/>
              <a:buFont typeface="Gill Sans"/>
              <a:buChar char="-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ordination artifacts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749160" indent="-431640">
              <a:spcAft>
                <a:spcPts val="1199"/>
              </a:spcAft>
              <a:buClr>
                <a:srgbClr val="000000"/>
              </a:buClr>
              <a:buSzPct val="120000"/>
              <a:buFont typeface="Gill Sans"/>
              <a:buChar char="•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ncapsulation of Coordination Policies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206360" indent="-431640">
              <a:spcAft>
                <a:spcPts val="601"/>
              </a:spcAft>
              <a:buClr>
                <a:srgbClr val="000000"/>
              </a:buClr>
              <a:buSzPct val="150000"/>
              <a:buFont typeface="Gill Sans"/>
              <a:buChar char="-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escriptiveness &amp;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contro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1206360" indent="-431640">
              <a:spcAft>
                <a:spcPts val="601"/>
              </a:spcAft>
              <a:buClr>
                <a:srgbClr val="000000"/>
              </a:buClr>
              <a:buSzPct val="150000"/>
              <a:buFont typeface="Gill Sans"/>
              <a:buChar char="-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untime adaptabilit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663560" indent="-431640">
              <a:spcAft>
                <a:spcPts val="201"/>
              </a:spcAft>
              <a:buClr>
                <a:srgbClr val="000000"/>
              </a:buClr>
              <a:buFont typeface="Gill Sans"/>
              <a:buChar char="•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ynamic inspection/change of coordination artifacts’ coordination behaviou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1206360" indent="-431640">
              <a:spcAft>
                <a:spcPts val="601"/>
              </a:spcAft>
              <a:buClr>
                <a:srgbClr val="000000"/>
              </a:buClr>
              <a:buSzPct val="150000"/>
              <a:buFont typeface="Gill Sans"/>
              <a:buChar char="-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us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536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Outcomes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1269720" y="1778040"/>
            <a:ext cx="10464840" cy="70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749160" indent="-431640">
              <a:spcAft>
                <a:spcPts val="1199"/>
              </a:spcAft>
              <a:buClr>
                <a:srgbClr val="000000"/>
              </a:buClr>
              <a:buSzPct val="120000"/>
              <a:buFont typeface="Gill Sans"/>
              <a:buChar char="•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rvice Catalog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206360" indent="-431640">
              <a:spcAft>
                <a:spcPts val="601"/>
              </a:spcAft>
              <a:buClr>
                <a:srgbClr val="000000"/>
              </a:buClr>
              <a:buSzPct val="120000"/>
              <a:buFont typeface="Gill Sans"/>
              <a:buChar char="-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urrent: email, ftp, web browsing, LEGO Mindstor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1206360" indent="-431640">
              <a:spcAft>
                <a:spcPts val="601"/>
              </a:spcAft>
              <a:buClr>
                <a:srgbClr val="000000"/>
              </a:buClr>
              <a:buSzPct val="120000"/>
              <a:buFont typeface="Gill Sans"/>
              <a:buChar char="-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going: SMS, Vocal, generic web services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749160" indent="-431640">
              <a:spcAft>
                <a:spcPts val="1199"/>
              </a:spcAft>
              <a:buClr>
                <a:srgbClr val="000000"/>
              </a:buClr>
              <a:buSzPct val="120000"/>
              <a:buFont typeface="Gill Sans"/>
              <a:buChar char="•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oiting the TuCSoN Organisation Suppor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206360" indent="-431640">
              <a:spcAft>
                <a:spcPts val="601"/>
              </a:spcAft>
              <a:buClr>
                <a:srgbClr val="000000"/>
              </a:buClr>
              <a:buSzPct val="120000"/>
              <a:buFont typeface="Gill Sans"/>
              <a:buChar char="-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rvice Organis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1206360" indent="-431640">
              <a:spcAft>
                <a:spcPts val="601"/>
              </a:spcAft>
              <a:buClr>
                <a:srgbClr val="000000"/>
              </a:buClr>
              <a:buSzPct val="120000"/>
              <a:buFont typeface="Gill Sans"/>
              <a:buChar char="-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ole-based Access Contro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749160" indent="-431640">
              <a:spcAft>
                <a:spcPts val="1199"/>
              </a:spcAft>
              <a:buClr>
                <a:srgbClr val="000000"/>
              </a:buClr>
              <a:buSzPct val="120000"/>
              <a:buFont typeface="Gill Sans"/>
              <a:buChar char="•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esting/Using Services in System Engineer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206360" indent="-431640">
              <a:spcAft>
                <a:spcPts val="601"/>
              </a:spcAft>
              <a:buClr>
                <a:srgbClr val="000000"/>
              </a:buClr>
              <a:buSzPct val="120000"/>
              <a:buFont typeface="Gill Sans"/>
              <a:buChar char="-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eb Service Orchestration &amp; Choreograph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663560" indent="-431640">
              <a:spcAft>
                <a:spcPts val="201"/>
              </a:spcAft>
              <a:buClr>
                <a:srgbClr val="000000"/>
              </a:buClr>
              <a:buSzPct val="120000"/>
              <a:buFont typeface="Gill Sans"/>
              <a:buChar char="•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PEL4WS, BPML, WSC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888480" y="253800"/>
            <a:ext cx="1127772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536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Gill Sans"/>
              </a:rPr>
              <a:t>Ongoing &amp; Future Work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1866600" y="210780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749160" indent="-431640">
              <a:spcAft>
                <a:spcPts val="1199"/>
              </a:spcAft>
              <a:buClr>
                <a:srgbClr val="000000"/>
              </a:buClr>
              <a:buSzPct val="120000"/>
              <a:buFont typeface="Gill Sans"/>
              <a:buChar char="•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"/>
              </a:rPr>
              <a:t>IMPAC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of Infrastructure model and abstractions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206360" indent="-431640">
              <a:spcAft>
                <a:spcPts val="601"/>
              </a:spcAft>
              <a:buClr>
                <a:srgbClr val="000000"/>
              </a:buClr>
              <a:buSzPct val="150000"/>
              <a:buFont typeface="Gill Sans"/>
              <a:buChar char="-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rganisation Mod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663560" indent="-431640">
              <a:spcAft>
                <a:spcPts val="201"/>
              </a:spcAft>
              <a:buClr>
                <a:srgbClr val="000000"/>
              </a:buClr>
              <a:buFont typeface="Gill Sans"/>
              <a:buChar char="•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tructures and Rul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1206360" indent="-431640">
              <a:spcAft>
                <a:spcPts val="601"/>
              </a:spcAft>
              <a:buClr>
                <a:srgbClr val="000000"/>
              </a:buClr>
              <a:buSzPct val="150000"/>
              <a:buFont typeface="Gill Sans"/>
              <a:buChar char="-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eraction/Coordination Mod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663560" indent="-431640">
              <a:spcAft>
                <a:spcPts val="201"/>
              </a:spcAft>
              <a:buClr>
                <a:srgbClr val="000000"/>
              </a:buClr>
              <a:buFont typeface="Gill Sans"/>
              <a:buChar char="•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irect vs. Mediate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663560" indent="-431640">
              <a:spcAft>
                <a:spcPts val="201"/>
              </a:spcAft>
              <a:buClr>
                <a:srgbClr val="000000"/>
              </a:buClr>
              <a:buFont typeface="Gill Sans"/>
              <a:buChar char="•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pecifying/Enacting/Ruling social activiti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663560" indent="-431640">
              <a:spcAft>
                <a:spcPts val="201"/>
              </a:spcAft>
              <a:buClr>
                <a:srgbClr val="000000"/>
              </a:buClr>
              <a:buFont typeface="Gill Sans"/>
              <a:buChar char="•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bjective vs. Subjective Approach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1206360" indent="-431640">
              <a:spcAft>
                <a:spcPts val="601"/>
              </a:spcAft>
              <a:buClr>
                <a:srgbClr val="000000"/>
              </a:buClr>
              <a:buSzPct val="150000"/>
              <a:buFont typeface="Gill Sans"/>
              <a:buChar char="-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d the conseque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663560" indent="-431640">
              <a:spcAft>
                <a:spcPts val="201"/>
              </a:spcAft>
              <a:buClr>
                <a:srgbClr val="000000"/>
              </a:buClr>
              <a:buFont typeface="Gill Sans"/>
              <a:buChar char="•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urity Mod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663560" indent="-431640">
              <a:spcAft>
                <a:spcPts val="201"/>
              </a:spcAft>
              <a:buClr>
                <a:srgbClr val="000000"/>
              </a:buClr>
              <a:buFont typeface="Gill Sans"/>
              <a:buChar char="•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title"/>
          </p:nvPr>
        </p:nvSpPr>
        <p:spPr>
          <a:xfrm>
            <a:off x="2324160" y="254160"/>
            <a:ext cx="8686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536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Engineering Services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139320" y="1752480"/>
            <a:ext cx="3530520" cy="62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749160" indent="-431640">
              <a:spcAft>
                <a:spcPts val="1199"/>
              </a:spcAft>
              <a:buClr>
                <a:srgbClr val="000000"/>
              </a:buClr>
              <a:buSzPct val="120000"/>
              <a:buFont typeface="Gill Sans"/>
              <a:buChar char="•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Marginal Infrastructure Suppor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6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536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Approaches: </a:t>
            </a:r>
            <a:br>
              <a:rPr sz="6400"/>
            </a:b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Direct (P2P) Models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1"/>
          <a:stretch/>
        </p:blipFill>
        <p:spPr>
          <a:xfrm>
            <a:off x="4178160" y="1890720"/>
            <a:ext cx="7077240" cy="61866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228600" y="1752480"/>
            <a:ext cx="4038480" cy="77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749160" indent="-431640">
              <a:spcAft>
                <a:spcPts val="1199"/>
              </a:spcAft>
              <a:buClr>
                <a:srgbClr val="000000"/>
              </a:buClr>
              <a:buSzPct val="120000"/>
              <a:buFont typeface="Gill Sans"/>
              <a:buChar char="•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Middle-Agents as Mediator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536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Approaches: </a:t>
            </a:r>
            <a:br>
              <a:rPr sz="6400"/>
            </a:b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Agent-Mediated Model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4341960" y="2595600"/>
            <a:ext cx="7799400" cy="50720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266400" y="1752480"/>
            <a:ext cx="5118120" cy="77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749160" indent="-431640">
              <a:spcAft>
                <a:spcPts val="1199"/>
              </a:spcAft>
              <a:buClr>
                <a:srgbClr val="000000"/>
              </a:buClr>
              <a:buSzPct val="120000"/>
              <a:buFont typeface="Gill Sans"/>
              <a:buChar char="•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Mediate Interaction through Shared Information Space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749160" indent="-431640">
              <a:spcAft>
                <a:spcPts val="1199"/>
              </a:spcAft>
              <a:buClr>
                <a:srgbClr val="000000"/>
              </a:buClr>
              <a:buSzPct val="120000"/>
              <a:buFont typeface="Gill Sans"/>
              <a:buChar char="•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Infrastructure Suppor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749160" indent="-431640">
              <a:spcAft>
                <a:spcPts val="1199"/>
              </a:spcAft>
              <a:buClr>
                <a:srgbClr val="000000"/>
              </a:buClr>
              <a:buSzPct val="120000"/>
              <a:buFont typeface="Gill Sans"/>
              <a:buChar char="•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Ex: PageSpace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536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Approaches: </a:t>
            </a:r>
            <a:br>
              <a:rPr sz="6400"/>
            </a:b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Tuple-Space-like Model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5600880" y="2589120"/>
            <a:ext cx="6351480" cy="56530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482400" y="2349360"/>
            <a:ext cx="5143320" cy="74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696600" indent="-401400">
              <a:spcAft>
                <a:spcPts val="700"/>
              </a:spcAft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Customisable Coordination Services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121760" indent="-401400">
              <a:spcAft>
                <a:spcPts val="601"/>
              </a:spcAft>
              <a:buClr>
                <a:srgbClr val="000000"/>
              </a:buClr>
              <a:buSzPct val="150000"/>
              <a:buFont typeface="Gill Sans"/>
              <a:buChar char="-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ncapsulating Coordination Policy &amp; Contro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1121760" indent="-401400">
              <a:spcAft>
                <a:spcPts val="601"/>
              </a:spcAft>
              <a:buClr>
                <a:srgbClr val="000000"/>
              </a:buClr>
              <a:buSzPct val="150000"/>
              <a:buFont typeface="Gill Sans"/>
              <a:buChar char="-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grammed for supporting/automating specific coordination task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1121760" indent="-401400">
              <a:spcAft>
                <a:spcPts val="601"/>
              </a:spcAft>
              <a:buClr>
                <a:srgbClr val="000000"/>
              </a:buClr>
              <a:buSzPct val="150000"/>
              <a:buFont typeface="Gill Sans"/>
              <a:buChar char="-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frastructure Abstrac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1121760" indent="-401400">
              <a:spcAft>
                <a:spcPts val="601"/>
              </a:spcAft>
              <a:buClr>
                <a:srgbClr val="000000"/>
              </a:buClr>
              <a:buSzPct val="150000"/>
              <a:buFont typeface="Gill Sans"/>
              <a:buChar char="-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ill Sans"/>
              </a:rPr>
              <a:t>Predictable, Inspectable, Malleable, Linkabl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96600" indent="-401400">
              <a:spcAft>
                <a:spcPts val="700"/>
              </a:spcAft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Role in SOA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1121760" indent="-401400">
              <a:spcAft>
                <a:spcPts val="601"/>
              </a:spcAft>
              <a:buClr>
                <a:srgbClr val="000000"/>
              </a:buClr>
              <a:buSzPct val="150000"/>
              <a:buFont typeface="Gill Sans"/>
              <a:buChar char="-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rfaces for User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1121760" indent="-401400">
              <a:spcAft>
                <a:spcPts val="601"/>
              </a:spcAft>
              <a:buClr>
                <a:srgbClr val="000000"/>
              </a:buClr>
              <a:buSzPct val="150000"/>
              <a:buFont typeface="Gill Sans"/>
              <a:buChar char="-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ntology Mediator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1121760" indent="-401400">
              <a:spcAft>
                <a:spcPts val="601"/>
              </a:spcAft>
              <a:buClr>
                <a:srgbClr val="000000"/>
              </a:buClr>
              <a:buSzPct val="150000"/>
              <a:buFont typeface="Gill Sans"/>
              <a:buChar char="-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overning Users/Providers concurrency/multiplicit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536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Our approach:</a:t>
            </a:r>
            <a:br>
              <a:rPr sz="6400"/>
            </a:b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oordination Artifacts 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5662440" y="2487600"/>
            <a:ext cx="6840720" cy="62625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1269720" y="2133360"/>
            <a:ext cx="1108692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749160" indent="-431640">
              <a:spcAft>
                <a:spcPts val="1199"/>
              </a:spcAft>
              <a:buClr>
                <a:srgbClr val="000000"/>
              </a:buClr>
              <a:buSzPct val="120000"/>
              <a:buFont typeface="Gill Sans"/>
              <a:buChar char="•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uple Centres as Coordination Artifac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206360" indent="-431640">
              <a:spcAft>
                <a:spcPts val="601"/>
              </a:spcAft>
              <a:buClr>
                <a:srgbClr val="000000"/>
              </a:buClr>
              <a:buSzPct val="150000"/>
              <a:buFont typeface="Gill Sans"/>
              <a:buChar char="-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ogrammable Logic Tuple Spac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1206360" indent="-431640">
              <a:spcAft>
                <a:spcPts val="601"/>
              </a:spcAft>
              <a:buClr>
                <a:srgbClr val="000000"/>
              </a:buClr>
              <a:buSzPct val="150000"/>
              <a:buFont typeface="Gill Sans"/>
              <a:buChar char="-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ordination behaviour programmed in ReSpec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749160" indent="-431640">
              <a:spcAft>
                <a:spcPts val="1199"/>
              </a:spcAft>
              <a:buClr>
                <a:srgbClr val="000000"/>
              </a:buClr>
              <a:buSzPct val="120000"/>
              <a:buFont typeface="Gill Sans"/>
              <a:buChar char="•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gent Coordination Contexts to access Tuple Centr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206360" indent="-431640">
              <a:spcAft>
                <a:spcPts val="601"/>
              </a:spcAft>
              <a:buClr>
                <a:srgbClr val="000000"/>
              </a:buClr>
              <a:buSzPct val="150000"/>
              <a:buFont typeface="Gill Sans"/>
              <a:buChar char="-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untime Organisation Abstrac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1206360" indent="-431640">
              <a:spcAft>
                <a:spcPts val="601"/>
              </a:spcAft>
              <a:buClr>
                <a:srgbClr val="000000"/>
              </a:buClr>
              <a:buSzPct val="150000"/>
              <a:buFont typeface="Gill Sans"/>
              <a:buChar char="-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gotiated by agents to enter the Organis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1206360" indent="-431640">
              <a:spcAft>
                <a:spcPts val="601"/>
              </a:spcAft>
              <a:buClr>
                <a:srgbClr val="000000"/>
              </a:buClr>
              <a:buSzPct val="150000"/>
              <a:buFont typeface="Gill Sans"/>
              <a:buChar char="-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odels agent’s active role(s) inside the Organis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1206360" indent="-431640">
              <a:spcAft>
                <a:spcPts val="601"/>
              </a:spcAft>
              <a:buClr>
                <a:srgbClr val="000000"/>
              </a:buClr>
              <a:buSzPct val="150000"/>
              <a:buFont typeface="Gill Sans"/>
              <a:buChar char="-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untime Interface to access Organisation Resources 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663560" indent="-431640">
              <a:spcAft>
                <a:spcPts val="201"/>
              </a:spcAft>
              <a:buClr>
                <a:srgbClr val="000000"/>
              </a:buClr>
              <a:buFont typeface="Gill Sans"/>
              <a:buChar char="•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ole-Based Access Contro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536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TuCSoN Infrastructure for Coordination Artifacts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