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E1E7-FC0D-46A8-91C0-12C64B22D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ood afternoon, I’m Gauthier Picard. I’m coming from Toulouse France and working in the Cooperative MAS team of the IR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y talk will deal with Designing Agents’ Behaviors and Interactions in the framework of ADEL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AACB-E7B6-4F8E-83C1-21D3192C4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8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irst, some concepts will be raised such as our view of self-organization and its use in the adaptive multi-agent system enginee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cond, I will expose our way to work with MAS paradig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hen, I will present an Agent Model, the Cooperative Agent, that we use to design self-organizing socie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inally I will conclude with some perspectiv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wo main keywords we keep in mind when designing agents are Self-organization and emer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elf-organizing system is a system which changes its basic structure in terms of its environment and its own 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good example are found in Biology or Etholog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ergence means the appearance of a new coherent function at the macro level. The implementation does not depend on the knowledge of the collective function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ergence is possible by self-organization of the components that follow rules that are independent from the global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FA7-5B7E-4464-AA5F-7BB26F5671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80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o, why focusing on self-organization or emergenc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ypically, and in a near-past, engineers were faced to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manageable system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where organization can be specified by some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ut, by now, engineers are faced to more complex problems and often need to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use self-organiz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systems where order and organization comes from within. Organization cannot be specified by someone and then has to emerge from self-organ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Moreover, it is more simple to design part of the system when this last one is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complex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when the environment which it is in interaction with is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when there is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no predefined global go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and more generally when it is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not well specified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utonomic Comput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where the system has to maintain its own integrity and has to self-repair is a good example of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oo complex system to be specified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Ubiquitous Comput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or Ambient Intelligence shows the difficulty to specify a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global go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: how to satisfy the user who is plunged into an ubiquitous system?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Human being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are a good example of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dynamic environment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to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, now I will expound our view on designing self-organizing systems in which a coherent global function emerges from local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99960" y="4711680"/>
            <a:ext cx="5981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his theory deals with self-organizing systems where agents’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cooperative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attitude is the engine of self-organization. This local criteria is a mean to ease exploring the search space. Cooperative attitude means that agents are able to detect local cooperation failures and to process them to reach back a cooperative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s no global task is specified, only agents’ cooperative behaviors, the global coherent function of the system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merge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from the organization of the 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Many applications in many domains were developped by using this principle such as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flood forecast systems, timetabling problem or on-line brokerage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ut, currently, our main topic of interest is to provide tools and notations to design such systems. This is why we have developped the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DELFE method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described by its process, notations and to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3EC-82AF-47B0-8BF5-1C2A33DC5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AE7-B21F-4942-A505-A3E2AD37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6A3-7EFA-4645-BBD4-C4B8559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C8F-98FB-4910-8C4C-1881462F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847-533B-4A27-89C3-06DCEC99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C49-A42D-4A90-8503-9FBB1E16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67B1-03D8-41B0-954E-70EBE4C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29D3-4A1F-44A3-9D2A-308D549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E36-C657-44AC-838A-A3C7D1A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331-4237-49BA-A797-75415CEA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626-1BAA-4852-A20F-CFF7FF2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1AF6-7C92-400E-87DA-E06E7F76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DDD-9B29-4448-856A-9568C2B8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D79F-9621-4687-BD07-448DB36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C92B-24C1-428C-957B-DDFCD9B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DF1C-7F2F-4DBD-8692-E2357C2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EDA5-C222-48FC-83FF-10E4009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9388-CADE-46F9-904B-69D8B7B2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0C1-6A6F-4042-B7BC-0A02102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438-6610-4AF2-B8D3-6FE2254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A82-CD25-44ED-A581-602D64B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189-D036-42B0-B5F4-29BFA848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5B2-1B81-4398-8054-4A4CF34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3A0-8FAD-401E-A17A-8360421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7E1-BEFB-457D-B30C-AF6AF0B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3280" y="6244920"/>
            <a:ext cx="604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23A-2B96-4A79-9B35-988608454D2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24B0-8F39-46D2-9BB0-0057E9B5FE6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43440" y="1577160"/>
            <a:ext cx="87073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Agents’ Behaviors and Interactions within ADEL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8920" y="3499920"/>
            <a:ext cx="5977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uthier Pi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card@irit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C Team – IRIT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ttp://www.irit.fr/S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558972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516720" y="5445000"/>
            <a:ext cx="1224000" cy="99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635280" y="5516640"/>
            <a:ext cx="1944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Adequacy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1828800"/>
            <a:ext cx="4876920" cy="16765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7c949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Functionally Adequ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2971800"/>
            <a:ext cx="3124080" cy="2209680"/>
            <a:chOff x="4952880" y="2971800"/>
            <a:chExt cx="3124080" cy="2209680"/>
          </a:xfrm>
        </p:grpSpPr>
        <p:sp>
          <p:nvSpPr>
            <p:cNvPr id="202" name=""/>
            <p:cNvSpPr/>
            <p:nvPr/>
          </p:nvSpPr>
          <p:spPr>
            <a:xfrm>
              <a:off x="4952880" y="4038480"/>
              <a:ext cx="3124080" cy="1143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1888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Coopera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52880" y="2971800"/>
              <a:ext cx="3124080" cy="1523880"/>
              <a:chOff x="4952880" y="2971800"/>
              <a:chExt cx="3124080" cy="15238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952880" y="2971800"/>
                <a:ext cx="1828800" cy="1523880"/>
                <a:chOff x="4952880" y="2971800"/>
                <a:chExt cx="1828800" cy="1523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324480" y="2971800"/>
                  <a:ext cx="457200" cy="2286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4952880" y="3048120"/>
                  <a:ext cx="1371600" cy="1447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781680" y="3048120"/>
                <a:ext cx="1295280" cy="1447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5638680" y="4572000"/>
            <a:ext cx="1752480" cy="1676520"/>
            <a:chOff x="5638680" y="4572000"/>
            <a:chExt cx="1752480" cy="1676520"/>
          </a:xfrm>
        </p:grpSpPr>
        <p:sp>
          <p:nvSpPr>
            <p:cNvPr id="209" name=""/>
            <p:cNvSpPr/>
            <p:nvPr/>
          </p:nvSpPr>
          <p:spPr>
            <a:xfrm>
              <a:off x="5638680" y="533412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78e9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Cooper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Internal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714640" y="4572000"/>
              <a:ext cx="1676520" cy="1143000"/>
              <a:chOff x="5714640" y="4572000"/>
              <a:chExt cx="1676520" cy="114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324480" y="4572000"/>
                <a:ext cx="457200" cy="2286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714640" y="4648320"/>
                <a:ext cx="60984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81680" y="4648320"/>
                <a:ext cx="609480" cy="1066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For any functionally adequate system in a given environment, there is a system having a cooperative internal medium which realizes an equivalen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E4E-0266-4A66-87DC-115B274B13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Adequacy Theorem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a system, designers only have to ensure agents’ behaviors are cooperative to ensure the system provides a coher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havior of the system will have to emerge from the cooperative interactions between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design agents to obtain coherent socie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CA4-493B-4D91-8C11-8023A21BC3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otivations and Research Pos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Multi-Age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agents’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proto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D34-226E-4A66-A674-C5F1F1DA37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a three-step 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 – decide –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mposed of differen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operative (avoiding NC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1B6-4ACC-4EC3-81CA-7C31E9929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1484280"/>
            <a:ext cx="6842160" cy="4751280"/>
          </a:xfrm>
          <a:prstGeom prst="rect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87280" y="1628640"/>
            <a:ext cx="6545160" cy="4500720"/>
            <a:chOff x="1187280" y="1628640"/>
            <a:chExt cx="6545160" cy="4500720"/>
          </a:xfrm>
        </p:grpSpPr>
        <p:sp>
          <p:nvSpPr>
            <p:cNvPr id="223" name=""/>
            <p:cNvSpPr/>
            <p:nvPr/>
          </p:nvSpPr>
          <p:spPr>
            <a:xfrm>
              <a:off x="1187280" y="1628640"/>
              <a:ext cx="6545160" cy="45007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1754280"/>
              <a:ext cx="4462560" cy="38750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92760" y="5754600"/>
              <a:ext cx="119124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ter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41360" y="1735200"/>
            <a:ext cx="744480" cy="3875040"/>
            <a:chOff x="1341360" y="1735200"/>
            <a:chExt cx="744480" cy="3875040"/>
          </a:xfrm>
        </p:grpSpPr>
        <p:sp>
          <p:nvSpPr>
            <p:cNvPr id="228" name=""/>
            <p:cNvSpPr/>
            <p:nvPr/>
          </p:nvSpPr>
          <p:spPr>
            <a:xfrm>
              <a:off x="1341360" y="1735200"/>
              <a:ext cx="744480" cy="38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7960" y="1773360"/>
              <a:ext cx="6001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erce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45400" y="1735200"/>
            <a:ext cx="744480" cy="3875040"/>
            <a:chOff x="6845400" y="1735200"/>
            <a:chExt cx="744480" cy="3875040"/>
          </a:xfrm>
        </p:grpSpPr>
        <p:sp>
          <p:nvSpPr>
            <p:cNvPr id="231" name=""/>
            <p:cNvSpPr/>
            <p:nvPr/>
          </p:nvSpPr>
          <p:spPr>
            <a:xfrm>
              <a:off x="6845400" y="1735200"/>
              <a:ext cx="744480" cy="38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8840" y="1735200"/>
              <a:ext cx="4125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455840" y="210996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55840" y="252396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55840" y="289872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5840" y="327348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55840" y="3648240"/>
            <a:ext cx="500040" cy="21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5840" y="402444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5840" y="439884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55840" y="473544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55840" y="511020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50160" y="210996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50160" y="252396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50160" y="289872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50160" y="327348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50160" y="3648240"/>
            <a:ext cx="552240" cy="21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50160" y="402444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50160" y="439884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0160" y="473544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50160" y="511020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82840" y="2235240"/>
            <a:ext cx="2082960" cy="749160"/>
            <a:chOff x="2382840" y="2235240"/>
            <a:chExt cx="2082960" cy="749160"/>
          </a:xfrm>
        </p:grpSpPr>
        <p:sp>
          <p:nvSpPr>
            <p:cNvPr id="252" name=""/>
            <p:cNvSpPr/>
            <p:nvPr/>
          </p:nvSpPr>
          <p:spPr>
            <a:xfrm>
              <a:off x="2382840" y="2235240"/>
              <a:ext cx="2082960" cy="749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45280" y="2359080"/>
              <a:ext cx="164664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epresen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382840" y="3359160"/>
            <a:ext cx="2082960" cy="750960"/>
            <a:chOff x="2382840" y="3359160"/>
            <a:chExt cx="2082960" cy="750960"/>
          </a:xfrm>
        </p:grpSpPr>
        <p:sp>
          <p:nvSpPr>
            <p:cNvPr id="255" name=""/>
            <p:cNvSpPr/>
            <p:nvPr/>
          </p:nvSpPr>
          <p:spPr>
            <a:xfrm>
              <a:off x="2382840" y="3359160"/>
              <a:ext cx="2082960" cy="7509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5360" y="3484440"/>
              <a:ext cx="6426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11840" y="2235240"/>
            <a:ext cx="1488960" cy="1874880"/>
            <a:chOff x="4911840" y="2235240"/>
            <a:chExt cx="1488960" cy="1874880"/>
          </a:xfrm>
        </p:grpSpPr>
        <p:sp>
          <p:nvSpPr>
            <p:cNvPr id="258" name=""/>
            <p:cNvSpPr/>
            <p:nvPr/>
          </p:nvSpPr>
          <p:spPr>
            <a:xfrm>
              <a:off x="4911840" y="2235240"/>
              <a:ext cx="1488960" cy="187488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96600" y="2359080"/>
              <a:ext cx="1050840" cy="3070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ptitu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73360" y="4361040"/>
            <a:ext cx="1933560" cy="874440"/>
            <a:chOff x="3573360" y="4361040"/>
            <a:chExt cx="1933560" cy="874440"/>
          </a:xfrm>
        </p:grpSpPr>
        <p:sp>
          <p:nvSpPr>
            <p:cNvPr id="261" name=""/>
            <p:cNvSpPr/>
            <p:nvPr/>
          </p:nvSpPr>
          <p:spPr>
            <a:xfrm>
              <a:off x="3573360" y="4361040"/>
              <a:ext cx="1933560" cy="87444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0360" y="4484520"/>
              <a:ext cx="1239840" cy="3765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84A-994C-4BC7-AB61-38ADD18759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the agent and it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sors, 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lbox and mai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languages to communicate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ed du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74C-5C9F-4076-9D42-B3466E0216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knowledg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or fuzzy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gent system (like semantic organiz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ed dur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E23-3E70-450C-A9C6-94EE5A242D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knowledge on a particula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or fuzzy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gent system (like semantic organ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ed dur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B87-3F58-40D8-A0CF-DA4502A9D1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bilities to reason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: inferenc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an action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ed dur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9A6-1D5B-4B56-B379-DD4B65EE37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the agent’s coopera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in terms of representations, perceptions,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: actions, representation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ooperative actions are top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ed dur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0D6-19AC-4350-9AE1-F0421E7656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s and Research Positi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Age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A45-8883-4650-B67D-0B3579201B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1484280"/>
            <a:ext cx="6842160" cy="4751280"/>
          </a:xfrm>
          <a:prstGeom prst="rect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1609560"/>
            <a:ext cx="6545160" cy="4500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43160" y="1747800"/>
            <a:ext cx="4462560" cy="3875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41360" y="1735200"/>
            <a:ext cx="744480" cy="38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45400" y="1735200"/>
            <a:ext cx="744480" cy="38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07960" y="1773360"/>
            <a:ext cx="600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8840" y="1735200"/>
            <a:ext cx="4125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5840" y="210996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5840" y="252396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5840" y="289872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55840" y="327348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55840" y="3648240"/>
            <a:ext cx="500040" cy="21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5840" y="402444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5840" y="439884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5840" y="4735440"/>
            <a:ext cx="5000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55840" y="5110200"/>
            <a:ext cx="5000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50160" y="210996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50160" y="252396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0160" y="289872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50160" y="327348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50160" y="3648240"/>
            <a:ext cx="552240" cy="21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0160" y="402444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50160" y="439884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50160" y="4735440"/>
            <a:ext cx="552240" cy="21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110200"/>
            <a:ext cx="552240" cy="21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99240" y="5735520"/>
            <a:ext cx="119124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62280" y="2235240"/>
            <a:ext cx="1727280" cy="749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97560" y="23590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pres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3359160"/>
            <a:ext cx="1729080" cy="7509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22840" y="3500280"/>
            <a:ext cx="64260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11840" y="2235240"/>
            <a:ext cx="1488960" cy="18748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96600" y="2359080"/>
            <a:ext cx="1050840" cy="307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tit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73360" y="4361040"/>
            <a:ext cx="1933560" cy="874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70360" y="4484520"/>
            <a:ext cx="1239840" cy="376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85840" y="3179880"/>
            <a:ext cx="2826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0360" y="37162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85840" y="4808520"/>
            <a:ext cx="14875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65800" y="2610000"/>
            <a:ext cx="4460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21200" y="4110120"/>
            <a:ext cx="0" cy="2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2960" y="4735440"/>
            <a:ext cx="147960" cy="12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506920" y="4789080"/>
            <a:ext cx="4460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100920" y="4789080"/>
            <a:ext cx="744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4110120"/>
            <a:ext cx="0" cy="62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48400" y="1984320"/>
            <a:ext cx="0" cy="27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627280" y="1984320"/>
            <a:ext cx="39211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4320" y="1984320"/>
            <a:ext cx="0" cy="2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3645000"/>
            <a:ext cx="1152720" cy="57600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96360" y="3645000"/>
            <a:ext cx="1152360" cy="57600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84720" y="299736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7280" y="1989000"/>
            <a:ext cx="0" cy="13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2B8-9E8F-4E50-9B62-574998ACD7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00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use this model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n exam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“cooperative agent” specific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rency rules to ensure the right use of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5256360" cy="38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67E-DB10-4172-B2E2-4A0861BAAD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UML interaction diagrams used to specify interaction languages an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operative interactions lead the system to the right function : NCS treatment at the interaction level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95640" y="1868400"/>
            <a:ext cx="5148360" cy="38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BD9-E317-4B5A-8072-E598F14D5B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S Rules Defini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blems at the local level is easier than defining them at the glob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ensure the NCS rule set is exhaus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rmal solution, only hints and guid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ADELFE methodology and AMA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8DB-6624-44C9-ADFC-27C9FEB5EB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appropriate designing and simulation tool (e.g. OpenT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imply defining agents’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code th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al aspects (state machines or protoc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imulating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non state machine models into state machine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protocol diagrams into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942-C3CD-49B7-90C4-AA167748F5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formation into Finite State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protocol, a concurrent state machine is 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is associated with each role involved in th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ub-state of the role state is associated with each message reception and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nsition between two states is created when a message is received or 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-UML specific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ptitude is associated with the decision-making process of a OR or a XOR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XOR node has n branches, it generates n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is created for each AND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7AB-E178-4AE4-BF3D-59BC73DB35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Buyer/Seller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127480" cy="3828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340000" y="2637000"/>
            <a:ext cx="3168720" cy="86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6E2-34CF-469E-827F-97DAF351C8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ler’s Concurren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979640" y="1649520"/>
            <a:ext cx="4897440" cy="41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67C-74D5-4CDF-8E3C-76618F1712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er Role Sub-State Mach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305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547640" y="1268280"/>
            <a:ext cx="759636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3D6-C364-4B3D-9BDB-1F637030BD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otivations and Research Pos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Multi-Age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 Ag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846-AF11-4E71-A867-8C7D22E414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 system which changes its basic structure as 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of its experience and environment (Farley, Clark, 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Level: The Morphogenesis of an Embr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Level: Ants, Termite, Flock Behavior,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function of the system is e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implementation does not depend on the knowledge of the collective function and must allow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f-organization of the components follows rules which are independent of the glob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(georgé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C98-B282-4A2A-897F-522EC43D1A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more adaptiv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ag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organization led by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emerges from the interactions within a society of cooperativ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such systems, we propose the ADELFE Method (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Courier New"/>
              </a:rPr>
              <a:t>http://www.irit.fr/ADEL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(inspired from R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tions (UML / A-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(e.g. OpenTool, AdelfeToolkit, AMAS Adequac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agents of such systems, ADELFE pro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P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of dynamical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460-F11F-4C36-AE15-2FC23E785F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9D0-45E5-466F-A8B0-CDC31A7813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elf-Organization? Why Emerg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78552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more simple to design an agent than the global system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: man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edefined global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ell specifi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845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Manage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ystem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ganized by some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Self-organiz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ystem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der comes from within and the function </a:t>
            </a: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emer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880" y="5373720"/>
            <a:ext cx="846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013360"/>
            <a:ext cx="8291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9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nom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9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biquitous Computing / Ambient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E94-1C8B-4A33-A6A3-83BF53C547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otivations and Research Pos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Age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 Ag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FAD-39E9-4CA7-B942-96BD9D9ACB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ive Multi-Agent System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organizing multi-ag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of self-organization = agents’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operative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on failures detection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a coherent glob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pplications : flood forecast, timetabling, on-line brokerag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43700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ELF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1EC-53CB-4426-B8C5-B0F337290C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has to compute the adequat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self-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565360"/>
            <a:ext cx="1440000" cy="57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01080" y="26859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840200">
            <a:off x="6227640" y="2636640"/>
            <a:ext cx="719280" cy="28728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24360" y="3429000"/>
            <a:ext cx="3240360" cy="1224000"/>
            <a:chOff x="5724360" y="3429000"/>
            <a:chExt cx="3240360" cy="1224000"/>
          </a:xfrm>
        </p:grpSpPr>
        <p:sp>
          <p:nvSpPr>
            <p:cNvPr id="114" name=""/>
            <p:cNvSpPr/>
            <p:nvPr/>
          </p:nvSpPr>
          <p:spPr>
            <a:xfrm>
              <a:off x="5724360" y="3429000"/>
              <a:ext cx="3240360" cy="1224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372360" y="3571920"/>
              <a:ext cx="1904400" cy="914400"/>
              <a:chOff x="6372360" y="3571920"/>
              <a:chExt cx="1904400" cy="914400"/>
            </a:xfrm>
          </p:grpSpPr>
          <p:sp>
            <p:nvSpPr>
              <p:cNvPr id="116" name=""/>
              <p:cNvSpPr/>
              <p:nvPr/>
            </p:nvSpPr>
            <p:spPr>
              <a:xfrm>
                <a:off x="6372360" y="3800520"/>
                <a:ext cx="304560" cy="1522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34120" y="4029120"/>
                <a:ext cx="304560" cy="152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57800" y="3571920"/>
                <a:ext cx="304560" cy="1522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72200" y="4181400"/>
                <a:ext cx="304560" cy="1526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257720"/>
                <a:ext cx="304560" cy="1522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9920" y="3648240"/>
                <a:ext cx="304560" cy="152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39040" y="4334040"/>
                <a:ext cx="304200" cy="1522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08640" y="37195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7589520" y="3795840"/>
                <a:ext cx="30420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75480" y="3871800"/>
                <a:ext cx="4568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522840" y="39481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7080" y="3795840"/>
                <a:ext cx="7560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61280" y="3643200"/>
                <a:ext cx="4568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751440" y="4143240"/>
                <a:ext cx="426600" cy="18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61280" y="4176720"/>
                <a:ext cx="151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742160" y="4329000"/>
                <a:ext cx="3045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84960" y="3719520"/>
                <a:ext cx="685440" cy="479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599160" y="3643200"/>
                <a:ext cx="45684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624440" y="3800520"/>
                <a:ext cx="30420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42080" y="4349880"/>
                <a:ext cx="685440" cy="7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 flipH="1">
            <a:off x="5866920" y="285264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8360" y="285264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013360"/>
            <a:ext cx="223200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92360" y="4292640"/>
            <a:ext cx="1150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4365720"/>
            <a:ext cx="7189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7760" y="53355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liefs/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0240" y="5005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860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E87-D12B-41DA-9840-A38CE2BAD9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0560" y="-243000"/>
            <a:ext cx="6846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 of Self-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09600" y="3144960"/>
            <a:ext cx="6921360" cy="2286000"/>
            <a:chOff x="1209600" y="3144960"/>
            <a:chExt cx="6921360" cy="2286000"/>
          </a:xfrm>
        </p:grpSpPr>
        <p:sp>
          <p:nvSpPr>
            <p:cNvPr id="146" name=""/>
            <p:cNvSpPr/>
            <p:nvPr/>
          </p:nvSpPr>
          <p:spPr>
            <a:xfrm>
              <a:off x="1209600" y="3144960"/>
              <a:ext cx="6921360" cy="2286000"/>
            </a:xfrm>
            <a:custGeom>
              <a:avLst/>
              <a:gdLst/>
              <a:ahLst/>
              <a:rect l="l" t="t" r="r" b="b"/>
              <a:pathLst>
                <a:path w="4360" h="1440">
                  <a:moveTo>
                    <a:pt x="760" y="472"/>
                  </a:moveTo>
                  <a:cubicBezTo>
                    <a:pt x="648" y="560"/>
                    <a:pt x="176" y="688"/>
                    <a:pt x="88" y="808"/>
                  </a:cubicBezTo>
                  <a:cubicBezTo>
                    <a:pt x="0" y="928"/>
                    <a:pt x="32" y="1088"/>
                    <a:pt x="232" y="1192"/>
                  </a:cubicBezTo>
                  <a:cubicBezTo>
                    <a:pt x="432" y="1296"/>
                    <a:pt x="984" y="1440"/>
                    <a:pt x="1288" y="1432"/>
                  </a:cubicBezTo>
                  <a:cubicBezTo>
                    <a:pt x="1592" y="1424"/>
                    <a:pt x="1728" y="1144"/>
                    <a:pt x="2056" y="1144"/>
                  </a:cubicBezTo>
                  <a:cubicBezTo>
                    <a:pt x="2384" y="1144"/>
                    <a:pt x="2928" y="1440"/>
                    <a:pt x="3256" y="1432"/>
                  </a:cubicBezTo>
                  <a:cubicBezTo>
                    <a:pt x="3584" y="1424"/>
                    <a:pt x="3864" y="1256"/>
                    <a:pt x="4024" y="1096"/>
                  </a:cubicBezTo>
                  <a:cubicBezTo>
                    <a:pt x="4184" y="936"/>
                    <a:pt x="4360" y="640"/>
                    <a:pt x="4216" y="472"/>
                  </a:cubicBezTo>
                  <a:cubicBezTo>
                    <a:pt x="4072" y="304"/>
                    <a:pt x="3368" y="112"/>
                    <a:pt x="3160" y="88"/>
                  </a:cubicBezTo>
                  <a:cubicBezTo>
                    <a:pt x="2952" y="64"/>
                    <a:pt x="3144" y="296"/>
                    <a:pt x="2968" y="328"/>
                  </a:cubicBezTo>
                  <a:cubicBezTo>
                    <a:pt x="2792" y="360"/>
                    <a:pt x="2232" y="320"/>
                    <a:pt x="2104" y="280"/>
                  </a:cubicBezTo>
                  <a:cubicBezTo>
                    <a:pt x="1976" y="240"/>
                    <a:pt x="2232" y="128"/>
                    <a:pt x="2200" y="88"/>
                  </a:cubicBezTo>
                  <a:cubicBezTo>
                    <a:pt x="2168" y="48"/>
                    <a:pt x="2024" y="0"/>
                    <a:pt x="1912" y="40"/>
                  </a:cubicBezTo>
                  <a:cubicBezTo>
                    <a:pt x="1800" y="80"/>
                    <a:pt x="1720" y="288"/>
                    <a:pt x="1528" y="328"/>
                  </a:cubicBezTo>
                  <a:cubicBezTo>
                    <a:pt x="1336" y="368"/>
                    <a:pt x="888" y="256"/>
                    <a:pt x="760" y="280"/>
                  </a:cubicBezTo>
                  <a:cubicBezTo>
                    <a:pt x="632" y="304"/>
                    <a:pt x="872" y="384"/>
                    <a:pt x="760" y="47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a92"/>
                </a:gs>
                <a:gs pos="100000">
                  <a:srgbClr val="0066ff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4200" y="4580280"/>
              <a:ext cx="304560" cy="152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15960" y="5037480"/>
              <a:ext cx="30492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30360" y="4275360"/>
              <a:ext cx="304920" cy="152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49480" y="4732560"/>
              <a:ext cx="304920" cy="152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68800" y="4275360"/>
              <a:ext cx="304560" cy="1522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3880" y="3741840"/>
              <a:ext cx="304920" cy="1526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30560" y="4580280"/>
              <a:ext cx="304920" cy="1522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4808880"/>
              <a:ext cx="304920" cy="1522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4960" y="4732560"/>
              <a:ext cx="304920" cy="1522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7760" y="3970440"/>
              <a:ext cx="304920" cy="1526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30760" y="4275360"/>
              <a:ext cx="304920" cy="15228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07080" y="3818160"/>
              <a:ext cx="304920" cy="1522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68600" y="4046760"/>
              <a:ext cx="304560" cy="1522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83000" y="4884840"/>
              <a:ext cx="304560" cy="15264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0360" y="489456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4487760" y="2387520"/>
            <a:ext cx="129564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963520" y="2463840"/>
            <a:ext cx="1219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87560" y="1701720"/>
            <a:ext cx="2895840" cy="11430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4760" y="2006640"/>
            <a:ext cx="30492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06880" y="2235240"/>
            <a:ext cx="30492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0560" y="1778040"/>
            <a:ext cx="30492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4960" y="2387520"/>
            <a:ext cx="30492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1080" y="2463840"/>
            <a:ext cx="304920" cy="15228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92680" y="1854360"/>
            <a:ext cx="304920" cy="15228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1800" y="2540160"/>
            <a:ext cx="304560" cy="15228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93080" y="15573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1400" y="1925640"/>
            <a:ext cx="76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62640" y="2001960"/>
            <a:ext cx="30456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48240" y="20779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5600" y="2154240"/>
            <a:ext cx="76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9840" y="200196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4040" y="184932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24200" y="2349360"/>
            <a:ext cx="4269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34040" y="23828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14920" y="253512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57720" y="1925640"/>
            <a:ext cx="68580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71920" y="1849320"/>
            <a:ext cx="457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486320" y="4287600"/>
            <a:ext cx="2057040" cy="76320"/>
            <a:chOff x="4486320" y="4287600"/>
            <a:chExt cx="2057040" cy="76320"/>
          </a:xfrm>
        </p:grpSpPr>
        <p:sp>
          <p:nvSpPr>
            <p:cNvPr id="185" name=""/>
            <p:cNvSpPr/>
            <p:nvPr/>
          </p:nvSpPr>
          <p:spPr>
            <a:xfrm flipH="1" flipV="1">
              <a:off x="5400360" y="4287600"/>
              <a:ext cx="11430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00720" y="4287960"/>
              <a:ext cx="38088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86320" y="436392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4597560" y="2006640"/>
            <a:ext cx="3045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55600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61440" y="5791320"/>
            <a:ext cx="210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58644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  : 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9960" y="5769000"/>
            <a:ext cx="32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+1  : f*s +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4038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78440" y="1444680"/>
            <a:ext cx="6974640" cy="5019120"/>
            <a:chOff x="1378440" y="1444680"/>
            <a:chExt cx="6974640" cy="5019120"/>
          </a:xfrm>
        </p:grpSpPr>
        <p:sp>
          <p:nvSpPr>
            <p:cNvPr id="195" name=""/>
            <p:cNvSpPr/>
            <p:nvPr/>
          </p:nvSpPr>
          <p:spPr>
            <a:xfrm rot="20329800">
              <a:off x="1692000" y="2491920"/>
              <a:ext cx="6346800" cy="2924280"/>
            </a:xfrm>
            <a:prstGeom prst="rightArrow">
              <a:avLst>
                <a:gd name="adj1" fmla="val 50000"/>
                <a:gd name="adj2" fmla="val 54260"/>
              </a:avLst>
            </a:prstGeom>
            <a:gradFill rotWithShape="0">
              <a:gsLst>
                <a:gs pos="0">
                  <a:srgbClr val="e5ebfe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354400">
              <a:off x="2268360" y="3455640"/>
              <a:ext cx="434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Need for a criter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local to th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independent of the global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B71-AA32-4DCF-9895-0A0E596F55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operation : Engine of Self-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operative attit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erceived signals must be understood without ambiguity (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ceived information is useful for the agent’s reasoning (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soning leads to useful actions towards other agents (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criptive definition of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Non Cooperative Situ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CS)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gent is in a NCS, it acts to reach a cooperati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: exception / cooperation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 - Gauthier PICARD - http://www.irit.fr/SM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681-1546-4A6F-AD0D-4A2802EEE7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/10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card</cp:lastModifiedBy>
  <dcterms:modified xsi:type="dcterms:W3CDTF">2003-11-05T14:51:03Z</dcterms:modified>
  <cp:revision>79</cp:revision>
  <dc:subject/>
  <dc:title>PowerPoint Presentation</dc:title>
</cp:coreProperties>
</file>