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7.jpeg" ContentType="image/jpeg"/>
  <Override PartName="/ppt/media/image20.png" ContentType="image/png"/>
  <Override PartName="/ppt/media/image4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ADA-ED5F-4BBF-84EC-2BC429B5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A03-9734-49E7-9794-B3DB41F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B5B-C2AD-44AD-821F-1CEC44D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568-2978-4B65-AE36-9BC98361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A06-D2B9-4455-BF4D-CB1DF6A2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5777-5460-4D4C-904F-643C30E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979-8C23-44C7-8C2E-F5DE62A9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D99A-5602-44EE-8032-0CE4245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E115-401C-4FCC-946A-03EC33A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3EC-7079-4AE6-B595-4B9CB09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6E9E-3A90-4A0B-8345-BD01F30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77A-AA56-4496-B973-4D5F94DE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B074-202D-48B7-B755-BE38FB5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701E-E70F-4844-91CC-C8C0E36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E36-4578-4A3E-B0AE-80F1A53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B38-F42F-459E-9E06-4FF4EF42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7CE0-404F-417A-921B-1C10A8C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CFD-7C35-47D5-9164-23F7897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EFA-D539-471E-B02C-70D5021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E9E-3A09-44B7-B584-D47A16C6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ECD-5854-411F-8401-57153FF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71F-6AC2-4D73-A30D-73EF15C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4D7-2013-43D9-96F6-AAF3BFF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9C2-BAA5-4244-A2C6-2A1437D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017-8BB9-4A0B-B9A4-EE7261B11D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9F84-5598-4CF8-9DB9-EC7CA0C027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kadlecd@control.felk.cvut.cz" TargetMode="External"/><Relationship Id="rId2" Type="http://schemas.openxmlformats.org/officeDocument/2006/relationships/hyperlink" Target="mailto:kadlecd@control.felk.cvut.cz" TargetMode="External"/><Relationship Id="rId3" Type="http://schemas.openxmlformats.org/officeDocument/2006/relationships/hyperlink" Target="mailto:kadlecd@control.felk.cvut.cz" TargetMode="External"/><Relationship Id="rId4" Type="http://schemas.openxmlformats.org/officeDocument/2006/relationships/hyperlink" Target="mailto:kadlecd@control.felk.cvut.cz" TargetMode="External"/><Relationship Id="rId5" Type="http://schemas.openxmlformats.org/officeDocument/2006/relationships/hyperlink" Target="mailto:kadlecd@control.felk.cvut.cz" TargetMode="External"/><Relationship Id="rId6" Type="http://schemas.openxmlformats.org/officeDocument/2006/relationships/hyperlink" Target="mailto:kadlecd@control.felk.cvut.cz" TargetMode="External"/><Relationship Id="rId7" Type="http://schemas.openxmlformats.org/officeDocument/2006/relationships/hyperlink" Target="mailto:kadlecd@control.felk.cvut.cz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2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94360"/>
            <a:ext cx="9144000" cy="863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16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 Analysis of ALife Systems Using Visualization and AI Techniques</a:t>
            </a:r>
            <a:r>
              <a:rPr b="1" lang="cs-CZ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917880"/>
            <a:ext cx="914400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KADLEČEK, David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ŘEHOŘ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vel NAHODIL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, Pavel Slaví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19840" y="5799240"/>
            <a:ext cx="1424160" cy="105876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6194520"/>
            <a:ext cx="803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zech Technical University in Prague, Faculty of Electrical Engine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int Research of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t. of Cybernetics and Dept. of Computer Scien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6240" y="5353200"/>
            <a:ext cx="30862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080" y="4654440"/>
            <a:ext cx="88390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440" y="365040"/>
            <a:ext cx="4135680" cy="5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 Stud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1" descr=""/>
          <p:cNvPicPr/>
          <p:nvPr/>
        </p:nvPicPr>
        <p:blipFill>
          <a:blip r:embed="rId1"/>
          <a:stretch/>
        </p:blipFill>
        <p:spPr>
          <a:xfrm>
            <a:off x="0" y="2638440"/>
            <a:ext cx="5510160" cy="4219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1440" y="344520"/>
            <a:ext cx="3913200" cy="6399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4508640" y="3504960"/>
            <a:ext cx="457200" cy="50796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40" y="814320"/>
            <a:ext cx="49204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ife Simulator  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ts exploit CZAR internal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y authors - M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CTU in Prague (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920" y="633240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lue Ladybirds World Sim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25600" y="2151000"/>
            <a:ext cx="6976440" cy="4446720"/>
            <a:chOff x="525600" y="2151000"/>
            <a:chExt cx="6976440" cy="4446720"/>
          </a:xfrm>
        </p:grpSpPr>
        <p:sp>
          <p:nvSpPr>
            <p:cNvPr id="149" name=""/>
            <p:cNvSpPr/>
            <p:nvPr/>
          </p:nvSpPr>
          <p:spPr>
            <a:xfrm>
              <a:off x="1530360" y="3962520"/>
              <a:ext cx="4952880" cy="1538280"/>
            </a:xfrm>
            <a:prstGeom prst="roundRect">
              <a:avLst>
                <a:gd name="adj" fmla="val 20000"/>
              </a:avLst>
            </a:prstGeom>
            <a:solidFill>
              <a:srgbClr val="e0e0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7640" y="513720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78600" y="4143240"/>
              <a:ext cx="895320" cy="8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32240" y="4454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tua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92440" y="3006720"/>
              <a:ext cx="9381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9040" y="3112920"/>
              <a:ext cx="44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61560" y="3333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38600" y="5883120"/>
              <a:ext cx="1890720" cy="484200"/>
            </a:xfrm>
            <a:prstGeom prst="rect">
              <a:avLst/>
            </a:prstGeom>
            <a:solidFill>
              <a:srgbClr val="e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48160" y="600552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7720" y="2151000"/>
              <a:ext cx="25034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83000" y="2254320"/>
              <a:ext cx="127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iz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03320" y="4103640"/>
              <a:ext cx="1019160" cy="91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7600" y="4454640"/>
              <a:ext cx="91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ercep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97200" y="4265640"/>
              <a:ext cx="942840" cy="8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6720" y="4205160"/>
              <a:ext cx="944640" cy="8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4800" y="4145040"/>
              <a:ext cx="944640" cy="8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40400" y="4344840"/>
              <a:ext cx="61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59480" y="456552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lock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7000" y="4145040"/>
              <a:ext cx="944640" cy="8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2200" y="4344840"/>
              <a:ext cx="53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1880" y="456552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146400" y="4106520"/>
              <a:ext cx="144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47840" y="4046400"/>
              <a:ext cx="180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49640" y="3985920"/>
              <a:ext cx="144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152880" y="3925800"/>
              <a:ext cx="144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154320" y="3865320"/>
              <a:ext cx="180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156120" y="3807000"/>
              <a:ext cx="144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57560" y="3746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59000" y="36856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101760" y="3998520"/>
              <a:ext cx="4428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46400" y="4002120"/>
              <a:ext cx="5400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7160" y="4560840"/>
              <a:ext cx="54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30440" y="4511520"/>
              <a:ext cx="139680" cy="9864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8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4120" y="4562640"/>
              <a:ext cx="70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92640" y="4511520"/>
              <a:ext cx="139680" cy="1000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88" y="32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86320" y="4560480"/>
              <a:ext cx="58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32440" y="4511520"/>
              <a:ext cx="141480" cy="9864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89" y="31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8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4480" y="4560840"/>
              <a:ext cx="154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7160" y="4510080"/>
              <a:ext cx="141480" cy="1000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89" y="32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4480" y="4560840"/>
              <a:ext cx="1800" cy="15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4480" y="6126120"/>
              <a:ext cx="20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4080" y="6126120"/>
              <a:ext cx="22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34000" y="6075360"/>
              <a:ext cx="141120" cy="1000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0" y="32"/>
                  </a:moveTo>
                  <a:lnTo>
                    <a:pt x="89" y="0"/>
                  </a:lnTo>
                  <a:lnTo>
                    <a:pt x="89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2440" y="4560840"/>
              <a:ext cx="1800" cy="15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78600" y="4560840"/>
              <a:ext cx="12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5440" y="4632480"/>
              <a:ext cx="4842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5800" y="463068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5800" y="482112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21240" y="4641840"/>
              <a:ext cx="6336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2320" y="46404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21600" y="483084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9480" y="4622760"/>
              <a:ext cx="584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560" y="461952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0200" y="480996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6800" y="6210360"/>
              <a:ext cx="2438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3640" y="62085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Performed Actions (Communicativ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12560" y="639936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and non-communicative Acts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600" y="6194520"/>
              <a:ext cx="2168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600" y="619272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M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8040" y="619272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Output (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8040" y="619272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M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61560" y="619272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Feedback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26000" y="451656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31" y="0"/>
                  </a:move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8" y="54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39" y="56"/>
                  </a:lnTo>
                  <a:lnTo>
                    <a:pt x="40" y="56"/>
                  </a:lnTo>
                  <a:lnTo>
                    <a:pt x="41" y="56"/>
                  </a:lnTo>
                  <a:lnTo>
                    <a:pt x="42" y="56"/>
                  </a:lnTo>
                  <a:lnTo>
                    <a:pt x="42" y="55"/>
                  </a:lnTo>
                  <a:lnTo>
                    <a:pt x="44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7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3" y="50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4" y="49"/>
                  </a:lnTo>
                  <a:lnTo>
                    <a:pt x="54" y="4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6" y="47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0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4560" y="4516560"/>
              <a:ext cx="1000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62240" y="2714760"/>
              <a:ext cx="18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12920" y="2614680"/>
              <a:ext cx="9864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31" y="0"/>
                  </a:moveTo>
                  <a:lnTo>
                    <a:pt x="62" y="88"/>
                  </a:lnTo>
                  <a:lnTo>
                    <a:pt x="0" y="8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16520" y="2714760"/>
              <a:ext cx="1440" cy="18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8640" y="2614680"/>
              <a:ext cx="9864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30" y="0"/>
                  </a:moveTo>
                  <a:lnTo>
                    <a:pt x="62" y="88"/>
                  </a:lnTo>
                  <a:lnTo>
                    <a:pt x="0" y="8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90960" y="2714760"/>
              <a:ext cx="180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3440" y="261468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30" y="0"/>
                  </a:moveTo>
                  <a:lnTo>
                    <a:pt x="62" y="88"/>
                  </a:lnTo>
                  <a:lnTo>
                    <a:pt x="0" y="8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90960" y="3639960"/>
              <a:ext cx="68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5320" y="3639960"/>
              <a:ext cx="144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52800" y="4503600"/>
              <a:ext cx="96840" cy="907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31" y="0"/>
                  </a:move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8" y="54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3" y="56"/>
                  </a:lnTo>
                  <a:lnTo>
                    <a:pt x="25" y="56"/>
                  </a:lnTo>
                  <a:lnTo>
                    <a:pt x="26" y="5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39" y="56"/>
                  </a:lnTo>
                  <a:lnTo>
                    <a:pt x="40" y="56"/>
                  </a:lnTo>
                  <a:lnTo>
                    <a:pt x="41" y="56"/>
                  </a:lnTo>
                  <a:lnTo>
                    <a:pt x="42" y="56"/>
                  </a:lnTo>
                  <a:lnTo>
                    <a:pt x="42" y="55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3" y="49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0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4503600"/>
              <a:ext cx="1000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1200" y="317160"/>
            <a:ext cx="872496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ent Architecture Normalization for Analysis Purpos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78360" y="1473120"/>
            <a:ext cx="3187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data for analys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t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t actions and their motiv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6440" y="4521240"/>
            <a:ext cx="84582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igate agent’s internal state model, dependencies 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relations between agent’s state and its behav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ndencies in agent’s behav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arisons among ag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6880" y="3962520"/>
            <a:ext cx="3848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Outcom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5680" y="1587600"/>
            <a:ext cx="80769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agent’s parameters in ti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ent’s action selection mechanis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tual correspondence between agent’s internal state and  action sele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remes and inflection poi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041480"/>
            <a:ext cx="79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Feature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at is visualized?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0647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T Level 1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ingle Agent Analysi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76240"/>
            <a:ext cx="8991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im is analyze a selected agent with high level of granular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get important information about reasons and consequences of its particular behav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know dependencies in agent’s internal archite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5680" y="2717640"/>
            <a:ext cx="83818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ethod of parallel coordina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visualize agent’s internal sta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lor ma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o visualize Action Selec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360" y="1943280"/>
            <a:ext cx="797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Used Combination of Metho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0647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T Level 1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ingle Agent: Metho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91240" y="1859040"/>
            <a:ext cx="2454120" cy="2206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818320" y="36482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3D Me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95920" y="4278240"/>
            <a:ext cx="3287520" cy="257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772160" y="442908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arameters in Relation to 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7501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AT Level 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- Single Agent: Paramet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68160" y="896760"/>
            <a:ext cx="7525080" cy="58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8280" y="368280"/>
            <a:ext cx="77472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AT Level 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– Single Agent: Actio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5" name="ASM" descr=""/>
          <p:cNvPicPr/>
          <p:nvPr/>
        </p:nvPicPr>
        <p:blipFill>
          <a:blip r:embed="rId1"/>
          <a:stretch/>
        </p:blipFill>
        <p:spPr>
          <a:xfrm>
            <a:off x="800280" y="911160"/>
            <a:ext cx="79578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7080" y="3987720"/>
            <a:ext cx="8610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ment-agent, agent-environment and inter-agent influ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-agent correspon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esting time-fra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esting areas, objects, ag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040" y="3835440"/>
            <a:ext cx="797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Outc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480" y="1765440"/>
            <a:ext cx="801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Agents in Ti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vironmental Contex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nsitivity Analysis – Level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uster analysis – Level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0120" y="1231920"/>
            <a:ext cx="797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Fea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9360" y="240840"/>
            <a:ext cx="78105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T Level 2 and 3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ple Agents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lines_of_life" descr=""/>
          <p:cNvPicPr/>
          <p:nvPr/>
        </p:nvPicPr>
        <p:blipFill>
          <a:blip r:embed="rId1"/>
          <a:stretch/>
        </p:blipFill>
        <p:spPr>
          <a:xfrm>
            <a:off x="225360" y="1460520"/>
            <a:ext cx="8737560" cy="5262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sualization of Multiple Agents –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“The lines of Life method”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3080" y="4495680"/>
            <a:ext cx="8508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igate interesting groups of ag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 granular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parameters influence group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verall picture of agent commun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040" y="3759120"/>
            <a:ext cx="797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Arial"/>
              </a:rPr>
              <a:t>Outcom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5680" y="1765440"/>
            <a:ext cx="7950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ent grou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omatic cluster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sensitivity analys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paramet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120" y="1231920"/>
            <a:ext cx="797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Arial"/>
              </a:rPr>
              <a:t>Feat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1960" y="406440"/>
            <a:ext cx="64137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T Level 3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Groups of Ag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193760" y="890640"/>
          <a:ext cx="67438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890640"/>
                    <a:ext cx="67438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145200" y="4184640"/>
          <a:ext cx="2751120" cy="19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184640"/>
                    <a:ext cx="275112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14480" y="3022560"/>
            <a:ext cx="89154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s view on agent community with different granu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priority of parameters using sensitivity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clust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bitrary parameters may be set for clust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ows us to see correspondence of part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meters with the result of grou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8360" y="355320"/>
            <a:ext cx="734076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ustering into Group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000" y="1628640"/>
            <a:ext cx="81849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earch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ization and Analysis o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’ Groups and MAS Character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tration of Visual Analysis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080" y="610920"/>
            <a:ext cx="311148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 Topic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logomrg02" descr=""/>
          <p:cNvPicPr/>
          <p:nvPr/>
        </p:nvPicPr>
        <p:blipFill>
          <a:blip r:embed="rId1"/>
          <a:stretch/>
        </p:blipFill>
        <p:spPr>
          <a:xfrm>
            <a:off x="6927840" y="3279600"/>
            <a:ext cx="133812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5018040"/>
            <a:ext cx="19623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clustering2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0200" y="-360"/>
            <a:ext cx="77216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ustering and Sensitivity Analysis to Analyze Agents Communit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680" y="1606680"/>
            <a:ext cx="8545680" cy="21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isualization and easier analysis of our model of motivated behavio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ual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o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ccessful experi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roved artificial life simulat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88520" y="1106640"/>
            <a:ext cx="4420080" cy="398880"/>
            <a:chOff x="488520" y="1106640"/>
            <a:chExt cx="4420080" cy="398880"/>
          </a:xfrm>
        </p:grpSpPr>
        <p:sp>
          <p:nvSpPr>
            <p:cNvPr id="274" name=""/>
            <p:cNvSpPr/>
            <p:nvPr/>
          </p:nvSpPr>
          <p:spPr>
            <a:xfrm>
              <a:off x="488520" y="11066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Arial"/>
                </a:rPr>
                <a:t>Main resul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8880" y="143208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08440" y="5040360"/>
            <a:ext cx="61441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cus on analysis of social aspects of behav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diction of agent’s behavi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dap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havior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4370400"/>
            <a:ext cx="4422600" cy="398880"/>
            <a:chOff x="533520" y="4370400"/>
            <a:chExt cx="4422600" cy="398880"/>
          </a:xfrm>
        </p:grpSpPr>
        <p:sp>
          <p:nvSpPr>
            <p:cNvPr id="278" name=""/>
            <p:cNvSpPr/>
            <p:nvPr/>
          </p:nvSpPr>
          <p:spPr>
            <a:xfrm>
              <a:off x="533520" y="4370400"/>
              <a:ext cx="198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Arial"/>
                </a:rPr>
                <a:t>Future resear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6400" y="469584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5680" y="420840"/>
            <a:ext cx="770868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 &amp; Future researc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V="1">
            <a:off x="380880" y="438120"/>
            <a:ext cx="841392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943600"/>
            <a:ext cx="9144000" cy="863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920" y="614664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GROUP WEB SITE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:  </a:t>
            </a:r>
            <a:r>
              <a:rPr b="1" lang="en-US" sz="1700" spc="-1" strike="noStrike">
                <a:solidFill>
                  <a:srgbClr val="ff0033"/>
                </a:solidFill>
                <a:latin typeface="Arial"/>
              </a:rPr>
              <a:t>http://cyber.felk.cvut.cz/gerstner/et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89320" y="2560680"/>
            <a:ext cx="57499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t. of Cybernetics, Dept. of Computer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zech Technical University in Pragu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ficial Life –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ior Based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earc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kadlecd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@control.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felk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cvut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c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logomrg02" descr=""/>
          <p:cNvPicPr/>
          <p:nvPr/>
        </p:nvPicPr>
        <p:blipFill>
          <a:blip r:embed="rId8"/>
          <a:stretch/>
        </p:blipFill>
        <p:spPr>
          <a:xfrm>
            <a:off x="357120" y="3532320"/>
            <a:ext cx="1276560" cy="1242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0040" y="1137960"/>
            <a:ext cx="821376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ank you for your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tention…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74000" y="469800"/>
            <a:ext cx="1815840" cy="914040"/>
            <a:chOff x="7074000" y="469800"/>
            <a:chExt cx="1815840" cy="914040"/>
          </a:xfrm>
        </p:grpSpPr>
        <p:grpSp>
          <p:nvGrpSpPr>
            <p:cNvPr id="288" name=""/>
            <p:cNvGrpSpPr/>
            <p:nvPr/>
          </p:nvGrpSpPr>
          <p:grpSpPr>
            <a:xfrm>
              <a:off x="7075800" y="469800"/>
              <a:ext cx="1784520" cy="914040"/>
              <a:chOff x="7075800" y="469800"/>
              <a:chExt cx="1784520" cy="914040"/>
            </a:xfrm>
          </p:grpSpPr>
          <p:sp>
            <p:nvSpPr>
              <p:cNvPr id="289" name=""/>
              <p:cNvSpPr/>
              <p:nvPr/>
            </p:nvSpPr>
            <p:spPr>
              <a:xfrm>
                <a:off x="7075800" y="469800"/>
                <a:ext cx="1784520" cy="914040"/>
              </a:xfrm>
              <a:prstGeom prst="rect">
                <a:avLst/>
              </a:prstGeom>
              <a:solidFill>
                <a:srgbClr val="f7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075800" y="469800"/>
                <a:ext cx="1783800" cy="657360"/>
                <a:chOff x="7075800" y="469800"/>
                <a:chExt cx="1783800" cy="6573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967520" y="469800"/>
                  <a:ext cx="360" cy="360"/>
                </a:xfrm>
                <a:prstGeom prst="rect">
                  <a:avLst/>
                </a:prstGeom>
                <a:solidFill>
                  <a:srgbClr val="f7f2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075800" y="469800"/>
                  <a:ext cx="1783800" cy="657360"/>
                </a:xfrm>
                <a:prstGeom prst="rect">
                  <a:avLst/>
                </a:prstGeom>
                <a:solidFill>
                  <a:srgbClr val="f7f2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GB" sz="25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            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93" name="main-logo-image" descr=""/>
            <p:cNvPicPr/>
            <p:nvPr/>
          </p:nvPicPr>
          <p:blipFill>
            <a:blip r:embed="rId9"/>
            <a:stretch/>
          </p:blipFill>
          <p:spPr>
            <a:xfrm>
              <a:off x="7074000" y="469800"/>
              <a:ext cx="181584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330120" y="4886280"/>
            <a:ext cx="1819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Autonomous Agen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77880"/>
          <a:ext cx="541008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77880"/>
                    <a:ext cx="541008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2280" y="3733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en applied to software entities,  agents are modules which exhibit the characteristics firstly described in [Wooldridge et al, 1995]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419720"/>
            <a:ext cx="2743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ak Notion of Ag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utono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esponsiv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activ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ocial 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42764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ife 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+ Adap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447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he term “agents” can be used to describe several very different kinds of systems (biological systems,  technological artifacts etc) [Nwana, 1996]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314280"/>
            <a:ext cx="47750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earch Backgroun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1120" y="1338120"/>
            <a:ext cx="900288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elligen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tonomou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t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hin 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f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m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gents can be represented both by software agents and real robo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gents act in very complex, dynamic and unpredictabl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&gt; Agents have high level of autonomity and adapta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brid (behaviour and knowledge) based approach to design of individual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gent behavior can be assessed only according to its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avouk" descr=""/>
          <p:cNvPicPr/>
          <p:nvPr/>
        </p:nvPicPr>
        <p:blipFill>
          <a:blip r:embed="rId1"/>
          <a:srcRect l="24608" t="0" r="3076" b="0"/>
          <a:stretch/>
        </p:blipFill>
        <p:spPr>
          <a:xfrm>
            <a:off x="7340760" y="254160"/>
            <a:ext cx="1585800" cy="1398600"/>
          </a:xfrm>
          <a:prstGeom prst="rect">
            <a:avLst/>
          </a:prstGeom>
          <a:ln w="0">
            <a:noFill/>
          </a:ln>
        </p:spPr>
      </p:pic>
      <p:pic>
        <p:nvPicPr>
          <p:cNvPr id="110" name="56117" descr="Marvin"/>
          <p:cNvPicPr/>
          <p:nvPr/>
        </p:nvPicPr>
        <p:blipFill>
          <a:blip r:embed="rId2"/>
          <a:stretch/>
        </p:blipFill>
        <p:spPr>
          <a:xfrm>
            <a:off x="534960" y="4011480"/>
            <a:ext cx="2563920" cy="1576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1600" y="5645160"/>
            <a:ext cx="28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ff"/>
                </a:solidFill>
                <a:latin typeface="Arial"/>
              </a:rPr>
              <a:t>Six-legs</a:t>
            </a:r>
            <a:r>
              <a:rPr b="0" lang="cs-CZ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ffff"/>
                </a:solidFill>
                <a:latin typeface="Arial"/>
              </a:rPr>
              <a:t>Autonomous Mobile Robot - CTU Prague 199</a:t>
            </a:r>
            <a:r>
              <a:rPr b="0" lang="cs-CZ" sz="16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29360" y="3992400"/>
            <a:ext cx="3743280" cy="263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27480" y="4414680"/>
            <a:ext cx="215892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ffff"/>
                </a:solidFill>
                <a:latin typeface="Arial"/>
              </a:rPr>
              <a:t>Social behaviour model / real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ffff"/>
                </a:solidFill>
                <a:latin typeface="Arial"/>
              </a:rPr>
              <a:t>Behaviour patte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ffff"/>
                </a:solidFill>
                <a:latin typeface="Arial"/>
              </a:rPr>
              <a:t>Global goal planning mechanis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44640" y="12654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Life-as-we-know-i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2600" y="3962520"/>
            <a:ext cx="180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ife-as-it-could-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7760" y="568080"/>
            <a:ext cx="8542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alysis Challeng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3008160"/>
            <a:ext cx="896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ents becoming more complex with many dynamic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lti-agent system consists of many objects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ents usually have diverse, not ve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chite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y possible deployment domains (different actuators and sensors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ment 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ecoming more complex and time var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000" y="2428920"/>
            <a:ext cx="884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S are becoming complex and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hereby harder to assess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7840" y="1054080"/>
            <a:ext cx="878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60" indent="-5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mless integration of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ual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ls -VATs on various levels of analysis det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3720" y="4419720"/>
            <a:ext cx="5245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un 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cord over selected time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ort data to V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ize and analyze this da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mulate results or adjust MAS configu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1812960"/>
          <a:ext cx="546264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2960"/>
                    <a:ext cx="5462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480" y="304920"/>
            <a:ext cx="87501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r Approach to MAS Analysis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90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80" y="1511280"/>
            <a:ext cx="897876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ct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Selection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chanism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lects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7fd03"/>
                </a:solidFill>
                <a:latin typeface="Arial"/>
                <a:ea typeface="Times New Roman"/>
              </a:rPr>
              <a:t>“</a:t>
            </a:r>
            <a:r>
              <a:rPr b="0" i="1" lang="en-US" sz="2200" spc="-1" strike="noStrike">
                <a:solidFill>
                  <a:srgbClr val="f7fd03"/>
                </a:solidFill>
                <a:latin typeface="Arial"/>
                <a:ea typeface="Times New Roman"/>
              </a:rPr>
              <a:t>the </a:t>
            </a:r>
            <a:r>
              <a:rPr b="0" i="1" lang="cs-CZ" sz="2200" spc="-1" strike="noStrike">
                <a:solidFill>
                  <a:srgbClr val="f7fd0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7fd03"/>
                </a:solidFill>
                <a:latin typeface="Arial"/>
                <a:ea typeface="Times New Roman"/>
              </a:rPr>
              <a:t>best </a:t>
            </a:r>
            <a:r>
              <a:rPr b="0" i="1" lang="cs-CZ" sz="2200" spc="-1" strike="noStrike">
                <a:solidFill>
                  <a:srgbClr val="f7fd0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7fd03"/>
                </a:solidFill>
                <a:latin typeface="Arial"/>
                <a:ea typeface="Times New Roman"/>
              </a:rPr>
              <a:t>action</a:t>
            </a:r>
            <a:r>
              <a:rPr b="0" i="1" lang="en-US" sz="2200" spc="-1" strike="noStrike">
                <a:solidFill>
                  <a:srgbClr val="f7fd03"/>
                </a:solidFill>
                <a:latin typeface="Arial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ccording to given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ituation,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pectations and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lief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uestion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to do next so as to further the progress towards agent’s multiple time-varying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w to deal with contingencies or opportunities that may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i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w to arbitrate among conflicting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w to deal with noisy sensors and actuato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w to react in a timely fashion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20" y="409320"/>
            <a:ext cx="781056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tion Selection Mechanis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- AS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380880" y="438120"/>
            <a:ext cx="7775640" cy="64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03760"/>
            <a:ext cx="892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xampl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tate variabl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used during simulation </a:t>
            </a:r>
            <a:r>
              <a:rPr b="0" i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ormones, chemicals  and   driv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, Energy, Water, Cyanide, Progesterone, Histamine, Alcohol, Fear toxin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ed, Cure, Antihistamine, Immunity level, Anabolic steroid, Endorphin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, Life, Injury, Stress, Pain, Hunger, Coldness, Hotness, Tiredness, Sleepiness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eliness, Crowdedness, Fear, Boredom, Anger,</a:t>
            </a:r>
            <a:r>
              <a:rPr b="0" i="1" lang="cs-CZ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 drive, Reward </a:t>
            </a:r>
            <a:r>
              <a:rPr b="0" i="1" lang="cs-CZ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ishment    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720" y="441360"/>
            <a:ext cx="874728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nal States in our ALife Simula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404120" y="647640"/>
          <a:ext cx="1397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04120" y="647640"/>
                    <a:ext cx="1397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00160" y="1955880"/>
            <a:ext cx="872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Analogy to vegetative system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of real biological system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 tries to achieve equilibrium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f its hormones and driv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5:26:43Z</dcterms:created>
  <dc:creator>MRG+CGG</dc:creator>
  <dc:description/>
  <dc:language>en-US</dc:language>
  <cp:lastModifiedBy>dave</cp:lastModifiedBy>
  <dcterms:modified xsi:type="dcterms:W3CDTF">2004-02-12T18:12:39Z</dcterms:modified>
  <cp:revision>387</cp:revision>
  <dc:subject/>
  <dc:title>Vizualization of MAS</dc:title>
</cp:coreProperties>
</file>