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F091-6027-4FF0-8C0B-55DE8310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190A-7A29-414B-B174-24351C18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D467-675A-4C80-8605-A6BFAF28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1EC-94EF-49EB-8AEE-61AD45FD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57FC-8B13-44E7-A868-AEB8FCED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07AA-7C34-4638-9A07-3E0A4900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A2FD-3BB8-40F0-911E-168E3A8E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71CD-ECF3-41C2-9838-069A0EA7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2151-BA25-4E63-B4BA-82A9D23A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16F9-092A-4BDD-8581-C461BD73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B90C-9331-44A4-9383-1CDDBC4D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2725-DB2F-44C6-8172-2ADE2874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0B19-7912-4125-BC4D-97DCF45E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78D4-82B2-4374-A8DD-5B8BBF88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D547-4B41-424D-89C0-C1E3AA25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79AF-F1B2-478C-A4B1-B9866A74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A4C6-F474-40B5-8EF6-36635DF7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9C87-13B3-4ED1-8A49-E36ECFE1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4D35-E1DC-4019-879D-3F7A6D3C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7068-833E-4BD3-AFBF-4C82E2DB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4184-10FE-400D-ABF1-CAF29C46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8CB8-3F46-4970-828B-09E28695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56C1-7413-4B2C-A295-47F94C49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CA56-6599-43A3-A061-1376A470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F990-5764-4379-BE13-3E6EFA338A6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DCFD-3D42-4DA1-93D8-6B5C0E8B627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920" y="1531800"/>
            <a:ext cx="78487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Towards a Methodological Framework for Holonic Multi-Agent System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42560" y="3715920"/>
            <a:ext cx="7489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Sebastian Rodrigue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Vincent Hilaire and Abderrafiâa Kouk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lti-Agent Systems Laborato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iversité de Technologie de Belfort-Montbélia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9th October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2827800" y="543888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AW’03 - Imperial College - Lon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71640" y="5300640"/>
            <a:ext cx="1676160" cy="69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020000" y="5300640"/>
            <a:ext cx="107928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lon structure: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ffin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ision criteria for choosing with which holon to mer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 dependent defin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lon structure: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ynamic Role play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66680" y="2670120"/>
            <a:ext cx="75438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eshing Exampl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te mobile cellular radio mesh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ect geometrical constraints (squar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ect the maximal coverage of a Base Transceiver Station (B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ailable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ource ma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eshing Exampl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pting the Holonic Fra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tisfaction (BTS Covera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S: Maximal BTS Cover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S: Holon’s resour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: Mesh Covered Resour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fi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tance affinity (geometrical constrai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ource affinity (BTS Coverag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source represent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square represents a resour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holon per resour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54720" y="1989000"/>
            <a:ext cx="25239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eshing Example </a:t>
            </a:r>
            <a:br>
              <a:rPr sz="44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sult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70 ag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1 mesh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od average BTS Co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915080" y="2060640"/>
            <a:ext cx="3978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clusion and Future wor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d upon organizational mod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pplication depen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ture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al model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rther merge protocol specif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idation with other appl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1531800"/>
            <a:ext cx="78487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Towards a Methodological Framework for Holonic Multi-Agent System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042560" y="3715920"/>
            <a:ext cx="7489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Sebastian Rodrigue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Vincent Hilaire and Abderrafiâa Kouk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lti-Agent Systems Laborato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iversité de Technologie de Belfort-Montbélia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9th October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2827800" y="543888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AW’03 - Imperial College - Lon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71640" y="5300640"/>
            <a:ext cx="1676160" cy="695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020000" y="5300640"/>
            <a:ext cx="107928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la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ex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i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lonic Fra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shing Exam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roduction:</a:t>
            </a:r>
            <a:br>
              <a:rPr sz="44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ontex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lonic MAS (HMA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lon: natural or artificial structure that is neither whole nor part in absolute sense (Kostler, 1967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main specific Framework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ufacturing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SA (Wyns, 199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aMorph (Maturana, 199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operative Wor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HTCO (Adam, 200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roduction:</a:t>
            </a:r>
            <a:br>
              <a:rPr sz="44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Aim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pose a generic framework to design HM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aborate some guidelines for the analysis and design of H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lonic Framewor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ed upon organizational concepts (RIO, Hilaire 200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lon seen as a moderated group (Gerber, 199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IO Meta-Mode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o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bstraction of a behavior that can interact with other ro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r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ganiz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defined by a set of roles, their interactions and common context defined by a set of environmental ro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915080" y="2062080"/>
            <a:ext cx="4049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MAS Structur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erarchical stru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rated groups as introduced by Gerber et al. (199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15080" y="2060640"/>
            <a:ext cx="3695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lonic Framewor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posed ro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nd-Al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g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-P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lon structure: satisfa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tisfaction: enables the holon to move from one role to another according his go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cessary Satisfaction (N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nt satisfaction (I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lf Satisfaction (S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umulative Satisfaction (A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08:18:55Z</dcterms:created>
  <dc:creator>Sebastian Rodriguez</dc:creator>
  <dc:description/>
  <dc:language>en-US</dc:language>
  <cp:lastModifiedBy>Sebastian Rodriguez</cp:lastModifiedBy>
  <dcterms:modified xsi:type="dcterms:W3CDTF">2003-10-24T14:41:39Z</dcterms:modified>
  <cp:revision>38</cp:revision>
  <dc:subject/>
  <dc:title>Towards a Methodological </dc:title>
</cp:coreProperties>
</file>