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3E7-A053-4558-AAD7-7A2196CE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573-1B43-4FDA-AD9F-ABAEA4D1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FCB-A6B9-4549-952B-A5273440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810-FF99-416E-B234-E5AC2D02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A80-2171-4810-8FDA-59B1AD21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146-9BFC-402E-9802-8B9AEC19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912-0E50-48AF-9246-8146AA3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1F5-524C-4D86-B47B-34587D2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1FB-3CE4-437B-B75C-E4204E8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A3B-E7A7-434F-BD81-CD6BACF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5EB-7F40-440C-95DA-313B405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0B4-2645-4C38-8791-15270C3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927E-51FD-4C45-AE2A-79B97F3B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4572000" cy="337320"/>
          </a:xfrm>
          <a:prstGeom prst="rect">
            <a:avLst/>
          </a:prstGeom>
          <a:solidFill>
            <a:srgbClr val="990033"/>
          </a:solidFill>
          <a:ln w="324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skerville Old Face"/>
              </a:rPr>
              <a:t>UNIVERSITY OF SOUTH CAROL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48320" y="6400800"/>
            <a:ext cx="4343400" cy="520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Old Face"/>
              </a:rPr>
              <a:t>College of Engineering &amp; Inform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219320"/>
            <a:ext cx="0" cy="50292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304920"/>
            <a:ext cx="7848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304920"/>
            <a:ext cx="0" cy="609588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0" y="0"/>
          <a:ext cx="10666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ning With Agents: An Efficient Approach Using Hierarchic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namic Decisio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Socie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Agents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iam H. Turkett, Jr. and John R. R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turkett, rose]@cse.sc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Computer Science and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ty of South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miting Horiz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rther agent looks ahe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knowledge about true value of taking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roxim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imate the true value function with FOMDP solution and look ahead small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observations agent takes into accou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knowledge of uncertainty agent will face in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 only one observation when 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2767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nimizing Observation 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d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D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DP (Cassandr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 flat POMDP sol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POMDP (Pineau and Th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hierarchical structure of smaller POMDPs, and solve each one with an exact sol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DD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rs runtime planning costs instead of using pre-execution policy generation and tabl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DP/HPOMDP may not incur run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tests demonstrate that our approximate solutions are as good as HPOMDP, and a fair approximation of POMDP optim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ng into Soci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295280"/>
          <a:ext cx="8077320" cy="441504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2514600"/>
                <a:gridCol w="2514600"/>
              </a:tblGrid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tract P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red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D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structure generated during planning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e DDNs to hierarchical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es of low level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 easy 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 at run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y observable M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es 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POM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s extra selection and prediction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e POMDPs to hierarchical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knowledge of low level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enerate 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DP poli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bstrac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bstrac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enerate 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DP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Par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 Policy (POMD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POMDP/HDDN Poli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920" y="2743200"/>
            <a:ext cx="106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7160" y="2514600"/>
            <a:ext cx="944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8240" y="312408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0560" y="3124080"/>
            <a:ext cx="72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63760" y="2743200"/>
            <a:ext cx="1279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3760" y="3006720"/>
            <a:ext cx="127944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4640" y="3124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30600" y="2438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920" y="5105520"/>
            <a:ext cx="106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7160" y="4876920"/>
            <a:ext cx="944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8240" y="548640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4440" y="5486400"/>
            <a:ext cx="72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63760" y="5105520"/>
            <a:ext cx="1279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63760" y="5369040"/>
            <a:ext cx="127944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8680" y="5486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00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6160" y="548640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6960" y="1674720"/>
          <a:ext cx="3629160" cy="33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1674720"/>
                    <a:ext cx="362916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Cheese Tax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Large Cheese Tax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267080" cy="204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97320" y="1676520"/>
            <a:ext cx="3540240" cy="4495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5480" y="449568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3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00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146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Cheese Tax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25600" y="1592280"/>
          <a:ext cx="412272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592280"/>
                    <a:ext cx="412272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29320" y="1592280"/>
          <a:ext cx="4055760" cy="39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1592280"/>
                    <a:ext cx="405576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rge Cheese Tax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481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47920" y="2057400"/>
          <a:ext cx="6446880" cy="35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44688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514600" y="571500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 Solu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48120" y="42670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19720" y="426708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Twenty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5600" y="1757520"/>
          <a:ext cx="3908160" cy="39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757520"/>
                    <a:ext cx="390816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65520" y="1790640"/>
          <a:ext cx="4270680" cy="397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5520" y="1790640"/>
                    <a:ext cx="427068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quality local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for runtime POMDP planning using  Hierarchical Dynamic Decis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efficient and high-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local planning to facilitate global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directly share abstracted plan datastructure generated by HD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easily integrate in shared knowledge of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y fit common hierarchical organizatio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ly complex domains for intelli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number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goals that require good long-term strategies to ach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d partially observabl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too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agent systems using efficient, high-quality, and realis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Slides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wards Social Plann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ing social laws and philosophies into planning (through utility valu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local decisions affect the society as a w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distributed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into account joint actions/joint rewards in the D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Decisi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43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04812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4192200" y="1676520"/>
            <a:ext cx="1915200" cy="1397160"/>
            <a:chOff x="4192200" y="1676520"/>
            <a:chExt cx="1915200" cy="1397160"/>
          </a:xfrm>
        </p:grpSpPr>
        <p:sp>
          <p:nvSpPr>
            <p:cNvPr id="194" name=""/>
            <p:cNvSpPr/>
            <p:nvPr/>
          </p:nvSpPr>
          <p:spPr>
            <a:xfrm>
              <a:off x="4648320" y="201960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105520" y="20955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2160" y="16765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0120" y="21718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2200" y="21718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2705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2670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s) = -0.4, D 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432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4440" y="5776920"/>
            <a:ext cx="18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ussell and Norv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160" y="449568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MDP – observe just w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, Right, Neither, Bot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,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" y="2285640"/>
            <a:ext cx="685800" cy="2057760"/>
            <a:chOff x="457200" y="2285640"/>
            <a:chExt cx="685800" cy="2057760"/>
          </a:xfrm>
        </p:grpSpPr>
        <p:sp>
          <p:nvSpPr>
            <p:cNvPr id="205" name=""/>
            <p:cNvSpPr/>
            <p:nvPr/>
          </p:nvSpPr>
          <p:spPr>
            <a:xfrm flipV="1">
              <a:off x="609480" y="342900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57200" y="22856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689880" y="1717560"/>
            <a:ext cx="119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3720" y="38512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DP: &lt;S,A,T,R,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07200" y="3809880"/>
            <a:ext cx="3288960" cy="2448000"/>
            <a:chOff x="5407200" y="3809880"/>
            <a:chExt cx="3288960" cy="24480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5410080" y="4267080"/>
              <a:ext cx="328608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407200" y="3809880"/>
              <a:ext cx="32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lution: Optimal Poli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P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ll possibl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ll possibl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ll possible transitions on thos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ll possible observations on those actions (POM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for multiple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MDP: Poly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DP: Exponential in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psing state/action space through hierarchical abstr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ing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ing observation 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how well will our agent perform? How close is our approximate solution to the optimal polic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omai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bstract action that represents the part being both painted and shi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state and observation distrib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put model,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 is taken, enter new part state, so define transi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ransition to the new part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bservation seen that corresponds to the new part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omai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/Cost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e subproblem as a FOMDP (Polynomial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pure query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fully-observable policy and value function for the Process abstract action each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policy dia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itial state moves to Process final state (painted and shipped), use MDP value function for that state as the est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itial state never moves to Process final state use large overestimate costs as estima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thing blemished would never be shipped under the optimal Process MDP policy so the agent should never choose this action when blemis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HDD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each DDN is related to size of largest table required in variable elimin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table for exact solution: ~O(|A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|O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node for each time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node for each time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DDN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approach reduces |A| in each network through abstraction, uses just |O| due to myopic assumption, and uses small values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Task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aying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plans are often subject to change as the world changes and the agent gathers mo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true for detailed plans, somewhat less true for high leve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waste time now developing plans that are likel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approa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ind a complete method of implementing the first scheduled action from each D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steps further away are planned at proportionally shallower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sion of Soci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planning for locally decomposed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agent interaction to achieve global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global interaction by taking advantage of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about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from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640" y="495288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Focu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lity local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ing local planning to facilitate glob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in Agent Socie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 decisions to appropriat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leve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level view of th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detailed knowledge for determining how to implement tasks they are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independ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DDN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DDN for each abstract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hierarchy of DDNs, start with most abstrac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ptimal sequence of actions given current beliefs for abstract 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irst selected action is abstract, select DDN corresponding to that action and generate optimal sequence of actions for 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irst selected action is primitive, execute that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DDN Planning: Taxi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057400"/>
            <a:ext cx="7620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2971800"/>
            <a:ext cx="7696440" cy="457200"/>
            <a:chOff x="838080" y="2971800"/>
            <a:chExt cx="7696440" cy="457200"/>
          </a:xfrm>
        </p:grpSpPr>
        <p:sp>
          <p:nvSpPr>
            <p:cNvPr id="233" name=""/>
            <p:cNvSpPr/>
            <p:nvPr/>
          </p:nvSpPr>
          <p:spPr>
            <a:xfrm>
              <a:off x="838080" y="2971800"/>
              <a:ext cx="3200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400" y="2971800"/>
              <a:ext cx="4191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3886200"/>
            <a:ext cx="3124080" cy="457200"/>
            <a:chOff x="914400" y="3886200"/>
            <a:chExt cx="3124080" cy="457200"/>
          </a:xfrm>
        </p:grpSpPr>
        <p:sp>
          <p:nvSpPr>
            <p:cNvPr id="236" name=""/>
            <p:cNvSpPr/>
            <p:nvPr/>
          </p:nvSpPr>
          <p:spPr>
            <a:xfrm>
              <a:off x="914400" y="388620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vi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24080" y="388620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c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343400" y="3886200"/>
            <a:ext cx="4191120" cy="457200"/>
            <a:chOff x="4343400" y="3886200"/>
            <a:chExt cx="4191120" cy="457200"/>
          </a:xfrm>
        </p:grpSpPr>
        <p:sp>
          <p:nvSpPr>
            <p:cNvPr id="239" name=""/>
            <p:cNvSpPr/>
            <p:nvPr/>
          </p:nvSpPr>
          <p:spPr>
            <a:xfrm>
              <a:off x="4343400" y="3886200"/>
              <a:ext cx="2971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vi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520" y="3886200"/>
              <a:ext cx="1143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t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914400" y="4648320"/>
            <a:ext cx="2057400" cy="457200"/>
            <a:chOff x="914400" y="4648320"/>
            <a:chExt cx="2057400" cy="457200"/>
          </a:xfrm>
        </p:grpSpPr>
        <p:sp>
          <p:nvSpPr>
            <p:cNvPr id="242" name=""/>
            <p:cNvSpPr/>
            <p:nvPr/>
          </p:nvSpPr>
          <p:spPr>
            <a:xfrm>
              <a:off x="914400" y="46483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46483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343400" y="4648320"/>
            <a:ext cx="2895480" cy="457200"/>
            <a:chOff x="4343400" y="4648320"/>
            <a:chExt cx="2895480" cy="457200"/>
          </a:xfrm>
        </p:grpSpPr>
        <p:sp>
          <p:nvSpPr>
            <p:cNvPr id="245" name=""/>
            <p:cNvSpPr/>
            <p:nvPr/>
          </p:nvSpPr>
          <p:spPr>
            <a:xfrm>
              <a:off x="4343400" y="46483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u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4480" y="46483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46483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u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omai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91560" y="1752480"/>
            <a:ext cx="3119760" cy="2593080"/>
            <a:chOff x="691560" y="1752480"/>
            <a:chExt cx="3119760" cy="2593080"/>
          </a:xfrm>
        </p:grpSpPr>
        <p:sp>
          <p:nvSpPr>
            <p:cNvPr id="250" name=""/>
            <p:cNvSpPr/>
            <p:nvPr/>
          </p:nvSpPr>
          <p:spPr>
            <a:xfrm>
              <a:off x="691560" y="2209680"/>
              <a:ext cx="842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8960" y="3885840"/>
              <a:ext cx="723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8240" y="3124080"/>
              <a:ext cx="842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7160" y="2438280"/>
              <a:ext cx="944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48240" y="1752480"/>
              <a:ext cx="10630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n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23880" y="198072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251424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3880" y="259056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3880" y="259056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962520" y="3276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6200" y="243828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7280" y="5181480"/>
            <a:ext cx="72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96360" y="518148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71440" y="3124080"/>
            <a:ext cx="944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72520" y="1981080"/>
            <a:ext cx="106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248520" y="22096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743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8195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82880" y="40384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400800" y="44956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495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6480" y="38862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4200" y="57913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9960" y="4648320"/>
            <a:ext cx="35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defin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omai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model: Effects are desired results of abstract action comple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tion model: Observation seen for the desired completion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ards/costs: FOMDP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7680" y="316548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in Agent Socie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Abstract Pl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DP, HPOMDP – Impossible (POMDP) or requires extra step (HPOMDP) to generate abstractions from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DN – Abstracted plan datastructure is always available and what the agent is designed to work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Shared Knowledge of Enviro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DP, HPOM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policies before execution, environmental dynamics change requires regenerating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time planning, changes to environmental dynamics can be easily absorbed into D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computing MDP estimates is relatively inexpensive compared to regenerating exact POMDP poli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: Part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FL-!BL-!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FL-!BL-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-!BL-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-BL-!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, Reject, Paint, 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wards/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for {(Reject, FL-BL-!PA), (Ship, !FL-!BL-PA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for Reject or Ship in any other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for Inspect or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48720" y="5222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Twenty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intens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ato, Apple, Banana, Mushroom, Potato, Carrot, Monkey, Rabbit, Robin, Marble, Ruby, C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ssState for each state, AskAnimal, AskVegetable, AskMineral, AskFruit, AskWhite, AskBrown, AskRed, Ask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wards/Co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for each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20 for an incorrect 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5 for a correct 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askVegetable, subtaskAnimal, subtaskMineral, subtaskFruit, subtaskRealVege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3733920"/>
            <a:ext cx="43434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ertain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Correct 85%, Incorrect 10%, Nois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sider can change object with 11%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omains: Cheese Tax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267080" cy="2044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05520" y="1219320"/>
            <a:ext cx="36874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Lo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3 Dest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,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,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wards/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every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0 incorrect pickup or p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20 correct p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, Put, Navi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1880" y="3657600"/>
            <a:ext cx="4457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 has to pick up pa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10, deliver to S0 or S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location (observe wall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passenger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nger can switch destination in S2,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ating Global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should be able to take advantage of knowledge of what other agents are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enabling/hindering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suggests sharing abstracted pl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 resolution, High level commi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should be able to respond to shared knowledge of environmental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ioritize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success and failur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 organizational structure in distributing plann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Loc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ov Decision Processes (MDP) – Most realistic means of posing the planning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ac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observability (POM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ze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Policy defining what action to take in a given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observable: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observable: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-time plan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ynamic decision networks to represent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dvantage of hierarchical abstra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pproximations for lookahead depth and in  observability assumptions to reduc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POMDPs as D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81120" y="2057400"/>
            <a:ext cx="1098000" cy="368280"/>
            <a:chOff x="5181120" y="2057400"/>
            <a:chExt cx="1098000" cy="368280"/>
          </a:xfrm>
        </p:grpSpPr>
        <p:sp>
          <p:nvSpPr>
            <p:cNvPr id="64" name=""/>
            <p:cNvSpPr/>
            <p:nvPr/>
          </p:nvSpPr>
          <p:spPr>
            <a:xfrm>
              <a:off x="5411160" y="20574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181120" y="2210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91080" y="2742840"/>
            <a:ext cx="1269000" cy="1892520"/>
            <a:chOff x="991080" y="2742840"/>
            <a:chExt cx="1269000" cy="1892520"/>
          </a:xfrm>
        </p:grpSpPr>
        <p:sp>
          <p:nvSpPr>
            <p:cNvPr id="67" name=""/>
            <p:cNvSpPr/>
            <p:nvPr/>
          </p:nvSpPr>
          <p:spPr>
            <a:xfrm>
              <a:off x="991080" y="426708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orld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218960" y="2742840"/>
              <a:ext cx="1519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906200" y="5105160"/>
            <a:ext cx="1946880" cy="635400"/>
            <a:chOff x="1906200" y="5105160"/>
            <a:chExt cx="1946880" cy="635400"/>
          </a:xfrm>
        </p:grpSpPr>
        <p:sp>
          <p:nvSpPr>
            <p:cNvPr id="70" name=""/>
            <p:cNvSpPr/>
            <p:nvPr/>
          </p:nvSpPr>
          <p:spPr>
            <a:xfrm>
              <a:off x="1906200" y="537228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sts and Rew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140280" y="51051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11880" y="4572000"/>
            <a:ext cx="1400040" cy="1081440"/>
            <a:chOff x="5411880" y="4572000"/>
            <a:chExt cx="1400040" cy="1081440"/>
          </a:xfrm>
        </p:grpSpPr>
        <p:sp>
          <p:nvSpPr>
            <p:cNvPr id="73" name=""/>
            <p:cNvSpPr/>
            <p:nvPr/>
          </p:nvSpPr>
          <p:spPr>
            <a:xfrm flipV="1">
              <a:off x="5791320" y="457200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528516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DDN Hierarchy: Taxi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90720" y="1676520"/>
            <a:ext cx="6095880" cy="2514600"/>
            <a:chOff x="990720" y="1676520"/>
            <a:chExt cx="6095880" cy="2514600"/>
          </a:xfrm>
        </p:grpSpPr>
        <p:sp>
          <p:nvSpPr>
            <p:cNvPr id="77" name=""/>
            <p:cNvSpPr/>
            <p:nvPr/>
          </p:nvSpPr>
          <p:spPr>
            <a:xfrm flipV="1">
              <a:off x="1905120" y="23623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90720" y="274320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2133720"/>
              <a:ext cx="10670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3353040"/>
              <a:ext cx="10670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167652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c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14800" y="3657600"/>
              <a:ext cx="12952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t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667240"/>
              <a:ext cx="1219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vi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167652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236232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u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04812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5120" y="297180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251460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352680" y="3048120"/>
              <a:ext cx="838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358164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429000" y="198108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1981440"/>
              <a:ext cx="685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334120" y="259056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289584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2895840"/>
              <a:ext cx="7617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14400" y="1981080"/>
            <a:ext cx="4495680" cy="1981440"/>
            <a:chOff x="914400" y="1981080"/>
            <a:chExt cx="4495680" cy="1981440"/>
          </a:xfrm>
        </p:grpSpPr>
        <p:grpSp>
          <p:nvGrpSpPr>
            <p:cNvPr id="98" name=""/>
            <p:cNvGrpSpPr/>
            <p:nvPr/>
          </p:nvGrpSpPr>
          <p:grpSpPr>
            <a:xfrm>
              <a:off x="914400" y="1981080"/>
              <a:ext cx="2743200" cy="1981440"/>
              <a:chOff x="914400" y="1981080"/>
              <a:chExt cx="2743200" cy="1981440"/>
            </a:xfrm>
          </p:grpSpPr>
          <p:sp>
            <p:nvSpPr>
              <p:cNvPr id="99" name=""/>
              <p:cNvSpPr/>
              <p:nvPr/>
            </p:nvSpPr>
            <p:spPr>
              <a:xfrm>
                <a:off x="2362320" y="1981080"/>
                <a:ext cx="129528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14400" y="2590920"/>
                <a:ext cx="1295280" cy="76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3200400"/>
                <a:ext cx="129528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038480" y="2514600"/>
              <a:ext cx="1371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143000" y="4724280"/>
            <a:ext cx="167652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xi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4724280"/>
            <a:ext cx="167652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800600"/>
            <a:ext cx="16002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9072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812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552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57400" y="2666880"/>
            <a:ext cx="3962520" cy="2590920"/>
            <a:chOff x="2057400" y="2666880"/>
            <a:chExt cx="3962520" cy="2590920"/>
          </a:xfrm>
        </p:grpSpPr>
        <p:sp>
          <p:nvSpPr>
            <p:cNvPr id="110" name=""/>
            <p:cNvSpPr/>
            <p:nvPr/>
          </p:nvSpPr>
          <p:spPr>
            <a:xfrm flipH="1">
              <a:off x="2057400" y="2666880"/>
              <a:ext cx="5335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2666880"/>
              <a:ext cx="342900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DDN Planning: Taxi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209680"/>
            <a:ext cx="7619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3124080"/>
            <a:ext cx="7695720" cy="457200"/>
            <a:chOff x="762120" y="3124080"/>
            <a:chExt cx="7695720" cy="457200"/>
          </a:xfrm>
        </p:grpSpPr>
        <p:sp>
          <p:nvSpPr>
            <p:cNvPr id="115" name=""/>
            <p:cNvSpPr/>
            <p:nvPr/>
          </p:nvSpPr>
          <p:spPr>
            <a:xfrm>
              <a:off x="762120" y="3124080"/>
              <a:ext cx="32000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3124080"/>
              <a:ext cx="4190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38080" y="4038480"/>
            <a:ext cx="3124080" cy="457200"/>
            <a:chOff x="838080" y="4038480"/>
            <a:chExt cx="3124080" cy="457200"/>
          </a:xfrm>
        </p:grpSpPr>
        <p:sp>
          <p:nvSpPr>
            <p:cNvPr id="118" name=""/>
            <p:cNvSpPr/>
            <p:nvPr/>
          </p:nvSpPr>
          <p:spPr>
            <a:xfrm>
              <a:off x="838080" y="40384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vi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7760" y="40384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c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38080" y="4800600"/>
            <a:ext cx="2057400" cy="457200"/>
            <a:chOff x="838080" y="4800600"/>
            <a:chExt cx="2057400" cy="457200"/>
          </a:xfrm>
        </p:grpSpPr>
        <p:sp>
          <p:nvSpPr>
            <p:cNvPr id="121" name=""/>
            <p:cNvSpPr/>
            <p:nvPr/>
          </p:nvSpPr>
          <p:spPr>
            <a:xfrm>
              <a:off x="838080" y="480060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480060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5280" y="5257800"/>
            <a:ext cx="5754240" cy="882000"/>
            <a:chOff x="1295280" y="5257800"/>
            <a:chExt cx="5754240" cy="882000"/>
          </a:xfrm>
        </p:grpSpPr>
        <p:sp>
          <p:nvSpPr>
            <p:cNvPr id="124" name=""/>
            <p:cNvSpPr/>
            <p:nvPr/>
          </p:nvSpPr>
          <p:spPr>
            <a:xfrm>
              <a:off x="1295280" y="5943600"/>
              <a:ext cx="350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12640" y="568008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xecute: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525780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572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orithm: If action is abstract, then plan its implemen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se if primitive, execute 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5:42:52Z</dcterms:created>
  <dc:creator>John Rose</dc:creator>
  <dc:description/>
  <dc:language>en-US</dc:language>
  <cp:lastModifiedBy>turkett</cp:lastModifiedBy>
  <dcterms:modified xsi:type="dcterms:W3CDTF">2003-10-27T19:05:43Z</dcterms:modified>
  <cp:revision>996</cp:revision>
  <dc:subject/>
  <dc:title>PowerPoint Presentation</dc:title>
</cp:coreProperties>
</file>