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8E6-A96F-4E18-A2DA-96A7F86F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F75-16A5-44B8-B930-7AD0143F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5B9-5250-4E44-BBB7-F2CEA434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2CD-AEA5-456B-A034-E848FB5F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05BA7-A9B3-4633-ADF4-4ACB0B4093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5A5FC-D5A7-4BEA-956E-DD80C79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8271D-DAAF-4A41-8379-0BCADEAE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26866-95B9-4352-9AE1-E6F34074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37057-1953-472F-ACD7-1BAE3A79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EF89C-2B40-4481-803A-869933E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D060-CDF6-43A2-9C51-E088A566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F49-A7B7-4854-B73D-834E209E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F8A7-C2A4-4AFE-9BE9-3AA75871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75EC8-1135-473B-A15C-2862775B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2D17B-5F9C-443F-B561-A30980D5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0FFAD-7544-4664-982D-6567A1E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5B3EB-B1A3-4D79-94EA-4EEDC3D4F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D3A-A3B8-4D90-AF00-A2C01026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F0A-16C3-46CF-9979-CCB8E98B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9A7-C9BC-4F1A-89F4-25578764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537-F553-44E1-912D-DFA3419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2C2-2946-4DDC-B72C-C732CE5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241-C8F2-43FF-92FD-C026C60C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800-110C-4B6C-B678-7C2B162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536-F1E0-4512-BCCE-F33726A5C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882D-678E-46A7-AFA3-ADA291BCB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8360" y="6521400"/>
            <a:ext cx="719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28C-8687-4F4C-858D-57CD0F926F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/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6453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3, 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260000"/>
            <a:ext cx="878508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 Agent Modelling Methodology for Fault-Tolerant Multi-Agent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Sehl Mellou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Guy W. Minea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Bernard Mou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Laboratory of Intelligent Sys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Laval Univers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{sehl.mellouli, guy.mineau, bernard.moulin}@ift.ulaval.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51814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of the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 p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vironment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vironment is dynam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vironment is discre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vironment is deterministi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34792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vironment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all resources needed by the 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all parameters other than resource rel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the events (E) that trigger their chan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vironment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the initial possible situation(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a set of final situations (F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the different possible situations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833480"/>
          <a:ext cx="7272360" cy="40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833480"/>
                    <a:ext cx="727236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560" y="2349000"/>
            <a:ext cx="6445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ole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cial re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re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peration re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6445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ole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on re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eritance re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Share re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ng a role priority among r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Analysis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2108160"/>
          <a:ext cx="8496000" cy="395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108160"/>
                    <a:ext cx="84960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of the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sis p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esign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esign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gent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agent is assigned a set of ro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 relations are deduced from role rel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ng strategies to assign roles to ag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ase stu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-16 fighters attacking a terrorist si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ead fighter is hit by a missile, and cras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ghters have to reorganize themsel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eorganization can be dealt with when designing th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esign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03280" y="1720800"/>
          <a:ext cx="6193080" cy="45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720800"/>
                    <a:ext cx="61930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esign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nt fighter1 is dow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gning the more prior 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rding to role required resour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rding to agent available resour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agent hosting conflict ro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esign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2421000"/>
          <a:ext cx="7561440" cy="26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21000"/>
                    <a:ext cx="756144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of the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sis p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 p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 of FTMAS method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ing an interaction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ing prob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ating role assignment at design p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ahoma"/>
              </a:rPr>
              <a:t>www.agentsportal.co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889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tate of the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sis p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 p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32108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MAS-CommonKads, Gaia, Message/UML, Tropos, Adelf, SODA, SABPO, AALAAD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: Agent model, role model, and interaction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: Task model, environment mode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32108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pts are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 , Tasks, Goals, Interaction, Collaboration, Environment, Organization, Role, Resource,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s-Concept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 Model : A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Model : r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model: interaction,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2498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affected concept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s, Goals, Environment, Organization, Role, Resource,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 model : goal,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2498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model : task, r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action model : inte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 model : resou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ion model : collab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249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si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 model : goal,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model : task, r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model :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249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349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 model : agent, group,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on model : resou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rdination model :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6:40:45Z</dcterms:created>
  <dc:creator>Département d'informatique</dc:creator>
  <dc:description/>
  <dc:language>en-US</dc:language>
  <cp:lastModifiedBy>Lloyd Kamara</cp:lastModifiedBy>
  <dcterms:modified xsi:type="dcterms:W3CDTF">2003-10-31T14:32:46Z</dcterms:modified>
  <cp:revision>67</cp:revision>
  <dc:subject/>
  <dc:title>An Agent Modelling Methodology for Fault-Tolerant Multi-Agent Systems</dc:title>
</cp:coreProperties>
</file>