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42100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24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24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280" y="3978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4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2440" y="18288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34520" y="18288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2440" y="397836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34520" y="397836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CE99-FC2A-4800-9812-5C7285F6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4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5B63-2376-4CF3-BB1D-39F6C1A6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4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153E-D053-4054-A548-E8531F87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4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1280" y="182880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6E1E-8AFB-4DDE-BBD8-A6E658CB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4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339A-0C39-4399-9732-F4E4D845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2473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EB2-01F7-4E89-866E-4F66EC56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4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1280" y="182880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9EC7-7272-4E63-B4E3-DDA2982E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4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4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128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1280" y="3978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9A34-2254-4946-9F74-A93CCCEE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4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128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1C89-10E8-4465-BC95-98ADA934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4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A8C2-240D-4690-BA8B-19807868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4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128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1280" y="3978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68C-C769-472D-AEA6-D903464B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4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12440" y="18288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34520" y="18288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12440" y="397836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34520" y="397836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34AA-F5B0-4A1B-9F72-E665A221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4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4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280" y="182880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4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2473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4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182880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4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28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280" y="3978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24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110280"/>
            <a:ext cx="3809880" cy="747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24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233D-6C84-4ED6-AADF-D7D87951AE1D}" type="slidenum">
              <a:rPr b="0" lang="de-DE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1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264c"/>
                </a:solidFill>
                <a:latin typeface="Times New Roman"/>
              </a:rPr>
              <a:t>Interaction Monitoring and Termination Detection for Agent Societies</a:t>
            </a:r>
            <a:br>
              <a:rPr sz="4800"/>
            </a:br>
            <a:br>
              <a:rPr sz="3200"/>
            </a:br>
            <a:r>
              <a:rPr b="1" lang="de-DE" sz="3200" spc="-1" strike="noStrike">
                <a:solidFill>
                  <a:srgbClr val="339966"/>
                </a:solidFill>
                <a:latin typeface="Times New Roman"/>
              </a:rPr>
              <a:t>Preliminary Work</a:t>
            </a:r>
            <a:br>
              <a:rPr sz="3200"/>
            </a:br>
            <a:endParaRPr b="0" lang="en-US" sz="32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264c"/>
                </a:solidFill>
                <a:latin typeface="Arial"/>
              </a:rPr>
              <a:t>T. Motshegwa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, </a:t>
            </a:r>
            <a:r>
              <a:rPr b="0" lang="de-DE" sz="2400" spc="-1" strike="noStrike">
                <a:solidFill>
                  <a:srgbClr val="00264c"/>
                </a:solidFill>
                <a:latin typeface="Arial"/>
              </a:rPr>
              <a:t>M. Schroeder</a:t>
            </a: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gents@City Group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, </a:t>
            </a: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ity University, London, UK</a:t>
            </a:r>
            <a:br>
              <a:rPr sz="2400"/>
            </a:b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095880"/>
            <a:ext cx="3886200" cy="762120"/>
          </a:xfrm>
          <a:prstGeom prst="rect">
            <a:avLst/>
          </a:prstGeom>
          <a:ln w="0">
            <a:noFill/>
          </a:ln>
        </p:spPr>
      </p:pic>
      <p:pic>
        <p:nvPicPr>
          <p:cNvPr id="83" name="esaw03logosm" descr=""/>
          <p:cNvPicPr/>
          <p:nvPr/>
        </p:nvPicPr>
        <p:blipFill>
          <a:blip r:embed="rId2"/>
          <a:stretch/>
        </p:blipFill>
        <p:spPr>
          <a:xfrm>
            <a:off x="7086600" y="6172200"/>
            <a:ext cx="20574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DDCA-7781-4CE8-A57E-CE1D9E006C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Algorithms: Tracing and Probe-based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9144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64c"/>
                </a:solidFill>
                <a:latin typeface="Times New Roman"/>
              </a:rPr>
              <a:t>1) Tracing: ‘For Diffusing Computations’ (Dijkstra)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9966"/>
                </a:solidFill>
                <a:latin typeface="Times New Roman"/>
              </a:rPr>
              <a:t>‘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</a:rPr>
              <a:t>Environment</a:t>
            </a:r>
            <a:r>
              <a:rPr b="1" lang="en-GB" sz="2200" spc="-1" strike="noStrike">
                <a:solidFill>
                  <a:srgbClr val="339966"/>
                </a:solidFill>
                <a:latin typeface="Times New Roman"/>
              </a:rPr>
              <a:t>’: Supplies single input to an arbitrary process (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</a:rPr>
              <a:t>source</a:t>
            </a:r>
            <a:r>
              <a:rPr b="1" lang="en-GB" sz="2200" spc="-1" strike="noStrike">
                <a:solidFill>
                  <a:srgbClr val="339966"/>
                </a:solidFill>
                <a:latin typeface="Times New Roman"/>
              </a:rPr>
              <a:t>) 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9966"/>
                </a:solidFill>
                <a:latin typeface="Times New Roman"/>
              </a:rPr>
              <a:t>Arrival of input action can trigger local and output actions at a process.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9966"/>
                </a:solidFill>
                <a:latin typeface="Times New Roman"/>
              </a:rPr>
              <a:t>Computation Diffuses in a system due to stimulus.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9966"/>
                </a:solidFill>
                <a:latin typeface="Times New Roman"/>
              </a:rPr>
              <a:t>Maintenance of a Spanning tree.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9966"/>
                </a:solidFill>
                <a:latin typeface="Times New Roman"/>
              </a:rPr>
              <a:t>Messages ACKed and deficit count maintained.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9966"/>
                </a:solidFill>
                <a:latin typeface="Times New Roman"/>
              </a:rPr>
              <a:t>Termination: NO process is enabled to perform local action and NO messages in channels and all messages ACKed.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</a:rPr>
              <a:t>Quiescent</a:t>
            </a:r>
            <a:r>
              <a:rPr b="1" lang="en-GB" sz="2200" spc="-1" strike="noStrike">
                <a:solidFill>
                  <a:srgbClr val="339966"/>
                </a:solidFill>
                <a:latin typeface="Times New Roman"/>
              </a:rPr>
              <a:t> nodes with all messages ACKed delete themselves.</a:t>
            </a:r>
            <a:r>
              <a:rPr b="1" i="1" lang="en-GB" sz="2200" spc="-1" strike="noStrike">
                <a:solidFill>
                  <a:srgbClr val="3399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9966"/>
                </a:solidFill>
                <a:latin typeface="Times New Roman"/>
              </a:rPr>
              <a:t>Tree grows and shrinks.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9966"/>
                </a:solidFill>
                <a:latin typeface="Times New Roman"/>
              </a:rPr>
              <a:t>If deleting node == source : TERMINATION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9966"/>
                </a:solidFill>
                <a:latin typeface="Times New Roman"/>
              </a:rPr>
              <a:t>EG. Dijkstra Scholten’s Algorithm</a:t>
            </a:r>
            <a:r>
              <a:rPr b="1" lang="en-GB" sz="2000" spc="-1" strike="noStrike">
                <a:solidFill>
                  <a:srgbClr val="3399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Algorithms: Taxonomy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64c"/>
                </a:solidFill>
                <a:latin typeface="Times New Roman"/>
              </a:rPr>
              <a:t>2) Probe Algorithm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66"/>
                </a:solidFill>
                <a:latin typeface="Times New Roman"/>
              </a:rPr>
              <a:t>Characterized by a ‘wave’ executio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66"/>
                </a:solidFill>
                <a:latin typeface="Times New Roman"/>
              </a:rPr>
              <a:t>Waves of message passing collect information about global stat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66"/>
                </a:solidFill>
                <a:latin typeface="Times New Roman"/>
              </a:rPr>
              <a:t>Special node ‘Controller/Initiator’ envisaged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66"/>
                </a:solidFill>
                <a:latin typeface="Times New Roman"/>
              </a:rPr>
              <a:t>Controller co-ordinates detection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66"/>
                </a:solidFill>
                <a:latin typeface="Times New Roman"/>
              </a:rPr>
              <a:t>Exploit feature of network topology, e.g token Ring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66"/>
                </a:solidFill>
                <a:latin typeface="Times New Roman"/>
              </a:rPr>
              <a:t>E.G Dijkstra, Feijen Van Gasteren  algorithm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Agents, Protocols, Termination.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Agents are higher level entities cf Objects.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04880" indent="-228600">
              <a:spcBef>
                <a:spcPts val="700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66"/>
                </a:solidFill>
                <a:latin typeface="Times New Roman"/>
              </a:rPr>
              <a:t>Behaviour Specification in Protocols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04880" indent="-228600">
              <a:spcBef>
                <a:spcPts val="700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66"/>
                </a:solidFill>
                <a:latin typeface="Times New Roman"/>
              </a:rPr>
              <a:t>Execution of protocols and complex interactions.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Standard Algorithms cannot be used directly.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04880" indent="-2286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9966"/>
                </a:solidFill>
                <a:latin typeface="Times New Roman"/>
              </a:rPr>
              <a:t>Algorithms  abstract away  from PURPOSE  and OPERATION of Computation</a:t>
            </a:r>
            <a:endParaRPr b="1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04880" indent="-2286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9966"/>
                </a:solidFill>
                <a:latin typeface="Times New Roman"/>
              </a:rPr>
              <a:t>Simple model of underlying computation.</a:t>
            </a:r>
            <a:endParaRPr b="1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Agents may have additional ‘knowledge’ they can reveal to aid termination detection.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Protocols.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402600" y="2590920"/>
            <a:ext cx="1758960" cy="459720"/>
            <a:chOff x="6402600" y="2590920"/>
            <a:chExt cx="1758960" cy="459720"/>
          </a:xfrm>
        </p:grpSpPr>
        <p:sp>
          <p:nvSpPr>
            <p:cNvPr id="177" name=""/>
            <p:cNvSpPr/>
            <p:nvPr/>
          </p:nvSpPr>
          <p:spPr>
            <a:xfrm>
              <a:off x="6832440" y="2819520"/>
              <a:ext cx="533520" cy="0"/>
            </a:xfrm>
            <a:prstGeom prst="line">
              <a:avLst/>
            </a:prstGeom>
            <a:ln w="22320">
              <a:solidFill>
                <a:srgbClr val="00264c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02600" y="25909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(S,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54440" y="259092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,L,T)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47240" y="3698280"/>
            <a:ext cx="6924240" cy="2949840"/>
            <a:chOff x="1947240" y="3698280"/>
            <a:chExt cx="6924240" cy="2949840"/>
          </a:xfrm>
        </p:grpSpPr>
        <p:sp>
          <p:nvSpPr>
            <p:cNvPr id="181" name=""/>
            <p:cNvSpPr/>
            <p:nvPr/>
          </p:nvSpPr>
          <p:spPr>
            <a:xfrm>
              <a:off x="2286000" y="4343400"/>
              <a:ext cx="609480" cy="609480"/>
            </a:xfrm>
            <a:prstGeom prst="ellipse">
              <a:avLst/>
            </a:pr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33920" y="4343400"/>
              <a:ext cx="609480" cy="609480"/>
            </a:xfrm>
            <a:prstGeom prst="ellipse">
              <a:avLst/>
            </a:pr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9107000">
              <a:off x="2323440" y="407412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81480" y="4419720"/>
              <a:ext cx="609840" cy="609480"/>
            </a:xfrm>
            <a:prstGeom prst="ellipse">
              <a:avLst/>
            </a:pr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4419720"/>
              <a:ext cx="609480" cy="609480"/>
            </a:xfrm>
            <a:prstGeom prst="ellipse">
              <a:avLst/>
            </a:pr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9107000">
              <a:off x="5218920" y="415044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9107000">
              <a:off x="3771000" y="407412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9107000">
              <a:off x="6666840" y="415044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01000" y="4495680"/>
              <a:ext cx="609480" cy="609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33920" y="5638680"/>
              <a:ext cx="609480" cy="609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81480" y="5715000"/>
              <a:ext cx="609840" cy="609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05720" y="5715000"/>
              <a:ext cx="609480" cy="609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583000">
              <a:off x="2783160" y="436536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2583000">
              <a:off x="4231080" y="444168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2583000">
              <a:off x="5754960" y="444168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820960" y="36576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A:cfp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6104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Regulate Interactions.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Viewed as Specifications of these interactions.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We model protocols  as labelled state transition system with a set of terminal state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EG. CNP ,S ={1,2..,8}; T={5,6,7,8}; L={cfp, propose..} and 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4648320"/>
            <a:ext cx="609840" cy="0"/>
          </a:xfrm>
          <a:prstGeom prst="line">
            <a:avLst/>
          </a:prstGeom>
          <a:ln w="2844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02000" y="4343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3960" y="36576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B:Propos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4480" y="373392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A:Accept_proposal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15920" y="37339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B:inform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01480" y="502920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B:refus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1120" y="525780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B:not_understood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3240" y="510552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A:reject_proposal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37680" y="518148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B:failur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44160" y="541008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A:cancel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Termination Detection For Protocols.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Termination Path, (TP)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Unique Termination Path, (UTP)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Shortest Unique Termination Paths, Observables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Example.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800600" y="2971800"/>
            <a:ext cx="3886200" cy="3200400"/>
            <a:chOff x="4800600" y="2971800"/>
            <a:chExt cx="3886200" cy="3200400"/>
          </a:xfrm>
        </p:grpSpPr>
        <p:sp>
          <p:nvSpPr>
            <p:cNvPr id="211" name=""/>
            <p:cNvSpPr/>
            <p:nvPr/>
          </p:nvSpPr>
          <p:spPr>
            <a:xfrm>
              <a:off x="4800600" y="2971800"/>
              <a:ext cx="609480" cy="609480"/>
            </a:xfrm>
            <a:prstGeom prst="ellipse">
              <a:avLst/>
            </a:pr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57800" y="4419720"/>
              <a:ext cx="609480" cy="609480"/>
            </a:xfrm>
            <a:prstGeom prst="ellipse">
              <a:avLst/>
            </a:pr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58000" y="5562720"/>
              <a:ext cx="609480" cy="609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77120" y="4191120"/>
              <a:ext cx="609480" cy="609480"/>
            </a:xfrm>
            <a:prstGeom prst="ellipse">
              <a:avLst/>
            </a:pr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77320" y="4343400"/>
              <a:ext cx="609480" cy="609480"/>
            </a:xfrm>
            <a:prstGeom prst="ellipse">
              <a:avLst/>
            </a:pr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05520" y="3581280"/>
              <a:ext cx="380880" cy="83844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10080" y="3200400"/>
              <a:ext cx="2819520" cy="121932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467120" y="4952880"/>
              <a:ext cx="838440" cy="83844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4120" y="3429000"/>
              <a:ext cx="1295280" cy="83808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58000" y="4800600"/>
              <a:ext cx="228600" cy="76212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15000" y="4952880"/>
              <a:ext cx="1219320" cy="76212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00680" y="388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3800" y="3581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25920" y="320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36120" y="4800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21000" y="5181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02080" y="5105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-3600" y="3581280"/>
            <a:ext cx="44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p=(1,2,5) valid TP with labels (b,c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05520" y="3581280"/>
            <a:ext cx="380880" cy="8384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4952880"/>
            <a:ext cx="1219320" cy="7621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15000" y="4952880"/>
            <a:ext cx="12193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3200400"/>
            <a:ext cx="281952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4038480"/>
            <a:ext cx="33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p=(2,5) is TP but not UTP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3200400"/>
            <a:ext cx="2819520" cy="1219320"/>
          </a:xfrm>
          <a:prstGeom prst="line">
            <a:avLst/>
          </a:prstGeom>
          <a:ln w="381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4952880"/>
            <a:ext cx="1219320" cy="7621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-720" y="4495680"/>
            <a:ext cx="3189240" cy="916920"/>
            <a:chOff x="-720" y="4495680"/>
            <a:chExt cx="3189240" cy="916920"/>
          </a:xfrm>
        </p:grpSpPr>
        <p:sp>
          <p:nvSpPr>
            <p:cNvPr id="237" name=""/>
            <p:cNvSpPr/>
            <p:nvPr/>
          </p:nvSpPr>
          <p:spPr>
            <a:xfrm>
              <a:off x="1800" y="4495680"/>
              <a:ext cx="293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BUT </a:t>
              </a:r>
              <a:r>
                <a:rPr b="0" lang="en-US" sz="2400" spc="-1" strike="noStrike">
                  <a:solidFill>
                    <a:srgbClr val="339966"/>
                  </a:solidFill>
                  <a:latin typeface="Times New Roman"/>
                </a:rPr>
                <a:t>p=(1,2,5)</a:t>
              </a: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 is UTP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-720" y="4952880"/>
              <a:ext cx="318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NO other path with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(b,c)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828800" y="5333040"/>
            <a:ext cx="4398120" cy="1375200"/>
            <a:chOff x="1828800" y="5333040"/>
            <a:chExt cx="4398120" cy="1375200"/>
          </a:xfrm>
        </p:grpSpPr>
        <p:sp>
          <p:nvSpPr>
            <p:cNvPr id="240" name=""/>
            <p:cNvSpPr/>
            <p:nvPr/>
          </p:nvSpPr>
          <p:spPr>
            <a:xfrm>
              <a:off x="1828800" y="5562720"/>
              <a:ext cx="609480" cy="609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33920" y="5562720"/>
              <a:ext cx="609480" cy="609480"/>
            </a:xfrm>
            <a:prstGeom prst="ellipse">
              <a:avLst/>
            </a:pr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cxnSp>
          <p:nvCxnSpPr>
            <p:cNvPr id="242" name=""/>
            <p:cNvCxnSpPr>
              <a:stCxn id="241" idx="7"/>
              <a:endCxn id="241" idx="5"/>
            </p:cNvCxnSpPr>
            <p:nvPr/>
          </p:nvCxnSpPr>
          <p:spPr>
            <a:xfrm flipH="1" rot="16200000">
              <a:off x="4020120" y="5865480"/>
              <a:ext cx="470520" cy="2160"/>
            </a:xfrm>
            <a:prstGeom prst="curvedConnector5">
              <a:avLst>
                <a:gd name="adj1" fmla="val -63476"/>
                <a:gd name="adj2" fmla="val 23600000"/>
                <a:gd name="adj3" fmla="val -63476"/>
              </a:avLst>
            </a:prstGeom>
            <a:ln w="38160">
              <a:solidFill>
                <a:srgbClr val="00264c"/>
              </a:solidFill>
              <a:miter/>
              <a:tailEnd len="med" type="triangle" w="med"/>
            </a:ln>
          </p:spPr>
        </p:cxnSp>
        <p:sp>
          <p:nvSpPr>
            <p:cNvPr id="243" name=""/>
            <p:cNvSpPr/>
            <p:nvPr/>
          </p:nvSpPr>
          <p:spPr>
            <a:xfrm flipH="1">
              <a:off x="2437920" y="5867280"/>
              <a:ext cx="1295640" cy="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54320" y="5638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25520" y="5410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56480" y="6248520"/>
              <a:ext cx="127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NO UTP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Termination Detection For Protocols.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6104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Shortest Unique Termination Paths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Set of Observable O = {b,c,d,e}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029200" y="2438280"/>
            <a:ext cx="3886200" cy="3200400"/>
            <a:chOff x="5029200" y="2438280"/>
            <a:chExt cx="3886200" cy="3200400"/>
          </a:xfrm>
        </p:grpSpPr>
        <p:sp>
          <p:nvSpPr>
            <p:cNvPr id="250" name=""/>
            <p:cNvSpPr/>
            <p:nvPr/>
          </p:nvSpPr>
          <p:spPr>
            <a:xfrm>
              <a:off x="5029200" y="2438280"/>
              <a:ext cx="609480" cy="609840"/>
            </a:xfrm>
            <a:prstGeom prst="ellipse">
              <a:avLst/>
            </a:pr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86400" y="3886200"/>
              <a:ext cx="609480" cy="609480"/>
            </a:xfrm>
            <a:prstGeom prst="ellipse">
              <a:avLst/>
            </a:pr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86600" y="5029200"/>
              <a:ext cx="609480" cy="609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05720" y="3657600"/>
              <a:ext cx="609480" cy="609480"/>
            </a:xfrm>
            <a:prstGeom prst="ellipse">
              <a:avLst/>
            </a:pr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05920" y="3809880"/>
              <a:ext cx="609480" cy="609840"/>
            </a:xfrm>
            <a:prstGeom prst="ellipse">
              <a:avLst/>
            </a:pr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34120" y="3048120"/>
              <a:ext cx="380880" cy="838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695720" y="4419720"/>
              <a:ext cx="838440" cy="838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6600" y="4267080"/>
              <a:ext cx="228600" cy="7621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43600" y="4419720"/>
              <a:ext cx="1219320" cy="7617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2928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64720" y="4267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9600" y="46483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30680" y="4572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22120" y="4495680"/>
            <a:ext cx="4807080" cy="1218960"/>
            <a:chOff x="222120" y="4495680"/>
            <a:chExt cx="4807080" cy="1218960"/>
          </a:xfrm>
        </p:grpSpPr>
        <p:sp>
          <p:nvSpPr>
            <p:cNvPr id="264" name=""/>
            <p:cNvSpPr/>
            <p:nvPr/>
          </p:nvSpPr>
          <p:spPr>
            <a:xfrm>
              <a:off x="228600" y="4495680"/>
              <a:ext cx="4800600" cy="12189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2120" y="4571640"/>
              <a:ext cx="462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Minimal information (Sub-protocol)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0040" y="5028840"/>
              <a:ext cx="348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Needed is SUTP of Agents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02400" y="2590920"/>
            <a:ext cx="4547160" cy="916920"/>
            <a:chOff x="302400" y="2590920"/>
            <a:chExt cx="4547160" cy="916920"/>
          </a:xfrm>
        </p:grpSpPr>
        <p:sp>
          <p:nvSpPr>
            <p:cNvPr id="268" name=""/>
            <p:cNvSpPr/>
            <p:nvPr/>
          </p:nvSpPr>
          <p:spPr>
            <a:xfrm>
              <a:off x="343800" y="2590920"/>
              <a:ext cx="409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NB: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 is not an element because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2400" y="3048120"/>
              <a:ext cx="454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SUTP in (1,3,5) is (3,5) labelled (d)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Proposed Framework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609120"/>
            <a:ext cx="86104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0000"/>
          </a:bodyPr>
          <a:p>
            <a:pPr marL="205560" indent="-205560">
              <a:spcBef>
                <a:spcPts val="6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264c"/>
                </a:solidFill>
                <a:latin typeface="Times New Roman"/>
              </a:rPr>
              <a:t>Deliberative detection framework similar to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probe-based</a:t>
            </a:r>
            <a:r>
              <a:rPr b="1" lang="en-GB" sz="2500" spc="-1" strike="noStrike">
                <a:solidFill>
                  <a:srgbClr val="00264c"/>
                </a:solidFill>
                <a:latin typeface="Times New Roman"/>
              </a:rPr>
              <a:t> TD algorithms.</a:t>
            </a:r>
            <a:endParaRPr b="1" lang="en-US" sz="2500" spc="-1" strike="noStrike">
              <a:solidFill>
                <a:srgbClr val="00264c"/>
              </a:solidFill>
              <a:latin typeface="Times New Roman"/>
            </a:endParaRPr>
          </a:p>
          <a:p>
            <a:pPr marL="205560" indent="-205560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264c"/>
                </a:solidFill>
                <a:latin typeface="Times New Roman"/>
              </a:rPr>
              <a:t>Monitor queries agents for information about protocols and their execution.</a:t>
            </a:r>
            <a:endParaRPr b="1" lang="en-US" sz="2500" spc="-1" strike="noStrike">
              <a:solidFill>
                <a:srgbClr val="00264c"/>
              </a:solidFill>
              <a:latin typeface="Times New Roman"/>
            </a:endParaRPr>
          </a:p>
          <a:p>
            <a:pPr marL="205560" indent="-205560">
              <a:spcBef>
                <a:spcPts val="6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264c"/>
                </a:solidFill>
                <a:latin typeface="Times New Roman"/>
              </a:rPr>
              <a:t>Querying mechanism based on polling.</a:t>
            </a:r>
            <a:endParaRPr b="1" lang="en-US" sz="2500" spc="-1" strike="noStrike">
              <a:solidFill>
                <a:srgbClr val="00264c"/>
              </a:solidFill>
              <a:latin typeface="Times New Roman"/>
            </a:endParaRPr>
          </a:p>
          <a:p>
            <a:pPr marL="205560" indent="-205560">
              <a:spcBef>
                <a:spcPts val="6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264c"/>
                </a:solidFill>
                <a:latin typeface="Times New Roman"/>
              </a:rPr>
              <a:t>Monitor can reconstruct global view or deduce termination of protocols based on information.</a:t>
            </a:r>
            <a:endParaRPr b="1" lang="en-US" sz="2500" spc="-1" strike="noStrike">
              <a:solidFill>
                <a:srgbClr val="00264c"/>
              </a:solidFill>
              <a:latin typeface="Times New Roman"/>
            </a:endParaRPr>
          </a:p>
          <a:p>
            <a:pPr marL="205560" indent="-205560">
              <a:spcBef>
                <a:spcPts val="62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264c"/>
                </a:solidFill>
                <a:latin typeface="Times New Roman"/>
              </a:rPr>
              <a:t>ASSUMPTIONS</a:t>
            </a:r>
            <a:endParaRPr b="1" lang="en-US" sz="2500" spc="-1" strike="noStrike">
              <a:solidFill>
                <a:srgbClr val="00264c"/>
              </a:solidFill>
              <a:latin typeface="Times New Roman"/>
            </a:endParaRPr>
          </a:p>
          <a:p>
            <a:pPr lvl="1" marL="422640" indent="-13716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9966"/>
                </a:solidFill>
                <a:latin typeface="Times New Roman"/>
              </a:rPr>
              <a:t>Protocols used in MAS are KNOWN.</a:t>
            </a:r>
            <a:endParaRPr b="1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422640" indent="-13716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9966"/>
                </a:solidFill>
                <a:latin typeface="Times New Roman"/>
              </a:rPr>
              <a:t>Agents have incentives to communicate accurate information</a:t>
            </a:r>
            <a:endParaRPr b="1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422640" indent="-13716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9966"/>
                </a:solidFill>
                <a:latin typeface="Times New Roman"/>
              </a:rPr>
              <a:t>Monitor can forcefully terminate or suspend agents whose behaviour deviate from rules of protocol.</a:t>
            </a:r>
            <a:endParaRPr b="1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422640" indent="-13716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9966"/>
                </a:solidFill>
                <a:latin typeface="Times New Roman"/>
              </a:rPr>
              <a:t>In principle monitor can listen to all communication BUT periodic polling is used to minimise communication overheads.</a:t>
            </a:r>
            <a:endParaRPr b="1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-360" y="2057400"/>
            <a:ext cx="89917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Given: TP be the set of Shortest Unique Termination Paths, SUTP, with Observables, </a:t>
            </a:r>
            <a:r>
              <a:rPr b="1" i="1" lang="en-GB" sz="2800" spc="-1" strike="noStrike">
                <a:solidFill>
                  <a:srgbClr val="00264c"/>
                </a:solidFill>
                <a:latin typeface="Times New Roman"/>
              </a:rPr>
              <a:t>O</a:t>
            </a: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Data Structures: For every </a:t>
            </a:r>
            <a:r>
              <a:rPr b="1" i="1" lang="en-GB" sz="2800" spc="-1" strike="noStrike">
                <a:solidFill>
                  <a:srgbClr val="00264c"/>
                </a:solidFill>
                <a:latin typeface="Times New Roman"/>
              </a:rPr>
              <a:t>p</a:t>
            </a: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 = (s1,…,sn) </a:t>
            </a:r>
            <a:r>
              <a:rPr b="1" lang="en-GB" sz="2800" spc="-1" strike="noStrike">
                <a:solidFill>
                  <a:srgbClr val="00264c"/>
                </a:solidFill>
                <a:latin typeface="Symbol"/>
                <a:ea typeface="Symbol"/>
              </a:rPr>
              <a:t></a:t>
            </a: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 TP there is a state s</a:t>
            </a:r>
            <a:r>
              <a:rPr b="1" i="1" lang="en-GB" sz="2800" spc="-1" strike="noStrike">
                <a:solidFill>
                  <a:srgbClr val="00264c"/>
                </a:solidFill>
                <a:latin typeface="Times New Roman"/>
              </a:rPr>
              <a:t>i </a:t>
            </a: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called the current execution state of </a:t>
            </a:r>
            <a:r>
              <a:rPr b="1" i="1" lang="en-GB" sz="2800" spc="-1" strike="noStrike">
                <a:solidFill>
                  <a:srgbClr val="00264c"/>
                </a:solidFill>
                <a:latin typeface="Times New Roman"/>
              </a:rPr>
              <a:t>p.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Init: For all </a:t>
            </a:r>
            <a:r>
              <a:rPr b="1" i="1" lang="en-GB" sz="2800" spc="-1" strike="noStrike">
                <a:solidFill>
                  <a:srgbClr val="00264c"/>
                </a:solidFill>
                <a:latin typeface="Times New Roman"/>
              </a:rPr>
              <a:t>p</a:t>
            </a: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 = (s1,…,sn) </a:t>
            </a:r>
            <a:r>
              <a:rPr b="1" lang="en-GB" sz="2800" spc="-1" strike="noStrike">
                <a:solidFill>
                  <a:srgbClr val="00264c"/>
                </a:solidFill>
                <a:latin typeface="Symbol"/>
                <a:ea typeface="Symbol"/>
              </a:rPr>
              <a:t></a:t>
            </a: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 TP initialise its current execution state to s1.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Algorithm.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Algorithm cont..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Body: While not TERMINATED do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641160" indent="-207720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Let </a:t>
            </a:r>
            <a:r>
              <a:rPr b="1" i="1" lang="en-GB" sz="2400" spc="-1" strike="noStrike">
                <a:solidFill>
                  <a:srgbClr val="00264c"/>
                </a:solidFill>
                <a:latin typeface="Times New Roman"/>
              </a:rPr>
              <a:t>l</a:t>
            </a: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 be a message be sent by an agent</a:t>
            </a: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641160" indent="-207720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264c"/>
                </a:solidFill>
                <a:latin typeface="Times New Roman"/>
              </a:rPr>
              <a:t>l</a:t>
            </a:r>
            <a:r>
              <a:rPr b="1" lang="en-GB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264c"/>
                </a:solidFill>
                <a:latin typeface="Symbol"/>
                <a:ea typeface="Symbol"/>
              </a:rPr>
              <a:t></a:t>
            </a:r>
            <a:r>
              <a:rPr b="1" lang="en-GB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 then for </a:t>
            </a:r>
            <a:r>
              <a:rPr b="1" i="1" lang="en-GB" sz="2400" spc="-1" strike="noStrike">
                <a:solidFill>
                  <a:srgbClr val="00264c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264c"/>
                </a:solidFill>
                <a:latin typeface="Times New Roman"/>
              </a:rPr>
              <a:t> = (s</a:t>
            </a:r>
            <a:r>
              <a:rPr b="1" i="1" lang="en-GB" sz="2400" spc="-1" strike="noStrike">
                <a:solidFill>
                  <a:srgbClr val="00264c"/>
                </a:solidFill>
                <a:latin typeface="Times New Roman"/>
              </a:rPr>
              <a:t>1</a:t>
            </a:r>
            <a:r>
              <a:rPr b="1" lang="en-GB" sz="2400" spc="-1" strike="noStrike">
                <a:solidFill>
                  <a:srgbClr val="00264c"/>
                </a:solidFill>
                <a:latin typeface="Times New Roman"/>
              </a:rPr>
              <a:t>,…,s</a:t>
            </a:r>
            <a:r>
              <a:rPr b="1" i="1" lang="en-GB" sz="2400" spc="-1" strike="noStrike">
                <a:solidFill>
                  <a:srgbClr val="00264c"/>
                </a:solidFill>
                <a:latin typeface="Times New Roman"/>
              </a:rPr>
              <a:t>n</a:t>
            </a:r>
            <a:r>
              <a:rPr b="1" lang="en-GB" sz="2400" spc="-1" strike="noStrike">
                <a:solidFill>
                  <a:srgbClr val="00264c"/>
                </a:solidFill>
                <a:latin typeface="Times New Roman"/>
              </a:rPr>
              <a:t>) </a:t>
            </a:r>
            <a:r>
              <a:rPr b="1" lang="en-GB" sz="2400" spc="-1" strike="noStrike">
                <a:solidFill>
                  <a:srgbClr val="00264c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264c"/>
                </a:solidFill>
                <a:latin typeface="Times New Roman"/>
              </a:rPr>
              <a:t>TP </a:t>
            </a: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set </a:t>
            </a:r>
            <a:r>
              <a:rPr b="1" i="1" lang="en-GB" sz="2400" spc="-1" strike="noStrike">
                <a:solidFill>
                  <a:srgbClr val="339966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’s current execution state to s</a:t>
            </a:r>
            <a:r>
              <a:rPr b="1" i="1" lang="en-GB" sz="2400" spc="-1" strike="noStrike">
                <a:solidFill>
                  <a:srgbClr val="339966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641160" indent="-207720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ELSE: For all </a:t>
            </a:r>
            <a:r>
              <a:rPr b="1" i="1" lang="en-GB" sz="2400" spc="-1" strike="noStrike">
                <a:solidFill>
                  <a:srgbClr val="00264c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264c"/>
                </a:solidFill>
                <a:latin typeface="Times New Roman"/>
              </a:rPr>
              <a:t> = (s</a:t>
            </a:r>
            <a:r>
              <a:rPr b="1" i="1" lang="en-GB" sz="2400" spc="-1" strike="noStrike">
                <a:solidFill>
                  <a:srgbClr val="00264c"/>
                </a:solidFill>
                <a:latin typeface="Times New Roman"/>
              </a:rPr>
              <a:t>1</a:t>
            </a:r>
            <a:r>
              <a:rPr b="1" lang="en-GB" sz="2400" spc="-1" strike="noStrike">
                <a:solidFill>
                  <a:srgbClr val="00264c"/>
                </a:solidFill>
                <a:latin typeface="Times New Roman"/>
              </a:rPr>
              <a:t>,…,s</a:t>
            </a:r>
            <a:r>
              <a:rPr b="1" i="1" lang="en-GB" sz="2400" spc="-1" strike="noStrike">
                <a:solidFill>
                  <a:srgbClr val="00264c"/>
                </a:solidFill>
                <a:latin typeface="Times New Roman"/>
              </a:rPr>
              <a:t>n</a:t>
            </a:r>
            <a:r>
              <a:rPr b="1" lang="en-GB" sz="2400" spc="-1" strike="noStrike">
                <a:solidFill>
                  <a:srgbClr val="00264c"/>
                </a:solidFill>
                <a:latin typeface="Times New Roman"/>
              </a:rPr>
              <a:t>) </a:t>
            </a:r>
            <a:r>
              <a:rPr b="1" lang="en-GB" sz="2400" spc="-1" strike="noStrike">
                <a:solidFill>
                  <a:srgbClr val="00264c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264c"/>
                </a:solidFill>
                <a:latin typeface="Times New Roman"/>
              </a:rPr>
              <a:t>TP </a:t>
            </a: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with current execution state s</a:t>
            </a:r>
            <a:r>
              <a:rPr b="1" i="1" lang="en-GB" sz="2400" spc="-1" strike="noStrike">
                <a:solidFill>
                  <a:srgbClr val="339966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 DO</a:t>
            </a: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641160" indent="-207720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*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F </a:t>
            </a: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                         then </a:t>
            </a:r>
            <a:r>
              <a:rPr b="1" i="1" lang="en-GB" sz="2400" spc="-1" strike="noStrike">
                <a:solidFill>
                  <a:srgbClr val="339966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’s execution state becomes s</a:t>
            </a:r>
            <a:r>
              <a:rPr b="1" i="1" lang="en-GB" sz="2400" spc="-1" strike="noStrike">
                <a:solidFill>
                  <a:srgbClr val="339966"/>
                </a:solidFill>
                <a:latin typeface="Times New Roman"/>
              </a:rPr>
              <a:t>i </a:t>
            </a: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+</a:t>
            </a:r>
            <a:r>
              <a:rPr b="1" i="1" lang="en-GB" sz="2400" spc="-1" strike="noStrike">
                <a:solidFill>
                  <a:srgbClr val="339966"/>
                </a:solidFill>
                <a:latin typeface="Times New Roman"/>
              </a:rPr>
              <a:t>1</a:t>
            </a: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       and if s</a:t>
            </a:r>
            <a:r>
              <a:rPr b="1" i="1" lang="en-GB" sz="2400" spc="-1" strike="noStrike">
                <a:solidFill>
                  <a:srgbClr val="339966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+</a:t>
            </a:r>
            <a:r>
              <a:rPr b="1" i="1" lang="en-GB" sz="2400" spc="-1" strike="noStrike">
                <a:solidFill>
                  <a:srgbClr val="339966"/>
                </a:solidFill>
                <a:latin typeface="Times New Roman"/>
              </a:rPr>
              <a:t>1</a:t>
            </a: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 = s</a:t>
            </a:r>
            <a:r>
              <a:rPr b="1" i="1" lang="en-GB" sz="2400" spc="-1" strike="noStrike">
                <a:solidFill>
                  <a:srgbClr val="339966"/>
                </a:solidFill>
                <a:latin typeface="Times New Roman"/>
              </a:rPr>
              <a:t>n</a:t>
            </a: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then set terminated to true.</a:t>
            </a: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641160" indent="-207720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  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                       then set </a:t>
            </a:r>
            <a:r>
              <a:rPr b="1" i="1" lang="en-GB" sz="2400" spc="-1" strike="noStrike">
                <a:solidFill>
                  <a:srgbClr val="339966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’s current execution state to s</a:t>
            </a:r>
            <a:r>
              <a:rPr b="1" i="1" lang="en-GB" sz="2400" spc="-1" strike="noStrike">
                <a:solidFill>
                  <a:srgbClr val="339966"/>
                </a:solidFill>
                <a:latin typeface="Times New Roman"/>
              </a:rPr>
              <a:t>1</a:t>
            </a: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     or to s</a:t>
            </a:r>
            <a:r>
              <a:rPr b="1" i="1" lang="en-GB" sz="2400" spc="-1" strike="noStrike">
                <a:solidFill>
                  <a:srgbClr val="339966"/>
                </a:solidFill>
                <a:latin typeface="Times New Roman"/>
              </a:rPr>
              <a:t>2</a:t>
            </a: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 in case  that  </a:t>
            </a: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496400" y="5105520"/>
            <a:ext cx="1305000" cy="551160"/>
            <a:chOff x="4496400" y="5105520"/>
            <a:chExt cx="1305000" cy="551160"/>
          </a:xfrm>
        </p:grpSpPr>
        <p:sp>
          <p:nvSpPr>
            <p:cNvPr id="277" name=""/>
            <p:cNvSpPr/>
            <p:nvPr/>
          </p:nvSpPr>
          <p:spPr>
            <a:xfrm>
              <a:off x="4496400" y="52578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64c"/>
                  </a:solidFill>
                  <a:latin typeface="Times New Roman"/>
                </a:rPr>
                <a:t>s1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93520" y="52578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64c"/>
                  </a:solidFill>
                  <a:latin typeface="Times New Roman"/>
                </a:rPr>
                <a:t>s2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29040" y="5486400"/>
              <a:ext cx="457200" cy="0"/>
            </a:xfrm>
            <a:prstGeom prst="line">
              <a:avLst/>
            </a:prstGeom>
            <a:ln w="12600">
              <a:solidFill>
                <a:srgbClr val="00264c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06800" y="51055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264c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363400" y="3886200"/>
            <a:ext cx="1383840" cy="551160"/>
            <a:chOff x="2363400" y="3886200"/>
            <a:chExt cx="1383840" cy="551160"/>
          </a:xfrm>
        </p:grpSpPr>
        <p:sp>
          <p:nvSpPr>
            <p:cNvPr id="282" name=""/>
            <p:cNvSpPr/>
            <p:nvPr/>
          </p:nvSpPr>
          <p:spPr>
            <a:xfrm>
              <a:off x="2363400" y="4038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64c"/>
                  </a:solidFill>
                  <a:latin typeface="Times New Roman"/>
                </a:rPr>
                <a:t>si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4440" y="403848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64c"/>
                  </a:solidFill>
                  <a:latin typeface="Times New Roman"/>
                </a:rPr>
                <a:t>si+1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66880" y="4267080"/>
              <a:ext cx="457200" cy="0"/>
            </a:xfrm>
            <a:prstGeom prst="line">
              <a:avLst/>
            </a:prstGeom>
            <a:ln w="12600">
              <a:solidFill>
                <a:srgbClr val="00264c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37800" y="38862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64c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058480" y="4724280"/>
            <a:ext cx="1383840" cy="551160"/>
            <a:chOff x="2058480" y="4724280"/>
            <a:chExt cx="1383840" cy="551160"/>
          </a:xfrm>
        </p:grpSpPr>
        <p:sp>
          <p:nvSpPr>
            <p:cNvPr id="287" name=""/>
            <p:cNvSpPr/>
            <p:nvPr/>
          </p:nvSpPr>
          <p:spPr>
            <a:xfrm>
              <a:off x="2356920" y="47242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64c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2058480" y="4876560"/>
              <a:ext cx="1383840" cy="398880"/>
              <a:chOff x="2058480" y="4876560"/>
              <a:chExt cx="1383840" cy="398880"/>
            </a:xfrm>
          </p:grpSpPr>
          <p:sp>
            <p:nvSpPr>
              <p:cNvPr id="289" name=""/>
              <p:cNvSpPr/>
              <p:nvPr/>
            </p:nvSpPr>
            <p:spPr>
              <a:xfrm>
                <a:off x="2058480" y="487656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64c"/>
                    </a:solidFill>
                    <a:latin typeface="Times New Roman"/>
                  </a:rPr>
                  <a:t>s</a:t>
                </a:r>
                <a:r>
                  <a:rPr b="1" i="1" lang="en-US" sz="2000" spc="-1" strike="noStrike">
                    <a:solidFill>
                      <a:srgbClr val="00264c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819520" y="4876560"/>
                <a:ext cx="62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64c"/>
                    </a:solidFill>
                    <a:latin typeface="Times New Roman"/>
                  </a:rPr>
                  <a:t>s</a:t>
                </a:r>
                <a:r>
                  <a:rPr b="1" i="1" lang="en-US" sz="2000" spc="-1" strike="noStrike">
                    <a:solidFill>
                      <a:srgbClr val="00264c"/>
                    </a:solidFill>
                    <a:latin typeface="Times New Roman"/>
                  </a:rPr>
                  <a:t>i</a:t>
                </a:r>
                <a:r>
                  <a:rPr b="1" lang="en-US" sz="2000" spc="-1" strike="noStrike">
                    <a:solidFill>
                      <a:srgbClr val="00264c"/>
                    </a:solidFill>
                    <a:latin typeface="Times New Roman"/>
                  </a:rPr>
                  <a:t>+1</a:t>
                </a:r>
                <a:endParaRPr b="0" lang="en-US" sz="20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361960" y="5105160"/>
                <a:ext cx="457200" cy="0"/>
              </a:xfrm>
              <a:prstGeom prst="line">
                <a:avLst/>
              </a:prstGeom>
              <a:ln w="12600">
                <a:solidFill>
                  <a:srgbClr val="00264c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2438280" y="4952880"/>
                <a:ext cx="152280" cy="304560"/>
              </a:xfrm>
              <a:prstGeom prst="line">
                <a:avLst/>
              </a:prstGeom>
              <a:ln w="1260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Initial Prototype Implementation.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6104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-233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Design Options , Broadcasting Vs Network topology e.g Token Ring.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233280" indent="-233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Initial Prototype implementation based on Broadcasting.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233280" indent="-233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In theory ,worst case scenario in message complexity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233280" indent="-233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Polling used to reduce message traffic.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233280" indent="-233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Polling frequency , parameter for experimentation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233280" indent="-2332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Suitable for less dynamic applications.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233280" indent="-2332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Uses JADE agent execution model. 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verview: Structure of the talk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Motivation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Problems</a:t>
            </a:r>
            <a:endParaRPr b="1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Goals</a:t>
            </a:r>
            <a:endParaRPr b="1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Scenario (s)</a:t>
            </a:r>
            <a:endParaRPr b="1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Distributed Termination Detection Research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Agents, Protocols &amp; Termination Detection 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Definitions 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Framework, Algorithm and Implementation 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Future Work &amp; Summary 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Quiescence detection in multiagent multi-issue negotiation [Wellman].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Uses the tracing Dikstra Scholten Algorithm as a basis of detection protocol.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66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339966"/>
                </a:solidFill>
                <a:latin typeface="Times New Roman"/>
              </a:rPr>
              <a:t>Protocol operates as a layer on top of an underlying mediated negotiation protocol.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Overall agent’s behavior is a composition of basic negotiation behavior  with state transition diagram representing algorithm. 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80520" y="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Related Work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If Detection mechanism assumes correct participation by agents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9966"/>
                </a:solidFill>
                <a:latin typeface="Times New Roman"/>
              </a:rPr>
              <a:t>Unilateral (maybe strategic) deviation is a concern.</a:t>
            </a:r>
            <a:endParaRPr b="1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9966"/>
                </a:solidFill>
                <a:latin typeface="Times New Roman"/>
              </a:rPr>
              <a:t>Monitor knows protocol specification and enforces rules of participation.</a:t>
            </a:r>
            <a:endParaRPr b="1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9966"/>
                </a:solidFill>
                <a:latin typeface="Times New Roman"/>
              </a:rPr>
              <a:t>Consider incentives for agents to participate</a:t>
            </a:r>
            <a:r>
              <a:rPr b="1" lang="en-GB" sz="20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Monitor as a bottleneck and single point of failure.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9966"/>
                </a:solidFill>
                <a:latin typeface="Times New Roman"/>
              </a:rPr>
              <a:t>How to decentralise?</a:t>
            </a:r>
            <a:endParaRPr b="1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9966"/>
                </a:solidFill>
                <a:latin typeface="Times New Roman"/>
              </a:rPr>
              <a:t>General problem for most services eg Directory, Naming Services</a:t>
            </a:r>
            <a:endParaRPr b="1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9966"/>
                </a:solidFill>
                <a:latin typeface="Times New Roman"/>
              </a:rPr>
              <a:t>There exist Solutions e.g hierarchical setup in DNS. </a:t>
            </a:r>
            <a:endParaRPr b="1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Experiments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9966"/>
                </a:solidFill>
                <a:latin typeface="Times New Roman"/>
              </a:rPr>
              <a:t>Detection Delays.</a:t>
            </a:r>
            <a:endParaRPr b="1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9966"/>
                </a:solidFill>
                <a:latin typeface="Times New Roman"/>
              </a:rPr>
              <a:t>Scalability.</a:t>
            </a:r>
            <a:endParaRPr b="1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9966"/>
                </a:solidFill>
                <a:latin typeface="Times New Roman"/>
              </a:rPr>
              <a:t>Information Revealed by Agents &amp; Market Rules.</a:t>
            </a:r>
            <a:endParaRPr b="1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380520" y="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Issues &amp; Future work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First Step in realising a Framework for studying  determination of  a global state such as termination in agent societies.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66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inking research is DS and MAS.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Suggested Definitions and minimal additional information  that agents need to reveal to aid the detection process (</a:t>
            </a:r>
            <a:r>
              <a:rPr b="1" lang="en-GB" sz="2800" spc="-1" strike="noStrike">
                <a:solidFill>
                  <a:srgbClr val="339966"/>
                </a:solidFill>
                <a:latin typeface="Times New Roman"/>
              </a:rPr>
              <a:t>SUTP</a:t>
            </a: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). 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Identifying Outstanding issues and future experimental work.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Generate Discussion.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380520" y="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Working Assumptions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533520"/>
            <a:ext cx="86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Computing Pespective: Agents are autonomous, asynchronous , distributed and possibly mobile processe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Behaviour specification through protocol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Agents communicate in an ACL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Agents merely observed from the outside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557280" indent="-2142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Times New Roman"/>
              </a:rPr>
              <a:t>Observed Communication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557280" indent="-2142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Times New Roman"/>
              </a:rPr>
              <a:t>Elements of the behavior specification made availabl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MAS: Modular Distributed System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557280" indent="-2142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Times New Roman"/>
              </a:rPr>
              <a:t>Decentralised dat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557280" indent="-2142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Times New Roman"/>
              </a:rPr>
              <a:t>Agents have incomplete information or capabiliti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257040" indent="-2570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3962520"/>
            <a:ext cx="914400" cy="761760"/>
          </a:xfrm>
          <a:prstGeom prst="ellipse">
            <a:avLst/>
          </a:prstGeom>
          <a:solidFill>
            <a:srgbClr val="78c0b2"/>
          </a:solidFill>
          <a:ln w="1260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Trade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5334120"/>
            <a:ext cx="914400" cy="761760"/>
          </a:xfrm>
          <a:prstGeom prst="ellipse">
            <a:avLst/>
          </a:prstGeom>
          <a:solidFill>
            <a:srgbClr val="78c0b2"/>
          </a:solidFill>
          <a:ln w="1260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Trade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2819520"/>
            <a:ext cx="914400" cy="761760"/>
          </a:xfrm>
          <a:prstGeom prst="ellipse">
            <a:avLst/>
          </a:prstGeom>
          <a:solidFill>
            <a:srgbClr val="78c0b2"/>
          </a:solidFill>
          <a:ln w="1260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Trade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29080"/>
            <a:ext cx="1447920" cy="95220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Trader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1320" y="3848040"/>
            <a:ext cx="1447560" cy="9525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Trade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5067360"/>
            <a:ext cx="1447560" cy="9525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Trader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143000" y="3505320"/>
            <a:ext cx="4648320" cy="1904760"/>
            <a:chOff x="1143000" y="3505320"/>
            <a:chExt cx="4648320" cy="1904760"/>
          </a:xfrm>
        </p:grpSpPr>
        <p:grpSp>
          <p:nvGrpSpPr>
            <p:cNvPr id="95" name=""/>
            <p:cNvGrpSpPr/>
            <p:nvPr/>
          </p:nvGrpSpPr>
          <p:grpSpPr>
            <a:xfrm>
              <a:off x="2743200" y="3568680"/>
              <a:ext cx="1981080" cy="1572120"/>
              <a:chOff x="2743200" y="3568680"/>
              <a:chExt cx="1981080" cy="1572120"/>
            </a:xfrm>
          </p:grpSpPr>
          <p:sp>
            <p:nvSpPr>
              <p:cNvPr id="96" name=""/>
              <p:cNvSpPr/>
              <p:nvPr/>
            </p:nvSpPr>
            <p:spPr>
              <a:xfrm>
                <a:off x="2743200" y="3568680"/>
                <a:ext cx="1981080" cy="152352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202200" y="3949560"/>
                <a:ext cx="1163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00264c"/>
                    </a:solidFill>
                    <a:latin typeface="Times New Roman"/>
                  </a:rPr>
                  <a:t>Market</a:t>
                </a: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00264c"/>
                    </a:solidFill>
                    <a:latin typeface="Times New Roman"/>
                  </a:rPr>
                  <a:t>place</a:t>
                </a: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00264c"/>
                    </a:solidFill>
                    <a:latin typeface="Times New Roman"/>
                  </a:rPr>
                  <a:t>(CDA)</a:t>
                </a: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1523880" y="3505320"/>
              <a:ext cx="129564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43000" y="439416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057400" y="4965840"/>
              <a:ext cx="106668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00600" y="439416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495680" y="3505320"/>
              <a:ext cx="10670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5680" y="4902120"/>
              <a:ext cx="91440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143000" y="3200400"/>
            <a:ext cx="4419720" cy="2286000"/>
            <a:chOff x="1143000" y="3200400"/>
            <a:chExt cx="4419720" cy="2286000"/>
          </a:xfrm>
        </p:grpSpPr>
        <p:sp>
          <p:nvSpPr>
            <p:cNvPr id="105" name=""/>
            <p:cNvSpPr/>
            <p:nvPr/>
          </p:nvSpPr>
          <p:spPr>
            <a:xfrm>
              <a:off x="1600200" y="320040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143000" y="3390480"/>
              <a:ext cx="4343400" cy="88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09680" y="5486400"/>
              <a:ext cx="312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52280" y="15228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Scenario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62120" y="762120"/>
            <a:ext cx="7848360" cy="2133360"/>
            <a:chOff x="762120" y="762120"/>
            <a:chExt cx="7848360" cy="213336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2438280" y="1752480"/>
              <a:ext cx="1526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2971800" y="1752480"/>
              <a:ext cx="1522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3886200" y="1752480"/>
              <a:ext cx="1522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4"/>
            <a:stretch/>
          </p:blipFill>
          <p:spPr>
            <a:xfrm>
              <a:off x="4114800" y="2209680"/>
              <a:ext cx="1522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5"/>
            <a:stretch/>
          </p:blipFill>
          <p:spPr>
            <a:xfrm>
              <a:off x="4876920" y="1905120"/>
              <a:ext cx="1522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6"/>
            <a:stretch/>
          </p:blipFill>
          <p:spPr>
            <a:xfrm>
              <a:off x="6477120" y="1371600"/>
              <a:ext cx="1522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7"/>
            <a:stretch/>
          </p:blipFill>
          <p:spPr>
            <a:xfrm>
              <a:off x="5791320" y="2133720"/>
              <a:ext cx="1522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8"/>
            <a:stretch/>
          </p:blipFill>
          <p:spPr>
            <a:xfrm>
              <a:off x="7238880" y="1447920"/>
              <a:ext cx="1526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9"/>
            <a:stretch/>
          </p:blipFill>
          <p:spPr>
            <a:xfrm>
              <a:off x="7924680" y="1905120"/>
              <a:ext cx="1526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10"/>
            <a:stretch/>
          </p:blipFill>
          <p:spPr>
            <a:xfrm>
              <a:off x="6705720" y="762120"/>
              <a:ext cx="1522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11"/>
            <a:stretch/>
          </p:blipFill>
          <p:spPr>
            <a:xfrm>
              <a:off x="7543800" y="838080"/>
              <a:ext cx="1522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12"/>
            <a:stretch/>
          </p:blipFill>
          <p:spPr>
            <a:xfrm>
              <a:off x="762120" y="1600200"/>
              <a:ext cx="1522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13"/>
            <a:stretch/>
          </p:blipFill>
          <p:spPr>
            <a:xfrm>
              <a:off x="6172200" y="1371600"/>
              <a:ext cx="1522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14"/>
            <a:stretch/>
          </p:blipFill>
          <p:spPr>
            <a:xfrm>
              <a:off x="6324480" y="1523880"/>
              <a:ext cx="1526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15"/>
            <a:stretch/>
          </p:blipFill>
          <p:spPr>
            <a:xfrm>
              <a:off x="6477120" y="1676520"/>
              <a:ext cx="1522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16"/>
            <a:stretch/>
          </p:blipFill>
          <p:spPr>
            <a:xfrm>
              <a:off x="6629400" y="1828800"/>
              <a:ext cx="1522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17"/>
            <a:stretch/>
          </p:blipFill>
          <p:spPr>
            <a:xfrm>
              <a:off x="6781680" y="1981080"/>
              <a:ext cx="1526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18"/>
            <a:stretch/>
          </p:blipFill>
          <p:spPr>
            <a:xfrm>
              <a:off x="8458200" y="2666880"/>
              <a:ext cx="1522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19"/>
            <a:stretch/>
          </p:blipFill>
          <p:spPr>
            <a:xfrm>
              <a:off x="3962520" y="2666880"/>
              <a:ext cx="15228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"/>
          <p:cNvGrpSpPr/>
          <p:nvPr/>
        </p:nvGrpSpPr>
        <p:grpSpPr>
          <a:xfrm>
            <a:off x="7380000" y="3276720"/>
            <a:ext cx="1517400" cy="1754640"/>
            <a:chOff x="7380000" y="3276720"/>
            <a:chExt cx="1517400" cy="1754640"/>
          </a:xfrm>
        </p:grpSpPr>
        <p:sp>
          <p:nvSpPr>
            <p:cNvPr id="130" name=""/>
            <p:cNvSpPr/>
            <p:nvPr/>
          </p:nvSpPr>
          <p:spPr>
            <a:xfrm>
              <a:off x="7380000" y="3276720"/>
              <a:ext cx="144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Securities Market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88640" y="358128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Electricity Market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67120" y="3886200"/>
              <a:ext cx="14076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Computational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Resource Market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19400" y="4724280"/>
              <a:ext cx="127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Service Market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49040" y="2133720"/>
            <a:ext cx="25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lient/Buyer (Bids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04080" y="213372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erver/Seller (Asks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438280"/>
            <a:ext cx="2286000" cy="0"/>
          </a:xfrm>
          <a:prstGeom prst="line">
            <a:avLst/>
          </a:prstGeom>
          <a:ln w="12600">
            <a:solidFill>
              <a:srgbClr val="00264c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80880" y="4114800"/>
            <a:ext cx="7848360" cy="2133360"/>
            <a:chOff x="380880" y="4114800"/>
            <a:chExt cx="7848360" cy="2133360"/>
          </a:xfrm>
        </p:grpSpPr>
        <p:pic>
          <p:nvPicPr>
            <p:cNvPr id="138" name="" descr=""/>
            <p:cNvPicPr/>
            <p:nvPr/>
          </p:nvPicPr>
          <p:blipFill>
            <a:blip r:embed="rId20"/>
            <a:stretch/>
          </p:blipFill>
          <p:spPr>
            <a:xfrm>
              <a:off x="2057040" y="5105160"/>
              <a:ext cx="1526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1"/>
            <a:stretch/>
          </p:blipFill>
          <p:spPr>
            <a:xfrm>
              <a:off x="2590560" y="5105160"/>
              <a:ext cx="1522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2"/>
            <a:stretch/>
          </p:blipFill>
          <p:spPr>
            <a:xfrm>
              <a:off x="3504960" y="5105160"/>
              <a:ext cx="1522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3"/>
            <a:stretch/>
          </p:blipFill>
          <p:spPr>
            <a:xfrm>
              <a:off x="3733560" y="5562360"/>
              <a:ext cx="1522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4"/>
            <a:stretch/>
          </p:blipFill>
          <p:spPr>
            <a:xfrm>
              <a:off x="4495680" y="5257800"/>
              <a:ext cx="1522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5"/>
            <a:stretch/>
          </p:blipFill>
          <p:spPr>
            <a:xfrm>
              <a:off x="6095880" y="4724280"/>
              <a:ext cx="1522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6"/>
            <a:stretch/>
          </p:blipFill>
          <p:spPr>
            <a:xfrm>
              <a:off x="5410080" y="5486400"/>
              <a:ext cx="1522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7"/>
            <a:stretch/>
          </p:blipFill>
          <p:spPr>
            <a:xfrm>
              <a:off x="6857640" y="4800600"/>
              <a:ext cx="1526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28"/>
            <a:stretch/>
          </p:blipFill>
          <p:spPr>
            <a:xfrm>
              <a:off x="7543440" y="5257800"/>
              <a:ext cx="1526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29"/>
            <a:stretch/>
          </p:blipFill>
          <p:spPr>
            <a:xfrm>
              <a:off x="6324480" y="4114800"/>
              <a:ext cx="1522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30"/>
            <a:stretch/>
          </p:blipFill>
          <p:spPr>
            <a:xfrm>
              <a:off x="7162560" y="4190760"/>
              <a:ext cx="1522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31"/>
            <a:stretch/>
          </p:blipFill>
          <p:spPr>
            <a:xfrm>
              <a:off x="380880" y="4952880"/>
              <a:ext cx="1522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2"/>
            <a:stretch/>
          </p:blipFill>
          <p:spPr>
            <a:xfrm>
              <a:off x="5790960" y="4724280"/>
              <a:ext cx="1522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33"/>
            <a:stretch/>
          </p:blipFill>
          <p:spPr>
            <a:xfrm>
              <a:off x="5943240" y="4876560"/>
              <a:ext cx="1526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4"/>
            <a:stretch/>
          </p:blipFill>
          <p:spPr>
            <a:xfrm>
              <a:off x="6095880" y="5029200"/>
              <a:ext cx="1522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5"/>
            <a:stretch/>
          </p:blipFill>
          <p:spPr>
            <a:xfrm>
              <a:off x="6248160" y="5181480"/>
              <a:ext cx="1522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36"/>
            <a:stretch/>
          </p:blipFill>
          <p:spPr>
            <a:xfrm>
              <a:off x="6400440" y="5333760"/>
              <a:ext cx="1526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37"/>
            <a:stretch/>
          </p:blipFill>
          <p:spPr>
            <a:xfrm>
              <a:off x="8076960" y="6019560"/>
              <a:ext cx="1522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38"/>
            <a:stretch/>
          </p:blipFill>
          <p:spPr>
            <a:xfrm>
              <a:off x="3581280" y="6019560"/>
              <a:ext cx="1522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roduction: Problem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5335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270720" indent="-27072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64c"/>
                </a:solidFill>
                <a:latin typeface="Times New Roman"/>
              </a:rPr>
              <a:t>Interactions and termination detection in agent societies 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270720" indent="-27072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64c"/>
                </a:solidFill>
                <a:latin typeface="Times New Roman"/>
              </a:rPr>
              <a:t>E.G Deciding when the negotiation process is completely terminated.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270720" indent="-27072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64c"/>
                </a:solidFill>
                <a:latin typeface="Times New Roman"/>
              </a:rPr>
              <a:t>Also: determining a </a:t>
            </a:r>
            <a:r>
              <a:rPr b="1" lang="en-GB" sz="2600" spc="-1" strike="noStrike">
                <a:solidFill>
                  <a:srgbClr val="339966"/>
                </a:solidFill>
                <a:latin typeface="Times New Roman"/>
              </a:rPr>
              <a:t>global view</a:t>
            </a:r>
            <a:r>
              <a:rPr b="1" lang="en-GB" sz="2600" spc="-1" strike="noStrike">
                <a:solidFill>
                  <a:srgbClr val="00264c"/>
                </a:solidFill>
                <a:latin typeface="Times New Roman"/>
              </a:rPr>
              <a:t> from partial </a:t>
            </a:r>
            <a:r>
              <a:rPr b="1" lang="en-GB" sz="2600" spc="-1" strike="noStrike">
                <a:solidFill>
                  <a:srgbClr val="339966"/>
                </a:solidFill>
                <a:latin typeface="Times New Roman"/>
              </a:rPr>
              <a:t>local views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270720" indent="-27072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64c"/>
                </a:solidFill>
                <a:latin typeface="Times New Roman"/>
              </a:rPr>
              <a:t>Two Aspects (approaches) to the problem.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lvl="1" marL="586800" indent="-225720">
              <a:spcBef>
                <a:spcPts val="64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66"/>
                </a:solidFill>
                <a:latin typeface="Times New Roman"/>
              </a:rPr>
              <a:t>Formal Verification of behavior at compile time.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lvl="1" marL="586800" indent="-225720">
              <a:spcBef>
                <a:spcPts val="64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66"/>
                </a:solidFill>
                <a:latin typeface="Times New Roman"/>
              </a:rPr>
              <a:t>Monitoring and Control at run-time.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270720" indent="-27072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64c"/>
                </a:solidFill>
                <a:latin typeface="Times New Roman"/>
              </a:rPr>
              <a:t>In general Verification is difficult and not satisfactorily solved for deployed systems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270720" indent="-27072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64c"/>
                </a:solidFill>
                <a:latin typeface="Times New Roman"/>
              </a:rPr>
              <a:t>Also consider Monitoring and Control to complement formal verification research.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oal: Interaction Monitor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533520"/>
            <a:ext cx="86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240120" indent="-240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Development of a MAS Interaction Monitor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240120" indent="-240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Agent Designer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Times New Roman"/>
              </a:rPr>
              <a:t>Visibility of interaction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Times New Roman"/>
              </a:rPr>
              <a:t>Stage of task execution or Goal achievement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Times New Roman"/>
              </a:rPr>
              <a:t>Current Levels of resources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Times New Roman"/>
              </a:rPr>
              <a:t>Performance of strategies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Times New Roman"/>
              </a:rPr>
              <a:t>Control Tasks e.g returning, terminating , updating parameter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240120" indent="-240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Society Manage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Times New Roman"/>
              </a:rPr>
              <a:t>Automatic resource management and scheduling mechanism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Times New Roman"/>
              </a:rPr>
              <a:t>Management of registries, through timely garbage collection of defunct agents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Times New Roman"/>
              </a:rPr>
              <a:t>Agent Pooling and facilitation of optimal execution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Times New Roman"/>
              </a:rPr>
              <a:t>Enforcing market rules and observing deviant behaviour. 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oal: Interaction Monitor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5335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Global states, Distribution and complexity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Additional complexities introduced by agent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Development of an interaction monitor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Times New Roman"/>
              </a:rPr>
              <a:t>Maintain global view of interaction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Times New Roman"/>
              </a:rPr>
              <a:t>Detect termination of interactions and subsystem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Times New Roman"/>
              </a:rPr>
              <a:t>Drive timely garbage collection (“defunct” agents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Times New Roman"/>
              </a:rPr>
              <a:t>Keep registries up-to-date for example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Advocate principled, scalable and transparent solutions compared to ad hoc solutions (e.g. based on time outs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Distributed Termination Detection Research Overview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264c"/>
                </a:solidFill>
                <a:latin typeface="Times New Roman"/>
              </a:rPr>
              <a:t>Classical Problem of Distributed Control.</a:t>
            </a:r>
            <a:endParaRPr b="1" lang="en-US" sz="23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GB" sz="2300" spc="-1" strike="noStrike">
                <a:solidFill>
                  <a:srgbClr val="00264c"/>
                </a:solidFill>
                <a:latin typeface="Times New Roman"/>
              </a:rPr>
              <a:t>Of  Practical , Algorithmical, theorical and methodical importance.</a:t>
            </a:r>
            <a:endParaRPr b="1" lang="en-US" sz="23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264c"/>
                </a:solidFill>
                <a:latin typeface="Times New Roman"/>
              </a:rPr>
              <a:t>Communicating  process model: Termination implies ALL processes idle and NO computation is possible.</a:t>
            </a:r>
            <a:endParaRPr b="1" lang="en-US" sz="23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GB" sz="2300" spc="-1" strike="noStrike">
                <a:solidFill>
                  <a:srgbClr val="00264c"/>
                </a:solidFill>
                <a:latin typeface="Times New Roman"/>
              </a:rPr>
              <a:t>Example of a STABLE property (Property of the global state that if ever becomes true , will remain true forever).</a:t>
            </a:r>
            <a:endParaRPr b="1" lang="en-US" sz="23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264c"/>
                </a:solidFill>
                <a:latin typeface="Times New Roman"/>
              </a:rPr>
              <a:t>Related to deadlock detection, GC, Snapshot computation, distributed Consensus etc.</a:t>
            </a:r>
            <a:endParaRPr b="1" lang="en-US" sz="23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264c"/>
                </a:solidFill>
                <a:latin typeface="Times New Roman"/>
              </a:rPr>
              <a:t>Determining termination is a non-problem in sequential world</a:t>
            </a:r>
            <a:endParaRPr b="1" lang="en-US" sz="23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3160" y="144756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Very Difficult to check in a distributed whether all processes are passive. 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Difficult to achieve efficiently, it’s a GLOBAL state detection problem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A global state of DS consists of: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State of each process / object </a:t>
            </a: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State of channels</a:t>
            </a:r>
            <a:endParaRPr b="1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c"/>
                </a:solidFill>
                <a:latin typeface="Times New Roman"/>
              </a:rPr>
              <a:t>Difficult because of synchronisation problems (No shared memory , shared clocks etc.)</a:t>
            </a:r>
            <a:endParaRPr b="1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Cont..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28T22:09:47Z</dcterms:created>
  <dc:creator>Tshiamo Motshegwa</dc:creator>
  <dc:description/>
  <dc:language>en-US</dc:language>
  <cp:lastModifiedBy>ad225</cp:lastModifiedBy>
  <cp:lastPrinted>2003-10-28T20:39:57Z</cp:lastPrinted>
  <dcterms:modified xsi:type="dcterms:W3CDTF">2003-10-28T20:43:37Z</dcterms:modified>
  <cp:revision>468</cp:revision>
  <dc:subject/>
  <dc:title>ESAW presentation</dc:title>
</cp:coreProperties>
</file>