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914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14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91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07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14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91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14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6F5F-FC18-447A-BFD7-01DD8FC55A76}" type="slidenum">
              <a:rPr b="0" lang="en-US" sz="1200" spc="-1" strike="noStrike">
                <a:solidFill>
                  <a:srgbClr val="fe99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un - verb ~ object - event/process  (o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s depend on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depend on objects for identification (strawson 5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s participate in events via roles (tensiere 59/parsons 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/body dichotomy underlies event subcategorisation  mental/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D4C3-8550-43B2-8788-8F27E71D7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55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2710-B271-4798-857D-4A46C169F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96960" y="355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26AD-47C1-4880-972C-C9950F398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42280" y="140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69920" y="140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55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42280" y="355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69920" y="355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8DFA-FF04-4853-8BD2-8138844BF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77FF1-709C-4ACC-9181-89ABD93E0C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428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D62A2-5A32-462D-A30F-CBCE52ADF0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79944-4B3A-4123-B83F-A1027B003C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B8D2C-918C-4721-B44D-186C0D363B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52127-3118-417C-BC7C-6A9EF3B9FF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9880" y="17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19C48-4415-465F-9F95-D943ED5047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45BA0-9206-471A-8DCA-E6301822B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9B5C-DCDC-432A-9D6C-A9F89F14E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96960" y="355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FEE0D-5496-4B47-977D-30D8849227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A66E3-F49A-4146-AB05-795052BBE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4280" y="355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33715-10D1-4B59-81B4-17D0746C08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96960" y="355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E4EB6-72F1-42F1-9C58-C9C6EC3013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42280" y="140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69920" y="140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4280" y="355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42280" y="355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69920" y="355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77A42-64A1-472A-8F58-3CC65B95C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AD15-9337-468F-AC94-B747A06A3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EE72-9254-476F-98EB-6324F2857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ADEB-6469-42CA-831C-2427FBF47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7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1071-B088-48A1-8326-97B7E0BE6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18D2-06BE-466A-BD00-B1166600C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96960" y="355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F116-56C9-43A9-9A5D-5A1669EBF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96960" y="140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4DEC-612B-4C72-9C48-57B025AB9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112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0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07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509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e20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207f"/>
                </a:solidFill>
                <a:latin typeface="Times New Roman"/>
              </a:rPr>
              <a:t>Page </a:t>
            </a:r>
            <a:fld id="{62A3DF4D-A93F-4087-A2D8-B0FC43E5DF4F}" type="slidenum">
              <a:rPr b="0" lang="en-US" sz="1000" spc="-1" strike="noStrike">
                <a:solidFill>
                  <a:srgbClr val="0e20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13080" y="1628280"/>
            <a:ext cx="47512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07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24112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0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07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2509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e20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207f"/>
                </a:solidFill>
                <a:latin typeface="Times New Roman"/>
              </a:rPr>
              <a:t>Page </a:t>
            </a:r>
            <a:fld id="{3842C2F8-FB04-4D2E-8102-0501E51F68A3}" type="slidenum">
              <a:rPr b="0" lang="en-US" sz="1000" spc="-1" strike="noStrike">
                <a:solidFill>
                  <a:srgbClr val="0e20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124440" cy="78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6930" t="0" r="0" b="0"/>
          <a:stretch/>
        </p:blipFill>
        <p:spPr>
          <a:xfrm>
            <a:off x="330120" y="63360"/>
            <a:ext cx="3733920" cy="1544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835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1835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e20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e207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e207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oc.ic.ac.uk/~rjc/" TargetMode="External"/><Relationship Id="rId2" Type="http://schemas.openxmlformats.org/officeDocument/2006/relationships/hyperlink" Target="http://www.iis.ee.ic.ac.uk/~ldk/" TargetMode="External"/><Relationship Id="rId3" Type="http://schemas.openxmlformats.org/officeDocument/2006/relationships/hyperlink" Target="http://www.iis.ee.ic.ac.uk/~ldk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1628280"/>
            <a:ext cx="79930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e207f"/>
                </a:solidFill>
                <a:latin typeface="Arial"/>
              </a:rPr>
              <a:t>Comprehension and Rational Design of a Multi-Threaded Agent</a:t>
            </a:r>
            <a:endParaRPr b="0" lang="en-US" sz="36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7320" y="5437080"/>
            <a:ext cx="409572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835f"/>
                </a:solidFill>
                <a:latin typeface="Arial"/>
              </a:rPr>
              <a:t>Communicating Agents Group</a:t>
            </a:r>
            <a:endParaRPr b="0" lang="en-US" sz="1800" spc="-1" strike="noStrike">
              <a:solidFill>
                <a:srgbClr val="01835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835f"/>
                </a:solidFill>
                <a:latin typeface="Arial"/>
              </a:rPr>
              <a:t>Departments of Computing and </a:t>
            </a:r>
            <a:br>
              <a:rPr sz="1800"/>
            </a:br>
            <a:r>
              <a:rPr b="0" lang="en-US" sz="1800" spc="-1" strike="noStrike">
                <a:solidFill>
                  <a:srgbClr val="01835f"/>
                </a:solidFill>
                <a:latin typeface="Arial"/>
              </a:rPr>
              <a:t>Electrical and Electronic Engineering</a:t>
            </a:r>
            <a:endParaRPr b="0" lang="en-US" sz="18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323064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im Cunningham</a:t>
            </a:r>
            <a:br>
              <a:rPr sz="2800"/>
            </a:b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loyd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a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43640" y="260280"/>
            <a:ext cx="23544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9880" y="171360"/>
            <a:ext cx="58723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Perceiving concurrent processes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Processes are durative actions with temporal structure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Although durative actions can be delimited by initiation and termination events, interval logics support the perception of the progressive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207f"/>
                </a:solidFill>
                <a:latin typeface="Arial"/>
              </a:rPr>
              <a:t>informing, approaching, thinking, </a:t>
            </a: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as well as the description of </a:t>
            </a:r>
            <a:r>
              <a:rPr b="0" i="1" lang="en-GB" sz="2000" spc="-1" strike="noStrike">
                <a:solidFill>
                  <a:srgbClr val="0e207f"/>
                </a:solidFill>
                <a:latin typeface="Arial"/>
              </a:rPr>
              <a:t>behavioural activity states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Concurrent activities,  can thereby be treated as states by another thread for planning and monitoring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This allows a “conscious” management thread to control local deliberative processes, and have its own behavioural goal, inside a reactive defensive hull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Communiction and external management processes follow from extension to mutual beliefs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An Example: Oil Exploration Scenario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59360" y="2048040"/>
            <a:ext cx="1573200" cy="1126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98120" y="3156120"/>
            <a:ext cx="12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98760" y="4789440"/>
            <a:ext cx="1036440" cy="12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20000" y="604044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1080" y="6040440"/>
            <a:ext cx="149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rcRect l="0" t="0" r="2722" b="9012"/>
          <a:stretch/>
        </p:blipFill>
        <p:spPr>
          <a:xfrm>
            <a:off x="6923160" y="5126040"/>
            <a:ext cx="961920" cy="8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084400" y="2203560"/>
            <a:ext cx="985680" cy="925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8009" b="-2381"/>
          <a:stretch/>
        </p:blipFill>
        <p:spPr>
          <a:xfrm>
            <a:off x="1163520" y="2193840"/>
            <a:ext cx="912960" cy="947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60760" y="31561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818400" y="1409760"/>
            <a:ext cx="985680" cy="82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rcRect l="0" t="0" r="7855" b="2570"/>
          <a:stretch/>
        </p:blipFill>
        <p:spPr>
          <a:xfrm>
            <a:off x="6854760" y="2173320"/>
            <a:ext cx="933480" cy="90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660000" y="315612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68560" y="4659480"/>
            <a:ext cx="87120" cy="129960"/>
          </a:xfrm>
          <a:custGeom>
            <a:avLst/>
            <a:gdLst/>
            <a:ahLst/>
            <a:rect l="l" t="t" r="r" b="b"/>
            <a:pathLst>
              <a:path w="270" h="408">
                <a:moveTo>
                  <a:pt x="136" y="408"/>
                </a:moveTo>
                <a:lnTo>
                  <a:pt x="270" y="0"/>
                </a:lnTo>
                <a:lnTo>
                  <a:pt x="0" y="2"/>
                </a:lnTo>
                <a:lnTo>
                  <a:pt x="13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68560" y="3524400"/>
            <a:ext cx="87120" cy="129960"/>
          </a:xfrm>
          <a:custGeom>
            <a:avLst/>
            <a:gdLst/>
            <a:ahLst/>
            <a:rect l="l" t="t" r="r" b="b"/>
            <a:pathLst>
              <a:path w="270" h="406">
                <a:moveTo>
                  <a:pt x="135" y="0"/>
                </a:moveTo>
                <a:lnTo>
                  <a:pt x="0" y="406"/>
                </a:lnTo>
                <a:lnTo>
                  <a:pt x="270" y="405"/>
                </a:lnTo>
                <a:lnTo>
                  <a:pt x="1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112840" y="3627360"/>
            <a:ext cx="1800" cy="1059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60840" y="5397480"/>
            <a:ext cx="131760" cy="87480"/>
          </a:xfrm>
          <a:custGeom>
            <a:avLst/>
            <a:gdLst/>
            <a:ahLst/>
            <a:rect l="l" t="t" r="r" b="b"/>
            <a:pathLst>
              <a:path w="406" h="271">
                <a:moveTo>
                  <a:pt x="0" y="137"/>
                </a:moveTo>
                <a:lnTo>
                  <a:pt x="406" y="271"/>
                </a:lnTo>
                <a:lnTo>
                  <a:pt x="405" y="0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48560" y="5397480"/>
            <a:ext cx="129960" cy="87480"/>
          </a:xfrm>
          <a:custGeom>
            <a:avLst/>
            <a:gdLst/>
            <a:ahLst/>
            <a:rect l="l" t="t" r="r" b="b"/>
            <a:pathLst>
              <a:path w="407" h="271">
                <a:moveTo>
                  <a:pt x="407" y="136"/>
                </a:moveTo>
                <a:lnTo>
                  <a:pt x="0" y="0"/>
                </a:lnTo>
                <a:lnTo>
                  <a:pt x="1" y="271"/>
                </a:lnTo>
                <a:lnTo>
                  <a:pt x="407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65600" y="5442120"/>
            <a:ext cx="39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32040" y="5019840"/>
            <a:ext cx="135000" cy="98280"/>
          </a:xfrm>
          <a:custGeom>
            <a:avLst/>
            <a:gdLst/>
            <a:ahLst/>
            <a:rect l="l" t="t" r="r" b="b"/>
            <a:pathLst>
              <a:path w="423" h="305">
                <a:moveTo>
                  <a:pt x="0" y="305"/>
                </a:moveTo>
                <a:lnTo>
                  <a:pt x="423" y="240"/>
                </a:lnTo>
                <a:lnTo>
                  <a:pt x="300" y="0"/>
                </a:lnTo>
                <a:lnTo>
                  <a:pt x="0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13560" y="3067200"/>
            <a:ext cx="135000" cy="95040"/>
          </a:xfrm>
          <a:custGeom>
            <a:avLst/>
            <a:gdLst/>
            <a:ahLst/>
            <a:rect l="l" t="t" r="r" b="b"/>
            <a:pathLst>
              <a:path w="423" h="304">
                <a:moveTo>
                  <a:pt x="423" y="0"/>
                </a:moveTo>
                <a:lnTo>
                  <a:pt x="0" y="64"/>
                </a:lnTo>
                <a:lnTo>
                  <a:pt x="122" y="304"/>
                </a:lnTo>
                <a:lnTo>
                  <a:pt x="4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24200" y="3112920"/>
            <a:ext cx="3830760" cy="1957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4809960"/>
            <a:ext cx="87120" cy="131760"/>
          </a:xfrm>
          <a:custGeom>
            <a:avLst/>
            <a:gdLst/>
            <a:ahLst/>
            <a:rect l="l" t="t" r="r" b="b"/>
            <a:pathLst>
              <a:path w="271" h="407">
                <a:moveTo>
                  <a:pt x="138" y="407"/>
                </a:moveTo>
                <a:lnTo>
                  <a:pt x="271" y="0"/>
                </a:lnTo>
                <a:lnTo>
                  <a:pt x="0" y="1"/>
                </a:lnTo>
                <a:lnTo>
                  <a:pt x="138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69120" y="3527280"/>
            <a:ext cx="85680" cy="130320"/>
          </a:xfrm>
          <a:custGeom>
            <a:avLst/>
            <a:gdLst/>
            <a:ahLst/>
            <a:rect l="l" t="t" r="r" b="b"/>
            <a:pathLst>
              <a:path w="270" h="407">
                <a:moveTo>
                  <a:pt x="134" y="0"/>
                </a:moveTo>
                <a:lnTo>
                  <a:pt x="0" y="407"/>
                </a:lnTo>
                <a:lnTo>
                  <a:pt x="270" y="405"/>
                </a:lnTo>
                <a:lnTo>
                  <a:pt x="1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7313760" y="3630240"/>
            <a:ext cx="1440" cy="120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35880" y="2614680"/>
            <a:ext cx="129960" cy="85680"/>
          </a:xfrm>
          <a:custGeom>
            <a:avLst/>
            <a:gdLst/>
            <a:ahLst/>
            <a:rect l="l" t="t" r="r" b="b"/>
            <a:pathLst>
              <a:path w="407" h="270">
                <a:moveTo>
                  <a:pt x="407" y="135"/>
                </a:moveTo>
                <a:lnTo>
                  <a:pt x="0" y="0"/>
                </a:lnTo>
                <a:lnTo>
                  <a:pt x="1" y="270"/>
                </a:lnTo>
                <a:lnTo>
                  <a:pt x="407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35720" y="2614680"/>
            <a:ext cx="129960" cy="85680"/>
          </a:xfrm>
          <a:custGeom>
            <a:avLst/>
            <a:gdLst/>
            <a:ahLst/>
            <a:rect l="l" t="t" r="r" b="b"/>
            <a:pathLst>
              <a:path w="406" h="270">
                <a:moveTo>
                  <a:pt x="0" y="136"/>
                </a:moveTo>
                <a:lnTo>
                  <a:pt x="406" y="270"/>
                </a:lnTo>
                <a:lnTo>
                  <a:pt x="405" y="0"/>
                </a:lnTo>
                <a:lnTo>
                  <a:pt x="0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638320" y="2658960"/>
            <a:ext cx="102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6480" y="2614680"/>
            <a:ext cx="128520" cy="85680"/>
          </a:xfrm>
          <a:custGeom>
            <a:avLst/>
            <a:gdLst/>
            <a:ahLst/>
            <a:rect l="l" t="t" r="r" b="b"/>
            <a:pathLst>
              <a:path w="406" h="270">
                <a:moveTo>
                  <a:pt x="0" y="136"/>
                </a:moveTo>
                <a:lnTo>
                  <a:pt x="406" y="270"/>
                </a:lnTo>
                <a:lnTo>
                  <a:pt x="405" y="0"/>
                </a:lnTo>
                <a:lnTo>
                  <a:pt x="0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7200" y="2614680"/>
            <a:ext cx="131760" cy="85680"/>
          </a:xfrm>
          <a:custGeom>
            <a:avLst/>
            <a:gdLst/>
            <a:ahLst/>
            <a:rect l="l" t="t" r="r" b="b"/>
            <a:pathLst>
              <a:path w="407" h="270">
                <a:moveTo>
                  <a:pt x="407" y="135"/>
                </a:moveTo>
                <a:lnTo>
                  <a:pt x="0" y="0"/>
                </a:lnTo>
                <a:lnTo>
                  <a:pt x="1" y="270"/>
                </a:lnTo>
                <a:lnTo>
                  <a:pt x="407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2658960"/>
            <a:ext cx="9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51840" y="5099040"/>
            <a:ext cx="76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37760" y="40086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1640" y="234936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a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8000" y="236232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980000">
            <a:off x="4378320" y="3765240"/>
            <a:ext cx="76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g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5360" y="4008600"/>
            <a:ext cx="76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g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9520" y="171000"/>
            <a:ext cx="48056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Summary and Conclusions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e207f"/>
                </a:solidFill>
                <a:latin typeface="Arial"/>
              </a:rPr>
              <a:t>Complex agents entail many concurrent processes 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Superficially, both reactive and deliberative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behavioural and stative 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e207f"/>
                </a:solidFill>
                <a:latin typeface="Arial"/>
              </a:rPr>
              <a:t>An Interval temporal logic facilitates their design as goal oriented reactive processes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e207f"/>
                </a:solidFill>
                <a:latin typeface="Arial"/>
              </a:rPr>
              <a:t>A multi-threaded hull has many layers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Rapid/defensive/real-time processing and reaction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Conscious thread to manage deliberative activities: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Internal deliberation and exploratory processes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207f"/>
                </a:solidFill>
                <a:latin typeface="Arial"/>
              </a:rPr>
              <a:t>Subliminal learning etc. 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Apologies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e207f"/>
                </a:solidFill>
                <a:latin typeface="Arial"/>
              </a:rPr>
              <a:t>Look in vain for</a:t>
            </a: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Formalism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Demonstration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e207f"/>
                </a:solidFill>
                <a:latin typeface="Arial"/>
              </a:rPr>
              <a:t>Intent to demonstrate not realized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e207f"/>
                </a:solidFill>
                <a:latin typeface="Arial"/>
              </a:rPr>
              <a:t>Potential assessment: waffle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4724280"/>
            <a:ext cx="1371600" cy="10670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00800" y="4648320"/>
            <a:ext cx="129528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e20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Backgrounds (2)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e20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Wish list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e20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(Comprehending Existing Architectures)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e20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Our ontology for perceiving the world (2)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e20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Perceiving Concurrent Processes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e20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Example Scenario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e20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Summary and Conclusions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Background (1)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The Clark-McCabe Effect: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Slick Multi-threaded Programming Languages 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April - QuProlog - Go!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Agentcities experience, AAP platform, Early Tools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Lots of space for exploitation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207f"/>
                </a:solidFill>
                <a:latin typeface="Arial"/>
              </a:rPr>
              <a:t>Needs support for and from lesser mortals</a:t>
            </a:r>
            <a:endParaRPr b="0" lang="en-US" sz="3000" spc="-1" strike="noStrike">
              <a:solidFill>
                <a:srgbClr val="0e2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171360"/>
            <a:ext cx="38912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Background (2)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207f"/>
                </a:solidFill>
                <a:latin typeface="Arial"/>
              </a:rPr>
              <a:t>My predisposition to rational design: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207f"/>
                </a:solidFill>
                <a:latin typeface="Arial"/>
              </a:rPr>
              <a:t>The Goal oriented rationale of reaction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e207f"/>
                </a:solidFill>
                <a:latin typeface="Arial"/>
              </a:rPr>
              <a:t>if  perceive that goal is not satisfied, then take an action to achieve it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many generalisations, some mentioned in the paper 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07f"/>
                </a:solidFill>
                <a:latin typeface="Arial"/>
              </a:rPr>
              <a:t>Complex, stative or behavioural goals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07f"/>
                </a:solidFill>
                <a:latin typeface="Arial"/>
              </a:rPr>
              <a:t>non-deterministic, concurrent, or collaborative actions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07f"/>
                </a:solidFill>
                <a:latin typeface="Arial"/>
              </a:rPr>
              <a:t>Conventional logical framework inadequate/clumsy 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207f"/>
                </a:solidFill>
                <a:latin typeface="Arial"/>
              </a:rPr>
              <a:t>Problems with BDI agents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A deep, and sound rationale, but hidden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Designs obscure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Serial, so simple to realize, but slow, with complex logic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These issues only partly answered by AgentSpeak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207f"/>
                </a:solidFill>
                <a:latin typeface="Arial"/>
              </a:rPr>
              <a:t>The simplicity and efficiency of concurrent processing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207f"/>
                </a:solidFill>
                <a:latin typeface="Arial"/>
              </a:rPr>
              <a:t>Distaste for the Complexity of Java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9520" y="171000"/>
            <a:ext cx="290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A Wish List: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207f"/>
                </a:solidFill>
                <a:latin typeface="Arial"/>
              </a:rPr>
              <a:t>A rationale for the design of multi-threaded agents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Good enough to comprehend of existing agent architectures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A basis for a design methodology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207f"/>
                </a:solidFill>
                <a:latin typeface="Arial"/>
              </a:rPr>
              <a:t>A socio-cognitive architecture for human-agent systems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agents and owners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communication, perception, belief revision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representation, delegation, accountability, role adoption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internal learning, real-time task management, mobility, emotion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e207f"/>
                </a:solidFill>
                <a:latin typeface="Arial"/>
              </a:rPr>
              <a:t>A basis for tool support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Logic design tools 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07f"/>
                </a:solidFill>
                <a:latin typeface="Arial"/>
              </a:rPr>
              <a:t>Programming Languages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835f"/>
                </a:solidFill>
                <a:latin typeface="Arial"/>
              </a:rPr>
              <a:t>(Comprehending existing architectures)</a:t>
            </a:r>
            <a:endParaRPr b="0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14392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e207f"/>
                </a:solidFill>
                <a:latin typeface="Arial"/>
              </a:rPr>
              <a:t>Deliberative architectures are </a:t>
            </a:r>
            <a:r>
              <a:rPr b="0" i="1" lang="en-GB" sz="2600" spc="-1" strike="noStrike">
                <a:solidFill>
                  <a:srgbClr val="0e207f"/>
                </a:solidFill>
                <a:latin typeface="Arial"/>
              </a:rPr>
              <a:t>reactive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BDI (Bratman, Georgeff </a:t>
            </a:r>
            <a:r>
              <a:rPr b="0" i="1" lang="en-GB" sz="2000" spc="-1" strike="noStrike">
                <a:solidFill>
                  <a:srgbClr val="0e207f"/>
                </a:solidFill>
                <a:latin typeface="Arial"/>
              </a:rPr>
              <a:t>et al</a:t>
            </a: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.), 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AOP (Shoham)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e207f"/>
                </a:solidFill>
                <a:latin typeface="Arial"/>
              </a:rPr>
              <a:t>Reactive architectures have messy logic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Brooks subsumption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Arkin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Nilsson teleo-reactive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e207f"/>
                </a:solidFill>
                <a:latin typeface="Arial"/>
              </a:rPr>
              <a:t>Problems for logical specification</a:t>
            </a:r>
            <a:endParaRPr b="0" lang="en-US" sz="26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Both steady-state and behavioural goals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e2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Arial"/>
              </a:rPr>
              <a:t>Only partly addressed by Kowalski &amp; Sadri</a:t>
            </a:r>
            <a:endParaRPr b="0" lang="en-US" sz="16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Notations do not respect the independence of </a:t>
            </a:r>
            <a:br>
              <a:rPr sz="2000"/>
            </a:br>
            <a:r>
              <a:rPr b="0" lang="en-GB" sz="2000" spc="-1" strike="noStrike">
                <a:solidFill>
                  <a:srgbClr val="0e207f"/>
                </a:solidFill>
                <a:latin typeface="Arial"/>
              </a:rPr>
              <a:t>roles, events and objects</a:t>
            </a: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2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835f"/>
                </a:solidFill>
                <a:latin typeface="Arial"/>
              </a:rPr>
              <a:t>Back to basic’s:</a:t>
            </a:r>
            <a:br>
              <a:rPr sz="2800"/>
            </a:br>
            <a:r>
              <a:rPr b="0" lang="en-US" sz="2800" spc="-1" strike="noStrike">
                <a:solidFill>
                  <a:srgbClr val="01835f"/>
                </a:solidFill>
                <a:latin typeface="Arial"/>
              </a:rPr>
              <a:t> - Prior, Stawson, Tensiére, Parsons,  et al.</a:t>
            </a:r>
            <a:endParaRPr b="0" lang="en-US" sz="28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3920" y="1409400"/>
            <a:ext cx="83725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In our perception of the world: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Objects, Events, Attributes, and time are distinct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e207f"/>
                </a:solidFill>
                <a:latin typeface="Arial"/>
              </a:rPr>
              <a:t>Nouns, verbs, adjectives, tense &amp; aspect</a:t>
            </a:r>
            <a:endParaRPr b="0" lang="en-US" sz="19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States (or attributes) depend on objects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Events depend on objects for identification, but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Objects participate in events via roles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The person/body (or mental/physical) dichotomy underlies event sub-categorisation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Durative events (processes) have temporal  structure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07f"/>
                </a:solidFill>
                <a:latin typeface="Arial"/>
              </a:rPr>
              <a:t>Concurrent on-going processes become stative</a:t>
            </a:r>
            <a:endParaRPr b="0" lang="en-US" sz="24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e207f"/>
                </a:solidFill>
                <a:latin typeface="Arial"/>
              </a:rPr>
              <a:t>The effect of the progressive aspect in English</a:t>
            </a:r>
            <a:endParaRPr b="0" lang="en-US" sz="1900" spc="-1" strike="noStrike">
              <a:solidFill>
                <a:srgbClr val="0e2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9520" y="171360"/>
            <a:ext cx="8310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835f"/>
                </a:solidFill>
                <a:latin typeface="Arial"/>
              </a:rPr>
              <a:t>Schneider’s </a:t>
            </a:r>
            <a:r>
              <a:rPr b="0" i="1" lang="en-US" sz="2400" spc="-1" strike="noStrike">
                <a:solidFill>
                  <a:srgbClr val="01835f"/>
                </a:solidFill>
                <a:latin typeface="Arial"/>
              </a:rPr>
              <a:t>Minimal</a:t>
            </a:r>
            <a:r>
              <a:rPr b="0" lang="en-US" sz="2400" spc="-1" strike="noStrike">
                <a:solidFill>
                  <a:srgbClr val="01835f"/>
                </a:solidFill>
                <a:latin typeface="Arial"/>
              </a:rPr>
              <a:t> Semantic Ontology</a:t>
            </a:r>
            <a:endParaRPr b="0" lang="en-US" sz="2400" spc="-1" strike="noStrike">
              <a:solidFill>
                <a:srgbClr val="0183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762120"/>
                <a:ext cx="5140080" cy="586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inds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80880" y="990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914"/>
                </a:solidFill>
                <a:latin typeface="Arial"/>
              </a:rPr>
              <a:t>A top-leve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4:47:55Z</dcterms:created>
  <dc:creator>Lloyd Kamara</dc:creator>
  <dc:description/>
  <dc:language>en-US</dc:language>
  <cp:lastModifiedBy>Jim Cunningham</cp:lastModifiedBy>
  <dcterms:modified xsi:type="dcterms:W3CDTF">2003-10-30T12:14:18Z</dcterms:modified>
  <cp:revision>197</cp:revision>
  <dc:subject/>
  <dc:title>Comprehension and Rational Design of a Multi-Threaded Agent</dc:title>
</cp:coreProperties>
</file>