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177E-A726-4F23-A615-F7ABAA424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7908-B0E2-44A4-BAF1-EC4DB7A2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160C-6902-4EE2-8F1A-F5B42E45E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E92C-6834-4EC2-B9DC-0BDE6DAFB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C9C8-C4FC-41E3-B0C8-C715D1CD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D468-112E-408A-81A9-E348C3DE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2290-C3FA-4065-86A0-DFAF5E3C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DD0B-ACFB-4B10-94C5-559C3649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8E71-3C44-4F53-B0F9-A65BFD23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69CE-4C22-47CB-A664-F3D16556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166A-723F-4435-B37B-06B94ADE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A1A8-1F44-474C-8B7A-CA0F44F3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7194-67CE-4548-BCAB-07A781F35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7.xml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image" Target="../media/image27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8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9.png"/><Relationship Id="rId23" Type="http://schemas.openxmlformats.org/officeDocument/2006/relationships/image" Target="../media/image22.png"/><Relationship Id="rId24" Type="http://schemas.openxmlformats.org/officeDocument/2006/relationships/image" Target="../media/image30.png"/><Relationship Id="rId25" Type="http://schemas.openxmlformats.org/officeDocument/2006/relationships/image" Target="../media/image22.png"/><Relationship Id="rId26" Type="http://schemas.openxmlformats.org/officeDocument/2006/relationships/image" Target="../media/image31.png"/><Relationship Id="rId27" Type="http://schemas.openxmlformats.org/officeDocument/2006/relationships/image" Target="../media/image22.png"/><Relationship Id="rId28" Type="http://schemas.openxmlformats.org/officeDocument/2006/relationships/image" Target="../media/image32.png"/><Relationship Id="rId29" Type="http://schemas.openxmlformats.org/officeDocument/2006/relationships/image" Target="../media/image22.png"/><Relationship Id="rId30" Type="http://schemas.openxmlformats.org/officeDocument/2006/relationships/image" Target="../media/image33.png"/><Relationship Id="rId31" Type="http://schemas.openxmlformats.org/officeDocument/2006/relationships/image" Target="../media/image34.png"/><Relationship Id="rId32" Type="http://schemas.openxmlformats.org/officeDocument/2006/relationships/image" Target="../media/image35.png"/><Relationship Id="rId33" Type="http://schemas.openxmlformats.org/officeDocument/2006/relationships/image" Target="../media/image36.png"/><Relationship Id="rId34" Type="http://schemas.openxmlformats.org/officeDocument/2006/relationships/image" Target="../media/image37.png"/><Relationship Id="rId35" Type="http://schemas.openxmlformats.org/officeDocument/2006/relationships/image" Target="../media/image38.png"/><Relationship Id="rId36" Type="http://schemas.openxmlformats.org/officeDocument/2006/relationships/image" Target="../media/image38.png"/><Relationship Id="rId37" Type="http://schemas.openxmlformats.org/officeDocument/2006/relationships/image" Target="../media/image38.png"/><Relationship Id="rId38" Type="http://schemas.openxmlformats.org/officeDocument/2006/relationships/image" Target="../media/image38.png"/><Relationship Id="rId39" Type="http://schemas.openxmlformats.org/officeDocument/2006/relationships/image" Target="../media/image38.png"/><Relationship Id="rId40" Type="http://schemas.openxmlformats.org/officeDocument/2006/relationships/image" Target="../media/image38.png"/><Relationship Id="rId41" Type="http://schemas.openxmlformats.org/officeDocument/2006/relationships/image" Target="../media/image38.png"/><Relationship Id="rId42" Type="http://schemas.openxmlformats.org/officeDocument/2006/relationships/image" Target="../media/image38.png"/><Relationship Id="rId43" Type="http://schemas.openxmlformats.org/officeDocument/2006/relationships/image" Target="../media/image38.png"/><Relationship Id="rId44" Type="http://schemas.openxmlformats.org/officeDocument/2006/relationships/image" Target="../media/image38.png"/><Relationship Id="rId45" Type="http://schemas.openxmlformats.org/officeDocument/2006/relationships/image" Target="../media/image38.png"/><Relationship Id="rId46" Type="http://schemas.openxmlformats.org/officeDocument/2006/relationships/image" Target="../media/image38.png"/><Relationship Id="rId47" Type="http://schemas.openxmlformats.org/officeDocument/2006/relationships/image" Target="../media/image38.png"/><Relationship Id="rId48" Type="http://schemas.openxmlformats.org/officeDocument/2006/relationships/image" Target="../media/image38.png"/><Relationship Id="rId49" Type="http://schemas.openxmlformats.org/officeDocument/2006/relationships/slide" Target="slide13.xml"/><Relationship Id="rId5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2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1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2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1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3.png"/><Relationship Id="rId18" Type="http://schemas.openxmlformats.org/officeDocument/2006/relationships/slide" Target="slide13.xml"/><Relationship Id="rId1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Coordination and conversation protocols in open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multi-agent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Abdelkader GOUAICH, Ph.d. Stud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gouaich@lirmm.f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Laboratoire Informatique Robotique et Micro-Electronique de Montpellier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LIRMM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Montpellier, Fran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ep 2: Defining conversation protocols from the coordination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set o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implification rul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s defined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irectl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from the coordination graph G=&lt;A,N,O,V+,V-&gt;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34760" y="4952880"/>
            <a:ext cx="418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133720" y="2362320"/>
            <a:ext cx="4657680" cy="8762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209680" y="4003560"/>
            <a:ext cx="60480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11320" y="3962520"/>
            <a:ext cx="60516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62160" y="5715000"/>
            <a:ext cx="56988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04760" y="4876920"/>
            <a:ext cx="418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57600" y="54100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519360" y="53341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3443400" y="44953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757600" y="4572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04960" y="457200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762440" y="4876920"/>
                <a:ext cx="26938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4800600" y="4440240"/>
                <a:ext cx="13334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419720" y="1523880"/>
                <a:ext cx="129528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O</m:t>
                    </m:r>
                    <m:r>
                      <m:t xml:space="preserve">×</m:t>
                    </m:r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ep 2: Defining conversation protocols from the coordination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conversation protoco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s viewed as the set of conversations that are reduced to the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xio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built from the axiom x0) following the reductio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relation defined from the dependency-based coordination grap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conversation protoco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defined on a role-cut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found in a dependency-based coordination graph; and an axiom x0 is defined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523880" y="3352680"/>
            <a:ext cx="5962680" cy="51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581280" y="1981080"/>
            <a:ext cx="762120" cy="3873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3581280" y="4038480"/>
            <a:ext cx="971640" cy="3492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1295280" y="5054760"/>
            <a:ext cx="6705720" cy="50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>
            <a:off x="4267080" y="2286000"/>
            <a:ext cx="8384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mple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rotocol2" descr=""/>
          <p:cNvPicPr/>
          <p:nvPr/>
        </p:nvPicPr>
        <p:blipFill>
          <a:blip r:embed="rId1"/>
          <a:stretch/>
        </p:blipFill>
        <p:spPr>
          <a:xfrm>
            <a:off x="133200" y="509760"/>
            <a:ext cx="8858520" cy="58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mple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1640" y="2057040"/>
            <a:ext cx="388620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sequence observed at the roles-cut a valid conversa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3399"/>
                </a:solidFill>
                <a:uFillTx/>
                <a:latin typeface="Times New Roman"/>
                <a:hlinkClick r:id="rId1" action="ppaction://hlinksldjump"/>
              </a:rPr>
              <a:t>Y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3399"/>
                </a:solidFill>
                <a:uFillTx/>
                <a:latin typeface="Times New Roman"/>
                <a:hlinkClick r:id="rId2" action="ppaction://hlinksldjump"/>
              </a:rPr>
              <a:t>Semantics of this conver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a valid conversa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o, the partial order between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as been violated. There is no simplification rule that will remove this incorrect sequence. Thus, this expression will never be reduced to the axiom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185760" y="1076400"/>
            <a:ext cx="4538520" cy="41814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4533840" y="1219320"/>
            <a:ext cx="4381560" cy="9414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5334120" y="2133720"/>
            <a:ext cx="2286000" cy="3348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5257800" y="3581280"/>
            <a:ext cx="457200" cy="3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clusions and future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s valid(Coordination protocol) =&gt; is valid(Conversation protocol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lt;=&gt;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!is valid(Conversation protocol) =&gt; !is valid(Coordination protoc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 external observer (the environment in MIC*) may check the consistency of coordination protocols by only observing messages exchanged at the roles-cu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agent’s autonomy axiom is still preserv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sponsibility of an agent’s of being incoherent with its society norms is established by a trusted ent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presented work presented only an example of a formal link between the coordination protocol and its related conversation protocol. Still, it does not specify how to check efficiently the coherency of a convers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ecking the coherency of a conversation in a roles-cut is a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hard-problem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ut, the incremental nature of a conversation between agents opens opportunities in order to check the consistency of a conversation incremental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nk about iterative compiler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se works are under develop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1905120"/>
            <a:ext cx="512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mal94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523880" y="2030400"/>
            <a:ext cx="7010640" cy="4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10552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41" name=""/>
          <p:cNvGrpSpPr/>
          <p:nvPr/>
        </p:nvGrpSpPr>
        <p:grpSpPr>
          <a:xfrm>
            <a:off x="685800" y="371520"/>
            <a:ext cx="3962520" cy="314280"/>
            <a:chOff x="685800" y="371520"/>
            <a:chExt cx="3962520" cy="314280"/>
          </a:xfrm>
        </p:grpSpPr>
        <p:pic>
          <p:nvPicPr>
            <p:cNvPr id="242" name="" descr=""/>
            <p:cNvPicPr/>
            <p:nvPr/>
          </p:nvPicPr>
          <p:blipFill>
            <a:blip r:embed="rId2"/>
            <a:stretch/>
          </p:blipFill>
          <p:spPr>
            <a:xfrm>
              <a:off x="3629160" y="388800"/>
              <a:ext cx="1019160" cy="2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3"/>
            <a:stretch/>
          </p:blipFill>
          <p:spPr>
            <a:xfrm>
              <a:off x="685800" y="371520"/>
              <a:ext cx="714600" cy="29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4"/>
            <a:stretch/>
          </p:blipFill>
          <p:spPr>
            <a:xfrm>
              <a:off x="1384560" y="388800"/>
              <a:ext cx="116496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5"/>
            <a:stretch/>
          </p:blipFill>
          <p:spPr>
            <a:xfrm>
              <a:off x="2514600" y="388800"/>
              <a:ext cx="1165320" cy="297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685800" y="905040"/>
            <a:ext cx="714240" cy="2966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7"/>
          <a:stretch/>
        </p:blipFill>
        <p:spPr>
          <a:xfrm>
            <a:off x="1384200" y="922320"/>
            <a:ext cx="1165320" cy="2970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8"/>
          <a:stretch/>
        </p:blipFill>
        <p:spPr>
          <a:xfrm>
            <a:off x="2514600" y="922320"/>
            <a:ext cx="1165320" cy="297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9"/>
          <a:stretch/>
        </p:blipFill>
        <p:spPr>
          <a:xfrm>
            <a:off x="3657600" y="930240"/>
            <a:ext cx="990720" cy="2890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4191120" y="304920"/>
            <a:ext cx="380880" cy="3808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0"/>
          <a:stretch/>
        </p:blipFill>
        <p:spPr>
          <a:xfrm>
            <a:off x="685800" y="1438200"/>
            <a:ext cx="714240" cy="297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11"/>
          <a:stretch/>
        </p:blipFill>
        <p:spPr>
          <a:xfrm>
            <a:off x="1384200" y="1455840"/>
            <a:ext cx="1165320" cy="2966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2"/>
          <a:stretch/>
        </p:blipFill>
        <p:spPr>
          <a:xfrm>
            <a:off x="2567160" y="1447920"/>
            <a:ext cx="1928520" cy="2952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352680" y="838080"/>
            <a:ext cx="381240" cy="38124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3"/>
          <a:stretch/>
        </p:blipFill>
        <p:spPr>
          <a:xfrm>
            <a:off x="2595600" y="1951200"/>
            <a:ext cx="1595520" cy="3348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4"/>
          <a:stretch/>
        </p:blipFill>
        <p:spPr>
          <a:xfrm>
            <a:off x="685800" y="1971720"/>
            <a:ext cx="714240" cy="2966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5"/>
          <a:stretch/>
        </p:blipFill>
        <p:spPr>
          <a:xfrm>
            <a:off x="1425600" y="1989000"/>
            <a:ext cx="1165320" cy="297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733920" y="1371600"/>
            <a:ext cx="380880" cy="3808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6"/>
          <a:stretch/>
        </p:blipFill>
        <p:spPr>
          <a:xfrm>
            <a:off x="2590920" y="2390760"/>
            <a:ext cx="1276200" cy="3524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7"/>
          <a:stretch/>
        </p:blipFill>
        <p:spPr>
          <a:xfrm>
            <a:off x="685800" y="2428920"/>
            <a:ext cx="714240" cy="2966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18"/>
          <a:stretch/>
        </p:blipFill>
        <p:spPr>
          <a:xfrm>
            <a:off x="1425600" y="2446200"/>
            <a:ext cx="1165320" cy="2970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4114800" y="838080"/>
            <a:ext cx="380880" cy="38124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29000" y="1905120"/>
            <a:ext cx="304920" cy="3808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19520" y="1905120"/>
            <a:ext cx="304560" cy="3808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9"/>
          <a:stretch/>
        </p:blipFill>
        <p:spPr>
          <a:xfrm>
            <a:off x="2638440" y="2819520"/>
            <a:ext cx="942840" cy="3142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200400" y="2362320"/>
            <a:ext cx="304920" cy="3808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0"/>
          <a:stretch/>
        </p:blipFill>
        <p:spPr>
          <a:xfrm>
            <a:off x="685800" y="2886120"/>
            <a:ext cx="714240" cy="2966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1"/>
          <a:stretch/>
        </p:blipFill>
        <p:spPr>
          <a:xfrm>
            <a:off x="1425600" y="2903400"/>
            <a:ext cx="1165320" cy="297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2"/>
          <a:stretch/>
        </p:blipFill>
        <p:spPr>
          <a:xfrm>
            <a:off x="1447920" y="3292560"/>
            <a:ext cx="1981080" cy="2887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3"/>
          <a:stretch/>
        </p:blipFill>
        <p:spPr>
          <a:xfrm>
            <a:off x="685800" y="3284640"/>
            <a:ext cx="714240" cy="2966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2362320" y="2819520"/>
            <a:ext cx="304560" cy="3808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24080" y="2819520"/>
            <a:ext cx="304920" cy="3808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4"/>
          <a:stretch/>
        </p:blipFill>
        <p:spPr>
          <a:xfrm>
            <a:off x="1447920" y="3657600"/>
            <a:ext cx="1600200" cy="3207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5"/>
          <a:stretch/>
        </p:blipFill>
        <p:spPr>
          <a:xfrm>
            <a:off x="733320" y="3657600"/>
            <a:ext cx="714600" cy="297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666880" y="3200400"/>
            <a:ext cx="304920" cy="3808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6"/>
          <a:stretch/>
        </p:blipFill>
        <p:spPr>
          <a:xfrm>
            <a:off x="1447920" y="4024440"/>
            <a:ext cx="1295280" cy="3189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7"/>
          <a:stretch/>
        </p:blipFill>
        <p:spPr>
          <a:xfrm>
            <a:off x="733320" y="4032360"/>
            <a:ext cx="714600" cy="2966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8"/>
          <a:stretch/>
        </p:blipFill>
        <p:spPr>
          <a:xfrm>
            <a:off x="1447920" y="4354560"/>
            <a:ext cx="914400" cy="2937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9"/>
          <a:stretch/>
        </p:blipFill>
        <p:spPr>
          <a:xfrm>
            <a:off x="733320" y="4351320"/>
            <a:ext cx="714600" cy="2970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0"/>
          <a:stretch/>
        </p:blipFill>
        <p:spPr>
          <a:xfrm>
            <a:off x="762120" y="4694400"/>
            <a:ext cx="1523880" cy="4111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1"/>
          <a:stretch/>
        </p:blipFill>
        <p:spPr>
          <a:xfrm>
            <a:off x="685800" y="5102280"/>
            <a:ext cx="1219320" cy="3841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2"/>
          <a:stretch/>
        </p:blipFill>
        <p:spPr>
          <a:xfrm>
            <a:off x="762120" y="5410080"/>
            <a:ext cx="838080" cy="3762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3"/>
          <a:stretch/>
        </p:blipFill>
        <p:spPr>
          <a:xfrm>
            <a:off x="762120" y="5715000"/>
            <a:ext cx="761760" cy="3366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4"/>
          <a:stretch/>
        </p:blipFill>
        <p:spPr>
          <a:xfrm>
            <a:off x="762120" y="5943600"/>
            <a:ext cx="365040" cy="6094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286000" y="3581280"/>
            <a:ext cx="304920" cy="38124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3581280"/>
            <a:ext cx="304560" cy="38124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3962520"/>
            <a:ext cx="304920" cy="3808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05120" y="4343400"/>
            <a:ext cx="304560" cy="3808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14400" y="4343400"/>
            <a:ext cx="304920" cy="3808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00200" y="4648320"/>
            <a:ext cx="304920" cy="3808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95280" y="5029200"/>
            <a:ext cx="304920" cy="3808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19320" y="5410080"/>
            <a:ext cx="304560" cy="38124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" y="5715000"/>
            <a:ext cx="304920" cy="3808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35"/>
          <a:stretch/>
        </p:blipFill>
        <p:spPr>
          <a:xfrm>
            <a:off x="95400" y="762120"/>
            <a:ext cx="514080" cy="4222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6"/>
          <a:stretch/>
        </p:blipFill>
        <p:spPr>
          <a:xfrm>
            <a:off x="76320" y="1295280"/>
            <a:ext cx="514080" cy="4222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7"/>
          <a:stretch/>
        </p:blipFill>
        <p:spPr>
          <a:xfrm>
            <a:off x="76320" y="1828800"/>
            <a:ext cx="514080" cy="4222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8"/>
          <a:stretch/>
        </p:blipFill>
        <p:spPr>
          <a:xfrm>
            <a:off x="76320" y="2362320"/>
            <a:ext cx="514080" cy="4222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9"/>
          <a:stretch/>
        </p:blipFill>
        <p:spPr>
          <a:xfrm>
            <a:off x="76320" y="2819520"/>
            <a:ext cx="514080" cy="4222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40"/>
          <a:stretch/>
        </p:blipFill>
        <p:spPr>
          <a:xfrm>
            <a:off x="76320" y="3159000"/>
            <a:ext cx="514080" cy="4222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1"/>
          <a:stretch/>
        </p:blipFill>
        <p:spPr>
          <a:xfrm>
            <a:off x="76320" y="3540240"/>
            <a:ext cx="514080" cy="4222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42"/>
          <a:stretch/>
        </p:blipFill>
        <p:spPr>
          <a:xfrm>
            <a:off x="76320" y="3886200"/>
            <a:ext cx="514080" cy="4222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43"/>
          <a:stretch/>
        </p:blipFill>
        <p:spPr>
          <a:xfrm>
            <a:off x="76320" y="4267080"/>
            <a:ext cx="514080" cy="4222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4"/>
          <a:stretch/>
        </p:blipFill>
        <p:spPr>
          <a:xfrm>
            <a:off x="76320" y="4572000"/>
            <a:ext cx="514080" cy="4222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5"/>
          <a:stretch/>
        </p:blipFill>
        <p:spPr>
          <a:xfrm>
            <a:off x="95400" y="4952880"/>
            <a:ext cx="514080" cy="4222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6"/>
          <a:stretch/>
        </p:blipFill>
        <p:spPr>
          <a:xfrm>
            <a:off x="76320" y="5369040"/>
            <a:ext cx="514080" cy="42228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47"/>
          <a:stretch/>
        </p:blipFill>
        <p:spPr>
          <a:xfrm>
            <a:off x="76320" y="5715000"/>
            <a:ext cx="514080" cy="4222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48"/>
          <a:stretch/>
        </p:blipFill>
        <p:spPr>
          <a:xfrm>
            <a:off x="95400" y="6054840"/>
            <a:ext cx="514080" cy="422280"/>
          </a:xfrm>
          <a:prstGeom prst="rect">
            <a:avLst/>
          </a:prstGeom>
          <a:ln w="0">
            <a:noFill/>
          </a:ln>
        </p:spPr>
      </p:pic>
      <p:sp>
        <p:nvSpPr>
          <p:cNvPr id="308" name="">
            <a:hlinkClick r:id="rId49" action="ppaction://hlinksldjump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7493"/>
                </a:moveTo>
                <a:lnTo>
                  <a:pt x="10382" y="7493"/>
                </a:lnTo>
                <a:lnTo>
                  <a:pt x="10382" y="12828"/>
                </a:lnTo>
                <a:cubicBezTo>
                  <a:pt x="10382" y="13751"/>
                  <a:pt x="11182" y="14482"/>
                  <a:pt x="12218" y="14482"/>
                </a:cubicBezTo>
                <a:lnTo>
                  <a:pt x="13881" y="14482"/>
                </a:lnTo>
                <a:cubicBezTo>
                  <a:pt x="14916" y="14482"/>
                  <a:pt x="15717" y="13751"/>
                  <a:pt x="15717" y="12828"/>
                </a:cubicBezTo>
                <a:lnTo>
                  <a:pt x="15717" y="7493"/>
                </a:lnTo>
                <a:lnTo>
                  <a:pt x="13881" y="7493"/>
                </a:lnTo>
                <a:lnTo>
                  <a:pt x="17388" y="3985"/>
                </a:lnTo>
                <a:lnTo>
                  <a:pt x="21061" y="7493"/>
                </a:lnTo>
                <a:lnTo>
                  <a:pt x="19225" y="7493"/>
                </a:lnTo>
                <a:lnTo>
                  <a:pt x="19225" y="12828"/>
                </a:lnTo>
                <a:cubicBezTo>
                  <a:pt x="19225" y="15596"/>
                  <a:pt x="16648" y="18155"/>
                  <a:pt x="13881" y="18155"/>
                </a:cubicBezTo>
                <a:lnTo>
                  <a:pt x="12218" y="18155"/>
                </a:lnTo>
                <a:cubicBezTo>
                  <a:pt x="9450" y="18155"/>
                  <a:pt x="6874" y="15596"/>
                  <a:pt x="6874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115920" y="304920"/>
                <a:ext cx="5634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'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5562720" y="4343400"/>
                <a:ext cx="14936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2666880" y="762120"/>
            <a:ext cx="3429000" cy="50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4" name=""/>
          <p:cNvGraphicFramePr/>
          <p:nvPr/>
        </p:nvGraphicFramePr>
        <p:xfrm>
          <a:off x="914400" y="2286000"/>
          <a:ext cx="139068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2286000"/>
                    <a:ext cx="13906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2514600" y="2286000"/>
          <a:ext cx="2276640" cy="447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14600" y="2286000"/>
                    <a:ext cx="227664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4952880" y="2286000"/>
          <a:ext cx="1333800" cy="476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952880" y="2286000"/>
                    <a:ext cx="13338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6400800" y="2286000"/>
          <a:ext cx="1295280" cy="466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400800" y="2286000"/>
                    <a:ext cx="129528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6400800" y="3181320"/>
          <a:ext cx="1333440" cy="476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00800" y="3181320"/>
                    <a:ext cx="13334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4876920" y="3191040"/>
          <a:ext cx="1295280" cy="466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876920" y="3191040"/>
                    <a:ext cx="129528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3238560" y="3181320"/>
          <a:ext cx="1333440" cy="476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238560" y="3181320"/>
                    <a:ext cx="13334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1066680" y="3171960"/>
          <a:ext cx="1486080" cy="485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066680" y="3171960"/>
                    <a:ext cx="14860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2860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006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24852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01028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6095520" y="3429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495320" y="3429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251424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>
            <a:hlinkClick r:id="rId18" action="ppaction://hlinksldjump"/>
          </p:cNvPr>
          <p:cNvSpPr/>
          <p:nvPr/>
        </p:nvSpPr>
        <p:spPr>
          <a:xfrm>
            <a:off x="8229600" y="60199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7493"/>
                </a:moveTo>
                <a:lnTo>
                  <a:pt x="10391" y="7493"/>
                </a:lnTo>
                <a:lnTo>
                  <a:pt x="10391" y="12828"/>
                </a:lnTo>
                <a:cubicBezTo>
                  <a:pt x="10391" y="13751"/>
                  <a:pt x="11192" y="14482"/>
                  <a:pt x="12227" y="14482"/>
                </a:cubicBezTo>
                <a:lnTo>
                  <a:pt x="13890" y="14482"/>
                </a:lnTo>
                <a:cubicBezTo>
                  <a:pt x="14926" y="14482"/>
                  <a:pt x="15726" y="13751"/>
                  <a:pt x="15726" y="12828"/>
                </a:cubicBezTo>
                <a:lnTo>
                  <a:pt x="15726" y="7493"/>
                </a:lnTo>
                <a:lnTo>
                  <a:pt x="13890" y="7493"/>
                </a:lnTo>
                <a:lnTo>
                  <a:pt x="17397" y="3985"/>
                </a:lnTo>
                <a:lnTo>
                  <a:pt x="21070" y="7493"/>
                </a:lnTo>
                <a:lnTo>
                  <a:pt x="19234" y="7493"/>
                </a:lnTo>
                <a:lnTo>
                  <a:pt x="19234" y="12828"/>
                </a:lnTo>
                <a:cubicBezTo>
                  <a:pt x="19234" y="15596"/>
                  <a:pt x="16658" y="18155"/>
                  <a:pt x="13890" y="18155"/>
                </a:cubicBezTo>
                <a:lnTo>
                  <a:pt x="12227" y="18155"/>
                </a:lnTo>
                <a:cubicBezTo>
                  <a:pt x="9460" y="18155"/>
                  <a:pt x="6883" y="15596"/>
                  <a:pt x="6883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00760" y="121932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erywhere, Anytime Computing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ftware services available for (mobile) users everywhere and at any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eatures of these system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utonomy of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cal contro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ca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penness of th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ulti-level heterogeneit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echnological heterogene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sign heterogene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velopers heterogene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gent oriented software engineering seems to be an interesting approach for the design, implementation and deployment of these highly distributed softwar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presented work tries to understand link between coordination protocols (norms) and conversation protocols in a multi-agent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64000" y="1484280"/>
            <a:ext cx="320040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ackgrounds: What is coordin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3048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lone and Crowston [mal94] define coordination as managing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pendenci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mong 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mon dependencies among activities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hared re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ducer/Consu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erequi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multaneity constra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ask/Sub-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3880" y="793800"/>
            <a:ext cx="633888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ackgrounds: What is coordin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) Focus is made on activity aspect of coordin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hat activity to execut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hen an activity should be execut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odel to coordinate distributed tasks such as: Statecharts, Flowcharts, Process algebra, Lotos, SDL, Estell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) Conversational Aspects of coord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hat is the structure of the conversation among the coordinating entiti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SM, Petri-Nets, State Transition Dia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) Implementation centric 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ow to implement distributed software systems where software components coordinate their ac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or instance, Linda-family coordination mediu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2895480"/>
            <a:ext cx="1014480" cy="703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en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84960" y="2819520"/>
            <a:ext cx="1540080" cy="703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ver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en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17040" y="1676520"/>
            <a:ext cx="1793160" cy="703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en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1600200"/>
            <a:ext cx="27432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96160" y="2286000"/>
            <a:ext cx="1333440" cy="1523880"/>
          </a:xfrm>
          <a:custGeom>
            <a:avLst/>
            <a:gdLst/>
            <a:ahLst/>
            <a:rect l="l" t="t" r="r" b="b"/>
            <a:pathLst>
              <a:path w="840" h="960">
                <a:moveTo>
                  <a:pt x="840" y="0"/>
                </a:moveTo>
                <a:cubicBezTo>
                  <a:pt x="540" y="88"/>
                  <a:pt x="240" y="176"/>
                  <a:pt x="120" y="336"/>
                </a:cubicBezTo>
                <a:cubicBezTo>
                  <a:pt x="0" y="496"/>
                  <a:pt x="60" y="728"/>
                  <a:pt x="12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2209680"/>
            <a:ext cx="1600200" cy="609840"/>
          </a:xfrm>
          <a:custGeom>
            <a:avLst/>
            <a:gdLst/>
            <a:ahLst/>
            <a:rect l="l" t="t" r="r" b="b"/>
            <a:pathLst>
              <a:path w="1008" h="384">
                <a:moveTo>
                  <a:pt x="1008" y="384"/>
                </a:moveTo>
                <a:cubicBezTo>
                  <a:pt x="684" y="368"/>
                  <a:pt x="360" y="352"/>
                  <a:pt x="192" y="288"/>
                </a:cubicBezTo>
                <a:cubicBezTo>
                  <a:pt x="24" y="224"/>
                  <a:pt x="12" y="11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8480" y="3886200"/>
            <a:ext cx="1665000" cy="703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nera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81480" y="1447920"/>
            <a:ext cx="3353040" cy="32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oblem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960" y="9903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hat is the link between the conversation protocol and the coordination protocol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o answer this question, the following methodology has been adopt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ep 1: Starting from Malone and Crowson works a simple coordination model has been pro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ep 2: Starting from this coordination model, the conversation protocol is formally induced as valid sequences of messages recognised by a defined gramm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2438280"/>
            <a:ext cx="1014480" cy="703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en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7240" y="2362320"/>
            <a:ext cx="1540080" cy="703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ver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en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69320" y="1219320"/>
            <a:ext cx="1793160" cy="703800"/>
          </a:xfrm>
          <a:prstGeom prst="rec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en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38680" y="1143000"/>
            <a:ext cx="27432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48440" y="1828800"/>
            <a:ext cx="1333440" cy="1523880"/>
          </a:xfrm>
          <a:custGeom>
            <a:avLst/>
            <a:gdLst/>
            <a:ahLst/>
            <a:rect l="l" t="t" r="r" b="b"/>
            <a:pathLst>
              <a:path w="840" h="960">
                <a:moveTo>
                  <a:pt x="840" y="0"/>
                </a:moveTo>
                <a:cubicBezTo>
                  <a:pt x="540" y="88"/>
                  <a:pt x="240" y="176"/>
                  <a:pt x="120" y="336"/>
                </a:cubicBezTo>
                <a:cubicBezTo>
                  <a:pt x="0" y="496"/>
                  <a:pt x="60" y="728"/>
                  <a:pt x="12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638680" y="1752480"/>
            <a:ext cx="1600200" cy="609840"/>
          </a:xfrm>
          <a:custGeom>
            <a:avLst/>
            <a:gdLst/>
            <a:ahLst/>
            <a:rect l="l" t="t" r="r" b="b"/>
            <a:pathLst>
              <a:path w="1008" h="384">
                <a:moveTo>
                  <a:pt x="1008" y="384"/>
                </a:moveTo>
                <a:cubicBezTo>
                  <a:pt x="684" y="368"/>
                  <a:pt x="360" y="352"/>
                  <a:pt x="192" y="288"/>
                </a:cubicBezTo>
                <a:cubicBezTo>
                  <a:pt x="24" y="224"/>
                  <a:pt x="12" y="11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0760" y="3429000"/>
            <a:ext cx="1665000" cy="703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nera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4120" y="990720"/>
            <a:ext cx="3352680" cy="32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0" y="2819520"/>
            <a:ext cx="60948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867280" y="4648320"/>
            <a:ext cx="2133720" cy="685800"/>
            <a:chOff x="5867280" y="4648320"/>
            <a:chExt cx="2133720" cy="685800"/>
          </a:xfrm>
        </p:grpSpPr>
        <p:sp>
          <p:nvSpPr>
            <p:cNvPr id="72" name=""/>
            <p:cNvSpPr/>
            <p:nvPr/>
          </p:nvSpPr>
          <p:spPr>
            <a:xfrm>
              <a:off x="6908760" y="4800600"/>
              <a:ext cx="1092240" cy="533520"/>
            </a:xfrm>
            <a:custGeom>
              <a:avLst/>
              <a:gdLst/>
              <a:ahLst/>
              <a:rect l="l" t="t" r="r" b="b"/>
              <a:pathLst>
                <a:path w="688" h="336">
                  <a:moveTo>
                    <a:pt x="688" y="0"/>
                  </a:moveTo>
                  <a:cubicBezTo>
                    <a:pt x="456" y="20"/>
                    <a:pt x="224" y="40"/>
                    <a:pt x="112" y="96"/>
                  </a:cubicBezTo>
                  <a:cubicBezTo>
                    <a:pt x="0" y="152"/>
                    <a:pt x="8" y="244"/>
                    <a:pt x="16" y="33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867280" y="4800600"/>
              <a:ext cx="1092240" cy="533520"/>
            </a:xfrm>
            <a:custGeom>
              <a:avLst/>
              <a:gdLst/>
              <a:ahLst/>
              <a:rect l="l" t="t" r="r" b="b"/>
              <a:pathLst>
                <a:path w="688" h="336">
                  <a:moveTo>
                    <a:pt x="688" y="0"/>
                  </a:moveTo>
                  <a:cubicBezTo>
                    <a:pt x="456" y="20"/>
                    <a:pt x="224" y="40"/>
                    <a:pt x="112" y="96"/>
                  </a:cubicBezTo>
                  <a:cubicBezTo>
                    <a:pt x="0" y="152"/>
                    <a:pt x="8" y="244"/>
                    <a:pt x="16" y="336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783120" y="46483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572000" y="4572000"/>
            <a:ext cx="4572000" cy="1930320"/>
            <a:chOff x="4572000" y="4572000"/>
            <a:chExt cx="4572000" cy="1930320"/>
          </a:xfrm>
        </p:grpSpPr>
        <p:grpSp>
          <p:nvGrpSpPr>
            <p:cNvPr id="76" name=""/>
            <p:cNvGrpSpPr/>
            <p:nvPr/>
          </p:nvGrpSpPr>
          <p:grpSpPr>
            <a:xfrm>
              <a:off x="5562720" y="5334120"/>
              <a:ext cx="228600" cy="761400"/>
              <a:chOff x="5562720" y="5334120"/>
              <a:chExt cx="228600" cy="761400"/>
            </a:xfrm>
          </p:grpSpPr>
          <p:sp>
            <p:nvSpPr>
              <p:cNvPr id="77" name=""/>
              <p:cNvSpPr/>
              <p:nvPr/>
            </p:nvSpPr>
            <p:spPr>
              <a:xfrm>
                <a:off x="5562720" y="5334120"/>
                <a:ext cx="228600" cy="2282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562720" y="5562360"/>
                <a:ext cx="22860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8077320" y="5334120"/>
              <a:ext cx="228600" cy="761400"/>
              <a:chOff x="8077320" y="5334120"/>
              <a:chExt cx="228600" cy="761400"/>
            </a:xfrm>
          </p:grpSpPr>
          <p:sp>
            <p:nvSpPr>
              <p:cNvPr id="80" name=""/>
              <p:cNvSpPr/>
              <p:nvPr/>
            </p:nvSpPr>
            <p:spPr>
              <a:xfrm>
                <a:off x="8077320" y="5334120"/>
                <a:ext cx="228600" cy="2282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077320" y="5562360"/>
                <a:ext cx="228600" cy="5331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4572000" y="4648320"/>
              <a:ext cx="914400" cy="609480"/>
            </a:xfrm>
            <a:prstGeom prst="wedgeEllipseCallout">
              <a:avLst>
                <a:gd name="adj1" fmla="val 56597"/>
                <a:gd name="adj2" fmla="val 7317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24280" y="4800600"/>
              <a:ext cx="15264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6920" y="4876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05520" y="510552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4800600" y="4876920"/>
              <a:ext cx="380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05520" y="480060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81480" y="4952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229600" y="4572000"/>
              <a:ext cx="914400" cy="609480"/>
            </a:xfrm>
            <a:prstGeom prst="wedgeEllipseCallout">
              <a:avLst>
                <a:gd name="adj1" fmla="val -45310"/>
                <a:gd name="adj2" fmla="val 7838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81880" y="4724280"/>
              <a:ext cx="152640" cy="152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534520" y="4800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763120" y="502920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8458200" y="4800240"/>
              <a:ext cx="380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763120" y="4724280"/>
              <a:ext cx="152280" cy="152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83908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943600" y="53341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6019920" y="55627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19920" y="58672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6019920" y="60958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59240" y="613404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gent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48280" y="60958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gent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tep 1: Dependency-based coordina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9917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Hypothesis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ll the dependencies situations presented by Malone and Crowson can be expressed canonically as producer/consumer dependenc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hared resources: p/c dependency between a resource manager and its consum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multaneity: p/c dependency among a monitor and the concurrent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ask/SubTasks: p/c dependency between the task and its sub-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, only the producer/consumer dependency is needed to be expressed in a canonical coordination mod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dependency-based coordinal model is formally represented by a digraph G=&lt;A,N,T,V+,V-&gt;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ctivities: actions undertaken by processes or software components. Let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presents the set of activit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ransferable/Notifications: represent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hing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that are produced by the producer and consumed by the consumer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represents the set of actual objects exchanged among activities and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represents the set of notifications objects modelling prerequisite dependenc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+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V-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represents production and consumption arrow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43160" y="5759280"/>
            <a:ext cx="1400040" cy="260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657600" y="5748480"/>
            <a:ext cx="144792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tep 1: Dependency-based coordina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495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ole-Decomposi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ctivities of the coordination graph are decomposed into disjoint sets: R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role sub-graph is the smallest graph containing all activities of the role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nd the related transferable produced and consumed intern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oles-cut is defined as the minimal set of transferable that if all its elements were removed along with their related production and consumption vertexes this would produce a digraph with more connected components than the original 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6200" y="2438280"/>
            <a:ext cx="468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97640" y="2362320"/>
            <a:ext cx="468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492520" y="3886200"/>
            <a:ext cx="468720" cy="2059920"/>
            <a:chOff x="5492520" y="3886200"/>
            <a:chExt cx="468720" cy="2059920"/>
          </a:xfrm>
        </p:grpSpPr>
        <p:sp>
          <p:nvSpPr>
            <p:cNvPr id="111" name=""/>
            <p:cNvSpPr/>
            <p:nvPr/>
          </p:nvSpPr>
          <p:spPr>
            <a:xfrm>
              <a:off x="5492520" y="3886200"/>
              <a:ext cx="4687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92520" y="5486400"/>
              <a:ext cx="4687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7397640" y="3657600"/>
            <a:ext cx="544680" cy="2288520"/>
            <a:chOff x="7397640" y="3657600"/>
            <a:chExt cx="544680" cy="2288520"/>
          </a:xfrm>
        </p:grpSpPr>
        <p:sp>
          <p:nvSpPr>
            <p:cNvPr id="114" name=""/>
            <p:cNvSpPr/>
            <p:nvPr/>
          </p:nvSpPr>
          <p:spPr>
            <a:xfrm>
              <a:off x="7397640" y="3657600"/>
              <a:ext cx="4687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73600" y="5486400"/>
              <a:ext cx="4687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7377120" y="4419720"/>
            <a:ext cx="66240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81880" y="2895480"/>
            <a:ext cx="47052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18280" y="1447920"/>
            <a:ext cx="66240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24480" y="3124080"/>
            <a:ext cx="47052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70360" y="5334120"/>
            <a:ext cx="44676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5680" y="4648320"/>
            <a:ext cx="66240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867280" y="205740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05720" y="20574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43800" y="28195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619760" y="350532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0120" y="411480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7240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7010280" y="563868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943240" y="56386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150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4343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1500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416200" y="2362320"/>
            <a:ext cx="2526120" cy="3583800"/>
            <a:chOff x="5416200" y="2362320"/>
            <a:chExt cx="2526120" cy="3583800"/>
          </a:xfrm>
        </p:grpSpPr>
        <p:sp>
          <p:nvSpPr>
            <p:cNvPr id="135" name=""/>
            <p:cNvSpPr/>
            <p:nvPr/>
          </p:nvSpPr>
          <p:spPr>
            <a:xfrm>
              <a:off x="5416200" y="2438280"/>
              <a:ext cx="468720" cy="4597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97640" y="2362320"/>
              <a:ext cx="468720" cy="4597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7397640" y="3657600"/>
              <a:ext cx="544680" cy="2288520"/>
              <a:chOff x="7397640" y="3657600"/>
              <a:chExt cx="544680" cy="2288520"/>
            </a:xfrm>
          </p:grpSpPr>
          <p:sp>
            <p:nvSpPr>
              <p:cNvPr id="138" name=""/>
              <p:cNvSpPr/>
              <p:nvPr/>
            </p:nvSpPr>
            <p:spPr>
              <a:xfrm>
                <a:off x="7397640" y="3657600"/>
                <a:ext cx="468720" cy="45972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473600" y="5486400"/>
                <a:ext cx="468720" cy="45972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5492520" y="3886200"/>
              <a:ext cx="468720" cy="2059920"/>
              <a:chOff x="5492520" y="3886200"/>
              <a:chExt cx="468720" cy="2059920"/>
            </a:xfrm>
          </p:grpSpPr>
          <p:sp>
            <p:nvSpPr>
              <p:cNvPr id="141" name=""/>
              <p:cNvSpPr/>
              <p:nvPr/>
            </p:nvSpPr>
            <p:spPr>
              <a:xfrm>
                <a:off x="5492520" y="3886200"/>
                <a:ext cx="468720" cy="4597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92520" y="5486400"/>
                <a:ext cx="468720" cy="4597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5181480" y="1143000"/>
            <a:ext cx="3048120" cy="5105520"/>
            <a:chOff x="5181480" y="1143000"/>
            <a:chExt cx="3048120" cy="5105520"/>
          </a:xfrm>
        </p:grpSpPr>
        <p:sp>
          <p:nvSpPr>
            <p:cNvPr id="144" name=""/>
            <p:cNvSpPr/>
            <p:nvPr/>
          </p:nvSpPr>
          <p:spPr>
            <a:xfrm>
              <a:off x="5257800" y="1143000"/>
              <a:ext cx="2743200" cy="1752480"/>
            </a:xfrm>
            <a:prstGeom prst="rect">
              <a:avLst/>
            </a:prstGeom>
            <a:noFill/>
            <a:ln w="28440">
              <a:solidFill>
                <a:srgbClr val="3399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62920" y="3657600"/>
              <a:ext cx="1066680" cy="2362320"/>
            </a:xfrm>
            <a:prstGeom prst="rect">
              <a:avLst/>
            </a:prstGeom>
            <a:noFill/>
            <a:ln w="2844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1480" y="3886200"/>
              <a:ext cx="1067040" cy="2362320"/>
            </a:xfrm>
            <a:prstGeom prst="rect">
              <a:avLst/>
            </a:prstGeom>
            <a:noFill/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5178600" y="2911320"/>
            <a:ext cx="2876400" cy="3151440"/>
          </a:xfrm>
          <a:custGeom>
            <a:avLst/>
            <a:gdLst/>
            <a:ahLst/>
            <a:rect l="l" t="t" r="r" b="b"/>
            <a:pathLst>
              <a:path w="1812" h="1985">
                <a:moveTo>
                  <a:pt x="238" y="89"/>
                </a:moveTo>
                <a:cubicBezTo>
                  <a:pt x="165" y="114"/>
                  <a:pt x="200" y="97"/>
                  <a:pt x="132" y="142"/>
                </a:cubicBezTo>
                <a:cubicBezTo>
                  <a:pt x="123" y="148"/>
                  <a:pt x="105" y="160"/>
                  <a:pt x="105" y="160"/>
                </a:cubicBezTo>
                <a:cubicBezTo>
                  <a:pt x="91" y="206"/>
                  <a:pt x="102" y="180"/>
                  <a:pt x="61" y="240"/>
                </a:cubicBezTo>
                <a:cubicBezTo>
                  <a:pt x="55" y="249"/>
                  <a:pt x="43" y="266"/>
                  <a:pt x="43" y="266"/>
                </a:cubicBezTo>
                <a:cubicBezTo>
                  <a:pt x="0" y="395"/>
                  <a:pt x="90" y="485"/>
                  <a:pt x="203" y="523"/>
                </a:cubicBezTo>
                <a:cubicBezTo>
                  <a:pt x="290" y="584"/>
                  <a:pt x="614" y="564"/>
                  <a:pt x="708" y="567"/>
                </a:cubicBezTo>
                <a:cubicBezTo>
                  <a:pt x="726" y="579"/>
                  <a:pt x="754" y="583"/>
                  <a:pt x="761" y="603"/>
                </a:cubicBezTo>
                <a:cubicBezTo>
                  <a:pt x="767" y="621"/>
                  <a:pt x="773" y="638"/>
                  <a:pt x="779" y="656"/>
                </a:cubicBezTo>
                <a:cubicBezTo>
                  <a:pt x="782" y="665"/>
                  <a:pt x="788" y="683"/>
                  <a:pt x="788" y="683"/>
                </a:cubicBezTo>
                <a:cubicBezTo>
                  <a:pt x="794" y="773"/>
                  <a:pt x="799" y="860"/>
                  <a:pt x="814" y="949"/>
                </a:cubicBezTo>
                <a:cubicBezTo>
                  <a:pt x="823" y="1075"/>
                  <a:pt x="822" y="1196"/>
                  <a:pt x="805" y="1321"/>
                </a:cubicBezTo>
                <a:cubicBezTo>
                  <a:pt x="798" y="1371"/>
                  <a:pt x="779" y="1420"/>
                  <a:pt x="770" y="1471"/>
                </a:cubicBezTo>
                <a:cubicBezTo>
                  <a:pt x="773" y="1554"/>
                  <a:pt x="772" y="1637"/>
                  <a:pt x="779" y="1719"/>
                </a:cubicBezTo>
                <a:cubicBezTo>
                  <a:pt x="784" y="1774"/>
                  <a:pt x="811" y="1813"/>
                  <a:pt x="841" y="1852"/>
                </a:cubicBezTo>
                <a:cubicBezTo>
                  <a:pt x="902" y="1931"/>
                  <a:pt x="901" y="1951"/>
                  <a:pt x="1000" y="1985"/>
                </a:cubicBezTo>
                <a:cubicBezTo>
                  <a:pt x="1007" y="1984"/>
                  <a:pt x="1064" y="1977"/>
                  <a:pt x="1080" y="1968"/>
                </a:cubicBezTo>
                <a:cubicBezTo>
                  <a:pt x="1099" y="1958"/>
                  <a:pt x="1133" y="1932"/>
                  <a:pt x="1133" y="1932"/>
                </a:cubicBezTo>
                <a:cubicBezTo>
                  <a:pt x="1145" y="1914"/>
                  <a:pt x="1162" y="1899"/>
                  <a:pt x="1169" y="1879"/>
                </a:cubicBezTo>
                <a:cubicBezTo>
                  <a:pt x="1175" y="1861"/>
                  <a:pt x="1186" y="1826"/>
                  <a:pt x="1186" y="1826"/>
                </a:cubicBezTo>
                <a:cubicBezTo>
                  <a:pt x="1181" y="1743"/>
                  <a:pt x="1168" y="1676"/>
                  <a:pt x="1160" y="1595"/>
                </a:cubicBezTo>
                <a:cubicBezTo>
                  <a:pt x="1148" y="1474"/>
                  <a:pt x="1150" y="1351"/>
                  <a:pt x="1124" y="1232"/>
                </a:cubicBezTo>
                <a:cubicBezTo>
                  <a:pt x="1103" y="1134"/>
                  <a:pt x="1069" y="1040"/>
                  <a:pt x="1054" y="940"/>
                </a:cubicBezTo>
                <a:cubicBezTo>
                  <a:pt x="1062" y="784"/>
                  <a:pt x="1075" y="553"/>
                  <a:pt x="1257" y="497"/>
                </a:cubicBezTo>
                <a:cubicBezTo>
                  <a:pt x="1357" y="431"/>
                  <a:pt x="1498" y="430"/>
                  <a:pt x="1612" y="417"/>
                </a:cubicBezTo>
                <a:cubicBezTo>
                  <a:pt x="1650" y="404"/>
                  <a:pt x="1689" y="394"/>
                  <a:pt x="1727" y="381"/>
                </a:cubicBezTo>
                <a:cubicBezTo>
                  <a:pt x="1746" y="375"/>
                  <a:pt x="1761" y="361"/>
                  <a:pt x="1780" y="355"/>
                </a:cubicBezTo>
                <a:cubicBezTo>
                  <a:pt x="1786" y="336"/>
                  <a:pt x="1806" y="322"/>
                  <a:pt x="1807" y="302"/>
                </a:cubicBezTo>
                <a:cubicBezTo>
                  <a:pt x="1812" y="232"/>
                  <a:pt x="1800" y="209"/>
                  <a:pt x="1780" y="151"/>
                </a:cubicBezTo>
                <a:cubicBezTo>
                  <a:pt x="1773" y="131"/>
                  <a:pt x="1757" y="116"/>
                  <a:pt x="1745" y="98"/>
                </a:cubicBezTo>
                <a:cubicBezTo>
                  <a:pt x="1739" y="89"/>
                  <a:pt x="1731" y="81"/>
                  <a:pt x="1727" y="71"/>
                </a:cubicBezTo>
                <a:cubicBezTo>
                  <a:pt x="1716" y="40"/>
                  <a:pt x="1691" y="16"/>
                  <a:pt x="1656" y="9"/>
                </a:cubicBezTo>
                <a:cubicBezTo>
                  <a:pt x="1624" y="3"/>
                  <a:pt x="1591" y="3"/>
                  <a:pt x="1559" y="0"/>
                </a:cubicBezTo>
                <a:cubicBezTo>
                  <a:pt x="1479" y="9"/>
                  <a:pt x="1430" y="26"/>
                  <a:pt x="1355" y="45"/>
                </a:cubicBezTo>
                <a:cubicBezTo>
                  <a:pt x="1343" y="48"/>
                  <a:pt x="1331" y="51"/>
                  <a:pt x="1319" y="54"/>
                </a:cubicBezTo>
                <a:cubicBezTo>
                  <a:pt x="1301" y="59"/>
                  <a:pt x="1266" y="71"/>
                  <a:pt x="1266" y="71"/>
                </a:cubicBezTo>
                <a:cubicBezTo>
                  <a:pt x="1211" y="109"/>
                  <a:pt x="1128" y="129"/>
                  <a:pt x="1062" y="142"/>
                </a:cubicBezTo>
                <a:cubicBezTo>
                  <a:pt x="817" y="134"/>
                  <a:pt x="579" y="107"/>
                  <a:pt x="336" y="80"/>
                </a:cubicBezTo>
                <a:cubicBezTo>
                  <a:pt x="280" y="83"/>
                  <a:pt x="167" y="89"/>
                  <a:pt x="167" y="89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ep 2: Defining conversation protocols from the coordination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ta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eraction objects set (Message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+ commutative law and . (dot) non commutative 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eraction objects free monoid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uilt using the dot law (conversa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rked interaction objects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tility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s a utility function to remove marks from a sequence of interaction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jection of an interaction object sequence on a sub-set alphab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 an activity node           ,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+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represents the set of production arrows;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-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presents the set of consumption arrow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iven a relatio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              represents a finite composition of the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lation 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914400" y="1447920"/>
                <a:ext cx="83808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800280" y="2076480"/>
                <a:ext cx="4190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O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838080" y="2438280"/>
                <a:ext cx="18860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O</m:t>
                        </m:r>
                      </m:e>
                    </m:ba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O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816120" y="3200400"/>
                <a:ext cx="15462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t xml:space="preserve">:</m:t>
                    </m:r>
                    <m:r>
                      <m:t xml:space="preserve">O</m:t>
                    </m:r>
                    <m:sSup>
                      <m:e>
                        <m:r>
                          <m:t xml:space="preserve">'</m:t>
                        </m:r>
                      </m:e>
                      <m:sup/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O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914400" y="2838600"/>
                <a:ext cx="14940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∪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O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828720" y="3916440"/>
                <a:ext cx="229536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∈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:</m:t>
                    </m:r>
                    <m:sSup>
                      <m:e>
                        <m:r>
                          <m:t xml:space="preserve">O</m:t>
                        </m:r>
                      </m:e>
                      <m:sup/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O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048120" y="4648320"/>
                <a:ext cx="6634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133720" y="5573880"/>
                <a:ext cx="73008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276720" y="5257800"/>
            <a:ext cx="40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83720" y="-76320"/>
            <a:ext cx="7140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ep 2: Defining conversation protocols from the coordination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rewriting system among conversations is defined by the rewriting relation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re alphabet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re sequences of interaction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838080" y="1649520"/>
                <a:ext cx="19051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:</m:t>
                    </m:r>
                    <m:r>
                      <m:t xml:space="preserve">O</m:t>
                    </m:r>
                    <m:sSup>
                      <m:e>
                        <m:r>
                          <m:t xml:space="preserve">'</m:t>
                        </m:r>
                      </m:e>
                      <m:sup/>
                    </m:sSup>
                    <m:r>
                      <m:t xml:space="preserve">×</m:t>
                    </m:r>
                    <m:r>
                      <m:t xml:space="preserve">O</m:t>
                    </m:r>
                    <m:sSup>
                      <m:e>
                        <m:r>
                          <m:t xml:space="preserve">'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38216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42880" y="3419640"/>
            <a:ext cx="1971720" cy="466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95360" y="3886200"/>
            <a:ext cx="2171520" cy="380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724280" y="553896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5878440"/>
            <a:ext cx="79560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14600" y="5878440"/>
            <a:ext cx="64296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5878440"/>
            <a:ext cx="94788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63880" y="5878440"/>
            <a:ext cx="4856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30560" y="5878440"/>
            <a:ext cx="4856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29160" y="5878440"/>
            <a:ext cx="94788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33840" y="5878440"/>
            <a:ext cx="94788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149560" y="5811840"/>
                <a:ext cx="3985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124080" y="5811840"/>
                <a:ext cx="4651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990720" y="5005440"/>
            <a:ext cx="79524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5005440"/>
            <a:ext cx="64296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76720" y="5005440"/>
            <a:ext cx="94752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8960" y="5005440"/>
            <a:ext cx="4856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25640" y="5005440"/>
            <a:ext cx="4856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91160" y="5005440"/>
            <a:ext cx="94752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40080" y="5005440"/>
            <a:ext cx="4856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5880" y="5005440"/>
            <a:ext cx="94788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45160" y="5005440"/>
            <a:ext cx="4856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828800" y="4929120"/>
                <a:ext cx="3985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862360" y="4929120"/>
                <a:ext cx="4651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251240" y="4913280"/>
                <a:ext cx="43200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638680" y="4902120"/>
                <a:ext cx="4651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514600" y="4262400"/>
                <a:ext cx="37702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7510320" y="4995720"/>
            <a:ext cx="94788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59600" y="4995720"/>
            <a:ext cx="4856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7068960" y="4876920"/>
                <a:ext cx="4320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6838920" y="5886360"/>
            <a:ext cx="94788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88200" y="5886360"/>
            <a:ext cx="4856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397560" y="5767560"/>
                <a:ext cx="4320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95" name=""/>
          <p:cNvGrpSpPr/>
          <p:nvPr/>
        </p:nvGrpSpPr>
        <p:grpSpPr>
          <a:xfrm>
            <a:off x="4114800" y="4876920"/>
            <a:ext cx="2133720" cy="685800"/>
            <a:chOff x="4114800" y="4876920"/>
            <a:chExt cx="2133720" cy="685800"/>
          </a:xfrm>
        </p:grpSpPr>
        <p:sp>
          <p:nvSpPr>
            <p:cNvPr id="196" name=""/>
            <p:cNvSpPr/>
            <p:nvPr/>
          </p:nvSpPr>
          <p:spPr>
            <a:xfrm>
              <a:off x="5562720" y="487692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114800" y="487692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981080" y="5791320"/>
            <a:ext cx="4572000" cy="990000"/>
            <a:chOff x="1981080" y="5791320"/>
            <a:chExt cx="4572000" cy="990000"/>
          </a:xfrm>
        </p:grpSpPr>
        <p:sp>
          <p:nvSpPr>
            <p:cNvPr id="199" name=""/>
            <p:cNvSpPr/>
            <p:nvPr/>
          </p:nvSpPr>
          <p:spPr>
            <a:xfrm>
              <a:off x="2362320" y="6400800"/>
              <a:ext cx="4190760" cy="380520"/>
            </a:xfrm>
            <a:custGeom>
              <a:avLst/>
              <a:gdLst/>
              <a:ahLst/>
              <a:rect l="l" t="t" r="r" b="b"/>
              <a:pathLst>
                <a:path w="2640" h="240">
                  <a:moveTo>
                    <a:pt x="0" y="0"/>
                  </a:moveTo>
                  <a:lnTo>
                    <a:pt x="288" y="240"/>
                  </a:lnTo>
                  <a:lnTo>
                    <a:pt x="2400" y="240"/>
                  </a:lnTo>
                  <a:lnTo>
                    <a:pt x="2640" y="48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81080" y="5791320"/>
              <a:ext cx="685800" cy="685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4726440" y="5424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13:52:17Z</dcterms:created>
  <dc:creator>GOUAICH</dc:creator>
  <dc:description/>
  <dc:language>en-US</dc:language>
  <cp:lastModifiedBy>Lloyd Kamara</cp:lastModifiedBy>
  <dcterms:modified xsi:type="dcterms:W3CDTF">2003-10-29T14:22:21Z</dcterms:modified>
  <cp:revision>356</cp:revision>
  <dc:subject/>
  <dc:title>Coordination and conversation protocols in open multi-agent systems</dc:title>
</cp:coreProperties>
</file>