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323-9D87-43FC-9ADC-BE874238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744-A33E-4C03-909D-BC264507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0B2-ABC3-4251-83CB-B7FF6A66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F10-1387-40D1-BE2F-72F6450F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2CC7-B6FD-4DF9-80BB-F973E869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F6B9-C747-485C-9833-D8C0BF72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E2C0-D68A-405E-A3F8-D16161CD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5F86-DA7A-484F-897E-4685C36A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A716-9922-4FFA-88D9-8649742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7C8E-A46B-4968-BC04-CD162C39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892C-1978-4BDB-BBCB-840E2D12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01F-AF59-401F-979C-0678817E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BA6B-76EC-4ED9-9EA3-203871C8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5C82-9FED-4854-9280-09C9AD6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DAF-9F8B-435D-9423-B2B1BF0C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8AD-937B-4103-88D7-ACD50264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1751-3A3F-4EAE-B4EA-754C7354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331-B7A8-43E5-B915-E146BD7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59C-50CA-4400-925C-E9610A86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698-11EF-4DDE-8FA6-A3EC30D2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520-8688-44F5-9414-AC1A0486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FDC-AEFC-4C0E-9953-A173D122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C2C-43F7-4E09-BC9D-206D0984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726-80A1-49FB-B2D2-3841B8D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832F-8213-4275-AA8D-FEBDD61C40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AFC0-2628-418A-85F1-6FFA98F088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Adaptibility Patterns of Multi-Agent Organiz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guz Dikenelli, R.Cenk Erd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ge Univers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omputer Engineering De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MP-Continue (Interaction Mechanism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62940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MP-Continue (Responsibility of Participating Agent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57400" y="2057400"/>
            <a:ext cx="4653000" cy="4571640"/>
            <a:chOff x="2057400" y="2057400"/>
            <a:chExt cx="4653000" cy="4571640"/>
          </a:xfrm>
        </p:grpSpPr>
        <p:grpSp>
          <p:nvGrpSpPr>
            <p:cNvPr id="148" name=""/>
            <p:cNvGrpSpPr/>
            <p:nvPr/>
          </p:nvGrpSpPr>
          <p:grpSpPr>
            <a:xfrm>
              <a:off x="2062080" y="2062440"/>
              <a:ext cx="4643280" cy="4560840"/>
              <a:chOff x="2062080" y="2062440"/>
              <a:chExt cx="4643280" cy="45608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062080" y="2062440"/>
                <a:ext cx="1306440" cy="1520280"/>
                <a:chOff x="2062080" y="2062440"/>
                <a:chExt cx="1306440" cy="15202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130480" y="2062440"/>
                  <a:ext cx="1170000" cy="15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A-D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062080" y="2062440"/>
                  <a:ext cx="1306440" cy="15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368520" y="2062440"/>
                <a:ext cx="3336840" cy="1520280"/>
                <a:chOff x="3368520" y="2062440"/>
                <a:chExt cx="3336840" cy="1520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436920" y="2062440"/>
                  <a:ext cx="3200400" cy="15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anage the meta ontolog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arch the societies that provide the requested capabilit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form the related DFs about the entry of a new societ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368520" y="2062440"/>
                  <a:ext cx="3336840" cy="15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062080" y="3583080"/>
                <a:ext cx="1306440" cy="1722240"/>
                <a:chOff x="2062080" y="3583080"/>
                <a:chExt cx="1306440" cy="17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130480" y="3583080"/>
                  <a:ext cx="1170000" cy="17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062080" y="3583080"/>
                  <a:ext cx="1306440" cy="17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68520" y="3583080"/>
                <a:ext cx="3336840" cy="1722240"/>
                <a:chOff x="3368520" y="3583080"/>
                <a:chExt cx="3336840" cy="17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436920" y="3583080"/>
                  <a:ext cx="3200400" cy="17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dvertise the capability of the society to META-D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quest the adress of t</a:t>
                  </a: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</a:rPr>
                    <a:t>he</a:t>
                  </a: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OA from other D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form the address of own OA to the requested DF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form the OA about the new societ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68520" y="3583080"/>
                  <a:ext cx="3336840" cy="17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62080" y="5305680"/>
                <a:ext cx="1306440" cy="1317600"/>
                <a:chOff x="2062080" y="5305680"/>
                <a:chExt cx="1306440" cy="1317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130480" y="5305680"/>
                  <a:ext cx="1170000" cy="13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62080" y="5305680"/>
                  <a:ext cx="1306440" cy="131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368520" y="5305680"/>
                <a:ext cx="3336840" cy="1317600"/>
                <a:chOff x="3368520" y="5305680"/>
                <a:chExt cx="3336840" cy="13176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436920" y="5305680"/>
                  <a:ext cx="3200400" cy="13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uild a request for ontology transf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ackage and transfer the own ontolog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andle the coming ontolog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calize the coming ontolog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368520" y="5305680"/>
                  <a:ext cx="3336840" cy="131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2057400" y="2057400"/>
              <a:ext cx="465300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Current Statu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 have implemented the OPP by defining the required plans and inserting these plans in to a FIPA compliant agent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A transfers  DAML based ontologies in the content of the FIPA AC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wo different localize behaviors are implem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ne for ontology to relational db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other one for user interface cre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 this paper, we introduce two patterns fo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rganizational adap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ow, we are working to identify new adaptibilty requirements for pattern identifications and to extend the funtionality of agent framework for adaptibility sup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he Concept of Organizational Adaptibi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rganizational adaptibility can be defined as the capability of the organization to handle dynamic and unpredictible changes in the organization’s global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To handle Organizational Adaptibility, Developers need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nderstand this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fine required agent interactions and responsibilities for a specific adaptibility requirement during the de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A Common Terminology to Define Adaptibility Patterns- A High Level Architectural View of M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4767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Ontology Perception Pattern (OPP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Inten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PP defines how agent organization adapts itself when the structure of the global ontology changes or new ontology is added to the organizations at run-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otivation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 an adaptive environment, global ontologies may change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t any time new ontologies added to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OPP-Continu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nteraction Mechanism And Responsi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556236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OPP-Continue (Responsibilities of Participating Agent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47920" y="1905120"/>
            <a:ext cx="4632120" cy="4647600"/>
            <a:chOff x="1447920" y="1905120"/>
            <a:chExt cx="4632120" cy="4647600"/>
          </a:xfrm>
        </p:grpSpPr>
        <p:grpSp>
          <p:nvGrpSpPr>
            <p:cNvPr id="112" name=""/>
            <p:cNvGrpSpPr/>
            <p:nvPr/>
          </p:nvGrpSpPr>
          <p:grpSpPr>
            <a:xfrm>
              <a:off x="1452600" y="1911240"/>
              <a:ext cx="4622760" cy="4634640"/>
              <a:chOff x="1452600" y="1911240"/>
              <a:chExt cx="4622760" cy="46346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452600" y="1911240"/>
                <a:ext cx="1146240" cy="843480"/>
                <a:chOff x="1452600" y="1911240"/>
                <a:chExt cx="1146240" cy="8434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21000" y="1911240"/>
                  <a:ext cx="100944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gent Typ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52600" y="1911240"/>
                  <a:ext cx="114624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598840" y="1911240"/>
                <a:ext cx="3476520" cy="843480"/>
                <a:chOff x="2598840" y="1911240"/>
                <a:chExt cx="3476520" cy="843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66880" y="1911240"/>
                  <a:ext cx="334008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ponsibiliti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598840" y="1911240"/>
                  <a:ext cx="347652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452600" y="2755080"/>
                <a:ext cx="1146240" cy="1323360"/>
                <a:chOff x="1452600" y="2755080"/>
                <a:chExt cx="1146240" cy="1323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521000" y="2755080"/>
                  <a:ext cx="1009440" cy="13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rectory Facilit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452600" y="2755080"/>
                  <a:ext cx="1146240" cy="13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598840" y="2755080"/>
                <a:ext cx="3476520" cy="1323360"/>
                <a:chOff x="2598840" y="2755080"/>
                <a:chExt cx="3476520" cy="1323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666880" y="2755080"/>
                  <a:ext cx="3340080" cy="13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andle the request coming from the O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arch the agents that use the ontology of inter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form OA about the availability/unavailability of the requested agent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598840" y="2755080"/>
                  <a:ext cx="3476520" cy="13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452600" y="4078800"/>
                <a:ext cx="1146240" cy="1323360"/>
                <a:chOff x="1452600" y="4078800"/>
                <a:chExt cx="1146240" cy="13233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521000" y="4078800"/>
                  <a:ext cx="1009440" cy="13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ntology Ag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452600" y="4078800"/>
                  <a:ext cx="1146240" cy="13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598840" y="4078800"/>
                <a:ext cx="3476520" cy="1323360"/>
                <a:chOff x="2598840" y="4078800"/>
                <a:chExt cx="3476520" cy="1323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66880" y="4078800"/>
                  <a:ext cx="3340080" cy="13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Understand ontological chang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Query DF for agents that support ontology of inter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form the related agent(s) about the new ontolog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ackage and transfer the new ontology to the related ag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98840" y="4078800"/>
                  <a:ext cx="3476520" cy="13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452600" y="5402520"/>
                <a:ext cx="1146240" cy="1143360"/>
                <a:chOff x="1452600" y="5402520"/>
                <a:chExt cx="1146240" cy="1143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521000" y="5402520"/>
                  <a:ext cx="1009440" cy="114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g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452600" y="5402520"/>
                  <a:ext cx="1146240" cy="114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598840" y="5402520"/>
                <a:ext cx="3476520" cy="1143360"/>
                <a:chOff x="2598840" y="5402520"/>
                <a:chExt cx="3476520" cy="1143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666880" y="5402520"/>
                  <a:ext cx="3340080" cy="114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uild a request for ontology transf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andle the new ontology coming from the O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calize the new Ontolog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598840" y="5402520"/>
                  <a:ext cx="3476520" cy="114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47920" y="1905120"/>
              <a:ext cx="4632120" cy="4647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OPP-Continue (Concurrent Task Diagram of the Agent Role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ociety Merging Pattern (SMP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Inten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MP defines how different organizations adapt themselfs to each other’s global knowledge at run-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otivation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re can be hundreds of independent agent organizations providing similar services based on different ontologies. Conspiciously, each organizationmay gain additional benefits using the services of the similar organiz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MP-Continue (Extended High Level Architectural View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858000" cy="396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12:36Z</dcterms:created>
  <dc:creator>Oguz Dikeneli</dc:creator>
  <dc:description/>
  <dc:language>en-US</dc:language>
  <cp:lastModifiedBy>Oguz Dikeneli</cp:lastModifiedBy>
  <dcterms:modified xsi:type="dcterms:W3CDTF">2003-10-27T09:23:05Z</dcterms:modified>
  <cp:revision>20</cp:revision>
  <dc:subject/>
  <dc:title>Adaptibility Patterns of Multi-Agent Organizations</dc:title>
</cp:coreProperties>
</file>