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83F-19E7-49E4-A52C-9F76150F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001-1881-436A-9D2E-309DFDC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495-CCBE-4375-8E6A-89BC6EB4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29C-0DFE-4DBA-85BB-3E3E97A7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D3EE-3673-43E7-B5C7-629E9CDF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8321-78C2-40AB-8F3E-936A7C4E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55AB-5D94-4714-82D2-F56F474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62D-B461-40F4-8505-3A2EDED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FAEA-9913-4D04-A98B-1E53F30E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35E-98FD-4322-B278-2C37BD9C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46F3-A139-4FBF-BFA7-6955DCC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4FF-1EB5-4DDC-A417-8B225CC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196-E2B0-4DD5-9F9E-29808B03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9C1C-9F64-471B-853E-633DF67A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EE50-92B7-4F8E-B40A-44C1305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4FF9-366C-4557-A776-1676573F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3C7A-6E5F-41D9-BBBC-9489B977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5A6-F479-411E-844E-93AB84F1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18C-18D5-4AA5-BEF9-CA101037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028-B8E7-49EE-8365-1445FFC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003-35F5-4A8F-AB8A-0CED05D6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A05-D6A4-45B8-ACB7-EE5200E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EE2-028F-43CD-AA8B-99B842E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44F-7AF3-446F-A643-C64ECE33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13E5-1687-4C47-8F5A-01FC91240B0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51B-E77F-466A-81FC-4B870B34CA0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049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Dynamics of Collective Attitudes During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Barbara Dunin-Kęplic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ineke Verbrug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BCAE-7D59-44F8-8A27-D5F8A40CD8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The four levels of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am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xecution of actions accord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-COMM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,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intenance of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ocial commitment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individual intentio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reconfiguration proces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34A-4325-4FED-A123-8A4B28D47E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ommitments during reconfigur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intaining collective intention in changing environment requires reconfiguration and leads to the </a:t>
            </a:r>
            <a:r>
              <a:rPr b="0" i="1" lang="pl-PL" sz="3200" spc="-1" strike="noStrike">
                <a:solidFill>
                  <a:srgbClr val="0000ff"/>
                </a:solidFill>
                <a:latin typeface="Arial"/>
              </a:rPr>
              <a:t>evolution of collective commitmen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ff"/>
                </a:solidFill>
                <a:latin typeface="Arial"/>
              </a:rPr>
              <a:t>Reconfiguration algorith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deals with failures of action exec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t is divided in a number of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E52-825A-416C-9FD4-D5DBFDB8B2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1: team action succeed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 sequel, al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e proved for all Kripke models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in which teamwork axioms hold, and all worlds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ase 1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all actions from the social plan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╞═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-COMM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,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]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eads to </a:t>
            </a:r>
            <a:r>
              <a:rPr b="0" lang="pl-PL" sz="2400" spc="-1" strike="noStrike">
                <a:solidFill>
                  <a:srgbClr val="0000ff"/>
                </a:solidFill>
                <a:latin typeface="Courier New"/>
              </a:rPr>
              <a:t>system-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534-FC62-4AE1-88FC-08217F3B0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: an action faile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-COMM</a:t>
            </a:r>
            <a:r>
              <a:rPr b="0" i="1" lang="pl-PL" sz="3200" spc="-1" strike="noStrike" baseline="-10000">
                <a:solidFill>
                  <a:srgbClr val="000000"/>
                </a:solidFill>
                <a:latin typeface="Arial"/>
              </a:rPr>
              <a:t>G,P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) has to be d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ituation is not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hopeless, depending on possibilities of action reallocation an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C6E-3FCB-458E-B360-BDB38DAC64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: team action failed, subca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835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new action allocation succeeds (</a:t>
            </a: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2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new action allocation fail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failed action blocks achieving the goal (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2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 failed action blocks achieving the goal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new means-end analysis and action allocation  succeeds (</a:t>
            </a:r>
            <a:r>
              <a:rPr b="0" lang="pl-PL" sz="20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w means-end analysis and action allocation fail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new task division, means-end analysis and action allocation succeeds (</a:t>
            </a:r>
            <a:r>
              <a:rPr b="0" lang="pl-PL" sz="2000" spc="-1" strike="noStrike">
                <a:solidFill>
                  <a:srgbClr val="0000ff"/>
                </a:solidFill>
                <a:latin typeface="Arial"/>
              </a:rPr>
              <a:t>2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new task division, means-end analysis and action allocation fails: back to </a:t>
            </a:r>
            <a:r>
              <a:rPr b="0" lang="pl-PL" sz="2000" spc="-1" strike="noStrike">
                <a:solidFill>
                  <a:srgbClr val="0000ff"/>
                </a:solidFill>
                <a:latin typeface="Arial"/>
              </a:rPr>
              <a:t>team form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C97-28A8-40CB-9F09-E17C0F420E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a: reallocation possi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ome actions failed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ne of them failed for an </a:t>
            </a:r>
            <a:r>
              <a:rPr b="0" i="1" lang="pl-PL" sz="2800" spc="-1" strike="noStrike">
                <a:solidFill>
                  <a:srgbClr val="0000ff"/>
                </a:solidFill>
                <a:latin typeface="Arial"/>
              </a:rPr>
              <a:t>objectiv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location of these actions is possible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new collective commitment can be established based on a new plan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8AC-0AE9-4325-B25C-6DA9341E4D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a: reallocation possi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╞═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C-INT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di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)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-COMM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,P </a:t>
            </a:r>
            <a:r>
              <a:rPr b="0" lang="pl-PL" sz="2800" spc="-1" strike="noStrike" baseline="-10000">
                <a:solidFill>
                  <a:srgbClr val="000000"/>
                </a:solidFill>
                <a:latin typeface="Arial"/>
              </a:rPr>
              <a:t>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current action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 - a new soci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04C-2ED6-4575-B4F5-CED6C8E077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b: </a:t>
            </a:r>
            <a:br>
              <a:rPr sz="3600"/>
            </a:b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some failed action blocks the main goa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f: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t least one action </a:t>
            </a:r>
            <a:r>
              <a:rPr b="1" i="1" lang="pl-PL" sz="2800" spc="-1" strike="noStrike">
                <a:solidFill>
                  <a:srgbClr val="5490a8"/>
                </a:solidFill>
                <a:latin typeface="Arial"/>
              </a:rPr>
              <a:t>necessar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for achievement of the goal failed for an </a:t>
            </a:r>
            <a:r>
              <a:rPr b="1" i="1" lang="pl-PL" sz="2800" spc="-1" strike="noStrike">
                <a:solidFill>
                  <a:srgbClr val="5490a8"/>
                </a:solidFill>
                <a:latin typeface="Arial"/>
              </a:rPr>
              <a:t>objective reason</a:t>
            </a:r>
            <a:r>
              <a:rPr b="0" lang="pl-PL" sz="2800" spc="-1" strike="noStrike">
                <a:solidFill>
                  <a:srgbClr val="5490a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 agent will succeed in executing this act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n: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is leads to </a:t>
            </a:r>
            <a:r>
              <a:rPr b="0" lang="pl-PL" sz="2800" spc="-1" strike="noStrike">
                <a:solidFill>
                  <a:srgbClr val="0000ff"/>
                </a:solidFill>
                <a:latin typeface="Courier New"/>
              </a:rPr>
              <a:t>system-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DC7-D474-4883-8B3D-BA5DD12A08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c: </a:t>
            </a:r>
            <a:br>
              <a:rPr sz="3600"/>
            </a:b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new means-end analysis possi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me actions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on reallocation is no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ne of failed actions blocks th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new means-end analysi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new collective commitment can be established based on new plan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65E-A7D7-4E69-8677-3482E40446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c: </a:t>
            </a:r>
            <a:br>
              <a:rPr sz="3600"/>
            </a:b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new means-end analysis possi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or current goal sequenc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and action sequenc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and for every social plan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, there ar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 and P ’’ such tha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╞═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C-INT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fail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’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’))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-COMM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,P </a:t>
            </a:r>
            <a:r>
              <a:rPr b="0" lang="pl-PL" sz="2800" spc="-1" strike="noStrike" baseline="-10000">
                <a:solidFill>
                  <a:srgbClr val="000000"/>
                </a:solidFill>
                <a:latin typeface="Arial"/>
              </a:rPr>
              <a:t>’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DC8-AF0C-4BFC-B19D-EDD775AB5D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al theory of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characterization of motivational attitudes in BDI systems: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tatic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 are consid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ree levels: individual, social, col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rictly cooperativ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attitudes in dynamic and / or unpredictable environment: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dynamic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+ dynamic theory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amwork axi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2E7-5C18-4984-82DE-1E65A3B42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d: new task division possi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me actions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ither action reallocation nor new means-end analysis i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ne of failed actions blocks th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new task division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new collective commitment can be established based on new plan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694-20F3-4751-A03F-AB211EC6D8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ase 2d: new task division possi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or current goal sequenc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and action sequenc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and for every social plan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 and action sequenc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,                   there are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i="1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’ and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’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-INT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fail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)] [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fail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conf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’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 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’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’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di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’’))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-COMM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,P </a:t>
            </a:r>
            <a:r>
              <a:rPr b="0" lang="pl-PL" sz="2800" spc="-1" strike="noStrike" baseline="-10000">
                <a:solidFill>
                  <a:srgbClr val="000000"/>
                </a:solidFill>
                <a:latin typeface="Arial"/>
              </a:rPr>
              <a:t>’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D59-A976-46F2-A24E-FB4AA5D083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Teamwork axi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 a definition of motivational attitudes in BDI systems: static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 a specification of their evolution in a dynamic environment: dynamic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rve the system developer as a high level specificatio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of idealization: solely </a:t>
            </a:r>
            <a:r>
              <a:rPr b="0" i="1" lang="en-US" sz="2400" spc="-1" strike="noStrike">
                <a:solidFill>
                  <a:srgbClr val="0099cc"/>
                </a:solidFill>
                <a:latin typeface="Arial"/>
              </a:rPr>
              <a:t>strictly cooperative te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AED-F934-4A4D-9241-E88F5E6314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lax strong assumptions put on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ooperative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vestigate weaker and more distributed forms of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vestigate non-normal multi-modal framework in order to prevent logical omniscience and side-effec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A42-BB9C-4957-BE36-F4B74F010E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Dynamics of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our stage model of team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tia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am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lan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am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ff"/>
                </a:solidFill>
                <a:latin typeface="Arial"/>
              </a:rPr>
              <a:t>Reconfigur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1676520"/>
          <a:ext cx="67723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7723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EBD-0787-4FEC-B18D-6E1D5F36A8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Collective attitu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81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ff"/>
                </a:solidFill>
                <a:latin typeface="Arial"/>
              </a:rPr>
              <a:t>Collective commitment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collective intentio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ithin the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correct pla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leading to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collective awarenes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f correctness of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social commitment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for all actions in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global collective awarenes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about existence of social 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F1C-CEFE-4891-8ED3-88FCF70B9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Collective attitu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Collective in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Collective commi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-COMM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,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-INT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nstitu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-BEL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nstitu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/\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\/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i,j</a:t>
            </a:r>
            <a:r>
              <a:rPr b="0" lang="pl-PL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MM(i, j,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-BEL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/\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\/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i,j</a:t>
            </a:r>
            <a:r>
              <a:rPr b="0" lang="pl-PL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MM(i, j,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140-96A8-4188-996C-05BE80846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The four levels of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gen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group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ith collective intention C-INT</a:t>
            </a:r>
            <a:r>
              <a:rPr b="0" i="1" lang="pl-PL" sz="24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three-step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sk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ans-e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on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336-477D-449A-8E1B-551EFB80F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The four levels of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generatio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overall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ized by the sequence of actions 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v;means;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Arial"/>
              </a:rPr>
              <a:t>successful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constitut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0F7-8EF2-4874-8F77-8096ED0338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The four levels of team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81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generatio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establishing collective commi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dialogue used to establish  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collective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-INT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constitut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C-COMM</a:t>
            </a:r>
            <a:r>
              <a:rPr b="0" i="1" lang="pl-PL" sz="2800" spc="-1" strike="noStrike" baseline="-10000">
                <a:solidFill>
                  <a:srgbClr val="000000"/>
                </a:solidFill>
                <a:latin typeface="Arial"/>
              </a:rPr>
              <a:t>G,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FA8-1B24-46B5-8AC0-7DD6359879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The four levels of C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generatio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a frame axi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Courier New"/>
              </a:rPr>
              <a:t>;di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mean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2C2-5295-45E6-987B-E2FCB858D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6:35:17Z</dcterms:created>
  <dc:creator>Barbara Dunin-Kęplicz, Rineke Verbrugge</dc:creator>
  <dc:description/>
  <dc:language>en-US</dc:language>
  <cp:lastModifiedBy>keplicz</cp:lastModifiedBy>
  <cp:lastPrinted>2009-04-22T19:24:48Z</cp:lastPrinted>
  <dcterms:modified xsi:type="dcterms:W3CDTF">2003-11-06T09:41:05Z</dcterms:modified>
  <cp:revision>169</cp:revision>
  <dc:subject/>
  <dc:title>Dynamics of Collective Attitudes During Teamwork</dc:title>
</cp:coreProperties>
</file>