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26.pct" ContentType="image/x-pict"/>
  <Override PartName="/ppt/media/image8.png" ContentType="image/png"/>
  <Override PartName="/ppt/media/image6.png" ContentType="image/png"/>
  <Override PartName="/ppt/media/image17.pct" ContentType="image/x-pict"/>
  <Override PartName="/ppt/media/image10.png" ContentType="image/png"/>
  <Override PartName="/ppt/media/image5.png" ContentType="image/png"/>
  <Override PartName="/ppt/media/image16.pct" ContentType="image/x-pict"/>
  <Override PartName="/ppt/media/image25.pct" ContentType="image/x-pict"/>
  <Override PartName="/ppt/media/image21.jpeg" ContentType="image/jpeg"/>
  <Override PartName="/ppt/media/image24.pct" ContentType="image/x-pict"/>
  <Override PartName="/ppt/media/image15.png" ContentType="image/png"/>
  <Override PartName="/ppt/media/image23.pct" ContentType="image/x-pict"/>
  <Override PartName="/ppt/media/image14.png" ContentType="image/png"/>
  <Override PartName="/ppt/media/image7.png" ContentType="image/png"/>
  <Override PartName="/ppt/media/image18.pct" ContentType="image/x-pict"/>
  <Override PartName="/ppt/media/image22.jpeg" ContentType="image/jpeg"/>
  <Override PartName="/ppt/media/image20.jpeg" ContentType="image/jpeg"/>
  <Override PartName="/ppt/media/image19.jpeg" ContentType="image/jpeg"/>
  <Override PartName="/ppt/media/image2.png" ContentType="image/png"/>
  <Override PartName="/ppt/media/image3.png" ContentType="image/png"/>
  <Override PartName="/ppt/media/image27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6AF-69A2-4BB6-9BD5-8D888A87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579-2F52-4A9C-A31F-DAA3C1AB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156-F047-49E5-9F19-82432E8B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E7C-FDDF-4455-A8A9-40F55E44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E28-D6C3-40E0-82B5-AA1B37DA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DAF8-3A67-426D-9642-C9FAE157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C409-1DDF-4D12-9D43-35E55274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9FBF-72EA-4FA6-BDA5-02B5CC6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3D30-EA6F-4FFA-8F85-F9D596CE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54CB-68CB-4BC8-9589-2A305FF3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DBC8-A9D9-48FB-BC6A-0EE534A8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45E-A6E1-47DB-913E-D1E7A14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9319-0BA5-4647-B3AE-DC5F06A2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7B36-ADC2-4833-B72E-1E4800ED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AA4E-1E3E-4EB5-B7A6-095943C8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9108-B5AD-48F3-9835-C1DE9E29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3094-EE3A-407C-AEA9-88E20263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22B-0A1D-4677-A3EB-34DFC90A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9E0-6CDB-4C6C-97AE-B026DE15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661-E098-4178-B72F-BC4714F6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ABD-1A63-4946-8FCA-600AEFAE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FDD-3DA0-4D9A-A2D8-7B3FDAE8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FC5-23AC-45E3-8A3B-E0E1D43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132-202C-4892-AFBF-3C6C1EBA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ct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495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76320" y="6324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r>
              <a:rPr b="0" lang="fr-FR" sz="1400" spc="-1" strike="noStrike">
                <a:solidFill>
                  <a:srgbClr val="eae8e2"/>
                </a:solidFill>
                <a:latin typeface="Arial Narrow"/>
              </a:rPr>
              <a:t>ES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9BFA-34C1-49B1-B5D7-31F1B385412C}" type="slidenum">
              <a:rPr b="0" lang="fr-F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logovert" descr=""/>
          <p:cNvPicPr/>
          <p:nvPr/>
        </p:nvPicPr>
        <p:blipFill>
          <a:blip r:embed="rId7"/>
          <a:stretch/>
        </p:blipFill>
        <p:spPr>
          <a:xfrm>
            <a:off x="8461440" y="0"/>
            <a:ext cx="682560" cy="82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9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E0D6-5805-4C12-8121-B8418FC55024}" type="slidenum">
              <a:rPr b="0" lang="fr-F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vert" descr=""/>
          <p:cNvPicPr/>
          <p:nvPr/>
        </p:nvPicPr>
        <p:blipFill>
          <a:blip r:embed="rId3"/>
          <a:stretch/>
        </p:blipFill>
        <p:spPr>
          <a:xfrm>
            <a:off x="8326440" y="0"/>
            <a:ext cx="817560" cy="990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ean-pierre.muller@cirad.f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Emergence of collective behaviour </a:t>
            </a:r>
            <a:br>
              <a:rPr sz="4000"/>
            </a:b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from problem solving </a:t>
            </a:r>
            <a:br>
              <a:rPr sz="4000"/>
            </a:b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to social engineering and back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5971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Prof. Jean-Pierre Müller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jean-pierre.muller@cirad.fr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RU GREEN (Renewable Resources Management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Program REV (Renewable Resources and Viability),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Department TERA (Territories, Environment et Actors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xampl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The game of life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 grid of cells with connexity 8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 cell can be dead or aliv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ransition rul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If dead and 3 neighbours alive =&gt; aliv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If alive and 2 or 3 neighbours alive  =&gt; aliv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Else dead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xample (cont.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Emergence of stable phenomena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Example: the « glider »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Propertie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glider is an object only for the observer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glider follows conservative laws of evolution (closure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1606680" y="5105520"/>
            <a:ext cx="15228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8960" y="5257800"/>
            <a:ext cx="15228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8960" y="5410080"/>
            <a:ext cx="15228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6680" y="5410080"/>
            <a:ext cx="15228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54040" y="5410080"/>
            <a:ext cx="15264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105520"/>
            <a:ext cx="15228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5105520"/>
            <a:ext cx="15264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257800"/>
            <a:ext cx="15264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257800"/>
            <a:ext cx="15228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5410080"/>
            <a:ext cx="15228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5257800"/>
            <a:ext cx="15264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5410080"/>
            <a:ext cx="15228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410080"/>
            <a:ext cx="15228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257800"/>
            <a:ext cx="15228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105520"/>
            <a:ext cx="15228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40560" y="5105520"/>
            <a:ext cx="15228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92840" y="5257800"/>
            <a:ext cx="15228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45120" y="5257800"/>
            <a:ext cx="15264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0560" y="5410080"/>
            <a:ext cx="15228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92840" y="5410080"/>
            <a:ext cx="15228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3341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53341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53341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93040" y="5105520"/>
            <a:ext cx="15228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45320" y="5257800"/>
            <a:ext cx="152640" cy="1522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45320" y="5410080"/>
            <a:ext cx="15264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93040" y="5410080"/>
            <a:ext cx="15228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40760" y="5410080"/>
            <a:ext cx="152280" cy="1526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53341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6360" y="5527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1640" y="55627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(x,y-1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9200" y="55627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(x,y-1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83720" y="556272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(x+1,y-1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6200" y="556272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(x+1,y-1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Some distinction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Emergence as explanat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Static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Example: force as particule exchang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Emergence as occurrenc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Dynamica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Example: emergence of life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Definition of emergenc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 phenomenon is emergent if and only if we have: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 system of interacting entities whose states and dynamics is expressed in a theory D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Example: the cells and its transition rule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e production of a phenomenon (a process, a stable state, an invariant) which is global relative to the former system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Example: the regularities in the dynamics of the cell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e interpretation of the phenomenon via an inscription mechanism in another theory D’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Example: the glider and its law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non-linearity of the interactions guarantees the irreducibility of D’ to D!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Weak emergenc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interpretation is made by an external observ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Example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glider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ant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The ants interact in terms of pheromones 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Interpretation as an optimal path between two point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« invisible hand »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The adjustment of prices by offers and demand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Interpretation as an optimal allocation of the resource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791160" y="59086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Collective behavior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60199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Weak emergence (cont.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example in detail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Entities: the ant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Interactions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Deposits of pheromons while carrying food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Attraction by a pheromon gradient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Global phenomenon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Back and forth movements between the nest and the food source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Emergent phenomenon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An optimal path between the nest and the food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Counter-example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temperature as average cinetic energy of the molecul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Strong emergenc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interpretation is made by the entiti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Example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Some auction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Inscription of the exchange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institution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Inscription as myths, representatives, norms, etc.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Inscription as legal text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Mental qualities (?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3792960" y="59086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Social behavior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60199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The role of the environmen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t the micro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resources of the entiti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n interaction medium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coordination of interactions at various time scales (dissipation rate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Constraints on the agent dynamic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t the macro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resources for the emergent phenomenon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collective (« unconscious ») memory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global inscription medium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control on the micro and macro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Consequenc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Co-existence of strong emergence AND weak emergence in social system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Weak emergence: what the collective produces independently of its awareness : social order or func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Strong emergence: what the collective knows he is producing (it has a shared representation of it): institution, cognitive emergenc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Problem of multiple observers and multiple implications as entities of the system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Consequences (cont.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An agent acts through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theories D whose it is participating (multiple individual roles) =&gt; multiplicity of points of view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theories D’ whose it is observer (multiple collective roles) =&gt; multiplicity of organization level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Possibilities to act on the collective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t the micro level through the theories 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t the macro level through the theories D’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Conten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Complex system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Emergenc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From problem solving…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…</a:t>
            </a: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to social engineering…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…</a:t>
            </a: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and back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Conclusion and perspectiv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From problem solving…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Two alternativ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Design using metaphor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Forag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Flocking/cluster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Immunitory system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Top-down design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From specification to implementa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Crossing the macro-micro boundar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blem solving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iven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 search space E whose states are made of components C and composition laws 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 sub-space S </a:t>
            </a:r>
            <a:r>
              <a:rPr b="0" lang="en-US" sz="2800" spc="-1" strike="noStrike">
                <a:solidFill>
                  <a:srgbClr val="eae8e2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E of admissible solutions given in inten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ossibly a function F: E </a:t>
            </a:r>
            <a:r>
              <a:rPr b="0" lang="en-US" sz="2800" spc="-1" strike="noStrike">
                <a:solidFill>
                  <a:srgbClr val="eae8e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Symbol"/>
                <a:ea typeface="Symbol"/>
              </a:rPr>
              <a:t>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to optimiz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nding a state e </a:t>
            </a:r>
            <a:r>
              <a:rPr b="0" lang="en-US" sz="3200" spc="-1" strike="noStrike">
                <a:solidFill>
                  <a:srgbClr val="eae8e2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S such that F(e) is optima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xampl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Problem: to build a course schedul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Structure of a problem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E = set of all possible schedul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C = the courses and exercices, the time slots, the teachers, students and room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L = a course is given by a teacher in a room ina time slot to some students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 </a:t>
            </a:r>
            <a:r>
              <a:rPr b="0" lang="en-US" sz="2800" spc="-1" strike="noStrike">
                <a:solidFill>
                  <a:srgbClr val="eae8e2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E = all the schedules without conflicts</a:t>
            </a: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xample (cont.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Structure of the problem (cont.)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F = a*(students’ preferences)+b*(teachers’ preferences)+c*(room booking)+…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To find a schedule s in S such that F(s) is maximu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Approach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Algorithm emergenc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algorithm emerges from agent interaction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gent-oriented programm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Structure emergenc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result of the algorithm emerges through agent interaction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Environment-oriented programm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They are dual in some sen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Agent-oriented programming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From classical programming to MA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Classical programming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Data structures + algorithm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Object-oriented programming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ssociation of services to data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gent-oriented programming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ssociation of objectives/goals to data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xampl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Problem data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cours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uple &lt;subject,teacher,student&gt;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teachers’ schedul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students’ schedul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schedules of the room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xample (cont.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problem agent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cours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Goal: to take place in a room at a given time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teachers’ schedul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Goal: no two courses at the same time and to satisfy the teachers’ preferences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students’ schedul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Goal: no two courses at the same time and to satisfy the students’ preferences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schedules of the room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Goal: no two courses at the same time and not to conflict with room booking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nvironment-oriented programming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Principle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o represent the state of the solving process in the environmen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agents are interacting with the environment and between themselves in order to evolve the state towards the solu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Complex system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xampl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state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structure is the set of schedules (teacher, student, room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state is the set of marks (courses, preferences, bookings) on the schedul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« physical » constraint: some marks cannot be put at the same « place » (e.g. courses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agent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Cours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Optimality maintainers (?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Discuss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Advantage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Efficienc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Dynamicit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Problem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Convergence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Necessity to explore the phase spac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From functional to dynamical system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638680"/>
            <a:ext cx="1371600" cy="6098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5943600"/>
            <a:ext cx="609840" cy="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5943600"/>
            <a:ext cx="609480" cy="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20040" y="5486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6400" y="5486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57913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410080"/>
            <a:ext cx="1295640" cy="4572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Dynamic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6019920"/>
            <a:ext cx="1295640" cy="4572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095520" y="6248520"/>
            <a:ext cx="22860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095880" y="5638680"/>
            <a:ext cx="0" cy="60984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5638680"/>
            <a:ext cx="228600" cy="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5638680"/>
            <a:ext cx="22860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5638680"/>
            <a:ext cx="0" cy="60984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19760" y="6248520"/>
            <a:ext cx="228600" cy="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…</a:t>
            </a: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to social engineering…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omplexity and management of resourc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809880" cy="205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733920" cy="2077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09480" y="3781440"/>
            <a:ext cx="3409920" cy="2467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181480" y="3886200"/>
            <a:ext cx="3391200" cy="2104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904400" y="1371600"/>
            <a:ext cx="974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3e1c"/>
                </a:solidFill>
                <a:latin typeface="Times New Roman"/>
              </a:rPr>
              <a:t>Researche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7800" y="1371600"/>
            <a:ext cx="974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3e1c"/>
                </a:solidFill>
                <a:latin typeface="Times New Roman"/>
              </a:rPr>
              <a:t>Researche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4560" y="3657600"/>
            <a:ext cx="974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3e1c"/>
                </a:solidFill>
                <a:latin typeface="Times New Roman"/>
              </a:rPr>
              <a:t>Researche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5880" y="3733920"/>
            <a:ext cx="974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3e1c"/>
                </a:solidFill>
                <a:latin typeface="Times New Roman"/>
              </a:rPr>
              <a:t>Researche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21000" y="1371600"/>
            <a:ext cx="132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3e1c"/>
                </a:solidFill>
                <a:latin typeface="Times New Roman"/>
              </a:rPr>
              <a:t>Decision-make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3920" y="4038480"/>
            <a:ext cx="132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3e1c"/>
                </a:solidFill>
                <a:latin typeface="Times New Roman"/>
              </a:rPr>
              <a:t>Decision-make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98240" y="3657600"/>
            <a:ext cx="132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3e1c"/>
                </a:solidFill>
                <a:latin typeface="Times New Roman"/>
              </a:rPr>
              <a:t>Decision-make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8480" y="2743200"/>
            <a:ext cx="637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Society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4160" y="2743200"/>
            <a:ext cx="637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Society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40480" y="5181480"/>
            <a:ext cx="637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Society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8480" y="5410080"/>
            <a:ext cx="637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Society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40600" y="2627280"/>
            <a:ext cx="746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Resource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6640" y="2666880"/>
            <a:ext cx="746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Resource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8680" y="5486400"/>
            <a:ext cx="746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Resource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50680" y="5257800"/>
            <a:ext cx="746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Resource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8320" y="2550960"/>
            <a:ext cx="84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Ecosystem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12080" y="2514600"/>
            <a:ext cx="84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Ecosystem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40080" y="5334120"/>
            <a:ext cx="84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Ecosystem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6120" y="5029200"/>
            <a:ext cx="84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3e1c"/>
                </a:solidFill>
                <a:latin typeface="Times New Roman"/>
              </a:rPr>
              <a:t>Ecosystem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The approac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2120" y="5486400"/>
            <a:ext cx="8231760" cy="1066680"/>
            <a:chOff x="762120" y="5486400"/>
            <a:chExt cx="8231760" cy="1066680"/>
          </a:xfrm>
        </p:grpSpPr>
        <p:sp>
          <p:nvSpPr>
            <p:cNvPr id="238" name=""/>
            <p:cNvSpPr/>
            <p:nvPr/>
          </p:nvSpPr>
          <p:spPr>
            <a:xfrm>
              <a:off x="762120" y="5486400"/>
              <a:ext cx="3276360" cy="106668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29000" y="5486400"/>
              <a:ext cx="3276720" cy="106668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43520" y="5502240"/>
              <a:ext cx="225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The targeted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Eco-sociosystem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69600" y="3809880"/>
            <a:ext cx="7777080" cy="1667520"/>
            <a:chOff x="669600" y="3809880"/>
            <a:chExt cx="7777080" cy="1667520"/>
          </a:xfrm>
        </p:grpSpPr>
        <p:sp>
          <p:nvSpPr>
            <p:cNvPr id="242" name=""/>
            <p:cNvSpPr/>
            <p:nvPr/>
          </p:nvSpPr>
          <p:spPr>
            <a:xfrm>
              <a:off x="762120" y="3962520"/>
              <a:ext cx="304776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9000" y="3809880"/>
              <a:ext cx="3276720" cy="106704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9680" y="4952880"/>
              <a:ext cx="304920" cy="457200"/>
            </a:xfrm>
            <a:prstGeom prst="upArrow">
              <a:avLst>
                <a:gd name="adj1" fmla="val 50000"/>
                <a:gd name="adj2" fmla="val 37485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6920" y="4952880"/>
              <a:ext cx="304560" cy="457200"/>
            </a:xfrm>
            <a:prstGeom prst="upArrow">
              <a:avLst>
                <a:gd name="adj1" fmla="val 50000"/>
                <a:gd name="adj2" fmla="val 37530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9600" y="4773600"/>
              <a:ext cx="114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Ecology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63080" y="4773600"/>
              <a:ext cx="127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Role game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396252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Playing role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game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62120" y="2286000"/>
            <a:ext cx="7617960" cy="1556280"/>
            <a:chOff x="762120" y="2286000"/>
            <a:chExt cx="7617960" cy="1556280"/>
          </a:xfrm>
        </p:grpSpPr>
        <p:sp>
          <p:nvSpPr>
            <p:cNvPr id="250" name=""/>
            <p:cNvSpPr/>
            <p:nvPr/>
          </p:nvSpPr>
          <p:spPr>
            <a:xfrm>
              <a:off x="762120" y="2286000"/>
              <a:ext cx="304776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81280" y="2286000"/>
              <a:ext cx="304812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6920" y="3200400"/>
              <a:ext cx="304560" cy="457200"/>
            </a:xfrm>
            <a:prstGeom prst="upArrow">
              <a:avLst>
                <a:gd name="adj1" fmla="val 50000"/>
                <a:gd name="adj2" fmla="val 37530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9120" y="3138480"/>
              <a:ext cx="248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Stakeholder behaviour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360" y="2286000"/>
              <a:ext cx="152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Simulating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368360" y="1219320"/>
            <a:ext cx="4821480" cy="1205640"/>
            <a:chOff x="1368360" y="1219320"/>
            <a:chExt cx="4821480" cy="1205640"/>
          </a:xfrm>
        </p:grpSpPr>
        <p:sp>
          <p:nvSpPr>
            <p:cNvPr id="256" name=""/>
            <p:cNvSpPr/>
            <p:nvPr/>
          </p:nvSpPr>
          <p:spPr>
            <a:xfrm>
              <a:off x="1368360" y="1219320"/>
              <a:ext cx="482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Scenarios assessment using indicator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383800">
              <a:off x="3498840" y="767160"/>
              <a:ext cx="104652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200" spc="-1" strike="noStrike">
                  <a:solidFill>
                    <a:srgbClr val="eae8e2"/>
                  </a:solidFill>
                  <a:latin typeface="Times New Roman"/>
                </a:rPr>
                <a:t>{</a:t>
              </a:r>
              <a:endParaRPr b="0" lang="en-US" sz="142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loz020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46784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bc03"/>
                </a:solidFill>
                <a:latin typeface="Times New Roman"/>
              </a:rPr>
              <a:t>An example of the approach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dbc03"/>
                </a:solidFill>
                <a:latin typeface="Comic Sans MS"/>
              </a:rPr>
              <a:t>Sylviculture, stockbreeding and nature preservation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4382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dbc03"/>
                </a:solidFill>
                <a:latin typeface="Comic Sans MS"/>
              </a:rPr>
              <a:t>M. Etienne (INRA Avignon) </a:t>
            </a:r>
            <a:br>
              <a:rPr sz="2000"/>
            </a:br>
            <a:r>
              <a:rPr b="0" lang="en-GB" sz="2000" spc="-1" strike="noStrike">
                <a:solidFill>
                  <a:srgbClr val="fdbc03"/>
                </a:solidFill>
                <a:latin typeface="Comic Sans MS"/>
              </a:rPr>
              <a:t>Ch. Le Page (CIRAD Montpellier)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The approac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2120" y="5486400"/>
            <a:ext cx="8231040" cy="1066680"/>
            <a:chOff x="762120" y="5486400"/>
            <a:chExt cx="8231040" cy="1066680"/>
          </a:xfrm>
        </p:grpSpPr>
        <p:sp>
          <p:nvSpPr>
            <p:cNvPr id="264" name=""/>
            <p:cNvSpPr/>
            <p:nvPr/>
          </p:nvSpPr>
          <p:spPr>
            <a:xfrm>
              <a:off x="762120" y="5486400"/>
              <a:ext cx="3276360" cy="106668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5486400"/>
              <a:ext cx="3276720" cy="106668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42800" y="5502240"/>
              <a:ext cx="225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The targeted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Eco-sociosystem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68880" y="3809880"/>
            <a:ext cx="7777440" cy="1667520"/>
            <a:chOff x="668880" y="3809880"/>
            <a:chExt cx="7777440" cy="1667520"/>
          </a:xfrm>
        </p:grpSpPr>
        <p:sp>
          <p:nvSpPr>
            <p:cNvPr id="268" name=""/>
            <p:cNvSpPr/>
            <p:nvPr/>
          </p:nvSpPr>
          <p:spPr>
            <a:xfrm>
              <a:off x="762120" y="3962520"/>
              <a:ext cx="304776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809880"/>
              <a:ext cx="3276720" cy="106704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4952880"/>
              <a:ext cx="304920" cy="457200"/>
            </a:xfrm>
            <a:prstGeom prst="upArrow">
              <a:avLst>
                <a:gd name="adj1" fmla="val 50000"/>
                <a:gd name="adj2" fmla="val 37485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76920" y="4952880"/>
              <a:ext cx="304560" cy="457200"/>
            </a:xfrm>
            <a:prstGeom prst="upArrow">
              <a:avLst>
                <a:gd name="adj1" fmla="val 50000"/>
                <a:gd name="adj2" fmla="val 37530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8880" y="4773600"/>
              <a:ext cx="114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Ecology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62720" y="4773600"/>
              <a:ext cx="127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Role game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81320" y="396252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Playing role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game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 flipV="1">
            <a:off x="1057320" y="2540160"/>
            <a:ext cx="1440" cy="291600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96480" y="5456160"/>
            <a:ext cx="120600" cy="180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96480" y="5087880"/>
            <a:ext cx="120600" cy="180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96480" y="4718160"/>
            <a:ext cx="120600" cy="14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96480" y="4368960"/>
            <a:ext cx="120600" cy="14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96480" y="3998880"/>
            <a:ext cx="120600" cy="180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96480" y="3629160"/>
            <a:ext cx="120600" cy="14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96480" y="3259080"/>
            <a:ext cx="120600" cy="180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96480" y="2909880"/>
            <a:ext cx="120600" cy="14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96480" y="2540160"/>
            <a:ext cx="120600" cy="14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057320" y="5456160"/>
            <a:ext cx="7478640" cy="180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57320" y="5396040"/>
            <a:ext cx="144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93880" y="5396040"/>
            <a:ext cx="144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49520" y="5396040"/>
            <a:ext cx="144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05160" y="5396040"/>
            <a:ext cx="144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1720" y="5396040"/>
            <a:ext cx="180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97360" y="5396040"/>
            <a:ext cx="180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32480" y="5396040"/>
            <a:ext cx="144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88120" y="5396040"/>
            <a:ext cx="144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45200" y="5396040"/>
            <a:ext cx="180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80320" y="5396040"/>
            <a:ext cx="144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535960" y="5396040"/>
            <a:ext cx="1440" cy="122040"/>
          </a:xfrm>
          <a:prstGeom prst="line">
            <a:avLst/>
          </a:prstGeom>
          <a:ln w="2052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57320" y="2684520"/>
            <a:ext cx="5987880" cy="2771640"/>
          </a:xfrm>
          <a:custGeom>
            <a:avLst/>
            <a:gdLst/>
            <a:ahLst/>
            <a:rect l="l" t="t" r="r" b="b"/>
            <a:pathLst>
              <a:path w="3772" h="1746">
                <a:moveTo>
                  <a:pt x="0" y="375"/>
                </a:moveTo>
                <a:lnTo>
                  <a:pt x="38" y="349"/>
                </a:lnTo>
                <a:lnTo>
                  <a:pt x="63" y="323"/>
                </a:lnTo>
                <a:lnTo>
                  <a:pt x="125" y="258"/>
                </a:lnTo>
                <a:lnTo>
                  <a:pt x="175" y="181"/>
                </a:lnTo>
                <a:lnTo>
                  <a:pt x="238" y="116"/>
                </a:lnTo>
                <a:lnTo>
                  <a:pt x="301" y="51"/>
                </a:lnTo>
                <a:lnTo>
                  <a:pt x="326" y="38"/>
                </a:lnTo>
                <a:lnTo>
                  <a:pt x="351" y="13"/>
                </a:lnTo>
                <a:lnTo>
                  <a:pt x="388" y="13"/>
                </a:lnTo>
                <a:lnTo>
                  <a:pt x="413" y="0"/>
                </a:lnTo>
                <a:lnTo>
                  <a:pt x="439" y="13"/>
                </a:lnTo>
                <a:lnTo>
                  <a:pt x="476" y="26"/>
                </a:lnTo>
                <a:lnTo>
                  <a:pt x="501" y="51"/>
                </a:lnTo>
                <a:lnTo>
                  <a:pt x="526" y="90"/>
                </a:lnTo>
                <a:lnTo>
                  <a:pt x="564" y="142"/>
                </a:lnTo>
                <a:lnTo>
                  <a:pt x="589" y="207"/>
                </a:lnTo>
                <a:lnTo>
                  <a:pt x="614" y="271"/>
                </a:lnTo>
                <a:lnTo>
                  <a:pt x="652" y="336"/>
                </a:lnTo>
                <a:lnTo>
                  <a:pt x="702" y="491"/>
                </a:lnTo>
                <a:lnTo>
                  <a:pt x="764" y="647"/>
                </a:lnTo>
                <a:lnTo>
                  <a:pt x="827" y="802"/>
                </a:lnTo>
                <a:lnTo>
                  <a:pt x="852" y="880"/>
                </a:lnTo>
                <a:lnTo>
                  <a:pt x="890" y="944"/>
                </a:lnTo>
                <a:lnTo>
                  <a:pt x="915" y="1009"/>
                </a:lnTo>
                <a:lnTo>
                  <a:pt x="940" y="1061"/>
                </a:lnTo>
                <a:lnTo>
                  <a:pt x="1002" y="1164"/>
                </a:lnTo>
                <a:lnTo>
                  <a:pt x="1065" y="1242"/>
                </a:lnTo>
                <a:lnTo>
                  <a:pt x="1115" y="1332"/>
                </a:lnTo>
                <a:lnTo>
                  <a:pt x="1178" y="1397"/>
                </a:lnTo>
                <a:lnTo>
                  <a:pt x="1240" y="1462"/>
                </a:lnTo>
                <a:lnTo>
                  <a:pt x="1303" y="1526"/>
                </a:lnTo>
                <a:lnTo>
                  <a:pt x="1366" y="1565"/>
                </a:lnTo>
                <a:lnTo>
                  <a:pt x="1416" y="1617"/>
                </a:lnTo>
                <a:lnTo>
                  <a:pt x="1479" y="1643"/>
                </a:lnTo>
                <a:lnTo>
                  <a:pt x="1541" y="1669"/>
                </a:lnTo>
                <a:lnTo>
                  <a:pt x="1591" y="1682"/>
                </a:lnTo>
                <a:lnTo>
                  <a:pt x="1654" y="1682"/>
                </a:lnTo>
                <a:lnTo>
                  <a:pt x="1767" y="1682"/>
                </a:lnTo>
                <a:lnTo>
                  <a:pt x="1829" y="1682"/>
                </a:lnTo>
                <a:lnTo>
                  <a:pt x="1892" y="1695"/>
                </a:lnTo>
                <a:lnTo>
                  <a:pt x="2005" y="1708"/>
                </a:lnTo>
                <a:lnTo>
                  <a:pt x="2118" y="1708"/>
                </a:lnTo>
                <a:lnTo>
                  <a:pt x="2356" y="1721"/>
                </a:lnTo>
                <a:lnTo>
                  <a:pt x="2594" y="1734"/>
                </a:lnTo>
                <a:lnTo>
                  <a:pt x="2832" y="1746"/>
                </a:lnTo>
                <a:lnTo>
                  <a:pt x="3057" y="1746"/>
                </a:lnTo>
                <a:lnTo>
                  <a:pt x="3295" y="1746"/>
                </a:lnTo>
                <a:lnTo>
                  <a:pt x="3534" y="1746"/>
                </a:lnTo>
                <a:lnTo>
                  <a:pt x="3772" y="1746"/>
                </a:lnTo>
              </a:path>
            </a:pathLst>
          </a:custGeom>
          <a:noFill/>
          <a:ln w="20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045200" y="5456160"/>
            <a:ext cx="735120" cy="1800"/>
          </a:xfrm>
          <a:prstGeom prst="line">
            <a:avLst/>
          </a:prstGeom>
          <a:ln w="20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779960" y="5456160"/>
            <a:ext cx="755640" cy="1800"/>
          </a:xfrm>
          <a:prstGeom prst="line">
            <a:avLst/>
          </a:prstGeom>
          <a:ln w="20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57320" y="2725560"/>
            <a:ext cx="6743520" cy="2670480"/>
          </a:xfrm>
          <a:custGeom>
            <a:avLst/>
            <a:gdLst/>
            <a:ahLst/>
            <a:rect l="l" t="t" r="r" b="b"/>
            <a:pathLst>
              <a:path w="4248" h="1682">
                <a:moveTo>
                  <a:pt x="0" y="349"/>
                </a:moveTo>
                <a:lnTo>
                  <a:pt x="63" y="297"/>
                </a:lnTo>
                <a:lnTo>
                  <a:pt x="125" y="232"/>
                </a:lnTo>
                <a:lnTo>
                  <a:pt x="175" y="168"/>
                </a:lnTo>
                <a:lnTo>
                  <a:pt x="238" y="116"/>
                </a:lnTo>
                <a:lnTo>
                  <a:pt x="301" y="51"/>
                </a:lnTo>
                <a:lnTo>
                  <a:pt x="326" y="38"/>
                </a:lnTo>
                <a:lnTo>
                  <a:pt x="351" y="12"/>
                </a:lnTo>
                <a:lnTo>
                  <a:pt x="388" y="0"/>
                </a:lnTo>
                <a:lnTo>
                  <a:pt x="413" y="0"/>
                </a:lnTo>
                <a:lnTo>
                  <a:pt x="439" y="0"/>
                </a:lnTo>
                <a:lnTo>
                  <a:pt x="476" y="0"/>
                </a:lnTo>
                <a:lnTo>
                  <a:pt x="501" y="12"/>
                </a:lnTo>
                <a:lnTo>
                  <a:pt x="526" y="38"/>
                </a:lnTo>
                <a:lnTo>
                  <a:pt x="564" y="64"/>
                </a:lnTo>
                <a:lnTo>
                  <a:pt x="589" y="103"/>
                </a:lnTo>
                <a:lnTo>
                  <a:pt x="614" y="142"/>
                </a:lnTo>
                <a:lnTo>
                  <a:pt x="652" y="181"/>
                </a:lnTo>
                <a:lnTo>
                  <a:pt x="702" y="284"/>
                </a:lnTo>
                <a:lnTo>
                  <a:pt x="764" y="388"/>
                </a:lnTo>
                <a:lnTo>
                  <a:pt x="827" y="491"/>
                </a:lnTo>
                <a:lnTo>
                  <a:pt x="890" y="595"/>
                </a:lnTo>
                <a:lnTo>
                  <a:pt x="940" y="685"/>
                </a:lnTo>
                <a:lnTo>
                  <a:pt x="1002" y="776"/>
                </a:lnTo>
                <a:lnTo>
                  <a:pt x="1065" y="879"/>
                </a:lnTo>
                <a:lnTo>
                  <a:pt x="1178" y="1073"/>
                </a:lnTo>
                <a:lnTo>
                  <a:pt x="1240" y="1164"/>
                </a:lnTo>
                <a:lnTo>
                  <a:pt x="1303" y="1242"/>
                </a:lnTo>
                <a:lnTo>
                  <a:pt x="1366" y="1319"/>
                </a:lnTo>
                <a:lnTo>
                  <a:pt x="1416" y="1384"/>
                </a:lnTo>
                <a:lnTo>
                  <a:pt x="1479" y="1423"/>
                </a:lnTo>
                <a:lnTo>
                  <a:pt x="1541" y="1462"/>
                </a:lnTo>
                <a:lnTo>
                  <a:pt x="1591" y="1475"/>
                </a:lnTo>
                <a:lnTo>
                  <a:pt x="1654" y="1500"/>
                </a:lnTo>
                <a:lnTo>
                  <a:pt x="1717" y="1500"/>
                </a:lnTo>
                <a:lnTo>
                  <a:pt x="1767" y="1513"/>
                </a:lnTo>
                <a:lnTo>
                  <a:pt x="1829" y="1513"/>
                </a:lnTo>
                <a:lnTo>
                  <a:pt x="1892" y="1526"/>
                </a:lnTo>
                <a:lnTo>
                  <a:pt x="2005" y="1552"/>
                </a:lnTo>
                <a:lnTo>
                  <a:pt x="2118" y="1565"/>
                </a:lnTo>
                <a:lnTo>
                  <a:pt x="2356" y="1591"/>
                </a:lnTo>
                <a:lnTo>
                  <a:pt x="2481" y="1591"/>
                </a:lnTo>
                <a:lnTo>
                  <a:pt x="2594" y="1604"/>
                </a:lnTo>
                <a:lnTo>
                  <a:pt x="2832" y="1604"/>
                </a:lnTo>
                <a:lnTo>
                  <a:pt x="3057" y="1617"/>
                </a:lnTo>
                <a:lnTo>
                  <a:pt x="3295" y="1630"/>
                </a:lnTo>
                <a:lnTo>
                  <a:pt x="3534" y="1643"/>
                </a:lnTo>
                <a:lnTo>
                  <a:pt x="3772" y="1656"/>
                </a:lnTo>
                <a:lnTo>
                  <a:pt x="4010" y="1669"/>
                </a:lnTo>
                <a:lnTo>
                  <a:pt x="4248" y="1682"/>
                </a:lnTo>
              </a:path>
            </a:pathLst>
          </a:custGeom>
          <a:noFill/>
          <a:ln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779960" y="5374800"/>
            <a:ext cx="755640" cy="414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6960" y="5343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7800" y="4973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7800" y="4603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7800" y="4254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7800" y="3886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9000" y="3516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9000" y="31464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9000" y="2797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9000" y="24271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06200" y="5629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61840" y="5629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98400" y="5629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93200" y="5629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50640" y="5629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85760" y="5629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64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82360" y="56293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38000" y="56293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256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93640" y="56293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512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70080" y="562932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1024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25720" y="562932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2048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66040" y="5897520"/>
            <a:ext cx="174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8e2"/>
                </a:solidFill>
                <a:latin typeface="Arial"/>
              </a:rPr>
              <a:t>distance to trunc (m)</a:t>
            </a:r>
            <a:endParaRPr b="0" lang="en-US" sz="15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60520" y="2128680"/>
            <a:ext cx="1014120" cy="268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0520" y="2128680"/>
            <a:ext cx="1014120" cy="268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169600" y="4143240"/>
            <a:ext cx="22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b030f"/>
                </a:solidFill>
                <a:latin typeface="Times New Roman"/>
              </a:rPr>
              <a:t>Light and winged seeds,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b030f"/>
                </a:solidFill>
                <a:latin typeface="Times New Roman"/>
              </a:rPr>
              <a:t>big trees,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b030f"/>
                </a:solidFill>
                <a:latin typeface="Times New Roman"/>
              </a:rPr>
              <a:t>slope under strong wind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6240" y="4448160"/>
            <a:ext cx="128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Times New Roman"/>
              </a:rPr>
              <a:t>Heavy seeds,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Times New Roman"/>
              </a:rPr>
              <a:t>small tress,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Times New Roman"/>
              </a:rPr>
              <a:t>flat fields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Impact"/>
              </a:rPr>
              <a:t>The ecological proces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184464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172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ae8e2"/>
                </a:solidFill>
                <a:latin typeface="Times New Roman"/>
              </a:rPr>
              <a:t>sylvestre pinetrees: after 15 years          black pinetrees : after 30 years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1676520"/>
            <a:ext cx="35812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8d77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8e2"/>
                </a:solidFill>
                <a:latin typeface="Times New Roman"/>
              </a:rPr>
              <a:t>Isolated tre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676520"/>
            <a:ext cx="35816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8d77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8e2"/>
                </a:solidFill>
                <a:latin typeface="Times New Roman"/>
              </a:rPr>
              <a:t>Pionnier front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2133720"/>
            <a:ext cx="1143000" cy="228600"/>
          </a:xfrm>
          <a:prstGeom prst="rect">
            <a:avLst/>
          </a:prstGeom>
          <a:solidFill>
            <a:srgbClr val="a7c1cb"/>
          </a:solidFill>
          <a:ln cap="sq" w="1260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seeds/m</a:t>
            </a:r>
            <a:r>
              <a:rPr b="0" lang="fr-FR" sz="2400" spc="-1" strike="noStrike" baseline="30000">
                <a:solidFill>
                  <a:srgbClr val="eae8e2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447920" y="2120760"/>
            <a:ext cx="7086600" cy="4418280"/>
            <a:chOff x="1447920" y="2120760"/>
            <a:chExt cx="7086600" cy="4418280"/>
          </a:xfrm>
        </p:grpSpPr>
        <p:sp>
          <p:nvSpPr>
            <p:cNvPr id="334" name=""/>
            <p:cNvSpPr/>
            <p:nvPr/>
          </p:nvSpPr>
          <p:spPr>
            <a:xfrm>
              <a:off x="3102120" y="344664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344664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32280" y="3446640"/>
              <a:ext cx="41112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16480" y="3446640"/>
              <a:ext cx="41580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3446640"/>
              <a:ext cx="41580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63720" y="3446640"/>
              <a:ext cx="411120" cy="441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74840" y="3446640"/>
              <a:ext cx="414360" cy="441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72120" y="3446640"/>
              <a:ext cx="4665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57760" y="344664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02120" y="300528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3400" y="300528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32280" y="300528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16480" y="300528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47920" y="300528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63720" y="3005280"/>
              <a:ext cx="411120" cy="44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74840" y="3005280"/>
              <a:ext cx="414360" cy="44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72120" y="3005280"/>
              <a:ext cx="466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57760" y="300528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2120" y="388764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43400" y="388764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32280" y="388764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16480" y="3887640"/>
              <a:ext cx="41580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7920" y="3887640"/>
              <a:ext cx="41580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63720" y="388764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74840" y="3887640"/>
              <a:ext cx="414360" cy="44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72120" y="3887640"/>
              <a:ext cx="4665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57760" y="388764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02120" y="433080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43400" y="433080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32280" y="433080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16480" y="433080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7920" y="433080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3720" y="433080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72120" y="4330800"/>
              <a:ext cx="466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7760" y="433080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02120" y="477216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3400" y="477216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32280" y="477216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16480" y="477216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47920" y="477216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63720" y="477216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74840" y="477216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89200" y="4772160"/>
              <a:ext cx="412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72120" y="4772160"/>
              <a:ext cx="466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57760" y="477216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02120" y="25639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3400" y="25639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32280" y="256392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16480" y="256392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47920" y="256392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63720" y="2563920"/>
              <a:ext cx="411120" cy="44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74840" y="2563920"/>
              <a:ext cx="414360" cy="44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72120" y="2563920"/>
              <a:ext cx="466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57760" y="25639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02120" y="521352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3400" y="521352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32280" y="5213520"/>
              <a:ext cx="41112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16480" y="5213520"/>
              <a:ext cx="41580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47920" y="5213520"/>
              <a:ext cx="41580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63720" y="5213520"/>
              <a:ext cx="41112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74840" y="521352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89200" y="5213520"/>
              <a:ext cx="41292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72120" y="5213520"/>
              <a:ext cx="4665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57760" y="521352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02120" y="212076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43400" y="212076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32280" y="212076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6480" y="2120760"/>
              <a:ext cx="41580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47920" y="2120760"/>
              <a:ext cx="41580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63720" y="2120760"/>
              <a:ext cx="411120" cy="44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4840" y="2120760"/>
              <a:ext cx="414360" cy="44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274840" y="2120760"/>
              <a:ext cx="826920" cy="2650680"/>
              <a:chOff x="2274840" y="2120760"/>
              <a:chExt cx="826920" cy="2650680"/>
            </a:xfrm>
          </p:grpSpPr>
          <p:sp>
            <p:nvSpPr>
              <p:cNvPr id="406" name=""/>
              <p:cNvSpPr/>
              <p:nvPr/>
            </p:nvSpPr>
            <p:spPr>
              <a:xfrm>
                <a:off x="2688480" y="3444840"/>
                <a:ext cx="413280" cy="44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88480" y="3005280"/>
                <a:ext cx="413280" cy="439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688480" y="3887280"/>
                <a:ext cx="413280" cy="44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74840" y="4329360"/>
                <a:ext cx="413640" cy="44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88480" y="4329360"/>
                <a:ext cx="413280" cy="44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688480" y="2562840"/>
                <a:ext cx="413280" cy="44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8480" y="2120760"/>
                <a:ext cx="413280" cy="44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5172120" y="2120760"/>
              <a:ext cx="4665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57760" y="212076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02120" y="56545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43400" y="56545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32280" y="565452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16480" y="565452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47920" y="5654520"/>
              <a:ext cx="41580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63720" y="565452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74840" y="56545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89200" y="5654520"/>
              <a:ext cx="412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72120" y="5654520"/>
              <a:ext cx="466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57760" y="56545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02120" y="609588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7920" y="6095880"/>
              <a:ext cx="41580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63720" y="609588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74840" y="609588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89200" y="6095880"/>
              <a:ext cx="4129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72120" y="6095880"/>
              <a:ext cx="4665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16480" y="6095880"/>
              <a:ext cx="41580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2280" y="609588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43400" y="609588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57760" y="609588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92880" y="344664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23400" y="3446640"/>
              <a:ext cx="41112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07240" y="3446640"/>
              <a:ext cx="4161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38680" y="3446640"/>
              <a:ext cx="4161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54840" y="3446640"/>
              <a:ext cx="41112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65960" y="344664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80320" y="3446640"/>
              <a:ext cx="4125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92880" y="300528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123400" y="300528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07240" y="300528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38680" y="300528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54840" y="300528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65960" y="300528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80320" y="3005280"/>
              <a:ext cx="412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92880" y="388764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23400" y="388764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7240" y="3887640"/>
              <a:ext cx="4161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38680" y="3887640"/>
              <a:ext cx="4161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54840" y="388764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65960" y="388764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0320" y="3887640"/>
              <a:ext cx="4125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92880" y="433080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123400" y="433080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07240" y="433080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38680" y="433080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54840" y="433080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65960" y="433080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80320" y="4330800"/>
              <a:ext cx="412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92880" y="477216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23400" y="477216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07240" y="477216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38680" y="477216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54840" y="477216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65960" y="477216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80320" y="4772160"/>
              <a:ext cx="412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92880" y="25639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23400" y="256392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07240" y="256392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38680" y="256392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54840" y="256392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5960" y="25639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80320" y="2563920"/>
              <a:ext cx="412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92880" y="521352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23400" y="5213520"/>
              <a:ext cx="41112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07240" y="5213520"/>
              <a:ext cx="4161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38680" y="5213520"/>
              <a:ext cx="4161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54840" y="5213520"/>
              <a:ext cx="41112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65960" y="5213520"/>
              <a:ext cx="4143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80320" y="5213520"/>
              <a:ext cx="4125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92880" y="212076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23400" y="212076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07240" y="2120760"/>
              <a:ext cx="4161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38680" y="2120760"/>
              <a:ext cx="4161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54840" y="212076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65960" y="212076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80320" y="2120760"/>
              <a:ext cx="4125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92880" y="56545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23400" y="565452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07240" y="565452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38680" y="5654520"/>
              <a:ext cx="4161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54840" y="5654520"/>
              <a:ext cx="4111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65960" y="5654520"/>
              <a:ext cx="4143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80320" y="5654520"/>
              <a:ext cx="41256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92880" y="609588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38680" y="6095880"/>
              <a:ext cx="4161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54840" y="609588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65960" y="6095880"/>
              <a:ext cx="4143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80320" y="6095880"/>
              <a:ext cx="4125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07240" y="6095880"/>
              <a:ext cx="41616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23400" y="6095880"/>
              <a:ext cx="411120" cy="4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905120" y="2133720"/>
            <a:ext cx="3504960" cy="3593880"/>
          </a:xfrm>
          <a:custGeom>
            <a:avLst/>
            <a:gdLst/>
            <a:ahLst/>
            <a:rect l="l" t="t" r="r" b="b"/>
            <a:pathLst>
              <a:path w="2000" h="1488">
                <a:moveTo>
                  <a:pt x="640" y="0"/>
                </a:moveTo>
                <a:cubicBezTo>
                  <a:pt x="1112" y="172"/>
                  <a:pt x="1584" y="344"/>
                  <a:pt x="1792" y="528"/>
                </a:cubicBezTo>
                <a:cubicBezTo>
                  <a:pt x="2000" y="712"/>
                  <a:pt x="1920" y="952"/>
                  <a:pt x="1888" y="1104"/>
                </a:cubicBezTo>
                <a:cubicBezTo>
                  <a:pt x="1856" y="1256"/>
                  <a:pt x="1872" y="1392"/>
                  <a:pt x="1600" y="1440"/>
                </a:cubicBezTo>
                <a:cubicBezTo>
                  <a:pt x="1328" y="1488"/>
                  <a:pt x="512" y="1400"/>
                  <a:pt x="256" y="1392"/>
                </a:cubicBezTo>
                <a:cubicBezTo>
                  <a:pt x="0" y="1384"/>
                  <a:pt x="32" y="1388"/>
                  <a:pt x="64" y="1392"/>
                </a:cubicBezTo>
              </a:path>
            </a:pathLst>
          </a:custGeom>
          <a:noFill/>
          <a:ln w="63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0852200">
            <a:off x="5110200" y="2131200"/>
            <a:ext cx="3354480" cy="4496040"/>
          </a:xfrm>
          <a:custGeom>
            <a:avLst/>
            <a:gdLst/>
            <a:ahLst/>
            <a:rect l="l" t="t" r="r" b="b"/>
            <a:pathLst>
              <a:path w="2000" h="1488">
                <a:moveTo>
                  <a:pt x="640" y="0"/>
                </a:moveTo>
                <a:cubicBezTo>
                  <a:pt x="1112" y="172"/>
                  <a:pt x="1584" y="344"/>
                  <a:pt x="1792" y="528"/>
                </a:cubicBezTo>
                <a:cubicBezTo>
                  <a:pt x="2000" y="712"/>
                  <a:pt x="1920" y="952"/>
                  <a:pt x="1888" y="1104"/>
                </a:cubicBezTo>
                <a:cubicBezTo>
                  <a:pt x="1856" y="1256"/>
                  <a:pt x="1872" y="1392"/>
                  <a:pt x="1600" y="1440"/>
                </a:cubicBezTo>
                <a:cubicBezTo>
                  <a:pt x="1328" y="1488"/>
                  <a:pt x="512" y="1400"/>
                  <a:pt x="256" y="1392"/>
                </a:cubicBezTo>
                <a:cubicBezTo>
                  <a:pt x="0" y="1384"/>
                  <a:pt x="32" y="1388"/>
                  <a:pt x="64" y="1392"/>
                </a:cubicBezTo>
              </a:path>
            </a:pathLst>
          </a:cu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17400" y="388620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7c1cb"/>
                </a:solidFill>
                <a:latin typeface="Times New Roman"/>
              </a:rPr>
              <a:t>Reception basin 2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6094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dbc03"/>
                </a:solidFill>
                <a:latin typeface="Arial Black"/>
              </a:rPr>
              <a:t>The dispersal model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520" y="61722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b030f"/>
                </a:solidFill>
                <a:latin typeface="Times New Roman"/>
              </a:rPr>
              <a:t>crest 1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569916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f"/>
                </a:solidFill>
                <a:latin typeface="Times New Roman"/>
              </a:rPr>
              <a:t>crest 2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74840" y="2120760"/>
            <a:ext cx="826920" cy="2650680"/>
            <a:chOff x="2274840" y="2120760"/>
            <a:chExt cx="826920" cy="2650680"/>
          </a:xfrm>
        </p:grpSpPr>
        <p:sp>
          <p:nvSpPr>
            <p:cNvPr id="512" name=""/>
            <p:cNvSpPr/>
            <p:nvPr/>
          </p:nvSpPr>
          <p:spPr>
            <a:xfrm>
              <a:off x="2688480" y="3444840"/>
              <a:ext cx="413280" cy="4420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88480" y="3005280"/>
              <a:ext cx="413280" cy="4395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88480" y="3887280"/>
              <a:ext cx="413280" cy="4420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74840" y="4329360"/>
              <a:ext cx="413640" cy="4420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88480" y="4329360"/>
              <a:ext cx="413280" cy="4420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88480" y="2562840"/>
              <a:ext cx="413280" cy="4420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88480" y="2120760"/>
              <a:ext cx="413280" cy="4420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932280" y="3446640"/>
            <a:ext cx="1239840" cy="1766880"/>
            <a:chOff x="3932280" y="3446640"/>
            <a:chExt cx="1239840" cy="1766880"/>
          </a:xfrm>
        </p:grpSpPr>
        <p:sp>
          <p:nvSpPr>
            <p:cNvPr id="520" name=""/>
            <p:cNvSpPr/>
            <p:nvPr/>
          </p:nvSpPr>
          <p:spPr>
            <a:xfrm>
              <a:off x="4343400" y="3446640"/>
              <a:ext cx="414360" cy="441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57760" y="4330800"/>
              <a:ext cx="414360" cy="441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32280" y="4772160"/>
              <a:ext cx="411120" cy="441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454120" y="2584440"/>
            <a:ext cx="541440" cy="1855800"/>
            <a:chOff x="2454120" y="2584440"/>
            <a:chExt cx="541440" cy="1855800"/>
          </a:xfrm>
        </p:grpSpPr>
        <p:sp>
          <p:nvSpPr>
            <p:cNvPr id="524" name=""/>
            <p:cNvSpPr/>
            <p:nvPr/>
          </p:nvSpPr>
          <p:spPr>
            <a:xfrm>
              <a:off x="2562120" y="2584440"/>
              <a:ext cx="433440" cy="23184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62120" y="3165480"/>
              <a:ext cx="433440" cy="23184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62120" y="3746520"/>
              <a:ext cx="433440" cy="23184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54120" y="4208400"/>
              <a:ext cx="432000" cy="23184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505600" y="3639240"/>
            <a:ext cx="2272320" cy="676440"/>
          </a:xfrm>
          <a:prstGeom prst="line">
            <a:avLst/>
          </a:prstGeom>
          <a:ln w="38160">
            <a:solidFill>
              <a:srgbClr val="eae8e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45040" y="4557600"/>
            <a:ext cx="862200" cy="463680"/>
          </a:xfrm>
          <a:prstGeom prst="line">
            <a:avLst/>
          </a:prstGeom>
          <a:ln w="381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43000" y="1427040"/>
            <a:ext cx="1727280" cy="5450040"/>
          </a:xfrm>
          <a:custGeom>
            <a:avLst/>
            <a:gdLst/>
            <a:ahLst/>
            <a:rect l="l" t="t" r="r" b="b"/>
            <a:pathLst>
              <a:path w="768" h="2256">
                <a:moveTo>
                  <a:pt x="576" y="0"/>
                </a:moveTo>
                <a:cubicBezTo>
                  <a:pt x="672" y="364"/>
                  <a:pt x="768" y="728"/>
                  <a:pt x="672" y="1104"/>
                </a:cubicBezTo>
                <a:cubicBezTo>
                  <a:pt x="576" y="1480"/>
                  <a:pt x="112" y="2064"/>
                  <a:pt x="0" y="2256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000" y="4789440"/>
            <a:ext cx="3048120" cy="685800"/>
          </a:xfrm>
          <a:prstGeom prst="wedgeRoundRectCallout">
            <a:avLst>
              <a:gd name="adj1" fmla="val 46199"/>
              <a:gd name="adj2" fmla="val -90277"/>
              <a:gd name="adj3" fmla="val 16667"/>
            </a:avLst>
          </a:prstGeom>
          <a:solidFill>
            <a:srgbClr val="66ffcc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All cells with herbs and under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the wind is colonized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00600" y="1600200"/>
            <a:ext cx="4419720" cy="1454040"/>
          </a:xfrm>
          <a:prstGeom prst="wedgeRoundRectCallout">
            <a:avLst>
              <a:gd name="adj1" fmla="val -56967"/>
              <a:gd name="adj2" fmla="val 84500"/>
              <a:gd name="adj3" fmla="val 16667"/>
            </a:avLst>
          </a:prstGeom>
          <a:solidFill>
            <a:srgbClr val="a38d77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Any cell away from seeders but situated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in the same reception basin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has a probability to be colonized as a function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of livestock pressure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5334120"/>
            <a:ext cx="4267080" cy="1143000"/>
          </a:xfrm>
          <a:prstGeom prst="wedgeRoundRectCallout">
            <a:avLst>
              <a:gd name="adj1" fmla="val -41143"/>
              <a:gd name="adj2" fmla="val -112777"/>
              <a:gd name="adj3" fmla="val 16667"/>
            </a:avLst>
          </a:prstGeom>
          <a:solidFill>
            <a:srgbClr val="a38d77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Any cell occupied by mature pinetre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And situated east of a basin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Is able to colonize the next basin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1295280"/>
            <a:ext cx="3211560" cy="695520"/>
          </a:xfrm>
          <a:prstGeom prst="wedgeRoundRectCallout">
            <a:avLst>
              <a:gd name="adj1" fmla="val 4277"/>
              <a:gd name="adj2" fmla="val 115754"/>
              <a:gd name="adj3" fmla="val 16667"/>
            </a:avLst>
          </a:prstGeom>
          <a:solidFill>
            <a:srgbClr val="3366f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Sylvestre pine trees over 15 years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Times New Roman"/>
              </a:rPr>
              <a:t>or black pine trees over 30 year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mjinitial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6859440"/>
          </a:xfrm>
          <a:prstGeom prst="rect">
            <a:avLst/>
          </a:prstGeom>
          <a:ln w="0">
            <a:noFill/>
          </a:ln>
        </p:spPr>
      </p:pic>
      <p:pic>
        <p:nvPicPr>
          <p:cNvPr id="536" name="legendefv" descr=""/>
          <p:cNvPicPr/>
          <p:nvPr/>
        </p:nvPicPr>
        <p:blipFill>
          <a:blip r:embed="rId2"/>
          <a:srcRect l="0" t="0" r="72415" b="68736"/>
          <a:stretch/>
        </p:blipFill>
        <p:spPr>
          <a:xfrm>
            <a:off x="152280" y="228600"/>
            <a:ext cx="2895840" cy="25146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396040" y="422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Definition of complex system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Definition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Complex system: set of components in interaction between themselves and with an outside 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Arial Narrow"/>
              </a:rPr>
              <a:t>Distinction between the set (the system) and the rest (the environment/outside): depends on the question ;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Arial Narrow"/>
              </a:rPr>
              <a:t>Non-linear interactions : more than the sum of its parts.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Main features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Depends on the observer/designer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Arial Narrow"/>
              </a:rPr>
              <a:t>Multiplicity of the points of view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Particular articulation of the micro- and macro-level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Arial Narrow"/>
              </a:rPr>
              <a:t>Emergence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8e2"/>
                </a:solidFill>
                <a:latin typeface="Arial Narrow"/>
              </a:rPr>
              <a:t>Multiplicity of organization levels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Three layers: environment/components/system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The approac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62120" y="5486400"/>
            <a:ext cx="8231040" cy="1066680"/>
            <a:chOff x="762120" y="5486400"/>
            <a:chExt cx="8231040" cy="1066680"/>
          </a:xfrm>
        </p:grpSpPr>
        <p:sp>
          <p:nvSpPr>
            <p:cNvPr id="540" name=""/>
            <p:cNvSpPr/>
            <p:nvPr/>
          </p:nvSpPr>
          <p:spPr>
            <a:xfrm>
              <a:off x="762120" y="5486400"/>
              <a:ext cx="3276360" cy="106668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29000" y="5486400"/>
              <a:ext cx="3276720" cy="106668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42800" y="5502240"/>
              <a:ext cx="225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The targeted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Eco-sociosystem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668880" y="3809880"/>
            <a:ext cx="7777440" cy="1667520"/>
            <a:chOff x="668880" y="3809880"/>
            <a:chExt cx="7777440" cy="1667520"/>
          </a:xfrm>
        </p:grpSpPr>
        <p:sp>
          <p:nvSpPr>
            <p:cNvPr id="544" name=""/>
            <p:cNvSpPr/>
            <p:nvPr/>
          </p:nvSpPr>
          <p:spPr>
            <a:xfrm>
              <a:off x="762120" y="3962520"/>
              <a:ext cx="304776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29000" y="3809880"/>
              <a:ext cx="3276720" cy="106704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09680" y="4952880"/>
              <a:ext cx="304920" cy="457200"/>
            </a:xfrm>
            <a:prstGeom prst="upArrow">
              <a:avLst>
                <a:gd name="adj1" fmla="val 50000"/>
                <a:gd name="adj2" fmla="val 37485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76920" y="4952880"/>
              <a:ext cx="304560" cy="457200"/>
            </a:xfrm>
            <a:prstGeom prst="upArrow">
              <a:avLst>
                <a:gd name="adj1" fmla="val 50000"/>
                <a:gd name="adj2" fmla="val 37530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8880" y="4773600"/>
              <a:ext cx="114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Ecology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62720" y="4773600"/>
              <a:ext cx="127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Role game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81320" y="396252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Playing role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game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62120" y="2286000"/>
            <a:ext cx="7616520" cy="1556280"/>
            <a:chOff x="762120" y="2286000"/>
            <a:chExt cx="7616520" cy="1556280"/>
          </a:xfrm>
        </p:grpSpPr>
        <p:sp>
          <p:nvSpPr>
            <p:cNvPr id="552" name=""/>
            <p:cNvSpPr/>
            <p:nvPr/>
          </p:nvSpPr>
          <p:spPr>
            <a:xfrm>
              <a:off x="762120" y="2286000"/>
              <a:ext cx="304776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81280" y="2286000"/>
              <a:ext cx="304812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3200400"/>
              <a:ext cx="304560" cy="457200"/>
            </a:xfrm>
            <a:prstGeom prst="upArrow">
              <a:avLst>
                <a:gd name="adj1" fmla="val 50000"/>
                <a:gd name="adj2" fmla="val 37530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57680" y="3138480"/>
              <a:ext cx="248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Stakeholder behaviour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6920" y="2286000"/>
              <a:ext cx="152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Simulating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dbc03"/>
                </a:solidFill>
                <a:latin typeface="Impact"/>
              </a:rPr>
              <a:t>Modelling of farmers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 farm is defined b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n equilibrium between culture, paths and fores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remaining task force to control the pinetrees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Stockbreeding practices using more or less paths depending on the kind of farmer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Forestry practices depending on the proposed incentives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fixed territory until succession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Plausible hypotheses regarding the farm future after the succession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dbc03"/>
                </a:solidFill>
                <a:latin typeface="Impact"/>
              </a:rPr>
              <a:t>Modelling naturalists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protected space defined by the dominance of open spaces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regulated spac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capacity to mobilize means for controling the pinetree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precise vision of the patrimonial stakes regarding plants, animals and landscap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reduced territor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capacity to influence the public policie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dbc03"/>
                </a:solidFill>
                <a:latin typeface="Impact"/>
              </a:rPr>
              <a:t>Modelling foresters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 space to manage defined as a function of: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The origin of pinetrees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Regulated forestation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capapity to mobilize means for reforestation and exploitation of pinetree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productive vision of pinetrees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A territory in mosaïque and in extension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13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dbc03"/>
                </a:solidFill>
                <a:latin typeface="Impact"/>
              </a:rPr>
              <a:t>Testing three main strategies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2304720"/>
            <a:ext cx="868680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o let the nature do (total abandon)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o seek a compromise between stockbreeding and nature conserva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o recreate (maintain) the landscap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990360" y="743040"/>
            <a:ext cx="675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bc03"/>
                </a:solidFill>
                <a:latin typeface="Arial Black"/>
              </a:rPr>
              <a:t>Comparison of three scenario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bc03"/>
                </a:solidFill>
                <a:latin typeface="Arial Black"/>
              </a:rPr>
              <a:t>From the “vegetal” point of view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7480" y="2394000"/>
            <a:ext cx="225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8e2"/>
                </a:solidFill>
                <a:latin typeface="Comic Sans MS"/>
              </a:rPr>
              <a:t>Total abandon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8e2"/>
                </a:solidFill>
                <a:latin typeface="Comic Sans MS"/>
              </a:rPr>
              <a:t>of the Causs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35000" y="1981080"/>
            <a:ext cx="35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8e2"/>
                </a:solidFill>
                <a:latin typeface="Comic Sans MS"/>
              </a:rPr>
              <a:t>Concertations between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8e2"/>
                </a:solidFill>
                <a:latin typeface="Comic Sans MS"/>
              </a:rPr>
              <a:t>farmers and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8e2"/>
                </a:solidFill>
                <a:latin typeface="Comic Sans MS"/>
              </a:rPr>
              <a:t>the national park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20320" y="2394000"/>
            <a:ext cx="21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Comic Sans MS"/>
              </a:rPr>
              <a:t>To recreate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Comic Sans MS"/>
              </a:rPr>
              <a:t>the landscap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569" name="Macintosh HD:Users:jpmuller:Documents:Cours:CoursIAD:Cours SMA:scAbandon.avi" descr=""/>
          <p:cNvPicPr/>
          <p:nvPr/>
        </p:nvPicPr>
        <p:blipFill>
          <a:blip r:embed="rId1"/>
          <a:stretch/>
        </p:blipFill>
        <p:spPr>
          <a:xfrm>
            <a:off x="76320" y="3429000"/>
            <a:ext cx="2871720" cy="2895480"/>
          </a:xfrm>
          <a:prstGeom prst="rect">
            <a:avLst/>
          </a:prstGeom>
          <a:ln w="0">
            <a:noFill/>
          </a:ln>
        </p:spPr>
      </p:pic>
      <p:pic>
        <p:nvPicPr>
          <p:cNvPr id="570" name="Macintosh HD:Users:jpmuller:Documents:Cours:CoursIAD:Cours SMA:scExploitation.avi" descr=""/>
          <p:cNvPicPr/>
          <p:nvPr/>
        </p:nvPicPr>
        <p:blipFill>
          <a:blip r:embed="rId2"/>
          <a:stretch/>
        </p:blipFill>
        <p:spPr>
          <a:xfrm>
            <a:off x="3124080" y="3429000"/>
            <a:ext cx="2882880" cy="2895480"/>
          </a:xfrm>
          <a:prstGeom prst="rect">
            <a:avLst/>
          </a:prstGeom>
          <a:ln w="0">
            <a:noFill/>
          </a:ln>
        </p:spPr>
      </p:pic>
      <p:pic>
        <p:nvPicPr>
          <p:cNvPr id="571" name="Macintosh HD:Users:jpmuller:Documents:Cours:CoursIAD:Cours SMA:scSteppe.avi" descr=""/>
          <p:cNvPicPr/>
          <p:nvPr/>
        </p:nvPicPr>
        <p:blipFill>
          <a:blip r:embed="rId3"/>
          <a:stretch/>
        </p:blipFill>
        <p:spPr>
          <a:xfrm>
            <a:off x="6161040" y="3429000"/>
            <a:ext cx="284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The approac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62120" y="5486400"/>
            <a:ext cx="8231040" cy="1066680"/>
            <a:chOff x="762120" y="5486400"/>
            <a:chExt cx="8231040" cy="1066680"/>
          </a:xfrm>
        </p:grpSpPr>
        <p:sp>
          <p:nvSpPr>
            <p:cNvPr id="574" name=""/>
            <p:cNvSpPr/>
            <p:nvPr/>
          </p:nvSpPr>
          <p:spPr>
            <a:xfrm>
              <a:off x="762120" y="5486400"/>
              <a:ext cx="3276360" cy="106668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9000" y="5486400"/>
              <a:ext cx="3276720" cy="106668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42800" y="5502240"/>
              <a:ext cx="225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The targeted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Eco-sociosystem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68880" y="3809880"/>
            <a:ext cx="7777440" cy="1667520"/>
            <a:chOff x="668880" y="3809880"/>
            <a:chExt cx="7777440" cy="1667520"/>
          </a:xfrm>
        </p:grpSpPr>
        <p:sp>
          <p:nvSpPr>
            <p:cNvPr id="578" name=""/>
            <p:cNvSpPr/>
            <p:nvPr/>
          </p:nvSpPr>
          <p:spPr>
            <a:xfrm>
              <a:off x="762120" y="3962520"/>
              <a:ext cx="304776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29000" y="3809880"/>
              <a:ext cx="3276720" cy="1067040"/>
            </a:xfrm>
            <a:prstGeom prst="ellipse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09680" y="4952880"/>
              <a:ext cx="304920" cy="457200"/>
            </a:xfrm>
            <a:prstGeom prst="upArrow">
              <a:avLst>
                <a:gd name="adj1" fmla="val 50000"/>
                <a:gd name="adj2" fmla="val 37485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76920" y="4952880"/>
              <a:ext cx="304560" cy="457200"/>
            </a:xfrm>
            <a:prstGeom prst="upArrow">
              <a:avLst>
                <a:gd name="adj1" fmla="val 50000"/>
                <a:gd name="adj2" fmla="val 37530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8880" y="4773600"/>
              <a:ext cx="114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Ecology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62720" y="4773600"/>
              <a:ext cx="127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Role game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81320" y="396252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Playing role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game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62120" y="2286000"/>
            <a:ext cx="7616520" cy="1556280"/>
            <a:chOff x="762120" y="2286000"/>
            <a:chExt cx="7616520" cy="1556280"/>
          </a:xfrm>
        </p:grpSpPr>
        <p:sp>
          <p:nvSpPr>
            <p:cNvPr id="586" name=""/>
            <p:cNvSpPr/>
            <p:nvPr/>
          </p:nvSpPr>
          <p:spPr>
            <a:xfrm>
              <a:off x="762120" y="2286000"/>
              <a:ext cx="304776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cologic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81280" y="2286000"/>
              <a:ext cx="3048120" cy="838080"/>
            </a:xfrm>
            <a:prstGeom prst="rect">
              <a:avLst/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cial dynamic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76920" y="3200400"/>
              <a:ext cx="304560" cy="457200"/>
            </a:xfrm>
            <a:prstGeom prst="upArrow">
              <a:avLst>
                <a:gd name="adj1" fmla="val 50000"/>
                <a:gd name="adj2" fmla="val 37530"/>
              </a:avLst>
            </a:prstGeom>
            <a:solidFill>
              <a:srgbClr val="a7c1cb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57680" y="3138480"/>
              <a:ext cx="248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Stakeholder behaviour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eae8e2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6920" y="2286000"/>
              <a:ext cx="152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Simulating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366920" y="1219320"/>
            <a:ext cx="4821480" cy="1205640"/>
            <a:chOff x="1366920" y="1219320"/>
            <a:chExt cx="4821480" cy="1205640"/>
          </a:xfrm>
        </p:grpSpPr>
        <p:sp>
          <p:nvSpPr>
            <p:cNvPr id="592" name=""/>
            <p:cNvSpPr/>
            <p:nvPr/>
          </p:nvSpPr>
          <p:spPr>
            <a:xfrm>
              <a:off x="1366920" y="1219320"/>
              <a:ext cx="482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ae8e2"/>
                  </a:solidFill>
                  <a:latin typeface="Times New Roman"/>
                </a:rPr>
                <a:t>Scenarios assessment using indicators</a:t>
              </a: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5383800">
              <a:off x="3498840" y="767160"/>
              <a:ext cx="104652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200" spc="-1" strike="noStrike">
                  <a:solidFill>
                    <a:srgbClr val="eae8e2"/>
                  </a:solidFill>
                  <a:latin typeface="Times New Roman"/>
                </a:rPr>
                <a:t>{</a:t>
              </a:r>
              <a:endParaRPr b="0" lang="en-US" sz="142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066680" y="53352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dbc03"/>
                </a:solidFill>
                <a:latin typeface="Arial Black"/>
              </a:rPr>
              <a:t>Impacts on the ecological proces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371600" y="2209680"/>
            <a:ext cx="3269880" cy="4467240"/>
            <a:chOff x="1371600" y="2209680"/>
            <a:chExt cx="3269880" cy="4467240"/>
          </a:xfrm>
        </p:grpSpPr>
        <p:sp>
          <p:nvSpPr>
            <p:cNvPr id="596" name=""/>
            <p:cNvSpPr/>
            <p:nvPr/>
          </p:nvSpPr>
          <p:spPr>
            <a:xfrm>
              <a:off x="1966680" y="4578480"/>
              <a:ext cx="2072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eae8e2"/>
                  </a:solidFill>
                  <a:latin typeface="Times New Roman"/>
                </a:rPr>
                <a:t>Small pinetrees</a:t>
              </a:r>
              <a:endParaRPr b="0" lang="en-US" sz="13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66680" y="4038480"/>
              <a:ext cx="2666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eae8e2"/>
                  </a:solidFill>
                  <a:latin typeface="Times New Roman"/>
                </a:rPr>
                <a:t>Big pinetrees + small pinetrees</a:t>
              </a:r>
              <a:endParaRPr b="0" lang="en-US" sz="13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71600" y="6226200"/>
              <a:ext cx="525240" cy="45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71600" y="3930480"/>
              <a:ext cx="526680" cy="452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71600" y="2784600"/>
              <a:ext cx="526680" cy="453960"/>
            </a:xfrm>
            <a:prstGeom prst="rect">
              <a:avLst/>
            </a:prstGeom>
            <a:solidFill>
              <a:srgbClr val="7d9c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1600" y="4503600"/>
              <a:ext cx="525240" cy="45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71600" y="3355920"/>
              <a:ext cx="526680" cy="457200"/>
            </a:xfrm>
            <a:prstGeom prst="rect">
              <a:avLst/>
            </a:prstGeom>
            <a:solidFill>
              <a:srgbClr val="9600b4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71600" y="5076720"/>
              <a:ext cx="526680" cy="453960"/>
            </a:xfrm>
            <a:prstGeom prst="rect">
              <a:avLst/>
            </a:prstGeom>
            <a:solidFill>
              <a:srgbClr val="4dff4d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71600" y="2209680"/>
              <a:ext cx="526680" cy="452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71600" y="5649840"/>
              <a:ext cx="526680" cy="45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67760" y="3471840"/>
              <a:ext cx="267372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t">
              <a:spAutoFit/>
            </a:bodyPr>
            <a:p>
              <a:pPr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0" lang="fr-FR" sz="1300" spc="-1" strike="noStrike">
                  <a:solidFill>
                    <a:srgbClr val="eae8e2"/>
                  </a:solidFill>
                  <a:latin typeface="Times New Roman"/>
                </a:rPr>
                <a:t>Big pinetrees + densed small pinetrees</a:t>
              </a:r>
              <a:endParaRPr b="0" lang="en-US" sz="13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66680" y="6351480"/>
              <a:ext cx="4730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t">
              <a:spAutoFit/>
            </a:bodyPr>
            <a:p>
              <a:pPr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0" lang="fr-FR" sz="1300" spc="-1" strike="noStrike">
                  <a:solidFill>
                    <a:srgbClr val="eae8e2"/>
                  </a:solidFill>
                  <a:latin typeface="Times New Roman"/>
                </a:rPr>
                <a:t>Field</a:t>
              </a:r>
              <a:endParaRPr b="0" lang="en-US" sz="13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73520" y="5214960"/>
              <a:ext cx="156096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t">
              <a:spAutoFit/>
            </a:bodyPr>
            <a:p>
              <a:pPr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0" lang="fr-FR" sz="1300" spc="-1" strike="noStrike">
                  <a:solidFill>
                    <a:srgbClr val="eae8e2"/>
                  </a:solidFill>
                  <a:latin typeface="Times New Roman"/>
                </a:rPr>
                <a:t>Big isolated pinetrees</a:t>
              </a:r>
              <a:endParaRPr b="0" lang="en-US" sz="13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73880" y="5786280"/>
              <a:ext cx="17074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t">
              <a:spAutoFit/>
            </a:bodyPr>
            <a:p>
              <a:pPr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0" lang="fr-FR" sz="1300" spc="-1" strike="noStrike">
                  <a:solidFill>
                    <a:srgbClr val="eae8e2"/>
                  </a:solidFill>
                  <a:latin typeface="Times New Roman"/>
                </a:rPr>
                <a:t>Small isolated pinetrees</a:t>
              </a:r>
              <a:endParaRPr b="0" lang="en-US" sz="13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66680" y="2438280"/>
              <a:ext cx="15152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t">
              <a:spAutoFit/>
            </a:bodyPr>
            <a:p>
              <a:pPr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0" lang="fr-FR" sz="1300" spc="-1" strike="noStrike">
                  <a:solidFill>
                    <a:srgbClr val="eae8e2"/>
                  </a:solidFill>
                  <a:latin typeface="Times New Roman"/>
                </a:rPr>
                <a:t>Densed big pinetrees</a:t>
              </a:r>
              <a:endParaRPr b="0" lang="en-US" sz="13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66680" y="2986200"/>
              <a:ext cx="10080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t">
              <a:spAutoFit/>
            </a:bodyPr>
            <a:p>
              <a:pPr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0" lang="fr-FR" sz="1300" spc="-1" strike="noStrike">
                  <a:solidFill>
                    <a:srgbClr val="eae8e2"/>
                  </a:solidFill>
                  <a:latin typeface="Times New Roman"/>
                </a:rPr>
                <a:t>Big pinetrees</a:t>
              </a:r>
              <a:endParaRPr b="0" lang="en-US" sz="13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676880" y="160020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dbc03"/>
                </a:solidFill>
                <a:latin typeface="Times New Roman"/>
              </a:rPr>
              <a:t>For protected plant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2782800"/>
            <a:ext cx="3657600" cy="455760"/>
          </a:xfrm>
          <a:prstGeom prst="rect">
            <a:avLst/>
          </a:prstGeom>
          <a:solidFill>
            <a:srgbClr val="5f5f5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ae8e2"/>
                </a:solidFill>
                <a:latin typeface="Times New Roman"/>
              </a:rPr>
              <a:t>extinction of </a:t>
            </a:r>
            <a:r>
              <a:rPr b="1" i="1" lang="fr-FR" sz="1400" spc="-1" strike="noStrike">
                <a:solidFill>
                  <a:srgbClr val="eae8e2"/>
                </a:solidFill>
                <a:latin typeface="Times New Roman"/>
              </a:rPr>
              <a:t>Gagea pratensis, Adonis vernali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952880" y="3930480"/>
            <a:ext cx="3657600" cy="1027440"/>
            <a:chOff x="4952880" y="3930480"/>
            <a:chExt cx="3657600" cy="1027440"/>
          </a:xfrm>
        </p:grpSpPr>
        <p:sp>
          <p:nvSpPr>
            <p:cNvPr id="615" name=""/>
            <p:cNvSpPr/>
            <p:nvPr/>
          </p:nvSpPr>
          <p:spPr>
            <a:xfrm>
              <a:off x="4952880" y="3930480"/>
              <a:ext cx="3657600" cy="4525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8e2"/>
                  </a:solidFill>
                  <a:latin typeface="Times New Roman"/>
                </a:rPr>
                <a:t>extinction of </a:t>
              </a:r>
              <a:r>
                <a:rPr b="1" i="1" lang="fr-FR" sz="1400" spc="-1" strike="noStrike">
                  <a:solidFill>
                    <a:srgbClr val="eae8e2"/>
                  </a:solidFill>
                  <a:latin typeface="Times New Roman"/>
                </a:rPr>
                <a:t>Gentiana clusii</a:t>
              </a:r>
              <a:endParaRPr b="0" lang="en-US" sz="1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2880" y="4503600"/>
              <a:ext cx="3646440" cy="4543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8e2"/>
                  </a:solidFill>
                  <a:latin typeface="Times New Roman"/>
                </a:rPr>
                <a:t>extinction of </a:t>
              </a:r>
              <a:r>
                <a:rPr b="1" i="1" lang="fr-FR" sz="1400" spc="-1" strike="noStrike">
                  <a:solidFill>
                    <a:srgbClr val="eae8e2"/>
                  </a:solidFill>
                  <a:latin typeface="Times New Roman"/>
                </a:rPr>
                <a:t>Orchis coriophora</a:t>
              </a:r>
              <a:endParaRPr b="0" lang="en-US" sz="1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4952880" y="3355920"/>
            <a:ext cx="3657600" cy="457200"/>
          </a:xfrm>
          <a:prstGeom prst="rect">
            <a:avLst/>
          </a:prstGeom>
          <a:solidFill>
            <a:srgbClr val="5f5f5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ae8e2"/>
                </a:solidFill>
                <a:latin typeface="Times New Roman"/>
              </a:rPr>
              <a:t>extinction all protected specie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5075280"/>
            <a:ext cx="3657600" cy="455400"/>
          </a:xfrm>
          <a:prstGeom prst="rect">
            <a:avLst/>
          </a:prstGeom>
          <a:solidFill>
            <a:srgbClr val="5f5f5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ae8e2"/>
                </a:solidFill>
                <a:latin typeface="Times New Roman"/>
              </a:rPr>
              <a:t>extinction of </a:t>
            </a:r>
            <a:r>
              <a:rPr b="1" i="1" lang="fr-FR" sz="1400" spc="-1" strike="noStrike">
                <a:solidFill>
                  <a:srgbClr val="eae8e2"/>
                </a:solidFill>
                <a:latin typeface="Times New Roman"/>
              </a:rPr>
              <a:t>Gagea villosa</a:t>
            </a:r>
            <a:r>
              <a:rPr b="1" lang="fr-FR" sz="14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2209680"/>
            <a:ext cx="3657600" cy="454320"/>
          </a:xfrm>
          <a:prstGeom prst="rect">
            <a:avLst/>
          </a:prstGeom>
          <a:solidFill>
            <a:srgbClr val="5f5f5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fr-FR" sz="1400" spc="-1" strike="noStrike">
                <a:solidFill>
                  <a:srgbClr val="eae8e2"/>
                </a:solidFill>
                <a:latin typeface="Times New Roman"/>
              </a:rPr>
              <a:t>extinction of </a:t>
            </a:r>
            <a:r>
              <a:rPr b="1" i="1" lang="fr-FR" sz="1400" spc="-1" strike="noStrike">
                <a:solidFill>
                  <a:srgbClr val="eae8e2"/>
                </a:solidFill>
                <a:latin typeface="Times New Roman"/>
              </a:rPr>
              <a:t>Saponaria bellidifoli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952880" y="5648400"/>
            <a:ext cx="3657600" cy="1028520"/>
            <a:chOff x="4952880" y="5648400"/>
            <a:chExt cx="3657600" cy="1028520"/>
          </a:xfrm>
        </p:grpSpPr>
        <p:sp>
          <p:nvSpPr>
            <p:cNvPr id="621" name=""/>
            <p:cNvSpPr/>
            <p:nvPr/>
          </p:nvSpPr>
          <p:spPr>
            <a:xfrm>
              <a:off x="4952880" y="6222960"/>
              <a:ext cx="3646440" cy="4539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8e2"/>
                  </a:solidFill>
                  <a:latin typeface="Times New Roman"/>
                </a:rPr>
                <a:t>no extinction</a:t>
              </a:r>
              <a:endParaRPr b="0" lang="en-US" sz="1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52880" y="5648400"/>
              <a:ext cx="3657600" cy="4554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8e2"/>
                  </a:solidFill>
                  <a:latin typeface="Times New Roman"/>
                </a:rPr>
                <a:t>no extinction</a:t>
              </a:r>
              <a:endParaRPr b="0" lang="en-US" sz="1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914400" y="160020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dbc03"/>
                </a:solidFill>
                <a:latin typeface="Times New Roman"/>
              </a:rPr>
              <a:t>For protected animal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53352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dbc03"/>
                </a:solidFill>
                <a:latin typeface="Arial Black"/>
              </a:rPr>
              <a:t>Impacts on the ecological proces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480" y="2362320"/>
            <a:ext cx="220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2065320" y="3733920"/>
            <a:ext cx="677880" cy="457200"/>
            <a:chOff x="2065320" y="3733920"/>
            <a:chExt cx="677880" cy="457200"/>
          </a:xfrm>
        </p:grpSpPr>
        <p:sp>
          <p:nvSpPr>
            <p:cNvPr id="627" name=""/>
            <p:cNvSpPr/>
            <p:nvPr/>
          </p:nvSpPr>
          <p:spPr>
            <a:xfrm>
              <a:off x="2522520" y="3733920"/>
              <a:ext cx="22068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65320" y="3962520"/>
              <a:ext cx="22068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93920" y="3962520"/>
              <a:ext cx="2206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93920" y="3733920"/>
              <a:ext cx="220680" cy="228600"/>
            </a:xfrm>
            <a:prstGeom prst="rect">
              <a:avLst/>
            </a:prstGeom>
            <a:solidFill>
              <a:srgbClr val="4dff4d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65320" y="3733920"/>
              <a:ext cx="220680" cy="228600"/>
            </a:xfrm>
            <a:prstGeom prst="rect">
              <a:avLst/>
            </a:prstGeom>
            <a:solidFill>
              <a:srgbClr val="7d9cff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22520" y="3962520"/>
              <a:ext cx="220680" cy="228600"/>
            </a:xfrm>
            <a:prstGeom prst="rect">
              <a:avLst/>
            </a:prstGeom>
            <a:solidFill>
              <a:srgbClr val="4dff4d"/>
            </a:solidFill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019920" y="3733920"/>
            <a:ext cx="2666880" cy="457200"/>
          </a:xfrm>
          <a:prstGeom prst="rect">
            <a:avLst/>
          </a:prstGeom>
          <a:solidFill>
            <a:srgbClr val="5f5f5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ae8e2"/>
                </a:solidFill>
                <a:latin typeface="Times New Roman"/>
              </a:rPr>
              <a:t>+ than 25 % on six cell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00400" y="5716440"/>
            <a:ext cx="2895480" cy="532080"/>
          </a:xfrm>
          <a:prstGeom prst="rect">
            <a:avLst/>
          </a:prstGeom>
          <a:solidFill>
            <a:srgbClr val="5f5f5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ae8e2"/>
                </a:solidFill>
                <a:latin typeface="Times New Roman"/>
              </a:rPr>
              <a:t>+ than 50 % on 6000 cell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2286000"/>
            <a:ext cx="4343400" cy="380880"/>
          </a:xfrm>
          <a:prstGeom prst="rect">
            <a:avLst/>
          </a:prstGeom>
          <a:solidFill>
            <a:srgbClr val="5f5f5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ae8e2"/>
                </a:solidFill>
                <a:latin typeface="Times New Roman"/>
              </a:rPr>
              <a:t>+ de 10 % of tree coverage on a cell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636" name="Apollon" descr=""/>
          <p:cNvPicPr/>
          <p:nvPr/>
        </p:nvPicPr>
        <p:blipFill>
          <a:blip r:embed="rId1"/>
          <a:stretch/>
        </p:blipFill>
        <p:spPr>
          <a:xfrm>
            <a:off x="5391000" y="1143000"/>
            <a:ext cx="3372120" cy="2247840"/>
          </a:xfrm>
          <a:prstGeom prst="rect">
            <a:avLst/>
          </a:prstGeom>
          <a:ln w="0">
            <a:noFill/>
          </a:ln>
        </p:spPr>
      </p:pic>
      <p:pic>
        <p:nvPicPr>
          <p:cNvPr id="637" name="FVTVALAT" descr=""/>
          <p:cNvPicPr/>
          <p:nvPr/>
        </p:nvPicPr>
        <p:blipFill>
          <a:blip r:embed="rId2"/>
          <a:stretch/>
        </p:blipFill>
        <p:spPr>
          <a:xfrm>
            <a:off x="6545160" y="4811760"/>
            <a:ext cx="1836720" cy="181764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5562720" y="1295280"/>
            <a:ext cx="3047760" cy="1981440"/>
            <a:chOff x="5562720" y="1295280"/>
            <a:chExt cx="3047760" cy="1981440"/>
          </a:xfrm>
        </p:grpSpPr>
        <p:sp>
          <p:nvSpPr>
            <p:cNvPr id="639" name=""/>
            <p:cNvSpPr/>
            <p:nvPr/>
          </p:nvSpPr>
          <p:spPr>
            <a:xfrm flipV="1">
              <a:off x="5715000" y="1371240"/>
              <a:ext cx="2514600" cy="1600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62720" y="1295280"/>
              <a:ext cx="3047760" cy="19814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pic>
        <p:nvPicPr>
          <p:cNvPr id="641" name="aigle" descr=""/>
          <p:cNvPicPr/>
          <p:nvPr/>
        </p:nvPicPr>
        <p:blipFill>
          <a:blip r:embed="rId3"/>
          <a:stretch/>
        </p:blipFill>
        <p:spPr>
          <a:xfrm>
            <a:off x="0" y="4727520"/>
            <a:ext cx="3200400" cy="2146320"/>
          </a:xfrm>
          <a:prstGeom prst="rect">
            <a:avLst/>
          </a:prstGeom>
          <a:ln w="0">
            <a:noFill/>
          </a:ln>
        </p:spPr>
      </p:pic>
      <p:pic>
        <p:nvPicPr>
          <p:cNvPr id="642" name="oedicneme" descr=""/>
          <p:cNvPicPr/>
          <p:nvPr/>
        </p:nvPicPr>
        <p:blipFill>
          <a:blip r:embed="rId4"/>
          <a:stretch/>
        </p:blipFill>
        <p:spPr>
          <a:xfrm>
            <a:off x="2819520" y="2954160"/>
            <a:ext cx="3200400" cy="2254320"/>
          </a:xfrm>
          <a:prstGeom prst="rect">
            <a:avLst/>
          </a:prstGeom>
          <a:ln w="0">
            <a:noFill/>
          </a:ln>
        </p:spPr>
      </p:pic>
      <p:grpSp>
        <p:nvGrpSpPr>
          <p:cNvPr id="643" name=""/>
          <p:cNvGrpSpPr/>
          <p:nvPr/>
        </p:nvGrpSpPr>
        <p:grpSpPr>
          <a:xfrm>
            <a:off x="76320" y="4800600"/>
            <a:ext cx="3047760" cy="1981080"/>
            <a:chOff x="76320" y="4800600"/>
            <a:chExt cx="3047760" cy="1981080"/>
          </a:xfrm>
        </p:grpSpPr>
        <p:sp>
          <p:nvSpPr>
            <p:cNvPr id="644" name=""/>
            <p:cNvSpPr/>
            <p:nvPr/>
          </p:nvSpPr>
          <p:spPr>
            <a:xfrm flipV="1">
              <a:off x="228600" y="4876560"/>
              <a:ext cx="2514600" cy="1599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320" y="4800600"/>
              <a:ext cx="3047760" cy="1981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895480" y="3048120"/>
            <a:ext cx="3047760" cy="1981080"/>
            <a:chOff x="2895480" y="3048120"/>
            <a:chExt cx="3047760" cy="1981080"/>
          </a:xfrm>
        </p:grpSpPr>
        <p:sp>
          <p:nvSpPr>
            <p:cNvPr id="647" name=""/>
            <p:cNvSpPr/>
            <p:nvPr/>
          </p:nvSpPr>
          <p:spPr>
            <a:xfrm flipV="1">
              <a:off x="3047760" y="3124080"/>
              <a:ext cx="2514600" cy="1599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95480" y="3048120"/>
              <a:ext cx="3047760" cy="1981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2247120" y="293760"/>
            <a:ext cx="466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bc03"/>
                </a:solidFill>
                <a:latin typeface="Arial Black"/>
              </a:rPr>
              <a:t>Various points of view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bc03"/>
                </a:solidFill>
                <a:latin typeface="Arial Black"/>
              </a:rPr>
              <a:t>of a same simulation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2160" y="2440080"/>
            <a:ext cx="18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Comic Sans MS"/>
              </a:rPr>
              <a:t>Tree quality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Comic Sans MS"/>
              </a:rPr>
              <a:t>(forester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33000" y="2257560"/>
            <a:ext cx="28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8e2"/>
                </a:solidFill>
                <a:latin typeface="Comic Sans MS"/>
              </a:rPr>
              <a:t>Cut effor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8e2"/>
                </a:solidFill>
                <a:latin typeface="Comic Sans MS"/>
              </a:rPr>
              <a:t>of young pinetree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8e2"/>
                </a:solidFill>
                <a:latin typeface="Comic Sans MS"/>
              </a:rPr>
              <a:t>(farmers - NP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82560" y="244008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Comic Sans MS"/>
              </a:rPr>
              <a:t>Patrimonial interes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Comic Sans MS"/>
              </a:rPr>
              <a:t>(NP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653" name="Macintosh HD:Users:jpmuller:Documents:Cours:CoursIAD:Cours SMA:pdvSylvicole.avi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2698920" cy="2743200"/>
          </a:xfrm>
          <a:prstGeom prst="rect">
            <a:avLst/>
          </a:prstGeom>
          <a:ln w="0">
            <a:noFill/>
          </a:ln>
        </p:spPr>
      </p:pic>
      <p:pic>
        <p:nvPicPr>
          <p:cNvPr id="654" name="Macintosh HD:Users:jpmuller:Documents:Cours:CoursIAD:Cours SMA:pdvCoupe.avi" descr=""/>
          <p:cNvPicPr/>
          <p:nvPr/>
        </p:nvPicPr>
        <p:blipFill>
          <a:blip r:embed="rId2"/>
          <a:stretch/>
        </p:blipFill>
        <p:spPr>
          <a:xfrm>
            <a:off x="3214800" y="3672000"/>
            <a:ext cx="2728800" cy="2728800"/>
          </a:xfrm>
          <a:prstGeom prst="rect">
            <a:avLst/>
          </a:prstGeom>
          <a:ln w="0">
            <a:noFill/>
          </a:ln>
        </p:spPr>
      </p:pic>
      <p:pic>
        <p:nvPicPr>
          <p:cNvPr id="655" name="Macintosh HD:Users:jpmuller:Documents:Cours:CoursIAD:Cours SMA:pdvPatrimoine.avi" descr=""/>
          <p:cNvPicPr/>
          <p:nvPr/>
        </p:nvPicPr>
        <p:blipFill>
          <a:blip r:embed="rId3"/>
          <a:stretch/>
        </p:blipFill>
        <p:spPr>
          <a:xfrm>
            <a:off x="6122880" y="3672000"/>
            <a:ext cx="27115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Approaches to complex system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Approaches 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nalytical : component by component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indent="-182880"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neo-classical economy, parcels, individuals, etc.;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Holistic or systemic : global behaviour of the system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indent="-182880"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macro-economy, compartment models, statistical models, cellular automata, eulerian physics (space as parameter) ;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Constructivist : articulation between the individual behaviours of the components (local) and the global behaviour of the system (global)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indent="-182880"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Lagrangian physics, individual-based approaches, multi-agent approach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…</a:t>
            </a: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and back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6843960" cy="545328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609480" y="228600"/>
            <a:ext cx="783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dbc03"/>
                </a:solidFill>
                <a:latin typeface="Times New Roman"/>
              </a:rPr>
              <a:t>Example: the case of fuel-wood in Sahel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dbc03"/>
                </a:solidFill>
                <a:latin typeface="Times New Roman"/>
              </a:rPr>
              <a:t>Tax 500 - grouped</a:t>
            </a:r>
            <a:r>
              <a:rPr b="0" lang="fr-FR" sz="2400" spc="-1" strike="noStrike">
                <a:solidFill>
                  <a:srgbClr val="fdbc0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dbc0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dbc0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dbc03"/>
                </a:solidFill>
                <a:latin typeface="Times New Roman"/>
              </a:rPr>
              <a:t>Tax 1000  - grouped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64008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The search spac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Public policie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Zoning and quota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ax level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Subsidi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Market structuring (e.g. rural markets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What is the « optimal » policy or set of policies? On which criteria?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3" name=""/>
          <p:cNvSpPr/>
          <p:nvPr/>
        </p:nvSpPr>
        <p:spPr>
          <a:xfrm>
            <a:off x="1447560" y="5943600"/>
            <a:ext cx="74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Times New Roman"/>
              </a:rPr>
              <a:t>From what-if scenarios to search space exploration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920" y="60958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Conclusion and perspectiv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Conclus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Conceptualizing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multiplicity of points of view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The multiplicity of organization level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For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Problem solving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Interaction between the solving processes and the global objective at design or execution tim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Simulation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Understanding complex systems with heterogeneous points of view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Perspectiv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Exploring MAS dynamic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Phase space for convergence criteria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Sensibility analysis for simulation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Interaction between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Multiple-points of view =&gt; role-based/organizational approach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Multiple-level =&gt; mainly to be don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Merging expert and common-sense modell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From functional (production of a result) to dynamical (structure evolution) modell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Perspectives (cont.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MIMOSA (alias CORMAS I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Layer 1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Static part: components, compounds and relationships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Dynamic part: state, events, measure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Layer 2: ontologies on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Space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Concept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Agent, roles, groups, organization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Layer 3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Visualization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8e2"/>
                </a:solidFill>
                <a:latin typeface="Arial Narrow"/>
              </a:rPr>
              <a:t>User-friendly editing of models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057400" y="5562720"/>
            <a:ext cx="1219320" cy="838080"/>
            <a:chOff x="2057400" y="5562720"/>
            <a:chExt cx="1219320" cy="838080"/>
          </a:xfrm>
        </p:grpSpPr>
        <p:sp>
          <p:nvSpPr>
            <p:cNvPr id="674" name=""/>
            <p:cNvSpPr/>
            <p:nvPr/>
          </p:nvSpPr>
          <p:spPr>
            <a:xfrm>
              <a:off x="2057400" y="5562720"/>
              <a:ext cx="12193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2057400" y="5562720"/>
              <a:ext cx="114300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Complex system : exampl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8e2"/>
                </a:solidFill>
                <a:latin typeface="Arial Narrow"/>
              </a:rPr>
              <a:t>Example: fluid dynamic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Analytical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Behaviour of a water molecul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Holistic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Navier-Stockes equation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Constructivist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Interaction between water droplets or vortices =&gt; structures of fluid dynamic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xample : fluid dynamic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05" name="rivage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648320" cy="2946600"/>
          </a:xfrm>
          <a:prstGeom prst="rect">
            <a:avLst/>
          </a:prstGeom>
          <a:ln w="0">
            <a:noFill/>
          </a:ln>
        </p:spPr>
      </p:pic>
      <p:pic>
        <p:nvPicPr>
          <p:cNvPr id="106" name="groupes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5715000" cy="268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870880" y="1828800"/>
            <a:ext cx="182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of structure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from local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Times New Roman"/>
              </a:rPr>
              <a:t>behaviour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028840" y="28954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7c1cb"/>
          </a:solidFill>
          <a:ln cap="sq" w="1260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520" y="426708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8e2"/>
                </a:solidFill>
                <a:latin typeface="Times New Roman"/>
              </a:rPr>
              <a:t>LIP6/IRD: D.Serva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Why the constructivist approach 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One knows the individual behaviour and we want to explore the resulting global dynamics 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Social engineering, negotiation support, simulation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One knows/intends the global behaviour and one seeks an explanation or design from the local behaviours 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Scientific understanding, emergent problem solving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8e2"/>
                </a:solidFill>
                <a:latin typeface="Arial Narrow"/>
              </a:rPr>
              <a:t>One knows both behaviours and want to articulate them in a simulation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8e2"/>
                </a:solidFill>
                <a:latin typeface="Arial Narrow"/>
              </a:rPr>
              <a:t>Simulation, decision support system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dbc03"/>
                </a:solidFill>
                <a:latin typeface="Impact"/>
              </a:rPr>
              <a:t>Emergenc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09:29:43Z</dcterms:created>
  <dc:creator>CIRAD</dc:creator>
  <dc:description/>
  <dc:language>en-US</dc:language>
  <cp:lastModifiedBy>Jean-Pierre Müller</cp:lastModifiedBy>
  <dcterms:modified xsi:type="dcterms:W3CDTF">2003-10-31T10:44:47Z</dcterms:modified>
  <cp:revision>44</cp:revision>
  <dc:subject/>
  <dc:title>Resource management and environment</dc:title>
</cp:coreProperties>
</file>