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ECC-FEDE-4A94-8605-11AA362A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90D-D4F1-4558-9155-DE7ABBC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CB4-2758-465B-ABE1-78824611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23A-CF69-40C5-8219-00E0B33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9CF-E5F1-48FD-B004-F8BBD0B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C7E-255A-4E58-99C5-CB132194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FA7-BA4B-4B33-9333-CAD391A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899-A258-42F5-B922-CD48F9F7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4AF-B65A-4B66-8953-4515C02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3BB-1F61-4C0A-AA96-2ECFDB1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282-0069-49E4-BA38-63AF348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F0F-A754-43F2-A318-1C6F079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263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6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D20B-6078-4357-BACA-799378E99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767160" y="4958640"/>
            <a:ext cx="25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-mo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67968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480" y="1157400"/>
            <a:ext cx="777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versità di Modena e Reggio E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logo-re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67644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7668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Fields: Towards a Unifying Approach to the Engineering of Swarm Intelligent Systems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8880" y="4673520"/>
            <a:ext cx="241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arco Mam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amei.marco@unim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1120" y="4672080"/>
            <a:ext cx="2629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co Zambone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co.zambonelli@unim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73800" y="4680000"/>
            <a:ext cx="226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izia Leonar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izia.leonard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@unim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D18-8CD7-4A8F-A76F-309E69B57C9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Co-Fields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00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14640" y="3168720"/>
                <a:ext cx="53416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r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5481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006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0400" y="4826160"/>
            <a:ext cx="70358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(test the problem in constrained environ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CE3-B7AF-4B44-83D1-CBFDF8F32B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 Surrounding a Pre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he Differ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91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004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66880" y="2386080"/>
          <a:ext cx="8010360" cy="30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2386080"/>
                    <a:ext cx="801036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66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ly solving the differential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14680" y="58802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34960" y="54608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ves do not repeal each other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 surr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45200" y="53974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ves repeal each other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rr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DFE-6CD7-4905-A3CE-B229686593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rdinated behavior of flocks can be explained by assuming that each bird tries to maintain a specified distance (the one that offer best flight conditions) from the nearest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 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3A8-FA33-45A6-9575-C242D44AE0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lock" descr=""/>
          <p:cNvPicPr/>
          <p:nvPr/>
        </p:nvPicPr>
        <p:blipFill>
          <a:blip r:embed="rId1"/>
          <a:stretch/>
        </p:blipFill>
        <p:spPr>
          <a:xfrm>
            <a:off x="1017720" y="2987640"/>
            <a:ext cx="3841560" cy="3106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 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ird in the flock propagates the following field (repeal at short distances, attracts on long distanc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288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67120" y="4648320"/>
                <a:ext cx="414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OC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1DD-CDFE-4A30-AEEF-6042B382D2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 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66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66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27200" y="3344760"/>
          <a:ext cx="40957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3344760"/>
                    <a:ext cx="40957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666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ompute the following coordination field and follows the gradient down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77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60560" y="3040200"/>
                <a:ext cx="4964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OCK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B3-9C6D-4DBB-B74E-0650CB0177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he Differ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31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78000" y="1920960"/>
          <a:ext cx="5435640" cy="40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8000" y="1920960"/>
                    <a:ext cx="543564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57B-D074-4FBE-BEF4-A9B5E792BC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oadMap1_flocking1" descr=""/>
          <p:cNvPicPr/>
          <p:nvPr/>
        </p:nvPicPr>
        <p:blipFill>
          <a:blip r:embed="rId1"/>
          <a:stretch/>
        </p:blipFill>
        <p:spPr>
          <a:xfrm>
            <a:off x="1254240" y="1820880"/>
            <a:ext cx="2305080" cy="4029120"/>
          </a:xfrm>
          <a:prstGeom prst="rect">
            <a:avLst/>
          </a:prstGeom>
          <a:ln w="0">
            <a:noFill/>
          </a:ln>
        </p:spPr>
      </p:pic>
      <p:pic>
        <p:nvPicPr>
          <p:cNvPr id="113" name="roadMap1_flocking2" descr=""/>
          <p:cNvPicPr/>
          <p:nvPr/>
        </p:nvPicPr>
        <p:blipFill>
          <a:blip r:embed="rId2"/>
          <a:stretch/>
        </p:blipFill>
        <p:spPr>
          <a:xfrm>
            <a:off x="3747960" y="1812960"/>
            <a:ext cx="2306880" cy="4030560"/>
          </a:xfrm>
          <a:prstGeom prst="rect">
            <a:avLst/>
          </a:prstGeom>
          <a:ln w="0">
            <a:noFill/>
          </a:ln>
        </p:spPr>
      </p:pic>
      <p:pic>
        <p:nvPicPr>
          <p:cNvPr id="114" name="roadMap1_flocking3" descr=""/>
          <p:cNvPicPr/>
          <p:nvPr/>
        </p:nvPicPr>
        <p:blipFill>
          <a:blip r:embed="rId3"/>
          <a:stretch/>
        </p:blipFill>
        <p:spPr>
          <a:xfrm>
            <a:off x="6243480" y="1817640"/>
            <a:ext cx="2305080" cy="4027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60360" y="534672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3440" y="534672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52640" y="534672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8960" y="533412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48160" y="532764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9080" y="488952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53368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9480" y="254016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0400" y="299088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181-D860-4927-92C0-1EF23BEB53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oadMap2_flocking1" descr=""/>
          <p:cNvPicPr/>
          <p:nvPr/>
        </p:nvPicPr>
        <p:blipFill>
          <a:blip r:embed="rId1"/>
          <a:stretch/>
        </p:blipFill>
        <p:spPr>
          <a:xfrm>
            <a:off x="1050840" y="1828800"/>
            <a:ext cx="2292480" cy="4006800"/>
          </a:xfrm>
          <a:prstGeom prst="rect">
            <a:avLst/>
          </a:prstGeom>
          <a:ln w="0">
            <a:noFill/>
          </a:ln>
        </p:spPr>
      </p:pic>
      <p:pic>
        <p:nvPicPr>
          <p:cNvPr id="126" name="roadMap2_flocking2" descr=""/>
          <p:cNvPicPr/>
          <p:nvPr/>
        </p:nvPicPr>
        <p:blipFill>
          <a:blip r:embed="rId2"/>
          <a:stretch/>
        </p:blipFill>
        <p:spPr>
          <a:xfrm>
            <a:off x="3735360" y="1832040"/>
            <a:ext cx="2292480" cy="4006800"/>
          </a:xfrm>
          <a:prstGeom prst="rect">
            <a:avLst/>
          </a:prstGeom>
          <a:ln w="0">
            <a:noFill/>
          </a:ln>
        </p:spPr>
      </p:pic>
      <p:pic>
        <p:nvPicPr>
          <p:cNvPr id="127" name="roadMap2_flocking3" descr=""/>
          <p:cNvPicPr/>
          <p:nvPr/>
        </p:nvPicPr>
        <p:blipFill>
          <a:blip r:embed="rId3"/>
          <a:stretch/>
        </p:blipFill>
        <p:spPr>
          <a:xfrm>
            <a:off x="6473880" y="1833480"/>
            <a:ext cx="2297160" cy="4016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43120" y="300672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1400" y="301608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6480" y="345744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9080" y="300348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0640" y="347040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87680" y="392436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395928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7400" y="442260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9040" y="440388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934-E4AB-4C47-A757-B03BA408FA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s Forag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33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1480" y="1778040"/>
            <a:ext cx="77724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s lay down pheromone trails to guide other ants towards food or back to the anth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wander randomly but are attracted by pherom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heromone is laid down when returning form a food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 pheromone is laid down when leaving the ant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374-BA58-4DDC-B077-F0947A5004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s Forag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433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006640"/>
            <a:ext cx="77724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spread and maintain two initially flat fields: Food and Nes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reacts to ants’ movement by wrinckling the fields’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’ movements are affected by the wrinck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370240" y="4173480"/>
          <a:ext cx="448776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0240" y="4173480"/>
                    <a:ext cx="448776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A13-A340-42F1-BA6A-5A4DB9120B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rm intelligence can provide useful sources of inspiration to designing multi agent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it is very difficult to move from just a collection of examples to a general engineering method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ying abstractions for for large classes of swarm intelligent systems is a prerequisite for such a general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C1F-EC6A-4D5E-8DA4-507C2CD9E5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79640" y="1828800"/>
            <a:ext cx="77724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description of a wrink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 Unicode MS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(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ynamically set so as to be lower that all the neighboring wrinkles, to create steep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 Unicode MS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o accustom for “evapo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s Forag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33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57640" y="4289400"/>
          <a:ext cx="3540240" cy="22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7640" y="4289400"/>
                    <a:ext cx="354024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0000" y="4159080"/>
                <a:ext cx="451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nkl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0F5-AC71-4AA3-8A8A-E1EAA6B3BC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 Division of Labor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620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dividual ant has a response-treshold for every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ngages in task performance when the level of the task associated stimuli exceeds the tres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rops a task when the task associated stimuli falls under another tresh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CAB-7682-4C7A-B395-597E814225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 Labor Di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4332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620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20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87600" y="3473280"/>
          <a:ext cx="6561000" cy="30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3473280"/>
                    <a:ext cx="6561000" cy="30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104840" y="1739880"/>
            <a:ext cx="77724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magine that each ant is embedded in an abstract task-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in this space are not actual movement, but rather change on du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98E-2D48-47A7-B324-74959C7A5D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 Labor Di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332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20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620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20800" y="3914640"/>
          <a:ext cx="635976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3914640"/>
                    <a:ext cx="635976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000" y="2006640"/>
            <a:ext cx="77724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 generates fields encoding the stimuli encouraging ants in performing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move in this space by following the task fields down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58E-2ED7-43C2-A84F-4199395F213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presented a unifying abstraction to deal with swarm intelligent system; resembling: visual, smell, pheromones, air turbolence, task-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prerequisite for a general engineering method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783-5782-4FB5-8F41-71306F3F49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 Inves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with System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xamples and better formalization of the current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rue Engineering Princip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F30-9D65-46AB-A240-640514177D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Furth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84120" y="3111120"/>
            <a:ext cx="532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ttp://polaris.ing.unimo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83B-BEA7-4547-9FB1-415A0FC9DD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-Field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is a model for motion coordination in a multi ag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-Fields model, agents live in an environment which is described by fields (distributed data structures) that can be spread either by the agents themselves or by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B76-0566-4ECC-8BAF-6A4B964B46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-Field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s combine the fields they sense to obtain a task dependent field (referred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ion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n move by following the gradient of such combin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05080" y="3524400"/>
          <a:ext cx="63766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3524400"/>
                    <a:ext cx="63766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863-8589-4F2D-9C81-444DE34E4C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-Fields as a Unifying Abstar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-Fields based system is a sim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gents are simply seen as balls rolling upon a surface whose shape is described by the coordination field. Complex movements are achieved not because of the agent will, but because dynamic re-shaping of thi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im of this talk is that Co-Fields can provid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ying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scribe swarm intelligence exe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CFB-8E2D-4564-BF45-2AC031338C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rm Intellig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480" y="1625760"/>
            <a:ext cx="77724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ves Surrounding a P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 in video games, Robot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 F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Traffic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 For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in telecommunicatio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 Divis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770-A143-4920-B8D4-2873CF84F9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 Surrounding a Pre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ves simply hunt for a moose trying to maintain a suitable distance from other wo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have shown that following this simple strategy, wolves are able to surround the p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31D-B63E-4E15-9EE8-77F0671387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se and the wolves, propagates these kinds of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5272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090440" y="5708520"/>
                <a:ext cx="37544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os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24560" y="5599080"/>
                <a:ext cx="3378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ol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 Surrounding a Pre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5000" y="2368440"/>
          <a:ext cx="726768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368440"/>
                    <a:ext cx="726768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076-ADD9-4902-ABFD-9DD6CC6B6C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ompute the following coordination fields and follows the gradient down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91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33480" y="4573440"/>
                <a:ext cx="6053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ord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l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os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l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5481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63600" y="3243240"/>
                <a:ext cx="43801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or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os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l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 Surrounding a Pre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Fields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-Fields &amp; Swa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C99-6697-4C20-94B3-171A2AB28D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'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7:57:49Z</dcterms:created>
  <dc:creator>Marco Mamei</dc:creator>
  <dc:description/>
  <dc:language>en-US</dc:language>
  <cp:lastModifiedBy>Marco</cp:lastModifiedBy>
  <dcterms:modified xsi:type="dcterms:W3CDTF">2002-10-03T09:16:42Z</dcterms:modified>
  <cp:revision>48</cp:revision>
  <dc:subject/>
  <dc:title>Engineering Mobility in Large Multi Agent Systems</dc:title>
</cp:coreProperties>
</file>