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04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package" Target="../embeddings/oleObject2.docx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985760" y="6324120"/>
            <a:ext cx="4871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" name="paint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8229600" cy="1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685800" y="6237360"/>
          <a:ext cx="97164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6237360"/>
                    <a:ext cx="9716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7792920" y="6251400"/>
          <a:ext cx="582840" cy="3924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92920" y="6251400"/>
                    <a:ext cx="58284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77960" y="1770120"/>
            <a:ext cx="653760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gineering Agent Systems for Decision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42800" y="3669840"/>
            <a:ext cx="655812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lberto Ferná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hool of Experimental Sciences and 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ersity Rey Juan C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drid -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35040" y="3903840"/>
          <a:ext cx="1608120" cy="19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3903840"/>
                    <a:ext cx="160812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grupopeque" descr=""/>
          <p:cNvPicPr/>
          <p:nvPr/>
        </p:nvPicPr>
        <p:blipFill>
          <a:blip r:embed="rId3"/>
          <a:stretch/>
        </p:blipFill>
        <p:spPr>
          <a:xfrm>
            <a:off x="444600" y="1457280"/>
            <a:ext cx="224604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 scena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876240"/>
          <a:ext cx="928224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76240"/>
                    <a:ext cx="928224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ffic Management: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 Identification and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w data pre-processing + fuzzy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 base of frames (problem scen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tion Planning and Pre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ion of contribution of each path to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herent alternative signal plans are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 base of frames (traffic distribution scen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 scena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876240"/>
          <a:ext cx="928224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76240"/>
                    <a:ext cx="928224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ffic Management: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460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-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alised (TR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-ordinato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nowledge base of rules for managing depend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entralised (TRYS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 autonomous traffic agents for managing problem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nowledge base distributed among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DistTrafficArch" descr=""/>
          <p:cNvPicPr/>
          <p:nvPr/>
        </p:nvPicPr>
        <p:blipFill>
          <a:blip r:embed="rId1"/>
          <a:stretch/>
        </p:blipFill>
        <p:spPr>
          <a:xfrm>
            <a:off x="5072040" y="2854440"/>
            <a:ext cx="387828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ent-based approach can be applied to the construction of advanced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ent-oriented knowledge and software engineering techniques can be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lustrated in the road traffic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roving integration of the different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ly, evaluation in traffic control (Basque Country) and bus fleet management (Southern Sp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77960" y="1770120"/>
            <a:ext cx="653760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gineering Agent Systems for Decision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42800" y="3669840"/>
            <a:ext cx="655812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lberto Ferná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hool of Experimental Sciences and 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ersity Rey Juan C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drid -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35040" y="3903840"/>
          <a:ext cx="1608120" cy="19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3903840"/>
                    <a:ext cx="160812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grupopeque" descr=""/>
          <p:cNvPicPr/>
          <p:nvPr/>
        </p:nvPicPr>
        <p:blipFill>
          <a:blip r:embed="rId3"/>
          <a:stretch/>
        </p:blipFill>
        <p:spPr>
          <a:xfrm>
            <a:off x="444600" y="1457280"/>
            <a:ext cx="224604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cision Suppo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evant in complex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lligent DEcision-making Assistant (ID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happen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y is it happen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an be do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may happen i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a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tion of agent technology to design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5680" y="1436400"/>
            <a:ext cx="4049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-centr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vironment-Centr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ction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ponsibility-Centr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95680" y="1932120"/>
            <a:ext cx="4294440" cy="3508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12193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ER (User-Environment-Responsibility)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sk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033200"/>
            <a:ext cx="808524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oblem identification, Diagnosis, Action planning,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happening?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oblem identification +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to do?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tion planning +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may happen if?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ediction + p. identif.+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to do if?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edict. + identif. + diagnosis +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riori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sical, organisational, availability of knowledge, ... =&gt; multiag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dependencies =&gt;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-ordin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s =&gt; Problem-Solv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ification method with two o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reference situation + difference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direct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agnosis: sever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classification method with 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cover &amp; differentiat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3320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ification reasoning on predefined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ion of plans to perform sub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 refinement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specific simula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a simplified model: envisionmen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ple systems, level of precision is not very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-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dependency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) option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) management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 example: Road Traffic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3080" y="1114200"/>
            <a:ext cx="448956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83960" indent="-183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12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ban motor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12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ffic Control Centre (TCC) is to assure a smooth flow of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-183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as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12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sist TCC engineers in their decision-making respecting coherent signal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3960" indent="-183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rastructure (Barcelo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120" indent="-2714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2 V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120" indent="-2714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 groups of traffic 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120" indent="-2714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7 ramp access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120" indent="-2714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300 sensors (loop detec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743360" y="1114560"/>
          <a:ext cx="41706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3360" y="1114560"/>
                    <a:ext cx="41706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ffic Management: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51000" y="1633680"/>
            <a:ext cx="551988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ffic Management: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 Identification and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w data pre-processing + fuzzy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 base of frames (problem scen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8T11:28:00Z</dcterms:created>
  <dc:creator>Sascha Ossowski</dc:creator>
  <dc:description/>
  <dc:language>en-US</dc:language>
  <cp:lastModifiedBy>afgil</cp:lastModifiedBy>
  <cp:lastPrinted>2002-04-11T12:55:42Z</cp:lastPrinted>
  <dcterms:modified xsi:type="dcterms:W3CDTF">2002-09-17T00:29:46Z</dcterms:modified>
  <cp:revision>454</cp:revision>
  <dc:subject/>
  <dc:title>Test</dc:title>
</cp:coreProperties>
</file>