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5" y="0"/>
                </a:moveTo>
                <a:arcTo wR="5" hR="5" stAng="16200000" swAng="-5400000"/>
                <a:lnTo>
                  <a:pt x="0" y="28651"/>
                </a:lnTo>
                <a:arcTo wR="5" hR="5" stAng="10800000" swAng="-5400000"/>
                <a:lnTo>
                  <a:pt x="21595" y="2865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5" y="0"/>
                </a:moveTo>
                <a:arcTo wR="5" hR="5" stAng="16200000" swAng="-5400000"/>
                <a:lnTo>
                  <a:pt x="0" y="28651"/>
                </a:lnTo>
                <a:arcTo wR="5" hR="5" stAng="10800000" swAng="-5400000"/>
                <a:lnTo>
                  <a:pt x="21595" y="2865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5" y="0"/>
                </a:moveTo>
                <a:arcTo wR="5" hR="5" stAng="16200000" swAng="-5400000"/>
                <a:lnTo>
                  <a:pt x="0" y="28651"/>
                </a:lnTo>
                <a:arcTo wR="5" hR="5" stAng="10800000" swAng="-5400000"/>
                <a:lnTo>
                  <a:pt x="21595" y="2865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5" y="0"/>
                </a:moveTo>
                <a:arcTo wR="5" hR="5" stAng="16200000" swAng="-5400000"/>
                <a:lnTo>
                  <a:pt x="0" y="28651"/>
                </a:lnTo>
                <a:arcTo wR="5" hR="5" stAng="10800000" swAng="-5400000"/>
                <a:lnTo>
                  <a:pt x="21595" y="2865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5" y="0"/>
                </a:moveTo>
                <a:arcTo wR="5" hR="5" stAng="16200000" swAng="-5400000"/>
                <a:lnTo>
                  <a:pt x="0" y="28651"/>
                </a:lnTo>
                <a:arcTo wR="5" hR="5" stAng="10800000" swAng="-5400000"/>
                <a:lnTo>
                  <a:pt x="21595" y="2865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78280" y="705600"/>
            <a:ext cx="4641480" cy="3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30720" cy="508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lvl="1" marL="7398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ction example of valid 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425"/>
              </a:spcBef>
              <a:buNone/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lationship between valid and permitted 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0720" cy="1711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run-time mechanisms: distributed SV and s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resolution: the SV can determine the powers, permissions of each member and thus facilitate the resolution of conflicts between pe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st: before deciding to trust, an agent should know the powers, permissions associated with the peer. E.g. it is not `rational’ to trust an agent to do some action if that agent is not empowered or forbidden to do that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s like declarative power and representation relations can be formalised with our frame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3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ery rich scenario, full of several inte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we only focus on the interactions between a single cartographer and multiple explorer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09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09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4000" y="406080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9480" y="188604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2480" y="188604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9480" y="406080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2480" y="406080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6040"/>
            <a:ext cx="817092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092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-52560"/>
            <a:ext cx="776448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6040"/>
            <a:ext cx="817092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000" y="406080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09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09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09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000" y="406080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9480" y="188604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480" y="188604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9480" y="406080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480" y="4060800"/>
            <a:ext cx="263088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092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-52560"/>
            <a:ext cx="776448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4000" y="406080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000" y="1886040"/>
            <a:ext cx="3987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09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30920" y="639468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0686EDA-AD91-4C0E-B214-FCC49454FD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86040"/>
            <a:ext cx="817092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3505320" y="-4367880"/>
            <a:ext cx="4970520" cy="6188760"/>
            <a:chOff x="3505320" y="-4367880"/>
            <a:chExt cx="4970520" cy="6188760"/>
          </a:xfrm>
        </p:grpSpPr>
        <p:sp>
          <p:nvSpPr>
            <p:cNvPr id="42" name=""/>
            <p:cNvSpPr/>
            <p:nvPr/>
          </p:nvSpPr>
          <p:spPr>
            <a:xfrm>
              <a:off x="3505320" y="677880"/>
              <a:ext cx="4970520" cy="114264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505320" y="-4367880"/>
              <a:ext cx="4970520" cy="61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Arial Black"/>
                </a:rPr>
                <a:t>A Logical Framework for Ethical Behaviour between Infohabitants in the Information Trading Economy of the  Universal  Information Ecosyste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527120" y="2362320"/>
            <a:ext cx="6392880" cy="2935080"/>
          </a:xfrm>
          <a:prstGeom prst="roundRect">
            <a:avLst>
              <a:gd name="adj" fmla="val 5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14400" y="609480"/>
            <a:ext cx="2495520" cy="11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122640" y="4581360"/>
            <a:ext cx="3151080" cy="102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480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Simulating Computational Socie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4800" indent="0" algn="ctr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4800" indent="0" algn="ctr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loyd Kamara, Alexander Artikis, Brendan Neville, Jeremy Pit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4800" indent="0" algn="ctr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erial College, Lond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4800" indent="0" algn="ctr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4800" indent="0" algn="ctr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6-17 September 2002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niversidad Rey Juan Carlos, Madrid, Sp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49552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2280" y="6019920"/>
            <a:ext cx="9543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Socio-cognitive Belief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092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27560" indent="-275040"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u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gree to which Agent A trusts Agent B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complete a task, i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represented b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subjective probabilit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ust is formed as a function of reputation and direct experi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560" indent="-275040"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rect Experience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ive probabilit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belief one agent has about the trustworthiness of another, based purely on first-hand intera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560" indent="-275040"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putation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ive probabilit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belief one agent has about the reputation of another, based upon the testimonies of its pe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Agent Configu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092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97720" indent="-297720">
              <a:lnSpc>
                <a:spcPct val="9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ameter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4120" indent="-2473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parameters are needed as inp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o the belief update fu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d Economic mechanis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4120" indent="-2473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thers help to define the behaviour of the agen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.g. their ability is a probability of successful completion of an attempted a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7720" indent="-297720">
              <a:lnSpc>
                <a:spcPct val="9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racter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MTI10"/>
              </a:rPr>
              <a:t>Co-operators</a:t>
            </a:r>
            <a:r>
              <a:rPr b="0" lang="en-US" sz="2000" spc="-1" strike="noStrike">
                <a:solidFill>
                  <a:srgbClr val="000000"/>
                </a:solidFill>
                <a:latin typeface="CMT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only choose cooperation strate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MTI10"/>
              </a:rPr>
              <a:t>Defectors </a:t>
            </a:r>
            <a:r>
              <a:rPr b="0" lang="en-GB" sz="2000" spc="-1" strike="noStrike">
                <a:solidFill>
                  <a:srgbClr val="000000"/>
                </a:solidFill>
                <a:latin typeface="CMR10"/>
              </a:rPr>
              <a:t>choose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based upon maximizing the expected pay-of</a:t>
            </a:r>
            <a:r>
              <a:rPr b="0" lang="en-GB" sz="2000" spc="-1" strike="noStrike">
                <a:solidFill>
                  <a:srgbClr val="000000"/>
                </a:solidFill>
                <a:latin typeface="CMR10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MTI10"/>
              </a:rPr>
              <a:t>Reciprocators</a:t>
            </a:r>
            <a:r>
              <a:rPr b="0" lang="en-GB" sz="2000" spc="-1" strike="noStrike">
                <a:solidFill>
                  <a:srgbClr val="000000"/>
                </a:solidFill>
                <a:latin typeface="CMT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have probabilistic intentions; the probability that they will co-operate (their</a:t>
            </a:r>
            <a:r>
              <a:rPr b="0" lang="en-GB" sz="20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TI10"/>
              </a:rPr>
              <a:t>trustworthiness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) is matched to their evaluation of a trading partner's</a:t>
            </a:r>
            <a:r>
              <a:rPr b="0" lang="en-GB" sz="20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TI10"/>
              </a:rPr>
              <a:t>trustworthiness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412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092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ow discuss an example simulation for tru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based on direct experience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xperiment consists of twelve agents, split evenly between producer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plorers) and consumers (cartographer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f the agents are of reciprocato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harac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y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y differ onl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ir ability to complete th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tract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Experimental Resul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43920" cy="33940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85800" y="5257800"/>
            <a:ext cx="7467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ts the level of trust directed toward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roups o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eatured DoT is simply the mean of the opinion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all the members in the societ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sed on direct experi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Experimental Resul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40680" cy="3427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685800" y="5181480"/>
            <a:ext cx="79740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s the performance measure, the amount of assets accrued or lo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is it can be see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a society of reciprocators is a meritorious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ecuting the Specifications of Computational Socie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09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al societies are viewed from an external/glob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lnSpc>
                <a:spcPct val="8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al societies as instances of normative syst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8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represent what the members are permitted to do, obliged to and other more complex normative relations between ag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8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represent the institutionalised powers of the members; a standard feature of all norm-governed organisations/socie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lnSpc>
                <a:spcPct val="8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ormally represent and reason about the actions of the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oretical Frame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levels of specif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kind of actions ‘count as’ valid, well-formed actions. Distinguishing between valid and invalid actions enables the separation of meaningful from meaningless activi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kind of actions are permitted. Determining the permitted, prohibited, obligatory actions enables the classification of the agent behaviour as legal or illegal, ethical or unethical, social or anti-social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sanctions and enforcement policies that deal with illegal, unethical, anti-social behavi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utationa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08000" y="3532320"/>
            <a:ext cx="1187280" cy="2198520"/>
            <a:chOff x="108000" y="3532320"/>
            <a:chExt cx="1187280" cy="2198520"/>
          </a:xfrm>
        </p:grpSpPr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108000" y="3532320"/>
              <a:ext cx="1187280" cy="21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2"/>
            <a:stretch/>
          </p:blipFill>
          <p:spPr>
            <a:xfrm>
              <a:off x="282240" y="4818600"/>
              <a:ext cx="758880" cy="69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282240" y="3811320"/>
              <a:ext cx="758880" cy="69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4211640" y="3986280"/>
            <a:ext cx="1424160" cy="81108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1371600" y="3646440"/>
            <a:ext cx="1036440" cy="1292400"/>
            <a:chOff x="1371600" y="3646440"/>
            <a:chExt cx="1036440" cy="1292400"/>
          </a:xfrm>
        </p:grpSpPr>
        <p:pic>
          <p:nvPicPr>
            <p:cNvPr id="396" name="" descr=""/>
            <p:cNvPicPr/>
            <p:nvPr/>
          </p:nvPicPr>
          <p:blipFill>
            <a:blip r:embed="rId5"/>
            <a:stretch/>
          </p:blipFill>
          <p:spPr>
            <a:xfrm>
              <a:off x="1833840" y="4071240"/>
              <a:ext cx="574200" cy="43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6"/>
            <a:stretch/>
          </p:blipFill>
          <p:spPr>
            <a:xfrm>
              <a:off x="1371600" y="3646440"/>
              <a:ext cx="462240" cy="129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2627280" y="4865760"/>
            <a:ext cx="4748400" cy="1988640"/>
            <a:chOff x="2627280" y="4865760"/>
            <a:chExt cx="4748400" cy="1988640"/>
          </a:xfrm>
        </p:grpSpPr>
        <p:pic>
          <p:nvPicPr>
            <p:cNvPr id="399" name="" descr=""/>
            <p:cNvPicPr/>
            <p:nvPr/>
          </p:nvPicPr>
          <p:blipFill>
            <a:blip r:embed="rId7"/>
            <a:stretch/>
          </p:blipFill>
          <p:spPr>
            <a:xfrm>
              <a:off x="4714200" y="4865760"/>
              <a:ext cx="491760" cy="3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627280" y="5296680"/>
              <a:ext cx="4748400" cy="15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OCIAL CONSTRAINT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initiates(a1, pow(agentB,a3), Time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terminates(a1, pow(agentA,a1), Time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holdsAt(permitted(Agent, Act), Time):- holdsAt(pow(Agent, Act),Time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340000" y="3699000"/>
            <a:ext cx="1888920" cy="1100520"/>
            <a:chOff x="2340000" y="3699000"/>
            <a:chExt cx="1888920" cy="1100520"/>
          </a:xfrm>
        </p:grpSpPr>
        <p:pic>
          <p:nvPicPr>
            <p:cNvPr id="402" name="" descr=""/>
            <p:cNvPicPr/>
            <p:nvPr/>
          </p:nvPicPr>
          <p:blipFill>
            <a:blip r:embed="rId8"/>
            <a:stretch/>
          </p:blipFill>
          <p:spPr>
            <a:xfrm>
              <a:off x="3632760" y="4141080"/>
              <a:ext cx="59616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340000" y="3699000"/>
              <a:ext cx="143856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NARRATIV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appens(a1, 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appens(a2, 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632560" y="3745080"/>
            <a:ext cx="3328560" cy="1557720"/>
            <a:chOff x="5632560" y="3745080"/>
            <a:chExt cx="3328560" cy="1557720"/>
          </a:xfrm>
        </p:grpSpPr>
        <p:pic>
          <p:nvPicPr>
            <p:cNvPr id="405" name="" descr=""/>
            <p:cNvPicPr/>
            <p:nvPr/>
          </p:nvPicPr>
          <p:blipFill>
            <a:blip r:embed="rId9"/>
            <a:stretch/>
          </p:blipFill>
          <p:spPr>
            <a:xfrm>
              <a:off x="5632560" y="4176000"/>
              <a:ext cx="594720" cy="4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156000" y="3745080"/>
              <a:ext cx="2805120" cy="15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CURRENT SOCIAL STAT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-holdsAt(pow(agentA, a1), t+1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holdsAt(pow(agentB, a3), t+1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holdsAt(permitted(agentB,a3), t+1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(a temporal ordering of) all externally observable actions, it will provide a (graphical) representation of the institutional powers, permissions and sanctions of the members of the simulated societies (at each point in time) for the benefit of the designers and the me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55640" y="4076640"/>
            <a:ext cx="644400" cy="861840"/>
            <a:chOff x="755640" y="4076640"/>
            <a:chExt cx="644400" cy="861840"/>
          </a:xfrm>
        </p:grpSpPr>
        <p:sp>
          <p:nvSpPr>
            <p:cNvPr id="409" name=""/>
            <p:cNvSpPr/>
            <p:nvPr/>
          </p:nvSpPr>
          <p:spPr>
            <a:xfrm flipV="1">
              <a:off x="755640" y="4502160"/>
              <a:ext cx="6444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6560" y="4076640"/>
              <a:ext cx="57312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V="1">
            <a:off x="611280" y="4289400"/>
            <a:ext cx="1440" cy="58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 &amp; Discus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mulating norm-governed computational societies: architectural, socio-cognitive, extern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this offe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aluation of architectural design, trust update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s designers’ decision-making: whether or not it is desirable to deploy agents in an open soc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flict resolution, 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rms agents’ decision-making: eg when to trust anoth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alisation of further concepts like representation, mandate, liability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tuated Electronic Socie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762280" y="4983120"/>
            <a:ext cx="918720" cy="883800"/>
            <a:chOff x="2762280" y="4983120"/>
            <a:chExt cx="918720" cy="8838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890080" y="4983120"/>
              <a:ext cx="66276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62280" y="5590800"/>
              <a:ext cx="9187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gent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81800" y="4986360"/>
            <a:ext cx="915840" cy="880920"/>
            <a:chOff x="5581800" y="4986360"/>
            <a:chExt cx="915840" cy="88092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710320" y="4986360"/>
              <a:ext cx="65844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81800" y="5592960"/>
              <a:ext cx="9158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gen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305080" y="1752480"/>
            <a:ext cx="1676520" cy="1238040"/>
            <a:chOff x="2305080" y="1752480"/>
            <a:chExt cx="1676520" cy="1238040"/>
          </a:xfrm>
        </p:grpSpPr>
        <p:grpSp>
          <p:nvGrpSpPr>
            <p:cNvPr id="103" name=""/>
            <p:cNvGrpSpPr/>
            <p:nvPr/>
          </p:nvGrpSpPr>
          <p:grpSpPr>
            <a:xfrm>
              <a:off x="2471760" y="1752480"/>
              <a:ext cx="1310760" cy="961560"/>
              <a:chOff x="2471760" y="1752480"/>
              <a:chExt cx="1310760" cy="961560"/>
            </a:xfrm>
          </p:grpSpPr>
          <p:sp>
            <p:nvSpPr>
              <p:cNvPr id="104" name=""/>
              <p:cNvSpPr/>
              <p:nvPr/>
            </p:nvSpPr>
            <p:spPr>
              <a:xfrm>
                <a:off x="2887920" y="1772640"/>
                <a:ext cx="696600" cy="940320"/>
              </a:xfrm>
              <a:custGeom>
                <a:avLst/>
                <a:gdLst/>
                <a:ahLst/>
                <a:rect l="l" t="t" r="r" b="b"/>
                <a:pathLst>
                  <a:path w="1167" h="1578">
                    <a:moveTo>
                      <a:pt x="0" y="0"/>
                    </a:moveTo>
                    <a:lnTo>
                      <a:pt x="1167" y="6"/>
                    </a:lnTo>
                    <a:lnTo>
                      <a:pt x="1167" y="523"/>
                    </a:lnTo>
                    <a:lnTo>
                      <a:pt x="1066" y="517"/>
                    </a:lnTo>
                    <a:lnTo>
                      <a:pt x="1066" y="78"/>
                    </a:lnTo>
                    <a:lnTo>
                      <a:pt x="123" y="78"/>
                    </a:lnTo>
                    <a:lnTo>
                      <a:pt x="123" y="1578"/>
                    </a:lnTo>
                    <a:lnTo>
                      <a:pt x="6" y="15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21400" y="1867680"/>
                <a:ext cx="619200" cy="46440"/>
              </a:xfrm>
              <a:custGeom>
                <a:avLst/>
                <a:gdLst/>
                <a:ahLst/>
                <a:rect l="l" t="t" r="r" b="b"/>
                <a:pathLst>
                  <a:path w="1040" h="78">
                    <a:moveTo>
                      <a:pt x="0" y="0"/>
                    </a:moveTo>
                    <a:lnTo>
                      <a:pt x="1040" y="0"/>
                    </a:lnTo>
                    <a:lnTo>
                      <a:pt x="1040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23920" y="1953720"/>
                <a:ext cx="620280" cy="46440"/>
              </a:xfrm>
              <a:custGeom>
                <a:avLst/>
                <a:gdLst/>
                <a:ahLst/>
                <a:rect l="l" t="t" r="r" b="b"/>
                <a:pathLst>
                  <a:path w="1040" h="78">
                    <a:moveTo>
                      <a:pt x="0" y="0"/>
                    </a:moveTo>
                    <a:lnTo>
                      <a:pt x="1040" y="0"/>
                    </a:lnTo>
                    <a:lnTo>
                      <a:pt x="1040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928600" y="2037240"/>
                <a:ext cx="619200" cy="46440"/>
              </a:xfrm>
              <a:custGeom>
                <a:avLst/>
                <a:gdLst/>
                <a:ahLst/>
                <a:rect l="l" t="t" r="r" b="b"/>
                <a:pathLst>
                  <a:path w="1038" h="78">
                    <a:moveTo>
                      <a:pt x="0" y="0"/>
                    </a:moveTo>
                    <a:lnTo>
                      <a:pt x="1038" y="0"/>
                    </a:lnTo>
                    <a:lnTo>
                      <a:pt x="1038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656160" y="2090880"/>
                <a:ext cx="126360" cy="622080"/>
              </a:xfrm>
              <a:custGeom>
                <a:avLst/>
                <a:gdLst/>
                <a:ahLst/>
                <a:rect l="l" t="t" r="r" b="b"/>
                <a:pathLst>
                  <a:path w="211" h="1043">
                    <a:moveTo>
                      <a:pt x="0" y="1043"/>
                    </a:moveTo>
                    <a:lnTo>
                      <a:pt x="211" y="1043"/>
                    </a:lnTo>
                    <a:lnTo>
                      <a:pt x="211" y="0"/>
                    </a:lnTo>
                    <a:lnTo>
                      <a:pt x="0" y="0"/>
                    </a:lnTo>
                    <a:lnTo>
                      <a:pt x="0" y="1043"/>
                    </a:lnTo>
                    <a:lnTo>
                      <a:pt x="0" y="104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50320" y="213372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50320" y="225756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50320" y="263808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48800" y="2638080"/>
                <a:ext cx="4896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39000" y="263808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3" h="125">
                    <a:moveTo>
                      <a:pt x="0" y="125"/>
                    </a:moveTo>
                    <a:lnTo>
                      <a:pt x="83" y="12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25600" y="263808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1920" y="263808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3" h="125">
                    <a:moveTo>
                      <a:pt x="0" y="125"/>
                    </a:moveTo>
                    <a:lnTo>
                      <a:pt x="83" y="12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08520" y="263808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50320" y="252000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48800" y="2520000"/>
                <a:ext cx="48960" cy="7488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339000" y="252000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3" h="126">
                    <a:moveTo>
                      <a:pt x="0" y="126"/>
                    </a:moveTo>
                    <a:lnTo>
                      <a:pt x="83" y="126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25600" y="252000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21920" y="252000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3" h="126">
                    <a:moveTo>
                      <a:pt x="0" y="126"/>
                    </a:moveTo>
                    <a:lnTo>
                      <a:pt x="83" y="126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08520" y="252000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50320" y="2396160"/>
                <a:ext cx="50040" cy="7380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48800" y="239616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39000" y="2396160"/>
                <a:ext cx="50040" cy="73800"/>
              </a:xfrm>
              <a:custGeom>
                <a:avLst/>
                <a:gdLst/>
                <a:ahLst/>
                <a:rect l="l" t="t" r="r" b="b"/>
                <a:pathLst>
                  <a:path w="83" h="126">
                    <a:moveTo>
                      <a:pt x="0" y="126"/>
                    </a:moveTo>
                    <a:lnTo>
                      <a:pt x="83" y="126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25600" y="2396160"/>
                <a:ext cx="50040" cy="7380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21920" y="2396160"/>
                <a:ext cx="50040" cy="73800"/>
              </a:xfrm>
              <a:custGeom>
                <a:avLst/>
                <a:gdLst/>
                <a:ahLst/>
                <a:rect l="l" t="t" r="r" b="b"/>
                <a:pathLst>
                  <a:path w="83" h="126">
                    <a:moveTo>
                      <a:pt x="0" y="126"/>
                    </a:moveTo>
                    <a:lnTo>
                      <a:pt x="83" y="126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08520" y="2396160"/>
                <a:ext cx="50040" cy="7380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44080" y="2127960"/>
                <a:ext cx="457920" cy="53280"/>
              </a:xfrm>
              <a:custGeom>
                <a:avLst/>
                <a:gdLst/>
                <a:ahLst/>
                <a:rect l="l" t="t" r="r" b="b"/>
                <a:pathLst>
                  <a:path w="766" h="90">
                    <a:moveTo>
                      <a:pt x="0" y="90"/>
                    </a:moveTo>
                    <a:lnTo>
                      <a:pt x="766" y="90"/>
                    </a:lnTo>
                    <a:lnTo>
                      <a:pt x="766" y="0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34360" y="2220840"/>
                <a:ext cx="467640" cy="49680"/>
              </a:xfrm>
              <a:custGeom>
                <a:avLst/>
                <a:gdLst/>
                <a:ahLst/>
                <a:rect l="l" t="t" r="r" b="b"/>
                <a:pathLst>
                  <a:path w="783" h="84">
                    <a:moveTo>
                      <a:pt x="0" y="84"/>
                    </a:moveTo>
                    <a:lnTo>
                      <a:pt x="783" y="84"/>
                    </a:lnTo>
                    <a:lnTo>
                      <a:pt x="783" y="0"/>
                    </a:lnTo>
                    <a:lnTo>
                      <a:pt x="0" y="0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48800" y="2133720"/>
                <a:ext cx="4896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48800" y="2256480"/>
                <a:ext cx="50040" cy="72720"/>
              </a:xfrm>
              <a:custGeom>
                <a:avLst/>
                <a:gdLst/>
                <a:ahLst/>
                <a:rect l="l" t="t" r="r" b="b"/>
                <a:pathLst>
                  <a:path w="84" h="124">
                    <a:moveTo>
                      <a:pt x="0" y="124"/>
                    </a:moveTo>
                    <a:lnTo>
                      <a:pt x="84" y="124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91920" y="2130120"/>
                <a:ext cx="63000" cy="583920"/>
              </a:xfrm>
              <a:custGeom>
                <a:avLst/>
                <a:gdLst/>
                <a:ahLst/>
                <a:rect l="l" t="t" r="r" b="b"/>
                <a:pathLst>
                  <a:path w="105" h="979">
                    <a:moveTo>
                      <a:pt x="0" y="979"/>
                    </a:moveTo>
                    <a:lnTo>
                      <a:pt x="105" y="979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94520" y="2130120"/>
                <a:ext cx="61920" cy="583920"/>
              </a:xfrm>
              <a:custGeom>
                <a:avLst/>
                <a:gdLst/>
                <a:ahLst/>
                <a:rect l="l" t="t" r="r" b="b"/>
                <a:pathLst>
                  <a:path w="104" h="979">
                    <a:moveTo>
                      <a:pt x="0" y="979"/>
                    </a:moveTo>
                    <a:lnTo>
                      <a:pt x="104" y="979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91360" y="2130120"/>
                <a:ext cx="63000" cy="583920"/>
              </a:xfrm>
              <a:custGeom>
                <a:avLst/>
                <a:gdLst/>
                <a:ahLst/>
                <a:rect l="l" t="t" r="r" b="b"/>
                <a:pathLst>
                  <a:path w="107" h="979">
                    <a:moveTo>
                      <a:pt x="0" y="979"/>
                    </a:moveTo>
                    <a:lnTo>
                      <a:pt x="107" y="979"/>
                    </a:lnTo>
                    <a:lnTo>
                      <a:pt x="107" y="0"/>
                    </a:lnTo>
                    <a:lnTo>
                      <a:pt x="0" y="0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87840" y="2130120"/>
                <a:ext cx="64080" cy="583920"/>
              </a:xfrm>
              <a:custGeom>
                <a:avLst/>
                <a:gdLst/>
                <a:ahLst/>
                <a:rect l="l" t="t" r="r" b="b"/>
                <a:pathLst>
                  <a:path w="106" h="979">
                    <a:moveTo>
                      <a:pt x="0" y="979"/>
                    </a:moveTo>
                    <a:lnTo>
                      <a:pt x="106" y="979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68840" y="1752480"/>
                <a:ext cx="695160" cy="940320"/>
              </a:xfrm>
              <a:custGeom>
                <a:avLst/>
                <a:gdLst/>
                <a:ahLst/>
                <a:rect l="l" t="t" r="r" b="b"/>
                <a:pathLst>
                  <a:path w="1167" h="1576">
                    <a:moveTo>
                      <a:pt x="0" y="0"/>
                    </a:moveTo>
                    <a:lnTo>
                      <a:pt x="1167" y="4"/>
                    </a:lnTo>
                    <a:lnTo>
                      <a:pt x="1167" y="521"/>
                    </a:lnTo>
                    <a:lnTo>
                      <a:pt x="1066" y="517"/>
                    </a:lnTo>
                    <a:lnTo>
                      <a:pt x="1066" y="76"/>
                    </a:lnTo>
                    <a:lnTo>
                      <a:pt x="121" y="76"/>
                    </a:lnTo>
                    <a:lnTo>
                      <a:pt x="121" y="1576"/>
                    </a:lnTo>
                    <a:lnTo>
                      <a:pt x="3" y="157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901240" y="1848960"/>
                <a:ext cx="619200" cy="46440"/>
              </a:xfrm>
              <a:custGeom>
                <a:avLst/>
                <a:gdLst/>
                <a:ahLst/>
                <a:rect l="l" t="t" r="r" b="b"/>
                <a:pathLst>
                  <a:path w="1038" h="77">
                    <a:moveTo>
                      <a:pt x="0" y="0"/>
                    </a:moveTo>
                    <a:lnTo>
                      <a:pt x="1038" y="0"/>
                    </a:lnTo>
                    <a:lnTo>
                      <a:pt x="1038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904840" y="1934640"/>
                <a:ext cx="620280" cy="45360"/>
              </a:xfrm>
              <a:custGeom>
                <a:avLst/>
                <a:gdLst/>
                <a:ahLst/>
                <a:rect l="l" t="t" r="r" b="b"/>
                <a:pathLst>
                  <a:path w="1040" h="76">
                    <a:moveTo>
                      <a:pt x="0" y="0"/>
                    </a:moveTo>
                    <a:lnTo>
                      <a:pt x="1040" y="0"/>
                    </a:lnTo>
                    <a:lnTo>
                      <a:pt x="1040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09520" y="2018160"/>
                <a:ext cx="617760" cy="46440"/>
              </a:xfrm>
              <a:custGeom>
                <a:avLst/>
                <a:gdLst/>
                <a:ahLst/>
                <a:rect l="l" t="t" r="r" b="b"/>
                <a:pathLst>
                  <a:path w="1036" h="78">
                    <a:moveTo>
                      <a:pt x="0" y="0"/>
                    </a:moveTo>
                    <a:lnTo>
                      <a:pt x="1036" y="0"/>
                    </a:lnTo>
                    <a:lnTo>
                      <a:pt x="1036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6000" y="2070360"/>
                <a:ext cx="126360" cy="622080"/>
              </a:xfrm>
              <a:custGeom>
                <a:avLst/>
                <a:gdLst/>
                <a:ahLst/>
                <a:rect l="l" t="t" r="r" b="b"/>
                <a:pathLst>
                  <a:path w="211" h="1044">
                    <a:moveTo>
                      <a:pt x="0" y="1044"/>
                    </a:moveTo>
                    <a:lnTo>
                      <a:pt x="211" y="1044"/>
                    </a:lnTo>
                    <a:lnTo>
                      <a:pt x="211" y="0"/>
                    </a:lnTo>
                    <a:lnTo>
                      <a:pt x="0" y="0"/>
                    </a:lnTo>
                    <a:lnTo>
                      <a:pt x="0" y="1044"/>
                    </a:lnTo>
                    <a:lnTo>
                      <a:pt x="0" y="10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0880" y="2114640"/>
                <a:ext cx="50040" cy="73800"/>
              </a:xfrm>
              <a:custGeom>
                <a:avLst/>
                <a:gdLst/>
                <a:ahLst/>
                <a:rect l="l" t="t" r="r" b="b"/>
                <a:pathLst>
                  <a:path w="83" h="124">
                    <a:moveTo>
                      <a:pt x="0" y="124"/>
                    </a:moveTo>
                    <a:lnTo>
                      <a:pt x="83" y="124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0880" y="223884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3" h="125">
                    <a:moveTo>
                      <a:pt x="0" y="125"/>
                    </a:moveTo>
                    <a:lnTo>
                      <a:pt x="83" y="12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30880" y="2619000"/>
                <a:ext cx="50040" cy="73800"/>
              </a:xfrm>
              <a:custGeom>
                <a:avLst/>
                <a:gdLst/>
                <a:ahLst/>
                <a:rect l="l" t="t" r="r" b="b"/>
                <a:pathLst>
                  <a:path w="83" h="123">
                    <a:moveTo>
                      <a:pt x="0" y="123"/>
                    </a:moveTo>
                    <a:lnTo>
                      <a:pt x="83" y="123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27200" y="2619000"/>
                <a:ext cx="51120" cy="73800"/>
              </a:xfrm>
              <a:custGeom>
                <a:avLst/>
                <a:gdLst/>
                <a:ahLst/>
                <a:rect l="l" t="t" r="r" b="b"/>
                <a:pathLst>
                  <a:path w="85" h="123">
                    <a:moveTo>
                      <a:pt x="0" y="123"/>
                    </a:moveTo>
                    <a:lnTo>
                      <a:pt x="85" y="123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19920" y="261900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82" h="123">
                    <a:moveTo>
                      <a:pt x="0" y="123"/>
                    </a:moveTo>
                    <a:lnTo>
                      <a:pt x="82" y="123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6520" y="2619000"/>
                <a:ext cx="50040" cy="7380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0" y="123"/>
                    </a:moveTo>
                    <a:lnTo>
                      <a:pt x="84" y="1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01760" y="261900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0" y="123"/>
                    </a:moveTo>
                    <a:lnTo>
                      <a:pt x="84" y="1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89440" y="261900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0" y="123"/>
                    </a:moveTo>
                    <a:lnTo>
                      <a:pt x="84" y="123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30880" y="249984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3" h="126">
                    <a:moveTo>
                      <a:pt x="0" y="126"/>
                    </a:moveTo>
                    <a:lnTo>
                      <a:pt x="83" y="126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27200" y="2499840"/>
                <a:ext cx="51120" cy="74880"/>
              </a:xfrm>
              <a:custGeom>
                <a:avLst/>
                <a:gdLst/>
                <a:ahLst/>
                <a:rect l="l" t="t" r="r" b="b"/>
                <a:pathLst>
                  <a:path w="85" h="126">
                    <a:moveTo>
                      <a:pt x="0" y="126"/>
                    </a:moveTo>
                    <a:lnTo>
                      <a:pt x="85" y="126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19920" y="2499840"/>
                <a:ext cx="48960" cy="7488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0" y="126"/>
                    </a:moveTo>
                    <a:lnTo>
                      <a:pt x="82" y="126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06520" y="249984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01760" y="2499840"/>
                <a:ext cx="48960" cy="7488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89440" y="2499840"/>
                <a:ext cx="48960" cy="7488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84" y="126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30880" y="237456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3" h="125">
                    <a:moveTo>
                      <a:pt x="0" y="125"/>
                    </a:moveTo>
                    <a:lnTo>
                      <a:pt x="83" y="12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27200" y="2374560"/>
                <a:ext cx="51120" cy="74880"/>
              </a:xfrm>
              <a:custGeom>
                <a:avLst/>
                <a:gdLst/>
                <a:ahLst/>
                <a:rect l="l" t="t" r="r" b="b"/>
                <a:pathLst>
                  <a:path w="85" h="125">
                    <a:moveTo>
                      <a:pt x="0" y="125"/>
                    </a:moveTo>
                    <a:lnTo>
                      <a:pt x="85" y="12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19920" y="2374560"/>
                <a:ext cx="48960" cy="74880"/>
              </a:xfrm>
              <a:custGeom>
                <a:avLst/>
                <a:gdLst/>
                <a:ahLst/>
                <a:rect l="l" t="t" r="r" b="b"/>
                <a:pathLst>
                  <a:path w="82" h="125">
                    <a:moveTo>
                      <a:pt x="0" y="125"/>
                    </a:moveTo>
                    <a:lnTo>
                      <a:pt x="82" y="125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06520" y="237456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01760" y="2374560"/>
                <a:ext cx="4896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89440" y="2374560"/>
                <a:ext cx="48960" cy="7488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0" y="125"/>
                    </a:moveTo>
                    <a:lnTo>
                      <a:pt x="84" y="125"/>
                    </a:lnTo>
                    <a:lnTo>
                      <a:pt x="8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923920" y="2107440"/>
                <a:ext cx="457920" cy="53280"/>
              </a:xfrm>
              <a:custGeom>
                <a:avLst/>
                <a:gdLst/>
                <a:ahLst/>
                <a:rect l="l" t="t" r="r" b="b"/>
                <a:pathLst>
                  <a:path w="768" h="89">
                    <a:moveTo>
                      <a:pt x="0" y="89"/>
                    </a:moveTo>
                    <a:lnTo>
                      <a:pt x="768" y="89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915640" y="2201760"/>
                <a:ext cx="466200" cy="48600"/>
              </a:xfrm>
              <a:custGeom>
                <a:avLst/>
                <a:gdLst/>
                <a:ahLst/>
                <a:rect l="l" t="t" r="r" b="b"/>
                <a:pathLst>
                  <a:path w="783" h="82">
                    <a:moveTo>
                      <a:pt x="0" y="82"/>
                    </a:moveTo>
                    <a:lnTo>
                      <a:pt x="783" y="82"/>
                    </a:lnTo>
                    <a:lnTo>
                      <a:pt x="783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27200" y="2114640"/>
                <a:ext cx="51120" cy="73800"/>
              </a:xfrm>
              <a:custGeom>
                <a:avLst/>
                <a:gdLst/>
                <a:ahLst/>
                <a:rect l="l" t="t" r="r" b="b"/>
                <a:pathLst>
                  <a:path w="85" h="126">
                    <a:moveTo>
                      <a:pt x="0" y="126"/>
                    </a:moveTo>
                    <a:lnTo>
                      <a:pt x="85" y="126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8280" y="223524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83" h="125">
                    <a:moveTo>
                      <a:pt x="0" y="125"/>
                    </a:moveTo>
                    <a:lnTo>
                      <a:pt x="83" y="12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71760" y="2111040"/>
                <a:ext cx="63000" cy="584280"/>
              </a:xfrm>
              <a:custGeom>
                <a:avLst/>
                <a:gdLst/>
                <a:ahLst/>
                <a:rect l="l" t="t" r="r" b="b"/>
                <a:pathLst>
                  <a:path w="107" h="979">
                    <a:moveTo>
                      <a:pt x="0" y="979"/>
                    </a:moveTo>
                    <a:lnTo>
                      <a:pt x="107" y="979"/>
                    </a:lnTo>
                    <a:lnTo>
                      <a:pt x="107" y="0"/>
                    </a:lnTo>
                    <a:lnTo>
                      <a:pt x="0" y="0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75440" y="2111040"/>
                <a:ext cx="61920" cy="584280"/>
              </a:xfrm>
              <a:custGeom>
                <a:avLst/>
                <a:gdLst/>
                <a:ahLst/>
                <a:rect l="l" t="t" r="r" b="b"/>
                <a:pathLst>
                  <a:path w="105" h="979">
                    <a:moveTo>
                      <a:pt x="0" y="979"/>
                    </a:moveTo>
                    <a:lnTo>
                      <a:pt x="105" y="979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70840" y="2111040"/>
                <a:ext cx="63000" cy="584280"/>
              </a:xfrm>
              <a:custGeom>
                <a:avLst/>
                <a:gdLst/>
                <a:ahLst/>
                <a:rect l="l" t="t" r="r" b="b"/>
                <a:pathLst>
                  <a:path w="104" h="979">
                    <a:moveTo>
                      <a:pt x="0" y="979"/>
                    </a:moveTo>
                    <a:lnTo>
                      <a:pt x="104" y="979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68760" y="2111040"/>
                <a:ext cx="63000" cy="584280"/>
              </a:xfrm>
              <a:custGeom>
                <a:avLst/>
                <a:gdLst/>
                <a:ahLst/>
                <a:rect l="l" t="t" r="r" b="b"/>
                <a:pathLst>
                  <a:path w="107" h="979">
                    <a:moveTo>
                      <a:pt x="0" y="979"/>
                    </a:moveTo>
                    <a:lnTo>
                      <a:pt x="107" y="979"/>
                    </a:lnTo>
                    <a:lnTo>
                      <a:pt x="107" y="0"/>
                    </a:lnTo>
                    <a:lnTo>
                      <a:pt x="0" y="0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305080" y="2609640"/>
              <a:ext cx="1676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rganization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24600" y="1295280"/>
            <a:ext cx="1676160" cy="1695240"/>
            <a:chOff x="5124600" y="1295280"/>
            <a:chExt cx="1676160" cy="1695240"/>
          </a:xfrm>
        </p:grpSpPr>
        <p:grpSp>
          <p:nvGrpSpPr>
            <p:cNvPr id="172" name=""/>
            <p:cNvGrpSpPr/>
            <p:nvPr/>
          </p:nvGrpSpPr>
          <p:grpSpPr>
            <a:xfrm>
              <a:off x="5524200" y="1295280"/>
              <a:ext cx="1069200" cy="1339560"/>
              <a:chOff x="5524200" y="1295280"/>
              <a:chExt cx="1069200" cy="1339560"/>
            </a:xfrm>
          </p:grpSpPr>
          <p:sp>
            <p:nvSpPr>
              <p:cNvPr id="173" name=""/>
              <p:cNvSpPr/>
              <p:nvPr/>
            </p:nvSpPr>
            <p:spPr>
              <a:xfrm>
                <a:off x="5706360" y="1314000"/>
                <a:ext cx="57240" cy="266040"/>
              </a:xfrm>
              <a:custGeom>
                <a:avLst/>
                <a:gdLst/>
                <a:ahLst/>
                <a:rect l="l" t="t" r="r" b="b"/>
                <a:pathLst>
                  <a:path w="97" h="447">
                    <a:moveTo>
                      <a:pt x="0" y="10"/>
                    </a:moveTo>
                    <a:lnTo>
                      <a:pt x="0" y="447"/>
                    </a:lnTo>
                    <a:lnTo>
                      <a:pt x="97" y="447"/>
                    </a:lnTo>
                    <a:lnTo>
                      <a:pt x="97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2720" y="1572840"/>
                <a:ext cx="184320" cy="121320"/>
              </a:xfrm>
              <a:custGeom>
                <a:avLst/>
                <a:gdLst/>
                <a:ahLst/>
                <a:rect l="l" t="t" r="r" b="b"/>
                <a:pathLst>
                  <a:path w="310" h="203">
                    <a:moveTo>
                      <a:pt x="0" y="203"/>
                    </a:moveTo>
                    <a:lnTo>
                      <a:pt x="0" y="43"/>
                    </a:lnTo>
                    <a:lnTo>
                      <a:pt x="42" y="0"/>
                    </a:lnTo>
                    <a:lnTo>
                      <a:pt x="260" y="0"/>
                    </a:lnTo>
                    <a:lnTo>
                      <a:pt x="310" y="47"/>
                    </a:lnTo>
                    <a:lnTo>
                      <a:pt x="310" y="194"/>
                    </a:lnTo>
                    <a:lnTo>
                      <a:pt x="238" y="194"/>
                    </a:lnTo>
                    <a:lnTo>
                      <a:pt x="238" y="59"/>
                    </a:lnTo>
                    <a:lnTo>
                      <a:pt x="84" y="59"/>
                    </a:lnTo>
                    <a:lnTo>
                      <a:pt x="84" y="199"/>
                    </a:lnTo>
                    <a:lnTo>
                      <a:pt x="0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70640" y="1665720"/>
                <a:ext cx="341640" cy="235800"/>
              </a:xfrm>
              <a:custGeom>
                <a:avLst/>
                <a:gdLst/>
                <a:ahLst/>
                <a:rect l="l" t="t" r="r" b="b"/>
                <a:pathLst>
                  <a:path w="574" h="395">
                    <a:moveTo>
                      <a:pt x="0" y="0"/>
                    </a:moveTo>
                    <a:lnTo>
                      <a:pt x="574" y="0"/>
                    </a:lnTo>
                    <a:lnTo>
                      <a:pt x="532" y="224"/>
                    </a:lnTo>
                    <a:lnTo>
                      <a:pt x="449" y="308"/>
                    </a:lnTo>
                    <a:lnTo>
                      <a:pt x="439" y="395"/>
                    </a:lnTo>
                    <a:lnTo>
                      <a:pt x="377" y="395"/>
                    </a:lnTo>
                    <a:lnTo>
                      <a:pt x="377" y="281"/>
                    </a:lnTo>
                    <a:lnTo>
                      <a:pt x="449" y="214"/>
                    </a:lnTo>
                    <a:lnTo>
                      <a:pt x="475" y="78"/>
                    </a:lnTo>
                    <a:lnTo>
                      <a:pt x="114" y="78"/>
                    </a:lnTo>
                    <a:lnTo>
                      <a:pt x="166" y="228"/>
                    </a:lnTo>
                    <a:lnTo>
                      <a:pt x="244" y="285"/>
                    </a:lnTo>
                    <a:lnTo>
                      <a:pt x="247" y="384"/>
                    </a:lnTo>
                    <a:lnTo>
                      <a:pt x="175" y="388"/>
                    </a:lnTo>
                    <a:lnTo>
                      <a:pt x="162" y="308"/>
                    </a:lnTo>
                    <a:lnTo>
                      <a:pt x="55" y="2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543280" y="1879560"/>
                <a:ext cx="427320" cy="754560"/>
              </a:xfrm>
              <a:custGeom>
                <a:avLst/>
                <a:gdLst/>
                <a:ahLst/>
                <a:rect l="l" t="t" r="r" b="b"/>
                <a:pathLst>
                  <a:path w="718" h="1264">
                    <a:moveTo>
                      <a:pt x="3" y="0"/>
                    </a:moveTo>
                    <a:lnTo>
                      <a:pt x="718" y="0"/>
                    </a:lnTo>
                    <a:lnTo>
                      <a:pt x="718" y="1264"/>
                    </a:lnTo>
                    <a:lnTo>
                      <a:pt x="635" y="1264"/>
                    </a:lnTo>
                    <a:lnTo>
                      <a:pt x="635" y="68"/>
                    </a:lnTo>
                    <a:lnTo>
                      <a:pt x="100" y="68"/>
                    </a:lnTo>
                    <a:lnTo>
                      <a:pt x="100" y="1264"/>
                    </a:lnTo>
                    <a:lnTo>
                      <a:pt x="0" y="1264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09880" y="1733760"/>
                <a:ext cx="264240" cy="27000"/>
              </a:xfrm>
              <a:custGeom>
                <a:avLst/>
                <a:gdLst/>
                <a:ahLst/>
                <a:rect l="l" t="t" r="r" b="b"/>
                <a:pathLst>
                  <a:path w="445" h="45">
                    <a:moveTo>
                      <a:pt x="0" y="0"/>
                    </a:moveTo>
                    <a:lnTo>
                      <a:pt x="445" y="0"/>
                    </a:lnTo>
                    <a:lnTo>
                      <a:pt x="445" y="45"/>
                    </a:lnTo>
                    <a:lnTo>
                      <a:pt x="28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45520" y="1793520"/>
                <a:ext cx="212760" cy="30960"/>
              </a:xfrm>
              <a:custGeom>
                <a:avLst/>
                <a:gdLst/>
                <a:ahLst/>
                <a:rect l="l" t="t" r="r" b="b"/>
                <a:pathLst>
                  <a:path w="357" h="52">
                    <a:moveTo>
                      <a:pt x="0" y="0"/>
                    </a:moveTo>
                    <a:lnTo>
                      <a:pt x="357" y="0"/>
                    </a:lnTo>
                    <a:lnTo>
                      <a:pt x="300" y="52"/>
                    </a:lnTo>
                    <a:lnTo>
                      <a:pt x="43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56320" y="1961640"/>
                <a:ext cx="52200" cy="77400"/>
              </a:xfrm>
              <a:custGeom>
                <a:avLst/>
                <a:gdLst/>
                <a:ahLst/>
                <a:rect l="l" t="t" r="r" b="b"/>
                <a:pathLst>
                  <a:path w="87" h="129">
                    <a:moveTo>
                      <a:pt x="0" y="129"/>
                    </a:moveTo>
                    <a:lnTo>
                      <a:pt x="87" y="129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34800" y="1961640"/>
                <a:ext cx="52200" cy="77400"/>
              </a:xfrm>
              <a:custGeom>
                <a:avLst/>
                <a:gdLst/>
                <a:ahLst/>
                <a:rect l="l" t="t" r="r" b="b"/>
                <a:pathLst>
                  <a:path w="87" h="129">
                    <a:moveTo>
                      <a:pt x="0" y="129"/>
                    </a:moveTo>
                    <a:lnTo>
                      <a:pt x="87" y="129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14720" y="1961640"/>
                <a:ext cx="53640" cy="77400"/>
              </a:xfrm>
              <a:custGeom>
                <a:avLst/>
                <a:gdLst/>
                <a:ahLst/>
                <a:rect l="l" t="t" r="r" b="b"/>
                <a:pathLst>
                  <a:path w="89" h="129">
                    <a:moveTo>
                      <a:pt x="0" y="129"/>
                    </a:moveTo>
                    <a:lnTo>
                      <a:pt x="89" y="129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52720" y="2076120"/>
                <a:ext cx="53280" cy="78480"/>
              </a:xfrm>
              <a:custGeom>
                <a:avLst/>
                <a:gdLst/>
                <a:ahLst/>
                <a:rect l="l" t="t" r="r" b="b"/>
                <a:pathLst>
                  <a:path w="89" h="131">
                    <a:moveTo>
                      <a:pt x="0" y="131"/>
                    </a:moveTo>
                    <a:lnTo>
                      <a:pt x="89" y="131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32640" y="2076120"/>
                <a:ext cx="52200" cy="7848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12200" y="2076120"/>
                <a:ext cx="52200" cy="7848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56320" y="2195280"/>
                <a:ext cx="52200" cy="7740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34800" y="2195280"/>
                <a:ext cx="52200" cy="7740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14720" y="2195280"/>
                <a:ext cx="53640" cy="78480"/>
              </a:xfrm>
              <a:custGeom>
                <a:avLst/>
                <a:gdLst/>
                <a:ahLst/>
                <a:rect l="l" t="t" r="r" b="b"/>
                <a:pathLst>
                  <a:path w="89" h="133">
                    <a:moveTo>
                      <a:pt x="0" y="133"/>
                    </a:moveTo>
                    <a:lnTo>
                      <a:pt x="89" y="133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6320" y="2307240"/>
                <a:ext cx="52200" cy="77040"/>
              </a:xfrm>
              <a:custGeom>
                <a:avLst/>
                <a:gdLst/>
                <a:ahLst/>
                <a:rect l="l" t="t" r="r" b="b"/>
                <a:pathLst>
                  <a:path w="87" h="129">
                    <a:moveTo>
                      <a:pt x="0" y="129"/>
                    </a:moveTo>
                    <a:lnTo>
                      <a:pt x="87" y="129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34800" y="2307240"/>
                <a:ext cx="52200" cy="77040"/>
              </a:xfrm>
              <a:custGeom>
                <a:avLst/>
                <a:gdLst/>
                <a:ahLst/>
                <a:rect l="l" t="t" r="r" b="b"/>
                <a:pathLst>
                  <a:path w="87" h="129">
                    <a:moveTo>
                      <a:pt x="0" y="129"/>
                    </a:moveTo>
                    <a:lnTo>
                      <a:pt x="87" y="129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14720" y="2307240"/>
                <a:ext cx="53640" cy="77040"/>
              </a:xfrm>
              <a:custGeom>
                <a:avLst/>
                <a:gdLst/>
                <a:ahLst/>
                <a:rect l="l" t="t" r="r" b="b"/>
                <a:pathLst>
                  <a:path w="89" h="129">
                    <a:moveTo>
                      <a:pt x="0" y="129"/>
                    </a:moveTo>
                    <a:lnTo>
                      <a:pt x="89" y="129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56320" y="2435040"/>
                <a:ext cx="52200" cy="7848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34800" y="2435040"/>
                <a:ext cx="52200" cy="7848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14720" y="2435040"/>
                <a:ext cx="53640" cy="78480"/>
              </a:xfrm>
              <a:custGeom>
                <a:avLst/>
                <a:gdLst/>
                <a:ahLst/>
                <a:rect l="l" t="t" r="r" b="b"/>
                <a:pathLst>
                  <a:path w="89" h="131">
                    <a:moveTo>
                      <a:pt x="0" y="131"/>
                    </a:moveTo>
                    <a:lnTo>
                      <a:pt x="89" y="131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56320" y="2555280"/>
                <a:ext cx="52200" cy="7848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4800" y="2555280"/>
                <a:ext cx="52200" cy="7848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14720" y="2556360"/>
                <a:ext cx="53640" cy="77400"/>
              </a:xfrm>
              <a:custGeom>
                <a:avLst/>
                <a:gdLst/>
                <a:ahLst/>
                <a:rect l="l" t="t" r="r" b="b"/>
                <a:pathLst>
                  <a:path w="89" h="129">
                    <a:moveTo>
                      <a:pt x="0" y="129"/>
                    </a:moveTo>
                    <a:lnTo>
                      <a:pt x="89" y="129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000480" y="2574360"/>
                <a:ext cx="540720" cy="60480"/>
              </a:xfrm>
              <a:custGeom>
                <a:avLst/>
                <a:gdLst/>
                <a:ahLst/>
                <a:rect l="l" t="t" r="r" b="b"/>
                <a:pathLst>
                  <a:path w="908" h="100">
                    <a:moveTo>
                      <a:pt x="0" y="100"/>
                    </a:moveTo>
                    <a:lnTo>
                      <a:pt x="908" y="100"/>
                    </a:lnTo>
                    <a:lnTo>
                      <a:pt x="906" y="2"/>
                    </a:lnTo>
                    <a:lnTo>
                      <a:pt x="0" y="0"/>
                    </a:lnTo>
                    <a:lnTo>
                      <a:pt x="0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00480" y="2475360"/>
                <a:ext cx="541800" cy="61920"/>
              </a:xfrm>
              <a:custGeom>
                <a:avLst/>
                <a:gdLst/>
                <a:ahLst/>
                <a:rect l="l" t="t" r="r" b="b"/>
                <a:pathLst>
                  <a:path w="910" h="105">
                    <a:moveTo>
                      <a:pt x="0" y="105"/>
                    </a:moveTo>
                    <a:lnTo>
                      <a:pt x="910" y="105"/>
                    </a:lnTo>
                    <a:lnTo>
                      <a:pt x="910" y="0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00480" y="2377800"/>
                <a:ext cx="536040" cy="61560"/>
              </a:xfrm>
              <a:custGeom>
                <a:avLst/>
                <a:gdLst/>
                <a:ahLst/>
                <a:rect l="l" t="t" r="r" b="b"/>
                <a:pathLst>
                  <a:path w="901" h="104">
                    <a:moveTo>
                      <a:pt x="0" y="104"/>
                    </a:moveTo>
                    <a:lnTo>
                      <a:pt x="901" y="104"/>
                    </a:lnTo>
                    <a:lnTo>
                      <a:pt x="901" y="0"/>
                    </a:lnTo>
                    <a:lnTo>
                      <a:pt x="0" y="0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00480" y="2277360"/>
                <a:ext cx="569160" cy="66600"/>
              </a:xfrm>
              <a:custGeom>
                <a:avLst/>
                <a:gdLst/>
                <a:ahLst/>
                <a:rect l="l" t="t" r="r" b="b"/>
                <a:pathLst>
                  <a:path w="956" h="113">
                    <a:moveTo>
                      <a:pt x="0" y="113"/>
                    </a:moveTo>
                    <a:lnTo>
                      <a:pt x="956" y="113"/>
                    </a:lnTo>
                    <a:lnTo>
                      <a:pt x="956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000480" y="2183400"/>
                <a:ext cx="551520" cy="59400"/>
              </a:xfrm>
              <a:custGeom>
                <a:avLst/>
                <a:gdLst/>
                <a:ahLst/>
                <a:rect l="l" t="t" r="r" b="b"/>
                <a:pathLst>
                  <a:path w="925" h="98">
                    <a:moveTo>
                      <a:pt x="0" y="98"/>
                    </a:moveTo>
                    <a:lnTo>
                      <a:pt x="925" y="98"/>
                    </a:lnTo>
                    <a:lnTo>
                      <a:pt x="925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86200" y="1295280"/>
                <a:ext cx="57240" cy="265680"/>
              </a:xfrm>
              <a:custGeom>
                <a:avLst/>
                <a:gdLst/>
                <a:ahLst/>
                <a:rect l="l" t="t" r="r" b="b"/>
                <a:pathLst>
                  <a:path w="97" h="447">
                    <a:moveTo>
                      <a:pt x="0" y="7"/>
                    </a:moveTo>
                    <a:lnTo>
                      <a:pt x="0" y="447"/>
                    </a:lnTo>
                    <a:lnTo>
                      <a:pt x="97" y="447"/>
                    </a:lnTo>
                    <a:lnTo>
                      <a:pt x="9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33640" y="1552680"/>
                <a:ext cx="184320" cy="121320"/>
              </a:xfrm>
              <a:custGeom>
                <a:avLst/>
                <a:gdLst/>
                <a:ahLst/>
                <a:rect l="l" t="t" r="r" b="b"/>
                <a:pathLst>
                  <a:path w="310" h="206">
                    <a:moveTo>
                      <a:pt x="0" y="206"/>
                    </a:moveTo>
                    <a:lnTo>
                      <a:pt x="0" y="44"/>
                    </a:lnTo>
                    <a:lnTo>
                      <a:pt x="40" y="0"/>
                    </a:lnTo>
                    <a:lnTo>
                      <a:pt x="258" y="0"/>
                    </a:lnTo>
                    <a:lnTo>
                      <a:pt x="310" y="50"/>
                    </a:lnTo>
                    <a:lnTo>
                      <a:pt x="310" y="194"/>
                    </a:lnTo>
                    <a:lnTo>
                      <a:pt x="237" y="194"/>
                    </a:lnTo>
                    <a:lnTo>
                      <a:pt x="237" y="59"/>
                    </a:lnTo>
                    <a:lnTo>
                      <a:pt x="83" y="59"/>
                    </a:lnTo>
                    <a:lnTo>
                      <a:pt x="83" y="200"/>
                    </a:lnTo>
                    <a:lnTo>
                      <a:pt x="0" y="206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49040" y="1645560"/>
                <a:ext cx="342720" cy="234720"/>
              </a:xfrm>
              <a:custGeom>
                <a:avLst/>
                <a:gdLst/>
                <a:ahLst/>
                <a:rect l="l" t="t" r="r" b="b"/>
                <a:pathLst>
                  <a:path w="574" h="396">
                    <a:moveTo>
                      <a:pt x="0" y="0"/>
                    </a:moveTo>
                    <a:lnTo>
                      <a:pt x="574" y="0"/>
                    </a:lnTo>
                    <a:lnTo>
                      <a:pt x="534" y="225"/>
                    </a:lnTo>
                    <a:lnTo>
                      <a:pt x="451" y="308"/>
                    </a:lnTo>
                    <a:lnTo>
                      <a:pt x="441" y="396"/>
                    </a:lnTo>
                    <a:lnTo>
                      <a:pt x="378" y="396"/>
                    </a:lnTo>
                    <a:lnTo>
                      <a:pt x="378" y="284"/>
                    </a:lnTo>
                    <a:lnTo>
                      <a:pt x="451" y="215"/>
                    </a:lnTo>
                    <a:lnTo>
                      <a:pt x="477" y="78"/>
                    </a:lnTo>
                    <a:lnTo>
                      <a:pt x="114" y="78"/>
                    </a:lnTo>
                    <a:lnTo>
                      <a:pt x="167" y="230"/>
                    </a:lnTo>
                    <a:lnTo>
                      <a:pt x="243" y="287"/>
                    </a:lnTo>
                    <a:lnTo>
                      <a:pt x="249" y="384"/>
                    </a:lnTo>
                    <a:lnTo>
                      <a:pt x="177" y="390"/>
                    </a:lnTo>
                    <a:lnTo>
                      <a:pt x="162" y="308"/>
                    </a:lnTo>
                    <a:lnTo>
                      <a:pt x="57" y="2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24200" y="1859040"/>
                <a:ext cx="426240" cy="754560"/>
              </a:xfrm>
              <a:custGeom>
                <a:avLst/>
                <a:gdLst/>
                <a:ahLst/>
                <a:rect l="l" t="t" r="r" b="b"/>
                <a:pathLst>
                  <a:path w="717" h="1264">
                    <a:moveTo>
                      <a:pt x="4" y="0"/>
                    </a:moveTo>
                    <a:lnTo>
                      <a:pt x="717" y="0"/>
                    </a:lnTo>
                    <a:lnTo>
                      <a:pt x="717" y="1264"/>
                    </a:lnTo>
                    <a:lnTo>
                      <a:pt x="633" y="1264"/>
                    </a:lnTo>
                    <a:lnTo>
                      <a:pt x="633" y="68"/>
                    </a:lnTo>
                    <a:lnTo>
                      <a:pt x="101" y="68"/>
                    </a:lnTo>
                    <a:lnTo>
                      <a:pt x="101" y="1264"/>
                    </a:lnTo>
                    <a:lnTo>
                      <a:pt x="0" y="126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590800" y="1714680"/>
                <a:ext cx="263160" cy="25920"/>
              </a:xfrm>
              <a:custGeom>
                <a:avLst/>
                <a:gdLst/>
                <a:ahLst/>
                <a:rect l="l" t="t" r="r" b="b"/>
                <a:pathLst>
                  <a:path w="443" h="46">
                    <a:moveTo>
                      <a:pt x="0" y="0"/>
                    </a:moveTo>
                    <a:lnTo>
                      <a:pt x="443" y="0"/>
                    </a:lnTo>
                    <a:lnTo>
                      <a:pt x="443" y="46"/>
                    </a:lnTo>
                    <a:lnTo>
                      <a:pt x="27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26800" y="1773000"/>
                <a:ext cx="211680" cy="30960"/>
              </a:xfrm>
              <a:custGeom>
                <a:avLst/>
                <a:gdLst/>
                <a:ahLst/>
                <a:rect l="l" t="t" r="r" b="b"/>
                <a:pathLst>
                  <a:path w="356" h="52">
                    <a:moveTo>
                      <a:pt x="0" y="0"/>
                    </a:moveTo>
                    <a:lnTo>
                      <a:pt x="356" y="0"/>
                    </a:lnTo>
                    <a:lnTo>
                      <a:pt x="299" y="52"/>
                    </a:lnTo>
                    <a:lnTo>
                      <a:pt x="44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36160" y="1941480"/>
                <a:ext cx="52200" cy="75960"/>
              </a:xfrm>
              <a:custGeom>
                <a:avLst/>
                <a:gdLst/>
                <a:ahLst/>
                <a:rect l="l" t="t" r="r" b="b"/>
                <a:pathLst>
                  <a:path w="90" h="129">
                    <a:moveTo>
                      <a:pt x="0" y="129"/>
                    </a:moveTo>
                    <a:lnTo>
                      <a:pt x="90" y="129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15720" y="1941480"/>
                <a:ext cx="52200" cy="75960"/>
              </a:xfrm>
              <a:custGeom>
                <a:avLst/>
                <a:gdLst/>
                <a:ahLst/>
                <a:rect l="l" t="t" r="r" b="b"/>
                <a:pathLst>
                  <a:path w="88" h="129">
                    <a:moveTo>
                      <a:pt x="0" y="129"/>
                    </a:moveTo>
                    <a:lnTo>
                      <a:pt x="88" y="129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95640" y="1941480"/>
                <a:ext cx="50760" cy="75960"/>
              </a:xfrm>
              <a:custGeom>
                <a:avLst/>
                <a:gdLst/>
                <a:ahLst/>
                <a:rect l="l" t="t" r="r" b="b"/>
                <a:pathLst>
                  <a:path w="87" h="129">
                    <a:moveTo>
                      <a:pt x="0" y="129"/>
                    </a:moveTo>
                    <a:lnTo>
                      <a:pt x="87" y="129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3640" y="2057040"/>
                <a:ext cx="53280" cy="77040"/>
              </a:xfrm>
              <a:custGeom>
                <a:avLst/>
                <a:gdLst/>
                <a:ahLst/>
                <a:rect l="l" t="t" r="r" b="b"/>
                <a:pathLst>
                  <a:path w="89" h="131">
                    <a:moveTo>
                      <a:pt x="0" y="131"/>
                    </a:moveTo>
                    <a:lnTo>
                      <a:pt x="89" y="131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12120" y="2057040"/>
                <a:ext cx="53280" cy="77040"/>
              </a:xfrm>
              <a:custGeom>
                <a:avLst/>
                <a:gdLst/>
                <a:ahLst/>
                <a:rect l="l" t="t" r="r" b="b"/>
                <a:pathLst>
                  <a:path w="89" h="131">
                    <a:moveTo>
                      <a:pt x="0" y="131"/>
                    </a:moveTo>
                    <a:lnTo>
                      <a:pt x="89" y="131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93480" y="2057040"/>
                <a:ext cx="52200" cy="7704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36160" y="2176200"/>
                <a:ext cx="52200" cy="7596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lnTo>
                      <a:pt x="90" y="130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15720" y="2176200"/>
                <a:ext cx="52200" cy="7596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0" y="130"/>
                    </a:moveTo>
                    <a:lnTo>
                      <a:pt x="88" y="13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95640" y="2176200"/>
                <a:ext cx="50760" cy="77040"/>
              </a:xfrm>
              <a:custGeom>
                <a:avLst/>
                <a:gdLst/>
                <a:ahLst/>
                <a:rect l="l" t="t" r="r" b="b"/>
                <a:pathLst>
                  <a:path w="87" h="131">
                    <a:moveTo>
                      <a:pt x="0" y="131"/>
                    </a:moveTo>
                    <a:lnTo>
                      <a:pt x="87" y="131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36160" y="2288160"/>
                <a:ext cx="52200" cy="75960"/>
              </a:xfrm>
              <a:custGeom>
                <a:avLst/>
                <a:gdLst/>
                <a:ahLst/>
                <a:rect l="l" t="t" r="r" b="b"/>
                <a:pathLst>
                  <a:path w="90" h="129">
                    <a:moveTo>
                      <a:pt x="0" y="129"/>
                    </a:moveTo>
                    <a:lnTo>
                      <a:pt x="90" y="129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15720" y="2288160"/>
                <a:ext cx="52200" cy="75960"/>
              </a:xfrm>
              <a:custGeom>
                <a:avLst/>
                <a:gdLst/>
                <a:ahLst/>
                <a:rect l="l" t="t" r="r" b="b"/>
                <a:pathLst>
                  <a:path w="88" h="129">
                    <a:moveTo>
                      <a:pt x="0" y="129"/>
                    </a:moveTo>
                    <a:lnTo>
                      <a:pt x="88" y="129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95640" y="2288160"/>
                <a:ext cx="50760" cy="75960"/>
              </a:xfrm>
              <a:custGeom>
                <a:avLst/>
                <a:gdLst/>
                <a:ahLst/>
                <a:rect l="l" t="t" r="r" b="b"/>
                <a:pathLst>
                  <a:path w="87" h="129">
                    <a:moveTo>
                      <a:pt x="0" y="129"/>
                    </a:moveTo>
                    <a:lnTo>
                      <a:pt x="87" y="129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36160" y="2415960"/>
                <a:ext cx="52200" cy="774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lnTo>
                      <a:pt x="90" y="130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15720" y="2415960"/>
                <a:ext cx="52200" cy="7740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0" y="130"/>
                    </a:moveTo>
                    <a:lnTo>
                      <a:pt x="88" y="13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95640" y="2415960"/>
                <a:ext cx="50760" cy="77400"/>
              </a:xfrm>
              <a:custGeom>
                <a:avLst/>
                <a:gdLst/>
                <a:ahLst/>
                <a:rect l="l" t="t" r="r" b="b"/>
                <a:pathLst>
                  <a:path w="87" h="130">
                    <a:moveTo>
                      <a:pt x="0" y="130"/>
                    </a:moveTo>
                    <a:lnTo>
                      <a:pt x="87" y="130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6160" y="2536200"/>
                <a:ext cx="52200" cy="77400"/>
              </a:xfrm>
              <a:custGeom>
                <a:avLst/>
                <a:gdLst/>
                <a:ahLst/>
                <a:rect l="l" t="t" r="r" b="b"/>
                <a:pathLst>
                  <a:path w="90" h="129">
                    <a:moveTo>
                      <a:pt x="0" y="129"/>
                    </a:moveTo>
                    <a:lnTo>
                      <a:pt x="90" y="129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15720" y="2536200"/>
                <a:ext cx="52200" cy="77400"/>
              </a:xfrm>
              <a:custGeom>
                <a:avLst/>
                <a:gdLst/>
                <a:ahLst/>
                <a:rect l="l" t="t" r="r" b="b"/>
                <a:pathLst>
                  <a:path w="88" h="129">
                    <a:moveTo>
                      <a:pt x="0" y="129"/>
                    </a:moveTo>
                    <a:lnTo>
                      <a:pt x="88" y="129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95640" y="2536200"/>
                <a:ext cx="50760" cy="77400"/>
              </a:xfrm>
              <a:custGeom>
                <a:avLst/>
                <a:gdLst/>
                <a:ahLst/>
                <a:rect l="l" t="t" r="r" b="b"/>
                <a:pathLst>
                  <a:path w="87" h="129">
                    <a:moveTo>
                      <a:pt x="0" y="129"/>
                    </a:moveTo>
                    <a:lnTo>
                      <a:pt x="87" y="129"/>
                    </a:lnTo>
                    <a:lnTo>
                      <a:pt x="87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80320" y="2552760"/>
                <a:ext cx="538200" cy="63000"/>
              </a:xfrm>
              <a:custGeom>
                <a:avLst/>
                <a:gdLst/>
                <a:ahLst/>
                <a:rect l="l" t="t" r="r" b="b"/>
                <a:pathLst>
                  <a:path w="905" h="105">
                    <a:moveTo>
                      <a:pt x="0" y="105"/>
                    </a:moveTo>
                    <a:lnTo>
                      <a:pt x="905" y="105"/>
                    </a:lnTo>
                    <a:lnTo>
                      <a:pt x="905" y="0"/>
                    </a:lnTo>
                    <a:lnTo>
                      <a:pt x="0" y="2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80320" y="2455200"/>
                <a:ext cx="541800" cy="62640"/>
              </a:xfrm>
              <a:custGeom>
                <a:avLst/>
                <a:gdLst/>
                <a:ahLst/>
                <a:rect l="l" t="t" r="r" b="b"/>
                <a:pathLst>
                  <a:path w="911" h="105">
                    <a:moveTo>
                      <a:pt x="0" y="105"/>
                    </a:moveTo>
                    <a:lnTo>
                      <a:pt x="911" y="105"/>
                    </a:lnTo>
                    <a:lnTo>
                      <a:pt x="911" y="0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80320" y="2358360"/>
                <a:ext cx="537120" cy="60480"/>
              </a:xfrm>
              <a:custGeom>
                <a:avLst/>
                <a:gdLst/>
                <a:ahLst/>
                <a:rect l="l" t="t" r="r" b="b"/>
                <a:pathLst>
                  <a:path w="903" h="103">
                    <a:moveTo>
                      <a:pt x="0" y="103"/>
                    </a:moveTo>
                    <a:lnTo>
                      <a:pt x="903" y="103"/>
                    </a:lnTo>
                    <a:lnTo>
                      <a:pt x="903" y="0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80320" y="2258640"/>
                <a:ext cx="596520" cy="65160"/>
              </a:xfrm>
              <a:custGeom>
                <a:avLst/>
                <a:gdLst/>
                <a:ahLst/>
                <a:rect l="l" t="t" r="r" b="b"/>
                <a:pathLst>
                  <a:path w="1002" h="110">
                    <a:moveTo>
                      <a:pt x="0" y="110"/>
                    </a:moveTo>
                    <a:lnTo>
                      <a:pt x="993" y="110"/>
                    </a:lnTo>
                    <a:lnTo>
                      <a:pt x="1002" y="0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80320" y="2162880"/>
                <a:ext cx="613080" cy="60480"/>
              </a:xfrm>
              <a:custGeom>
                <a:avLst/>
                <a:gdLst/>
                <a:ahLst/>
                <a:rect l="l" t="t" r="r" b="b"/>
                <a:pathLst>
                  <a:path w="1031" h="101">
                    <a:moveTo>
                      <a:pt x="0" y="101"/>
                    </a:moveTo>
                    <a:lnTo>
                      <a:pt x="1031" y="99"/>
                    </a:lnTo>
                    <a:lnTo>
                      <a:pt x="1010" y="0"/>
                    </a:lnTo>
                    <a:lnTo>
                      <a:pt x="0" y="0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124600" y="2609640"/>
              <a:ext cx="16761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rganization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753000" y="5257800"/>
            <a:ext cx="1828800" cy="304920"/>
          </a:xfrm>
          <a:prstGeom prst="leftRightArrow">
            <a:avLst>
              <a:gd name="adj1" fmla="val 50000"/>
              <a:gd name="adj2" fmla="val 1193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90880" y="3048120"/>
            <a:ext cx="380880" cy="1828800"/>
          </a:xfrm>
          <a:prstGeom prst="downArrow">
            <a:avLst>
              <a:gd name="adj1" fmla="val 50000"/>
              <a:gd name="adj2" fmla="val 12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10400" y="3048120"/>
            <a:ext cx="380880" cy="1828800"/>
          </a:xfrm>
          <a:prstGeom prst="downArrow">
            <a:avLst>
              <a:gd name="adj1" fmla="val 50000"/>
              <a:gd name="adj2" fmla="val 12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05680" y="5578560"/>
            <a:ext cx="576360" cy="577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800760" y="4572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641988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12384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2000160" y="4572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02360" y="3429000"/>
            <a:ext cx="183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9880" y="5932440"/>
            <a:ext cx="25232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tion Tr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Institutionalise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Decentrali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38862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1520" y="5595840"/>
            <a:ext cx="127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120" y="1447920"/>
            <a:ext cx="12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0200" y="21337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82320" y="1447920"/>
            <a:ext cx="117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1" idx="0"/>
            <a:endCxn id="232" idx="0"/>
          </p:cNvCxnSpPr>
          <p:nvPr/>
        </p:nvCxnSpPr>
        <p:spPr>
          <a:xfrm flipV="1" rot="16200000">
            <a:off x="4465800" y="5686560"/>
            <a:ext cx="446760" cy="45000"/>
          </a:xfrm>
          <a:prstGeom prst="bentConnector3">
            <a:avLst>
              <a:gd name="adj1" fmla="val 412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 flipV="1" rot="16200000">
            <a:off x="4237200" y="2028960"/>
            <a:ext cx="446760" cy="45000"/>
          </a:xfrm>
          <a:prstGeom prst="bentConnector3">
            <a:avLst>
              <a:gd name="adj1" fmla="val 497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9" name=""/>
          <p:cNvCxnSpPr/>
          <p:nvPr/>
        </p:nvCxnSpPr>
        <p:spPr>
          <a:xfrm>
            <a:off x="2533680" y="3657600"/>
            <a:ext cx="534240" cy="3816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 flipV="1">
            <a:off x="3981600" y="2513880"/>
            <a:ext cx="685800" cy="28954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57120" y="3200400"/>
            <a:ext cx="1660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ituated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0" idx="5"/>
          </p:cNvCxnSpPr>
          <p:nvPr/>
        </p:nvCxnSpPr>
        <p:spPr>
          <a:xfrm flipV="1">
            <a:off x="4506480" y="3428640"/>
            <a:ext cx="2142360" cy="372240"/>
          </a:xfrm>
          <a:prstGeom prst="bentConnector3">
            <a:avLst>
              <a:gd name="adj1" fmla="val 53731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4572000" y="0"/>
            <a:ext cx="457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ftware account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ket Econom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ormation tr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universal truth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entralis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le of La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titutionalised Int’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18028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wing multi-agent systems (MAS) from three perspec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al decision-making of an individual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observation of MAS as a wh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11280" y="4344840"/>
            <a:ext cx="5383080" cy="2460600"/>
            <a:chOff x="611280" y="4344840"/>
            <a:chExt cx="5383080" cy="2460600"/>
          </a:xfrm>
        </p:grpSpPr>
        <p:grpSp>
          <p:nvGrpSpPr>
            <p:cNvPr id="257" name=""/>
            <p:cNvGrpSpPr/>
            <p:nvPr/>
          </p:nvGrpSpPr>
          <p:grpSpPr>
            <a:xfrm>
              <a:off x="2043000" y="4344840"/>
              <a:ext cx="2239560" cy="549360"/>
              <a:chOff x="2043000" y="4344840"/>
              <a:chExt cx="2239560" cy="549360"/>
            </a:xfrm>
          </p:grpSpPr>
          <p:graphicFrame>
            <p:nvGraphicFramePr>
              <p:cNvPr id="258" name=""/>
              <p:cNvGraphicFramePr/>
              <p:nvPr/>
            </p:nvGraphicFramePr>
            <p:xfrm>
              <a:off x="2197440" y="4344840"/>
              <a:ext cx="260280" cy="345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5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197440" y="4344840"/>
                        <a:ext cx="260280" cy="345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0" name=""/>
              <p:cNvGraphicFramePr/>
              <p:nvPr/>
            </p:nvGraphicFramePr>
            <p:xfrm>
              <a:off x="3819240" y="4344840"/>
              <a:ext cx="324720" cy="28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6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19240" y="4344840"/>
                        <a:ext cx="324720" cy="28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2" name=""/>
              <p:cNvSpPr/>
              <p:nvPr/>
            </p:nvSpPr>
            <p:spPr>
              <a:xfrm>
                <a:off x="2043000" y="4647960"/>
                <a:ext cx="617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wn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64800" y="4647960"/>
                <a:ext cx="617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wn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83720" y="4420440"/>
                <a:ext cx="1081080" cy="151200"/>
              </a:xfrm>
              <a:prstGeom prst="rightArrow">
                <a:avLst>
                  <a:gd name="adj1" fmla="val 41667"/>
                  <a:gd name="adj2" fmla="val 7020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5" name="" descr=""/>
            <p:cNvPicPr/>
            <p:nvPr/>
          </p:nvPicPr>
          <p:blipFill>
            <a:blip r:embed="rId5"/>
            <a:stretch/>
          </p:blipFill>
          <p:spPr>
            <a:xfrm>
              <a:off x="1509840" y="5313240"/>
              <a:ext cx="335124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576520" y="5770440"/>
              <a:ext cx="1081080" cy="150840"/>
            </a:xfrm>
            <a:prstGeom prst="rightArrow">
              <a:avLst>
                <a:gd name="adj1" fmla="val 41667"/>
                <a:gd name="adj2" fmla="val 703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1280" y="4479840"/>
              <a:ext cx="1450800" cy="55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s of socie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ety formation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ety dynam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38440" y="5084640"/>
              <a:ext cx="144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7920" y="4893840"/>
              <a:ext cx="144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48120" y="4893840"/>
              <a:ext cx="144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110040" y="4606560"/>
              <a:ext cx="1440" cy="80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1640" y="4840200"/>
              <a:ext cx="1782720" cy="55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tuated socie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gal consequences &amp; legal trans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10040" y="5109840"/>
              <a:ext cx="10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24000" y="6406920"/>
              <a:ext cx="201636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unication protocols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ocio-cognitive relationshi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0040" y="5846400"/>
              <a:ext cx="144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4360" y="5614560"/>
              <a:ext cx="8366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al 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47640" y="5757480"/>
              <a:ext cx="695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4360" y="5300640"/>
            <a:ext cx="4176720" cy="1492200"/>
            <a:chOff x="684360" y="5300640"/>
            <a:chExt cx="4176720" cy="1492200"/>
          </a:xfrm>
        </p:grpSpPr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1509840" y="5300640"/>
              <a:ext cx="335124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576880" y="5757840"/>
              <a:ext cx="1081080" cy="150840"/>
            </a:xfrm>
            <a:prstGeom prst="rightArrow">
              <a:avLst>
                <a:gd name="adj1" fmla="val 41667"/>
                <a:gd name="adj2" fmla="val 703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360" y="6394320"/>
              <a:ext cx="2016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unication protocols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ocio-cognitive relationshi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10040" y="5833800"/>
              <a:ext cx="180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4360" y="5602320"/>
              <a:ext cx="8366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al 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48000" y="5745240"/>
              <a:ext cx="69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11280" y="4479840"/>
            <a:ext cx="4249800" cy="2325600"/>
            <a:chOff x="611280" y="4479840"/>
            <a:chExt cx="4249800" cy="2325600"/>
          </a:xfrm>
        </p:grpSpPr>
        <p:pic>
          <p:nvPicPr>
            <p:cNvPr id="286" name="" descr=""/>
            <p:cNvPicPr/>
            <p:nvPr/>
          </p:nvPicPr>
          <p:blipFill>
            <a:blip r:embed="rId7"/>
            <a:stretch/>
          </p:blipFill>
          <p:spPr>
            <a:xfrm>
              <a:off x="1509840" y="5313240"/>
              <a:ext cx="335124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576520" y="5770440"/>
              <a:ext cx="1081080" cy="150840"/>
            </a:xfrm>
            <a:prstGeom prst="rightArrow">
              <a:avLst>
                <a:gd name="adj1" fmla="val 41667"/>
                <a:gd name="adj2" fmla="val 703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280" y="4479840"/>
              <a:ext cx="1451160" cy="55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s of socie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ety formation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ety dynam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38440" y="5084640"/>
              <a:ext cx="144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24360" y="6406920"/>
              <a:ext cx="2016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unication protocols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ocio-cognitive relationshi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10040" y="5846760"/>
              <a:ext cx="144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4360" y="5614920"/>
              <a:ext cx="8366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cial 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48000" y="575784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8"/>
          <a:stretch/>
        </p:blipFill>
        <p:spPr>
          <a:xfrm>
            <a:off x="1508040" y="5300640"/>
            <a:ext cx="3351240" cy="1031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68360" y="6404040"/>
            <a:ext cx="836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cial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82560" y="5300640"/>
            <a:ext cx="4176720" cy="1414800"/>
            <a:chOff x="682560" y="5300640"/>
            <a:chExt cx="4176720" cy="1414800"/>
          </a:xfrm>
        </p:grpSpPr>
        <p:sp>
          <p:nvSpPr>
            <p:cNvPr id="297" name=""/>
            <p:cNvSpPr/>
            <p:nvPr/>
          </p:nvSpPr>
          <p:spPr>
            <a:xfrm>
              <a:off x="2409840" y="6316920"/>
              <a:ext cx="201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mmunication protocols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ocio-cognitive relationshi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9"/>
            <a:stretch/>
          </p:blipFill>
          <p:spPr>
            <a:xfrm>
              <a:off x="1508400" y="5300640"/>
              <a:ext cx="3350880" cy="10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82560" y="5602320"/>
              <a:ext cx="83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ocial 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076720" y="5445000"/>
            <a:ext cx="2160720" cy="1043280"/>
            <a:chOff x="5076720" y="5445000"/>
            <a:chExt cx="2160720" cy="1043280"/>
          </a:xfrm>
        </p:grpSpPr>
        <p:sp>
          <p:nvSpPr>
            <p:cNvPr id="301" name=""/>
            <p:cNvSpPr/>
            <p:nvPr/>
          </p:nvSpPr>
          <p:spPr>
            <a:xfrm>
              <a:off x="5365800" y="5624640"/>
              <a:ext cx="1728720" cy="792000"/>
            </a:xfrm>
            <a:prstGeom prst="cloudCallout">
              <a:avLst>
                <a:gd name="adj1" fmla="val -129430"/>
                <a:gd name="adj2" fmla="val -383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10"/>
            <a:stretch/>
          </p:blipFill>
          <p:spPr>
            <a:xfrm>
              <a:off x="5076720" y="5445000"/>
              <a:ext cx="2160720" cy="1043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action Perspecti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09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/instance for interaction with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ut no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y or whe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sm for reasoning and commun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stomisable and configur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o-cognitive reasoning and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‘supra-functional requirements’ of inter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ial control appropriate to rights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.g.)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us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pu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/direct behavi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ional view of inter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racterisation of dynamic normative posi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120" indent="-277920">
              <a:lnSpc>
                <a:spcPct val="90000"/>
              </a:lnSpc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chews internals, admits verification (on-line &amp; off-li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 Information Trading Socie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092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Producer/Consum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en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360" indent="-272160"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s provide one resource to Consumers in exchange for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360" indent="-272160"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 for competition, co-operation, subterfuge, prohibition, punishment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s dictate capabilities of particip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360" indent="-272160"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s initi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tract Net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360" indent="-272160">
              <a:spcBef>
                <a:spcPts val="638"/>
              </a:spcBef>
              <a:buClr>
                <a:srgbClr val="ffcc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mers initi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360" indent="0" algn="ctr">
              <a:spcBef>
                <a:spcPts val="63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ed by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il Exploration Scen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enario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752480" y="1619280"/>
            <a:ext cx="5706360" cy="5230440"/>
            <a:chOff x="1752480" y="1619280"/>
            <a:chExt cx="5706360" cy="5230440"/>
          </a:xfrm>
        </p:grpSpPr>
        <p:grpSp>
          <p:nvGrpSpPr>
            <p:cNvPr id="309" name=""/>
            <p:cNvGrpSpPr/>
            <p:nvPr/>
          </p:nvGrpSpPr>
          <p:grpSpPr>
            <a:xfrm>
              <a:off x="3433680" y="2197080"/>
              <a:ext cx="2167560" cy="1163160"/>
              <a:chOff x="3433680" y="2197080"/>
              <a:chExt cx="2167560" cy="1163160"/>
            </a:xfrm>
          </p:grpSpPr>
          <p:sp>
            <p:nvSpPr>
              <p:cNvPr id="310" name=""/>
              <p:cNvSpPr/>
              <p:nvPr/>
            </p:nvSpPr>
            <p:spPr>
              <a:xfrm>
                <a:off x="3433680" y="2233080"/>
                <a:ext cx="2134800" cy="1127160"/>
              </a:xfrm>
              <a:custGeom>
                <a:avLst/>
                <a:gdLst/>
                <a:ahLst/>
                <a:rect l="l" t="t" r="r" b="b"/>
                <a:pathLst>
                  <a:path w="5941" h="3137">
                    <a:moveTo>
                      <a:pt x="4028" y="3126"/>
                    </a:moveTo>
                    <a:lnTo>
                      <a:pt x="3645" y="3019"/>
                    </a:lnTo>
                    <a:lnTo>
                      <a:pt x="3504" y="2919"/>
                    </a:lnTo>
                    <a:lnTo>
                      <a:pt x="3406" y="2957"/>
                    </a:lnTo>
                    <a:lnTo>
                      <a:pt x="3361" y="2985"/>
                    </a:lnTo>
                    <a:lnTo>
                      <a:pt x="3317" y="3010"/>
                    </a:lnTo>
                    <a:lnTo>
                      <a:pt x="3269" y="3036"/>
                    </a:lnTo>
                    <a:lnTo>
                      <a:pt x="3224" y="3057"/>
                    </a:lnTo>
                    <a:lnTo>
                      <a:pt x="3173" y="3074"/>
                    </a:lnTo>
                    <a:lnTo>
                      <a:pt x="3127" y="3086"/>
                    </a:lnTo>
                    <a:lnTo>
                      <a:pt x="3080" y="3096"/>
                    </a:lnTo>
                    <a:lnTo>
                      <a:pt x="3028" y="3100"/>
                    </a:lnTo>
                    <a:lnTo>
                      <a:pt x="2970" y="3100"/>
                    </a:lnTo>
                    <a:lnTo>
                      <a:pt x="2905" y="3100"/>
                    </a:lnTo>
                    <a:lnTo>
                      <a:pt x="2843" y="3094"/>
                    </a:lnTo>
                    <a:lnTo>
                      <a:pt x="2781" y="3076"/>
                    </a:lnTo>
                    <a:lnTo>
                      <a:pt x="2724" y="3058"/>
                    </a:lnTo>
                    <a:lnTo>
                      <a:pt x="2659" y="3036"/>
                    </a:lnTo>
                    <a:lnTo>
                      <a:pt x="2599" y="3005"/>
                    </a:lnTo>
                    <a:lnTo>
                      <a:pt x="2536" y="2968"/>
                    </a:lnTo>
                    <a:lnTo>
                      <a:pt x="2474" y="2928"/>
                    </a:lnTo>
                    <a:lnTo>
                      <a:pt x="2377" y="2789"/>
                    </a:lnTo>
                    <a:lnTo>
                      <a:pt x="2367" y="2769"/>
                    </a:lnTo>
                    <a:lnTo>
                      <a:pt x="2312" y="2803"/>
                    </a:lnTo>
                    <a:lnTo>
                      <a:pt x="2198" y="2878"/>
                    </a:lnTo>
                    <a:lnTo>
                      <a:pt x="2131" y="2896"/>
                    </a:lnTo>
                    <a:lnTo>
                      <a:pt x="1905" y="2928"/>
                    </a:lnTo>
                    <a:lnTo>
                      <a:pt x="1810" y="2928"/>
                    </a:lnTo>
                    <a:lnTo>
                      <a:pt x="1751" y="2922"/>
                    </a:lnTo>
                    <a:lnTo>
                      <a:pt x="1694" y="2919"/>
                    </a:lnTo>
                    <a:lnTo>
                      <a:pt x="1634" y="2914"/>
                    </a:lnTo>
                    <a:lnTo>
                      <a:pt x="1574" y="2903"/>
                    </a:lnTo>
                    <a:lnTo>
                      <a:pt x="1513" y="2891"/>
                    </a:lnTo>
                    <a:lnTo>
                      <a:pt x="1456" y="2870"/>
                    </a:lnTo>
                    <a:lnTo>
                      <a:pt x="1393" y="2853"/>
                    </a:lnTo>
                    <a:lnTo>
                      <a:pt x="1339" y="2831"/>
                    </a:lnTo>
                    <a:lnTo>
                      <a:pt x="1278" y="2805"/>
                    </a:lnTo>
                    <a:lnTo>
                      <a:pt x="1223" y="2777"/>
                    </a:lnTo>
                    <a:lnTo>
                      <a:pt x="1167" y="2742"/>
                    </a:lnTo>
                    <a:lnTo>
                      <a:pt x="1109" y="2708"/>
                    </a:lnTo>
                    <a:lnTo>
                      <a:pt x="1055" y="2666"/>
                    </a:lnTo>
                    <a:lnTo>
                      <a:pt x="1004" y="2618"/>
                    </a:lnTo>
                    <a:lnTo>
                      <a:pt x="952" y="2573"/>
                    </a:lnTo>
                    <a:lnTo>
                      <a:pt x="906" y="2515"/>
                    </a:lnTo>
                    <a:lnTo>
                      <a:pt x="882" y="2457"/>
                    </a:lnTo>
                    <a:lnTo>
                      <a:pt x="851" y="2406"/>
                    </a:lnTo>
                    <a:lnTo>
                      <a:pt x="739" y="2406"/>
                    </a:lnTo>
                    <a:lnTo>
                      <a:pt x="695" y="2406"/>
                    </a:lnTo>
                    <a:lnTo>
                      <a:pt x="651" y="2400"/>
                    </a:lnTo>
                    <a:lnTo>
                      <a:pt x="608" y="2399"/>
                    </a:lnTo>
                    <a:lnTo>
                      <a:pt x="565" y="2394"/>
                    </a:lnTo>
                    <a:lnTo>
                      <a:pt x="521" y="2384"/>
                    </a:lnTo>
                    <a:lnTo>
                      <a:pt x="478" y="2374"/>
                    </a:lnTo>
                    <a:lnTo>
                      <a:pt x="437" y="2361"/>
                    </a:lnTo>
                    <a:lnTo>
                      <a:pt x="394" y="2349"/>
                    </a:lnTo>
                    <a:lnTo>
                      <a:pt x="350" y="2331"/>
                    </a:lnTo>
                    <a:lnTo>
                      <a:pt x="311" y="2310"/>
                    </a:lnTo>
                    <a:lnTo>
                      <a:pt x="268" y="2285"/>
                    </a:lnTo>
                    <a:lnTo>
                      <a:pt x="226" y="2261"/>
                    </a:lnTo>
                    <a:lnTo>
                      <a:pt x="187" y="2233"/>
                    </a:lnTo>
                    <a:lnTo>
                      <a:pt x="146" y="2197"/>
                    </a:lnTo>
                    <a:lnTo>
                      <a:pt x="106" y="2158"/>
                    </a:lnTo>
                    <a:lnTo>
                      <a:pt x="67" y="2120"/>
                    </a:lnTo>
                    <a:lnTo>
                      <a:pt x="21" y="2004"/>
                    </a:lnTo>
                    <a:lnTo>
                      <a:pt x="0" y="1896"/>
                    </a:lnTo>
                    <a:lnTo>
                      <a:pt x="0" y="1783"/>
                    </a:lnTo>
                    <a:lnTo>
                      <a:pt x="18" y="1673"/>
                    </a:lnTo>
                    <a:lnTo>
                      <a:pt x="53" y="1566"/>
                    </a:lnTo>
                    <a:lnTo>
                      <a:pt x="103" y="1463"/>
                    </a:lnTo>
                    <a:lnTo>
                      <a:pt x="168" y="1350"/>
                    </a:lnTo>
                    <a:lnTo>
                      <a:pt x="241" y="1239"/>
                    </a:lnTo>
                    <a:lnTo>
                      <a:pt x="411" y="1085"/>
                    </a:lnTo>
                    <a:lnTo>
                      <a:pt x="447" y="1061"/>
                    </a:lnTo>
                    <a:lnTo>
                      <a:pt x="482" y="1040"/>
                    </a:lnTo>
                    <a:lnTo>
                      <a:pt x="517" y="1021"/>
                    </a:lnTo>
                    <a:lnTo>
                      <a:pt x="552" y="1004"/>
                    </a:lnTo>
                    <a:lnTo>
                      <a:pt x="585" y="985"/>
                    </a:lnTo>
                    <a:lnTo>
                      <a:pt x="622" y="972"/>
                    </a:lnTo>
                    <a:lnTo>
                      <a:pt x="655" y="958"/>
                    </a:lnTo>
                    <a:lnTo>
                      <a:pt x="693" y="944"/>
                    </a:lnTo>
                    <a:lnTo>
                      <a:pt x="735" y="934"/>
                    </a:lnTo>
                    <a:lnTo>
                      <a:pt x="777" y="920"/>
                    </a:lnTo>
                    <a:lnTo>
                      <a:pt x="815" y="914"/>
                    </a:lnTo>
                    <a:lnTo>
                      <a:pt x="856" y="908"/>
                    </a:lnTo>
                    <a:lnTo>
                      <a:pt x="893" y="906"/>
                    </a:lnTo>
                    <a:lnTo>
                      <a:pt x="929" y="908"/>
                    </a:lnTo>
                    <a:lnTo>
                      <a:pt x="966" y="914"/>
                    </a:lnTo>
                    <a:lnTo>
                      <a:pt x="1004" y="925"/>
                    </a:lnTo>
                    <a:lnTo>
                      <a:pt x="1123" y="815"/>
                    </a:lnTo>
                    <a:lnTo>
                      <a:pt x="1176" y="787"/>
                    </a:lnTo>
                    <a:lnTo>
                      <a:pt x="1389" y="767"/>
                    </a:lnTo>
                    <a:lnTo>
                      <a:pt x="1397" y="715"/>
                    </a:lnTo>
                    <a:lnTo>
                      <a:pt x="1412" y="661"/>
                    </a:lnTo>
                    <a:lnTo>
                      <a:pt x="1421" y="610"/>
                    </a:lnTo>
                    <a:lnTo>
                      <a:pt x="1442" y="558"/>
                    </a:lnTo>
                    <a:lnTo>
                      <a:pt x="1460" y="509"/>
                    </a:lnTo>
                    <a:lnTo>
                      <a:pt x="1489" y="455"/>
                    </a:lnTo>
                    <a:lnTo>
                      <a:pt x="1530" y="406"/>
                    </a:lnTo>
                    <a:lnTo>
                      <a:pt x="1581" y="354"/>
                    </a:lnTo>
                    <a:lnTo>
                      <a:pt x="1624" y="294"/>
                    </a:lnTo>
                    <a:lnTo>
                      <a:pt x="1746" y="228"/>
                    </a:lnTo>
                    <a:lnTo>
                      <a:pt x="1851" y="177"/>
                    </a:lnTo>
                    <a:lnTo>
                      <a:pt x="1905" y="168"/>
                    </a:lnTo>
                    <a:lnTo>
                      <a:pt x="2001" y="139"/>
                    </a:lnTo>
                    <a:lnTo>
                      <a:pt x="2067" y="139"/>
                    </a:lnTo>
                    <a:lnTo>
                      <a:pt x="2100" y="139"/>
                    </a:lnTo>
                    <a:lnTo>
                      <a:pt x="2137" y="139"/>
                    </a:lnTo>
                    <a:lnTo>
                      <a:pt x="2174" y="140"/>
                    </a:lnTo>
                    <a:lnTo>
                      <a:pt x="2211" y="144"/>
                    </a:lnTo>
                    <a:lnTo>
                      <a:pt x="2247" y="154"/>
                    </a:lnTo>
                    <a:lnTo>
                      <a:pt x="2284" y="157"/>
                    </a:lnTo>
                    <a:lnTo>
                      <a:pt x="2319" y="170"/>
                    </a:lnTo>
                    <a:lnTo>
                      <a:pt x="2356" y="182"/>
                    </a:lnTo>
                    <a:lnTo>
                      <a:pt x="2393" y="196"/>
                    </a:lnTo>
                    <a:lnTo>
                      <a:pt x="2430" y="209"/>
                    </a:lnTo>
                    <a:lnTo>
                      <a:pt x="2463" y="229"/>
                    </a:lnTo>
                    <a:lnTo>
                      <a:pt x="2500" y="246"/>
                    </a:lnTo>
                    <a:lnTo>
                      <a:pt x="2534" y="270"/>
                    </a:lnTo>
                    <a:lnTo>
                      <a:pt x="2565" y="294"/>
                    </a:lnTo>
                    <a:lnTo>
                      <a:pt x="2591" y="317"/>
                    </a:lnTo>
                    <a:lnTo>
                      <a:pt x="2622" y="344"/>
                    </a:lnTo>
                    <a:lnTo>
                      <a:pt x="2762" y="205"/>
                    </a:lnTo>
                    <a:lnTo>
                      <a:pt x="2859" y="139"/>
                    </a:lnTo>
                    <a:lnTo>
                      <a:pt x="3028" y="56"/>
                    </a:lnTo>
                    <a:lnTo>
                      <a:pt x="3127" y="28"/>
                    </a:lnTo>
                    <a:lnTo>
                      <a:pt x="3164" y="14"/>
                    </a:lnTo>
                    <a:lnTo>
                      <a:pt x="3201" y="12"/>
                    </a:lnTo>
                    <a:lnTo>
                      <a:pt x="3238" y="2"/>
                    </a:lnTo>
                    <a:lnTo>
                      <a:pt x="3271" y="0"/>
                    </a:lnTo>
                    <a:lnTo>
                      <a:pt x="3308" y="0"/>
                    </a:lnTo>
                    <a:lnTo>
                      <a:pt x="3349" y="0"/>
                    </a:lnTo>
                    <a:lnTo>
                      <a:pt x="3385" y="0"/>
                    </a:lnTo>
                    <a:lnTo>
                      <a:pt x="3424" y="0"/>
                    </a:lnTo>
                    <a:lnTo>
                      <a:pt x="3459" y="5"/>
                    </a:lnTo>
                    <a:lnTo>
                      <a:pt x="3498" y="12"/>
                    </a:lnTo>
                    <a:lnTo>
                      <a:pt x="3536" y="17"/>
                    </a:lnTo>
                    <a:lnTo>
                      <a:pt x="3574" y="23"/>
                    </a:lnTo>
                    <a:lnTo>
                      <a:pt x="3610" y="28"/>
                    </a:lnTo>
                    <a:lnTo>
                      <a:pt x="3648" y="37"/>
                    </a:lnTo>
                    <a:lnTo>
                      <a:pt x="3684" y="42"/>
                    </a:lnTo>
                    <a:lnTo>
                      <a:pt x="3722" y="48"/>
                    </a:lnTo>
                    <a:lnTo>
                      <a:pt x="3892" y="107"/>
                    </a:lnTo>
                    <a:lnTo>
                      <a:pt x="4028" y="228"/>
                    </a:lnTo>
                    <a:lnTo>
                      <a:pt x="4085" y="315"/>
                    </a:lnTo>
                    <a:lnTo>
                      <a:pt x="4182" y="315"/>
                    </a:lnTo>
                    <a:lnTo>
                      <a:pt x="4409" y="382"/>
                    </a:lnTo>
                    <a:lnTo>
                      <a:pt x="4460" y="371"/>
                    </a:lnTo>
                    <a:lnTo>
                      <a:pt x="4512" y="361"/>
                    </a:lnTo>
                    <a:lnTo>
                      <a:pt x="4566" y="354"/>
                    </a:lnTo>
                    <a:lnTo>
                      <a:pt x="4620" y="344"/>
                    </a:lnTo>
                    <a:lnTo>
                      <a:pt x="4674" y="340"/>
                    </a:lnTo>
                    <a:lnTo>
                      <a:pt x="4728" y="333"/>
                    </a:lnTo>
                    <a:lnTo>
                      <a:pt x="4781" y="333"/>
                    </a:lnTo>
                    <a:lnTo>
                      <a:pt x="4834" y="344"/>
                    </a:lnTo>
                    <a:lnTo>
                      <a:pt x="5019" y="391"/>
                    </a:lnTo>
                    <a:lnTo>
                      <a:pt x="5294" y="498"/>
                    </a:lnTo>
                    <a:lnTo>
                      <a:pt x="5371" y="570"/>
                    </a:lnTo>
                    <a:lnTo>
                      <a:pt x="5405" y="640"/>
                    </a:lnTo>
                    <a:lnTo>
                      <a:pt x="5544" y="856"/>
                    </a:lnTo>
                    <a:lnTo>
                      <a:pt x="5572" y="981"/>
                    </a:lnTo>
                    <a:lnTo>
                      <a:pt x="5579" y="1105"/>
                    </a:lnTo>
                    <a:lnTo>
                      <a:pt x="5565" y="1225"/>
                    </a:lnTo>
                    <a:lnTo>
                      <a:pt x="5531" y="1350"/>
                    </a:lnTo>
                    <a:lnTo>
                      <a:pt x="5824" y="1519"/>
                    </a:lnTo>
                    <a:lnTo>
                      <a:pt x="5886" y="1691"/>
                    </a:lnTo>
                    <a:lnTo>
                      <a:pt x="5907" y="1728"/>
                    </a:lnTo>
                    <a:lnTo>
                      <a:pt x="5940" y="1903"/>
                    </a:lnTo>
                    <a:lnTo>
                      <a:pt x="5907" y="2180"/>
                    </a:lnTo>
                    <a:lnTo>
                      <a:pt x="5800" y="2413"/>
                    </a:lnTo>
                    <a:lnTo>
                      <a:pt x="5628" y="2543"/>
                    </a:lnTo>
                    <a:lnTo>
                      <a:pt x="5391" y="2653"/>
                    </a:lnTo>
                    <a:lnTo>
                      <a:pt x="5338" y="2663"/>
                    </a:lnTo>
                    <a:lnTo>
                      <a:pt x="5278" y="2680"/>
                    </a:lnTo>
                    <a:lnTo>
                      <a:pt x="5222" y="2695"/>
                    </a:lnTo>
                    <a:lnTo>
                      <a:pt x="5164" y="2705"/>
                    </a:lnTo>
                    <a:lnTo>
                      <a:pt x="5107" y="2708"/>
                    </a:lnTo>
                    <a:lnTo>
                      <a:pt x="5047" y="2705"/>
                    </a:lnTo>
                    <a:lnTo>
                      <a:pt x="4991" y="2702"/>
                    </a:lnTo>
                    <a:lnTo>
                      <a:pt x="4932" y="2693"/>
                    </a:lnTo>
                    <a:lnTo>
                      <a:pt x="4871" y="2680"/>
                    </a:lnTo>
                    <a:lnTo>
                      <a:pt x="4843" y="2719"/>
                    </a:lnTo>
                    <a:lnTo>
                      <a:pt x="4819" y="2755"/>
                    </a:lnTo>
                    <a:lnTo>
                      <a:pt x="4794" y="2793"/>
                    </a:lnTo>
                    <a:lnTo>
                      <a:pt x="4768" y="2827"/>
                    </a:lnTo>
                    <a:lnTo>
                      <a:pt x="4738" y="2855"/>
                    </a:lnTo>
                    <a:lnTo>
                      <a:pt x="4704" y="2889"/>
                    </a:lnTo>
                    <a:lnTo>
                      <a:pt x="4667" y="2919"/>
                    </a:lnTo>
                    <a:lnTo>
                      <a:pt x="4629" y="2947"/>
                    </a:lnTo>
                    <a:lnTo>
                      <a:pt x="4479" y="3070"/>
                    </a:lnTo>
                    <a:lnTo>
                      <a:pt x="4395" y="3105"/>
                    </a:lnTo>
                    <a:lnTo>
                      <a:pt x="4351" y="3115"/>
                    </a:lnTo>
                    <a:lnTo>
                      <a:pt x="4311" y="3126"/>
                    </a:lnTo>
                    <a:lnTo>
                      <a:pt x="4267" y="3134"/>
                    </a:lnTo>
                    <a:lnTo>
                      <a:pt x="4228" y="3134"/>
                    </a:lnTo>
                    <a:lnTo>
                      <a:pt x="4190" y="3134"/>
                    </a:lnTo>
                    <a:lnTo>
                      <a:pt x="4148" y="3134"/>
                    </a:lnTo>
                    <a:lnTo>
                      <a:pt x="4105" y="3134"/>
                    </a:lnTo>
                    <a:lnTo>
                      <a:pt x="4062" y="3136"/>
                    </a:lnTo>
                    <a:lnTo>
                      <a:pt x="4028" y="3126"/>
                    </a:lnTo>
                    <a:lnTo>
                      <a:pt x="4028" y="3126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66440" y="2197080"/>
                <a:ext cx="2134800" cy="1125360"/>
              </a:xfrm>
              <a:custGeom>
                <a:avLst/>
                <a:gdLst/>
                <a:ahLst/>
                <a:rect l="l" t="t" r="r" b="b"/>
                <a:pathLst>
                  <a:path w="5940" h="3132">
                    <a:moveTo>
                      <a:pt x="4028" y="3124"/>
                    </a:moveTo>
                    <a:lnTo>
                      <a:pt x="3644" y="3014"/>
                    </a:lnTo>
                    <a:lnTo>
                      <a:pt x="3503" y="2913"/>
                    </a:lnTo>
                    <a:lnTo>
                      <a:pt x="3404" y="2954"/>
                    </a:lnTo>
                    <a:lnTo>
                      <a:pt x="3358" y="2983"/>
                    </a:lnTo>
                    <a:lnTo>
                      <a:pt x="3314" y="3009"/>
                    </a:lnTo>
                    <a:lnTo>
                      <a:pt x="3268" y="3028"/>
                    </a:lnTo>
                    <a:lnTo>
                      <a:pt x="3222" y="3051"/>
                    </a:lnTo>
                    <a:lnTo>
                      <a:pt x="3170" y="3072"/>
                    </a:lnTo>
                    <a:lnTo>
                      <a:pt x="3126" y="3082"/>
                    </a:lnTo>
                    <a:lnTo>
                      <a:pt x="3078" y="3092"/>
                    </a:lnTo>
                    <a:lnTo>
                      <a:pt x="3028" y="3094"/>
                    </a:lnTo>
                    <a:lnTo>
                      <a:pt x="2965" y="3094"/>
                    </a:lnTo>
                    <a:lnTo>
                      <a:pt x="2907" y="3094"/>
                    </a:lnTo>
                    <a:lnTo>
                      <a:pt x="2842" y="3090"/>
                    </a:lnTo>
                    <a:lnTo>
                      <a:pt x="2781" y="3075"/>
                    </a:lnTo>
                    <a:lnTo>
                      <a:pt x="2721" y="3054"/>
                    </a:lnTo>
                    <a:lnTo>
                      <a:pt x="2659" y="3028"/>
                    </a:lnTo>
                    <a:lnTo>
                      <a:pt x="2598" y="2999"/>
                    </a:lnTo>
                    <a:lnTo>
                      <a:pt x="2535" y="2965"/>
                    </a:lnTo>
                    <a:lnTo>
                      <a:pt x="2474" y="2924"/>
                    </a:lnTo>
                    <a:lnTo>
                      <a:pt x="2375" y="2789"/>
                    </a:lnTo>
                    <a:lnTo>
                      <a:pt x="2366" y="2772"/>
                    </a:lnTo>
                    <a:lnTo>
                      <a:pt x="2312" y="2801"/>
                    </a:lnTo>
                    <a:lnTo>
                      <a:pt x="2195" y="2875"/>
                    </a:lnTo>
                    <a:lnTo>
                      <a:pt x="2130" y="2896"/>
                    </a:lnTo>
                    <a:lnTo>
                      <a:pt x="1905" y="2924"/>
                    </a:lnTo>
                    <a:lnTo>
                      <a:pt x="1809" y="2924"/>
                    </a:lnTo>
                    <a:lnTo>
                      <a:pt x="1750" y="2921"/>
                    </a:lnTo>
                    <a:lnTo>
                      <a:pt x="1694" y="2913"/>
                    </a:lnTo>
                    <a:lnTo>
                      <a:pt x="1635" y="2910"/>
                    </a:lnTo>
                    <a:lnTo>
                      <a:pt x="1574" y="2899"/>
                    </a:lnTo>
                    <a:lnTo>
                      <a:pt x="1513" y="2888"/>
                    </a:lnTo>
                    <a:lnTo>
                      <a:pt x="1454" y="2872"/>
                    </a:lnTo>
                    <a:lnTo>
                      <a:pt x="1395" y="2851"/>
                    </a:lnTo>
                    <a:lnTo>
                      <a:pt x="1337" y="2832"/>
                    </a:lnTo>
                    <a:lnTo>
                      <a:pt x="1276" y="2804"/>
                    </a:lnTo>
                    <a:lnTo>
                      <a:pt x="1221" y="2776"/>
                    </a:lnTo>
                    <a:lnTo>
                      <a:pt x="1165" y="2744"/>
                    </a:lnTo>
                    <a:lnTo>
                      <a:pt x="1108" y="2707"/>
                    </a:lnTo>
                    <a:lnTo>
                      <a:pt x="1054" y="2663"/>
                    </a:lnTo>
                    <a:lnTo>
                      <a:pt x="1003" y="2619"/>
                    </a:lnTo>
                    <a:lnTo>
                      <a:pt x="952" y="2569"/>
                    </a:lnTo>
                    <a:lnTo>
                      <a:pt x="905" y="2515"/>
                    </a:lnTo>
                    <a:lnTo>
                      <a:pt x="882" y="2454"/>
                    </a:lnTo>
                    <a:lnTo>
                      <a:pt x="851" y="2406"/>
                    </a:lnTo>
                    <a:lnTo>
                      <a:pt x="734" y="2406"/>
                    </a:lnTo>
                    <a:lnTo>
                      <a:pt x="693" y="2406"/>
                    </a:lnTo>
                    <a:lnTo>
                      <a:pt x="651" y="2403"/>
                    </a:lnTo>
                    <a:lnTo>
                      <a:pt x="607" y="2401"/>
                    </a:lnTo>
                    <a:lnTo>
                      <a:pt x="563" y="2393"/>
                    </a:lnTo>
                    <a:lnTo>
                      <a:pt x="520" y="2382"/>
                    </a:lnTo>
                    <a:lnTo>
                      <a:pt x="478" y="2375"/>
                    </a:lnTo>
                    <a:lnTo>
                      <a:pt x="438" y="2362"/>
                    </a:lnTo>
                    <a:lnTo>
                      <a:pt x="395" y="2345"/>
                    </a:lnTo>
                    <a:lnTo>
                      <a:pt x="351" y="2328"/>
                    </a:lnTo>
                    <a:lnTo>
                      <a:pt x="311" y="2310"/>
                    </a:lnTo>
                    <a:lnTo>
                      <a:pt x="267" y="2288"/>
                    </a:lnTo>
                    <a:lnTo>
                      <a:pt x="226" y="2261"/>
                    </a:lnTo>
                    <a:lnTo>
                      <a:pt x="187" y="2228"/>
                    </a:lnTo>
                    <a:lnTo>
                      <a:pt x="148" y="2199"/>
                    </a:lnTo>
                    <a:lnTo>
                      <a:pt x="106" y="2160"/>
                    </a:lnTo>
                    <a:lnTo>
                      <a:pt x="67" y="2120"/>
                    </a:lnTo>
                    <a:lnTo>
                      <a:pt x="21" y="2006"/>
                    </a:lnTo>
                    <a:lnTo>
                      <a:pt x="0" y="1893"/>
                    </a:lnTo>
                    <a:lnTo>
                      <a:pt x="0" y="1783"/>
                    </a:lnTo>
                    <a:lnTo>
                      <a:pt x="16" y="1676"/>
                    </a:lnTo>
                    <a:lnTo>
                      <a:pt x="53" y="1566"/>
                    </a:lnTo>
                    <a:lnTo>
                      <a:pt x="102" y="1461"/>
                    </a:lnTo>
                    <a:lnTo>
                      <a:pt x="167" y="1350"/>
                    </a:lnTo>
                    <a:lnTo>
                      <a:pt x="241" y="1242"/>
                    </a:lnTo>
                    <a:lnTo>
                      <a:pt x="411" y="1085"/>
                    </a:lnTo>
                    <a:lnTo>
                      <a:pt x="447" y="1063"/>
                    </a:lnTo>
                    <a:lnTo>
                      <a:pt x="482" y="1039"/>
                    </a:lnTo>
                    <a:lnTo>
                      <a:pt x="517" y="1019"/>
                    </a:lnTo>
                    <a:lnTo>
                      <a:pt x="552" y="1001"/>
                    </a:lnTo>
                    <a:lnTo>
                      <a:pt x="584" y="988"/>
                    </a:lnTo>
                    <a:lnTo>
                      <a:pt x="622" y="975"/>
                    </a:lnTo>
                    <a:lnTo>
                      <a:pt x="655" y="961"/>
                    </a:lnTo>
                    <a:lnTo>
                      <a:pt x="691" y="948"/>
                    </a:lnTo>
                    <a:lnTo>
                      <a:pt x="731" y="936"/>
                    </a:lnTo>
                    <a:lnTo>
                      <a:pt x="775" y="924"/>
                    </a:lnTo>
                    <a:lnTo>
                      <a:pt x="815" y="914"/>
                    </a:lnTo>
                    <a:lnTo>
                      <a:pt x="855" y="912"/>
                    </a:lnTo>
                    <a:lnTo>
                      <a:pt x="893" y="909"/>
                    </a:lnTo>
                    <a:lnTo>
                      <a:pt x="928" y="912"/>
                    </a:lnTo>
                    <a:lnTo>
                      <a:pt x="965" y="916"/>
                    </a:lnTo>
                    <a:lnTo>
                      <a:pt x="1003" y="926"/>
                    </a:lnTo>
                    <a:lnTo>
                      <a:pt x="1122" y="813"/>
                    </a:lnTo>
                    <a:lnTo>
                      <a:pt x="1175" y="787"/>
                    </a:lnTo>
                    <a:lnTo>
                      <a:pt x="1388" y="764"/>
                    </a:lnTo>
                    <a:lnTo>
                      <a:pt x="1397" y="713"/>
                    </a:lnTo>
                    <a:lnTo>
                      <a:pt x="1411" y="660"/>
                    </a:lnTo>
                    <a:lnTo>
                      <a:pt x="1421" y="611"/>
                    </a:lnTo>
                    <a:lnTo>
                      <a:pt x="1442" y="558"/>
                    </a:lnTo>
                    <a:lnTo>
                      <a:pt x="1460" y="510"/>
                    </a:lnTo>
                    <a:lnTo>
                      <a:pt x="1490" y="459"/>
                    </a:lnTo>
                    <a:lnTo>
                      <a:pt x="1530" y="407"/>
                    </a:lnTo>
                    <a:lnTo>
                      <a:pt x="1581" y="355"/>
                    </a:lnTo>
                    <a:lnTo>
                      <a:pt x="1624" y="295"/>
                    </a:lnTo>
                    <a:lnTo>
                      <a:pt x="1746" y="230"/>
                    </a:lnTo>
                    <a:lnTo>
                      <a:pt x="1851" y="175"/>
                    </a:lnTo>
                    <a:lnTo>
                      <a:pt x="1905" y="168"/>
                    </a:lnTo>
                    <a:lnTo>
                      <a:pt x="1999" y="139"/>
                    </a:lnTo>
                    <a:lnTo>
                      <a:pt x="2067" y="139"/>
                    </a:lnTo>
                    <a:lnTo>
                      <a:pt x="2100" y="139"/>
                    </a:lnTo>
                    <a:lnTo>
                      <a:pt x="2137" y="139"/>
                    </a:lnTo>
                    <a:lnTo>
                      <a:pt x="2171" y="141"/>
                    </a:lnTo>
                    <a:lnTo>
                      <a:pt x="2208" y="147"/>
                    </a:lnTo>
                    <a:lnTo>
                      <a:pt x="2245" y="153"/>
                    </a:lnTo>
                    <a:lnTo>
                      <a:pt x="2283" y="162"/>
                    </a:lnTo>
                    <a:lnTo>
                      <a:pt x="2319" y="174"/>
                    </a:lnTo>
                    <a:lnTo>
                      <a:pt x="2356" y="180"/>
                    </a:lnTo>
                    <a:lnTo>
                      <a:pt x="2394" y="198"/>
                    </a:lnTo>
                    <a:lnTo>
                      <a:pt x="2430" y="214"/>
                    </a:lnTo>
                    <a:lnTo>
                      <a:pt x="2463" y="231"/>
                    </a:lnTo>
                    <a:lnTo>
                      <a:pt x="2498" y="251"/>
                    </a:lnTo>
                    <a:lnTo>
                      <a:pt x="2532" y="269"/>
                    </a:lnTo>
                    <a:lnTo>
                      <a:pt x="2560" y="295"/>
                    </a:lnTo>
                    <a:lnTo>
                      <a:pt x="2593" y="320"/>
                    </a:lnTo>
                    <a:lnTo>
                      <a:pt x="2621" y="346"/>
                    </a:lnTo>
                    <a:lnTo>
                      <a:pt x="2762" y="206"/>
                    </a:lnTo>
                    <a:lnTo>
                      <a:pt x="2858" y="139"/>
                    </a:lnTo>
                    <a:lnTo>
                      <a:pt x="3028" y="59"/>
                    </a:lnTo>
                    <a:lnTo>
                      <a:pt x="3126" y="26"/>
                    </a:lnTo>
                    <a:lnTo>
                      <a:pt x="3161" y="14"/>
                    </a:lnTo>
                    <a:lnTo>
                      <a:pt x="3198" y="10"/>
                    </a:lnTo>
                    <a:lnTo>
                      <a:pt x="3235" y="3"/>
                    </a:lnTo>
                    <a:lnTo>
                      <a:pt x="3271" y="0"/>
                    </a:lnTo>
                    <a:lnTo>
                      <a:pt x="3308" y="0"/>
                    </a:lnTo>
                    <a:lnTo>
                      <a:pt x="3348" y="0"/>
                    </a:lnTo>
                    <a:lnTo>
                      <a:pt x="3385" y="0"/>
                    </a:lnTo>
                    <a:lnTo>
                      <a:pt x="3423" y="1"/>
                    </a:lnTo>
                    <a:lnTo>
                      <a:pt x="3458" y="10"/>
                    </a:lnTo>
                    <a:lnTo>
                      <a:pt x="3495" y="14"/>
                    </a:lnTo>
                    <a:lnTo>
                      <a:pt x="3535" y="22"/>
                    </a:lnTo>
                    <a:lnTo>
                      <a:pt x="3572" y="25"/>
                    </a:lnTo>
                    <a:lnTo>
                      <a:pt x="3608" y="33"/>
                    </a:lnTo>
                    <a:lnTo>
                      <a:pt x="3646" y="37"/>
                    </a:lnTo>
                    <a:lnTo>
                      <a:pt x="3681" y="45"/>
                    </a:lnTo>
                    <a:lnTo>
                      <a:pt x="3717" y="52"/>
                    </a:lnTo>
                    <a:lnTo>
                      <a:pt x="3890" y="110"/>
                    </a:lnTo>
                    <a:lnTo>
                      <a:pt x="4028" y="230"/>
                    </a:lnTo>
                    <a:lnTo>
                      <a:pt x="4084" y="316"/>
                    </a:lnTo>
                    <a:lnTo>
                      <a:pt x="4180" y="316"/>
                    </a:lnTo>
                    <a:lnTo>
                      <a:pt x="4406" y="383"/>
                    </a:lnTo>
                    <a:lnTo>
                      <a:pt x="4457" y="376"/>
                    </a:lnTo>
                    <a:lnTo>
                      <a:pt x="4512" y="366"/>
                    </a:lnTo>
                    <a:lnTo>
                      <a:pt x="4566" y="355"/>
                    </a:lnTo>
                    <a:lnTo>
                      <a:pt x="4619" y="346"/>
                    </a:lnTo>
                    <a:lnTo>
                      <a:pt x="4673" y="341"/>
                    </a:lnTo>
                    <a:lnTo>
                      <a:pt x="4725" y="339"/>
                    </a:lnTo>
                    <a:lnTo>
                      <a:pt x="4780" y="339"/>
                    </a:lnTo>
                    <a:lnTo>
                      <a:pt x="4834" y="346"/>
                    </a:lnTo>
                    <a:lnTo>
                      <a:pt x="5017" y="394"/>
                    </a:lnTo>
                    <a:lnTo>
                      <a:pt x="5292" y="503"/>
                    </a:lnTo>
                    <a:lnTo>
                      <a:pt x="5369" y="572"/>
                    </a:lnTo>
                    <a:lnTo>
                      <a:pt x="5403" y="642"/>
                    </a:lnTo>
                    <a:lnTo>
                      <a:pt x="5544" y="859"/>
                    </a:lnTo>
                    <a:lnTo>
                      <a:pt x="5571" y="979"/>
                    </a:lnTo>
                    <a:lnTo>
                      <a:pt x="5577" y="1105"/>
                    </a:lnTo>
                    <a:lnTo>
                      <a:pt x="5564" y="1224"/>
                    </a:lnTo>
                    <a:lnTo>
                      <a:pt x="5530" y="1350"/>
                    </a:lnTo>
                    <a:lnTo>
                      <a:pt x="5822" y="1521"/>
                    </a:lnTo>
                    <a:lnTo>
                      <a:pt x="5885" y="1692"/>
                    </a:lnTo>
                    <a:lnTo>
                      <a:pt x="5907" y="1726"/>
                    </a:lnTo>
                    <a:lnTo>
                      <a:pt x="5939" y="1904"/>
                    </a:lnTo>
                    <a:lnTo>
                      <a:pt x="5907" y="2178"/>
                    </a:lnTo>
                    <a:lnTo>
                      <a:pt x="5798" y="2415"/>
                    </a:lnTo>
                    <a:lnTo>
                      <a:pt x="5625" y="2543"/>
                    </a:lnTo>
                    <a:lnTo>
                      <a:pt x="5390" y="2652"/>
                    </a:lnTo>
                    <a:lnTo>
                      <a:pt x="5336" y="2662"/>
                    </a:lnTo>
                    <a:lnTo>
                      <a:pt x="5276" y="2682"/>
                    </a:lnTo>
                    <a:lnTo>
                      <a:pt x="5216" y="2697"/>
                    </a:lnTo>
                    <a:lnTo>
                      <a:pt x="5161" y="2702"/>
                    </a:lnTo>
                    <a:lnTo>
                      <a:pt x="5106" y="2707"/>
                    </a:lnTo>
                    <a:lnTo>
                      <a:pt x="5046" y="2702"/>
                    </a:lnTo>
                    <a:lnTo>
                      <a:pt x="4989" y="2699"/>
                    </a:lnTo>
                    <a:lnTo>
                      <a:pt x="4929" y="2694"/>
                    </a:lnTo>
                    <a:lnTo>
                      <a:pt x="4871" y="2682"/>
                    </a:lnTo>
                    <a:lnTo>
                      <a:pt x="4842" y="2721"/>
                    </a:lnTo>
                    <a:lnTo>
                      <a:pt x="4818" y="2756"/>
                    </a:lnTo>
                    <a:lnTo>
                      <a:pt x="4793" y="2792"/>
                    </a:lnTo>
                    <a:lnTo>
                      <a:pt x="4767" y="2827"/>
                    </a:lnTo>
                    <a:lnTo>
                      <a:pt x="4737" y="2854"/>
                    </a:lnTo>
                    <a:lnTo>
                      <a:pt x="4703" y="2886"/>
                    </a:lnTo>
                    <a:lnTo>
                      <a:pt x="4667" y="2913"/>
                    </a:lnTo>
                    <a:lnTo>
                      <a:pt x="4629" y="2947"/>
                    </a:lnTo>
                    <a:lnTo>
                      <a:pt x="4478" y="3064"/>
                    </a:lnTo>
                    <a:lnTo>
                      <a:pt x="4391" y="3101"/>
                    </a:lnTo>
                    <a:lnTo>
                      <a:pt x="4350" y="3114"/>
                    </a:lnTo>
                    <a:lnTo>
                      <a:pt x="4312" y="3124"/>
                    </a:lnTo>
                    <a:lnTo>
                      <a:pt x="4268" y="3130"/>
                    </a:lnTo>
                    <a:lnTo>
                      <a:pt x="4227" y="3130"/>
                    </a:lnTo>
                    <a:lnTo>
                      <a:pt x="4188" y="3130"/>
                    </a:lnTo>
                    <a:lnTo>
                      <a:pt x="4146" y="3130"/>
                    </a:lnTo>
                    <a:lnTo>
                      <a:pt x="4105" y="3130"/>
                    </a:lnTo>
                    <a:lnTo>
                      <a:pt x="4060" y="3131"/>
                    </a:lnTo>
                    <a:lnTo>
                      <a:pt x="4028" y="3124"/>
                    </a:lnTo>
                    <a:lnTo>
                      <a:pt x="4028" y="3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3526920" y="2244240"/>
                <a:ext cx="2001240" cy="1027080"/>
                <a:chOff x="3526920" y="2244240"/>
                <a:chExt cx="2001240" cy="10270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526920" y="2244240"/>
                  <a:ext cx="1999440" cy="1027080"/>
                </a:xfrm>
                <a:custGeom>
                  <a:avLst/>
                  <a:gdLst/>
                  <a:ahLst/>
                  <a:rect l="l" t="t" r="r" b="b"/>
                  <a:pathLst>
                    <a:path w="5571" h="2864">
                      <a:moveTo>
                        <a:pt x="3916" y="2857"/>
                      </a:moveTo>
                      <a:lnTo>
                        <a:pt x="3619" y="2774"/>
                      </a:lnTo>
                      <a:lnTo>
                        <a:pt x="3529" y="2709"/>
                      </a:lnTo>
                      <a:lnTo>
                        <a:pt x="3449" y="2599"/>
                      </a:lnTo>
                      <a:lnTo>
                        <a:pt x="3391" y="2561"/>
                      </a:lnTo>
                      <a:lnTo>
                        <a:pt x="3295" y="2573"/>
                      </a:lnTo>
                      <a:lnTo>
                        <a:pt x="3080" y="2748"/>
                      </a:lnTo>
                      <a:lnTo>
                        <a:pt x="3030" y="2772"/>
                      </a:lnTo>
                      <a:lnTo>
                        <a:pt x="2981" y="2792"/>
                      </a:lnTo>
                      <a:lnTo>
                        <a:pt x="2932" y="2801"/>
                      </a:lnTo>
                      <a:lnTo>
                        <a:pt x="2881" y="2813"/>
                      </a:lnTo>
                      <a:lnTo>
                        <a:pt x="2835" y="2821"/>
                      </a:lnTo>
                      <a:lnTo>
                        <a:pt x="2785" y="2824"/>
                      </a:lnTo>
                      <a:lnTo>
                        <a:pt x="2738" y="2821"/>
                      </a:lnTo>
                      <a:lnTo>
                        <a:pt x="2685" y="2813"/>
                      </a:lnTo>
                      <a:lnTo>
                        <a:pt x="2408" y="2638"/>
                      </a:lnTo>
                      <a:lnTo>
                        <a:pt x="2376" y="2561"/>
                      </a:lnTo>
                      <a:lnTo>
                        <a:pt x="2317" y="2506"/>
                      </a:lnTo>
                      <a:lnTo>
                        <a:pt x="2300" y="2445"/>
                      </a:lnTo>
                      <a:lnTo>
                        <a:pt x="2192" y="2425"/>
                      </a:lnTo>
                      <a:lnTo>
                        <a:pt x="2149" y="2445"/>
                      </a:lnTo>
                      <a:lnTo>
                        <a:pt x="1935" y="2610"/>
                      </a:lnTo>
                      <a:lnTo>
                        <a:pt x="1882" y="2622"/>
                      </a:lnTo>
                      <a:lnTo>
                        <a:pt x="1817" y="2638"/>
                      </a:lnTo>
                      <a:lnTo>
                        <a:pt x="1753" y="2653"/>
                      </a:lnTo>
                      <a:lnTo>
                        <a:pt x="1687" y="2659"/>
                      </a:lnTo>
                      <a:lnTo>
                        <a:pt x="1626" y="2659"/>
                      </a:lnTo>
                      <a:lnTo>
                        <a:pt x="1560" y="2657"/>
                      </a:lnTo>
                      <a:lnTo>
                        <a:pt x="1498" y="2645"/>
                      </a:lnTo>
                      <a:lnTo>
                        <a:pt x="1430" y="2636"/>
                      </a:lnTo>
                      <a:lnTo>
                        <a:pt x="1368" y="2622"/>
                      </a:lnTo>
                      <a:lnTo>
                        <a:pt x="1023" y="2445"/>
                      </a:lnTo>
                      <a:lnTo>
                        <a:pt x="938" y="2348"/>
                      </a:lnTo>
                      <a:lnTo>
                        <a:pt x="841" y="2170"/>
                      </a:lnTo>
                      <a:lnTo>
                        <a:pt x="841" y="2102"/>
                      </a:lnTo>
                      <a:lnTo>
                        <a:pt x="745" y="2051"/>
                      </a:lnTo>
                      <a:lnTo>
                        <a:pt x="664" y="2083"/>
                      </a:lnTo>
                      <a:lnTo>
                        <a:pt x="607" y="2131"/>
                      </a:lnTo>
                      <a:lnTo>
                        <a:pt x="548" y="2140"/>
                      </a:lnTo>
                      <a:lnTo>
                        <a:pt x="483" y="2140"/>
                      </a:lnTo>
                      <a:lnTo>
                        <a:pt x="411" y="2129"/>
                      </a:lnTo>
                      <a:lnTo>
                        <a:pt x="335" y="2106"/>
                      </a:lnTo>
                      <a:lnTo>
                        <a:pt x="261" y="2078"/>
                      </a:lnTo>
                      <a:lnTo>
                        <a:pt x="187" y="2037"/>
                      </a:lnTo>
                      <a:lnTo>
                        <a:pt x="125" y="1985"/>
                      </a:lnTo>
                      <a:lnTo>
                        <a:pt x="72" y="1926"/>
                      </a:lnTo>
                      <a:lnTo>
                        <a:pt x="33" y="1856"/>
                      </a:lnTo>
                      <a:lnTo>
                        <a:pt x="0" y="1697"/>
                      </a:lnTo>
                      <a:lnTo>
                        <a:pt x="5" y="1607"/>
                      </a:lnTo>
                      <a:lnTo>
                        <a:pt x="26" y="1513"/>
                      </a:lnTo>
                      <a:lnTo>
                        <a:pt x="60" y="1428"/>
                      </a:lnTo>
                      <a:lnTo>
                        <a:pt x="114" y="1332"/>
                      </a:lnTo>
                      <a:lnTo>
                        <a:pt x="175" y="1243"/>
                      </a:lnTo>
                      <a:lnTo>
                        <a:pt x="252" y="1158"/>
                      </a:lnTo>
                      <a:lnTo>
                        <a:pt x="342" y="1077"/>
                      </a:lnTo>
                      <a:lnTo>
                        <a:pt x="448" y="1003"/>
                      </a:lnTo>
                      <a:lnTo>
                        <a:pt x="631" y="921"/>
                      </a:lnTo>
                      <a:lnTo>
                        <a:pt x="789" y="904"/>
                      </a:lnTo>
                      <a:lnTo>
                        <a:pt x="821" y="935"/>
                      </a:lnTo>
                      <a:lnTo>
                        <a:pt x="905" y="963"/>
                      </a:lnTo>
                      <a:lnTo>
                        <a:pt x="983" y="938"/>
                      </a:lnTo>
                      <a:lnTo>
                        <a:pt x="1005" y="881"/>
                      </a:lnTo>
                      <a:lnTo>
                        <a:pt x="1130" y="754"/>
                      </a:lnTo>
                      <a:lnTo>
                        <a:pt x="1185" y="761"/>
                      </a:lnTo>
                      <a:lnTo>
                        <a:pt x="1326" y="823"/>
                      </a:lnTo>
                      <a:lnTo>
                        <a:pt x="1392" y="744"/>
                      </a:lnTo>
                      <a:lnTo>
                        <a:pt x="1392" y="689"/>
                      </a:lnTo>
                      <a:lnTo>
                        <a:pt x="1392" y="628"/>
                      </a:lnTo>
                      <a:lnTo>
                        <a:pt x="1397" y="568"/>
                      </a:lnTo>
                      <a:lnTo>
                        <a:pt x="1407" y="512"/>
                      </a:lnTo>
                      <a:lnTo>
                        <a:pt x="1428" y="454"/>
                      </a:lnTo>
                      <a:lnTo>
                        <a:pt x="1458" y="400"/>
                      </a:lnTo>
                      <a:lnTo>
                        <a:pt x="1505" y="341"/>
                      </a:lnTo>
                      <a:lnTo>
                        <a:pt x="1563" y="285"/>
                      </a:lnTo>
                      <a:lnTo>
                        <a:pt x="1583" y="262"/>
                      </a:lnTo>
                      <a:lnTo>
                        <a:pt x="1607" y="239"/>
                      </a:lnTo>
                      <a:lnTo>
                        <a:pt x="1633" y="216"/>
                      </a:lnTo>
                      <a:lnTo>
                        <a:pt x="1662" y="197"/>
                      </a:lnTo>
                      <a:lnTo>
                        <a:pt x="1686" y="179"/>
                      </a:lnTo>
                      <a:lnTo>
                        <a:pt x="1710" y="165"/>
                      </a:lnTo>
                      <a:lnTo>
                        <a:pt x="1739" y="158"/>
                      </a:lnTo>
                      <a:lnTo>
                        <a:pt x="1765" y="148"/>
                      </a:lnTo>
                      <a:lnTo>
                        <a:pt x="1906" y="115"/>
                      </a:lnTo>
                      <a:lnTo>
                        <a:pt x="1961" y="121"/>
                      </a:lnTo>
                      <a:lnTo>
                        <a:pt x="2014" y="126"/>
                      </a:lnTo>
                      <a:lnTo>
                        <a:pt x="2071" y="138"/>
                      </a:lnTo>
                      <a:lnTo>
                        <a:pt x="2121" y="152"/>
                      </a:lnTo>
                      <a:lnTo>
                        <a:pt x="2176" y="178"/>
                      </a:lnTo>
                      <a:lnTo>
                        <a:pt x="2225" y="204"/>
                      </a:lnTo>
                      <a:lnTo>
                        <a:pt x="2280" y="236"/>
                      </a:lnTo>
                      <a:lnTo>
                        <a:pt x="2332" y="273"/>
                      </a:lnTo>
                      <a:lnTo>
                        <a:pt x="2419" y="417"/>
                      </a:lnTo>
                      <a:lnTo>
                        <a:pt x="2463" y="440"/>
                      </a:lnTo>
                      <a:lnTo>
                        <a:pt x="2481" y="426"/>
                      </a:lnTo>
                      <a:lnTo>
                        <a:pt x="2506" y="409"/>
                      </a:lnTo>
                      <a:lnTo>
                        <a:pt x="2535" y="409"/>
                      </a:lnTo>
                      <a:lnTo>
                        <a:pt x="2569" y="359"/>
                      </a:lnTo>
                      <a:lnTo>
                        <a:pt x="2608" y="312"/>
                      </a:lnTo>
                      <a:lnTo>
                        <a:pt x="2653" y="264"/>
                      </a:lnTo>
                      <a:lnTo>
                        <a:pt x="2698" y="216"/>
                      </a:lnTo>
                      <a:lnTo>
                        <a:pt x="2748" y="174"/>
                      </a:lnTo>
                      <a:lnTo>
                        <a:pt x="2798" y="135"/>
                      </a:lnTo>
                      <a:lnTo>
                        <a:pt x="2852" y="103"/>
                      </a:lnTo>
                      <a:lnTo>
                        <a:pt x="2908" y="78"/>
                      </a:lnTo>
                      <a:lnTo>
                        <a:pt x="2976" y="58"/>
                      </a:lnTo>
                      <a:lnTo>
                        <a:pt x="3013" y="39"/>
                      </a:lnTo>
                      <a:lnTo>
                        <a:pt x="3054" y="24"/>
                      </a:lnTo>
                      <a:lnTo>
                        <a:pt x="3093" y="17"/>
                      </a:lnTo>
                      <a:lnTo>
                        <a:pt x="3134" y="8"/>
                      </a:lnTo>
                      <a:lnTo>
                        <a:pt x="3174" y="6"/>
                      </a:lnTo>
                      <a:lnTo>
                        <a:pt x="3214" y="0"/>
                      </a:lnTo>
                      <a:lnTo>
                        <a:pt x="3253" y="6"/>
                      </a:lnTo>
                      <a:lnTo>
                        <a:pt x="3298" y="8"/>
                      </a:lnTo>
                      <a:lnTo>
                        <a:pt x="3338" y="13"/>
                      </a:lnTo>
                      <a:lnTo>
                        <a:pt x="3379" y="22"/>
                      </a:lnTo>
                      <a:lnTo>
                        <a:pt x="3419" y="34"/>
                      </a:lnTo>
                      <a:lnTo>
                        <a:pt x="3457" y="45"/>
                      </a:lnTo>
                      <a:lnTo>
                        <a:pt x="3497" y="58"/>
                      </a:lnTo>
                      <a:lnTo>
                        <a:pt x="3538" y="73"/>
                      </a:lnTo>
                      <a:lnTo>
                        <a:pt x="3578" y="89"/>
                      </a:lnTo>
                      <a:lnTo>
                        <a:pt x="3619" y="109"/>
                      </a:lnTo>
                      <a:lnTo>
                        <a:pt x="3680" y="148"/>
                      </a:lnTo>
                      <a:lnTo>
                        <a:pt x="3735" y="225"/>
                      </a:lnTo>
                      <a:lnTo>
                        <a:pt x="3767" y="312"/>
                      </a:lnTo>
                      <a:lnTo>
                        <a:pt x="3767" y="331"/>
                      </a:lnTo>
                      <a:lnTo>
                        <a:pt x="3866" y="371"/>
                      </a:lnTo>
                      <a:lnTo>
                        <a:pt x="3896" y="378"/>
                      </a:lnTo>
                      <a:lnTo>
                        <a:pt x="3967" y="324"/>
                      </a:lnTo>
                      <a:lnTo>
                        <a:pt x="3988" y="312"/>
                      </a:lnTo>
                      <a:lnTo>
                        <a:pt x="4066" y="331"/>
                      </a:lnTo>
                      <a:lnTo>
                        <a:pt x="4140" y="378"/>
                      </a:lnTo>
                      <a:lnTo>
                        <a:pt x="4185" y="417"/>
                      </a:lnTo>
                      <a:lnTo>
                        <a:pt x="4291" y="409"/>
                      </a:lnTo>
                      <a:lnTo>
                        <a:pt x="4409" y="361"/>
                      </a:lnTo>
                      <a:lnTo>
                        <a:pt x="4444" y="354"/>
                      </a:lnTo>
                      <a:lnTo>
                        <a:pt x="4480" y="349"/>
                      </a:lnTo>
                      <a:lnTo>
                        <a:pt x="4515" y="341"/>
                      </a:lnTo>
                      <a:lnTo>
                        <a:pt x="4552" y="341"/>
                      </a:lnTo>
                      <a:lnTo>
                        <a:pt x="4589" y="341"/>
                      </a:lnTo>
                      <a:lnTo>
                        <a:pt x="4622" y="341"/>
                      </a:lnTo>
                      <a:lnTo>
                        <a:pt x="4659" y="349"/>
                      </a:lnTo>
                      <a:lnTo>
                        <a:pt x="4695" y="354"/>
                      </a:lnTo>
                      <a:lnTo>
                        <a:pt x="4730" y="361"/>
                      </a:lnTo>
                      <a:lnTo>
                        <a:pt x="4766" y="374"/>
                      </a:lnTo>
                      <a:lnTo>
                        <a:pt x="4801" y="386"/>
                      </a:lnTo>
                      <a:lnTo>
                        <a:pt x="4835" y="400"/>
                      </a:lnTo>
                      <a:lnTo>
                        <a:pt x="4873" y="412"/>
                      </a:lnTo>
                      <a:lnTo>
                        <a:pt x="4908" y="428"/>
                      </a:lnTo>
                      <a:lnTo>
                        <a:pt x="4943" y="448"/>
                      </a:lnTo>
                      <a:lnTo>
                        <a:pt x="4979" y="466"/>
                      </a:lnTo>
                      <a:lnTo>
                        <a:pt x="5093" y="615"/>
                      </a:lnTo>
                      <a:lnTo>
                        <a:pt x="5188" y="815"/>
                      </a:lnTo>
                      <a:lnTo>
                        <a:pt x="5209" y="1013"/>
                      </a:lnTo>
                      <a:lnTo>
                        <a:pt x="5110" y="1238"/>
                      </a:lnTo>
                      <a:lnTo>
                        <a:pt x="5125" y="1292"/>
                      </a:lnTo>
                      <a:lnTo>
                        <a:pt x="5135" y="1327"/>
                      </a:lnTo>
                      <a:lnTo>
                        <a:pt x="5156" y="1338"/>
                      </a:lnTo>
                      <a:lnTo>
                        <a:pt x="5326" y="1356"/>
                      </a:lnTo>
                      <a:lnTo>
                        <a:pt x="5465" y="1443"/>
                      </a:lnTo>
                      <a:lnTo>
                        <a:pt x="5512" y="1540"/>
                      </a:lnTo>
                      <a:lnTo>
                        <a:pt x="5547" y="1634"/>
                      </a:lnTo>
                      <a:lnTo>
                        <a:pt x="5567" y="1731"/>
                      </a:lnTo>
                      <a:lnTo>
                        <a:pt x="5570" y="1823"/>
                      </a:lnTo>
                      <a:lnTo>
                        <a:pt x="5560" y="1922"/>
                      </a:lnTo>
                      <a:lnTo>
                        <a:pt x="5536" y="2012"/>
                      </a:lnTo>
                      <a:lnTo>
                        <a:pt x="5503" y="2106"/>
                      </a:lnTo>
                      <a:lnTo>
                        <a:pt x="5456" y="2202"/>
                      </a:lnTo>
                      <a:lnTo>
                        <a:pt x="5362" y="2302"/>
                      </a:lnTo>
                      <a:lnTo>
                        <a:pt x="5295" y="2338"/>
                      </a:lnTo>
                      <a:lnTo>
                        <a:pt x="5100" y="2418"/>
                      </a:lnTo>
                      <a:lnTo>
                        <a:pt x="5049" y="2425"/>
                      </a:lnTo>
                      <a:lnTo>
                        <a:pt x="4957" y="2454"/>
                      </a:lnTo>
                      <a:lnTo>
                        <a:pt x="4890" y="2454"/>
                      </a:lnTo>
                      <a:lnTo>
                        <a:pt x="4679" y="2380"/>
                      </a:lnTo>
                      <a:lnTo>
                        <a:pt x="4591" y="2367"/>
                      </a:lnTo>
                      <a:lnTo>
                        <a:pt x="4546" y="2396"/>
                      </a:lnTo>
                      <a:lnTo>
                        <a:pt x="4528" y="2449"/>
                      </a:lnTo>
                      <a:lnTo>
                        <a:pt x="4502" y="2510"/>
                      </a:lnTo>
                      <a:lnTo>
                        <a:pt x="4465" y="2568"/>
                      </a:lnTo>
                      <a:lnTo>
                        <a:pt x="4420" y="2624"/>
                      </a:lnTo>
                      <a:lnTo>
                        <a:pt x="4371" y="2682"/>
                      </a:lnTo>
                      <a:lnTo>
                        <a:pt x="4314" y="2733"/>
                      </a:lnTo>
                      <a:lnTo>
                        <a:pt x="4254" y="2783"/>
                      </a:lnTo>
                      <a:lnTo>
                        <a:pt x="4185" y="2824"/>
                      </a:lnTo>
                      <a:lnTo>
                        <a:pt x="3936" y="2863"/>
                      </a:lnTo>
                      <a:lnTo>
                        <a:pt x="3916" y="2857"/>
                      </a:lnTo>
                      <a:lnTo>
                        <a:pt x="3916" y="28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526920" y="2393280"/>
                  <a:ext cx="2001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networ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lou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5" name=""/>
            <p:cNvSpPr/>
            <p:nvPr/>
          </p:nvSpPr>
          <p:spPr>
            <a:xfrm rot="16200000">
              <a:off x="762480" y="2726280"/>
              <a:ext cx="2711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.m cartograph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5919120" y="3579840"/>
              <a:ext cx="271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.n explor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10240" y="1882800"/>
              <a:ext cx="1220040" cy="5256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738880" y="2751120"/>
              <a:ext cx="962640" cy="1015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653200" y="3013200"/>
              <a:ext cx="1219680" cy="11541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215440" y="1619280"/>
              <a:ext cx="723240" cy="3088800"/>
              <a:chOff x="2215440" y="1619280"/>
              <a:chExt cx="723240" cy="3088800"/>
            </a:xfrm>
          </p:grpSpPr>
          <p:sp>
            <p:nvSpPr>
              <p:cNvPr id="321" name=""/>
              <p:cNvSpPr/>
              <p:nvPr/>
            </p:nvSpPr>
            <p:spPr>
              <a:xfrm>
                <a:off x="2215440" y="3976920"/>
                <a:ext cx="723240" cy="731160"/>
              </a:xfrm>
              <a:custGeom>
                <a:avLst/>
                <a:gdLst>
                  <a:gd name="textAreaLeft" fmla="*/ 360 w 723240"/>
                  <a:gd name="textAreaRight" fmla="*/ 722880 w 723240"/>
                  <a:gd name="textAreaTop" fmla="*/ 360 h 731160"/>
                  <a:gd name="textAreaBottom" fmla="*/ 730800 h 731160"/>
                </a:gdLst>
                <a:ahLst/>
                <a:rect l="textAreaLeft" t="textAreaTop" r="textAreaRight" b="textAreaBottom"/>
                <a:pathLst>
                  <a:path w="21600" h="21836">
                    <a:moveTo>
                      <a:pt x="47" y="0"/>
                    </a:moveTo>
                    <a:arcTo wR="47" hR="47" stAng="16200000" swAng="-5400000"/>
                    <a:lnTo>
                      <a:pt x="0" y="21789"/>
                    </a:lnTo>
                    <a:arcTo wR="47" hR="47" stAng="10800000" swAng="-5400000"/>
                    <a:lnTo>
                      <a:pt x="21553" y="21836"/>
                    </a:lnTo>
                    <a:arcTo wR="47" hR="47" stAng="5400000" swAng="-5400000"/>
                    <a:lnTo>
                      <a:pt x="21600" y="47"/>
                    </a:lnTo>
                    <a:arcTo wR="47" hR="47" stAng="0" swAng="-5400000"/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15440" y="1619280"/>
                <a:ext cx="723240" cy="731160"/>
              </a:xfrm>
              <a:custGeom>
                <a:avLst/>
                <a:gdLst>
                  <a:gd name="textAreaLeft" fmla="*/ 360 w 723240"/>
                  <a:gd name="textAreaRight" fmla="*/ 722880 w 723240"/>
                  <a:gd name="textAreaTop" fmla="*/ 360 h 731160"/>
                  <a:gd name="textAreaBottom" fmla="*/ 730800 h 731160"/>
                </a:gdLst>
                <a:ahLst/>
                <a:rect l="textAreaLeft" t="textAreaTop" r="textAreaRight" b="textAreaBottom"/>
                <a:pathLst>
                  <a:path w="21600" h="21836">
                    <a:moveTo>
                      <a:pt x="47" y="0"/>
                    </a:moveTo>
                    <a:arcTo wR="47" hR="47" stAng="16200000" swAng="-5400000"/>
                    <a:lnTo>
                      <a:pt x="0" y="21789"/>
                    </a:lnTo>
                    <a:arcTo wR="47" hR="47" stAng="10800000" swAng="-5400000"/>
                    <a:lnTo>
                      <a:pt x="21553" y="21836"/>
                    </a:lnTo>
                    <a:arcTo wR="47" hR="47" stAng="5400000" swAng="-5400000"/>
                    <a:lnTo>
                      <a:pt x="21600" y="47"/>
                    </a:lnTo>
                    <a:arcTo wR="47" hR="47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15440" y="2494800"/>
                <a:ext cx="723240" cy="731160"/>
              </a:xfrm>
              <a:custGeom>
                <a:avLst/>
                <a:gdLst>
                  <a:gd name="textAreaLeft" fmla="*/ 360 w 723240"/>
                  <a:gd name="textAreaRight" fmla="*/ 722880 w 723240"/>
                  <a:gd name="textAreaTop" fmla="*/ 360 h 731160"/>
                  <a:gd name="textAreaBottom" fmla="*/ 730800 h 731160"/>
                </a:gdLst>
                <a:ahLst/>
                <a:rect l="textAreaLeft" t="textAreaTop" r="textAreaRight" b="textAreaBottom"/>
                <a:pathLst>
                  <a:path w="21600" h="21836">
                    <a:moveTo>
                      <a:pt x="47" y="0"/>
                    </a:moveTo>
                    <a:arcTo wR="47" hR="47" stAng="16200000" swAng="-5400000"/>
                    <a:lnTo>
                      <a:pt x="0" y="21789"/>
                    </a:lnTo>
                    <a:arcTo wR="47" hR="47" stAng="10800000" swAng="-5400000"/>
                    <a:lnTo>
                      <a:pt x="21553" y="21836"/>
                    </a:lnTo>
                    <a:arcTo wR="47" hR="47" stAng="5400000" swAng="-5400000"/>
                    <a:lnTo>
                      <a:pt x="21600" y="47"/>
                    </a:lnTo>
                    <a:arcTo wR="47" hR="47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2531880" y="3453480"/>
                <a:ext cx="75960" cy="340560"/>
                <a:chOff x="2531880" y="3453480"/>
                <a:chExt cx="75960" cy="3405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2531880" y="3578400"/>
                  <a:ext cx="75960" cy="83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531880" y="3710160"/>
                  <a:ext cx="75960" cy="83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531880" y="3453480"/>
                  <a:ext cx="75960" cy="83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" name=""/>
            <p:cNvSpPr/>
            <p:nvPr/>
          </p:nvSpPr>
          <p:spPr>
            <a:xfrm flipV="1">
              <a:off x="5089320" y="1874880"/>
              <a:ext cx="1305360" cy="6285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63920" y="2759040"/>
              <a:ext cx="1218240" cy="1746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63920" y="3022560"/>
              <a:ext cx="1305360" cy="1225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279120" y="1708200"/>
              <a:ext cx="723240" cy="3088800"/>
              <a:chOff x="6279120" y="1708200"/>
              <a:chExt cx="723240" cy="3088800"/>
            </a:xfrm>
          </p:grpSpPr>
          <p:sp>
            <p:nvSpPr>
              <p:cNvPr id="332" name=""/>
              <p:cNvSpPr/>
              <p:nvPr/>
            </p:nvSpPr>
            <p:spPr>
              <a:xfrm>
                <a:off x="6279120" y="4065840"/>
                <a:ext cx="723240" cy="731160"/>
              </a:xfrm>
              <a:custGeom>
                <a:avLst/>
                <a:gdLst>
                  <a:gd name="textAreaLeft" fmla="*/ 360 w 723240"/>
                  <a:gd name="textAreaRight" fmla="*/ 722880 w 723240"/>
                  <a:gd name="textAreaTop" fmla="*/ 360 h 731160"/>
                  <a:gd name="textAreaBottom" fmla="*/ 730800 h 731160"/>
                </a:gdLst>
                <a:ahLst/>
                <a:rect l="textAreaLeft" t="textAreaTop" r="textAreaRight" b="textAreaBottom"/>
                <a:pathLst>
                  <a:path w="21600" h="21836">
                    <a:moveTo>
                      <a:pt x="47" y="0"/>
                    </a:moveTo>
                    <a:arcTo wR="47" hR="47" stAng="16200000" swAng="-5400000"/>
                    <a:lnTo>
                      <a:pt x="0" y="21789"/>
                    </a:lnTo>
                    <a:arcTo wR="47" hR="47" stAng="10800000" swAng="-5400000"/>
                    <a:lnTo>
                      <a:pt x="21553" y="21836"/>
                    </a:lnTo>
                    <a:arcTo wR="47" hR="47" stAng="5400000" swAng="-5400000"/>
                    <a:lnTo>
                      <a:pt x="21600" y="47"/>
                    </a:lnTo>
                    <a:arcTo wR="47" hR="47" stAng="0" swAng="-5400000"/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79120" y="1708200"/>
                <a:ext cx="723240" cy="731160"/>
              </a:xfrm>
              <a:custGeom>
                <a:avLst/>
                <a:gdLst>
                  <a:gd name="textAreaLeft" fmla="*/ 360 w 723240"/>
                  <a:gd name="textAreaRight" fmla="*/ 722880 w 723240"/>
                  <a:gd name="textAreaTop" fmla="*/ 360 h 731160"/>
                  <a:gd name="textAreaBottom" fmla="*/ 730800 h 731160"/>
                </a:gdLst>
                <a:ahLst/>
                <a:rect l="textAreaLeft" t="textAreaTop" r="textAreaRight" b="textAreaBottom"/>
                <a:pathLst>
                  <a:path w="21600" h="21836">
                    <a:moveTo>
                      <a:pt x="47" y="0"/>
                    </a:moveTo>
                    <a:arcTo wR="47" hR="47" stAng="16200000" swAng="-5400000"/>
                    <a:lnTo>
                      <a:pt x="0" y="21789"/>
                    </a:lnTo>
                    <a:arcTo wR="47" hR="47" stAng="10800000" swAng="-5400000"/>
                    <a:lnTo>
                      <a:pt x="21553" y="21836"/>
                    </a:lnTo>
                    <a:arcTo wR="47" hR="47" stAng="5400000" swAng="-5400000"/>
                    <a:lnTo>
                      <a:pt x="21600" y="47"/>
                    </a:lnTo>
                    <a:arcTo wR="47" hR="47" stAng="0" swAng="-5400000"/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79120" y="2583720"/>
                <a:ext cx="723240" cy="731160"/>
              </a:xfrm>
              <a:custGeom>
                <a:avLst/>
                <a:gdLst>
                  <a:gd name="textAreaLeft" fmla="*/ 360 w 723240"/>
                  <a:gd name="textAreaRight" fmla="*/ 722880 w 723240"/>
                  <a:gd name="textAreaTop" fmla="*/ 360 h 731160"/>
                  <a:gd name="textAreaBottom" fmla="*/ 730800 h 731160"/>
                </a:gdLst>
                <a:ahLst/>
                <a:rect l="textAreaLeft" t="textAreaTop" r="textAreaRight" b="textAreaBottom"/>
                <a:pathLst>
                  <a:path w="21600" h="21836">
                    <a:moveTo>
                      <a:pt x="47" y="0"/>
                    </a:moveTo>
                    <a:arcTo wR="47" hR="47" stAng="16200000" swAng="-5400000"/>
                    <a:lnTo>
                      <a:pt x="0" y="21789"/>
                    </a:lnTo>
                    <a:arcTo wR="47" hR="47" stAng="10800000" swAng="-5400000"/>
                    <a:lnTo>
                      <a:pt x="21553" y="21836"/>
                    </a:lnTo>
                    <a:arcTo wR="47" hR="47" stAng="5400000" swAng="-5400000"/>
                    <a:lnTo>
                      <a:pt x="21600" y="47"/>
                    </a:lnTo>
                    <a:arcTo wR="47" hR="47" stAng="0" swAng="-5400000"/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6595560" y="3542400"/>
                <a:ext cx="75600" cy="340560"/>
                <a:chOff x="6595560" y="3542400"/>
                <a:chExt cx="75600" cy="3405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595560" y="3667320"/>
                  <a:ext cx="75600" cy="83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95560" y="3799080"/>
                  <a:ext cx="75600" cy="83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95560" y="3542400"/>
                  <a:ext cx="75600" cy="83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 flipH="1" flipV="1">
              <a:off x="4994640" y="3100320"/>
              <a:ext cx="626400" cy="30830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4818240" y="3100320"/>
              <a:ext cx="190080" cy="20304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044240" y="3100320"/>
              <a:ext cx="437400" cy="20304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081040" y="3099960"/>
              <a:ext cx="975240" cy="211932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257640" y="3014280"/>
              <a:ext cx="875160" cy="21178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482000" y="3100320"/>
              <a:ext cx="176040" cy="30830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755520" y="5124600"/>
              <a:ext cx="709560" cy="919440"/>
              <a:chOff x="3755520" y="5124600"/>
              <a:chExt cx="709560" cy="919440"/>
            </a:xfrm>
          </p:grpSpPr>
          <p:sp>
            <p:nvSpPr>
              <p:cNvPr id="346" name=""/>
              <p:cNvSpPr/>
              <p:nvPr/>
            </p:nvSpPr>
            <p:spPr>
              <a:xfrm>
                <a:off x="3913920" y="5124600"/>
                <a:ext cx="358920" cy="361080"/>
              </a:xfrm>
              <a:custGeom>
                <a:avLst/>
                <a:gdLst>
                  <a:gd name="textAreaLeft" fmla="*/ 360 w 358920"/>
                  <a:gd name="textAreaRight" fmla="*/ 358560 w 358920"/>
                  <a:gd name="textAreaTop" fmla="*/ 360 h 361080"/>
                  <a:gd name="textAreaBottom" fmla="*/ 360720 h 361080"/>
                </a:gdLst>
                <a:ahLst/>
                <a:rect l="textAreaLeft" t="textAreaTop" r="textAreaRight" b="textAreaBottom"/>
                <a:pathLst>
                  <a:path w="21600" h="21730">
                    <a:moveTo>
                      <a:pt x="95" y="0"/>
                    </a:moveTo>
                    <a:arcTo wR="95" hR="95" stAng="16200000" swAng="-5400000"/>
                    <a:lnTo>
                      <a:pt x="0" y="21635"/>
                    </a:lnTo>
                    <a:arcTo wR="95" hR="95" stAng="10800000" swAng="-5400000"/>
                    <a:lnTo>
                      <a:pt x="21505" y="21730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55520" y="5556960"/>
                <a:ext cx="7095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hou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644000" y="5124600"/>
              <a:ext cx="893880" cy="674280"/>
              <a:chOff x="4644000" y="5124600"/>
              <a:chExt cx="893880" cy="674280"/>
            </a:xfrm>
          </p:grpSpPr>
          <p:sp>
            <p:nvSpPr>
              <p:cNvPr id="349" name=""/>
              <p:cNvSpPr/>
              <p:nvPr/>
            </p:nvSpPr>
            <p:spPr>
              <a:xfrm>
                <a:off x="4885920" y="5124600"/>
                <a:ext cx="362160" cy="359280"/>
              </a:xfrm>
              <a:prstGeom prst="roundRect">
                <a:avLst>
                  <a:gd name="adj" fmla="val 44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44000" y="5555160"/>
                <a:ext cx="893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gul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511240" y="5124600"/>
              <a:ext cx="1126800" cy="919440"/>
              <a:chOff x="5511240" y="5124600"/>
              <a:chExt cx="1126800" cy="919440"/>
            </a:xfrm>
          </p:grpSpPr>
          <p:sp>
            <p:nvSpPr>
              <p:cNvPr id="352" name=""/>
              <p:cNvSpPr/>
              <p:nvPr/>
            </p:nvSpPr>
            <p:spPr>
              <a:xfrm>
                <a:off x="5892840" y="5124600"/>
                <a:ext cx="362520" cy="361080"/>
              </a:xfrm>
              <a:prstGeom prst="roundRect">
                <a:avLst>
                  <a:gd name="adj" fmla="val 435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1240" y="5556960"/>
                <a:ext cx="112680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ertif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uthor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989080" y="5124600"/>
              <a:ext cx="473040" cy="674280"/>
              <a:chOff x="2989080" y="5124600"/>
              <a:chExt cx="473040" cy="674280"/>
            </a:xfrm>
          </p:grpSpPr>
          <p:sp>
            <p:nvSpPr>
              <p:cNvPr id="355" name=""/>
              <p:cNvSpPr/>
              <p:nvPr/>
            </p:nvSpPr>
            <p:spPr>
              <a:xfrm>
                <a:off x="2989080" y="5555160"/>
                <a:ext cx="473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a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41280" y="5124600"/>
                <a:ext cx="352440" cy="359280"/>
              </a:xfrm>
              <a:custGeom>
                <a:avLst/>
                <a:gdLst>
                  <a:gd name="textAreaLeft" fmla="*/ 360 w 352440"/>
                  <a:gd name="textAreaRight" fmla="*/ 352080 w 352440"/>
                  <a:gd name="textAreaTop" fmla="*/ 360 h 359280"/>
                  <a:gd name="textAreaBottom" fmla="*/ 358920 h 359280"/>
                </a:gdLst>
                <a:ahLst/>
                <a:rect l="textAreaLeft" t="textAreaTop" r="textAreaRight" b="textAreaBottom"/>
                <a:pathLst>
                  <a:path w="21600" h="22019">
                    <a:moveTo>
                      <a:pt x="97" y="0"/>
                    </a:moveTo>
                    <a:arcTo wR="97" hR="97" stAng="16200000" swAng="-5400000"/>
                    <a:lnTo>
                      <a:pt x="0" y="21922"/>
                    </a:lnTo>
                    <a:arcTo wR="97" hR="97" stAng="10800000" swAng="-5400000"/>
                    <a:lnTo>
                      <a:pt x="21503" y="22019"/>
                    </a:lnTo>
                    <a:arcTo wR="97" hR="97" stAng="5400000" swAng="-5400000"/>
                    <a:lnTo>
                      <a:pt x="21600" y="97"/>
                    </a:lnTo>
                    <a:arcTo wR="97" hR="97" stAng="0" swAng="-5400000"/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7385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167000" y="6157800"/>
              <a:ext cx="1960560" cy="691920"/>
              <a:chOff x="4167000" y="6157800"/>
              <a:chExt cx="1960560" cy="691920"/>
            </a:xfrm>
          </p:grpSpPr>
          <p:sp>
            <p:nvSpPr>
              <p:cNvPr id="358" name=""/>
              <p:cNvSpPr/>
              <p:nvPr/>
            </p:nvSpPr>
            <p:spPr>
              <a:xfrm>
                <a:off x="4167000" y="6606000"/>
                <a:ext cx="1960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..k rights manag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4232520" y="6157800"/>
                <a:ext cx="1720080" cy="354600"/>
                <a:chOff x="4232520" y="6157800"/>
                <a:chExt cx="1720080" cy="354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232520" y="6157800"/>
                  <a:ext cx="360720" cy="354600"/>
                </a:xfrm>
                <a:prstGeom prst="roundRect">
                  <a:avLst>
                    <a:gd name="adj" fmla="val 444"/>
                  </a:avLst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  <a:effectLst>
                  <a:outerShdw dist="77385" dir="81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593680" y="6157800"/>
                  <a:ext cx="358920" cy="354600"/>
                </a:xfrm>
                <a:prstGeom prst="roundRect">
                  <a:avLst>
                    <a:gd name="adj" fmla="val 444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  <a:effectLst>
                  <a:outerShdw dist="77385" dir="81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" name=""/>
                <p:cNvGrpSpPr/>
                <p:nvPr/>
              </p:nvGrpSpPr>
              <p:grpSpPr>
                <a:xfrm>
                  <a:off x="4917240" y="6289920"/>
                  <a:ext cx="337680" cy="75240"/>
                  <a:chOff x="4917240" y="6289920"/>
                  <a:chExt cx="337680" cy="752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5044320" y="6285600"/>
                    <a:ext cx="75240" cy="8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6200000">
                    <a:off x="5175360" y="6285600"/>
                    <a:ext cx="75240" cy="8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16200000">
                    <a:off x="4921200" y="6285600"/>
                    <a:ext cx="75240" cy="8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imulation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processes to represent cartographer and explorer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ance for heterogeneous agents (in terms of internal architectu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s mechanism supporting multiple, simultaneous inter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960" indent="-32796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&amp; configuration options for each ag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ent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6165720"/>
            <a:ext cx="81709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ric, configurable engine for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817884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-52560"/>
            <a:ext cx="7764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cio-Cognitive Software Ag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092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4720" indent="-32472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simulation of a open agent system E-commerc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bstract producers &amp; consumers interacting through a contract net protocol vari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720" indent="-32472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socio-cognitive mode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3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ased on the model b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elfranchi and Falc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720" indent="-32472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plemented socio-cognitive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720" indent="-324720">
              <a:spcBef>
                <a:spcPts val="737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imulated small groups of these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y Pitt</cp:lastModifiedBy>
  <dcterms:modified xsi:type="dcterms:W3CDTF">2002-09-17T08:14:55Z</dcterms:modified>
  <cp:revision>248</cp:revision>
  <dc:subject/>
  <dc:title>PowerPoint Presentation</dc:title>
</cp:coreProperties>
</file>