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7428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896760" y="744120"/>
            <a:ext cx="4951440" cy="371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mic Sans MS"/>
              </a:rPr>
              <a:t>Click to move the slide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00000" y="4704840"/>
            <a:ext cx="4943520" cy="44564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41220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22840" y="941220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D9E13C5D-7591-4737-B3F1-F9F8D0CDB8F1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3822840" y="941220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fld id="{BC66A080-BC68-4000-A592-4D64C1DE1389}" type="slidenum"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0" y="9412200"/>
            <a:ext cx="2921040" cy="4939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822840" y="-360"/>
            <a:ext cx="2921040" cy="49356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89532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72840" y="4704840"/>
            <a:ext cx="539748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CF72-13ED-4878-B71E-50014B644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28600" y="41040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02BF-85AB-4DFB-833A-5EBD7E79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28600" y="41040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0000" y="41040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8E9C-C76F-48EE-9DBE-5F6BE6CD5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28600" y="41040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65840" y="41040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2720" y="41040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F76A-41BC-40A3-BA34-C7CF8FC38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F419-1D29-4FE3-8575-2C27423BF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3FAB-C2F5-4A0E-9453-6A46871B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E0B4D-F27B-4D62-B311-E5D1CDF2C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2CB0-5D04-4E48-803E-98A3198F5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F4E2-F902-4BED-A29D-2966FD6C8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606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A5E4-77E3-4BC5-8E79-A9360B6D0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1040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9E5E1-308D-47E2-B891-736196C56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28D-5EC3-4317-A729-AE2EBD0E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1040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EF8CC-600B-43AE-A626-6534869F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1040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05EEA-BF40-4415-AA81-4D6002E1E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1040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AD018-01EA-4892-91B5-DDC8105C4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1040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1040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35FD-A706-414F-B702-4886024E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6761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67616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1040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1040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104000"/>
            <a:ext cx="279684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CA7FB-0FA5-4134-B91A-C00972042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AD2-765F-4B5D-A7EA-416CA827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566-AD46-487D-8302-1B61CB466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552-561C-47A6-955C-63FD7253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00200" y="228240"/>
            <a:ext cx="6067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AA95-DCC7-4094-8294-390AE95C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28600" y="41040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5939-1072-473C-9FFC-127FE9AD7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0000" y="410400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B34-8A3B-40F0-8DDB-3BA59CA4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0000" y="1676160"/>
            <a:ext cx="42390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600" y="4104000"/>
            <a:ext cx="86868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18FB-3B03-4A64-A0E6-06FFD60B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70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38400" indent="-19080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2895480" indent="-228600">
              <a:spcBef>
                <a:spcPts val="700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3314880" indent="-228600">
              <a:spcBef>
                <a:spcPts val="700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331488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331488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400800"/>
            <a:ext cx="2832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Arial"/>
              </a:rPr>
              <a:t>ESAW, Madrid, September</a:t>
            </a:r>
            <a:r>
              <a:rPr b="0" lang="en-GB" sz="1200" spc="-1" strike="noStrike">
                <a:solidFill>
                  <a:srgbClr val="5e574e"/>
                </a:solidFill>
                <a:latin typeface="Arial"/>
              </a:rPr>
              <a:t>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7773D-E62B-49EE-9806-6FDEA8AF791F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67640" y="228600"/>
            <a:ext cx="1476360" cy="97488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619280" cy="1571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0" y="634320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048120" y="63432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315200" y="63432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92D55-136D-4082-B4C0-148B771B5473}" type="slidenum">
              <a:rPr b="0" lang="en-GB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914400" y="274968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ff"/>
                </a:solidFill>
                <a:latin typeface="Comic Sans MS"/>
              </a:rPr>
              <a:t>Click to edit the title text format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57168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47600" algn="ctr">
              <a:spcBef>
                <a:spcPts val="550"/>
              </a:spcBef>
              <a:buClr>
                <a:srgbClr val="0000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266688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308628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30862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30862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13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8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13.jpeg"/><Relationship Id="rId17" Type="http://schemas.openxmlformats.org/officeDocument/2006/relationships/image" Target="../media/image8.jpeg"/><Relationship Id="rId18" Type="http://schemas.openxmlformats.org/officeDocument/2006/relationships/image" Target="../media/image8.jpeg"/><Relationship Id="rId19" Type="http://schemas.openxmlformats.org/officeDocument/2006/relationships/image" Target="../media/image8.jpeg"/><Relationship Id="rId20" Type="http://schemas.openxmlformats.org/officeDocument/2006/relationships/image" Target="../media/image8.jpeg"/><Relationship Id="rId21" Type="http://schemas.openxmlformats.org/officeDocument/2006/relationships/image" Target="../media/image8.jpeg"/><Relationship Id="rId22" Type="http://schemas.openxmlformats.org/officeDocument/2006/relationships/image" Target="../media/image8.jpeg"/><Relationship Id="rId23" Type="http://schemas.openxmlformats.org/officeDocument/2006/relationships/image" Target="../media/image8.jpeg"/><Relationship Id="rId2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60320" y="380880"/>
            <a:ext cx="83836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DELFE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A Methodology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Comic Sans MS"/>
              </a:rPr>
              <a:t>for Adaptive Multi-Agent Systems Engineering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"/>
          <p:cNvSpPr/>
          <p:nvPr/>
        </p:nvSpPr>
        <p:spPr>
          <a:xfrm>
            <a:off x="501840" y="3398760"/>
            <a:ext cx="820764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Carole BERN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ie-Pierre GLEIZES, Sylvain PEYRUQUEOU &amp; Gauthier PICAR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bernon@irit.f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http://www.irit.fr/SMAC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RIT - Toulouse III - F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486400" y="5791320"/>
            <a:ext cx="685800" cy="65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743200" y="5943600"/>
            <a:ext cx="952560" cy="428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0" y="228600"/>
            <a:ext cx="1619280" cy="1571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90EF3-3BFB-45CF-8C96-289AB2574EAE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Analysis</a:t>
            </a:r>
            <a:br>
              <a:rPr sz="3800"/>
            </a:br>
            <a:r>
              <a:rPr b="1" lang="en-GB" sz="5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1" lang="en-GB" sz="3800" spc="-1" strike="noStrike">
                <a:solidFill>
                  <a:srgbClr val="0033cc"/>
                </a:solidFill>
                <a:latin typeface="Comic Sans MS"/>
              </a:rPr>
              <a:t>Agent Identification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02680" y="4254120"/>
            <a:ext cx="8750520" cy="21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72960" indent="-37296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dentify some properties that may imply cooperation failure (NCS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9880" indent="-27972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utonomy, locality, interactions, negotiation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9880" indent="-27972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source conflicts, communication errors, bad organisation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093680" y="1638360"/>
            <a:ext cx="6713640" cy="2743200"/>
            <a:chOff x="1093680" y="1638360"/>
            <a:chExt cx="6713640" cy="2743200"/>
          </a:xfrm>
        </p:grpSpPr>
        <p:pic>
          <p:nvPicPr>
            <p:cNvPr id="253" name="" descr=""/>
            <p:cNvPicPr/>
            <p:nvPr/>
          </p:nvPicPr>
          <p:blipFill>
            <a:blip r:embed="rId1"/>
            <a:stretch/>
          </p:blipFill>
          <p:spPr>
            <a:xfrm>
              <a:off x="1093680" y="1638360"/>
              <a:ext cx="6713640" cy="274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1138320" y="2817000"/>
              <a:ext cx="947520" cy="42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ur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177920" y="1768320"/>
              <a:ext cx="94788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NP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807000" y="1781280"/>
              <a:ext cx="94752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Teach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451240" y="2928960"/>
              <a:ext cx="94752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817800" y="2840760"/>
              <a:ext cx="947880" cy="422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Constrain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808440" y="3930120"/>
              <a:ext cx="94788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Studen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283360" y="2225160"/>
              <a:ext cx="947520" cy="44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9240" y="3481560"/>
              <a:ext cx="94788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Ro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807240" y="2344680"/>
              <a:ext cx="94752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Ce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831000" y="3505320"/>
              <a:ext cx="947880" cy="204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ctr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Gr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3789360" y="1808280"/>
            <a:ext cx="1003320" cy="204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28960" y="3925440"/>
            <a:ext cx="914400" cy="4442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100" spc="-1" strike="noStrike">
                <a:solidFill>
                  <a:srgbClr val="000000"/>
                </a:solidFill>
                <a:latin typeface="Arial"/>
              </a:rPr>
              <a:t>Group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3873600"/>
            <a:ext cx="1257480" cy="460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presen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430440" y="1538280"/>
            <a:ext cx="1257480" cy="4608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present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8E7A-805C-4E88-AF33-7AB743F85051}" type="slidenum">
              <a:t>10</a:t>
            </a:fld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Analysis</a:t>
            </a:r>
            <a:br>
              <a:rPr sz="3800"/>
            </a:br>
            <a:r>
              <a:rPr b="1" lang="en-GB" sz="3400" spc="-1" strike="noStrike">
                <a:solidFill>
                  <a:srgbClr val="0000ff"/>
                </a:solidFill>
                <a:latin typeface="Comic Sans MS"/>
              </a:rPr>
              <a:t>Adequacy </a:t>
            </a:r>
            <a:r>
              <a:rPr b="1" lang="en-GB" sz="3400" spc="-1" strike="noStrike">
                <a:solidFill>
                  <a:srgbClr val="0000ff"/>
                </a:solidFill>
                <a:latin typeface="Wingdings"/>
                <a:ea typeface="Wingdings"/>
              </a:rPr>
              <a:t></a:t>
            </a:r>
            <a:r>
              <a:rPr b="1" lang="en-GB" sz="3400" spc="-1" strike="noStrike">
                <a:solidFill>
                  <a:srgbClr val="0000ff"/>
                </a:solidFill>
                <a:latin typeface="Comic Sans MS"/>
              </a:rPr>
              <a:t> Identification</a:t>
            </a:r>
            <a:endParaRPr b="1" lang="en-US" sz="3400" spc="-1" strike="noStrike">
              <a:solidFill>
                <a:srgbClr val="0000ff"/>
              </a:solidFill>
              <a:latin typeface="Comic Sans MS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57120" y="4362480"/>
            <a:ext cx="8786880" cy="22413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55600" y="1728720"/>
            <a:ext cx="8686800" cy="27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presentativeAgent = 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blem of ubiquity </a:t>
            </a: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decomposi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presentativeAgent: represents a teacher or a group (symmetric go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ookingAgent: finds partners and books rooms, one per cou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57160" indent="-28548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336C-2F2D-49D6-9E62-D1DF2A0E9BA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Design</a:t>
            </a:r>
            <a:br>
              <a:rPr sz="3800"/>
            </a:br>
            <a:r>
              <a:rPr b="1" lang="en-GB" sz="2600" spc="-1" strike="noStrike">
                <a:solidFill>
                  <a:srgbClr val="0000ff"/>
                </a:solidFill>
                <a:latin typeface="Comic Sans MS"/>
              </a:rPr>
              <a:t>(Cooperative) Agent Architecture</a:t>
            </a:r>
            <a:endParaRPr b="1" lang="en-US" sz="26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5016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esign pattern supplied by ADELFE based on the AMAS theor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2384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"/>
          <p:cNvSpPr/>
          <p:nvPr/>
        </p:nvSpPr>
        <p:spPr>
          <a:xfrm>
            <a:off x="5526000" y="4019400"/>
            <a:ext cx="1054080" cy="5040"/>
          </a:xfrm>
          <a:prstGeom prst="rect">
            <a:avLst/>
          </a:prstGeom>
          <a:solidFill>
            <a:srgbClr val="fee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526000" y="4941720"/>
            <a:ext cx="1054080" cy="3240"/>
          </a:xfrm>
          <a:prstGeom prst="rect">
            <a:avLst/>
          </a:prstGeom>
          <a:solidFill>
            <a:srgbClr val="ffa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526000" y="4954680"/>
            <a:ext cx="1054080" cy="3240"/>
          </a:xfrm>
          <a:prstGeom prst="rect">
            <a:avLst/>
          </a:prstGeom>
          <a:solidFill>
            <a:srgbClr val="ffa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26000" y="4960800"/>
            <a:ext cx="1054080" cy="1800"/>
          </a:xfrm>
          <a:prstGeom prst="rect">
            <a:avLst/>
          </a:prstGeom>
          <a:solidFill>
            <a:srgbClr val="ffb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526000" y="4967280"/>
            <a:ext cx="1054080" cy="3240"/>
          </a:xfrm>
          <a:prstGeom prst="rect">
            <a:avLst/>
          </a:prstGeom>
          <a:solidFill>
            <a:srgbClr val="ffb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526000" y="4978440"/>
            <a:ext cx="1054080" cy="3240"/>
          </a:xfrm>
          <a:prstGeom prst="rect">
            <a:avLst/>
          </a:prstGeom>
          <a:solidFill>
            <a:srgbClr val="ffb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526000" y="4986360"/>
            <a:ext cx="1054080" cy="3240"/>
          </a:xfrm>
          <a:prstGeom prst="rect">
            <a:avLst/>
          </a:prstGeom>
          <a:solidFill>
            <a:srgbClr val="ffc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526000" y="4992840"/>
            <a:ext cx="1054080" cy="2880"/>
          </a:xfrm>
          <a:prstGeom prst="rect">
            <a:avLst/>
          </a:prstGeom>
          <a:solidFill>
            <a:srgbClr val="ff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526000" y="4998960"/>
            <a:ext cx="1054080" cy="1800"/>
          </a:xfrm>
          <a:prstGeom prst="rect">
            <a:avLst/>
          </a:prstGeom>
          <a:solidFill>
            <a:srgbClr val="ffc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26000" y="5003640"/>
            <a:ext cx="1054080" cy="3240"/>
          </a:xfrm>
          <a:prstGeom prst="rect">
            <a:avLst/>
          </a:prstGeom>
          <a:solidFill>
            <a:srgbClr val="ffc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526000" y="5010120"/>
            <a:ext cx="1054080" cy="3240"/>
          </a:xfrm>
          <a:prstGeom prst="rect">
            <a:avLst/>
          </a:prstGeom>
          <a:solidFill>
            <a:srgbClr val="ffd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526000" y="5016600"/>
            <a:ext cx="1054080" cy="3240"/>
          </a:xfrm>
          <a:prstGeom prst="rect">
            <a:avLst/>
          </a:prstGeom>
          <a:solidFill>
            <a:srgbClr val="ffd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26000" y="5022720"/>
            <a:ext cx="1054080" cy="5040"/>
          </a:xfrm>
          <a:prstGeom prst="rect">
            <a:avLst/>
          </a:prstGeom>
          <a:solidFill>
            <a:srgbClr val="ffd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526000" y="5030640"/>
            <a:ext cx="1054080" cy="3240"/>
          </a:xfrm>
          <a:prstGeom prst="rect">
            <a:avLst/>
          </a:prstGeom>
          <a:solidFill>
            <a:srgbClr val="ffd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526000" y="5037120"/>
            <a:ext cx="1054080" cy="3240"/>
          </a:xfrm>
          <a:prstGeom prst="rect">
            <a:avLst/>
          </a:prstGeom>
          <a:solidFill>
            <a:srgbClr val="ffe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526000" y="5054760"/>
            <a:ext cx="1054080" cy="2880"/>
          </a:xfrm>
          <a:prstGeom prst="rect">
            <a:avLst/>
          </a:prstGeom>
          <a:solidFill>
            <a:srgbClr val="ffe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526000" y="5073480"/>
            <a:ext cx="1054080" cy="5040"/>
          </a:xfrm>
          <a:prstGeom prst="rect">
            <a:avLst/>
          </a:prstGeom>
          <a:solidFill>
            <a:srgbClr val="fff2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13320" y="5045040"/>
            <a:ext cx="1752480" cy="596880"/>
          </a:xfrm>
          <a:prstGeom prst="foldedCorner">
            <a:avLst>
              <a:gd name="adj" fmla="val 125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N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5398920" y="3441600"/>
            <a:ext cx="1765440" cy="1587600"/>
            <a:chOff x="5398920" y="3441600"/>
            <a:chExt cx="1765440" cy="1587600"/>
          </a:xfrm>
        </p:grpSpPr>
        <p:grpSp>
          <p:nvGrpSpPr>
            <p:cNvPr id="292" name=""/>
            <p:cNvGrpSpPr/>
            <p:nvPr/>
          </p:nvGrpSpPr>
          <p:grpSpPr>
            <a:xfrm>
              <a:off x="5398920" y="3441600"/>
              <a:ext cx="1765440" cy="1587600"/>
              <a:chOff x="5398920" y="3441600"/>
              <a:chExt cx="1765440" cy="1587600"/>
            </a:xfrm>
          </p:grpSpPr>
          <p:sp>
            <p:nvSpPr>
              <p:cNvPr id="293" name=""/>
              <p:cNvSpPr/>
              <p:nvPr/>
            </p:nvSpPr>
            <p:spPr>
              <a:xfrm>
                <a:off x="5398920" y="3441600"/>
                <a:ext cx="1765440" cy="1587600"/>
              </a:xfrm>
              <a:prstGeom prst="rect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ffff99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398920" y="3865680"/>
                <a:ext cx="176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398920" y="4329000"/>
                <a:ext cx="1765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5844960" y="3475080"/>
              <a:ext cx="779400" cy="36612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6006600" y="442440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521320" y="3913200"/>
            <a:ext cx="1575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3657600" y="3467160"/>
            <a:ext cx="1283760" cy="1677960"/>
            <a:chOff x="3657600" y="3467160"/>
            <a:chExt cx="1283760" cy="1677960"/>
          </a:xfrm>
        </p:grpSpPr>
        <p:grpSp>
          <p:nvGrpSpPr>
            <p:cNvPr id="300" name=""/>
            <p:cNvGrpSpPr/>
            <p:nvPr/>
          </p:nvGrpSpPr>
          <p:grpSpPr>
            <a:xfrm>
              <a:off x="3657600" y="3467160"/>
              <a:ext cx="1142640" cy="1222560"/>
              <a:chOff x="3657600" y="3467160"/>
              <a:chExt cx="1142640" cy="1222560"/>
            </a:xfrm>
          </p:grpSpPr>
          <p:sp>
            <p:nvSpPr>
              <p:cNvPr id="301" name=""/>
              <p:cNvSpPr/>
              <p:nvPr/>
            </p:nvSpPr>
            <p:spPr>
              <a:xfrm>
                <a:off x="3657600" y="3467160"/>
                <a:ext cx="1142640" cy="122256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3666600" y="3838680"/>
                <a:ext cx="11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041360" y="3560760"/>
                <a:ext cx="482400" cy="2746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AC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798720" y="3922920"/>
              <a:ext cx="1142640" cy="1222200"/>
              <a:chOff x="3798720" y="3922920"/>
              <a:chExt cx="1142640" cy="1222200"/>
            </a:xfrm>
          </p:grpSpPr>
          <p:sp>
            <p:nvSpPr>
              <p:cNvPr id="305" name=""/>
              <p:cNvSpPr/>
              <p:nvPr/>
            </p:nvSpPr>
            <p:spPr>
              <a:xfrm>
                <a:off x="3798720" y="3922920"/>
                <a:ext cx="1142640" cy="12222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807720" y="4294440"/>
                <a:ext cx="1133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4011120" y="4016520"/>
                <a:ext cx="826560" cy="274680"/>
              </a:xfrm>
              <a:prstGeom prst="rect">
                <a:avLst/>
              </a:prstGeom>
              <a:solidFill>
                <a:srgbClr val="ff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Times New Roman"/>
                  </a:rPr>
                  <a:t>Messag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8" name=""/>
          <p:cNvSpPr/>
          <p:nvPr/>
        </p:nvSpPr>
        <p:spPr>
          <a:xfrm>
            <a:off x="5807520" y="4714920"/>
            <a:ext cx="95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Aptitu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7118280" y="3675240"/>
            <a:ext cx="1728720" cy="1737720"/>
            <a:chOff x="7118280" y="3675240"/>
            <a:chExt cx="1728720" cy="1737720"/>
          </a:xfrm>
        </p:grpSpPr>
        <p:sp>
          <p:nvSpPr>
            <p:cNvPr id="310" name=""/>
            <p:cNvSpPr/>
            <p:nvPr/>
          </p:nvSpPr>
          <p:spPr>
            <a:xfrm>
              <a:off x="7118280" y="4932360"/>
              <a:ext cx="488880" cy="22824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V="1">
              <a:off x="7143480" y="3976200"/>
              <a:ext cx="498600" cy="15228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7170480" y="4549680"/>
              <a:ext cx="424080" cy="50400"/>
            </a:xfrm>
            <a:prstGeom prst="line">
              <a:avLst/>
            </a:prstGeom>
            <a:ln w="7632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76920" y="4917960"/>
              <a:ext cx="1270080" cy="4950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53160" y="3675240"/>
              <a:ext cx="1270080" cy="4950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564320" y="4295880"/>
              <a:ext cx="1270080" cy="494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00"/>
                  </a:solidFill>
                  <a:latin typeface="Times New Roman"/>
                </a:rPr>
                <a:t>AM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 flipH="1">
            <a:off x="7760520" y="3176640"/>
            <a:ext cx="685800" cy="520560"/>
          </a:xfrm>
          <a:custGeom>
            <a:avLst/>
            <a:gdLst>
              <a:gd name="textAreaLeft" fmla="*/ 119520 w 685800"/>
              <a:gd name="textAreaRight" fmla="*/ 496800 w 685800"/>
              <a:gd name="textAreaTop" fmla="*/ 69480 h 520560"/>
              <a:gd name="textAreaBottom" fmla="*/ 451080 h 520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0033cc"/>
              </a:gs>
              <a:gs pos="100000">
                <a:srgbClr val="33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" y="3060720"/>
            <a:ext cx="2438280" cy="3276720"/>
          </a:xfrm>
          <a:prstGeom prst="cube">
            <a:avLst>
              <a:gd name="adj" fmla="val 5111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09480" y="3340080"/>
            <a:ext cx="723960" cy="2921040"/>
          </a:xfrm>
          <a:prstGeom prst="ellipse">
            <a:avLst/>
          </a:prstGeom>
          <a:gradFill rotWithShape="0">
            <a:gsLst>
              <a:gs pos="0">
                <a:srgbClr val="0000ff"/>
              </a:gs>
              <a:gs pos="100000">
                <a:srgbClr val="000075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B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E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V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I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O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U</a:t>
            </a:r>
            <a:br>
              <a:rPr sz="1800"/>
            </a:b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57480" y="3327480"/>
            <a:ext cx="1460160" cy="419040"/>
          </a:xfrm>
          <a:prstGeom prst="cube">
            <a:avLst>
              <a:gd name="adj" fmla="val 12879"/>
            </a:avLst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Represent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98680" y="4014720"/>
            <a:ext cx="1218960" cy="419040"/>
          </a:xfrm>
          <a:prstGeom prst="cube">
            <a:avLst>
              <a:gd name="adj" fmla="val 12879"/>
            </a:avLst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498680" y="4600440"/>
            <a:ext cx="1218960" cy="419400"/>
          </a:xfrm>
          <a:prstGeom prst="cube">
            <a:avLst>
              <a:gd name="adj" fmla="val 12879"/>
            </a:avLst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ptitu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498680" y="5146560"/>
            <a:ext cx="1218960" cy="419040"/>
          </a:xfrm>
          <a:prstGeom prst="cube">
            <a:avLst>
              <a:gd name="adj" fmla="val 12879"/>
            </a:avLst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tera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98680" y="5730840"/>
            <a:ext cx="1218960" cy="419040"/>
          </a:xfrm>
          <a:prstGeom prst="cube">
            <a:avLst>
              <a:gd name="adj" fmla="val 12879"/>
            </a:avLst>
          </a:prstGeom>
          <a:gradFill rotWithShape="0">
            <a:gsLst>
              <a:gs pos="0">
                <a:srgbClr val="ffcc00"/>
              </a:gs>
              <a:gs pos="100000">
                <a:srgbClr val="ffff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ocial Attitu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rot="19984800">
            <a:off x="1130040" y="370836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1219000">
            <a:off x="1195560" y="415440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rot="21425400">
            <a:off x="1220400" y="4764240"/>
            <a:ext cx="304920" cy="228600"/>
          </a:xfrm>
          <a:prstGeom prst="leftArrow">
            <a:avLst>
              <a:gd name="adj1" fmla="val 50000"/>
              <a:gd name="adj2" fmla="val 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rot="846600">
            <a:off x="1195200" y="5246280"/>
            <a:ext cx="304560" cy="228600"/>
          </a:xfrm>
          <a:prstGeom prst="leftArrow">
            <a:avLst>
              <a:gd name="adj1" fmla="val 50000"/>
              <a:gd name="adj2" fmla="val 33307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420800">
            <a:off x="1182240" y="5818320"/>
            <a:ext cx="304920" cy="228600"/>
          </a:xfrm>
          <a:prstGeom prst="leftArrow">
            <a:avLst>
              <a:gd name="adj1" fmla="val 50000"/>
              <a:gd name="adj2" fmla="val 3334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682080" y="5878440"/>
            <a:ext cx="136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ereo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9117-3D46-4793-B4DB-B827A253D997}" type="slidenum">
              <a:t>12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Design</a:t>
            </a:r>
            <a:br>
              <a:rPr sz="3800"/>
            </a:b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NCS Model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Generic NC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 perceived signal is not or misunderstood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(incompetence, ambiguity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resulting information is useless for the agent’s reasoning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(unproductiveness)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asoning leads to usefulness actions towards other agents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(uselessness)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nd some mixed situations </a:t>
            </a:r>
            <a:r>
              <a:rPr b="1" i="1" lang="en-GB" sz="2000" spc="-1" strike="noStrike">
                <a:solidFill>
                  <a:srgbClr val="000000"/>
                </a:solidFill>
                <a:latin typeface="Comic Sans MS"/>
              </a:rPr>
              <a:t>(concurrency, conflic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ach NCS is described by a tabl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tate / Textual descrip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ditions to detect it / Actions to treat i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2D91-2464-4C88-A158-51AFC19A520B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Design </a:t>
            </a:r>
            <a:br>
              <a:rPr sz="3800"/>
            </a:b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Example of NCS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ooking conflict” for a BookingAgen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590400" y="2336760"/>
            <a:ext cx="8089920" cy="3990600"/>
            <a:chOff x="590400" y="2336760"/>
            <a:chExt cx="8089920" cy="3990600"/>
          </a:xfrm>
        </p:grpSpPr>
        <p:sp>
          <p:nvSpPr>
            <p:cNvPr id="335" name=""/>
            <p:cNvSpPr/>
            <p:nvPr/>
          </p:nvSpPr>
          <p:spPr>
            <a:xfrm>
              <a:off x="590400" y="2336760"/>
              <a:ext cx="808992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ooking Confli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90400" y="2719440"/>
              <a:ext cx="80899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St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90400" y="3101760"/>
              <a:ext cx="80899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An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90400" y="3483000"/>
              <a:ext cx="80899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90400" y="3865320"/>
              <a:ext cx="808992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 BA is in a cell that is interesting to book but the cell is already book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90400" y="4246560"/>
              <a:ext cx="80899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90400" y="4641840"/>
              <a:ext cx="80899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The BA is in a cell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this latter is already booked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ND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yet the cell would be suitable if not book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90400" y="5302080"/>
              <a:ext cx="808992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c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0400" y="5684760"/>
              <a:ext cx="8089920" cy="64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IF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the cost of the new booking is less than the older one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N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the BA books the cell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LSE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the BA moves else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0498-E552-4FEB-92C3-DEC10A602BB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Conclusion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42720" indent="-34272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ontributions of ADELFE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71120" indent="-256680"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akes into account dynamic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71120" indent="-256680"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an be used by a non specialis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71120" indent="-256680"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ells if an AMAS is require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71120" indent="-256680"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Helps and guides the agent identification phas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71120" indent="-256680"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Methodology coupled with a theory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2720" indent="-34272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Many perspectiv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71120" indent="-256680"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ols and libraries to ease design and develop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771120" indent="-256680"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Assist the designer if another methodology is more adequate (PASSI e.g.)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marL="342720" indent="-34272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ill be implemented in the OpenTool software (TNI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6744-EB06-4813-BEE8-8085BF3BE17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Orientation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pen systems, evolutionary environments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oftware with </a:t>
            </a:r>
            <a:r>
              <a:rPr b="1" lang="en-GB" sz="2800" spc="-1" strike="noStrike">
                <a:solidFill>
                  <a:srgbClr val="0033cc"/>
                </a:solidFill>
                <a:latin typeface="Comic Sans MS"/>
              </a:rPr>
              <a:t>adaptatio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S = societies of situated agents that are (autonomous, pro-active, social, …)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33cc"/>
                </a:solidFill>
                <a:latin typeface="Comic Sans MS"/>
              </a:rPr>
              <a:t>weak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dapt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Unpredictable environment + behavioural or functional adequac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33cc"/>
                </a:solidFill>
                <a:latin typeface="Comic Sans MS"/>
              </a:rPr>
              <a:t>strong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dapta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D80F-6A08-4F6B-B21F-F2DACBBC018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569960" y="228240"/>
            <a:ext cx="57866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Principle of </a:t>
            </a:r>
            <a:br>
              <a:rPr sz="3800"/>
            </a:b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Self-Organization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1209600" y="3144960"/>
            <a:ext cx="6921360" cy="2286000"/>
            <a:chOff x="1209600" y="3144960"/>
            <a:chExt cx="6921360" cy="2286000"/>
          </a:xfrm>
        </p:grpSpPr>
        <p:sp>
          <p:nvSpPr>
            <p:cNvPr id="350" name=""/>
            <p:cNvSpPr/>
            <p:nvPr/>
          </p:nvSpPr>
          <p:spPr>
            <a:xfrm>
              <a:off x="1209600" y="3144960"/>
              <a:ext cx="6921360" cy="2286000"/>
            </a:xfrm>
            <a:custGeom>
              <a:avLst/>
              <a:gdLst/>
              <a:ahLst/>
              <a:rect l="l" t="t" r="r" b="b"/>
              <a:pathLst>
                <a:path w="4360" h="1440">
                  <a:moveTo>
                    <a:pt x="760" y="472"/>
                  </a:moveTo>
                  <a:cubicBezTo>
                    <a:pt x="648" y="560"/>
                    <a:pt x="176" y="688"/>
                    <a:pt x="88" y="808"/>
                  </a:cubicBezTo>
                  <a:cubicBezTo>
                    <a:pt x="0" y="928"/>
                    <a:pt x="32" y="1088"/>
                    <a:pt x="232" y="1192"/>
                  </a:cubicBezTo>
                  <a:cubicBezTo>
                    <a:pt x="432" y="1296"/>
                    <a:pt x="984" y="1440"/>
                    <a:pt x="1288" y="1432"/>
                  </a:cubicBezTo>
                  <a:cubicBezTo>
                    <a:pt x="1592" y="1424"/>
                    <a:pt x="1728" y="1144"/>
                    <a:pt x="2056" y="1144"/>
                  </a:cubicBezTo>
                  <a:cubicBezTo>
                    <a:pt x="2384" y="1144"/>
                    <a:pt x="2928" y="1440"/>
                    <a:pt x="3256" y="1432"/>
                  </a:cubicBezTo>
                  <a:cubicBezTo>
                    <a:pt x="3584" y="1424"/>
                    <a:pt x="3864" y="1256"/>
                    <a:pt x="4024" y="1096"/>
                  </a:cubicBezTo>
                  <a:cubicBezTo>
                    <a:pt x="4184" y="936"/>
                    <a:pt x="4360" y="640"/>
                    <a:pt x="4216" y="472"/>
                  </a:cubicBezTo>
                  <a:cubicBezTo>
                    <a:pt x="4072" y="304"/>
                    <a:pt x="3368" y="112"/>
                    <a:pt x="3160" y="88"/>
                  </a:cubicBezTo>
                  <a:cubicBezTo>
                    <a:pt x="2952" y="64"/>
                    <a:pt x="3144" y="296"/>
                    <a:pt x="2968" y="328"/>
                  </a:cubicBezTo>
                  <a:cubicBezTo>
                    <a:pt x="2792" y="360"/>
                    <a:pt x="2232" y="320"/>
                    <a:pt x="2104" y="280"/>
                  </a:cubicBezTo>
                  <a:cubicBezTo>
                    <a:pt x="1976" y="240"/>
                    <a:pt x="2232" y="128"/>
                    <a:pt x="2200" y="88"/>
                  </a:cubicBezTo>
                  <a:cubicBezTo>
                    <a:pt x="2168" y="48"/>
                    <a:pt x="2024" y="0"/>
                    <a:pt x="1912" y="40"/>
                  </a:cubicBezTo>
                  <a:cubicBezTo>
                    <a:pt x="1800" y="80"/>
                    <a:pt x="1720" y="288"/>
                    <a:pt x="1528" y="328"/>
                  </a:cubicBezTo>
                  <a:cubicBezTo>
                    <a:pt x="1336" y="368"/>
                    <a:pt x="888" y="256"/>
                    <a:pt x="760" y="280"/>
                  </a:cubicBezTo>
                  <a:cubicBezTo>
                    <a:pt x="632" y="304"/>
                    <a:pt x="872" y="384"/>
                    <a:pt x="760" y="472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654200" y="4580280"/>
              <a:ext cx="304560" cy="15228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415960" y="5037480"/>
              <a:ext cx="304920" cy="15228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330360" y="4275360"/>
              <a:ext cx="304920" cy="15228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49480" y="4732560"/>
              <a:ext cx="304920" cy="15228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168800" y="4275360"/>
              <a:ext cx="304560" cy="15228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63880" y="3741840"/>
              <a:ext cx="304920" cy="15264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930560" y="4580280"/>
              <a:ext cx="304920" cy="15228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35680" y="4808880"/>
              <a:ext cx="304920" cy="15228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844960" y="4732560"/>
              <a:ext cx="304920" cy="15228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387760" y="3970440"/>
              <a:ext cx="304920" cy="15264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530760" y="4275360"/>
              <a:ext cx="304920" cy="15228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607080" y="3818160"/>
              <a:ext cx="304920" cy="15228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568600" y="4046760"/>
              <a:ext cx="304560" cy="15228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483000" y="4884840"/>
              <a:ext cx="304560" cy="15264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400360" y="4894560"/>
              <a:ext cx="1610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 flipV="1">
            <a:off x="4487760" y="2387520"/>
            <a:ext cx="1295640" cy="1981440"/>
          </a:xfrm>
          <a:prstGeom prst="line">
            <a:avLst/>
          </a:prstGeom>
          <a:ln w="57240">
            <a:solidFill>
              <a:srgbClr val="ff99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 flipV="1">
            <a:off x="2963520" y="2463840"/>
            <a:ext cx="1219320" cy="1905120"/>
          </a:xfrm>
          <a:prstGeom prst="line">
            <a:avLst/>
          </a:prstGeom>
          <a:ln w="57240">
            <a:solidFill>
              <a:srgbClr val="ff99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2887560" y="1701720"/>
            <a:ext cx="3468240" cy="1143000"/>
            <a:chOff x="2887560" y="1701720"/>
            <a:chExt cx="3468240" cy="1143000"/>
          </a:xfrm>
        </p:grpSpPr>
        <p:grpSp>
          <p:nvGrpSpPr>
            <p:cNvPr id="369" name=""/>
            <p:cNvGrpSpPr/>
            <p:nvPr/>
          </p:nvGrpSpPr>
          <p:grpSpPr>
            <a:xfrm>
              <a:off x="2887560" y="1701720"/>
              <a:ext cx="2895480" cy="1143000"/>
              <a:chOff x="2887560" y="1701720"/>
              <a:chExt cx="2895480" cy="1143000"/>
            </a:xfrm>
          </p:grpSpPr>
          <p:sp>
            <p:nvSpPr>
              <p:cNvPr id="370" name=""/>
              <p:cNvSpPr/>
              <p:nvPr/>
            </p:nvSpPr>
            <p:spPr>
              <a:xfrm>
                <a:off x="2887560" y="1701720"/>
                <a:ext cx="2895480" cy="1143000"/>
              </a:xfrm>
              <a:prstGeom prst="ellipse">
                <a:avLst/>
              </a:prstGeom>
              <a:blipFill rotWithShape="0">
                <a:blip r:embed="rId1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344760" y="2006640"/>
                <a:ext cx="304920" cy="152280"/>
              </a:xfrm>
              <a:prstGeom prst="ellipse">
                <a:avLst/>
              </a:prstGeom>
              <a:blipFill rotWithShape="0">
                <a:blip r:embed="rId1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106880" y="2235240"/>
                <a:ext cx="304560" cy="152280"/>
              </a:xfrm>
              <a:prstGeom prst="ellipse">
                <a:avLst/>
              </a:prstGeom>
              <a:blipFill rotWithShape="0">
                <a:blip r:embed="rId1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030560" y="1778040"/>
                <a:ext cx="304920" cy="152280"/>
              </a:xfrm>
              <a:prstGeom prst="ellipse">
                <a:avLst/>
              </a:prstGeom>
              <a:blipFill rotWithShape="0">
                <a:blip r:embed="rId19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4944960" y="2387520"/>
                <a:ext cx="304920" cy="152280"/>
              </a:xfrm>
              <a:prstGeom prst="ellipse">
                <a:avLst/>
              </a:prstGeom>
              <a:blipFill rotWithShape="0">
                <a:blip r:embed="rId20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421080" y="2463840"/>
                <a:ext cx="304560" cy="152280"/>
              </a:xfrm>
              <a:prstGeom prst="ellipse">
                <a:avLst/>
              </a:prstGeom>
              <a:blipFill rotWithShape="0">
                <a:blip r:embed="rId21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792680" y="1854000"/>
                <a:ext cx="304560" cy="152640"/>
              </a:xfrm>
              <a:prstGeom prst="ellipse">
                <a:avLst/>
              </a:prstGeom>
              <a:blipFill rotWithShape="0">
                <a:blip r:embed="rId22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11440" y="2539800"/>
                <a:ext cx="304920" cy="152640"/>
              </a:xfrm>
              <a:prstGeom prst="ellipse">
                <a:avLst/>
              </a:prstGeom>
              <a:blipFill rotWithShape="0">
                <a:blip r:embed="rId2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8" name=""/>
            <p:cNvSpPr/>
            <p:nvPr/>
          </p:nvSpPr>
          <p:spPr>
            <a:xfrm>
              <a:off x="5326200" y="1850760"/>
              <a:ext cx="10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Arial"/>
                </a:rPr>
                <a:t>Syste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4181400" y="1925640"/>
            <a:ext cx="763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4562640" y="2001960"/>
            <a:ext cx="30456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48240" y="2077920"/>
            <a:ext cx="4572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495600" y="2154240"/>
            <a:ext cx="7632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19840" y="2001960"/>
            <a:ext cx="7596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34040" y="1849320"/>
            <a:ext cx="45720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3724200" y="2349360"/>
            <a:ext cx="426960" cy="185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34040" y="2382840"/>
            <a:ext cx="152280" cy="152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4714920" y="2535120"/>
            <a:ext cx="304920" cy="7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257720" y="1925640"/>
            <a:ext cx="685800" cy="47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flipV="1">
            <a:off x="3571920" y="1849320"/>
            <a:ext cx="457200" cy="15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4486320" y="4287600"/>
            <a:ext cx="2057040" cy="76320"/>
            <a:chOff x="4486320" y="4287600"/>
            <a:chExt cx="2057040" cy="76320"/>
          </a:xfrm>
        </p:grpSpPr>
        <p:sp>
          <p:nvSpPr>
            <p:cNvPr id="391" name=""/>
            <p:cNvSpPr/>
            <p:nvPr/>
          </p:nvSpPr>
          <p:spPr>
            <a:xfrm flipH="1" flipV="1">
              <a:off x="5400360" y="4287600"/>
              <a:ext cx="114300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00720" y="4287960"/>
              <a:ext cx="380880" cy="759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4486320" y="4363920"/>
              <a:ext cx="1295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4" name=""/>
          <p:cNvSpPr/>
          <p:nvPr/>
        </p:nvSpPr>
        <p:spPr>
          <a:xfrm flipH="1">
            <a:off x="4597560" y="2006640"/>
            <a:ext cx="304560" cy="533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714840" y="2556000"/>
            <a:ext cx="685800" cy="759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61440" y="5791320"/>
            <a:ext cx="2106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cep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33520" y="5864400"/>
            <a:ext cx="136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t  : 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809960" y="5769000"/>
            <a:ext cx="326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me t+1  : f*s + 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800600" y="4038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B0E-FF44-424B-939A-F7F19DBF2AFC}" type="slidenum">
              <a:t>17</a:t>
            </a:fld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86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Theorem on Functional Adequacy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4038480" y="1828800"/>
            <a:ext cx="4876920" cy="1676520"/>
          </a:xfrm>
          <a:prstGeom prst="ellipse">
            <a:avLst/>
          </a:prstGeom>
          <a:gradFill rotWithShape="0">
            <a:gsLst>
              <a:gs pos="0">
                <a:srgbClr val="ff6600"/>
              </a:gs>
              <a:gs pos="100000">
                <a:srgbClr val="a94300"/>
              </a:gs>
            </a:gsLst>
            <a:path path="rect">
              <a:fillToRect l="50000" t="50000" r="50000" b="50000"/>
            </a:path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Functionally Adequa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4952880" y="2971800"/>
            <a:ext cx="3124080" cy="2209680"/>
            <a:chOff x="4952880" y="2971800"/>
            <a:chExt cx="3124080" cy="2209680"/>
          </a:xfrm>
        </p:grpSpPr>
        <p:sp>
          <p:nvSpPr>
            <p:cNvPr id="403" name=""/>
            <p:cNvSpPr/>
            <p:nvPr/>
          </p:nvSpPr>
          <p:spPr>
            <a:xfrm>
              <a:off x="4952880" y="4038480"/>
              <a:ext cx="3124080" cy="11430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9b3e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Cooperative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4" name=""/>
            <p:cNvGrpSpPr/>
            <p:nvPr/>
          </p:nvGrpSpPr>
          <p:grpSpPr>
            <a:xfrm>
              <a:off x="4952880" y="2971800"/>
              <a:ext cx="3124080" cy="1523880"/>
              <a:chOff x="4952880" y="2971800"/>
              <a:chExt cx="3124080" cy="1523880"/>
            </a:xfrm>
          </p:grpSpPr>
          <p:grpSp>
            <p:nvGrpSpPr>
              <p:cNvPr id="405" name=""/>
              <p:cNvGrpSpPr/>
              <p:nvPr/>
            </p:nvGrpSpPr>
            <p:grpSpPr>
              <a:xfrm>
                <a:off x="4952880" y="2971800"/>
                <a:ext cx="1828800" cy="1523880"/>
                <a:chOff x="4952880" y="2971800"/>
                <a:chExt cx="1828800" cy="1523880"/>
              </a:xfrm>
            </p:grpSpPr>
            <p:sp>
              <p:nvSpPr>
                <p:cNvPr id="406" name=""/>
                <p:cNvSpPr/>
                <p:nvPr/>
              </p:nvSpPr>
              <p:spPr>
                <a:xfrm>
                  <a:off x="6324480" y="2971800"/>
                  <a:ext cx="457200" cy="228600"/>
                </a:xfrm>
                <a:prstGeom prst="ellipse">
                  <a:avLst/>
                </a:prstGeom>
                <a:solidFill>
                  <a:srgbClr val="ff6600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 flipH="1">
                  <a:off x="4952880" y="3048120"/>
                  <a:ext cx="1371600" cy="144756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8" name=""/>
              <p:cNvSpPr/>
              <p:nvPr/>
            </p:nvSpPr>
            <p:spPr>
              <a:xfrm>
                <a:off x="6781680" y="3048120"/>
                <a:ext cx="1295280" cy="1447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"/>
          <p:cNvGrpSpPr/>
          <p:nvPr/>
        </p:nvGrpSpPr>
        <p:grpSpPr>
          <a:xfrm>
            <a:off x="5638680" y="4572000"/>
            <a:ext cx="1752480" cy="1676520"/>
            <a:chOff x="5638680" y="4572000"/>
            <a:chExt cx="1752480" cy="1676520"/>
          </a:xfrm>
        </p:grpSpPr>
        <p:sp>
          <p:nvSpPr>
            <p:cNvPr id="410" name=""/>
            <p:cNvSpPr/>
            <p:nvPr/>
          </p:nvSpPr>
          <p:spPr>
            <a:xfrm>
              <a:off x="5638680" y="5334120"/>
              <a:ext cx="1752480" cy="914400"/>
            </a:xfrm>
            <a:prstGeom prst="ellips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a24000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Cooperati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Internal Medi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20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5714640" y="4572000"/>
              <a:ext cx="1676520" cy="1143000"/>
              <a:chOff x="5714640" y="4572000"/>
              <a:chExt cx="1676520" cy="1143000"/>
            </a:xfrm>
          </p:grpSpPr>
          <p:sp>
            <p:nvSpPr>
              <p:cNvPr id="412" name=""/>
              <p:cNvSpPr/>
              <p:nvPr/>
            </p:nvSpPr>
            <p:spPr>
              <a:xfrm>
                <a:off x="6324480" y="4572000"/>
                <a:ext cx="457200" cy="228600"/>
              </a:xfrm>
              <a:prstGeom prst="ellipse">
                <a:avLst/>
              </a:prstGeom>
              <a:solidFill>
                <a:srgbClr val="ff66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 flipH="1">
                <a:off x="5714640" y="4648320"/>
                <a:ext cx="609840" cy="99072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781680" y="4648320"/>
                <a:ext cx="609480" cy="1066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04480" y="1788840"/>
            <a:ext cx="351612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rmAutofit fontScale="98000"/>
          </a:bodyPr>
          <a:p>
            <a:pPr marL="372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r any functionally adequate system in a given environment, there is a system having a </a:t>
            </a:r>
            <a:r>
              <a:rPr b="1" lang="en-GB" sz="2800" spc="-1" strike="noStrike">
                <a:solidFill>
                  <a:srgbClr val="3333cc"/>
                </a:solidFill>
                <a:latin typeface="Comic Sans MS"/>
              </a:rPr>
              <a:t>co-operative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internal medium which realises an equivalent funct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672-1FEC-458E-ABA7-BF32217E888F}" type="slidenum">
              <a:t>18</a:t>
            </a:fld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Contents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ontext 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rom where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lnSpc>
                <a:spcPct val="11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wards what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 AMAS theory (Adaptive Multi-Agent System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in workflows of the ADELFE methodolog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lnSpc>
                <a:spcPct val="11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onclusion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EED4-B699-4C1B-9A27-EEBC2728C4BA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635360" y="1727280"/>
            <a:ext cx="4508640" cy="1079280"/>
            <a:chOff x="4635360" y="1727280"/>
            <a:chExt cx="4508640" cy="1079280"/>
          </a:xfrm>
        </p:grpSpPr>
        <p:sp>
          <p:nvSpPr>
            <p:cNvPr id="101" name=""/>
            <p:cNvSpPr/>
            <p:nvPr/>
          </p:nvSpPr>
          <p:spPr>
            <a:xfrm>
              <a:off x="4635360" y="1727280"/>
              <a:ext cx="4508640" cy="10792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736520" y="2123640"/>
              <a:ext cx="835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Env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800" spc="-1" strike="noStrike">
                <a:solidFill>
                  <a:srgbClr val="0000ff"/>
                </a:solidFill>
                <a:latin typeface="Comic Sans MS"/>
              </a:rPr>
              <a:t>AMAS Theory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02680" y="1599840"/>
            <a:ext cx="5473800" cy="181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pen systems, evolutionary environmen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66ff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oftware with </a:t>
            </a:r>
            <a:r>
              <a:rPr b="1" lang="en-GB" sz="2800" spc="-1" strike="noStrike">
                <a:solidFill>
                  <a:srgbClr val="3366ff"/>
                </a:solidFill>
                <a:latin typeface="Comic Sans MS"/>
              </a:rPr>
              <a:t>adaptation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bilitie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6377040" y="1905120"/>
            <a:ext cx="1595520" cy="699840"/>
            <a:chOff x="6377040" y="1905120"/>
            <a:chExt cx="1595520" cy="699840"/>
          </a:xfrm>
        </p:grpSpPr>
        <p:sp>
          <p:nvSpPr>
            <p:cNvPr id="106" name=""/>
            <p:cNvSpPr/>
            <p:nvPr/>
          </p:nvSpPr>
          <p:spPr>
            <a:xfrm>
              <a:off x="6377040" y="1905120"/>
              <a:ext cx="1595520" cy="69984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ff66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642000" y="2151720"/>
              <a:ext cx="1117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mic Sans MS"/>
                </a:rPr>
                <a:t>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rot="19840200">
            <a:off x="5545080" y="1969560"/>
            <a:ext cx="816120" cy="405000"/>
          </a:xfrm>
          <a:prstGeom prst="lightningBol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0880" y="2268360"/>
            <a:ext cx="3591000" cy="2271600"/>
            <a:chOff x="5330880" y="2268360"/>
            <a:chExt cx="3591000" cy="2271600"/>
          </a:xfrm>
        </p:grpSpPr>
        <p:grpSp>
          <p:nvGrpSpPr>
            <p:cNvPr id="110" name=""/>
            <p:cNvGrpSpPr/>
            <p:nvPr/>
          </p:nvGrpSpPr>
          <p:grpSpPr>
            <a:xfrm>
              <a:off x="5330880" y="2268360"/>
              <a:ext cx="3591000" cy="2271600"/>
              <a:chOff x="5330880" y="2268360"/>
              <a:chExt cx="3591000" cy="227160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5330880" y="2268360"/>
                <a:ext cx="3591000" cy="2271600"/>
                <a:chOff x="5330880" y="2268360"/>
                <a:chExt cx="3591000" cy="227160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330880" y="2971440"/>
                  <a:ext cx="3591000" cy="1568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00"/>
                    </a:gs>
                    <a:gs pos="100000">
                      <a:srgbClr val="ffff99"/>
                    </a:gs>
                  </a:gsLst>
                  <a:lin ang="5400000"/>
                </a:gradFill>
                <a:ln w="936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 flipH="1">
                  <a:off x="5384880" y="2280960"/>
                  <a:ext cx="1008000" cy="1263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7944120" y="2268360"/>
                  <a:ext cx="927000" cy="12920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" name=""/>
              <p:cNvSpPr/>
              <p:nvPr/>
            </p:nvSpPr>
            <p:spPr>
              <a:xfrm>
                <a:off x="5521320" y="3581280"/>
                <a:ext cx="66384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omic Sans MS"/>
                  </a:rPr>
                  <a:t>MA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6315120" y="3116160"/>
              <a:ext cx="2251080" cy="1285560"/>
              <a:chOff x="6315120" y="3116160"/>
              <a:chExt cx="2251080" cy="1285560"/>
            </a:xfrm>
          </p:grpSpPr>
          <p:sp>
            <p:nvSpPr>
              <p:cNvPr id="117" name=""/>
              <p:cNvSpPr/>
              <p:nvPr/>
            </p:nvSpPr>
            <p:spPr>
              <a:xfrm>
                <a:off x="6315120" y="3438360"/>
                <a:ext cx="360360" cy="21420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215120" y="3759120"/>
                <a:ext cx="360360" cy="214200"/>
              </a:xfrm>
              <a:prstGeom prst="ellipse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124760" y="3116160"/>
                <a:ext cx="360360" cy="214200"/>
              </a:xfrm>
              <a:prstGeom prst="ellipse">
                <a:avLst/>
              </a:prstGeom>
              <a:blipFill rotWithShape="0">
                <a:blip r:embed="rId5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205840" y="3973320"/>
                <a:ext cx="360360" cy="214200"/>
              </a:xfrm>
              <a:prstGeom prst="ellipse">
                <a:avLst/>
              </a:prstGeom>
              <a:blipFill rotWithShape="0">
                <a:blip r:embed="rId6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05840" y="4081320"/>
                <a:ext cx="360360" cy="214200"/>
              </a:xfrm>
              <a:prstGeom prst="ellipse">
                <a:avLst/>
              </a:prstGeom>
              <a:blipFill rotWithShape="0">
                <a:blip r:embed="rId7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026560" y="3223800"/>
                <a:ext cx="360360" cy="214560"/>
              </a:xfrm>
              <a:prstGeom prst="ellipse">
                <a:avLst/>
              </a:prstGeom>
              <a:blipFill rotWithShape="0">
                <a:blip r:embed="rId8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575480" y="4187520"/>
                <a:ext cx="360360" cy="214200"/>
              </a:xfrm>
              <a:prstGeom prst="ellipse">
                <a:avLst/>
              </a:prstGeom>
              <a:blipFill rotWithShape="0">
                <a:blip r:embed="rId9"/>
                <a:srcRect/>
                <a:tile tx="0" ty="0" sx="100000" sy="100000" algn="ctr"/>
              </a:blip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04040" y="3323880"/>
                <a:ext cx="88920" cy="42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7752960" y="3430440"/>
                <a:ext cx="360360" cy="750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74040" y="3538440"/>
                <a:ext cx="539640" cy="320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492960" y="3644640"/>
                <a:ext cx="90360" cy="428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294760" y="3430440"/>
                <a:ext cx="88920" cy="5364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83680" y="3215880"/>
                <a:ext cx="539640" cy="108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6762960" y="3918960"/>
                <a:ext cx="504720" cy="261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3680" y="3966840"/>
                <a:ext cx="180720" cy="214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7934400" y="4181040"/>
                <a:ext cx="360360" cy="106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392960" y="3323880"/>
                <a:ext cx="900360" cy="685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V="1">
                <a:off x="6583320" y="3215880"/>
                <a:ext cx="540000" cy="21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5" name=""/>
          <p:cNvGrpSpPr/>
          <p:nvPr/>
        </p:nvGrpSpPr>
        <p:grpSpPr>
          <a:xfrm>
            <a:off x="5308560" y="4216320"/>
            <a:ext cx="2536920" cy="2114640"/>
            <a:chOff x="5308560" y="4216320"/>
            <a:chExt cx="2536920" cy="2114640"/>
          </a:xfrm>
        </p:grpSpPr>
        <p:sp>
          <p:nvSpPr>
            <p:cNvPr id="136" name=""/>
            <p:cNvSpPr/>
            <p:nvPr/>
          </p:nvSpPr>
          <p:spPr>
            <a:xfrm flipH="1">
              <a:off x="5393880" y="4216320"/>
              <a:ext cx="1033560" cy="1263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08680" y="4238640"/>
              <a:ext cx="982800" cy="132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5308560" y="5089680"/>
              <a:ext cx="2536920" cy="1241280"/>
              <a:chOff x="5308560" y="5089680"/>
              <a:chExt cx="2536920" cy="1241280"/>
            </a:xfrm>
          </p:grpSpPr>
          <p:sp>
            <p:nvSpPr>
              <p:cNvPr id="139" name=""/>
              <p:cNvSpPr/>
              <p:nvPr/>
            </p:nvSpPr>
            <p:spPr>
              <a:xfrm>
                <a:off x="5308560" y="5089680"/>
                <a:ext cx="2536920" cy="1241280"/>
              </a:xfrm>
              <a:prstGeom prst="ellipse">
                <a:avLst/>
              </a:prstGeom>
              <a:gradFill rotWithShape="0">
                <a:gsLst>
                  <a:gs pos="0">
                    <a:srgbClr val="3399ff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172200" y="5234040"/>
                <a:ext cx="8492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"/>
              <p:cNvGrpSpPr/>
              <p:nvPr/>
            </p:nvGrpSpPr>
            <p:grpSpPr>
              <a:xfrm>
                <a:off x="5923080" y="5581800"/>
                <a:ext cx="1349280" cy="688680"/>
                <a:chOff x="5923080" y="5581800"/>
                <a:chExt cx="1349280" cy="6886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5923080" y="5754600"/>
                  <a:ext cx="215640" cy="114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6462720" y="5925960"/>
                  <a:ext cx="216000" cy="114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6408720" y="5581800"/>
                  <a:ext cx="216000" cy="114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056360" y="6040440"/>
                  <a:ext cx="216000" cy="115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977080" y="6099120"/>
                  <a:ext cx="215640" cy="11448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948360" y="5638680"/>
                  <a:ext cx="216000" cy="1159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678720" y="6156360"/>
                  <a:ext cx="215640" cy="114120"/>
                </a:xfrm>
                <a:prstGeom prst="ellipse">
                  <a:avLst/>
                </a:prstGeom>
                <a:solidFill>
                  <a:srgbClr val="ffffff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200" bIns="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515280" y="5692680"/>
                  <a:ext cx="53640" cy="230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 flipH="1">
                  <a:off x="6784920" y="5749920"/>
                  <a:ext cx="216000" cy="403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029280" y="5864400"/>
                  <a:ext cx="54000" cy="2300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108920" y="5749920"/>
                  <a:ext cx="54000" cy="287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6191280" y="6012000"/>
                  <a:ext cx="303120" cy="141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6622920" y="6037200"/>
                  <a:ext cx="109800" cy="1159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6568920" y="5692680"/>
                  <a:ext cx="540000" cy="3682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flipV="1">
                  <a:off x="6083280" y="5635440"/>
                  <a:ext cx="324000" cy="114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6197760" y="6180120"/>
                  <a:ext cx="485640" cy="586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8" name=""/>
          <p:cNvSpPr/>
          <p:nvPr/>
        </p:nvSpPr>
        <p:spPr>
          <a:xfrm>
            <a:off x="179280" y="3443400"/>
            <a:ext cx="532152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AS = society of situated (autonomous) ag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000" y="4459320"/>
            <a:ext cx="5105160" cy="20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re and more </a:t>
            </a: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complex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3333ff"/>
                </a:solidFill>
                <a:latin typeface="Comic Sans MS"/>
              </a:rPr>
              <a:t>No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unctionally adequ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ff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MAS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56480" y="4216320"/>
            <a:ext cx="825480" cy="12708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7761240" y="3404880"/>
            <a:ext cx="368280" cy="7873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7612200" y="4575240"/>
            <a:ext cx="1256760" cy="1957320"/>
            <a:chOff x="7612200" y="4575240"/>
            <a:chExt cx="1256760" cy="1957320"/>
          </a:xfrm>
        </p:grpSpPr>
        <p:sp>
          <p:nvSpPr>
            <p:cNvPr id="163" name=""/>
            <p:cNvSpPr/>
            <p:nvPr/>
          </p:nvSpPr>
          <p:spPr>
            <a:xfrm>
              <a:off x="8029800" y="457524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66ff"/>
                  </a:solidFill>
                  <a:latin typeface="Comic Sans MS"/>
                </a:rPr>
                <a:t>A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12200" y="6164280"/>
              <a:ext cx="83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366ff"/>
                  </a:solidFill>
                  <a:latin typeface="Comic Sans MS"/>
                </a:rPr>
                <a:t>A</a:t>
              </a:r>
              <a:r>
                <a:rPr b="1" lang="en-GB" sz="1800" spc="-1" strike="noStrike">
                  <a:solidFill>
                    <a:srgbClr val="000000"/>
                  </a:solidFill>
                  <a:latin typeface="Comic Sans MS"/>
                </a:rPr>
                <a:t>M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2FA8-A291-4DD5-8E6C-7B931F4C4B66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250" autoRev="1" fill="hold"/>
                                        <p:tgtEl>
                                          <p:spTgt spid="1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Research Process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ory developed on Adaptive MA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Self-organisa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led by 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cooperation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. An agent (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locally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) detects and treats harmful situations (NC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global function is not coded within the agent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heory applied to many problem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Flood forecast, telecommunication networks, electronic commerce, foraging ants,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Promote this kind of programming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oolkit to develop software with emerging functionality </a:t>
            </a:r>
            <a:r>
              <a:rPr b="0" lang="en-GB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ADELFE (national project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7FA4-CCC0-46B7-B9D0-425BE7920C6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Case Study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imetabling proble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fferent actors: teachers, students and roo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ith availability constrai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Open problem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ew “actors”,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pgradeable, gener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Unpredictable environmen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Constraints can evolve (a room becomes unavailable, a teacher is ill, …) in real tim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3E9B-6D1D-4EFA-98A6-7216D1A0E1D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Overview of ADELFE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65240" y="1676520"/>
            <a:ext cx="8750160" cy="49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76920" indent="-37692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DELFE extends “classical” tool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48520" indent="-28260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ML, AUM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48520" indent="-28260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48520" indent="-28260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penTool (TNI fir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Entire life cycle: from requirements to tests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76920" indent="-37692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48520" indent="-28260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imetabling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225800" indent="-188640"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Different actors: teachers, students and room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225800" indent="-188640">
              <a:spcBef>
                <a:spcPts val="499"/>
              </a:spcBef>
              <a:buClr>
                <a:srgbClr val="0000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With availability constrai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48520" indent="-28260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pen probl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48520" indent="-28260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Unpredictable environmen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2FE3-BD84-4E05-9B83-1D20742ED71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Workflows of ADELFE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477040" y="1449360"/>
            <a:ext cx="3710880" cy="2325600"/>
            <a:chOff x="5477040" y="1449360"/>
            <a:chExt cx="3710880" cy="2325600"/>
          </a:xfrm>
        </p:grpSpPr>
        <p:grpSp>
          <p:nvGrpSpPr>
            <p:cNvPr id="173" name=""/>
            <p:cNvGrpSpPr/>
            <p:nvPr/>
          </p:nvGrpSpPr>
          <p:grpSpPr>
            <a:xfrm>
              <a:off x="5477040" y="1449360"/>
              <a:ext cx="3240000" cy="2325600"/>
              <a:chOff x="5477040" y="1449360"/>
              <a:chExt cx="3240000" cy="2325600"/>
            </a:xfrm>
          </p:grpSpPr>
          <p:grpSp>
            <p:nvGrpSpPr>
              <p:cNvPr id="174" name=""/>
              <p:cNvGrpSpPr/>
              <p:nvPr/>
            </p:nvGrpSpPr>
            <p:grpSpPr>
              <a:xfrm>
                <a:off x="5477040" y="1528920"/>
                <a:ext cx="357120" cy="2246040"/>
                <a:chOff x="5477040" y="1528920"/>
                <a:chExt cx="357120" cy="22460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665680" y="1868400"/>
                  <a:ext cx="0" cy="1906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477040" y="1528920"/>
                  <a:ext cx="357120" cy="3553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" name=""/>
              <p:cNvSpPr/>
              <p:nvPr/>
            </p:nvSpPr>
            <p:spPr>
              <a:xfrm>
                <a:off x="5892840" y="1449360"/>
                <a:ext cx="2824200" cy="87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Express the detailed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architecture </a:t>
                </a:r>
                <a:r>
                  <a:rPr b="1" lang="en-GB" sz="1800" spc="-1" strike="noStrike">
                    <a:solidFill>
                      <a:srgbClr val="3333cc"/>
                    </a:solidFill>
                    <a:latin typeface="Comic Sans MS"/>
                  </a:rPr>
                  <a:t>and the agent model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5840280" y="2333520"/>
              <a:ext cx="3347640" cy="1441440"/>
              <a:chOff x="5840280" y="2333520"/>
              <a:chExt cx="3347640" cy="1441440"/>
            </a:xfrm>
          </p:grpSpPr>
          <p:grpSp>
            <p:nvGrpSpPr>
              <p:cNvPr id="179" name=""/>
              <p:cNvGrpSpPr/>
              <p:nvPr/>
            </p:nvGrpSpPr>
            <p:grpSpPr>
              <a:xfrm>
                <a:off x="5840280" y="2333520"/>
                <a:ext cx="357480" cy="1441440"/>
                <a:chOff x="5840280" y="2333520"/>
                <a:chExt cx="357480" cy="1441440"/>
              </a:xfrm>
            </p:grpSpPr>
            <p:sp>
              <p:nvSpPr>
                <p:cNvPr id="180" name=""/>
                <p:cNvSpPr/>
                <p:nvPr/>
              </p:nvSpPr>
              <p:spPr>
                <a:xfrm flipH="1">
                  <a:off x="6000840" y="2628720"/>
                  <a:ext cx="1440" cy="1146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5840280" y="2333520"/>
                  <a:ext cx="357480" cy="3553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>
                <a:off x="6361560" y="2357280"/>
                <a:ext cx="282636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cc"/>
                    </a:solidFill>
                    <a:latin typeface="Comic Sans MS"/>
                  </a:rPr>
                  <a:t>Give agents architect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068960" y="3076560"/>
              <a:ext cx="1688040" cy="698040"/>
              <a:chOff x="7068960" y="3076560"/>
              <a:chExt cx="1688040" cy="69804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7068960" y="3122640"/>
                <a:ext cx="357120" cy="651960"/>
                <a:chOff x="7068960" y="3122640"/>
                <a:chExt cx="357120" cy="65196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7227720" y="3186000"/>
                  <a:ext cx="15840" cy="58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068960" y="3122640"/>
                  <a:ext cx="357120" cy="3553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7" name=""/>
              <p:cNvSpPr/>
              <p:nvPr/>
            </p:nvSpPr>
            <p:spPr>
              <a:xfrm>
                <a:off x="7581240" y="3076560"/>
                <a:ext cx="1175760" cy="5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Give class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diagram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6346800" y="2733840"/>
              <a:ext cx="1877040" cy="1040760"/>
              <a:chOff x="6346800" y="2733840"/>
              <a:chExt cx="1877040" cy="10407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6346800" y="2749680"/>
                <a:ext cx="357120" cy="1024920"/>
                <a:chOff x="6346800" y="2749680"/>
                <a:chExt cx="357120" cy="10249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505560" y="2813040"/>
                  <a:ext cx="0" cy="9615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346800" y="2749680"/>
                  <a:ext cx="357120" cy="3553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6831720" y="2733840"/>
                <a:ext cx="139212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3333cc"/>
                    </a:solidFill>
                    <a:latin typeface="Comic Sans MS"/>
                  </a:rPr>
                  <a:t>Express NC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469800" y="3753000"/>
            <a:ext cx="8596800" cy="1079280"/>
            <a:chOff x="469800" y="3753000"/>
            <a:chExt cx="8596800" cy="1079280"/>
          </a:xfrm>
        </p:grpSpPr>
        <p:sp>
          <p:nvSpPr>
            <p:cNvPr id="194" name=""/>
            <p:cNvSpPr/>
            <p:nvPr/>
          </p:nvSpPr>
          <p:spPr>
            <a:xfrm>
              <a:off x="5540400" y="3753000"/>
              <a:ext cx="2790720" cy="1079280"/>
            </a:xfrm>
            <a:prstGeom prst="rightArrowCallout">
              <a:avLst>
                <a:gd name="adj1" fmla="val 25002"/>
                <a:gd name="adj2" fmla="val 25000"/>
                <a:gd name="adj3" fmla="val 34907"/>
                <a:gd name="adj4" fmla="val 74236"/>
              </a:avLst>
            </a:prstGeom>
            <a:solidFill>
              <a:srgbClr val="33cc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Desig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82760" y="3753000"/>
              <a:ext cx="2632320" cy="1079280"/>
            </a:xfrm>
            <a:prstGeom prst="rightArrowCallout">
              <a:avLst>
                <a:gd name="adj1" fmla="val 25002"/>
                <a:gd name="adj2" fmla="val 25000"/>
                <a:gd name="adj3" fmla="val 24423"/>
                <a:gd name="adj4" fmla="val 77019"/>
              </a:avLst>
            </a:prstGeom>
            <a:solidFill>
              <a:srgbClr val="99cc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Analys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69800" y="3753000"/>
              <a:ext cx="2962440" cy="1079280"/>
            </a:xfrm>
            <a:prstGeom prst="rightArrowCallout">
              <a:avLst>
                <a:gd name="adj1" fmla="val 27651"/>
                <a:gd name="adj2" fmla="val 26472"/>
                <a:gd name="adj3" fmla="val 26546"/>
                <a:gd name="adj4" fmla="val 80597"/>
              </a:avLst>
            </a:prstGeom>
            <a:solidFill>
              <a:srgbClr val="ccffcc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 Black"/>
                </a:rPr>
                <a:t>workflo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453160" y="3930480"/>
              <a:ext cx="613440" cy="48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3333cc"/>
                  </a:solidFill>
                  <a:latin typeface="Times New Roman"/>
                </a:rPr>
                <a:t>. . .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446040" y="1523880"/>
            <a:ext cx="5244120" cy="2257200"/>
            <a:chOff x="446040" y="1523880"/>
            <a:chExt cx="5244120" cy="2257200"/>
          </a:xfrm>
        </p:grpSpPr>
        <p:grpSp>
          <p:nvGrpSpPr>
            <p:cNvPr id="199" name=""/>
            <p:cNvGrpSpPr/>
            <p:nvPr/>
          </p:nvGrpSpPr>
          <p:grpSpPr>
            <a:xfrm>
              <a:off x="446040" y="1523880"/>
              <a:ext cx="3383640" cy="2256480"/>
              <a:chOff x="446040" y="1523880"/>
              <a:chExt cx="3383640" cy="2256480"/>
            </a:xfrm>
          </p:grpSpPr>
          <p:sp>
            <p:nvSpPr>
              <p:cNvPr id="200" name=""/>
              <p:cNvSpPr/>
              <p:nvPr/>
            </p:nvSpPr>
            <p:spPr>
              <a:xfrm>
                <a:off x="838800" y="1523880"/>
                <a:ext cx="29908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Define the studied syste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1" name=""/>
              <p:cNvGrpSpPr/>
              <p:nvPr/>
            </p:nvGrpSpPr>
            <p:grpSpPr>
              <a:xfrm>
                <a:off x="446040" y="1555200"/>
                <a:ext cx="357120" cy="2225160"/>
                <a:chOff x="446040" y="1555200"/>
                <a:chExt cx="357120" cy="22251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3000" y="1740600"/>
                  <a:ext cx="0" cy="2039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46040" y="1555200"/>
                  <a:ext cx="357120" cy="35532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4" name=""/>
            <p:cNvGrpSpPr/>
            <p:nvPr/>
          </p:nvGrpSpPr>
          <p:grpSpPr>
            <a:xfrm>
              <a:off x="901800" y="1885680"/>
              <a:ext cx="3758760" cy="1895400"/>
              <a:chOff x="901800" y="1885680"/>
              <a:chExt cx="3758760" cy="1895400"/>
            </a:xfrm>
          </p:grpSpPr>
          <p:sp>
            <p:nvSpPr>
              <p:cNvPr id="205" name=""/>
              <p:cNvSpPr/>
              <p:nvPr/>
            </p:nvSpPr>
            <p:spPr>
              <a:xfrm>
                <a:off x="1233720" y="1885680"/>
                <a:ext cx="342684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Determine actors and entiti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6" name=""/>
              <p:cNvGrpSpPr/>
              <p:nvPr/>
            </p:nvGrpSpPr>
            <p:grpSpPr>
              <a:xfrm>
                <a:off x="901800" y="1942560"/>
                <a:ext cx="356760" cy="1838520"/>
                <a:chOff x="901800" y="1942560"/>
                <a:chExt cx="356760" cy="183852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1058760" y="2128320"/>
                  <a:ext cx="0" cy="16527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901800" y="1942560"/>
                  <a:ext cx="356760" cy="355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9" name=""/>
            <p:cNvGrpSpPr/>
            <p:nvPr/>
          </p:nvGrpSpPr>
          <p:grpSpPr>
            <a:xfrm>
              <a:off x="1433520" y="2238120"/>
              <a:ext cx="2085120" cy="1476360"/>
              <a:chOff x="1433520" y="2238120"/>
              <a:chExt cx="2085120" cy="1476360"/>
            </a:xfrm>
          </p:grpSpPr>
          <p:sp>
            <p:nvSpPr>
              <p:cNvPr id="210" name=""/>
              <p:cNvSpPr/>
              <p:nvPr/>
            </p:nvSpPr>
            <p:spPr>
              <a:xfrm>
                <a:off x="1832400" y="2331720"/>
                <a:ext cx="168624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Define contex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1" name=""/>
              <p:cNvGrpSpPr/>
              <p:nvPr/>
            </p:nvGrpSpPr>
            <p:grpSpPr>
              <a:xfrm>
                <a:off x="1433520" y="2238120"/>
                <a:ext cx="357120" cy="1476360"/>
                <a:chOff x="1433520" y="2238120"/>
                <a:chExt cx="357120" cy="1476360"/>
              </a:xfrm>
            </p:grpSpPr>
            <p:sp>
              <p:nvSpPr>
                <p:cNvPr id="212" name=""/>
                <p:cNvSpPr/>
                <p:nvPr/>
              </p:nvSpPr>
              <p:spPr>
                <a:xfrm flipH="1">
                  <a:off x="1583640" y="2238120"/>
                  <a:ext cx="6120" cy="1476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1433520" y="2239560"/>
                  <a:ext cx="357120" cy="355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2584440" y="3017520"/>
              <a:ext cx="2426760" cy="743040"/>
              <a:chOff x="2584440" y="3017520"/>
              <a:chExt cx="2426760" cy="743040"/>
            </a:xfrm>
          </p:grpSpPr>
          <p:sp>
            <p:nvSpPr>
              <p:cNvPr id="215" name=""/>
              <p:cNvSpPr/>
              <p:nvPr/>
            </p:nvSpPr>
            <p:spPr>
              <a:xfrm>
                <a:off x="2997360" y="3111120"/>
                <a:ext cx="201384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0000"/>
                    </a:solidFill>
                    <a:latin typeface="Comic Sans MS"/>
                  </a:rPr>
                  <a:t>Express use cas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6" name=""/>
              <p:cNvGrpSpPr/>
              <p:nvPr/>
            </p:nvGrpSpPr>
            <p:grpSpPr>
              <a:xfrm>
                <a:off x="2584440" y="3017520"/>
                <a:ext cx="357120" cy="743040"/>
                <a:chOff x="2584440" y="3017520"/>
                <a:chExt cx="357120" cy="743040"/>
              </a:xfrm>
            </p:grpSpPr>
            <p:sp>
              <p:nvSpPr>
                <p:cNvPr id="217" name=""/>
                <p:cNvSpPr/>
                <p:nvPr/>
              </p:nvSpPr>
              <p:spPr>
                <a:xfrm flipH="1">
                  <a:off x="2725200" y="3017520"/>
                  <a:ext cx="15480" cy="743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584440" y="3018960"/>
                  <a:ext cx="357120" cy="35568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9" name=""/>
            <p:cNvGrpSpPr/>
            <p:nvPr/>
          </p:nvGrpSpPr>
          <p:grpSpPr>
            <a:xfrm>
              <a:off x="1909800" y="2666880"/>
              <a:ext cx="3780360" cy="1057320"/>
              <a:chOff x="1909800" y="2666880"/>
              <a:chExt cx="3780360" cy="1057320"/>
            </a:xfrm>
          </p:grpSpPr>
          <p:sp>
            <p:nvSpPr>
              <p:cNvPr id="220" name=""/>
              <p:cNvSpPr/>
              <p:nvPr/>
            </p:nvSpPr>
            <p:spPr>
              <a:xfrm>
                <a:off x="2242080" y="2760480"/>
                <a:ext cx="34480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800" spc="-1" strike="noStrike">
                    <a:solidFill>
                      <a:srgbClr val="0033cc"/>
                    </a:solidFill>
                    <a:latin typeface="Comic Sans MS"/>
                  </a:rPr>
                  <a:t>Characterize the environ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1909800" y="2666880"/>
                <a:ext cx="357120" cy="1057320"/>
                <a:chOff x="1909800" y="2666880"/>
                <a:chExt cx="357120" cy="1057320"/>
              </a:xfrm>
            </p:grpSpPr>
            <p:sp>
              <p:nvSpPr>
                <p:cNvPr id="222" name=""/>
                <p:cNvSpPr/>
                <p:nvPr/>
              </p:nvSpPr>
              <p:spPr>
                <a:xfrm flipH="1">
                  <a:off x="2041200" y="2666880"/>
                  <a:ext cx="25200" cy="10573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909800" y="2668680"/>
                  <a:ext cx="357120" cy="355320"/>
                </a:xfrm>
                <a:prstGeom prst="ellipse">
                  <a:avLst/>
                </a:prstGeom>
                <a:solidFill>
                  <a:srgbClr val="ccff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24" name=""/>
          <p:cNvGrpSpPr/>
          <p:nvPr/>
        </p:nvGrpSpPr>
        <p:grpSpPr>
          <a:xfrm>
            <a:off x="3182760" y="4748040"/>
            <a:ext cx="5935680" cy="2005200"/>
            <a:chOff x="3182760" y="4748040"/>
            <a:chExt cx="5935680" cy="2005200"/>
          </a:xfrm>
        </p:grpSpPr>
        <p:grpSp>
          <p:nvGrpSpPr>
            <p:cNvPr id="225" name=""/>
            <p:cNvGrpSpPr/>
            <p:nvPr/>
          </p:nvGrpSpPr>
          <p:grpSpPr>
            <a:xfrm>
              <a:off x="3182760" y="4748040"/>
              <a:ext cx="5935680" cy="2005200"/>
              <a:chOff x="3182760" y="4748040"/>
              <a:chExt cx="5935680" cy="2005200"/>
            </a:xfrm>
          </p:grpSpPr>
          <p:grpSp>
            <p:nvGrpSpPr>
              <p:cNvPr id="226" name=""/>
              <p:cNvGrpSpPr/>
              <p:nvPr/>
            </p:nvGrpSpPr>
            <p:grpSpPr>
              <a:xfrm>
                <a:off x="3182760" y="4748040"/>
                <a:ext cx="357120" cy="2005200"/>
                <a:chOff x="3182760" y="4748040"/>
                <a:chExt cx="357120" cy="2005200"/>
              </a:xfrm>
            </p:grpSpPr>
            <p:sp>
              <p:nvSpPr>
                <p:cNvPr id="227" name=""/>
                <p:cNvSpPr/>
                <p:nvPr/>
              </p:nvSpPr>
              <p:spPr>
                <a:xfrm flipV="1">
                  <a:off x="3354120" y="4748040"/>
                  <a:ext cx="0" cy="1665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 flipV="1" rot="10800000">
                  <a:off x="3182760" y="6397560"/>
                  <a:ext cx="357120" cy="35568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6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"/>
              <p:cNvSpPr/>
              <p:nvPr/>
            </p:nvSpPr>
            <p:spPr>
              <a:xfrm>
                <a:off x="3481920" y="6397560"/>
                <a:ext cx="563652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Analyze the domain and identify the compon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"/>
            <p:cNvGrpSpPr/>
            <p:nvPr/>
          </p:nvGrpSpPr>
          <p:grpSpPr>
            <a:xfrm>
              <a:off x="3679920" y="4748040"/>
              <a:ext cx="3418200" cy="1650240"/>
              <a:chOff x="3679920" y="4748040"/>
              <a:chExt cx="3418200" cy="1650240"/>
            </a:xfrm>
          </p:grpSpPr>
          <p:sp>
            <p:nvSpPr>
              <p:cNvPr id="231" name=""/>
              <p:cNvSpPr/>
              <p:nvPr/>
            </p:nvSpPr>
            <p:spPr>
              <a:xfrm>
                <a:off x="4098240" y="6076800"/>
                <a:ext cx="299988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cc"/>
                    </a:solidFill>
                    <a:latin typeface="Comic Sans MS"/>
                  </a:rPr>
                  <a:t>Verify the AMAS adequacy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3679920" y="4748040"/>
                <a:ext cx="357120" cy="1571760"/>
                <a:chOff x="3679920" y="4748040"/>
                <a:chExt cx="357120" cy="1571760"/>
              </a:xfrm>
            </p:grpSpPr>
            <p:sp>
              <p:nvSpPr>
                <p:cNvPr id="233" name=""/>
                <p:cNvSpPr/>
                <p:nvPr/>
              </p:nvSpPr>
              <p:spPr>
                <a:xfrm flipV="1">
                  <a:off x="3851280" y="4748040"/>
                  <a:ext cx="0" cy="12146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 flipV="1" rot="10800000">
                  <a:off x="3679920" y="5964120"/>
                  <a:ext cx="357120" cy="35568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7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5" name=""/>
            <p:cNvGrpSpPr/>
            <p:nvPr/>
          </p:nvGrpSpPr>
          <p:grpSpPr>
            <a:xfrm>
              <a:off x="4237200" y="4748040"/>
              <a:ext cx="2177640" cy="1306080"/>
              <a:chOff x="4237200" y="4748040"/>
              <a:chExt cx="2177640" cy="1306080"/>
            </a:xfrm>
          </p:grpSpPr>
          <p:sp>
            <p:nvSpPr>
              <p:cNvPr id="236" name=""/>
              <p:cNvSpPr/>
              <p:nvPr/>
            </p:nvSpPr>
            <p:spPr>
              <a:xfrm>
                <a:off x="4664520" y="5732640"/>
                <a:ext cx="1750320" cy="321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3333cc"/>
                    </a:solidFill>
                    <a:latin typeface="Comic Sans MS"/>
                  </a:rPr>
                  <a:t>Identify ag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4237200" y="4748040"/>
                <a:ext cx="357120" cy="1270080"/>
                <a:chOff x="4237200" y="4748040"/>
                <a:chExt cx="357120" cy="1270080"/>
              </a:xfrm>
            </p:grpSpPr>
            <p:sp>
              <p:nvSpPr>
                <p:cNvPr id="238" name=""/>
                <p:cNvSpPr/>
                <p:nvPr/>
              </p:nvSpPr>
              <p:spPr>
                <a:xfrm flipV="1">
                  <a:off x="4422960" y="4748040"/>
                  <a:ext cx="0" cy="9144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 flipV="1" rot="10800000">
                  <a:off x="4237200" y="5662440"/>
                  <a:ext cx="357120" cy="35568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8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40" name=""/>
            <p:cNvGrpSpPr/>
            <p:nvPr/>
          </p:nvGrpSpPr>
          <p:grpSpPr>
            <a:xfrm>
              <a:off x="4826160" y="4748040"/>
              <a:ext cx="4090320" cy="896040"/>
              <a:chOff x="4826160" y="4748040"/>
              <a:chExt cx="4090320" cy="896040"/>
            </a:xfrm>
          </p:grpSpPr>
          <p:sp>
            <p:nvSpPr>
              <p:cNvPr id="241" name=""/>
              <p:cNvSpPr/>
              <p:nvPr/>
            </p:nvSpPr>
            <p:spPr>
              <a:xfrm>
                <a:off x="5253480" y="5038560"/>
                <a:ext cx="3663000" cy="59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Study the interactions between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Comic Sans MS"/>
                  </a:rPr>
                  <a:t>component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2" name=""/>
              <p:cNvGrpSpPr/>
              <p:nvPr/>
            </p:nvGrpSpPr>
            <p:grpSpPr>
              <a:xfrm>
                <a:off x="4826160" y="4748040"/>
                <a:ext cx="357120" cy="896040"/>
                <a:chOff x="4826160" y="4748040"/>
                <a:chExt cx="357120" cy="896040"/>
              </a:xfrm>
            </p:grpSpPr>
            <p:sp>
              <p:nvSpPr>
                <p:cNvPr id="243" name=""/>
                <p:cNvSpPr/>
                <p:nvPr/>
              </p:nvSpPr>
              <p:spPr>
                <a:xfrm flipV="1">
                  <a:off x="4997520" y="4748040"/>
                  <a:ext cx="15840" cy="5889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lg" type="stealth" w="lg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 flipV="1" rot="10800000">
                  <a:off x="4826160" y="5288400"/>
                  <a:ext cx="357120" cy="355320"/>
                </a:xfrm>
                <a:prstGeom prst="ellipse">
                  <a:avLst/>
                </a:prstGeom>
                <a:solidFill>
                  <a:srgbClr val="99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9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BDB3-550D-4EAD-9091-718FD66AFFD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Requirements</a:t>
            </a:r>
            <a:br>
              <a:rPr sz="3800"/>
            </a:br>
            <a:r>
              <a:rPr b="1" lang="en-GB" sz="3000" spc="-1" strike="noStrike">
                <a:solidFill>
                  <a:srgbClr val="0000ff"/>
                </a:solidFill>
                <a:latin typeface="Comic Sans MS"/>
              </a:rPr>
              <a:t>Characterize the environment</a:t>
            </a:r>
            <a:endParaRPr b="1" lang="en-US" sz="30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69360" indent="-36936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Use the terms proposed to do i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D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yna</a:t>
            </a: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m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ical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/static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system can predict the evolution of the entities that are act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Accessible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/not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can obtain all information about its environm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eterministic/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not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t does not know the effects of its actions on the active entit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831240" indent="-276840"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ff"/>
                </a:solidFill>
                <a:latin typeface="Comic Sans MS"/>
              </a:rPr>
              <a:t>C</a:t>
            </a:r>
            <a:r>
              <a:rPr b="0" lang="en-GB" sz="2400" spc="-1" strike="noStrike">
                <a:solidFill>
                  <a:srgbClr val="0033cc"/>
                </a:solidFill>
                <a:latin typeface="Comic Sans MS"/>
              </a:rPr>
              <a:t>ontinuou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/discrete: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 number of interactions between system and entities is infini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dequacy to the AMAS theory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69360" indent="-36936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daptation </a:t>
            </a:r>
            <a:r>
              <a:rPr b="1" lang="en-GB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interaction system/environment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7823-A8A7-4DF8-8D25-5BFC033C303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60674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Analysis</a:t>
            </a:r>
            <a:br>
              <a:rPr sz="3800"/>
            </a:br>
            <a:r>
              <a:rPr b="1" lang="en-GB" sz="3800" spc="-1" strike="noStrike">
                <a:solidFill>
                  <a:srgbClr val="0000ff"/>
                </a:solidFill>
                <a:latin typeface="Comic Sans MS"/>
              </a:rPr>
              <a:t>Adequacy to the AMAS</a:t>
            </a:r>
            <a:endParaRPr b="1" lang="en-US" sz="3800" spc="-1" strike="noStrike">
              <a:solidFill>
                <a:srgbClr val="0000ff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4546440" cy="48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spcBef>
                <a:spcPts val="700"/>
              </a:spcBef>
              <a:buClr>
                <a:srgbClr val="00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s an AMAS needed at the global and/or at the local level?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o algorithm kno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volution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Open, non-linear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istribu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-285480"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ationality and behaviour of the compon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857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956120" y="1449360"/>
            <a:ext cx="3981600" cy="5408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9A2F-CA9F-4E99-935E-2CFC2F8C3C3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8-11T16:16:03Z</dcterms:created>
  <dc:creator>Carole BERNON</dc:creator>
  <dc:description/>
  <dc:language>en-US</dc:language>
  <cp:lastModifiedBy>bernon</cp:lastModifiedBy>
  <cp:lastPrinted>2001-11-23T16:21:19Z</cp:lastPrinted>
  <dcterms:modified xsi:type="dcterms:W3CDTF">2002-09-17T10:39:31Z</dcterms:modified>
  <cp:revision>412</cp:revision>
  <dc:subject/>
  <dc:title>ESAW 2002</dc:title>
</cp:coreProperties>
</file>