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2AA-9EF0-4689-B6DE-D77ABB99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5D9-BAEE-4365-AE46-547FA502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8FC-D6E7-484C-8BC3-95AFD3D8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1BC-B3F5-45BF-B579-78E5251E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28F5-785C-4763-BF03-A27302C8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F136-BF90-48B5-AF30-436F93B0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983B-C6D9-45A6-B5D4-A5D75CBD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3B42-989F-4C71-BFFC-7ED19C3E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A501-D1E2-4FDF-86BA-BB32182E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C1C7-F9C7-4A7B-B96B-10CFB248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AA68-58A6-4956-B4D6-34B9872B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2918-A109-44C0-8896-9B405164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9C99-C0F2-4FCE-B01F-3739DDDF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A3FE-9500-45B1-9E8C-E1086CF5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D869-77A9-4798-B292-678874D4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D856-6E33-44AD-A726-FE5BC20B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C2FF-74D4-4F52-B9BB-149B3E52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4FC-1D49-409B-A97D-1D55BE3E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3C23-F3B3-4132-AADA-5E431584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6E59-E533-4137-B01C-CC1B042D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3172-2785-4063-8F74-224E76A5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1CF-28C6-4FEB-962F-ACA9B107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AAF7-56BA-4549-9CBD-CD2A3E66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438-B794-4EAB-9B35-14573420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A7FA-165A-442F-A1EE-430FF8FF323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A60A-EF44-4103-A9A4-F5B27FAED793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owards a Methodology for Coordination Mechanism Selection in Open Syste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99640" y="4292640"/>
            <a:ext cx="7272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imon Miles, Mike Joy, Michael Lu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niversity of Southampton, U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niversity of Warwick, U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 of IP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825480" y="2127240"/>
            <a:ext cx="6561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Part Name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Model Name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Tr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Description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The agent using this mechanism checks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quality of any solution provided by an agent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Algorithms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1. Send requests to agents; 2. Wait fo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suitable duration to receive offers; 3. If n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Priorities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A trust-based mechanism prioritises quality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solution and reliability in obtaining a sol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Resource Use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The agent using the mechanism will nee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possess quantitative assessments of th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Support Required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As the agent using the trust mechan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algorithm must wait a specified duration, it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Scaling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ith a large number of possible collabor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for a goal, the number of models possessed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Applicability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here the quality of the goal is able to 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checked in some way and is of mor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Problems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A trust-based mechanism may add a signific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amount of processing to each goal the agent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58920" y="2637000"/>
            <a:ext cx="568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2133720"/>
            <a:ext cx="56894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24720" y="2349360"/>
            <a:ext cx="576360" cy="574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4149720"/>
            <a:ext cx="576360" cy="574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17080" y="3789360"/>
            <a:ext cx="647640" cy="647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451280" y="2924280"/>
            <a:ext cx="289080" cy="122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852640"/>
            <a:ext cx="576360" cy="93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51640" y="472428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675640" y="443700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1200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48360" y="1484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ustworthiness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1484280"/>
            <a:ext cx="18000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885080" y="292428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118720" y="2871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43960" y="2924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5320" y="4941720"/>
            <a:ext cx="40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742600" y="5157720"/>
            <a:ext cx="40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2200" y="49417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Obs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80640" y="609300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ystem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88320" y="2133720"/>
            <a:ext cx="99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ges of Coordi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cquiring knowledge of other agent(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pdating and maintaining knowledge of other agent(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alysing knowledge of other agents to determine coordinat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erforming actions to cause coord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nalysis of Go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332000" y="5013360"/>
            <a:ext cx="4608360" cy="934560"/>
            <a:chOff x="1332000" y="5013360"/>
            <a:chExt cx="4608360" cy="934560"/>
          </a:xfrm>
        </p:grpSpPr>
        <p:sp>
          <p:nvSpPr>
            <p:cNvPr id="190" name=""/>
            <p:cNvSpPr/>
            <p:nvPr/>
          </p:nvSpPr>
          <p:spPr>
            <a:xfrm>
              <a:off x="1332000" y="501336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Prefer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32000" y="551628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Reli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32000" y="573228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Sp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32000" y="53006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71640" y="5013360"/>
              <a:ext cx="1368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Tru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40360" y="5013360"/>
              <a:ext cx="180000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Forced Coope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71640" y="5300640"/>
              <a:ext cx="136872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71640" y="5516280"/>
              <a:ext cx="1368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71640" y="5732280"/>
              <a:ext cx="1368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40360" y="5300640"/>
              <a:ext cx="180000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40360" y="5516280"/>
              <a:ext cx="180000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40360" y="5732280"/>
              <a:ext cx="180000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32000" y="2997360"/>
            <a:ext cx="4608360" cy="934560"/>
            <a:chOff x="1332000" y="2997360"/>
            <a:chExt cx="4608360" cy="934560"/>
          </a:xfrm>
        </p:grpSpPr>
        <p:sp>
          <p:nvSpPr>
            <p:cNvPr id="203" name=""/>
            <p:cNvSpPr/>
            <p:nvPr/>
          </p:nvSpPr>
          <p:spPr>
            <a:xfrm>
              <a:off x="1332000" y="299736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Prefer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32000" y="350028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Reli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32000" y="371628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Sp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32000" y="32846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71640" y="2997360"/>
              <a:ext cx="1368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Tru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40360" y="2997360"/>
              <a:ext cx="180000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Forced Coope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71640" y="3284640"/>
              <a:ext cx="136872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71640" y="3500280"/>
              <a:ext cx="1368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71640" y="3716280"/>
              <a:ext cx="1368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40360" y="3284640"/>
              <a:ext cx="180000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0360" y="3500280"/>
              <a:ext cx="180000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40360" y="3716280"/>
              <a:ext cx="180000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332000" y="400536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P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32000" y="450864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472428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32000" y="429264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4005360"/>
            <a:ext cx="136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Tr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40360" y="4005360"/>
            <a:ext cx="1800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Forced Co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4292640"/>
            <a:ext cx="136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4508640"/>
            <a:ext cx="136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71640" y="4724280"/>
            <a:ext cx="136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40360" y="4292640"/>
            <a:ext cx="180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4508640"/>
            <a:ext cx="1800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0360" y="4724280"/>
            <a:ext cx="180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198900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P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249228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32000" y="270828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32000" y="227664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71640" y="1989000"/>
            <a:ext cx="136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Tr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40360" y="1989000"/>
            <a:ext cx="180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Forced Co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71640" y="2276640"/>
            <a:ext cx="136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2492280"/>
            <a:ext cx="136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2708280"/>
            <a:ext cx="136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40360" y="2276640"/>
            <a:ext cx="1800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40360" y="2492280"/>
            <a:ext cx="180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2708280"/>
            <a:ext cx="180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32000" y="2924280"/>
            <a:ext cx="655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32000" y="3933720"/>
            <a:ext cx="655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4941720"/>
            <a:ext cx="655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5950080"/>
            <a:ext cx="655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6560" y="200340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cqui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40600" y="306864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int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gent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47080" y="407664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65800" y="5084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cting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sulting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gent 1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s Forced Cooperation to coordinate over the services implementing the Contribution of Weather Data and Set Access Rights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gent 2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s a Trust-based mechanism to coordinate over services implementing any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Justification &amp; Opportun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rganisation -&gt;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gents -&gt; Tailored Ro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echanisms -&gt; P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oals, Preferences -&gt;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pportun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striction only whe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-use in ope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-us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ailoring interaction roles to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sign patterns for mechanism re-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pportunism: Restriction only where necess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Justification: Tying design decisions to application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ims and Overview of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se Study and Success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quirements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ordination of Ag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alysis an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pen System Applicatio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-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gents and Non-Autonomou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ign Pa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pportun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gent Interaction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00000" y="2205000"/>
            <a:ext cx="3600720" cy="3672000"/>
            <a:chOff x="900000" y="2205000"/>
            <a:chExt cx="3600720" cy="3672000"/>
          </a:xfrm>
        </p:grpSpPr>
        <p:sp>
          <p:nvSpPr>
            <p:cNvPr id="107" name=""/>
            <p:cNvSpPr/>
            <p:nvPr/>
          </p:nvSpPr>
          <p:spPr>
            <a:xfrm>
              <a:off x="900000" y="2205000"/>
              <a:ext cx="3600720" cy="36720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332000" y="3068640"/>
              <a:ext cx="2663640" cy="2232000"/>
              <a:chOff x="1332000" y="3068640"/>
              <a:chExt cx="2663640" cy="2232000"/>
            </a:xfrm>
          </p:grpSpPr>
          <p:sp>
            <p:nvSpPr>
              <p:cNvPr id="109" name=""/>
              <p:cNvSpPr/>
              <p:nvPr/>
            </p:nvSpPr>
            <p:spPr>
              <a:xfrm>
                <a:off x="1835280" y="3068640"/>
                <a:ext cx="151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2000" y="3789360"/>
                <a:ext cx="79200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59280" y="3645000"/>
                <a:ext cx="93636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771640" y="3860640"/>
                <a:ext cx="0" cy="14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771640" y="4508640"/>
                <a:ext cx="107964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03280" y="443700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4788000" y="2205000"/>
            <a:ext cx="3600360" cy="3672000"/>
            <a:chOff x="4788000" y="2205000"/>
            <a:chExt cx="3600360" cy="3672000"/>
          </a:xfrm>
        </p:grpSpPr>
        <p:sp>
          <p:nvSpPr>
            <p:cNvPr id="116" name=""/>
            <p:cNvSpPr/>
            <p:nvPr/>
          </p:nvSpPr>
          <p:spPr>
            <a:xfrm>
              <a:off x="4788000" y="2205000"/>
              <a:ext cx="3600360" cy="36720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219640" y="3068640"/>
              <a:ext cx="2662920" cy="2232000"/>
              <a:chOff x="5219640" y="3068640"/>
              <a:chExt cx="2662920" cy="2232000"/>
            </a:xfrm>
          </p:grpSpPr>
          <p:sp>
            <p:nvSpPr>
              <p:cNvPr id="118" name=""/>
              <p:cNvSpPr/>
              <p:nvPr/>
            </p:nvSpPr>
            <p:spPr>
              <a:xfrm>
                <a:off x="5722560" y="3068640"/>
                <a:ext cx="151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219640" y="3789360"/>
                <a:ext cx="79164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946560" y="3645000"/>
                <a:ext cx="93600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658920" y="3860640"/>
                <a:ext cx="0" cy="14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6658920" y="4508640"/>
                <a:ext cx="107928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290560" y="443700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4067280" y="2492280"/>
            <a:ext cx="1081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67280" y="5516640"/>
            <a:ext cx="1081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64000" y="292428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6000" y="292428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88000" y="357336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40720" y="41497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72360" y="522936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342900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4508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4076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479736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lation to Other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oles: initial identification may not be possible and role structure may not be justifi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flows: decisions assuming domain structure may reduce opportun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ase Study: Weather Mapp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773360"/>
            <a:ext cx="7920000" cy="4392360"/>
          </a:xfrm>
          <a:prstGeom prst="ellipse">
            <a:avLst/>
          </a:prstGeom>
          <a:solidFill>
            <a:srgbClr val="00e4a8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1700280"/>
            <a:ext cx="1582560" cy="1152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64360" y="5157720"/>
            <a:ext cx="1440000" cy="1008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4724280"/>
            <a:ext cx="2087640" cy="1584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ibu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773360"/>
            <a:ext cx="1873440" cy="1150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ibu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556000" y="4365360"/>
            <a:ext cx="57600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95600" y="4076640"/>
            <a:ext cx="101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67960" y="2637000"/>
            <a:ext cx="13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eathe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2880" y="2997360"/>
            <a:ext cx="101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23240" y="4365720"/>
            <a:ext cx="101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2276640"/>
            <a:ext cx="3529080" cy="309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76720" y="2708280"/>
            <a:ext cx="3276360" cy="2440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700360" y="2349360"/>
            <a:ext cx="1150920" cy="6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443640" y="2781360"/>
            <a:ext cx="72072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4581360"/>
            <a:ext cx="1150920" cy="6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227664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3141720"/>
            <a:ext cx="1873440" cy="1150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ibu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64000" y="5589720"/>
            <a:ext cx="1440000" cy="1008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5589720"/>
            <a:ext cx="1440000" cy="1008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77800" y="371628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uccess Crite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pportunistic use of 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party services by agents where pos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Justified design that makes all design decisions explicit with relation to the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oals and P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Contribute Weather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ioritise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ecurity, Reliability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View a Predi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ioritise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Quality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Set Access Righ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ioritise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ecurity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sub-goals and p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ordination Mechanis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-use in design following the design pattern appro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igner has set of available coordination mechanisms expressed in a standard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ust-based, forced cooperation, negotiated, broker agent, simple commitment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lection of mechanisms justified by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mon Miles</cp:lastModifiedBy>
  <dcterms:modified xsi:type="dcterms:W3CDTF">2002-09-12T19:58:16Z</dcterms:modified>
  <cp:revision>5</cp:revision>
  <dc:subject/>
  <dc:title>PowerPoint Presentation</dc:title>
</cp:coreProperties>
</file>