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3D54-C72D-4DA5-93AE-24547D875F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C11D-6377-40C8-AA1A-B479ECAEA5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514-AF86-4305-9F54-FF73FDE3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AFB-66B7-4632-AB1E-38107328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7C3-CEA9-4B99-BFF3-BA88E4B3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B83-6387-4A2C-BCFC-D387CD24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714-D7BE-4BF8-9D3B-5F539AF1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F7F-32BF-4664-A197-D4BA0970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915-A4C9-4CA1-8CDC-133F87EE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8D7-16C0-44C2-8318-B195FC52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ADBA-C703-42A7-9247-FF99EA40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D25-0585-45BA-B548-E06DB82D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A88-A75F-4AA5-9C94-37E89309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986-1CE1-4F09-86EA-7C1D8351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323E-5766-47D1-8844-29605E142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Times New Roman"/>
              </a:rPr>
              <a:t>Multi-Agent Systems Desig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27040" y="3387600"/>
            <a:ext cx="6258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hl Mellouli, Guy W. Mineau and Daniel Pas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aval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aboratory of Computational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ift.ulaval.ca/~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sehl.mellouli, guy.mineau}@ift.ulaval.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niel.pascot@sio.ulaval.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ic%20Logo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181480" cy="10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Environment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600200"/>
            <a:ext cx="7090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Environment = {situations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Situation = impact on the structure of the 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Situation described by a set of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Event: transition from situation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8720" y="6491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9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90720" y="1447920"/>
          <a:ext cx="722952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22952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Environment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78720" y="6491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10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Agent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6880" y="2517840"/>
            <a:ext cx="78872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Situation = impact on the agent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Agent Diagram= {roles} + control +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78720" y="6491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11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Agent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1600200"/>
          <a:ext cx="722952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22952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78720" y="6491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12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280" y="1905120"/>
            <a:ext cx="4495680" cy="3733200"/>
            <a:chOff x="152280" y="1905120"/>
            <a:chExt cx="4495680" cy="3733200"/>
          </a:xfrm>
        </p:grpSpPr>
        <p:graphicFrame>
          <p:nvGraphicFramePr>
            <p:cNvPr id="112" name=""/>
            <p:cNvGraphicFramePr/>
            <p:nvPr/>
          </p:nvGraphicFramePr>
          <p:xfrm>
            <a:off x="152280" y="1905120"/>
            <a:ext cx="4495680" cy="373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905120"/>
                      <a:ext cx="4495680" cy="37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3341520" y="1977840"/>
              <a:ext cx="1151640" cy="2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In situation S</a:t>
              </a:r>
              <a:r>
                <a:rPr b="1" lang="en-GB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208080" y="2071080"/>
            <a:ext cx="1415880" cy="480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8080" y="2071080"/>
                      <a:ext cx="1415880" cy="48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1460160" y="3197880"/>
            <a:ext cx="931680" cy="23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60160" y="3197880"/>
                      <a:ext cx="931680" cy="23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4952880" y="1905120"/>
            <a:ext cx="4190760" cy="3733200"/>
            <a:chOff x="4952880" y="1905120"/>
            <a:chExt cx="4190760" cy="3733200"/>
          </a:xfrm>
        </p:grpSpPr>
        <p:graphicFrame>
          <p:nvGraphicFramePr>
            <p:cNvPr id="120" name=""/>
            <p:cNvGraphicFramePr/>
            <p:nvPr/>
          </p:nvGraphicFramePr>
          <p:xfrm>
            <a:off x="4952880" y="1905120"/>
            <a:ext cx="4190760" cy="373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1905120"/>
                      <a:ext cx="4190760" cy="37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"/>
            <p:cNvGraphicFramePr/>
            <p:nvPr/>
          </p:nvGraphicFramePr>
          <p:xfrm>
            <a:off x="4952880" y="1909800"/>
            <a:ext cx="4184640" cy="3728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52880" y="1909800"/>
                      <a:ext cx="4184640" cy="37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8063280" y="1979280"/>
              <a:ext cx="942840" cy="2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In situation S</a:t>
              </a:r>
              <a:r>
                <a:rPr b="1" lang="en-GB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Agent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478720" y="6491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13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Situation Event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90720" y="1447920"/>
          <a:ext cx="722952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22952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78720" y="6491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14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Situation Event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080" y="2022480"/>
            <a:ext cx="4587840" cy="35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Rules inferenc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(s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(W1)"/>
                <a:ea typeface="Times New Roman"/>
              </a:rPr>
              <a:t>4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e, 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s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D_&gt;=_1)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(s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(W1)"/>
                <a:ea typeface="Times New Roman"/>
              </a:rPr>
              <a:t>0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, box_goal, 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s)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D_&gt;=_1)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   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(s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(W1)"/>
                <a:ea typeface="Times New Roman"/>
              </a:rPr>
              <a:t>0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, scores_goal, s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(W1)"/>
                <a:ea typeface="Times New Roman"/>
              </a:rPr>
              <a:t>5</a:t>
            </a:r>
            <a:r>
              <a:rPr b="0" lang="en-GB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D_&gt;=_1)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200400"/>
            <a:ext cx="152640" cy="152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114800"/>
            <a:ext cx="152640" cy="152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5029200"/>
            <a:ext cx="152280" cy="152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78720" y="6491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15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040" y="193500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0520" y="2575080"/>
            <a:ext cx="68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Limits of agent oriented method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6840" y="34894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nvironment and agent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040" y="4221000"/>
            <a:ext cx="22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cc33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8720" y="6491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16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98960" y="131760"/>
            <a:ext cx="273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295280"/>
            <a:ext cx="8632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agrams that can be added to existing MAS method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entify a way to define the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a logic that validate whether the MAS will reach its objectives under various sequence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78720" y="6491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17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05120" y="1523880"/>
          <a:ext cx="5181480" cy="44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3880"/>
                    <a:ext cx="5181480" cy="44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78720" y="6491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1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680" y="1371600"/>
            <a:ext cx="90313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we model the environment evolu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we model its impact on the organization structure of a 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MAS able to reach its objectives in a changing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78720" y="6491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2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040" y="193500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cc33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0520" y="2590920"/>
            <a:ext cx="68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Limits of agent oriented method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6840" y="34750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nvironment and agent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040" y="4237200"/>
            <a:ext cx="22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78720" y="6491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3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0440" y="2046240"/>
            <a:ext cx="7930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Evolution of the environment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Evolution of the organizational structure of the 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Checking wether the MAS will well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78720" y="6491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4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040" y="193500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0520" y="2651040"/>
            <a:ext cx="68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cc3300"/>
                </a:solidFill>
                <a:latin typeface="Times New Roman"/>
              </a:rPr>
              <a:t>Limits of agent oriented method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6840" y="356544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nvironment and agent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040" y="4297320"/>
            <a:ext cx="22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78720" y="6491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5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Limits of agent oriented method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280" y="2274840"/>
            <a:ext cx="87012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3 methodologies: Gaia, AUML and MAS-CommonK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Environment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Impact on the structure of the 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78720" y="6491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6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7240" y="2187720"/>
            <a:ext cx="7680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Gaia: environnement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AUML: environnement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MAS-CommonKADS: environnement and cont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Limits of agent oriented method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78720" y="6491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7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33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040" y="193500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0520" y="2590920"/>
            <a:ext cx="68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Limits of agent oriented method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6840" y="342900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cc3300"/>
                </a:solidFill>
                <a:latin typeface="Times New Roman"/>
              </a:rPr>
              <a:t>Environment and agent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040" y="4160880"/>
            <a:ext cx="22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6324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Mellouli Sehl, ESAW’02, Madrid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78720" y="64911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8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9:03:27Z</dcterms:created>
  <dc:creator>Mellouli</dc:creator>
  <dc:description/>
  <dc:language>en-US</dc:language>
  <cp:lastModifiedBy>Mellouli</cp:lastModifiedBy>
  <dcterms:modified xsi:type="dcterms:W3CDTF">2002-09-12T22:57:53Z</dcterms:modified>
  <cp:revision>75</cp:revision>
  <dc:subject/>
  <dc:title>The Integrated Modelling of Multi-Agent Systems and their Environment </dc:title>
</cp:coreProperties>
</file>