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F3A-F869-4EA0-8401-4C9B926F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A6E-0BDF-4532-B8CA-F222D823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A51-F964-4D23-BB06-33335BA8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14C-2CA5-468A-A26E-9AE7363C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F84-D628-46C1-8C9C-CA3D77BE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F9E9-49EC-4316-8935-9624F420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E8E-6D02-40B8-8D40-399A8B84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99E-69F2-4EC3-91ED-53D6B02B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A45-CC74-433F-ACE7-9DA15F04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4210-241C-4B8A-9E88-1F460CFA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930-5C7A-4278-89B7-164A6D41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E4A-3F3A-4297-9530-2679282B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E40B-6EAD-4A52-9F94-69CDDEDB6040}" type="slidenum">
              <a:rPr b="0" i="1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067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Activity Theory 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as a Framework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for MAS Coordin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2590920"/>
            <a:ext cx="5257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lessandro Ric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ricci@deis.unibo.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(DEIS, Universita’ di Bologna/Cesena, Ita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ndrea Omic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omicini@deis.unibo.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(DEIS, Universita’ di Bologna/Cesena, Ita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nrico D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edenti@deis.unibo.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(DEIS, Universita’ di Bologna/Cesena, Ita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cesena%20copy" descr=""/>
          <p:cNvPicPr/>
          <p:nvPr/>
        </p:nvPicPr>
        <p:blipFill>
          <a:blip r:embed="rId1"/>
          <a:stretch/>
        </p:blipFill>
        <p:spPr>
          <a:xfrm>
            <a:off x="954000" y="3276720"/>
            <a:ext cx="2017800" cy="201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Breaking the Wal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878760" y="914400"/>
            <a:ext cx="148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o-co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9040" y="19051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-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720" y="488628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-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68800" y="1219320"/>
            <a:ext cx="230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ubjec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68800" y="3990960"/>
            <a:ext cx="230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objec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7432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195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on the means of collaborative 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81952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Routinisatio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abilising the means of collaborative 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600200" y="1218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10666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lligent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16720" y="3838680"/>
            <a:ext cx="175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ordination Models  &amp;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4520" y="3505320"/>
            <a:ext cx="120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spec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he artif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2880" y="3733920"/>
            <a:ext cx="120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ix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he artif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1760" y="525780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xploiting the artif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2040" y="2286000"/>
            <a:ext cx="19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signing the artif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216216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ving semantics to coord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soning about coord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sign and develop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ordination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33960" y="490536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sing coordination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matisation, prescrip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xploiting coordination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mbedded in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27432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198108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5029200"/>
            <a:ext cx="1828800" cy="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a Omicini, DEIS, Università di Bologna a Cese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E1B-77A1-4EB1-9F7E-B519BC0DA4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2002, 17/9/2002, Madri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Verdana"/>
              </a:rPr>
              <a:t>Back to MAS: Handling Dynam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T Lesson: focus on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specting/adapting dynamically artifacts, by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quirements for coordination media (mod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bservation of artifacts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support for coordination (media) laws </a:t>
            </a: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oth from humans and intelligent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clarative specifications, formal semantics,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ynamic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truction of artifacts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support for coordination (media) laws </a:t>
            </a: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programmin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forging/adapting dynamically the media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a Omicini, DEIS, Università di Bologna a Cese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AA2-0BFF-41AA-B78F-FCD72C1F5D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2002, 17/9/2002, Madri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Breaking the Wall: Dynam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878760" y="838080"/>
            <a:ext cx="148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o-co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18288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-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720" y="480996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-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14880" y="762120"/>
            <a:ext cx="201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ubj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67520" y="4495680"/>
            <a:ext cx="201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26668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274320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on the means of collaborative 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74320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Routinisatio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abilising the means of collaborative 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60020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8380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ntelligent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44323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ordination Models  &amp; Langu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2666880"/>
            <a:ext cx="0" cy="167652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2835360"/>
            <a:ext cx="182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Reflecting</a:t>
            </a:r>
            <a:r>
              <a:rPr b="0" i="1" lang="it-IT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 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4520" y="3429000"/>
            <a:ext cx="120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spec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he artif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2880" y="3657600"/>
            <a:ext cx="120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ix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he artif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35812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the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2835360"/>
            <a:ext cx="1676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Re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1760" y="518148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xploiting the artif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2040" y="2209680"/>
            <a:ext cx="19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signing the artif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1571760"/>
            <a:ext cx="2819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iving semantics to coord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asoning about coord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sign and develop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ordination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artif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32440" y="5305320"/>
            <a:ext cx="2892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sing coordination 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utomatisation, prescriptiv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xploiting coordination artif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mbedded in 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2666880"/>
            <a:ext cx="0" cy="167652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35053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inspe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the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6668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198108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4952880"/>
            <a:ext cx="2057400" cy="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1066680"/>
            <a:ext cx="914400" cy="4648320"/>
          </a:xfrm>
          <a:prstGeom prst="upDownArrow">
            <a:avLst>
              <a:gd name="adj1" fmla="val 35296"/>
              <a:gd name="adj2" fmla="val 57283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a Omicini, DEIS, Università di Bologna a Cese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C39-4FB5-47B0-93A9-4D8958BA581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2002, 17/9/2002, Madri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Artifacts Facts (I)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Artifacts / Coordination Media are </a:t>
            </a:r>
            <a:r>
              <a:rPr b="0" i="1" lang="it-IT" sz="2800" spc="-1" strike="noStrike">
                <a:solidFill>
                  <a:srgbClr val="3333cc"/>
                </a:solidFill>
                <a:latin typeface="Arial"/>
              </a:rPr>
              <a:t>not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Agents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 Theory: artifacts do not occupy the same ontological space of actors (Nardi et 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fferent ontological properties wrt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ynamic) Inspectability &amp; Programm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fficiency/Specif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dic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atial/Temporal/Contextual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tifacts / Coordination Media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are more than barriers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cfr. Castelfranchi, “Engineering Social Order”, ESAW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ans to achieve social order without sacrifying agent aut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formation / interaction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generators, not only enablers/constr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rivers to social goals achie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a Omicini, DEIS, Università di Bologna a Cese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573-0A43-4025-A604-7FB5729C7F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2002, 17/9/2002, Madri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Artifacts Facts (II)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urce/target of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social knowledge/intellig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ynamic/evolving repositories of social knowledge/intellig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particular about emergent collective behavi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vide the context  for analysis about society and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sipative struc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d by the agent organizatio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ifacts/media can act as entropy drainers for the open  agent organisations (cfr. Zambonelli, Parun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Keeping/constraining order in ope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elationship with Social Order (Castelfranchi)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a Omicini, DEIS, Università di Bologna a Cese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129-7CF7-40E5-B83C-749B66F17F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2002, 17/9/2002, Madri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TuCSoN Exampl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ordination model/infrastructure suitable for MAS, supporting objective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artifacts:  (ReSpecT) Tuple Centre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rogrammab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ordination med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ordination laws defining media (tuple centre) behaviour specified in the declarative logic based ReSpec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ifacts behaviour can be defined upon coordination 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spectability &amp;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ynamic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spec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pecT declarative specification can be dynamically ins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ynamic forgeability/programm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pecT declarative specification can be dynamically changed/ada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a Omicini, DEIS, Università di Bologna a Cese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4EA-2768-4732-9C26-5D9D828535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2002, 17/9/2002, Madri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Benefits (I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 capability of (dynamically) inspecting / forging artif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s where objective and subjective coordination m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d provides suppor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fferent MAS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ordination sty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lancing the coordination intelligence/burden between media and agents, according to the n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ynamic changing/adapt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f coordination style according to to environment/organisation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oosing/changing dynamically the balance/degree between subjectiveness/obj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bserving/adapting dynamically social tasks, rules and n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a Omicini, DEIS, Università di Bologna a Cese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233-3FE3-4B87-A9B6-FA512503171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2002, 17/9/2002, Madri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Benefits (II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caling up coordination (Co-ordination st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.r.t. performance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tifacts focused/specialised for the social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.r.t. the complexity of the social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plexity embedded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nd reduce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n the artifacts, by mean of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nceptual localization/cent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ulti-centralization by the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.r.t. the interaction spac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inimising negotiation and message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.r.t. agent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ordination open not only to intelligent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a Omicini, DEIS, Università di Bologna a Cese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28CD-EC84-4ADB-9C89-FE669F65A7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2002, 17/9/2002, Madri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Current &amp; Future Work (I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eper understanding of Activity Theory feedbacks on MAS organisation &amp; coordination (in particular wrt. methodolo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xploring ontological/engineering properties of coordination arti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ordination artifacts and AOSE (S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lationships between artifacts and contexts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Omici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tifacts expressiveness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Viroli, Omicini, Ric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a Omicini, DEIS, Università di Bologna a Cese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34F7-0F5A-4C02-8617-3354F5F8BE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2002, 17/9/2002, Madri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Current &amp; Future Work (II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pplying the framework in the context of TuCSoN agent coordination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cus on services &amp; tools for discovery/observation/construction/exploitation of coordination artifacts –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Tuple Cen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ordination tools of MAS development and Deployment” (Denti,Omicini, Ricci, AAI Nov.-Dic.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lications: WfMS, CSCW, Pervasive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tegration of subjective coordination technologies (with FIPA-compliant BDI-like agents, why not) in the context of the TuCSoN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a Omicini, DEIS, Università di Bologna a Cese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42A-8020-4AE2-A4E3-FFE7B361EC8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2002, 17/9/2002, Madri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blem: Objective vs Subjective Coordination in 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ualism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he wal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and on the need of a reconciliation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breaking the wal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allenges from state-of-the-art coordin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 answer: Activity Theory as a Founda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conciling the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tifacts and Coordination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enef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ngineering Impact and Coordination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uture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a Omicini, DEIS, Università di Bologna a Cese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0C1-9BFF-4D40-9C48-AFCE74A5C85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2002, 17/9/2002, Madri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The Wall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ord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 a fundamental dimension for MAS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ong with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rganis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which is strictly 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bjectiv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bjective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dividual / subjective viewpoint over agent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ternal / objective viewpoint over agent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ordination languages an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hy a wall between the tw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a Omicini, DEIS, Università di Bologna a Cese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95F4-4951-46ED-B403-0FD64F5F39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2002, 17/9/2002, Madri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Need to Break the Wal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xploting both subjective and objective coordination main 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lligence and skills of agents facing situated work in open (unpredictable/complex)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luid and automated coordination, able to scale up with respect to  performance, social task complexity, agent heterogeneity, organisation size  (Durf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cing the requirement from state-of-the-art coordination systems/applications (e.g.: CSCW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WfM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ort for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fferent styles of coordin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ranging from strict to loose automated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ort for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dynamicall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ntextuall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anging/adapting the approach with respect to the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a Omicini, DEIS, Università di Bologna a Cese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6D4-B19A-40F5-961B-C10AE229EB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2002, 17/9/2002, Madri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Looking for Foundat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cial Theories about Organisation and  Coordination in Human Soc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ut of CS: Interdisciplinary of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raction Space Complexity: MAS a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ory of Coordination (Malone, MIT C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ordination as the management of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ependenci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mong autonomous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ference theory for Objective Coordination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coupling the glue from the parts, with focus on the g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endency as a key element of agent society and subjective approaches (Castelfranch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ordination as constraining interactions (Weg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ttom-up (regulatory) approach, not enough: looking for the Top-Down (constructive) counter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cial goals/ta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as a starting 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a Omicini, DEIS, Università di Bologna a Cese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C909-3E69-4640-9B3E-344334F5BE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2002, 17/9/2002, Madri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Activity Theory Framewor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ory about the development / dynamics of collective human work               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ygotsky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’20/’30,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ont'ev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‘70, Engeström and Nardi ’90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cial/Psychological focus on human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ollaboration activitie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artifact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which always mediate human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oth physical and psychological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ltural means, tools, signs mediating  t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 relationship between human agent and objects of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e along with any (social) huma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licit account for environment/contexts and situated inte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gm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ular focus on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 artifact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mediating socia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a Omicini, DEIS, Università di Bologna a Cese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992D-1E07-47DD-B15D-0DBA8392B2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2002, 17/9/2002, Madri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</a:rPr>
              <a:t>AT Hierarchical Collaborative Levels </a:t>
            </a:r>
            <a:br>
              <a:rPr sz="36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Engeström/Bardram)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Co-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re-)conceptualising work organisation and coordination in relation to the shared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- (collective)construction of the object and objective of work, which are not 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Co-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fining the means (artifacts) for achieving the (stable) objective of the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gotiation among actors, balancing actions toward the constructions of the shared artifacts, which are not 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Co-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pture the routine flow of interaction, driven by the artifacts as stable means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ticipants ar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wheels of the organisation machin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oward the autonomous achievement of their individual goals, pre-scripted by scripts/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 need for actors to know/fully understand/question scripts coordinating their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a Omicini, DEIS, Università di Bologna a Cese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258-BAE7-4F40-9FDC-D3772B70DB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2002, 17/9/2002, Madri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Handling Dynamics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1519920" y="129528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-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33040" y="274320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-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18280" y="41911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-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3352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1460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2680" y="2009880"/>
            <a:ext cx="178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eflection o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bjective of 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6760" y="3357720"/>
            <a:ext cx="18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o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ans of 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6280" y="3357720"/>
            <a:ext cx="2594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outinisatio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Stabilis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he Means of 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3760" y="1981080"/>
            <a:ext cx="266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lementation: Stabilis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he Objective of 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1280" y="502920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ardram, 1998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29718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419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71480" y="25909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arti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9480" y="3978360"/>
            <a:ext cx="146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explo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arti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a Omicini, DEIS, Università di Bologna a Cese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154-5CAD-40EB-BC3D-1CF58C4AD35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2002, 17/9/2002, Madri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Verdana"/>
              </a:rPr>
              <a:t>Back to MAS: Breaking the Wa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bjective and Objective approaches in the same coordinatio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ceived as different levels of the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sam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llaboration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pping the AT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Artifacts </a:t>
            </a:r>
            <a:r>
              <a:rPr b="0" lang="it-IT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 coordination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ial laws/norms/plans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ordination 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Subjective Coordination </a:t>
            </a:r>
            <a:r>
              <a:rPr b="0" lang="it-IT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 co-construction &amp; co-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operative design and development of the social goals, rules, norms as coordination 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ilding the artifacts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fine coordination media behavi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Objective Coordination </a:t>
            </a:r>
            <a:r>
              <a:rPr b="0" lang="it-IT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 co-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mated/Prescripted coordination toward the social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sing the artifacts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teracting through the coordination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a Omicini, DEIS, Università di Bologna a Cese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A2E-D9D5-4075-9740-0D5918E1D3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SAW 2002, 17/9/2002, Madri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22:05:22Z</dcterms:created>
  <dc:creator>Alessandro Ricci</dc:creator>
  <dc:description/>
  <dc:language>en-US</dc:language>
  <cp:lastModifiedBy>Andrea Omicini</cp:lastModifiedBy>
  <cp:lastPrinted>2002-09-12T16:24:51Z</cp:lastPrinted>
  <dcterms:modified xsi:type="dcterms:W3CDTF">2002-09-17T00:08:20Z</dcterms:modified>
  <cp:revision>163</cp:revision>
  <dc:subject/>
  <dc:title>Presentazione di PowerPoint</dc:title>
</cp:coreProperties>
</file>