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BD0-8103-40E4-AFA1-37E75BEE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959-ECD5-465A-8A9B-82810338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F8E-24BB-4659-B475-08639B2E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DBA-066F-4CE7-9B80-9EEFC19E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72A-47D9-4C72-A311-6EDE4FAB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668-B10E-4B3C-8A28-4194E115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C09-A737-4EE9-BD09-4C69750B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A88-3577-4B7E-93BD-0CF12A64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B21-A4FF-4E85-849A-F6EF4D8F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F16-0F4E-4B56-89C9-F3F409D1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381-C307-462E-B710-43342BA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B1B-98D9-4CF0-B703-C1182A6E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5337-6849-4278-93E9-B500639B6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ation by refinement and agreement: designing agent interaction using landmarks and contrac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Hans Weigand, Virginia Dignum, John-Jules Meyer, Frank Dig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SAW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ntract" descr=""/>
          <p:cNvPicPr/>
          <p:nvPr/>
        </p:nvPicPr>
        <p:blipFill>
          <a:blip r:embed="rId1"/>
          <a:stretch/>
        </p:blipFill>
        <p:spPr>
          <a:xfrm>
            <a:off x="7315200" y="2971800"/>
            <a:ext cx="12985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contract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1676520" cy="12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37339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3657600"/>
            <a:ext cx="457200" cy="228600"/>
          </a:xfrm>
          <a:prstGeom prst="flowChartPunched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02920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4038480"/>
            <a:ext cx="457200" cy="228600"/>
          </a:xfrm>
          <a:prstGeom prst="flowChartPunched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01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763120" cy="2581200"/>
          </a:xfrm>
          <a:prstGeom prst="rect">
            <a:avLst/>
          </a:prstGeom>
          <a:ln w="0">
            <a:noFill/>
          </a:ln>
        </p:spPr>
      </p:pic>
      <p:pic>
        <p:nvPicPr>
          <p:cNvPr id="116" name="contract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189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943600" y="2133720"/>
            <a:ext cx="1371600" cy="3429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133720"/>
            <a:ext cx="1295280" cy="3429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133720"/>
            <a:ext cx="1447920" cy="342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81080" y="2133720"/>
            <a:ext cx="5333760" cy="3428640"/>
            <a:chOff x="1981080" y="2133720"/>
            <a:chExt cx="5333760" cy="3428640"/>
          </a:xfrm>
        </p:grpSpPr>
        <p:grpSp>
          <p:nvGrpSpPr>
            <p:cNvPr id="121" name=""/>
            <p:cNvGrpSpPr/>
            <p:nvPr/>
          </p:nvGrpSpPr>
          <p:grpSpPr>
            <a:xfrm>
              <a:off x="1986120" y="2139120"/>
              <a:ext cx="5322600" cy="3416400"/>
              <a:chOff x="1986120" y="2139120"/>
              <a:chExt cx="5322600" cy="341640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986120" y="2139120"/>
                <a:ext cx="1236240" cy="718560"/>
                <a:chOff x="1986120" y="2139120"/>
                <a:chExt cx="1236240" cy="7185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034720" y="2139120"/>
                  <a:ext cx="1139040" cy="7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86120" y="2139120"/>
                  <a:ext cx="1236240" cy="71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222720" y="2139120"/>
                <a:ext cx="1423440" cy="718560"/>
                <a:chOff x="3222720" y="2139120"/>
                <a:chExt cx="1423440" cy="7185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271680" y="2139120"/>
                  <a:ext cx="1325880" cy="7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k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222720" y="2139120"/>
                  <a:ext cx="1423440" cy="71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46880" y="2139120"/>
                <a:ext cx="1330560" cy="718560"/>
                <a:chOff x="4646880" y="2139120"/>
                <a:chExt cx="1330560" cy="7185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695480" y="2139120"/>
                  <a:ext cx="1233360" cy="7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t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46880" y="2139120"/>
                  <a:ext cx="1330560" cy="71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978160" y="2139120"/>
                <a:ext cx="1330560" cy="718560"/>
                <a:chOff x="5978160" y="2139120"/>
                <a:chExt cx="1330560" cy="718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027120" y="2139120"/>
                  <a:ext cx="1233000" cy="7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erarch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978160" y="2139120"/>
                  <a:ext cx="1330560" cy="71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986120" y="2858040"/>
                <a:ext cx="1236240" cy="719280"/>
                <a:chOff x="1986120" y="2858040"/>
                <a:chExt cx="1236240" cy="7192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034720" y="2858040"/>
                  <a:ext cx="113904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pe of societ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986120" y="2858040"/>
                  <a:ext cx="12362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222720" y="2858040"/>
                <a:ext cx="1423440" cy="719280"/>
                <a:chOff x="3222720" y="2858040"/>
                <a:chExt cx="1423440" cy="7192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271680" y="2858040"/>
                  <a:ext cx="132588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222720" y="2858040"/>
                  <a:ext cx="14234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646880" y="2858040"/>
                <a:ext cx="1330560" cy="719280"/>
                <a:chOff x="4646880" y="2858040"/>
                <a:chExt cx="1330560" cy="719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695480" y="2858040"/>
                  <a:ext cx="123336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u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646880" y="2858040"/>
                  <a:ext cx="133056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978160" y="2858040"/>
                <a:ext cx="1330560" cy="719280"/>
                <a:chOff x="5978160" y="2858040"/>
                <a:chExt cx="1330560" cy="7192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027120" y="2858040"/>
                  <a:ext cx="123300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os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78160" y="2858040"/>
                  <a:ext cx="133056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986120" y="3578040"/>
                <a:ext cx="1236240" cy="898560"/>
                <a:chOff x="1986120" y="3578040"/>
                <a:chExt cx="1236240" cy="8985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2034720" y="3578040"/>
                  <a:ext cx="1139040" cy="89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ent ‘values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86120" y="3578040"/>
                  <a:ext cx="1236240" cy="89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222720" y="3578040"/>
                <a:ext cx="1423440" cy="898560"/>
                <a:chOff x="3222720" y="3578040"/>
                <a:chExt cx="1423440" cy="8985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271680" y="3578040"/>
                  <a:ext cx="1325880" cy="89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lf intere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22720" y="3578040"/>
                  <a:ext cx="1423440" cy="89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646880" y="3578040"/>
                <a:ext cx="1330560" cy="898560"/>
                <a:chOff x="4646880" y="3578040"/>
                <a:chExt cx="1330560" cy="898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695480" y="3578040"/>
                  <a:ext cx="1233360" cy="89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utual interest/ collabor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646880" y="3578040"/>
                  <a:ext cx="1330560" cy="89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978160" y="3578040"/>
                <a:ext cx="1330560" cy="898560"/>
                <a:chOff x="5978160" y="3578040"/>
                <a:chExt cx="1330560" cy="8985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027120" y="3578040"/>
                  <a:ext cx="1233000" cy="89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pendenc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978160" y="3578040"/>
                  <a:ext cx="1330560" cy="89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986120" y="4476960"/>
                <a:ext cx="1236240" cy="1078560"/>
                <a:chOff x="1986120" y="4476960"/>
                <a:chExt cx="1236240" cy="1078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034720" y="4476960"/>
                  <a:ext cx="1139040" cy="10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acilitation ro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986120" y="4476960"/>
                  <a:ext cx="1236240" cy="107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222720" y="4476960"/>
                <a:ext cx="1423440" cy="1078560"/>
                <a:chOff x="3222720" y="4476960"/>
                <a:chExt cx="1423440" cy="10785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271680" y="4476960"/>
                  <a:ext cx="1325880" cy="10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chma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n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222720" y="4476960"/>
                  <a:ext cx="1423440" cy="107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646880" y="4476960"/>
                <a:ext cx="1330560" cy="1078560"/>
                <a:chOff x="4646880" y="4476960"/>
                <a:chExt cx="1330560" cy="10785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695480" y="4476960"/>
                  <a:ext cx="1233360" cy="10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atekeep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gist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chma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46880" y="4476960"/>
                  <a:ext cx="1330560" cy="107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978160" y="4476960"/>
                <a:ext cx="1330560" cy="1078560"/>
                <a:chOff x="5978160" y="4476960"/>
                <a:chExt cx="1330560" cy="10785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027120" y="4476960"/>
                  <a:ext cx="1233000" cy="10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fac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978160" y="4476960"/>
                  <a:ext cx="1330560" cy="107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1981080" y="2133720"/>
              <a:ext cx="5333760" cy="3428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ciety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ordination types vs coordination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3124080"/>
            <a:ext cx="5257800" cy="3048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3200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47242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78400" y="274320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llaboration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189800">
            <a:off x="914040" y="45691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5080" y="36576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1280" y="365760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ho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3680" y="5181480"/>
            <a:ext cx="21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reau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135400">
            <a:off x="4320" y="205740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440" y="5029200"/>
            <a:ext cx="20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ulti-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ordination types vs coordination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200400"/>
            <a:ext cx="5715000" cy="2971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3200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48769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78400" y="274320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llaboration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189800">
            <a:off x="914040" y="45691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880" y="3429000"/>
            <a:ext cx="253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 multi-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 arg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518148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135400">
            <a:off x="308880" y="22860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X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440" y="5029200"/>
            <a:ext cx="20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ulti-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8800" y="348300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tract 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ordination types vs coordination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3200400"/>
            <a:ext cx="5257800" cy="3048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3200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47242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8400" y="274320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llaboration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89800">
            <a:off x="914040" y="45691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505320"/>
            <a:ext cx="203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lan”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ad. 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360" y="3429000"/>
            <a:ext cx="17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trac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160" y="510552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PA ag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2135400">
            <a:off x="1297440" y="24382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440" y="5029200"/>
            <a:ext cx="20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ulti-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gent Socie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pecific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ganiz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ociety types and coordination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4689360"/>
            <a:ext cx="744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f. AAMAS paper , FAABS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ciet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146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1960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pecificatio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present interactions between agents in an open context, a framework is needed that is able to specify sequences of interaction sce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ly from the internal design of the agent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autonomy requir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fixing the interaction structures completely in advance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autonomy requir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47920" y="4267080"/>
            <a:ext cx="6629400" cy="1371600"/>
          </a:xfrm>
          <a:prstGeom prst="parallelogram">
            <a:avLst>
              <a:gd name="adj" fmla="val 11459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Actual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2-t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743200"/>
            <a:ext cx="6705360" cy="1066680"/>
          </a:xfrm>
          <a:prstGeom prst="parallelogram">
            <a:avLst>
              <a:gd name="adj" fmla="val 128721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77320" y="3048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560" y="44956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048120"/>
            <a:ext cx="85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8120"/>
            <a:ext cx="10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81280" y="28195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581280" y="29718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971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8195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943600" y="32763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94360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4470480"/>
            <a:ext cx="3479760" cy="482400"/>
          </a:xfrm>
          <a:custGeom>
            <a:avLst/>
            <a:gdLst/>
            <a:ahLst/>
            <a:rect l="l" t="t" r="r" b="b"/>
            <a:pathLst>
              <a:path w="2192" h="304">
                <a:moveTo>
                  <a:pt x="0" y="304"/>
                </a:moveTo>
                <a:cubicBezTo>
                  <a:pt x="292" y="200"/>
                  <a:pt x="584" y="96"/>
                  <a:pt x="768" y="64"/>
                </a:cubicBezTo>
                <a:cubicBezTo>
                  <a:pt x="952" y="32"/>
                  <a:pt x="1016" y="80"/>
                  <a:pt x="1104" y="112"/>
                </a:cubicBezTo>
                <a:cubicBezTo>
                  <a:pt x="1192" y="144"/>
                  <a:pt x="1208" y="240"/>
                  <a:pt x="1296" y="256"/>
                </a:cubicBezTo>
                <a:cubicBezTo>
                  <a:pt x="1384" y="272"/>
                  <a:pt x="1560" y="232"/>
                  <a:pt x="1632" y="208"/>
                </a:cubicBezTo>
                <a:cubicBezTo>
                  <a:pt x="1704" y="184"/>
                  <a:pt x="1720" y="144"/>
                  <a:pt x="1728" y="112"/>
                </a:cubicBezTo>
                <a:cubicBezTo>
                  <a:pt x="1736" y="80"/>
                  <a:pt x="1616" y="0"/>
                  <a:pt x="1680" y="16"/>
                </a:cubicBezTo>
                <a:cubicBezTo>
                  <a:pt x="1744" y="32"/>
                  <a:pt x="2032" y="192"/>
                  <a:pt x="2112" y="208"/>
                </a:cubicBezTo>
                <a:cubicBezTo>
                  <a:pt x="2192" y="224"/>
                  <a:pt x="2176" y="168"/>
                  <a:pt x="2160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4317840"/>
            <a:ext cx="3060720" cy="749520"/>
          </a:xfrm>
          <a:custGeom>
            <a:avLst/>
            <a:gdLst/>
            <a:ahLst/>
            <a:rect l="l" t="t" r="r" b="b"/>
            <a:pathLst>
              <a:path w="1928" h="472">
                <a:moveTo>
                  <a:pt x="0" y="64"/>
                </a:moveTo>
                <a:cubicBezTo>
                  <a:pt x="36" y="224"/>
                  <a:pt x="72" y="384"/>
                  <a:pt x="192" y="400"/>
                </a:cubicBezTo>
                <a:cubicBezTo>
                  <a:pt x="312" y="416"/>
                  <a:pt x="600" y="224"/>
                  <a:pt x="720" y="160"/>
                </a:cubicBezTo>
                <a:cubicBezTo>
                  <a:pt x="840" y="96"/>
                  <a:pt x="840" y="0"/>
                  <a:pt x="912" y="16"/>
                </a:cubicBezTo>
                <a:cubicBezTo>
                  <a:pt x="984" y="32"/>
                  <a:pt x="1080" y="184"/>
                  <a:pt x="1152" y="256"/>
                </a:cubicBezTo>
                <a:cubicBezTo>
                  <a:pt x="1224" y="328"/>
                  <a:pt x="1272" y="472"/>
                  <a:pt x="1344" y="448"/>
                </a:cubicBezTo>
                <a:cubicBezTo>
                  <a:pt x="1416" y="424"/>
                  <a:pt x="1504" y="176"/>
                  <a:pt x="1584" y="112"/>
                </a:cubicBezTo>
                <a:cubicBezTo>
                  <a:pt x="1664" y="48"/>
                  <a:pt x="1928" y="40"/>
                  <a:pt x="1824" y="64"/>
                </a:cubicBezTo>
                <a:cubicBezTo>
                  <a:pt x="1720" y="88"/>
                  <a:pt x="1096" y="224"/>
                  <a:pt x="960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31240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30481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3-t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5029200"/>
            <a:ext cx="6629400" cy="1371600"/>
          </a:xfrm>
          <a:prstGeom prst="parallelogram">
            <a:avLst>
              <a:gd name="adj" fmla="val 11459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Actual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3581280"/>
            <a:ext cx="6705720" cy="1067040"/>
          </a:xfrm>
          <a:prstGeom prst="parallelogram">
            <a:avLst>
              <a:gd name="adj" fmla="val 12868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057400"/>
            <a:ext cx="6629400" cy="1295280"/>
          </a:xfrm>
          <a:prstGeom prst="parallelogram">
            <a:avLst>
              <a:gd name="adj" fmla="val 133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land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2400" y="23623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772400" y="3886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28600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640" y="5334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886200"/>
            <a:ext cx="8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800" y="3851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724280" y="1904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905120"/>
            <a:ext cx="457200" cy="228600"/>
          </a:xfrm>
          <a:prstGeom prst="flowChartPunched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35268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362320"/>
            <a:ext cx="457200" cy="228600"/>
          </a:xfrm>
          <a:prstGeom prst="flowChartPunched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2485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2057400"/>
            <a:ext cx="457200" cy="228600"/>
          </a:xfrm>
          <a:prstGeom prst="flowChartPunched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352680" y="365760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809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3809880"/>
            <a:ext cx="9903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36576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638680" y="41148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38680" y="39621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308560"/>
            <a:ext cx="3479760" cy="482760"/>
          </a:xfrm>
          <a:custGeom>
            <a:avLst/>
            <a:gdLst/>
            <a:ahLst/>
            <a:rect l="l" t="t" r="r" b="b"/>
            <a:pathLst>
              <a:path w="2192" h="304">
                <a:moveTo>
                  <a:pt x="0" y="304"/>
                </a:moveTo>
                <a:cubicBezTo>
                  <a:pt x="292" y="200"/>
                  <a:pt x="584" y="96"/>
                  <a:pt x="768" y="64"/>
                </a:cubicBezTo>
                <a:cubicBezTo>
                  <a:pt x="952" y="32"/>
                  <a:pt x="1016" y="80"/>
                  <a:pt x="1104" y="112"/>
                </a:cubicBezTo>
                <a:cubicBezTo>
                  <a:pt x="1192" y="144"/>
                  <a:pt x="1208" y="240"/>
                  <a:pt x="1296" y="256"/>
                </a:cubicBezTo>
                <a:cubicBezTo>
                  <a:pt x="1384" y="272"/>
                  <a:pt x="1560" y="232"/>
                  <a:pt x="1632" y="208"/>
                </a:cubicBezTo>
                <a:cubicBezTo>
                  <a:pt x="1704" y="184"/>
                  <a:pt x="1720" y="144"/>
                  <a:pt x="1728" y="112"/>
                </a:cubicBezTo>
                <a:cubicBezTo>
                  <a:pt x="1736" y="80"/>
                  <a:pt x="1616" y="0"/>
                  <a:pt x="1680" y="16"/>
                </a:cubicBezTo>
                <a:cubicBezTo>
                  <a:pt x="1744" y="32"/>
                  <a:pt x="2032" y="192"/>
                  <a:pt x="2112" y="208"/>
                </a:cubicBezTo>
                <a:cubicBezTo>
                  <a:pt x="2192" y="224"/>
                  <a:pt x="2176" y="168"/>
                  <a:pt x="2160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56280"/>
            <a:ext cx="3060720" cy="749160"/>
          </a:xfrm>
          <a:custGeom>
            <a:avLst/>
            <a:gdLst/>
            <a:ahLst/>
            <a:rect l="l" t="t" r="r" b="b"/>
            <a:pathLst>
              <a:path w="1928" h="472">
                <a:moveTo>
                  <a:pt x="0" y="64"/>
                </a:moveTo>
                <a:cubicBezTo>
                  <a:pt x="36" y="224"/>
                  <a:pt x="72" y="384"/>
                  <a:pt x="192" y="400"/>
                </a:cubicBezTo>
                <a:cubicBezTo>
                  <a:pt x="312" y="416"/>
                  <a:pt x="600" y="224"/>
                  <a:pt x="720" y="160"/>
                </a:cubicBezTo>
                <a:cubicBezTo>
                  <a:pt x="840" y="96"/>
                  <a:pt x="840" y="0"/>
                  <a:pt x="912" y="16"/>
                </a:cubicBezTo>
                <a:cubicBezTo>
                  <a:pt x="984" y="32"/>
                  <a:pt x="1080" y="184"/>
                  <a:pt x="1152" y="256"/>
                </a:cubicBezTo>
                <a:cubicBezTo>
                  <a:pt x="1224" y="328"/>
                  <a:pt x="1272" y="472"/>
                  <a:pt x="1344" y="448"/>
                </a:cubicBezTo>
                <a:cubicBezTo>
                  <a:pt x="1416" y="424"/>
                  <a:pt x="1504" y="176"/>
                  <a:pt x="1584" y="112"/>
                </a:cubicBezTo>
                <a:cubicBezTo>
                  <a:pt x="1664" y="48"/>
                  <a:pt x="1928" y="40"/>
                  <a:pt x="1824" y="64"/>
                </a:cubicBezTo>
                <a:cubicBezTo>
                  <a:pt x="1720" y="88"/>
                  <a:pt x="1096" y="224"/>
                  <a:pt x="960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038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581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962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8862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iz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2640" y="2556000"/>
            <a:ext cx="781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zational model is a tuple OM = (R, CF, I, N)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is the set of role descrip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 is the communicative framewor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s the interaction structu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is the set of society norms or ru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teraction structure (exa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9544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8915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teraction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814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858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3:39:01Z</dcterms:created>
  <dc:creator>Win2k user</dc:creator>
  <dc:description/>
  <dc:language>en-US</dc:language>
  <cp:lastModifiedBy>Win2k user</cp:lastModifiedBy>
  <dcterms:modified xsi:type="dcterms:W3CDTF">2002-09-13T14:34:24Z</dcterms:modified>
  <cp:revision>5</cp:revision>
  <dc:subject/>
  <dc:title>Specification by refinement and agreement: designing agent interaction using landmarks and contracts </dc:title>
</cp:coreProperties>
</file>