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7324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592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012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288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732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012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288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D8B-163F-4408-832E-45C39779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154-CCB0-4687-97C9-239C061C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75C-6937-4015-BAD9-E2153F9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296-2B08-47BA-869A-1B093BC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423-7134-43DE-B3CA-F9A84CE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B59-9CC5-4FE2-BA80-D64A17FF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989-1CB7-4EF9-BBBE-87441CA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592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79-5C43-432D-BCA4-4A6D813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F7C-5370-4793-B184-CFB2444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7324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E15-0B23-403E-8873-2DD41DE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592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937-29FE-40B5-8F1E-7E34DA0E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12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88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732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012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288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039-9745-4437-9ECC-004CBDB6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592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7324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1400" y="-4680"/>
            <a:ext cx="1012680" cy="6857640"/>
            <a:chOff x="41400" y="-4680"/>
            <a:chExt cx="1012680" cy="6857640"/>
          </a:xfrm>
        </p:grpSpPr>
        <p:sp>
          <p:nvSpPr>
            <p:cNvPr id="1" name=""/>
            <p:cNvSpPr/>
            <p:nvPr/>
          </p:nvSpPr>
          <p:spPr>
            <a:xfrm flipH="1">
              <a:off x="50760" y="-4680"/>
              <a:ext cx="990720" cy="68378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50760" y="1692720"/>
              <a:ext cx="990720" cy="5011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50760" y="1287000"/>
              <a:ext cx="990720" cy="502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50760" y="149040"/>
              <a:ext cx="990720" cy="30348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0760" y="984600"/>
              <a:ext cx="99072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50760" y="680040"/>
              <a:ext cx="990720" cy="430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50400" y="3722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42840" y="3939480"/>
              <a:ext cx="990720" cy="5007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42840" y="3533760"/>
              <a:ext cx="990720" cy="502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42840" y="2395080"/>
              <a:ext cx="990720" cy="30348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42840" y="3230280"/>
              <a:ext cx="99072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42840" y="2926440"/>
              <a:ext cx="990720" cy="42948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42480" y="2617920"/>
              <a:ext cx="1003320" cy="37584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50760" y="4970520"/>
              <a:ext cx="990720" cy="5007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50760" y="4564440"/>
              <a:ext cx="990720" cy="502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42840" y="5672520"/>
              <a:ext cx="99072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64320" y="618372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2840" y="6204600"/>
              <a:ext cx="990720" cy="42948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42120" y="58950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"/>
          <p:cNvSpPr/>
          <p:nvPr/>
        </p:nvSpPr>
        <p:spPr>
          <a:xfrm flipH="1" rot="16200000">
            <a:off x="-3102840" y="3097080"/>
            <a:ext cx="685800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 flipH="1" rot="16200000">
            <a:off x="-2514240" y="3273120"/>
            <a:ext cx="68562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1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2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E0A-471F-40AC-BBEE-B230D55DD2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cc"/>
                </a:solidFill>
                <a:latin typeface="Arial"/>
              </a:rPr>
              <a:t>Evaluating MAS Architectures:</a:t>
            </a: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A case study concerning dynamic resource allocation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2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ul Davidsson and Stefan Johan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ment of Software Engineering and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ekinge Institute of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nneby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156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Abstract performance-related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71440" y="1828800"/>
            <a:ext cx="797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Utilisation of resourc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well are the available resources utilised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clear, empirical studies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sponsivenes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long does it take for the customers to get response to a request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clear, empirical studies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munication overhea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much additional communication is needed for resource allocation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clear, empirical studies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Abstract general software architecture quality attributes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obustnes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vulnerable is the system to node or link failure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ore centralised the control is, the more vulnerable the system 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odifiabili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easy is it to change the system after it is implemented (and often deployed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ier in centralised archit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good is the system at handling large numbers of users (providers + customer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ter for distributed architectu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Concrete domain: Load man-agement in Intelligent Networks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 Switching Points (SSPs) continuously receive requests of serv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 software and processing capacity resides at the Service Control Points (SCP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35640" y="3657600"/>
            <a:ext cx="3853440" cy="2961720"/>
            <a:chOff x="1835640" y="3657600"/>
            <a:chExt cx="3853440" cy="2961720"/>
          </a:xfrm>
        </p:grpSpPr>
        <p:sp>
          <p:nvSpPr>
            <p:cNvPr id="167" name=""/>
            <p:cNvSpPr/>
            <p:nvPr/>
          </p:nvSpPr>
          <p:spPr>
            <a:xfrm flipV="1">
              <a:off x="2895840" y="5333760"/>
              <a:ext cx="1965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3047760" y="4267080"/>
              <a:ext cx="9684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809880" y="4267080"/>
              <a:ext cx="14040" cy="5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572000" y="4267080"/>
              <a:ext cx="7632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724640" y="5714640"/>
              <a:ext cx="6192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5715000"/>
              <a:ext cx="16992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5520" y="5705640"/>
              <a:ext cx="777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322800" y="5410080"/>
              <a:ext cx="106200" cy="61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733920" y="5410080"/>
              <a:ext cx="144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514600" y="5334120"/>
              <a:ext cx="3812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2320" y="5791320"/>
              <a:ext cx="19224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943600"/>
              <a:ext cx="19224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6880" y="6029280"/>
              <a:ext cx="18900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25920" y="6029280"/>
              <a:ext cx="19368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1120" y="6019920"/>
              <a:ext cx="19224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6029280"/>
              <a:ext cx="19224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0840" y="6029280"/>
              <a:ext cx="19188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4495680"/>
              <a:ext cx="3078000" cy="1408320"/>
            </a:xfrm>
            <a:custGeom>
              <a:avLst/>
              <a:gdLst/>
              <a:ahLst/>
              <a:rect l="l" t="t" r="r" b="b"/>
              <a:pathLst>
                <a:path w="1939" h="1031">
                  <a:moveTo>
                    <a:pt x="1657" y="336"/>
                  </a:moveTo>
                  <a:cubicBezTo>
                    <a:pt x="1641" y="303"/>
                    <a:pt x="1623" y="272"/>
                    <a:pt x="1597" y="246"/>
                  </a:cubicBezTo>
                  <a:cubicBezTo>
                    <a:pt x="1578" y="189"/>
                    <a:pt x="1527" y="157"/>
                    <a:pt x="1477" y="132"/>
                  </a:cubicBezTo>
                  <a:cubicBezTo>
                    <a:pt x="1433" y="110"/>
                    <a:pt x="1388" y="84"/>
                    <a:pt x="1339" y="72"/>
                  </a:cubicBezTo>
                  <a:cubicBezTo>
                    <a:pt x="1284" y="59"/>
                    <a:pt x="1226" y="53"/>
                    <a:pt x="1171" y="42"/>
                  </a:cubicBezTo>
                  <a:cubicBezTo>
                    <a:pt x="1076" y="47"/>
                    <a:pt x="1069" y="44"/>
                    <a:pt x="1003" y="60"/>
                  </a:cubicBezTo>
                  <a:cubicBezTo>
                    <a:pt x="966" y="85"/>
                    <a:pt x="853" y="48"/>
                    <a:pt x="811" y="42"/>
                  </a:cubicBezTo>
                  <a:cubicBezTo>
                    <a:pt x="733" y="3"/>
                    <a:pt x="622" y="7"/>
                    <a:pt x="535" y="0"/>
                  </a:cubicBezTo>
                  <a:cubicBezTo>
                    <a:pt x="461" y="4"/>
                    <a:pt x="387" y="3"/>
                    <a:pt x="313" y="12"/>
                  </a:cubicBezTo>
                  <a:cubicBezTo>
                    <a:pt x="292" y="15"/>
                    <a:pt x="273" y="28"/>
                    <a:pt x="253" y="36"/>
                  </a:cubicBezTo>
                  <a:cubicBezTo>
                    <a:pt x="183" y="64"/>
                    <a:pt x="99" y="96"/>
                    <a:pt x="49" y="156"/>
                  </a:cubicBezTo>
                  <a:cubicBezTo>
                    <a:pt x="31" y="177"/>
                    <a:pt x="28" y="205"/>
                    <a:pt x="13" y="228"/>
                  </a:cubicBezTo>
                  <a:cubicBezTo>
                    <a:pt x="10" y="248"/>
                    <a:pt x="0" y="268"/>
                    <a:pt x="1" y="288"/>
                  </a:cubicBezTo>
                  <a:cubicBezTo>
                    <a:pt x="3" y="360"/>
                    <a:pt x="4" y="432"/>
                    <a:pt x="13" y="504"/>
                  </a:cubicBezTo>
                  <a:cubicBezTo>
                    <a:pt x="14" y="514"/>
                    <a:pt x="25" y="520"/>
                    <a:pt x="31" y="528"/>
                  </a:cubicBezTo>
                  <a:cubicBezTo>
                    <a:pt x="89" y="615"/>
                    <a:pt x="174" y="635"/>
                    <a:pt x="271" y="654"/>
                  </a:cubicBezTo>
                  <a:cubicBezTo>
                    <a:pt x="216" y="872"/>
                    <a:pt x="482" y="877"/>
                    <a:pt x="625" y="894"/>
                  </a:cubicBezTo>
                  <a:cubicBezTo>
                    <a:pt x="661" y="898"/>
                    <a:pt x="697" y="898"/>
                    <a:pt x="733" y="900"/>
                  </a:cubicBezTo>
                  <a:cubicBezTo>
                    <a:pt x="765" y="902"/>
                    <a:pt x="797" y="904"/>
                    <a:pt x="829" y="906"/>
                  </a:cubicBezTo>
                  <a:cubicBezTo>
                    <a:pt x="913" y="902"/>
                    <a:pt x="942" y="910"/>
                    <a:pt x="1003" y="870"/>
                  </a:cubicBezTo>
                  <a:cubicBezTo>
                    <a:pt x="1118" y="1023"/>
                    <a:pt x="1337" y="1009"/>
                    <a:pt x="1507" y="1014"/>
                  </a:cubicBezTo>
                  <a:cubicBezTo>
                    <a:pt x="1643" y="1010"/>
                    <a:pt x="1821" y="1031"/>
                    <a:pt x="1915" y="906"/>
                  </a:cubicBezTo>
                  <a:cubicBezTo>
                    <a:pt x="1939" y="808"/>
                    <a:pt x="1904" y="728"/>
                    <a:pt x="1873" y="636"/>
                  </a:cubicBezTo>
                  <a:cubicBezTo>
                    <a:pt x="1859" y="593"/>
                    <a:pt x="1841" y="555"/>
                    <a:pt x="1819" y="516"/>
                  </a:cubicBezTo>
                  <a:cubicBezTo>
                    <a:pt x="1801" y="483"/>
                    <a:pt x="1815" y="493"/>
                    <a:pt x="1795" y="468"/>
                  </a:cubicBezTo>
                  <a:cubicBezTo>
                    <a:pt x="1778" y="447"/>
                    <a:pt x="1760" y="421"/>
                    <a:pt x="1741" y="402"/>
                  </a:cubicBezTo>
                  <a:cubicBezTo>
                    <a:pt x="1728" y="389"/>
                    <a:pt x="1691" y="374"/>
                    <a:pt x="1675" y="366"/>
                  </a:cubicBezTo>
                  <a:cubicBezTo>
                    <a:pt x="1669" y="363"/>
                    <a:pt x="1660" y="365"/>
                    <a:pt x="1657" y="360"/>
                  </a:cubicBezTo>
                  <a:cubicBezTo>
                    <a:pt x="1653" y="353"/>
                    <a:pt x="1657" y="344"/>
                    <a:pt x="1657" y="33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4680" y="49528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 “clou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74080" y="3657600"/>
              <a:ext cx="663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0240" y="3657600"/>
              <a:ext cx="663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3657600"/>
              <a:ext cx="67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35640" y="594360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6172200"/>
              <a:ext cx="66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2680" y="624852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9360" y="624852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02880" y="624852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5840" y="624852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36040" y="6248520"/>
              <a:ext cx="65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840" y="3962520"/>
              <a:ext cx="228600" cy="304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34200" y="3962520"/>
              <a:ext cx="228600" cy="304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6400" y="3962520"/>
              <a:ext cx="228600" cy="304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019920" y="43434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mall part of the network bandwidth is reserved for the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Concrete MAS architectures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758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make use of three types of agent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antifie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act on behalf of a provid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llocato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act on behalf of a customer,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istributo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decides the allocation of some (or even all) available resour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though these three types of agents have similar roles in the four architectures, the actual implementation may be rather different (in particular the distributor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Synchronous centralised arch. (Centralised Auction)  </a:t>
            </a:r>
            <a:r>
              <a:rPr b="0" lang="en-GB" sz="3200" spc="-1" strike="noStrike">
                <a:solidFill>
                  <a:srgbClr val="0099cc"/>
                </a:solidFill>
                <a:latin typeface="Arial"/>
              </a:rPr>
              <a:t>[Arvidsson99]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225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229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233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237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241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245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249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253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257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261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27400" y="3505320"/>
            <a:ext cx="235080" cy="374040"/>
            <a:chOff x="3227400" y="3505320"/>
            <a:chExt cx="235080" cy="374040"/>
          </a:xfrm>
        </p:grpSpPr>
        <p:sp>
          <p:nvSpPr>
            <p:cNvPr id="265" name=""/>
            <p:cNvSpPr/>
            <p:nvPr/>
          </p:nvSpPr>
          <p:spPr>
            <a:xfrm>
              <a:off x="3227400" y="3505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27400" y="3635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202200" y="3603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19051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2320" y="261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2120" y="2347920"/>
            <a:ext cx="145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70240" y="2851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91040" y="2763720"/>
            <a:ext cx="158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62320" y="3102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91400" y="317988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53920" y="1600200"/>
            <a:ext cx="319320" cy="405360"/>
            <a:chOff x="1753920" y="1600200"/>
            <a:chExt cx="319320" cy="405360"/>
          </a:xfrm>
        </p:grpSpPr>
        <p:grpSp>
          <p:nvGrpSpPr>
            <p:cNvPr id="297" name=""/>
            <p:cNvGrpSpPr/>
            <p:nvPr/>
          </p:nvGrpSpPr>
          <p:grpSpPr>
            <a:xfrm>
              <a:off x="1779480" y="1600200"/>
              <a:ext cx="234720" cy="374040"/>
              <a:chOff x="1779480" y="1600200"/>
              <a:chExt cx="234720" cy="374040"/>
            </a:xfrm>
          </p:grpSpPr>
          <p:sp>
            <p:nvSpPr>
              <p:cNvPr id="298" name=""/>
              <p:cNvSpPr/>
              <p:nvPr/>
            </p:nvSpPr>
            <p:spPr>
              <a:xfrm>
                <a:off x="17794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794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7539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259240" y="1676520"/>
            <a:ext cx="319320" cy="405360"/>
            <a:chOff x="5259240" y="1676520"/>
            <a:chExt cx="319320" cy="405360"/>
          </a:xfrm>
        </p:grpSpPr>
        <p:grpSp>
          <p:nvGrpSpPr>
            <p:cNvPr id="302" name=""/>
            <p:cNvGrpSpPr/>
            <p:nvPr/>
          </p:nvGrpSpPr>
          <p:grpSpPr>
            <a:xfrm>
              <a:off x="5284800" y="1676520"/>
              <a:ext cx="234720" cy="374040"/>
              <a:chOff x="5284800" y="1676520"/>
              <a:chExt cx="234720" cy="374040"/>
            </a:xfrm>
          </p:grpSpPr>
          <p:sp>
            <p:nvSpPr>
              <p:cNvPr id="303" name=""/>
              <p:cNvSpPr/>
              <p:nvPr/>
            </p:nvSpPr>
            <p:spPr>
              <a:xfrm>
                <a:off x="5284800" y="16765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84800" y="18064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259240" y="17748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82720" y="1600200"/>
            <a:ext cx="319320" cy="405360"/>
            <a:chOff x="3582720" y="1600200"/>
            <a:chExt cx="319320" cy="405360"/>
          </a:xfrm>
        </p:grpSpPr>
        <p:grpSp>
          <p:nvGrpSpPr>
            <p:cNvPr id="307" name=""/>
            <p:cNvGrpSpPr/>
            <p:nvPr/>
          </p:nvGrpSpPr>
          <p:grpSpPr>
            <a:xfrm>
              <a:off x="3608280" y="1600200"/>
              <a:ext cx="234720" cy="374040"/>
              <a:chOff x="3608280" y="1600200"/>
              <a:chExt cx="234720" cy="374040"/>
            </a:xfrm>
          </p:grpSpPr>
          <p:sp>
            <p:nvSpPr>
              <p:cNvPr id="308" name=""/>
              <p:cNvSpPr/>
              <p:nvPr/>
            </p:nvSpPr>
            <p:spPr>
              <a:xfrm>
                <a:off x="36082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082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5827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202200" y="3505320"/>
            <a:ext cx="308880" cy="405360"/>
            <a:chOff x="3202200" y="3505320"/>
            <a:chExt cx="308880" cy="405360"/>
          </a:xfrm>
        </p:grpSpPr>
        <p:grpSp>
          <p:nvGrpSpPr>
            <p:cNvPr id="312" name=""/>
            <p:cNvGrpSpPr/>
            <p:nvPr/>
          </p:nvGrpSpPr>
          <p:grpSpPr>
            <a:xfrm>
              <a:off x="3227400" y="3505320"/>
              <a:ext cx="234720" cy="374040"/>
              <a:chOff x="3227400" y="3505320"/>
              <a:chExt cx="234720" cy="374040"/>
            </a:xfrm>
          </p:grpSpPr>
          <p:sp>
            <p:nvSpPr>
              <p:cNvPr id="313" name=""/>
              <p:cNvSpPr/>
              <p:nvPr/>
            </p:nvSpPr>
            <p:spPr>
              <a:xfrm>
                <a:off x="3227400" y="35053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27400" y="36352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202200" y="3603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90720" y="1981080"/>
            <a:ext cx="2209680" cy="1676520"/>
          </a:xfrm>
          <a:custGeom>
            <a:avLst/>
            <a:gdLst/>
            <a:ahLst/>
            <a:rect l="l" t="t" r="r" b="b"/>
            <a:pathLst>
              <a:path w="1432" h="1056">
                <a:moveTo>
                  <a:pt x="616" y="0"/>
                </a:moveTo>
                <a:cubicBezTo>
                  <a:pt x="308" y="152"/>
                  <a:pt x="0" y="304"/>
                  <a:pt x="136" y="480"/>
                </a:cubicBezTo>
                <a:cubicBezTo>
                  <a:pt x="272" y="656"/>
                  <a:pt x="852" y="856"/>
                  <a:pt x="1432" y="105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21040" y="1905120"/>
            <a:ext cx="660240" cy="1600200"/>
          </a:xfrm>
          <a:custGeom>
            <a:avLst/>
            <a:gdLst/>
            <a:ahLst/>
            <a:rect l="l" t="t" r="r" b="b"/>
            <a:pathLst>
              <a:path w="416" h="1008">
                <a:moveTo>
                  <a:pt x="416" y="0"/>
                </a:moveTo>
                <a:cubicBezTo>
                  <a:pt x="240" y="108"/>
                  <a:pt x="64" y="216"/>
                  <a:pt x="32" y="384"/>
                </a:cubicBezTo>
                <a:cubicBezTo>
                  <a:pt x="0" y="552"/>
                  <a:pt x="112" y="780"/>
                  <a:pt x="224" y="100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1981080"/>
            <a:ext cx="1828800" cy="1524240"/>
          </a:xfrm>
          <a:custGeom>
            <a:avLst/>
            <a:gdLst/>
            <a:ahLst/>
            <a:rect l="l" t="t" r="r" b="b"/>
            <a:pathLst>
              <a:path w="1152" h="960">
                <a:moveTo>
                  <a:pt x="1152" y="0"/>
                </a:moveTo>
                <a:cubicBezTo>
                  <a:pt x="888" y="184"/>
                  <a:pt x="624" y="368"/>
                  <a:pt x="432" y="528"/>
                </a:cubicBezTo>
                <a:cubicBezTo>
                  <a:pt x="240" y="688"/>
                  <a:pt x="120" y="824"/>
                  <a:pt x="0" y="96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360" y="20574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ailable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886200"/>
            <a:ext cx="1523880" cy="1752480"/>
          </a:xfrm>
          <a:custGeom>
            <a:avLst/>
            <a:gdLst/>
            <a:ahLst/>
            <a:rect l="l" t="t" r="r" b="b"/>
            <a:pathLst>
              <a:path w="1160" h="1120">
                <a:moveTo>
                  <a:pt x="56" y="1056"/>
                </a:moveTo>
                <a:cubicBezTo>
                  <a:pt x="28" y="1088"/>
                  <a:pt x="0" y="1120"/>
                  <a:pt x="104" y="1056"/>
                </a:cubicBezTo>
                <a:cubicBezTo>
                  <a:pt x="208" y="992"/>
                  <a:pt x="504" y="848"/>
                  <a:pt x="680" y="672"/>
                </a:cubicBezTo>
                <a:cubicBezTo>
                  <a:pt x="856" y="496"/>
                  <a:pt x="1008" y="248"/>
                  <a:pt x="116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3962520"/>
            <a:ext cx="838440" cy="2057400"/>
          </a:xfrm>
          <a:custGeom>
            <a:avLst/>
            <a:gdLst/>
            <a:ahLst/>
            <a:rect l="l" t="t" r="r" b="b"/>
            <a:pathLst>
              <a:path w="528" h="1296">
                <a:moveTo>
                  <a:pt x="0" y="1296"/>
                </a:moveTo>
                <a:cubicBezTo>
                  <a:pt x="148" y="1140"/>
                  <a:pt x="296" y="984"/>
                  <a:pt x="384" y="768"/>
                </a:cubicBezTo>
                <a:cubicBezTo>
                  <a:pt x="472" y="552"/>
                  <a:pt x="500" y="276"/>
                  <a:pt x="52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3962520"/>
            <a:ext cx="381240" cy="2057400"/>
          </a:xfrm>
          <a:custGeom>
            <a:avLst/>
            <a:gdLst/>
            <a:ahLst/>
            <a:rect l="l" t="t" r="r" b="b"/>
            <a:pathLst>
              <a:path w="240" h="1296">
                <a:moveTo>
                  <a:pt x="0" y="1296"/>
                </a:moveTo>
                <a:cubicBezTo>
                  <a:pt x="120" y="1140"/>
                  <a:pt x="240" y="984"/>
                  <a:pt x="240" y="768"/>
                </a:cubicBezTo>
                <a:cubicBezTo>
                  <a:pt x="240" y="552"/>
                  <a:pt x="120" y="27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3962520"/>
            <a:ext cx="1130400" cy="2057400"/>
          </a:xfrm>
          <a:custGeom>
            <a:avLst/>
            <a:gdLst/>
            <a:ahLst/>
            <a:rect l="l" t="t" r="r" b="b"/>
            <a:pathLst>
              <a:path w="712" h="1296">
                <a:moveTo>
                  <a:pt x="528" y="1296"/>
                </a:moveTo>
                <a:cubicBezTo>
                  <a:pt x="620" y="1092"/>
                  <a:pt x="712" y="888"/>
                  <a:pt x="624" y="672"/>
                </a:cubicBezTo>
                <a:cubicBezTo>
                  <a:pt x="536" y="456"/>
                  <a:pt x="268" y="228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962520"/>
            <a:ext cx="1841760" cy="1981080"/>
          </a:xfrm>
          <a:custGeom>
            <a:avLst/>
            <a:gdLst/>
            <a:ahLst/>
            <a:rect l="l" t="t" r="r" b="b"/>
            <a:pathLst>
              <a:path w="1160" h="1248">
                <a:moveTo>
                  <a:pt x="912" y="1248"/>
                </a:moveTo>
                <a:cubicBezTo>
                  <a:pt x="1036" y="1136"/>
                  <a:pt x="1160" y="1024"/>
                  <a:pt x="1008" y="816"/>
                </a:cubicBezTo>
                <a:cubicBezTo>
                  <a:pt x="856" y="608"/>
                  <a:pt x="428" y="304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886200"/>
            <a:ext cx="2667240" cy="1981080"/>
          </a:xfrm>
          <a:custGeom>
            <a:avLst/>
            <a:gdLst/>
            <a:ahLst/>
            <a:rect l="l" t="t" r="r" b="b"/>
            <a:pathLst>
              <a:path w="1632" h="1248">
                <a:moveTo>
                  <a:pt x="1440" y="1248"/>
                </a:moveTo>
                <a:cubicBezTo>
                  <a:pt x="1536" y="1112"/>
                  <a:pt x="1632" y="976"/>
                  <a:pt x="1392" y="768"/>
                </a:cubicBezTo>
                <a:cubicBezTo>
                  <a:pt x="1152" y="560"/>
                  <a:pt x="576" y="28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3809880"/>
            <a:ext cx="3835440" cy="1981440"/>
          </a:xfrm>
          <a:custGeom>
            <a:avLst/>
            <a:gdLst/>
            <a:ahLst/>
            <a:rect l="l" t="t" r="r" b="b"/>
            <a:pathLst>
              <a:path w="2416" h="1248">
                <a:moveTo>
                  <a:pt x="2112" y="1248"/>
                </a:moveTo>
                <a:cubicBezTo>
                  <a:pt x="2264" y="1112"/>
                  <a:pt x="2416" y="976"/>
                  <a:pt x="2064" y="768"/>
                </a:cubicBezTo>
                <a:cubicBezTo>
                  <a:pt x="1712" y="560"/>
                  <a:pt x="856" y="28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4114800"/>
            <a:ext cx="224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dicted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n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c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329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333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337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227400" y="3505320"/>
            <a:ext cx="235080" cy="374040"/>
            <a:chOff x="3227400" y="3505320"/>
            <a:chExt cx="235080" cy="374040"/>
          </a:xfrm>
        </p:grpSpPr>
        <p:sp>
          <p:nvSpPr>
            <p:cNvPr id="341" name=""/>
            <p:cNvSpPr/>
            <p:nvPr/>
          </p:nvSpPr>
          <p:spPr>
            <a:xfrm>
              <a:off x="3227400" y="3505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27400" y="3635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02200" y="3603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345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349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353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357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361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365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369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Synchronous centralised arch. (Centralised Auc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753920" y="1600200"/>
            <a:ext cx="319320" cy="405360"/>
            <a:chOff x="1753920" y="1600200"/>
            <a:chExt cx="319320" cy="405360"/>
          </a:xfrm>
        </p:grpSpPr>
        <p:grpSp>
          <p:nvGrpSpPr>
            <p:cNvPr id="395" name=""/>
            <p:cNvGrpSpPr/>
            <p:nvPr/>
          </p:nvGrpSpPr>
          <p:grpSpPr>
            <a:xfrm>
              <a:off x="1779480" y="1600200"/>
              <a:ext cx="234720" cy="374040"/>
              <a:chOff x="1779480" y="1600200"/>
              <a:chExt cx="234720" cy="374040"/>
            </a:xfrm>
          </p:grpSpPr>
          <p:sp>
            <p:nvSpPr>
              <p:cNvPr id="396" name=""/>
              <p:cNvSpPr/>
              <p:nvPr/>
            </p:nvSpPr>
            <p:spPr>
              <a:xfrm>
                <a:off x="17794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794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7539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259240" y="1676520"/>
            <a:ext cx="319320" cy="405360"/>
            <a:chOff x="5259240" y="1676520"/>
            <a:chExt cx="319320" cy="405360"/>
          </a:xfrm>
        </p:grpSpPr>
        <p:grpSp>
          <p:nvGrpSpPr>
            <p:cNvPr id="400" name=""/>
            <p:cNvGrpSpPr/>
            <p:nvPr/>
          </p:nvGrpSpPr>
          <p:grpSpPr>
            <a:xfrm>
              <a:off x="5284800" y="1676520"/>
              <a:ext cx="234720" cy="374040"/>
              <a:chOff x="5284800" y="1676520"/>
              <a:chExt cx="234720" cy="374040"/>
            </a:xfrm>
          </p:grpSpPr>
          <p:sp>
            <p:nvSpPr>
              <p:cNvPr id="401" name=""/>
              <p:cNvSpPr/>
              <p:nvPr/>
            </p:nvSpPr>
            <p:spPr>
              <a:xfrm>
                <a:off x="5284800" y="16765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84800" y="18064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59240" y="17748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82720" y="1600200"/>
            <a:ext cx="319320" cy="405360"/>
            <a:chOff x="3582720" y="1600200"/>
            <a:chExt cx="319320" cy="405360"/>
          </a:xfrm>
        </p:grpSpPr>
        <p:grpSp>
          <p:nvGrpSpPr>
            <p:cNvPr id="405" name=""/>
            <p:cNvGrpSpPr/>
            <p:nvPr/>
          </p:nvGrpSpPr>
          <p:grpSpPr>
            <a:xfrm>
              <a:off x="3608280" y="1600200"/>
              <a:ext cx="234720" cy="374040"/>
              <a:chOff x="3608280" y="1600200"/>
              <a:chExt cx="234720" cy="374040"/>
            </a:xfrm>
          </p:grpSpPr>
          <p:sp>
            <p:nvSpPr>
              <p:cNvPr id="406" name=""/>
              <p:cNvSpPr/>
              <p:nvPr/>
            </p:nvSpPr>
            <p:spPr>
              <a:xfrm>
                <a:off x="36082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082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35827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629400" y="3048120"/>
            <a:ext cx="222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tributor carries out auctions so that the common good is maxim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411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415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419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227400" y="3505320"/>
            <a:ext cx="235080" cy="374040"/>
            <a:chOff x="3227400" y="3505320"/>
            <a:chExt cx="235080" cy="374040"/>
          </a:xfrm>
        </p:grpSpPr>
        <p:sp>
          <p:nvSpPr>
            <p:cNvPr id="423" name=""/>
            <p:cNvSpPr/>
            <p:nvPr/>
          </p:nvSpPr>
          <p:spPr>
            <a:xfrm>
              <a:off x="3227400" y="3505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27400" y="3635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02200" y="3603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427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431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435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439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443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447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451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Synchronous centralised arch. (Centralised Auc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753920" y="1600200"/>
            <a:ext cx="319320" cy="405360"/>
            <a:chOff x="1753920" y="1600200"/>
            <a:chExt cx="319320" cy="405360"/>
          </a:xfrm>
        </p:grpSpPr>
        <p:grpSp>
          <p:nvGrpSpPr>
            <p:cNvPr id="477" name=""/>
            <p:cNvGrpSpPr/>
            <p:nvPr/>
          </p:nvGrpSpPr>
          <p:grpSpPr>
            <a:xfrm>
              <a:off x="1779480" y="1600200"/>
              <a:ext cx="234720" cy="374040"/>
              <a:chOff x="1779480" y="1600200"/>
              <a:chExt cx="234720" cy="374040"/>
            </a:xfrm>
          </p:grpSpPr>
          <p:sp>
            <p:nvSpPr>
              <p:cNvPr id="478" name=""/>
              <p:cNvSpPr/>
              <p:nvPr/>
            </p:nvSpPr>
            <p:spPr>
              <a:xfrm>
                <a:off x="17794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794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17539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259240" y="1676520"/>
            <a:ext cx="319320" cy="405360"/>
            <a:chOff x="5259240" y="1676520"/>
            <a:chExt cx="319320" cy="405360"/>
          </a:xfrm>
        </p:grpSpPr>
        <p:grpSp>
          <p:nvGrpSpPr>
            <p:cNvPr id="482" name=""/>
            <p:cNvGrpSpPr/>
            <p:nvPr/>
          </p:nvGrpSpPr>
          <p:grpSpPr>
            <a:xfrm>
              <a:off x="5284800" y="1676520"/>
              <a:ext cx="234720" cy="374040"/>
              <a:chOff x="5284800" y="1676520"/>
              <a:chExt cx="234720" cy="374040"/>
            </a:xfrm>
          </p:grpSpPr>
          <p:sp>
            <p:nvSpPr>
              <p:cNvPr id="483" name=""/>
              <p:cNvSpPr/>
              <p:nvPr/>
            </p:nvSpPr>
            <p:spPr>
              <a:xfrm>
                <a:off x="5284800" y="16765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284800" y="18064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259240" y="17748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582720" y="1600200"/>
            <a:ext cx="319320" cy="405360"/>
            <a:chOff x="3582720" y="1600200"/>
            <a:chExt cx="319320" cy="405360"/>
          </a:xfrm>
        </p:grpSpPr>
        <p:grpSp>
          <p:nvGrpSpPr>
            <p:cNvPr id="487" name=""/>
            <p:cNvGrpSpPr/>
            <p:nvPr/>
          </p:nvGrpSpPr>
          <p:grpSpPr>
            <a:xfrm>
              <a:off x="3608280" y="1600200"/>
              <a:ext cx="234720" cy="374040"/>
              <a:chOff x="3608280" y="1600200"/>
              <a:chExt cx="234720" cy="374040"/>
            </a:xfrm>
          </p:grpSpPr>
          <p:sp>
            <p:nvSpPr>
              <p:cNvPr id="488" name=""/>
              <p:cNvSpPr/>
              <p:nvPr/>
            </p:nvSpPr>
            <p:spPr>
              <a:xfrm>
                <a:off x="36082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6082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5827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400800" y="289548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 of the a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w much capacity each SSP is allowed to use at each S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76520" y="3886200"/>
            <a:ext cx="1523880" cy="1752480"/>
          </a:xfrm>
          <a:custGeom>
            <a:avLst/>
            <a:gdLst/>
            <a:ahLst/>
            <a:rect l="l" t="t" r="r" b="b"/>
            <a:pathLst>
              <a:path w="1160" h="1120">
                <a:moveTo>
                  <a:pt x="56" y="1056"/>
                </a:moveTo>
                <a:cubicBezTo>
                  <a:pt x="28" y="1088"/>
                  <a:pt x="0" y="1120"/>
                  <a:pt x="104" y="1056"/>
                </a:cubicBezTo>
                <a:cubicBezTo>
                  <a:pt x="208" y="992"/>
                  <a:pt x="504" y="848"/>
                  <a:pt x="680" y="672"/>
                </a:cubicBezTo>
                <a:cubicBezTo>
                  <a:pt x="856" y="496"/>
                  <a:pt x="1008" y="248"/>
                  <a:pt x="116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38280" y="3962520"/>
            <a:ext cx="838440" cy="2057400"/>
          </a:xfrm>
          <a:custGeom>
            <a:avLst/>
            <a:gdLst/>
            <a:ahLst/>
            <a:rect l="l" t="t" r="r" b="b"/>
            <a:pathLst>
              <a:path w="528" h="1296">
                <a:moveTo>
                  <a:pt x="0" y="1296"/>
                </a:moveTo>
                <a:cubicBezTo>
                  <a:pt x="148" y="1140"/>
                  <a:pt x="296" y="984"/>
                  <a:pt x="384" y="768"/>
                </a:cubicBezTo>
                <a:cubicBezTo>
                  <a:pt x="472" y="552"/>
                  <a:pt x="500" y="276"/>
                  <a:pt x="52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3962520"/>
            <a:ext cx="381240" cy="1981080"/>
          </a:xfrm>
          <a:custGeom>
            <a:avLst/>
            <a:gdLst/>
            <a:ahLst/>
            <a:rect l="l" t="t" r="r" b="b"/>
            <a:pathLst>
              <a:path w="240" h="1296">
                <a:moveTo>
                  <a:pt x="0" y="1296"/>
                </a:moveTo>
                <a:cubicBezTo>
                  <a:pt x="120" y="1140"/>
                  <a:pt x="240" y="984"/>
                  <a:pt x="240" y="768"/>
                </a:cubicBezTo>
                <a:cubicBezTo>
                  <a:pt x="240" y="552"/>
                  <a:pt x="120" y="27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29000" y="3962520"/>
            <a:ext cx="1130400" cy="2057400"/>
          </a:xfrm>
          <a:custGeom>
            <a:avLst/>
            <a:gdLst/>
            <a:ahLst/>
            <a:rect l="l" t="t" r="r" b="b"/>
            <a:pathLst>
              <a:path w="712" h="1296">
                <a:moveTo>
                  <a:pt x="528" y="1296"/>
                </a:moveTo>
                <a:cubicBezTo>
                  <a:pt x="620" y="1092"/>
                  <a:pt x="712" y="888"/>
                  <a:pt x="624" y="672"/>
                </a:cubicBezTo>
                <a:cubicBezTo>
                  <a:pt x="536" y="456"/>
                  <a:pt x="268" y="228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3962520"/>
            <a:ext cx="1841760" cy="1981080"/>
          </a:xfrm>
          <a:custGeom>
            <a:avLst/>
            <a:gdLst/>
            <a:ahLst/>
            <a:rect l="l" t="t" r="r" b="b"/>
            <a:pathLst>
              <a:path w="1160" h="1248">
                <a:moveTo>
                  <a:pt x="912" y="1248"/>
                </a:moveTo>
                <a:cubicBezTo>
                  <a:pt x="1036" y="1136"/>
                  <a:pt x="1160" y="1024"/>
                  <a:pt x="1008" y="816"/>
                </a:cubicBezTo>
                <a:cubicBezTo>
                  <a:pt x="856" y="608"/>
                  <a:pt x="428" y="304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3886200"/>
            <a:ext cx="2667240" cy="1981080"/>
          </a:xfrm>
          <a:custGeom>
            <a:avLst/>
            <a:gdLst/>
            <a:ahLst/>
            <a:rect l="l" t="t" r="r" b="b"/>
            <a:pathLst>
              <a:path w="1632" h="1248">
                <a:moveTo>
                  <a:pt x="1440" y="1248"/>
                </a:moveTo>
                <a:cubicBezTo>
                  <a:pt x="1536" y="1112"/>
                  <a:pt x="1632" y="976"/>
                  <a:pt x="1392" y="768"/>
                </a:cubicBezTo>
                <a:cubicBezTo>
                  <a:pt x="1152" y="560"/>
                  <a:pt x="576" y="28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05320" y="3809880"/>
            <a:ext cx="3835440" cy="1981440"/>
          </a:xfrm>
          <a:custGeom>
            <a:avLst/>
            <a:gdLst/>
            <a:ahLst/>
            <a:rect l="l" t="t" r="r" b="b"/>
            <a:pathLst>
              <a:path w="2416" h="1248">
                <a:moveTo>
                  <a:pt x="2112" y="1248"/>
                </a:moveTo>
                <a:cubicBezTo>
                  <a:pt x="2264" y="1112"/>
                  <a:pt x="2416" y="976"/>
                  <a:pt x="2064" y="768"/>
                </a:cubicBezTo>
                <a:cubicBezTo>
                  <a:pt x="1712" y="560"/>
                  <a:pt x="856" y="28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500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504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508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27400" y="3505320"/>
            <a:ext cx="235080" cy="374040"/>
            <a:chOff x="3227400" y="3505320"/>
            <a:chExt cx="235080" cy="374040"/>
          </a:xfrm>
        </p:grpSpPr>
        <p:sp>
          <p:nvSpPr>
            <p:cNvPr id="512" name=""/>
            <p:cNvSpPr/>
            <p:nvPr/>
          </p:nvSpPr>
          <p:spPr>
            <a:xfrm>
              <a:off x="3227400" y="3505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7400" y="3635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202200" y="3603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516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520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524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528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532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536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540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Synchronous centralised arch. (Centralised Auc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Synchronous distributed arch. (Hierarchical Auction)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567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571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575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579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583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587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591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595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599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603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265560" y="3962520"/>
            <a:ext cx="308880" cy="405360"/>
            <a:chOff x="3265560" y="3962520"/>
            <a:chExt cx="308880" cy="405360"/>
          </a:xfrm>
        </p:grpSpPr>
        <p:grpSp>
          <p:nvGrpSpPr>
            <p:cNvPr id="607" name=""/>
            <p:cNvGrpSpPr/>
            <p:nvPr/>
          </p:nvGrpSpPr>
          <p:grpSpPr>
            <a:xfrm>
              <a:off x="3290760" y="3962520"/>
              <a:ext cx="235080" cy="374040"/>
              <a:chOff x="3290760" y="3962520"/>
              <a:chExt cx="235080" cy="374040"/>
            </a:xfrm>
          </p:grpSpPr>
          <p:sp>
            <p:nvSpPr>
              <p:cNvPr id="608" name=""/>
              <p:cNvSpPr/>
              <p:nvPr/>
            </p:nvSpPr>
            <p:spPr>
              <a:xfrm>
                <a:off x="3290760" y="3962520"/>
                <a:ext cx="23508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90760" y="4092480"/>
                <a:ext cx="23508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3265560" y="4060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421520" y="3962520"/>
            <a:ext cx="308880" cy="405360"/>
            <a:chOff x="4421520" y="3962520"/>
            <a:chExt cx="308880" cy="405360"/>
          </a:xfrm>
        </p:grpSpPr>
        <p:grpSp>
          <p:nvGrpSpPr>
            <p:cNvPr id="612" name=""/>
            <p:cNvGrpSpPr/>
            <p:nvPr/>
          </p:nvGrpSpPr>
          <p:grpSpPr>
            <a:xfrm>
              <a:off x="4446360" y="3962520"/>
              <a:ext cx="234720" cy="374040"/>
              <a:chOff x="4446360" y="3962520"/>
              <a:chExt cx="234720" cy="374040"/>
            </a:xfrm>
          </p:grpSpPr>
          <p:sp>
            <p:nvSpPr>
              <p:cNvPr id="613" name=""/>
              <p:cNvSpPr/>
              <p:nvPr/>
            </p:nvSpPr>
            <p:spPr>
              <a:xfrm>
                <a:off x="4446360" y="39625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46360" y="40924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421520" y="4060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834000" y="3384720"/>
            <a:ext cx="308880" cy="405360"/>
            <a:chOff x="3834000" y="3384720"/>
            <a:chExt cx="308880" cy="405360"/>
          </a:xfrm>
        </p:grpSpPr>
        <p:grpSp>
          <p:nvGrpSpPr>
            <p:cNvPr id="617" name=""/>
            <p:cNvGrpSpPr/>
            <p:nvPr/>
          </p:nvGrpSpPr>
          <p:grpSpPr>
            <a:xfrm>
              <a:off x="3859200" y="3384720"/>
              <a:ext cx="235080" cy="374040"/>
              <a:chOff x="3859200" y="3384720"/>
              <a:chExt cx="235080" cy="374040"/>
            </a:xfrm>
          </p:grpSpPr>
          <p:sp>
            <p:nvSpPr>
              <p:cNvPr id="618" name=""/>
              <p:cNvSpPr/>
              <p:nvPr/>
            </p:nvSpPr>
            <p:spPr>
              <a:xfrm>
                <a:off x="3859200" y="3384720"/>
                <a:ext cx="23508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59200" y="3514680"/>
                <a:ext cx="23508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834000" y="3483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114800" y="37339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053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1981080"/>
            <a:ext cx="1143000" cy="1371600"/>
          </a:xfrm>
          <a:custGeom>
            <a:avLst/>
            <a:gdLst/>
            <a:ahLst/>
            <a:rect l="l" t="t" r="r" b="b"/>
            <a:pathLst>
              <a:path w="1152" h="960">
                <a:moveTo>
                  <a:pt x="1152" y="0"/>
                </a:moveTo>
                <a:cubicBezTo>
                  <a:pt x="888" y="184"/>
                  <a:pt x="624" y="368"/>
                  <a:pt x="432" y="528"/>
                </a:cubicBezTo>
                <a:cubicBezTo>
                  <a:pt x="240" y="688"/>
                  <a:pt x="120" y="824"/>
                  <a:pt x="0" y="96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62120" y="2057400"/>
            <a:ext cx="2971800" cy="1447920"/>
          </a:xfrm>
          <a:custGeom>
            <a:avLst/>
            <a:gdLst/>
            <a:ahLst/>
            <a:rect l="l" t="t" r="r" b="b"/>
            <a:pathLst>
              <a:path w="1432" h="1056">
                <a:moveTo>
                  <a:pt x="616" y="0"/>
                </a:moveTo>
                <a:cubicBezTo>
                  <a:pt x="308" y="152"/>
                  <a:pt x="0" y="304"/>
                  <a:pt x="136" y="480"/>
                </a:cubicBezTo>
                <a:cubicBezTo>
                  <a:pt x="272" y="656"/>
                  <a:pt x="852" y="856"/>
                  <a:pt x="1432" y="105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08440" y="1981080"/>
            <a:ext cx="901440" cy="1371600"/>
          </a:xfrm>
          <a:custGeom>
            <a:avLst/>
            <a:gdLst/>
            <a:ahLst/>
            <a:rect l="l" t="t" r="r" b="b"/>
            <a:pathLst>
              <a:path w="568" h="864">
                <a:moveTo>
                  <a:pt x="328" y="0"/>
                </a:moveTo>
                <a:cubicBezTo>
                  <a:pt x="164" y="72"/>
                  <a:pt x="0" y="144"/>
                  <a:pt x="40" y="288"/>
                </a:cubicBezTo>
                <a:cubicBezTo>
                  <a:pt x="80" y="432"/>
                  <a:pt x="324" y="648"/>
                  <a:pt x="568" y="86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4191120"/>
            <a:ext cx="1523880" cy="1447560"/>
          </a:xfrm>
          <a:custGeom>
            <a:avLst/>
            <a:gdLst/>
            <a:ahLst/>
            <a:rect l="l" t="t" r="r" b="b"/>
            <a:pathLst>
              <a:path w="1160" h="1120">
                <a:moveTo>
                  <a:pt x="56" y="1056"/>
                </a:moveTo>
                <a:cubicBezTo>
                  <a:pt x="28" y="1088"/>
                  <a:pt x="0" y="1120"/>
                  <a:pt x="104" y="1056"/>
                </a:cubicBezTo>
                <a:cubicBezTo>
                  <a:pt x="208" y="992"/>
                  <a:pt x="504" y="848"/>
                  <a:pt x="680" y="672"/>
                </a:cubicBezTo>
                <a:cubicBezTo>
                  <a:pt x="856" y="496"/>
                  <a:pt x="1008" y="248"/>
                  <a:pt x="116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4343400"/>
            <a:ext cx="838440" cy="1676520"/>
          </a:xfrm>
          <a:custGeom>
            <a:avLst/>
            <a:gdLst/>
            <a:ahLst/>
            <a:rect l="l" t="t" r="r" b="b"/>
            <a:pathLst>
              <a:path w="528" h="1296">
                <a:moveTo>
                  <a:pt x="0" y="1296"/>
                </a:moveTo>
                <a:cubicBezTo>
                  <a:pt x="148" y="1140"/>
                  <a:pt x="296" y="984"/>
                  <a:pt x="384" y="768"/>
                </a:cubicBezTo>
                <a:cubicBezTo>
                  <a:pt x="472" y="552"/>
                  <a:pt x="500" y="276"/>
                  <a:pt x="52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4343400"/>
            <a:ext cx="304920" cy="1676520"/>
          </a:xfrm>
          <a:custGeom>
            <a:avLst/>
            <a:gdLst/>
            <a:ahLst/>
            <a:rect l="l" t="t" r="r" b="b"/>
            <a:pathLst>
              <a:path w="240" h="1296">
                <a:moveTo>
                  <a:pt x="0" y="1296"/>
                </a:moveTo>
                <a:cubicBezTo>
                  <a:pt x="120" y="1140"/>
                  <a:pt x="240" y="984"/>
                  <a:pt x="240" y="768"/>
                </a:cubicBezTo>
                <a:cubicBezTo>
                  <a:pt x="240" y="552"/>
                  <a:pt x="120" y="27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1120" y="4419720"/>
            <a:ext cx="457200" cy="1523880"/>
          </a:xfrm>
          <a:custGeom>
            <a:avLst/>
            <a:gdLst/>
            <a:ahLst/>
            <a:rect l="l" t="t" r="r" b="b"/>
            <a:pathLst>
              <a:path w="528" h="1296">
                <a:moveTo>
                  <a:pt x="0" y="1296"/>
                </a:moveTo>
                <a:cubicBezTo>
                  <a:pt x="148" y="1140"/>
                  <a:pt x="296" y="984"/>
                  <a:pt x="384" y="768"/>
                </a:cubicBezTo>
                <a:cubicBezTo>
                  <a:pt x="472" y="552"/>
                  <a:pt x="500" y="276"/>
                  <a:pt x="52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4419720"/>
            <a:ext cx="520920" cy="1523880"/>
          </a:xfrm>
          <a:custGeom>
            <a:avLst/>
            <a:gdLst/>
            <a:ahLst/>
            <a:rect l="l" t="t" r="r" b="b"/>
            <a:pathLst>
              <a:path w="328" h="960">
                <a:moveTo>
                  <a:pt x="240" y="960"/>
                </a:moveTo>
                <a:cubicBezTo>
                  <a:pt x="284" y="824"/>
                  <a:pt x="328" y="688"/>
                  <a:pt x="288" y="528"/>
                </a:cubicBezTo>
                <a:cubicBezTo>
                  <a:pt x="248" y="368"/>
                  <a:pt x="124" y="184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4343400"/>
            <a:ext cx="1575000" cy="1523880"/>
          </a:xfrm>
          <a:custGeom>
            <a:avLst/>
            <a:gdLst/>
            <a:ahLst/>
            <a:rect l="l" t="t" r="r" b="b"/>
            <a:pathLst>
              <a:path w="992" h="960">
                <a:moveTo>
                  <a:pt x="768" y="960"/>
                </a:moveTo>
                <a:cubicBezTo>
                  <a:pt x="880" y="920"/>
                  <a:pt x="992" y="880"/>
                  <a:pt x="864" y="720"/>
                </a:cubicBezTo>
                <a:cubicBezTo>
                  <a:pt x="736" y="560"/>
                  <a:pt x="368" y="28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76920" y="4343400"/>
            <a:ext cx="2616120" cy="144792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48" y="960"/>
                </a:moveTo>
                <a:cubicBezTo>
                  <a:pt x="1232" y="968"/>
                  <a:pt x="1216" y="976"/>
                  <a:pt x="1248" y="912"/>
                </a:cubicBezTo>
                <a:cubicBezTo>
                  <a:pt x="1280" y="848"/>
                  <a:pt x="1648" y="728"/>
                  <a:pt x="1440" y="576"/>
                </a:cubicBezTo>
                <a:cubicBezTo>
                  <a:pt x="1232" y="424"/>
                  <a:pt x="616" y="212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Asynchronous centralised arch. (Centralised Leaky Bucket)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90720" y="1600200"/>
            <a:ext cx="6350040" cy="4748760"/>
            <a:chOff x="990720" y="1600200"/>
            <a:chExt cx="6350040" cy="4748760"/>
          </a:xfrm>
        </p:grpSpPr>
        <p:sp>
          <p:nvSpPr>
            <p:cNvPr id="635" name=""/>
            <p:cNvSpPr/>
            <p:nvPr/>
          </p:nvSpPr>
          <p:spPr>
            <a:xfrm>
              <a:off x="2362320" y="2743200"/>
              <a:ext cx="15238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33920" y="2666880"/>
              <a:ext cx="15228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09520" y="2743200"/>
              <a:ext cx="1600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590920" y="3809880"/>
              <a:ext cx="152388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3276720" y="3809520"/>
              <a:ext cx="83808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038480" y="3809880"/>
              <a:ext cx="7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4114440" y="3809880"/>
              <a:ext cx="160020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4114440" y="3809520"/>
              <a:ext cx="243828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4114440" y="3809520"/>
              <a:ext cx="68580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828800" y="3809520"/>
              <a:ext cx="220968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52480" y="3124080"/>
              <a:ext cx="4648320" cy="1560600"/>
            </a:xfrm>
            <a:custGeom>
              <a:avLst/>
              <a:gdLst/>
              <a:ahLst/>
              <a:rect l="l" t="t" r="r" b="b"/>
              <a:pathLst>
                <a:path w="1939" h="1031">
                  <a:moveTo>
                    <a:pt x="1657" y="336"/>
                  </a:moveTo>
                  <a:cubicBezTo>
                    <a:pt x="1641" y="303"/>
                    <a:pt x="1623" y="272"/>
                    <a:pt x="1597" y="246"/>
                  </a:cubicBezTo>
                  <a:cubicBezTo>
                    <a:pt x="1578" y="189"/>
                    <a:pt x="1527" y="157"/>
                    <a:pt x="1477" y="132"/>
                  </a:cubicBezTo>
                  <a:cubicBezTo>
                    <a:pt x="1433" y="110"/>
                    <a:pt x="1388" y="84"/>
                    <a:pt x="1339" y="72"/>
                  </a:cubicBezTo>
                  <a:cubicBezTo>
                    <a:pt x="1284" y="59"/>
                    <a:pt x="1226" y="53"/>
                    <a:pt x="1171" y="42"/>
                  </a:cubicBezTo>
                  <a:cubicBezTo>
                    <a:pt x="1076" y="47"/>
                    <a:pt x="1069" y="44"/>
                    <a:pt x="1003" y="60"/>
                  </a:cubicBezTo>
                  <a:cubicBezTo>
                    <a:pt x="966" y="85"/>
                    <a:pt x="853" y="48"/>
                    <a:pt x="811" y="42"/>
                  </a:cubicBezTo>
                  <a:cubicBezTo>
                    <a:pt x="733" y="3"/>
                    <a:pt x="622" y="7"/>
                    <a:pt x="535" y="0"/>
                  </a:cubicBezTo>
                  <a:cubicBezTo>
                    <a:pt x="461" y="4"/>
                    <a:pt x="387" y="3"/>
                    <a:pt x="313" y="12"/>
                  </a:cubicBezTo>
                  <a:cubicBezTo>
                    <a:pt x="292" y="15"/>
                    <a:pt x="273" y="28"/>
                    <a:pt x="253" y="36"/>
                  </a:cubicBezTo>
                  <a:cubicBezTo>
                    <a:pt x="183" y="64"/>
                    <a:pt x="99" y="96"/>
                    <a:pt x="49" y="156"/>
                  </a:cubicBezTo>
                  <a:cubicBezTo>
                    <a:pt x="31" y="177"/>
                    <a:pt x="28" y="205"/>
                    <a:pt x="13" y="228"/>
                  </a:cubicBezTo>
                  <a:cubicBezTo>
                    <a:pt x="10" y="248"/>
                    <a:pt x="0" y="268"/>
                    <a:pt x="1" y="288"/>
                  </a:cubicBezTo>
                  <a:cubicBezTo>
                    <a:pt x="3" y="360"/>
                    <a:pt x="4" y="432"/>
                    <a:pt x="13" y="504"/>
                  </a:cubicBezTo>
                  <a:cubicBezTo>
                    <a:pt x="14" y="514"/>
                    <a:pt x="25" y="520"/>
                    <a:pt x="31" y="528"/>
                  </a:cubicBezTo>
                  <a:cubicBezTo>
                    <a:pt x="89" y="615"/>
                    <a:pt x="174" y="635"/>
                    <a:pt x="271" y="654"/>
                  </a:cubicBezTo>
                  <a:cubicBezTo>
                    <a:pt x="216" y="872"/>
                    <a:pt x="482" y="877"/>
                    <a:pt x="625" y="894"/>
                  </a:cubicBezTo>
                  <a:cubicBezTo>
                    <a:pt x="661" y="898"/>
                    <a:pt x="697" y="898"/>
                    <a:pt x="733" y="900"/>
                  </a:cubicBezTo>
                  <a:cubicBezTo>
                    <a:pt x="765" y="902"/>
                    <a:pt x="797" y="904"/>
                    <a:pt x="829" y="906"/>
                  </a:cubicBezTo>
                  <a:cubicBezTo>
                    <a:pt x="913" y="902"/>
                    <a:pt x="942" y="910"/>
                    <a:pt x="1003" y="870"/>
                  </a:cubicBezTo>
                  <a:cubicBezTo>
                    <a:pt x="1118" y="1023"/>
                    <a:pt x="1337" y="1009"/>
                    <a:pt x="1507" y="1014"/>
                  </a:cubicBezTo>
                  <a:cubicBezTo>
                    <a:pt x="1643" y="1010"/>
                    <a:pt x="1821" y="1031"/>
                    <a:pt x="1915" y="906"/>
                  </a:cubicBezTo>
                  <a:cubicBezTo>
                    <a:pt x="1939" y="808"/>
                    <a:pt x="1904" y="728"/>
                    <a:pt x="1873" y="636"/>
                  </a:cubicBezTo>
                  <a:cubicBezTo>
                    <a:pt x="1859" y="593"/>
                    <a:pt x="1841" y="555"/>
                    <a:pt x="1819" y="516"/>
                  </a:cubicBezTo>
                  <a:cubicBezTo>
                    <a:pt x="1801" y="483"/>
                    <a:pt x="1815" y="493"/>
                    <a:pt x="1795" y="468"/>
                  </a:cubicBezTo>
                  <a:cubicBezTo>
                    <a:pt x="1778" y="447"/>
                    <a:pt x="1760" y="421"/>
                    <a:pt x="1741" y="402"/>
                  </a:cubicBezTo>
                  <a:cubicBezTo>
                    <a:pt x="1728" y="389"/>
                    <a:pt x="1691" y="374"/>
                    <a:pt x="1675" y="366"/>
                  </a:cubicBezTo>
                  <a:cubicBezTo>
                    <a:pt x="1669" y="363"/>
                    <a:pt x="1660" y="365"/>
                    <a:pt x="1657" y="360"/>
                  </a:cubicBezTo>
                  <a:cubicBezTo>
                    <a:pt x="1653" y="353"/>
                    <a:pt x="1657" y="344"/>
                    <a:pt x="1657" y="33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57400" y="2209680"/>
              <a:ext cx="380880" cy="53352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81480" y="2209680"/>
              <a:ext cx="381240" cy="53352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05320" y="2133720"/>
              <a:ext cx="380880" cy="5331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00200" y="4876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5181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48120" y="5334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09880" y="5334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2000" y="5334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10080" y="5334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24480" y="5257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753920" y="1600200"/>
              <a:ext cx="319320" cy="405360"/>
              <a:chOff x="1753920" y="1600200"/>
              <a:chExt cx="319320" cy="4053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1779480" y="1600200"/>
                <a:ext cx="234720" cy="374040"/>
                <a:chOff x="1779480" y="1600200"/>
                <a:chExt cx="234720" cy="3740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779480" y="1600200"/>
                  <a:ext cx="234720" cy="227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79480" y="1730160"/>
                  <a:ext cx="234720" cy="2440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1753920" y="1698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5259240" y="1676520"/>
              <a:ext cx="319320" cy="405360"/>
              <a:chOff x="5259240" y="1676520"/>
              <a:chExt cx="319320" cy="40536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5284800" y="1676520"/>
                <a:ext cx="234720" cy="374040"/>
                <a:chOff x="5284800" y="1676520"/>
                <a:chExt cx="234720" cy="3740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5284800" y="1676520"/>
                  <a:ext cx="234720" cy="227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284800" y="1806480"/>
                  <a:ext cx="234720" cy="2440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5259240" y="177480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582720" y="1600200"/>
              <a:ext cx="319320" cy="405360"/>
              <a:chOff x="3582720" y="1600200"/>
              <a:chExt cx="319320" cy="405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3608280" y="1600200"/>
                <a:ext cx="234720" cy="374040"/>
                <a:chOff x="3608280" y="1600200"/>
                <a:chExt cx="234720" cy="3740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608280" y="1600200"/>
                  <a:ext cx="234720" cy="227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08280" y="1730160"/>
                  <a:ext cx="234720" cy="2440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3582720" y="1698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202200" y="3505320"/>
              <a:ext cx="308880" cy="405360"/>
              <a:chOff x="3202200" y="3505320"/>
              <a:chExt cx="308880" cy="40536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3227400" y="3505320"/>
                <a:ext cx="234720" cy="374040"/>
                <a:chOff x="3227400" y="3505320"/>
                <a:chExt cx="234720" cy="374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227400" y="3505320"/>
                  <a:ext cx="234720" cy="227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227400" y="3635280"/>
                  <a:ext cx="234720" cy="2440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" name=""/>
              <p:cNvSpPr/>
              <p:nvPr/>
            </p:nvSpPr>
            <p:spPr>
              <a:xfrm>
                <a:off x="3202200" y="3603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90720" y="1981080"/>
              <a:ext cx="2209680" cy="1676520"/>
            </a:xfrm>
            <a:custGeom>
              <a:avLst/>
              <a:gdLst/>
              <a:ahLst/>
              <a:rect l="l" t="t" r="r" b="b"/>
              <a:pathLst>
                <a:path w="1432" h="1056">
                  <a:moveTo>
                    <a:pt x="616" y="0"/>
                  </a:moveTo>
                  <a:cubicBezTo>
                    <a:pt x="308" y="152"/>
                    <a:pt x="0" y="304"/>
                    <a:pt x="136" y="480"/>
                  </a:cubicBezTo>
                  <a:cubicBezTo>
                    <a:pt x="272" y="656"/>
                    <a:pt x="852" y="856"/>
                    <a:pt x="1432" y="105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21040" y="1905120"/>
              <a:ext cx="660240" cy="1600200"/>
            </a:xfrm>
            <a:custGeom>
              <a:avLst/>
              <a:gdLst/>
              <a:ahLst/>
              <a:rect l="l" t="t" r="r" b="b"/>
              <a:pathLst>
                <a:path w="416" h="1008">
                  <a:moveTo>
                    <a:pt x="416" y="0"/>
                  </a:moveTo>
                  <a:cubicBezTo>
                    <a:pt x="240" y="108"/>
                    <a:pt x="64" y="216"/>
                    <a:pt x="32" y="384"/>
                  </a:cubicBezTo>
                  <a:cubicBezTo>
                    <a:pt x="0" y="552"/>
                    <a:pt x="112" y="780"/>
                    <a:pt x="224" y="10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29000" y="1981080"/>
              <a:ext cx="1828800" cy="1524240"/>
            </a:xfrm>
            <a:custGeom>
              <a:avLst/>
              <a:gdLst/>
              <a:ahLst/>
              <a:rect l="l" t="t" r="r" b="b"/>
              <a:pathLst>
                <a:path w="1152" h="960">
                  <a:moveTo>
                    <a:pt x="1152" y="0"/>
                  </a:moveTo>
                  <a:cubicBezTo>
                    <a:pt x="888" y="184"/>
                    <a:pt x="624" y="368"/>
                    <a:pt x="432" y="528"/>
                  </a:cubicBezTo>
                  <a:cubicBezTo>
                    <a:pt x="240" y="688"/>
                    <a:pt x="120" y="824"/>
                    <a:pt x="0" y="96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76520" y="3886200"/>
              <a:ext cx="1523880" cy="1752480"/>
            </a:xfrm>
            <a:custGeom>
              <a:avLst/>
              <a:gdLst/>
              <a:ahLst/>
              <a:rect l="l" t="t" r="r" b="b"/>
              <a:pathLst>
                <a:path w="1160" h="1120">
                  <a:moveTo>
                    <a:pt x="56" y="1056"/>
                  </a:moveTo>
                  <a:cubicBezTo>
                    <a:pt x="28" y="1088"/>
                    <a:pt x="0" y="1120"/>
                    <a:pt x="104" y="1056"/>
                  </a:cubicBezTo>
                  <a:cubicBezTo>
                    <a:pt x="208" y="992"/>
                    <a:pt x="504" y="848"/>
                    <a:pt x="680" y="672"/>
                  </a:cubicBezTo>
                  <a:cubicBezTo>
                    <a:pt x="856" y="496"/>
                    <a:pt x="1008" y="248"/>
                    <a:pt x="116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38280" y="3962520"/>
              <a:ext cx="83844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1296"/>
                  </a:moveTo>
                  <a:cubicBezTo>
                    <a:pt x="148" y="1140"/>
                    <a:pt x="296" y="984"/>
                    <a:pt x="384" y="768"/>
                  </a:cubicBezTo>
                  <a:cubicBezTo>
                    <a:pt x="472" y="552"/>
                    <a:pt x="500" y="276"/>
                    <a:pt x="52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52680" y="3962520"/>
              <a:ext cx="381240" cy="2057400"/>
            </a:xfrm>
            <a:custGeom>
              <a:avLst/>
              <a:gdLst/>
              <a:ahLst/>
              <a:rect l="l" t="t" r="r" b="b"/>
              <a:pathLst>
                <a:path w="240" h="1296">
                  <a:moveTo>
                    <a:pt x="0" y="1296"/>
                  </a:moveTo>
                  <a:cubicBezTo>
                    <a:pt x="120" y="1140"/>
                    <a:pt x="240" y="984"/>
                    <a:pt x="240" y="768"/>
                  </a:cubicBezTo>
                  <a:cubicBezTo>
                    <a:pt x="240" y="552"/>
                    <a:pt x="120" y="27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29000" y="3962520"/>
              <a:ext cx="1130400" cy="2057400"/>
            </a:xfrm>
            <a:custGeom>
              <a:avLst/>
              <a:gdLst/>
              <a:ahLst/>
              <a:rect l="l" t="t" r="r" b="b"/>
              <a:pathLst>
                <a:path w="712" h="1296">
                  <a:moveTo>
                    <a:pt x="528" y="1296"/>
                  </a:moveTo>
                  <a:cubicBezTo>
                    <a:pt x="620" y="1092"/>
                    <a:pt x="712" y="888"/>
                    <a:pt x="624" y="672"/>
                  </a:cubicBezTo>
                  <a:cubicBezTo>
                    <a:pt x="536" y="456"/>
                    <a:pt x="268" y="22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81280" y="3962520"/>
              <a:ext cx="1841760" cy="1981080"/>
            </a:xfrm>
            <a:custGeom>
              <a:avLst/>
              <a:gdLst/>
              <a:ahLst/>
              <a:rect l="l" t="t" r="r" b="b"/>
              <a:pathLst>
                <a:path w="1160" h="1248">
                  <a:moveTo>
                    <a:pt x="912" y="1248"/>
                  </a:moveTo>
                  <a:cubicBezTo>
                    <a:pt x="1036" y="1136"/>
                    <a:pt x="1160" y="1024"/>
                    <a:pt x="1008" y="816"/>
                  </a:cubicBezTo>
                  <a:cubicBezTo>
                    <a:pt x="856" y="608"/>
                    <a:pt x="428" y="30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81280" y="3886200"/>
              <a:ext cx="2667240" cy="1981080"/>
            </a:xfrm>
            <a:custGeom>
              <a:avLst/>
              <a:gdLst/>
              <a:ahLst/>
              <a:rect l="l" t="t" r="r" b="b"/>
              <a:pathLst>
                <a:path w="1632" h="1248">
                  <a:moveTo>
                    <a:pt x="1440" y="1248"/>
                  </a:moveTo>
                  <a:cubicBezTo>
                    <a:pt x="1536" y="1112"/>
                    <a:pt x="1632" y="976"/>
                    <a:pt x="1392" y="768"/>
                  </a:cubicBezTo>
                  <a:cubicBezTo>
                    <a:pt x="1152" y="560"/>
                    <a:pt x="576" y="28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05320" y="3809880"/>
              <a:ext cx="3835440" cy="1981440"/>
            </a:xfrm>
            <a:custGeom>
              <a:avLst/>
              <a:gdLst/>
              <a:ahLst/>
              <a:rect l="l" t="t" r="r" b="b"/>
              <a:pathLst>
                <a:path w="2416" h="1248">
                  <a:moveTo>
                    <a:pt x="2112" y="1248"/>
                  </a:moveTo>
                  <a:cubicBezTo>
                    <a:pt x="2264" y="1112"/>
                    <a:pt x="2416" y="976"/>
                    <a:pt x="2064" y="768"/>
                  </a:cubicBezTo>
                  <a:cubicBezTo>
                    <a:pt x="1712" y="560"/>
                    <a:pt x="856" y="28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1779480" y="1600200"/>
              <a:ext cx="235080" cy="374760"/>
              <a:chOff x="1779480" y="1600200"/>
              <a:chExt cx="235080" cy="374760"/>
            </a:xfrm>
          </p:grpSpPr>
          <p:sp>
            <p:nvSpPr>
              <p:cNvPr id="687" name=""/>
              <p:cNvSpPr/>
              <p:nvPr/>
            </p:nvSpPr>
            <p:spPr>
              <a:xfrm>
                <a:off x="1779480" y="1600200"/>
                <a:ext cx="23508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79480" y="1730520"/>
                <a:ext cx="23508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17539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284800" y="1676520"/>
              <a:ext cx="235080" cy="374040"/>
              <a:chOff x="5284800" y="1676520"/>
              <a:chExt cx="235080" cy="374040"/>
            </a:xfrm>
          </p:grpSpPr>
          <p:sp>
            <p:nvSpPr>
              <p:cNvPr id="691" name=""/>
              <p:cNvSpPr/>
              <p:nvPr/>
            </p:nvSpPr>
            <p:spPr>
              <a:xfrm>
                <a:off x="5284800" y="1676520"/>
                <a:ext cx="23508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84800" y="1806480"/>
                <a:ext cx="23508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5259240" y="17748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3608280" y="1600200"/>
              <a:ext cx="235080" cy="374760"/>
              <a:chOff x="3608280" y="1600200"/>
              <a:chExt cx="235080" cy="374760"/>
            </a:xfrm>
          </p:grpSpPr>
          <p:sp>
            <p:nvSpPr>
              <p:cNvPr id="695" name=""/>
              <p:cNvSpPr/>
              <p:nvPr/>
            </p:nvSpPr>
            <p:spPr>
              <a:xfrm>
                <a:off x="3608280" y="1600200"/>
                <a:ext cx="23508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608280" y="1730520"/>
                <a:ext cx="23508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5827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3227400" y="3505320"/>
              <a:ext cx="235080" cy="374040"/>
              <a:chOff x="3227400" y="3505320"/>
              <a:chExt cx="235080" cy="374040"/>
            </a:xfrm>
          </p:grpSpPr>
          <p:sp>
            <p:nvSpPr>
              <p:cNvPr id="699" name=""/>
              <p:cNvSpPr/>
              <p:nvPr/>
            </p:nvSpPr>
            <p:spPr>
              <a:xfrm>
                <a:off x="3227400" y="3505320"/>
                <a:ext cx="23508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3635280"/>
                <a:ext cx="23508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3202200" y="3603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2160720" y="5791320"/>
              <a:ext cx="234720" cy="374040"/>
              <a:chOff x="2160720" y="5791320"/>
              <a:chExt cx="234720" cy="374040"/>
            </a:xfrm>
          </p:grpSpPr>
          <p:sp>
            <p:nvSpPr>
              <p:cNvPr id="703" name=""/>
              <p:cNvSpPr/>
              <p:nvPr/>
            </p:nvSpPr>
            <p:spPr>
              <a:xfrm>
                <a:off x="2160720" y="57913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60720" y="59212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2135520" y="5889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1474920" y="5410080"/>
              <a:ext cx="234720" cy="374760"/>
              <a:chOff x="1474920" y="5410080"/>
              <a:chExt cx="234720" cy="374760"/>
            </a:xfrm>
          </p:grpSpPr>
          <p:sp>
            <p:nvSpPr>
              <p:cNvPr id="707" name=""/>
              <p:cNvSpPr/>
              <p:nvPr/>
            </p:nvSpPr>
            <p:spPr>
              <a:xfrm>
                <a:off x="1474920" y="5410080"/>
                <a:ext cx="23472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74920" y="5540400"/>
                <a:ext cx="23472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449720" y="5508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3151080" y="5943600"/>
              <a:ext cx="235080" cy="374760"/>
              <a:chOff x="3151080" y="5943600"/>
              <a:chExt cx="235080" cy="374760"/>
            </a:xfrm>
          </p:grpSpPr>
          <p:sp>
            <p:nvSpPr>
              <p:cNvPr id="711" name=""/>
              <p:cNvSpPr/>
              <p:nvPr/>
            </p:nvSpPr>
            <p:spPr>
              <a:xfrm>
                <a:off x="3151080" y="5943600"/>
                <a:ext cx="23508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51080" y="6073920"/>
                <a:ext cx="23508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3125880" y="6041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3989520" y="5943600"/>
              <a:ext cx="234720" cy="374760"/>
              <a:chOff x="3989520" y="5943600"/>
              <a:chExt cx="234720" cy="374760"/>
            </a:xfrm>
          </p:grpSpPr>
          <p:sp>
            <p:nvSpPr>
              <p:cNvPr id="715" name=""/>
              <p:cNvSpPr/>
              <p:nvPr/>
            </p:nvSpPr>
            <p:spPr>
              <a:xfrm>
                <a:off x="3989520" y="5943600"/>
                <a:ext cx="23472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89520" y="6073920"/>
                <a:ext cx="23472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3964320" y="6041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827600" y="5943600"/>
              <a:ext cx="235080" cy="374760"/>
              <a:chOff x="4827600" y="5943600"/>
              <a:chExt cx="235080" cy="374760"/>
            </a:xfrm>
          </p:grpSpPr>
          <p:sp>
            <p:nvSpPr>
              <p:cNvPr id="719" name=""/>
              <p:cNvSpPr/>
              <p:nvPr/>
            </p:nvSpPr>
            <p:spPr>
              <a:xfrm>
                <a:off x="4827600" y="5943600"/>
                <a:ext cx="23508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827600" y="6073920"/>
                <a:ext cx="23508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4802400" y="6041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5742000" y="5867280"/>
              <a:ext cx="235080" cy="374760"/>
              <a:chOff x="5742000" y="5867280"/>
              <a:chExt cx="235080" cy="374760"/>
            </a:xfrm>
          </p:grpSpPr>
          <p:sp>
            <p:nvSpPr>
              <p:cNvPr id="723" name=""/>
              <p:cNvSpPr/>
              <p:nvPr/>
            </p:nvSpPr>
            <p:spPr>
              <a:xfrm>
                <a:off x="5742000" y="5867280"/>
                <a:ext cx="235080" cy="22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42000" y="5997600"/>
                <a:ext cx="235080" cy="2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5716800" y="5965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656400" y="5791320"/>
              <a:ext cx="235080" cy="374040"/>
              <a:chOff x="6656400" y="5791320"/>
              <a:chExt cx="235080" cy="374040"/>
            </a:xfrm>
          </p:grpSpPr>
          <p:sp>
            <p:nvSpPr>
              <p:cNvPr id="727" name=""/>
              <p:cNvSpPr/>
              <p:nvPr/>
            </p:nvSpPr>
            <p:spPr>
              <a:xfrm>
                <a:off x="6656400" y="5791320"/>
                <a:ext cx="23508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656400" y="5921280"/>
                <a:ext cx="23508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6631200" y="5889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73280" y="1752480"/>
            <a:ext cx="4832280" cy="2057040"/>
            <a:chOff x="3473280" y="1752480"/>
            <a:chExt cx="4832280" cy="2057040"/>
          </a:xfrm>
        </p:grpSpPr>
        <p:grpSp>
          <p:nvGrpSpPr>
            <p:cNvPr id="731" name=""/>
            <p:cNvGrpSpPr/>
            <p:nvPr/>
          </p:nvGrpSpPr>
          <p:grpSpPr>
            <a:xfrm>
              <a:off x="6858000" y="1752480"/>
              <a:ext cx="1447560" cy="2057040"/>
              <a:chOff x="6858000" y="1752480"/>
              <a:chExt cx="1447560" cy="2057040"/>
            </a:xfrm>
          </p:grpSpPr>
          <p:sp>
            <p:nvSpPr>
              <p:cNvPr id="732" name=""/>
              <p:cNvSpPr/>
              <p:nvPr/>
            </p:nvSpPr>
            <p:spPr>
              <a:xfrm>
                <a:off x="7051680" y="2742840"/>
                <a:ext cx="1066680" cy="703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aky buck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05680" y="1927080"/>
                <a:ext cx="94572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586640" y="23619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586640" y="35046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358040" y="3504600"/>
                <a:ext cx="1522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7687800" y="3501360"/>
                <a:ext cx="1522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858000" y="1752480"/>
                <a:ext cx="1447560" cy="190476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 flipV="1">
              <a:off x="3473280" y="1794960"/>
              <a:ext cx="3353040" cy="1752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516480" y="3657240"/>
              <a:ext cx="3276360" cy="1522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7000920" y="4016520"/>
            <a:ext cx="220968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requests immediately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quests are dequeued at an even rate corre-sponding to the available capacity at the SC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Motivation (Provocation :-)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ch effort has been spent on suggesting and implementing new MAS architec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ever, typically unsystematic approach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researcher invents a new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lies it to a particular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lude that it seems to be appropriate for this doma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times this new architecture is not even compared to any existing architectu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is time to compare and evaluate MAS architectures in a more systematic wa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362320" y="2743200"/>
            <a:ext cx="15238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33920" y="266688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809520" y="274320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90920" y="3809880"/>
            <a:ext cx="15238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276720" y="38095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038480" y="38098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4114440" y="3809880"/>
            <a:ext cx="1600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4114440" y="3809520"/>
            <a:ext cx="243828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114440" y="3809520"/>
            <a:ext cx="685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cc"/>
                </a:solidFill>
                <a:latin typeface="Arial"/>
              </a:rPr>
              <a:t>Asynchronous distributed arch. (Mobile brok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828800" y="3809520"/>
            <a:ext cx="22096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3124080"/>
            <a:ext cx="4648320" cy="1560600"/>
          </a:xfrm>
          <a:custGeom>
            <a:avLst/>
            <a:gdLst/>
            <a:ahLst/>
            <a:rect l="l" t="t" r="r" b="b"/>
            <a:pathLst>
              <a:path w="1939" h="1031">
                <a:moveTo>
                  <a:pt x="1657" y="336"/>
                </a:moveTo>
                <a:cubicBezTo>
                  <a:pt x="1641" y="303"/>
                  <a:pt x="1623" y="272"/>
                  <a:pt x="1597" y="246"/>
                </a:cubicBezTo>
                <a:cubicBezTo>
                  <a:pt x="1578" y="189"/>
                  <a:pt x="1527" y="157"/>
                  <a:pt x="1477" y="132"/>
                </a:cubicBezTo>
                <a:cubicBezTo>
                  <a:pt x="1433" y="110"/>
                  <a:pt x="1388" y="84"/>
                  <a:pt x="1339" y="72"/>
                </a:cubicBezTo>
                <a:cubicBezTo>
                  <a:pt x="1284" y="59"/>
                  <a:pt x="1226" y="53"/>
                  <a:pt x="1171" y="42"/>
                </a:cubicBezTo>
                <a:cubicBezTo>
                  <a:pt x="1076" y="47"/>
                  <a:pt x="1069" y="44"/>
                  <a:pt x="1003" y="60"/>
                </a:cubicBezTo>
                <a:cubicBezTo>
                  <a:pt x="966" y="85"/>
                  <a:pt x="853" y="48"/>
                  <a:pt x="811" y="42"/>
                </a:cubicBezTo>
                <a:cubicBezTo>
                  <a:pt x="733" y="3"/>
                  <a:pt x="622" y="7"/>
                  <a:pt x="535" y="0"/>
                </a:cubicBezTo>
                <a:cubicBezTo>
                  <a:pt x="461" y="4"/>
                  <a:pt x="387" y="3"/>
                  <a:pt x="313" y="12"/>
                </a:cubicBezTo>
                <a:cubicBezTo>
                  <a:pt x="292" y="15"/>
                  <a:pt x="273" y="28"/>
                  <a:pt x="253" y="36"/>
                </a:cubicBezTo>
                <a:cubicBezTo>
                  <a:pt x="183" y="64"/>
                  <a:pt x="99" y="96"/>
                  <a:pt x="49" y="156"/>
                </a:cubicBezTo>
                <a:cubicBezTo>
                  <a:pt x="31" y="177"/>
                  <a:pt x="28" y="205"/>
                  <a:pt x="13" y="228"/>
                </a:cubicBezTo>
                <a:cubicBezTo>
                  <a:pt x="10" y="248"/>
                  <a:pt x="0" y="268"/>
                  <a:pt x="1" y="288"/>
                </a:cubicBezTo>
                <a:cubicBezTo>
                  <a:pt x="3" y="360"/>
                  <a:pt x="4" y="432"/>
                  <a:pt x="13" y="504"/>
                </a:cubicBezTo>
                <a:cubicBezTo>
                  <a:pt x="14" y="514"/>
                  <a:pt x="25" y="520"/>
                  <a:pt x="31" y="528"/>
                </a:cubicBezTo>
                <a:cubicBezTo>
                  <a:pt x="89" y="615"/>
                  <a:pt x="174" y="635"/>
                  <a:pt x="271" y="654"/>
                </a:cubicBezTo>
                <a:cubicBezTo>
                  <a:pt x="216" y="872"/>
                  <a:pt x="482" y="877"/>
                  <a:pt x="625" y="894"/>
                </a:cubicBezTo>
                <a:cubicBezTo>
                  <a:pt x="661" y="898"/>
                  <a:pt x="697" y="898"/>
                  <a:pt x="733" y="900"/>
                </a:cubicBezTo>
                <a:cubicBezTo>
                  <a:pt x="765" y="902"/>
                  <a:pt x="797" y="904"/>
                  <a:pt x="829" y="906"/>
                </a:cubicBezTo>
                <a:cubicBezTo>
                  <a:pt x="913" y="902"/>
                  <a:pt x="942" y="910"/>
                  <a:pt x="1003" y="870"/>
                </a:cubicBezTo>
                <a:cubicBezTo>
                  <a:pt x="1118" y="1023"/>
                  <a:pt x="1337" y="1009"/>
                  <a:pt x="1507" y="1014"/>
                </a:cubicBezTo>
                <a:cubicBezTo>
                  <a:pt x="1643" y="1010"/>
                  <a:pt x="1821" y="1031"/>
                  <a:pt x="1915" y="906"/>
                </a:cubicBezTo>
                <a:cubicBezTo>
                  <a:pt x="1939" y="808"/>
                  <a:pt x="1904" y="728"/>
                  <a:pt x="1873" y="636"/>
                </a:cubicBezTo>
                <a:cubicBezTo>
                  <a:pt x="1859" y="593"/>
                  <a:pt x="1841" y="555"/>
                  <a:pt x="1819" y="516"/>
                </a:cubicBezTo>
                <a:cubicBezTo>
                  <a:pt x="1801" y="483"/>
                  <a:pt x="1815" y="493"/>
                  <a:pt x="1795" y="468"/>
                </a:cubicBezTo>
                <a:cubicBezTo>
                  <a:pt x="1778" y="447"/>
                  <a:pt x="1760" y="421"/>
                  <a:pt x="1741" y="402"/>
                </a:cubicBezTo>
                <a:cubicBezTo>
                  <a:pt x="1728" y="389"/>
                  <a:pt x="1691" y="374"/>
                  <a:pt x="1675" y="366"/>
                </a:cubicBezTo>
                <a:cubicBezTo>
                  <a:pt x="1669" y="363"/>
                  <a:pt x="1660" y="365"/>
                  <a:pt x="1657" y="360"/>
                </a:cubicBezTo>
                <a:cubicBezTo>
                  <a:pt x="1653" y="353"/>
                  <a:pt x="1657" y="344"/>
                  <a:pt x="1657" y="336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57400" y="2209680"/>
            <a:ext cx="38088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2209680"/>
            <a:ext cx="381240" cy="5335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2133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200" y="4876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0" y="5181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04812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098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1008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24480" y="5257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753920" y="1600200"/>
            <a:ext cx="319320" cy="405360"/>
            <a:chOff x="1753920" y="1600200"/>
            <a:chExt cx="319320" cy="405360"/>
          </a:xfrm>
        </p:grpSpPr>
        <p:grpSp>
          <p:nvGrpSpPr>
            <p:cNvPr id="765" name=""/>
            <p:cNvGrpSpPr/>
            <p:nvPr/>
          </p:nvGrpSpPr>
          <p:grpSpPr>
            <a:xfrm>
              <a:off x="1779480" y="1600200"/>
              <a:ext cx="234720" cy="374040"/>
              <a:chOff x="1779480" y="1600200"/>
              <a:chExt cx="234720" cy="374040"/>
            </a:xfrm>
          </p:grpSpPr>
          <p:sp>
            <p:nvSpPr>
              <p:cNvPr id="766" name=""/>
              <p:cNvSpPr/>
              <p:nvPr/>
            </p:nvSpPr>
            <p:spPr>
              <a:xfrm>
                <a:off x="17794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794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17539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259240" y="1676520"/>
            <a:ext cx="319320" cy="405360"/>
            <a:chOff x="5259240" y="1676520"/>
            <a:chExt cx="319320" cy="405360"/>
          </a:xfrm>
        </p:grpSpPr>
        <p:grpSp>
          <p:nvGrpSpPr>
            <p:cNvPr id="770" name=""/>
            <p:cNvGrpSpPr/>
            <p:nvPr/>
          </p:nvGrpSpPr>
          <p:grpSpPr>
            <a:xfrm>
              <a:off x="5284800" y="1676520"/>
              <a:ext cx="234720" cy="374040"/>
              <a:chOff x="5284800" y="1676520"/>
              <a:chExt cx="234720" cy="374040"/>
            </a:xfrm>
          </p:grpSpPr>
          <p:sp>
            <p:nvSpPr>
              <p:cNvPr id="771" name=""/>
              <p:cNvSpPr/>
              <p:nvPr/>
            </p:nvSpPr>
            <p:spPr>
              <a:xfrm>
                <a:off x="5284800" y="167652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284800" y="180648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5259240" y="17748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582720" y="1600200"/>
            <a:ext cx="319320" cy="405360"/>
            <a:chOff x="3582720" y="1600200"/>
            <a:chExt cx="319320" cy="405360"/>
          </a:xfrm>
        </p:grpSpPr>
        <p:grpSp>
          <p:nvGrpSpPr>
            <p:cNvPr id="775" name=""/>
            <p:cNvGrpSpPr/>
            <p:nvPr/>
          </p:nvGrpSpPr>
          <p:grpSpPr>
            <a:xfrm>
              <a:off x="3608280" y="1600200"/>
              <a:ext cx="234720" cy="374040"/>
              <a:chOff x="3608280" y="1600200"/>
              <a:chExt cx="234720" cy="374040"/>
            </a:xfrm>
          </p:grpSpPr>
          <p:sp>
            <p:nvSpPr>
              <p:cNvPr id="776" name=""/>
              <p:cNvSpPr/>
              <p:nvPr/>
            </p:nvSpPr>
            <p:spPr>
              <a:xfrm>
                <a:off x="3608280" y="1600200"/>
                <a:ext cx="234720" cy="227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08280" y="1730160"/>
                <a:ext cx="234720" cy="24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3582720" y="169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474920" y="6095880"/>
            <a:ext cx="234720" cy="374760"/>
            <a:chOff x="1474920" y="6095880"/>
            <a:chExt cx="234720" cy="374760"/>
          </a:xfrm>
        </p:grpSpPr>
        <p:sp>
          <p:nvSpPr>
            <p:cNvPr id="780" name=""/>
            <p:cNvSpPr/>
            <p:nvPr/>
          </p:nvSpPr>
          <p:spPr>
            <a:xfrm>
              <a:off x="1474920" y="60958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74920" y="62262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1449720" y="6194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00200" y="5791320"/>
            <a:ext cx="457200" cy="35532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0" y="0"/>
                </a:moveTo>
                <a:cubicBezTo>
                  <a:pt x="24" y="80"/>
                  <a:pt x="48" y="160"/>
                  <a:pt x="96" y="192"/>
                </a:cubicBezTo>
                <a:cubicBezTo>
                  <a:pt x="144" y="224"/>
                  <a:pt x="216" y="208"/>
                  <a:pt x="288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770200" y="6400800"/>
            <a:ext cx="235080" cy="374760"/>
            <a:chOff x="2770200" y="6400800"/>
            <a:chExt cx="235080" cy="374760"/>
          </a:xfrm>
        </p:grpSpPr>
        <p:sp>
          <p:nvSpPr>
            <p:cNvPr id="785" name=""/>
            <p:cNvSpPr/>
            <p:nvPr/>
          </p:nvSpPr>
          <p:spPr>
            <a:xfrm>
              <a:off x="2770200" y="64008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70200" y="65311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745000" y="6499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894280" y="6400800"/>
            <a:ext cx="235080" cy="374760"/>
            <a:chOff x="5894280" y="6400800"/>
            <a:chExt cx="235080" cy="374760"/>
          </a:xfrm>
        </p:grpSpPr>
        <p:sp>
          <p:nvSpPr>
            <p:cNvPr id="789" name=""/>
            <p:cNvSpPr/>
            <p:nvPr/>
          </p:nvSpPr>
          <p:spPr>
            <a:xfrm>
              <a:off x="5894280" y="64008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94280" y="65311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5869080" y="6499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19920" y="617220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64" y="72"/>
                  <a:pt x="128" y="144"/>
                  <a:pt x="192" y="144"/>
                </a:cubicBezTo>
                <a:cubicBezTo>
                  <a:pt x="256" y="144"/>
                  <a:pt x="320" y="72"/>
                  <a:pt x="38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77040" y="1600200"/>
            <a:ext cx="274320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CP has a broker that continually visits each (or a sub-set) of the alloc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offers the capacity currently available at its S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locator “buys” the capacity it needs at the mo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2971800" y="622764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057120" y="63691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779480" y="1600200"/>
            <a:ext cx="235080" cy="374760"/>
            <a:chOff x="1779480" y="1600200"/>
            <a:chExt cx="235080" cy="374760"/>
          </a:xfrm>
        </p:grpSpPr>
        <p:sp>
          <p:nvSpPr>
            <p:cNvPr id="797" name=""/>
            <p:cNvSpPr/>
            <p:nvPr/>
          </p:nvSpPr>
          <p:spPr>
            <a:xfrm>
              <a:off x="17794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794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7539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284800" y="1676520"/>
            <a:ext cx="235080" cy="374040"/>
            <a:chOff x="5284800" y="1676520"/>
            <a:chExt cx="235080" cy="374040"/>
          </a:xfrm>
        </p:grpSpPr>
        <p:sp>
          <p:nvSpPr>
            <p:cNvPr id="801" name=""/>
            <p:cNvSpPr/>
            <p:nvPr/>
          </p:nvSpPr>
          <p:spPr>
            <a:xfrm>
              <a:off x="5284800" y="16765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84800" y="18064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259240" y="1774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608280" y="1600200"/>
            <a:ext cx="235080" cy="374760"/>
            <a:chOff x="3608280" y="1600200"/>
            <a:chExt cx="235080" cy="374760"/>
          </a:xfrm>
        </p:grpSpPr>
        <p:sp>
          <p:nvSpPr>
            <p:cNvPr id="805" name=""/>
            <p:cNvSpPr/>
            <p:nvPr/>
          </p:nvSpPr>
          <p:spPr>
            <a:xfrm>
              <a:off x="3608280" y="16002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08280" y="17305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582720" y="1698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160720" y="5791320"/>
            <a:ext cx="234720" cy="374040"/>
            <a:chOff x="2160720" y="5791320"/>
            <a:chExt cx="234720" cy="374040"/>
          </a:xfrm>
        </p:grpSpPr>
        <p:sp>
          <p:nvSpPr>
            <p:cNvPr id="809" name=""/>
            <p:cNvSpPr/>
            <p:nvPr/>
          </p:nvSpPr>
          <p:spPr>
            <a:xfrm>
              <a:off x="2160720" y="5791320"/>
              <a:ext cx="23472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60720" y="5921280"/>
              <a:ext cx="23472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13552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474920" y="5410080"/>
            <a:ext cx="234720" cy="374760"/>
            <a:chOff x="1474920" y="5410080"/>
            <a:chExt cx="234720" cy="374760"/>
          </a:xfrm>
        </p:grpSpPr>
        <p:sp>
          <p:nvSpPr>
            <p:cNvPr id="813" name=""/>
            <p:cNvSpPr/>
            <p:nvPr/>
          </p:nvSpPr>
          <p:spPr>
            <a:xfrm>
              <a:off x="1474920" y="541008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74920" y="554040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449720" y="5508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151080" y="5943600"/>
            <a:ext cx="235080" cy="374760"/>
            <a:chOff x="3151080" y="5943600"/>
            <a:chExt cx="235080" cy="374760"/>
          </a:xfrm>
        </p:grpSpPr>
        <p:sp>
          <p:nvSpPr>
            <p:cNvPr id="817" name=""/>
            <p:cNvSpPr/>
            <p:nvPr/>
          </p:nvSpPr>
          <p:spPr>
            <a:xfrm>
              <a:off x="315108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5108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12588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989520" y="5943600"/>
            <a:ext cx="234720" cy="374760"/>
            <a:chOff x="3989520" y="5943600"/>
            <a:chExt cx="234720" cy="374760"/>
          </a:xfrm>
        </p:grpSpPr>
        <p:sp>
          <p:nvSpPr>
            <p:cNvPr id="821" name=""/>
            <p:cNvSpPr/>
            <p:nvPr/>
          </p:nvSpPr>
          <p:spPr>
            <a:xfrm>
              <a:off x="3989520" y="5943600"/>
              <a:ext cx="23472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89520" y="6073920"/>
              <a:ext cx="23472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96432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827600" y="5943600"/>
            <a:ext cx="235080" cy="374760"/>
            <a:chOff x="4827600" y="5943600"/>
            <a:chExt cx="235080" cy="374760"/>
          </a:xfrm>
        </p:grpSpPr>
        <p:sp>
          <p:nvSpPr>
            <p:cNvPr id="825" name=""/>
            <p:cNvSpPr/>
            <p:nvPr/>
          </p:nvSpPr>
          <p:spPr>
            <a:xfrm>
              <a:off x="4827600" y="594360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27600" y="607392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4802400" y="6041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5742000" y="5867280"/>
            <a:ext cx="235080" cy="374760"/>
            <a:chOff x="5742000" y="5867280"/>
            <a:chExt cx="235080" cy="374760"/>
          </a:xfrm>
        </p:grpSpPr>
        <p:sp>
          <p:nvSpPr>
            <p:cNvPr id="829" name=""/>
            <p:cNvSpPr/>
            <p:nvPr/>
          </p:nvSpPr>
          <p:spPr>
            <a:xfrm>
              <a:off x="5742000" y="5867280"/>
              <a:ext cx="235080" cy="22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42000" y="5997600"/>
              <a:ext cx="235080" cy="24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5716800" y="596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656400" y="5791320"/>
            <a:ext cx="235080" cy="374040"/>
            <a:chOff x="6656400" y="5791320"/>
            <a:chExt cx="235080" cy="374040"/>
          </a:xfrm>
        </p:grpSpPr>
        <p:sp>
          <p:nvSpPr>
            <p:cNvPr id="833" name=""/>
            <p:cNvSpPr/>
            <p:nvPr/>
          </p:nvSpPr>
          <p:spPr>
            <a:xfrm>
              <a:off x="6656400" y="5791320"/>
              <a:ext cx="235080" cy="227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56400" y="5921280"/>
              <a:ext cx="235080" cy="24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6631200" y="5889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Simulation experiments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mulation model from Arvidsson [ITC’9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SCPs and 32 SSPs (statistically identic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rget load = 0.9 Erlang  (90% of capac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types of services  [Karagiannis 1998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 requests arrive according to independent Poisson proc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ll holding times for both services are negative exponentially distributed with a mean of 100 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ssage delay = 5 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essages are lo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Reactivity: Test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219320" y="1600200"/>
          <a:ext cx="742320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42320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Reactivity: Result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1219320" y="1592280"/>
          <a:ext cx="729612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92280"/>
                    <a:ext cx="729612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Load balancing </a:t>
            </a:r>
            <a:br>
              <a:rPr sz="4400"/>
            </a:br>
            <a:r>
              <a:rPr b="0" lang="en-GB" sz="3600" spc="-1" strike="noStrike">
                <a:solidFill>
                  <a:srgbClr val="0099cc"/>
                </a:solidFill>
                <a:latin typeface="Arial"/>
              </a:rPr>
              <a:t>(compare the carried load of SCPs)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371600" y="1568520"/>
          <a:ext cx="73342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68520"/>
                    <a:ext cx="73342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Fairness</a:t>
            </a:r>
            <a:br>
              <a:rPr sz="4400"/>
            </a:br>
            <a:r>
              <a:rPr b="0" lang="en-GB" sz="3600" spc="-1" strike="noStrike">
                <a:solidFill>
                  <a:srgbClr val="0099cc"/>
                </a:solidFill>
                <a:latin typeface="Arial"/>
              </a:rPr>
              <a:t>(compare the rejection rate of SSPs)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143000" y="1503360"/>
          <a:ext cx="73342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03360"/>
                    <a:ext cx="73342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430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Utilization of resources</a:t>
            </a:r>
            <a:br>
              <a:rPr sz="4400"/>
            </a:br>
            <a:r>
              <a:rPr b="0" lang="en-GB" sz="3600" spc="-1" strike="noStrike">
                <a:solidFill>
                  <a:srgbClr val="0099cc"/>
                </a:solidFill>
                <a:latin typeface="Arial"/>
              </a:rPr>
              <a:t>(How close to the target load)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1219320" y="1503360"/>
          <a:ext cx="73342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03360"/>
                    <a:ext cx="73342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2640" y="313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Responsiveness</a:t>
            </a:r>
            <a:br>
              <a:rPr sz="4400"/>
            </a:br>
            <a:r>
              <a:rPr b="0" lang="en-GB" sz="3200" spc="-1" strike="noStrike">
                <a:solidFill>
                  <a:srgbClr val="0099cc"/>
                </a:solidFill>
                <a:latin typeface="Arial"/>
              </a:rPr>
              <a:t>(Time for SSP to get response from a SCP)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219320" y="1469880"/>
          <a:ext cx="73342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69880"/>
                    <a:ext cx="73342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0916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Communication overhead</a:t>
            </a:r>
            <a:br>
              <a:rPr sz="4400"/>
            </a:br>
            <a:r>
              <a:rPr b="0" lang="en-GB" sz="3200" spc="-1" strike="noStrike">
                <a:solidFill>
                  <a:srgbClr val="0099cc"/>
                </a:solidFill>
                <a:latin typeface="Arial"/>
              </a:rPr>
              <a:t>(Bandwidth necessary to perform allocation)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371600" y="1905120"/>
            <a:ext cx="75438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alised auction, hierarchical auction and mobile broker architectures were tuned to need the same bandwid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ffered load (Erla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3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7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9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.0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1.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, HA, M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17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15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117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57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318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quired bandwidth (mess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447920" y="4495680"/>
            <a:ext cx="7238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34960" y="5562720"/>
            <a:ext cx="725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86800" y="4038480"/>
            <a:ext cx="0" cy="153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4027320"/>
            <a:ext cx="0" cy="153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73240" y="1523880"/>
            <a:ext cx="797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have described and applied a systematic approach to evaluate MAS architectur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experimental evaluation confirmed the conclusions of the qualitative analys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addition, it gave insights that could not be easily gained from the qualitative analysis, e.g.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ntralised asynchronous architectures seem  to be better at utilising the available resources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 they have larger delays and need more bandwidth when the load is hig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3-D systematic approach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61405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7208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4387320"/>
            <a:ext cx="41148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10400" y="62928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568520"/>
            <a:ext cx="6400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architecture best for all appli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know that an architecture is the best for a particular application is of limited scientific inter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udy classes of applications inste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172880" y="1523880"/>
            <a:ext cx="797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rther experimental validation in the IN domain of the theoretical results regarding, e.g., sca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imental validation in another dynamic resource allocation dom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the outlined approach to investigate other domains than dynamic resource allo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vestigating to what extent the implementations of the individual agents influence system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 a more refined method for characterising MAS architectur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3-D systemati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61405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7208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5120" y="4387320"/>
            <a:ext cx="41148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8200" y="4616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568520"/>
            <a:ext cx="6629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milarly, it is more interesting from an scientific point of view to study the behaviour of classes of archite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aracterisation according to properties e.g., type of control and synchroni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3-D systemati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61405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17208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4387320"/>
            <a:ext cx="41148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8120" y="1263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3160" y="1568520"/>
            <a:ext cx="6629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 architectures can be evaluated using many different attributes, e.g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lication-specific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re general, e.g., robus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ferent architectures balance the trade-off between these attributes differen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3-D systemati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61405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7208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05120" y="4387320"/>
            <a:ext cx="411480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0400" y="62928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8560" y="4616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8120" y="1263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3160" y="1568520"/>
            <a:ext cx="6629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vestigate parts of this space, not poi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, studies of abstract architectures, applications and attributes tend to be theoretical and qualit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often to be supplemented with, and validated by quantitative empirical stu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lication: Dynamic resource al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chitectures: 4 different with vary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gree of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distribution of contro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gree of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ynchronis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tributes: 9 different (6 performance-related and 3 gener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rst a general theoretical qualitative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n an experimental quantitative evaluation in a concrete domai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ad management in Intelligent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Dynamic resource allocation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et of customers (whose needs vary over ti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et of providers (whose available resources vary over ti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sk: try to satisfy the demands of the customers by allocating resources of the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sumption: resources cannot be buffered, i.e., they have to be consumed immedi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ples: power load management and cellular phone bandwidth al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cc"/>
                </a:solidFill>
                <a:latin typeface="Arial"/>
              </a:rPr>
              <a:t>Abstract performance-related attributes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2880" y="1904760"/>
            <a:ext cx="797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activi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fast are resources re-allocated when there are changes in demand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ter for asynchronous archit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oad balanc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How evenly is the load balanced between the resource provider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ter for centralised archit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airnes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Are the customers treated equal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ter for centralised archit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6T13:19:21Z</dcterms:created>
  <dc:creator>Paul Davidsson</dc:creator>
  <dc:description/>
  <dc:language>en-US</dc:language>
  <cp:lastModifiedBy>Paul Davidsson</cp:lastModifiedBy>
  <cp:lastPrinted>2000-12-12T16:41:18Z</cp:lastPrinted>
  <dcterms:modified xsi:type="dcterms:W3CDTF">2002-10-01T14:37:10Z</dcterms:modified>
  <cp:revision>88</cp:revision>
  <dc:subject/>
  <dc:title>Software Agents for Intelligent Monitoring and Control</dc:title>
</cp:coreProperties>
</file>